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12B-D744-499D-B22B-24F8B687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ABF-33C7-4D31-A8F9-75C62E96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5E2-FBAE-4A50-A63B-873016BC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BEF-9B1D-4FF1-AB4D-9B2D582A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58E2-D1E2-4D31-809C-C480EA85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F994-3E8D-4E29-AF2C-32220F9E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1F4E-E34A-4329-92CE-96899390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9660-C0D2-4CCE-8AE6-A00FC706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2EBE-16BA-477E-9594-27815288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B828-5057-4B28-A369-4B3A408C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5754-ABBA-4C13-9934-22479E8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87C-8121-40E5-91B6-3F627FA9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DDAF-EE68-4B1D-9B34-54F62CB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D1C7-B06D-4E4E-8391-D23B85A2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268D-E2A2-45CF-B3DF-2DBB90FA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C103-5FB4-4247-9B38-B3C14F5F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8F56-DA95-44FC-A130-0520F80F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1E9-BF60-435C-9AFA-8953FDDB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DFE-1642-41CB-A562-7CD38EA1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6E1-7355-4D8E-8601-C67DFF8C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A18-C184-4709-959B-2AAE8B2B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EFE-82F3-477F-97E2-196FDA6D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C67-B436-4D09-B76F-B6188B6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46F-D9BE-4BBB-8331-48F38F5F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58b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E6B1-8868-4CA0-A5C2-276B2D194A70}" type="datetime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5808-8F91-4797-B835-F4312E8D9706}" type="slidenum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D469-2800-4C4D-A432-990B2C7631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8907-765B-4415-926D-24D91C440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58b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8b7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58b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58b7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58b7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716292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86400"/>
            <a:ext cx="6782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urso de Liderazgo –Nive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6400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person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ntrenamiento para la vid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espiritu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Necesidad de amistad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946760"/>
            <a:ext cx="289548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360" y="7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Ayuda en los procesos curativos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Mejor situación económic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vangelismo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Seguridad financier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83440" y="3200400"/>
            <a:ext cx="202248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valuando  Su Comunidad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Reúnase con su comis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mience con orac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loque el amor en primer lugar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nozca a los miembros de su iglesia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Familiarícese con sus vecinos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76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Valore las ideas de cada mujer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elimite las necesidade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Sea sensibl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Reuniones participativa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Grupos de enfoqu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56536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Encuestas – Planificación e Implementación</a:t>
            </a:r>
            <a:endParaRPr b="0" lang="en-US" sz="37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100" spc="-1" strike="noStrike">
                <a:solidFill>
                  <a:srgbClr val="ffff00"/>
                </a:solidFill>
                <a:latin typeface="Arial"/>
              </a:rPr>
              <a:t>Una buena encuesta le dirá:</a:t>
            </a: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marL="32220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de los ministerios que están activos actualmente en la iglesia son de interés para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necesidad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iénes son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as formas que las mujeres están dispuestas a servir a otr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interes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Las encuestas deben incluir: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lugar para escribir el nombre, dirección, teléfono y el grupo de edad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ellas desean asistir a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lista de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indicar  en que ministerio están participando actualmente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60912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unirse a los ministerios actu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en blanco para que enumeren sus habilidades e intereses especi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ayudar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que enumeren sus necesidad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go para cada grupo de mujer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7:50:03Z</dcterms:created>
  <dc:creator>Dan &amp; Lynnetta Hamstra</dc:creator>
  <dc:description/>
  <dc:language>en-US</dc:language>
  <cp:lastModifiedBy>Sede Administrativa</cp:lastModifiedBy>
  <dcterms:modified xsi:type="dcterms:W3CDTF">2003-05-13T13:56:07Z</dcterms:modified>
  <cp:revision>29</cp:revision>
  <dc:subject/>
  <dc:title>Women’s Needs Assessment in the Local Church</dc:title>
</cp:coreProperties>
</file>