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wmf" ContentType="image/x-wmf"/>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move the slide</a:t>
            </a:r>
            <a:endParaRPr b="0" lang="en-US" sz="4400" spc="-1" strike="noStrike">
              <a:solidFill>
                <a:srgbClr val="ff99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296AE-D39B-4196-888D-799577AD3B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3</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 It has become a common practice in many denominations to define their </a:t>
            </a:r>
            <a:r>
              <a:rPr b="0" lang="en-US" sz="1200" spc="-1" strike="noStrike" u="sng">
                <a:solidFill>
                  <a:srgbClr val="000000"/>
                </a:solidFill>
                <a:uFillTx/>
                <a:latin typeface="Century Gothic"/>
                <a:ea typeface="Arial"/>
              </a:rPr>
              <a:t>church congregations</a:t>
            </a:r>
            <a:r>
              <a:rPr b="0" lang="en-US" sz="1200" spc="-1" strike="noStrike">
                <a:solidFill>
                  <a:srgbClr val="000000"/>
                </a:solidFill>
                <a:latin typeface="Century Gothic"/>
                <a:ea typeface="Arial"/>
              </a:rPr>
              <a:t> as a community. They consider their church family a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 Community also is the </a:t>
            </a:r>
            <a:r>
              <a:rPr b="0" lang="en-US" sz="1200" spc="-1" strike="noStrike" u="sng">
                <a:solidFill>
                  <a:srgbClr val="000000"/>
                </a:solidFill>
                <a:uFillTx/>
                <a:latin typeface="Century Gothic"/>
                <a:ea typeface="Arial"/>
              </a:rPr>
              <a:t>area in which we live</a:t>
            </a:r>
            <a:r>
              <a:rPr b="0" lang="en-US" sz="1200" spc="-1" strike="noStrike">
                <a:solidFill>
                  <a:srgbClr val="000000"/>
                </a:solidFill>
                <a:latin typeface="Century Gothic"/>
                <a:ea typeface="Arial"/>
              </a:rPr>
              <a:t>. For some communities this encompasses a few blocks right around their home. For others it is the village or small town in which they live.  A community may encompass many miles in a surrounding countryside for those who are in rural areas or in agricultural pursuits and do not live in houses that are near each other. A community may be the college dormitory where a student is living while pursuing their course of stu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 A </a:t>
            </a:r>
            <a:r>
              <a:rPr b="0" lang="en-US" sz="1200" spc="-1" strike="noStrike" u="sng">
                <a:solidFill>
                  <a:srgbClr val="000000"/>
                </a:solidFill>
                <a:uFillTx/>
                <a:latin typeface="Century Gothic"/>
                <a:ea typeface="Arial"/>
              </a:rPr>
              <a:t>company where you are employed</a:t>
            </a:r>
            <a:r>
              <a:rPr b="0" lang="en-US" sz="1200" spc="-1" strike="noStrike">
                <a:solidFill>
                  <a:srgbClr val="000000"/>
                </a:solidFill>
                <a:latin typeface="Century Gothic"/>
                <a:ea typeface="Arial"/>
              </a:rPr>
              <a:t> may become your community. As people spend much of their day at their place of work the people they associate with and interact within the process of their job become their community. With less available free time the work community becomes a vital part of your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4. Community is also the </a:t>
            </a:r>
            <a:r>
              <a:rPr b="0" lang="en-US" sz="1200" spc="-1" strike="noStrike" u="sng">
                <a:solidFill>
                  <a:srgbClr val="000000"/>
                </a:solidFill>
                <a:uFillTx/>
                <a:latin typeface="Century Gothic"/>
                <a:ea typeface="Arial"/>
              </a:rPr>
              <a:t>extended family</a:t>
            </a:r>
            <a:r>
              <a:rPr b="0" lang="en-US" sz="1200" spc="-1" strike="noStrike">
                <a:solidFill>
                  <a:srgbClr val="000000"/>
                </a:solidFill>
                <a:latin typeface="Century Gothic"/>
                <a:ea typeface="Arial"/>
              </a:rPr>
              <a:t>. Families who are close-knit and live in close proximity to each other become a community by themsel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5. Communities develop </a:t>
            </a:r>
            <a:r>
              <a:rPr b="0" lang="en-US" sz="1200" spc="-1" strike="noStrike" u="sng">
                <a:solidFill>
                  <a:srgbClr val="000000"/>
                </a:solidFill>
                <a:uFillTx/>
                <a:latin typeface="Century Gothic"/>
                <a:ea typeface="Arial"/>
              </a:rPr>
              <a:t>around the friends your children have made</a:t>
            </a:r>
            <a:r>
              <a:rPr b="0" lang="en-US" sz="1200" spc="-1" strike="noStrike">
                <a:solidFill>
                  <a:srgbClr val="000000"/>
                </a:solidFill>
                <a:latin typeface="Century Gothic"/>
                <a:ea typeface="Arial"/>
              </a:rPr>
              <a:t>. Often the children develop friendships with other children who are not from their immediate neighborhood. This will foster a friendship between parents of the children. Thus, another community is for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other definitions of community that are applicable to your country, area of culture. List these on the flip chart or chalk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us we see how varied the definition of community becomes. There are many ways to ascertain the needs of the particular community to whom we wish to minis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can learn what needs to be done to reach other women." </a:t>
            </a:r>
            <a:r>
              <a:rPr b="0" i="1" lang="en-US" sz="1200" spc="-1" strike="noStrike">
                <a:solidFill>
                  <a:srgbClr val="000000"/>
                </a:solidFill>
                <a:latin typeface="Century Gothic"/>
                <a:ea typeface="Arial"/>
              </a:rPr>
              <a:t>Welfare Ministry,</a:t>
            </a:r>
            <a:r>
              <a:rPr b="0" lang="en-US" sz="1200" spc="-1" strike="noStrike">
                <a:solidFill>
                  <a:srgbClr val="000000"/>
                </a:solidFill>
                <a:latin typeface="Century Gothic"/>
                <a:ea typeface="Arial"/>
              </a:rPr>
              <a:t> p. 16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 statement meant for every woman. We can learn how to minister to other women and to plan programs to meet their needs. Once we define the boundaries of our community we are able to begin to ascertain the needs of the women who comprise 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BEGINNING THE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evious to this process you will have been chosen to serve on a committee who will direct he Women’s Ministries program in your church. Meet with your committee and use them as a resource as together you decide on the methods you will use to assess the needs of the women in your community. Listen to the different perspectives of the women on your committee. Each woman will have her own unique personality and will able to recognize needs that perhaps only she can see or fe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suggestions to keep in mind as you work:  (</a:t>
            </a:r>
            <a:r>
              <a:rPr b="1" lang="en-US" sz="1200" spc="-1" strike="noStrike">
                <a:solidFill>
                  <a:srgbClr val="000000"/>
                </a:solidFill>
                <a:latin typeface="Century Gothic"/>
                <a:ea typeface="Times New Roman"/>
              </a:rPr>
              <a:t>OH-4</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4</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1.  Begin with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er is the key to success. Saturate your ministry with prayer. Do not even begin to think of assessing the needs of your community without heavenly guid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3 we are told to talk to Him about our actual life. Consider this statement: "Prayer is the opening of the heart to God as to a friend. Not that it is necessary, in order to make known to God what we are, but in order to enable us to receive Him. Prayer does not bring God down to us, but brings us up to Hi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at a wonder it is that we pray so little! God is ready and willing to hear the sincere prayer of the humblest of His children, and yet there is much manifest reluctance on our part to make known our wants to God. What can the angels of heaven think of poor helpless human beings, who are subject to temptation, when God’s heart of infinite love yearns toward them, ready to give them more than they can ask or think, and yet they pray so little, and have so little faith?"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 cannot stress enough the need for prayer. It is what Women’s Ministries is founded upon. In your planning sessions to decide which avenues you will use to assess women’s needs, always begin with prayer. Much can be accomplished when God is your partner and guide. Ask Him to lead you to women who will become more beautiful from your ministry. Pray unceasingly for help as you begin your planning. When it seems that you have hit what seems like a dead end, stop and pray for help. He will answer your requests. Always keep in mind that you are doing the work God has commissioned you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llust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lyn was planning a "Take Heart Retreat" to bring healing and help to women who had been sexually abused as children. A woman called Evelyn and asked if there were any funds available so she could receive a scholarship to attend. Evelyn’s heart was sad as she reported that she did not have any funds available to pay fees. They visited and prayed together and terminated their convers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oon as she hung up the telephone, Evelyn was distraught. Because she was attempting to protect the confidentiality of the women who called she had not gotten her phone number or her name. If someone would come forward with funds, she had no idea how she would contact the unknown woman to let her know she could come to the retre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he worked around the kitchen that morning Evelyn lifted her thoughts to God in prayer. Within a few minutes the phone rang again. When Evelyn answered the phone, she heard these words: "I have a friend who needs to come to the retreat. I don’t want her to know who I am. She doesn’t have the money to attend and I want to pay her fees. Will you call her and tell her that her fees will be paid if she wishes to co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f course, I will be happy to do that." Evelyn answered. She was given the number and name of the woman who was to be the recipient of this generos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icking up the phone, Evelyn dialed the number given her. She heard the voice of the first woman with whom she had visited. Realizing her prayer had been swiftly answered Evelyn’s heart was filled with a prayer of thanksgiving as she told her that funds were available for her to attend the retre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just one example of a prayer that was answered as women ministered to wom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your own personal example of prayer answered when you were working for the women in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t is prayer that keeps us in harmony with God’s plan for our ministry. "Through sincere prayer we are brought into connection with the mind of the Infinite.... We may not feel His visible touch, but His hand is upon us in love and pitying tenderness."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ith promises such as this we can be assured of His blessing when we begin our work and learn to understand where our sphere of influence should be extended. His hand is upon us and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2. Keep your plans in harmony with the mission statement of your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rking with the overall mission statement and goals of the church will help to insure your success. As you cooperate with the overall mission of the church your fellow members will be at ease with Women’s Ministries. You and your ministry will become a vital part of the team.  </a:t>
            </a:r>
            <a:r>
              <a:rPr b="1" lang="en-US" sz="1200" spc="-1" strike="noStrike">
                <a:solidFill>
                  <a:srgbClr val="000000"/>
                </a:solidFill>
                <a:latin typeface="Century Gothic"/>
                <a:ea typeface="Arial"/>
              </a:rPr>
              <a:t>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3. Work with your pastor and church 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hare your plans with your pastor and the church board. The success of any program is greatly enhanced when you have their cooperation. Solicit their support and become a cohesive team as you work together. </a:t>
            </a:r>
            <a:r>
              <a:rPr b="1" lang="en-US" sz="1200" spc="-1" strike="noStrike">
                <a:solidFill>
                  <a:srgbClr val="000000"/>
                </a:solidFill>
                <a:latin typeface="Century Gothic"/>
                <a:ea typeface="Arial"/>
              </a:rPr>
              <a:t>REMEMBER TO 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4. Let love be your primary reason for assessing the needs of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 unceasingly for the love of Christ to fill your heart. Without His love shining out through you, your work will not succeed. Ask Him for a revival of His love within you that you may be prepared to go forth to do His work. </a:t>
            </a:r>
            <a:r>
              <a:rPr b="1" lang="en-US" sz="1200" spc="-1" strike="noStrike">
                <a:solidFill>
                  <a:srgbClr val="000000"/>
                </a:solidFill>
                <a:latin typeface="Century Gothic"/>
                <a:ea typeface="Arial"/>
              </a:rPr>
              <a:t>KEEP PRAY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V.</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FINDING THE WOMEN IN OUR COMMUNITIES WHO WILL RESPOND TO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re do we find the women to contact to assess the needs of our communities? How do we create opportunities to know them well enough to understand what will help them in their beautification process?  (</a:t>
            </a:r>
            <a:r>
              <a:rPr b="1" lang="en-US" sz="1200" spc="-1" strike="noStrike">
                <a:solidFill>
                  <a:srgbClr val="000000"/>
                </a:solidFill>
                <a:latin typeface="Century Gothic"/>
                <a:ea typeface="Times New Roman"/>
              </a:rPr>
              <a:t>OH-5</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4</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1.  Begin with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er is the key to success. Saturate your ministry with prayer. Do not even begin to think of assessing the needs of your community without heavenly guid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3 we are told to talk to Him about our actual life. Consider this statement: "Prayer is the opening of the heart to God as to a friend. Not that it is necessary, in order to make known to God what we are, but in order to enable us to receive Him. Prayer does not bring God down to us, but brings us up to Hi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at a wonder it is that we pray so little! God is ready and willing to hear the sincere prayer of the humblest of His children, and yet there is much manifest reluctance on our part to make known our wants to God. What can the angels of heaven think of poor helpless human beings, who are subject to temptation, when God’s heart of infinite love yearns toward them, ready to give them more than they can ask or think, and yet they pray so little, and have so little faith?"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 cannot stress enough the need for prayer. It is what Women’s Ministries is founded upon. In your planning sessions to decide which avenues you will use to assess women’s needs, always begin with prayer. Much can be accomplished when God is your partner and guide. Ask Him to lead you to women who will become more beautiful from your ministry. Pray unceasingly for help as you begin your planning. When it seems that you have hit what seems like a dead end, stop and pray for help. He will answer your requests. Always keep in mind that you are doing the work God has commissioned you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llust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lyn was planning a "Take Heart Retreat" to bring healing and help to women who had been sexually abused as children. A woman called Evelyn and asked if there were any funds available so she could receive a scholarship to attend. Evelyn’s heart was sad as she reported that she did not have any funds available to pay fees. They visited and prayed together and terminated their convers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oon as she hung up the telephone, Evelyn was distraught. Because she was attempting to protect the confidentiality of the women who called she had not gotten her phone number or her name. If someone would come forward with funds, she had no idea how she would contact the unknown woman to let her know she could come to the retre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he worked around the kitchen that morning Evelyn lifted her thoughts to God in prayer. Within a few minutes the phone rang again. When Evelyn answered the phone, she heard these words: "I have a friend who needs to come to the retreat. I don’t want her to know who I am. She doesn’t have the money to attend and I want to pay her fees. Will you call her and tell her that her fees will be paid if she wishes to co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f course, I will be happy to do that." Evelyn answered. She was given the number and name of the woman who was to be the recipient of this generos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icking up the phone, Evelyn dialed the number given her. She heard the voice of the first woman with whom she had visited. Realizing her prayer had been swiftly answered Evelyn’s heart was filled with a prayer of thanksgiving as she told her that funds were available for her to attend the retre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just one example of a prayer that was answered as women ministered to wom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your own personal example of prayer answered when you were working for the women in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t is prayer that keeps us in harmony with God’s plan for our ministry. "Through sincere prayer we are brought into connection with the mind of the Infinite.... We may not feel His visible touch, but His hand is upon us in love and pitying tenderness."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ith promises such as this we can be assured of His blessing when we begin our work and learn to understand where our sphere of influence should be extended. His hand is upon us and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2. Keep your plans in harmony with the mission statement of your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rking with the overall mission statement and goals of the church will help to insure your success. As you cooperate with the overall mission of the church your fellow members will be at ease with Women’s Ministries. You and your ministry will become a vital part of the team.  </a:t>
            </a:r>
            <a:r>
              <a:rPr b="1" lang="en-US" sz="1200" spc="-1" strike="noStrike">
                <a:solidFill>
                  <a:srgbClr val="000000"/>
                </a:solidFill>
                <a:latin typeface="Century Gothic"/>
                <a:ea typeface="Arial"/>
              </a:rPr>
              <a:t>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3. Work with your pastor and church 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hare your plans with your pastor and the church board. The success of any program is greatly enhanced when you have their cooperation. Solicit their support and become a cohesive team as you work together. </a:t>
            </a:r>
            <a:r>
              <a:rPr b="1" lang="en-US" sz="1200" spc="-1" strike="noStrike">
                <a:solidFill>
                  <a:srgbClr val="000000"/>
                </a:solidFill>
                <a:latin typeface="Century Gothic"/>
                <a:ea typeface="Arial"/>
              </a:rPr>
              <a:t>REMEMBER TO 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4. Let love be your primary reason for assessing the needs of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 unceasingly for the love of Christ to fill your heart. Without His love shining out through you, your work will not succeed. Ask Him for a revival of His love within you that you may be prepared to go forth to do His work. </a:t>
            </a:r>
            <a:r>
              <a:rPr b="1" lang="en-US" sz="1200" spc="-1" strike="noStrike">
                <a:solidFill>
                  <a:srgbClr val="000000"/>
                </a:solidFill>
                <a:latin typeface="Century Gothic"/>
                <a:ea typeface="Arial"/>
              </a:rPr>
              <a:t>KEEP PRAY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V.</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FINDING THE WOMEN IN OUR COMMUNITIES WHO WILL RESPOND TO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re do we find the women to contact to assess the needs of our communities? How do we create opportunities to know them well enough to understand what will help them in their beautification process?  (</a:t>
            </a:r>
            <a:r>
              <a:rPr b="1" lang="en-US" sz="1200" spc="-1" strike="noStrike">
                <a:solidFill>
                  <a:srgbClr val="000000"/>
                </a:solidFill>
                <a:latin typeface="Century Gothic"/>
                <a:ea typeface="Times New Roman"/>
              </a:rPr>
              <a:t>OH-5</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A.</a:t>
            </a: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Learn to know your fellow church members in a personal 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can reach hearts…. Remember that you can break down the severest opposition by taking a personal interest in the people whom you meet." </a:t>
            </a:r>
            <a:r>
              <a:rPr b="0" i="1" lang="en-US" sz="1200" spc="-1" strike="noStrike">
                <a:solidFill>
                  <a:srgbClr val="000000"/>
                </a:solidFill>
                <a:latin typeface="Century Gothic"/>
                <a:ea typeface="Arial"/>
              </a:rPr>
              <a:t>Welfare Ministry</a:t>
            </a:r>
            <a:r>
              <a:rPr b="0" lang="en-US" sz="1200" spc="-1" strike="noStrike">
                <a:solidFill>
                  <a:srgbClr val="000000"/>
                </a:solidFill>
                <a:latin typeface="Century Gothic"/>
                <a:ea typeface="Arial"/>
              </a:rPr>
              <a:t>, p. 16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Make friends with the women in your church. Let them know who you are and that you are interested in them as a person. Women need to establish a level of trust with each other so they will feel free to respond in an open and truthful manner. Observe the women in your church. Make friends with every socioeconomic group. It makes no difference whether women are wealthy or are in financial need. They all have problems, needs, and are looking for friendship. Look for the areas where they would appreciate help. Pray that God will lead you to understand the women and assess their needs as you interact with them. People look to the church for healing so they can continue to grow in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B.</a:t>
            </a: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Get to know your neighbo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you plan for your programs to reach into the community beyond your church boundaries, you will need to become acquainted with your neighbors. It is a rare occasion when someone will come to your church who does not already have a friend in the chur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o all who are working with Christ I would say, wherever you can gain access to the people by the fireside, improve your opportunity. Take your Bible, and open before them its great truths. Your success will not depend so much upon your knowledge and accomplishments, as upon your ability to find your way to the heart. By being social and coming close to the people, you may turn the current of their thoughts more readily than by the most able discourse. The presentation of Christ in the family, by the fireside, and in small gatherings in private houses, is often more successful in winning souls to Jesus than are sermons delivered in the open air, to the moving throng, or even in halls or churches." </a:t>
            </a:r>
            <a:r>
              <a:rPr b="0" i="1" lang="en-US" sz="1200" spc="-1" strike="noStrike">
                <a:solidFill>
                  <a:srgbClr val="000000"/>
                </a:solidFill>
                <a:latin typeface="Century Gothic"/>
                <a:ea typeface="Arial"/>
              </a:rPr>
              <a:t>Gospel Workers</a:t>
            </a:r>
            <a:r>
              <a:rPr b="0" lang="en-US" sz="1200" spc="-1" strike="noStrike">
                <a:solidFill>
                  <a:srgbClr val="000000"/>
                </a:solidFill>
                <a:latin typeface="Century Gothic"/>
                <a:ea typeface="Arial"/>
              </a:rPr>
              <a:t>, page 19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a people we lose much by lack of sympathy and sociability with one another.... We are children of God, mutually dependent upon one another for happiness. The claims of God and of humanity are upon us. We must all act our part in this life. It is the proper cultivation of the social elements of our nature that brings us into sympathy with our brethren, and affords us happiness in our efforts to bless others." </a:t>
            </a:r>
            <a:r>
              <a:rPr b="0" i="1" lang="en-US" sz="1200" spc="-1" strike="noStrike">
                <a:solidFill>
                  <a:srgbClr val="000000"/>
                </a:solidFill>
                <a:latin typeface="Century Gothic"/>
                <a:ea typeface="Arial"/>
              </a:rPr>
              <a:t>Testimonies, vol. 4,</a:t>
            </a:r>
            <a:r>
              <a:rPr b="0" lang="en-US" sz="1200" spc="-1" strike="noStrike">
                <a:solidFill>
                  <a:srgbClr val="000000"/>
                </a:solidFill>
                <a:latin typeface="Century Gothic"/>
                <a:ea typeface="Arial"/>
              </a:rPr>
              <a:t> pages 71-7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aviour was a guest at the feast of a Pharisee. He accepted invitations from the rich as well as the poor, and, according to His custom, He linked the scene before Him with His lessons of truth." </a:t>
            </a:r>
            <a:r>
              <a:rPr b="0" i="1" lang="en-US" sz="1200" spc="-1" strike="noStrike">
                <a:solidFill>
                  <a:srgbClr val="000000"/>
                </a:solidFill>
                <a:latin typeface="Century Gothic"/>
                <a:ea typeface="Arial"/>
              </a:rPr>
              <a:t>Christ’s Object Lessons,</a:t>
            </a:r>
            <a:r>
              <a:rPr b="0" lang="en-US" sz="1200" spc="-1" strike="noStrike">
                <a:solidFill>
                  <a:srgbClr val="000000"/>
                </a:solidFill>
                <a:latin typeface="Century Gothic"/>
                <a:ea typeface="Arial"/>
              </a:rPr>
              <a:t> page 21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pen your home to all women and find occasions to welcome them into the inner circle of your family. As you visit with them in this relaxed setting you will be given an insight into their needs. In this informal setting you will get to know them intimately and will be able to assess their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C.</a:t>
            </a: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Make an effort to become better acquainted with your co-work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isten to the little messages that are given about the personal lives of those with whom you work. These are the women who work at their job away from home and then go home to another full time job. The loads they carry are heavy. Their time is limited and yet they have needs too. These may be the women whom you can minister to best in a one to one situation.  Hear their cries, rejoice with them, and lis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Christ was willing to be open and accepting of all. So we should be careful to not develop an attitude of exclusiveness. Co-workers, whether they have a higher position or whether their position in the company is lower than ours, are still people. Recognize that everyone has needs and listen to their expressed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He exercised His helping power in behalf of all who needed help." </a:t>
            </a:r>
            <a:r>
              <a:rPr b="0" i="1" lang="en-US" sz="1200" spc="-1" strike="noStrike">
                <a:solidFill>
                  <a:srgbClr val="000000"/>
                </a:solidFill>
                <a:latin typeface="Century Gothic"/>
                <a:ea typeface="Arial"/>
              </a:rPr>
              <a:t>Desire of Ages,</a:t>
            </a:r>
            <a:r>
              <a:rPr b="0" lang="en-US" sz="1200" spc="-1" strike="noStrike">
                <a:solidFill>
                  <a:srgbClr val="000000"/>
                </a:solidFill>
                <a:latin typeface="Century Gothic"/>
                <a:ea typeface="Arial"/>
              </a:rPr>
              <a:t> page 12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eople like to be thought of as individuals and not just a part of a group who were surveyed. It is good to know that someone cares about you as a pers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vite women to share more ideas as to how they can become better acquainted with other women. List these ideas als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VALUE EVERY WOMAN’S RESPON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Be always aware that even if you don’t have an interest in a certain topic, it may be what is needed to fill a special void in someone’s life. What one woman is brave enough to admit needing, may be the exact thing that others will appreciate having you ad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llust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n example of one or two women expressing their need for help is illustrated with the following experience that took place in the Mid-America Union of the North American Division.</a:t>
            </a:r>
            <a:r>
              <a:rPr b="1"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women began to come forward telling of the sexual abuse they had experienced as children, a decision was made to hold a "Take Heart Retreat" to address their pain and to assist in their healing. When it was first advertised, organizers thought maybe twenty or thirty women would respond. What was amazing were the hundreds of women who called. Each of these women was so thankful the church was willing to address this issue which affected every area of her life, including her spirituality. It was shocking to discover how many women had suffered this humiliation and pa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women who called and those who attended the retreat came from every ethnic group and denomination, including the unchurched. All who called for information could not find the courage to attend. Many who attended had not called but came without pre-registering. By listening to the expressed concerns of a few the needs of many were made known. This particular need was then addressed and healing resul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you have learned to know the women of your community through the various methods we have just discussed you will be able to plan programs and activities to address their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re will be many still whom you have not met or contacted in any way. It will be a challenge to interest women who have not been personally contacted. Possible ways of reaching these women could b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lacing posters on area bulletin board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Going door to door with a surve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Flyers advertising your programs in laundromats and other areas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frequented by wom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llow time for seminar participants to give input about other avenues that may be us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Once you have become acquainted with the women in your sphere of influence there will be a necessity to get more specific and define specific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HOW TO MEASURE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various means of assessing the needs of the women:   (</a:t>
            </a:r>
            <a:r>
              <a:rPr b="1" lang="en-US" sz="1200" spc="-1" strike="noStrike">
                <a:solidFill>
                  <a:srgbClr val="000000"/>
                </a:solidFill>
                <a:latin typeface="Century Gothic"/>
                <a:ea typeface="Times New Roman"/>
              </a:rPr>
              <a:t>OH - 6</a:t>
            </a:r>
            <a:r>
              <a:rPr b="0" lang="en-US" sz="1200" spc="-1" strike="noStrike">
                <a:solidFill>
                  <a:srgbClr val="000000"/>
                </a:solidFill>
                <a:latin typeface="Century Gothic"/>
                <a:ea typeface="Times New Roman"/>
              </a:rPr>
              <a:t>)</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OH - 6</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Town meet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own Meetings can be very helpful and productive. Create an atmosphere of acceptance with a feeling of comfort. Choose a moderator who is warm and loving. The moderator will not necessarily have the answers to all of the challenges presented and will treat every comment with dignity and grace. She does not need to have all of the answers, women know no one is an authority on every topi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xpress empathy and validate the person for being willing to share her thoughts. Record all of the thoughts and ideas expressed. Assure the women they and their opinions are valued. There are no topics that are taboo. Close the meeting by thanking the women and tell of your plans for addressing the issues they have mentioned. Use the information to plan your programs and implement them as quickly as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You will find some brave women who are willing to speak out in this type of forum about their needs. There will also be those who are too timid to tell what they would like to have included in your programs. So another method will be needed to assess their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Focus grou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Gather women together for an informal meeting. Again, create an atmosphere of calm and unity. You may decide to give the meeting a party like atmosphere by serving herbal teas and cookies or serve a lunch. This will break down barriers that might be present if you say you are going to have a meeting to assess the needs of women. The worldwide custom of sharing a meal is an important feature of hospitality and women can capitalize on this gracious practice. In this informal setting women will often speak more freely of their wishes and desi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eat the women at small tables of four to six people at a table. Share with them the desire you have to bring happiness and joy into the lives of women. Give them a pad and pencil to record their thoughts. Have them prioritize their lists as to their importance. Ask all of the groups to report on their discussions. Listen carefully for the comments that are made at this time. These comments often express the most urgent needs. Keep a record of the results of these discussions and use them to plan your programs. Observe the natural leaders in the group and utilize their expertise. Leave the women with the assurance of acceptance and that their feelings are validated. After these meetings work quickly to formulate your plans and implement you program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urveys are a common method of obtaining information. They give every person an opportunity to express themselves anonymously. To be anonymous is important to many as they become vulnerable and share their concerns and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urveys work well with your church community. They will help identify the needs and will locate those who can help meet those needs. Do not become discouraged if you do not receive a 100% return on your surveys. No one ever receives a 100% return on a survey. Distribute the surveys to every woman to achieve a maximum number returned. Try passing out the surveys at church or another church meeting. If possible have them complete the survey and turn it as they leave. You also may choose to mail it with a self–addressed stamped return envelope. A small church may choose to conduct the survey by telephone. Your survey will be more helpful if the women have time to think through their answers fir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using surveys allow room for women to record extra thoughts and opinions that are not included in the regular pattern or style of the survey. Every woman does not fit in the boxes. There are many areas in which the individual completing the survey may have a need to express their feelings. Again, these may be the very areas in which several other women may also have a ne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o not conduct a survey until you are ready to use the results. To complete a survey of your community and not utilize the results will lead to a credibility loss. Solicit only the information you will need for the current year. You will want to take a new survey each year.(</a:t>
            </a:r>
            <a:r>
              <a:rPr b="1" lang="en-US" sz="1200" spc="-1" strike="noStrike">
                <a:solidFill>
                  <a:srgbClr val="000000"/>
                </a:solidFill>
                <a:latin typeface="Century Gothic"/>
                <a:ea typeface="Arial"/>
              </a:rPr>
              <a:t>OH – 7</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 cont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A good survey will tell you: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ich ministries now in place in your church in which they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need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o the women are who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In what ways they are willing to minister to other wom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various interest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 cont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A good survey will tell you: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ich ministries now in place in your church in which they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need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o the women are who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In what ways they are willing to minister to other wom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various interest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ir name, address, phone number and ag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be checked if they wish to attend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list of possible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n area to indicate which of the current ministries they are now participating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check if they wish to join current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lanks to list their special skills or inter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ox to check if they wish to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m to list their special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something for each age group, for the married, single, divorced and widow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s will identify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ook for leaders and those who have expertise in different areas. Some of your older women are rich treasure houses of information and abilities. The story is told of a sheep rancher telling about his faithful lead dog. It is a homely illustration but there is a nugget of truth in the story that applies to people too. "She’s getting very old, but she has enough energy and wisdom to train one more dog before she goes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ry woman has a talent to share. No one is so bereft of ability and wisdom but what they have something to share with others. Wisdom comes from above. James 3:17 says, "But the wisdom that is from above is first pure, then peaceable, gentle and easy to be intreated, full of mercy and good fruits, without partiality, and without hypocrisy." (KJ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ncouraging character building resolution for leaders is found on page 166 of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Let every individual member of the church ask himself (herself), ‘What part can I act to win souls to Jesus Christ?’... "I will </a:t>
            </a:r>
            <a:r>
              <a:rPr b="0" lang="en-US" sz="1200" spc="-1" strike="noStrike">
                <a:solidFill>
                  <a:srgbClr val="000000"/>
                </a:solidFill>
                <a:latin typeface="Century Gothic"/>
                <a:ea typeface="Arial"/>
              </a:rPr>
              <a:t>consecrate myself to God, and my desire for selfish gratification shall be killed before it buds and blossoms and bears fruit." This is a good resolution. It will please the Saviour who has purchased you..." God will bless each one as they adopt this resolution as their guide and as they are willing to share their leadership skills. Your survey will help you identify these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Be Crea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you design your survey, be creative in thinking of ideas for programs and activities that will attract the attention of the women. Look to your own country, state, province, village or city to find programs that will appeal to the local culture. Look for things to do that will not be beyond the budgets of the women. Remember that social activities provide a needed outlet for the women and also provide opportunities to learn from each other in an informal set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Arial"/>
              </a:rPr>
              <a:t>Group Particip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istribute sample surveys. Divide into smaller groups of four to five women. Spend fifteen minutes discussing the surveys and adapting them to their areas and to the culture of their women. Encourage the women to add to the suggested ideas presented on the sample surveys. (You may wish to look at surveys from the point of using it to survey the church women and using it to survey the women of the community.) When finished, have all return to the main group and share their ideas. After you have finished this exercise you should have a survey that will work for your church and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LOCAL RESOUR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planning your programs look to the local community for professionals who may be willing to speak on pertinent topics at your meetings. Also be aware of the helpful agencies and professionals who live in your locale that are currently addressing some of the needs and issues the women will mention on the surveys. Be knowledgeable so that you are able to refer your women to professional help when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HALLE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have a great work to do that only they are capable of doing. The Lord desires that each of us do the work He has given us. He will bestow talents upon us, give us the resources, the time, and the courage to do what is needed. Pray unceasingly for His guidance and direction. Go forward in faith knowing that the Lord is with you and will guide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Lord has a work for women as well as for men. They may take their places in His work at this crisis, and He will work through them. If they are imbued with a sense of their duty, and labor under the influence of the Holy Spirit, they will have just the self-possession required for this time. The Savior will reflect upon these self-sacrificing women the light of His countenance, and will give them a power that exceeds that of men. They can do in families a work that men cannot do, a work that reaches the inner life. They can come close to the hearts of those whom men cannot reach. Their labor is needed." Ellen G. White, </a:t>
            </a:r>
            <a:r>
              <a:rPr b="0" i="1" lang="en-US" sz="1200" spc="-1" strike="noStrike">
                <a:solidFill>
                  <a:srgbClr val="000000"/>
                </a:solidFill>
                <a:latin typeface="Century Gothic"/>
                <a:ea typeface="Arial"/>
              </a:rPr>
              <a:t>Review and Herald</a:t>
            </a:r>
            <a:r>
              <a:rPr b="0" lang="en-US" sz="1200" spc="-1" strike="noStrike">
                <a:solidFill>
                  <a:srgbClr val="000000"/>
                </a:solidFill>
                <a:latin typeface="Century Gothic"/>
                <a:ea typeface="Arial"/>
              </a:rPr>
              <a:t>, August 26, 190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ir name, address, phone number and ag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be checked if they wish to attend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list of possible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n area to indicate which of the current ministries they are now participating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check if they wish to join current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lanks to list their special skills or inter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ox to check if they wish to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m to list their special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something for each age group, for the married, single, divorced and widow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s will identify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ook for leaders and those who have expertise in different areas. Some of your older women are rich treasure houses of information and abilities. The story is told of a sheep rancher telling about his faithful lead dog. It is a homely illustration but there is a nugget of truth in the story that applies to people too. "She’s getting very old, but she has enough energy and wisdom to train one more dog before she goes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ry woman has a talent to share. No one is so bereft of ability and wisdom but what they have something to share with others. Wisdom comes from above. James 3:17 says, "But the wisdom that is from above is first pure, then peaceable, gentle and easy to be intreated, full of mercy and good fruits, without partiality, and without hypocrisy." (KJ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ncouraging character building resolution for leaders is found on page 166 of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Let every individual member of the church ask himself (herself), ‘What part can I act to win souls to Jesus Christ?’... "I will </a:t>
            </a:r>
            <a:r>
              <a:rPr b="0" lang="en-US" sz="1200" spc="-1" strike="noStrike">
                <a:solidFill>
                  <a:srgbClr val="000000"/>
                </a:solidFill>
                <a:latin typeface="Century Gothic"/>
                <a:ea typeface="Arial"/>
              </a:rPr>
              <a:t>consecrate myself to God, and my desire for selfish gratification shall be killed before it buds and blossoms and bears fruit." This is a good resolution. It will please the Saviour who has purchased you..." God will bless each one as they adopt this resolution as their guide and as they are willing to share their leadership skills. Your survey will help you identify these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Be Crea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you design your survey, be creative in thinking of ideas for programs and activities that will attract the attention of the women. Look to your own country, state, province, village or city to find programs that will appeal to the local culture. Look for things to do that will not be beyond the budgets of the women. Remember that social activities provide a needed outlet for the women and also provide opportunities to learn from each other in an informal set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Arial"/>
              </a:rPr>
              <a:t>Group Particip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istribute sample surveys. Divide into smaller groups of four to five women. Spend fifteen minutes discussing the surveys and adapting them to their areas and to the culture of their women. Encourage the women to add to the suggested ideas presented on the sample surveys. (You may wish to look at surveys from the point of using it to survey the church women and using it to survey the women of the community.) When finished, have all return to the main group and share their ideas. After you have finished this exercise you should have a survey that will work for your church and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LOCAL RESOUR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planning your programs look to the local community for professionals who may be willing to speak on pertinent topics at your meetings. Also be aware of the helpful agencies and professionals who live in your locale that are currently addressing some of the needs and issues the women will mention on the surveys. Be knowledgeable so that you are able to refer your women to professional help when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HALLE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have a great work to do that only they are capable of doing. The Lord desires that each of us do the work He has given us. He will bestow talents upon us, give us the resources, the time, and the courage to do what is needed. Pray unceasingly for His guidance and direction. Go forward in faith knowing that the Lord is with you and will guide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Lord has a work for women as well as for men. They may take their places in His work at this crisis, and He will work through them. If they are imbued with a sense of their duty, and labor under the influence of the Holy Spirit, they will have just the self-possession required for this time. The Savior will reflect upon these self-sacrificing women the light of His countenance, and will give them a power that exceeds that of men. They can do in families a work that men cannot do, a work that reaches the inner life. They can come close to the hearts of those whom men cannot reach. Their labor is needed." Ellen G. White, </a:t>
            </a:r>
            <a:r>
              <a:rPr b="0" i="1" lang="en-US" sz="1200" spc="-1" strike="noStrike">
                <a:solidFill>
                  <a:srgbClr val="000000"/>
                </a:solidFill>
                <a:latin typeface="Century Gothic"/>
                <a:ea typeface="Arial"/>
              </a:rPr>
              <a:t>Review and Herald</a:t>
            </a:r>
            <a:r>
              <a:rPr b="0" lang="en-US" sz="1200" spc="-1" strike="noStrike">
                <a:solidFill>
                  <a:srgbClr val="000000"/>
                </a:solidFill>
                <a:latin typeface="Century Gothic"/>
                <a:ea typeface="Arial"/>
              </a:rPr>
              <a:t>, August 26, 190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ecret to becoming a successful worker for the Lord is based upon several factors:  (</a:t>
            </a:r>
            <a:r>
              <a:rPr b="1" lang="en-US" sz="1200" spc="-1" strike="noStrike">
                <a:solidFill>
                  <a:srgbClr val="000000"/>
                </a:solidFill>
                <a:latin typeface="Century Gothic"/>
                <a:ea typeface="Arial"/>
              </a:rPr>
              <a:t>OH-1</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sincere desire to work for the Mas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commitment to follow through on projects you beg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passion for Women’s Ministr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illingness to spend time in prayer preparing yoursel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n unfailing trust in the L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uccess of our ministry will hinge upon the amount of our desire and commitment.  The success of our ministry. Jesus said: "No one who puts his hand to the plow and looks back is fit for service in the kingdom of God." Luke 9:62. In his letter to the Corinthians Paul tells us: "....he who plows should plow in hope, and he who threshes in hope should be partaker of his hope. 1 Corinthians 9:10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o let us put our hand to the plow and plow in hope. God desires it for us. The women we work with will become more beautiful as they grow closer to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s Ministries programs help to form the woman who will be portrayed as a child of God. We are involved in helping to paint a portrait of women who are beautiful in every area of their lives. Some of these area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2</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ecret to becoming a successful worker for the Lord is based upon several factors:  (</a:t>
            </a:r>
            <a:r>
              <a:rPr b="1" lang="en-US" sz="1200" spc="-1" strike="noStrike">
                <a:solidFill>
                  <a:srgbClr val="000000"/>
                </a:solidFill>
                <a:latin typeface="Century Gothic"/>
                <a:ea typeface="Arial"/>
              </a:rPr>
              <a:t>OH-1</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sincere desire to work for the Mas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commitment to follow through on projects you beg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passion for Women’s Ministr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illingness to spend time in prayer preparing yoursel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n unfailing trust in the L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uccess of our ministry will hinge upon the amount of our desire and commitment.  The success of our ministry. Jesus said: "No one who puts his hand to the plow and looks back is fit for service in the kingdom of God." Luke 9:62. In his letter to the Corinthians Paul tells us: "....he who plows should plow in hope, and he who threshes in hope should be partaker of his hope. 1 Corinthians 9:10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o let us put our hand to the plow and plow in hope. God desires it for us. The women we work with will become more beautiful as they grow closer to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s Ministries programs help to form the woman who will be portrayed as a child of God. We are involved in helping to paint a portrait of women who are beautiful in every area of their lives. Some of these area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2</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piritual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lf-assurance and a sense of self-wor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tilization of their tal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Knowing their needs are m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duc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rsonal enrich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ealing from past abu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conomic and financial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bility to nurture each o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riendship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ur challenge is to know what the women in our communities need by looking for ways and means to define their needs. Once we understand the boundaries of our community, programs, classes and other methods of help may be implemented to meet the needs of the women. Let us think about the many definitions of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EFINING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order to ascertain how to assess the need of your community, we first need to define community. Community means many different things to different people.  (</a:t>
            </a:r>
            <a:r>
              <a:rPr b="1" lang="en-US" sz="1200" spc="-1" strike="noStrike">
                <a:solidFill>
                  <a:srgbClr val="000000"/>
                </a:solidFill>
                <a:latin typeface="Century Gothic"/>
                <a:ea typeface="Times New Roman"/>
              </a:rPr>
              <a:t>OH-3</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piritual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lf-assurance and a sense of self-wor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tilization of their tal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Knowing their needs are m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duc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rsonal enrich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ealing from past abu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conomic and financial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bility to nurture each o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riendship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ur challenge is to know what the women in our communities need by looking for ways and means to define their needs. Once we understand the boundaries of our community, programs, classes and other methods of help may be implemented to meet the needs of the women. Let us think about the many definitions of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EFINING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order to ascertain how to assess the need of your community, we first need to define community. Community means many different things to different people.  (</a:t>
            </a:r>
            <a:r>
              <a:rPr b="1" lang="en-US" sz="1200" spc="-1" strike="noStrike">
                <a:solidFill>
                  <a:srgbClr val="000000"/>
                </a:solidFill>
                <a:latin typeface="Century Gothic"/>
                <a:ea typeface="Times New Roman"/>
              </a:rPr>
              <a:t>OH-3</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piritual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lf-assurance and a sense of self-wor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tilization of their tal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Knowing their needs are m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duc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rsonal enrich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ealing from past abu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conomic and financial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bility to nurture each o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riendship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ur challenge is to know what the women in our communities need by looking for ways and means to define their needs. Once we understand the boundaries of our community, programs, classes and other methods of help may be implemented to meet the needs of the women. Let us think about the many definitions of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EFINING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order to ascertain how to assess the need of your community, we first need to define community. Community means many different things to different people.  (</a:t>
            </a:r>
            <a:r>
              <a:rPr b="1" lang="en-US" sz="1200" spc="-1" strike="noStrike">
                <a:solidFill>
                  <a:srgbClr val="000000"/>
                </a:solidFill>
                <a:latin typeface="Century Gothic"/>
                <a:ea typeface="Times New Roman"/>
              </a:rPr>
              <a:t>OH-3</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3</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 It has become a common practice in many denominations to define their </a:t>
            </a:r>
            <a:r>
              <a:rPr b="0" lang="en-US" sz="1200" spc="-1" strike="noStrike" u="sng">
                <a:solidFill>
                  <a:srgbClr val="000000"/>
                </a:solidFill>
                <a:uFillTx/>
                <a:latin typeface="Century Gothic"/>
                <a:ea typeface="Arial"/>
              </a:rPr>
              <a:t>church congregations</a:t>
            </a:r>
            <a:r>
              <a:rPr b="0" lang="en-US" sz="1200" spc="-1" strike="noStrike">
                <a:solidFill>
                  <a:srgbClr val="000000"/>
                </a:solidFill>
                <a:latin typeface="Century Gothic"/>
                <a:ea typeface="Arial"/>
              </a:rPr>
              <a:t> as a community. They consider their church family a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 Community also is the </a:t>
            </a:r>
            <a:r>
              <a:rPr b="0" lang="en-US" sz="1200" spc="-1" strike="noStrike" u="sng">
                <a:solidFill>
                  <a:srgbClr val="000000"/>
                </a:solidFill>
                <a:uFillTx/>
                <a:latin typeface="Century Gothic"/>
                <a:ea typeface="Arial"/>
              </a:rPr>
              <a:t>area in which we live</a:t>
            </a:r>
            <a:r>
              <a:rPr b="0" lang="en-US" sz="1200" spc="-1" strike="noStrike">
                <a:solidFill>
                  <a:srgbClr val="000000"/>
                </a:solidFill>
                <a:latin typeface="Century Gothic"/>
                <a:ea typeface="Arial"/>
              </a:rPr>
              <a:t>. For some communities this encompasses a few blocks right around their home. For others it is the village or small town in which they live.  A community may encompass many miles in a surrounding countryside for those who are in rural areas or in agricultural pursuits and do not live in houses that are near each other. A community may be the college dormitory where a student is living while pursuing their course of stu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 A </a:t>
            </a:r>
            <a:r>
              <a:rPr b="0" lang="en-US" sz="1200" spc="-1" strike="noStrike" u="sng">
                <a:solidFill>
                  <a:srgbClr val="000000"/>
                </a:solidFill>
                <a:uFillTx/>
                <a:latin typeface="Century Gothic"/>
                <a:ea typeface="Arial"/>
              </a:rPr>
              <a:t>company where you are employed</a:t>
            </a:r>
            <a:r>
              <a:rPr b="0" lang="en-US" sz="1200" spc="-1" strike="noStrike">
                <a:solidFill>
                  <a:srgbClr val="000000"/>
                </a:solidFill>
                <a:latin typeface="Century Gothic"/>
                <a:ea typeface="Arial"/>
              </a:rPr>
              <a:t> may become your community. As people spend much of their day at their place of work the people they associate with and interact within the process of their job become their community. With less available free time the work community becomes a vital part of your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4. Community is also the </a:t>
            </a:r>
            <a:r>
              <a:rPr b="0" lang="en-US" sz="1200" spc="-1" strike="noStrike" u="sng">
                <a:solidFill>
                  <a:srgbClr val="000000"/>
                </a:solidFill>
                <a:uFillTx/>
                <a:latin typeface="Century Gothic"/>
                <a:ea typeface="Arial"/>
              </a:rPr>
              <a:t>extended family</a:t>
            </a:r>
            <a:r>
              <a:rPr b="0" lang="en-US" sz="1200" spc="-1" strike="noStrike">
                <a:solidFill>
                  <a:srgbClr val="000000"/>
                </a:solidFill>
                <a:latin typeface="Century Gothic"/>
                <a:ea typeface="Arial"/>
              </a:rPr>
              <a:t>. Families who are close-knit and live in close proximity to each other become a community by themsel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5. Communities develop </a:t>
            </a:r>
            <a:r>
              <a:rPr b="0" lang="en-US" sz="1200" spc="-1" strike="noStrike" u="sng">
                <a:solidFill>
                  <a:srgbClr val="000000"/>
                </a:solidFill>
                <a:uFillTx/>
                <a:latin typeface="Century Gothic"/>
                <a:ea typeface="Arial"/>
              </a:rPr>
              <a:t>around the friends your children have made</a:t>
            </a:r>
            <a:r>
              <a:rPr b="0" lang="en-US" sz="1200" spc="-1" strike="noStrike">
                <a:solidFill>
                  <a:srgbClr val="000000"/>
                </a:solidFill>
                <a:latin typeface="Century Gothic"/>
                <a:ea typeface="Arial"/>
              </a:rPr>
              <a:t>. Often the children develop friendships with other children who are not from their immediate neighborhood. This will foster a friendship between parents of the children. Thus, another community is for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other definitions of community that are applicable to your country, area of culture. List these on the flip chart or chalk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us we see how varied the definition of community becomes. There are many ways to ascertain the needs of the particular community to whom we wish to minis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can learn what needs to be done to reach other women." </a:t>
            </a:r>
            <a:r>
              <a:rPr b="0" i="1" lang="en-US" sz="1200" spc="-1" strike="noStrike">
                <a:solidFill>
                  <a:srgbClr val="000000"/>
                </a:solidFill>
                <a:latin typeface="Century Gothic"/>
                <a:ea typeface="Arial"/>
              </a:rPr>
              <a:t>Welfare Ministry,</a:t>
            </a:r>
            <a:r>
              <a:rPr b="0" lang="en-US" sz="1200" spc="-1" strike="noStrike">
                <a:solidFill>
                  <a:srgbClr val="000000"/>
                </a:solidFill>
                <a:latin typeface="Century Gothic"/>
                <a:ea typeface="Arial"/>
              </a:rPr>
              <a:t> p. 16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 statement meant for every woman. We can learn how to minister to other women and to plan programs to meet their needs. Once we define the boundaries of our community we are able to begin to ascertain the needs of the women who comprise 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BEGINNING THE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evious to this process you will have been chosen to serve on a committee who will direct he Women’s Ministries program in your church. Meet with your committee and use them as a resource as together you decide on the methods you will use to assess the needs of the women in your community. Listen to the different perspectives of the women on your committee. Each woman will have her own unique personality and will able to recognize needs that perhaps only she can see or fe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suggestions to keep in mind as you work:  (</a:t>
            </a:r>
            <a:r>
              <a:rPr b="1" lang="en-US" sz="1200" spc="-1" strike="noStrike">
                <a:solidFill>
                  <a:srgbClr val="000000"/>
                </a:solidFill>
                <a:latin typeface="Century Gothic"/>
                <a:ea typeface="Times New Roman"/>
              </a:rPr>
              <a:t>OH-4</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B08EC-0961-409E-913F-569546B0E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C7215-FB40-47F0-9398-373F86F88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3CCEB-F979-4DF2-AFD5-CAED1A469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341EB-85BF-4152-A214-1AAE2E48D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EAB5A-E5C2-4C2F-A395-B06440BEB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B1BCB-D9D7-4C13-8707-CEECBD82B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4B504-0018-46A8-8DAE-66CF43B34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F1F57-57D4-453C-B54C-83BBC5BB1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A10FF-7BB3-4F15-B5A0-AC3283DEB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30A27-1E43-4035-AE81-C3576D223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F1F3A-17F8-47BF-B4C1-183DC5F39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F4252-225A-4496-8C94-CBB40548C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Click to edit the outline text format</a:t>
            </a:r>
            <a:endParaRPr b="0" lang="en-US" sz="3200" spc="-1" strike="noStrike">
              <a:solidFill>
                <a:srgbClr val="0099cc"/>
              </a:solidFill>
              <a:latin typeface="Times New Roman"/>
            </a:endParaRPr>
          </a:p>
          <a:p>
            <a:pPr lvl="1" marL="735480" indent="-28296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cond Outline Level</a:t>
            </a:r>
            <a:endParaRPr b="0" lang="en-US" sz="3200" spc="-1" strike="noStrike">
              <a:solidFill>
                <a:srgbClr val="0099cc"/>
              </a:solidFill>
              <a:latin typeface="Times New Roman"/>
            </a:endParaRPr>
          </a:p>
          <a:p>
            <a:pPr lvl="2" marL="1131480" indent="-2260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Third Outline Level</a:t>
            </a:r>
            <a:endParaRPr b="0" lang="en-US" sz="3200" spc="-1" strike="noStrike">
              <a:solidFill>
                <a:srgbClr val="0099cc"/>
              </a:solidFill>
              <a:latin typeface="Times New Roman"/>
            </a:endParaRPr>
          </a:p>
          <a:p>
            <a:pPr lvl="3" marL="1584000" indent="-2260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ourth Outline Level</a:t>
            </a:r>
            <a:endParaRPr b="0" lang="en-US" sz="3200" spc="-1" strike="noStrike">
              <a:solidFill>
                <a:srgbClr val="0099cc"/>
              </a:solidFill>
              <a:latin typeface="Times New Roman"/>
            </a:endParaRPr>
          </a:p>
          <a:p>
            <a:pPr lvl="4" marL="2036520" indent="-2260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ifth Outline Level</a:t>
            </a:r>
            <a:endParaRPr b="0" lang="en-US" sz="3200" spc="-1" strike="noStrike">
              <a:solidFill>
                <a:srgbClr val="0099cc"/>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ixth Outline Level</a:t>
            </a:r>
            <a:endParaRPr b="0" lang="en-US" sz="3200" spc="-1" strike="noStrike">
              <a:solidFill>
                <a:srgbClr val="0099cc"/>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venth Outline Level</a:t>
            </a:r>
            <a:endParaRPr b="0" lang="en-US" sz="3200" spc="-1" strike="noStrike">
              <a:solidFill>
                <a:srgbClr val="0099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94DA1-DBF4-4D52-BF11-C0CCBDBEB1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17.jpeg"/><Relationship Id="rId6" Type="http://schemas.openxmlformats.org/officeDocument/2006/relationships/image" Target="../media/image21.jpeg"/><Relationship Id="rId7" Type="http://schemas.openxmlformats.org/officeDocument/2006/relationships/slideLayout" Target="../slideLayouts/slideLayout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17.jpeg"/><Relationship Id="rId6" Type="http://schemas.openxmlformats.org/officeDocument/2006/relationships/image" Target="../media/image21.jpeg"/><Relationship Id="rId7" Type="http://schemas.openxmlformats.org/officeDocument/2006/relationships/slideLayout" Target="../slideLayouts/slideLayout3.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6840" y="914400"/>
            <a:ext cx="6705720" cy="449568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2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Parientes.</a:t>
            </a:r>
            <a:endParaRPr b="0" lang="en-US" sz="3600" spc="-1" strike="noStrike">
              <a:solidFill>
                <a:srgbClr val="0099cc"/>
              </a:solidFill>
              <a:latin typeface="Times New Roman"/>
            </a:endParaRPr>
          </a:p>
          <a:p>
            <a:pPr marL="343080" indent="0">
              <a:lnSpc>
                <a:spcPct val="1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2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ea typeface="宋体"/>
              </a:rPr>
              <a:t>Comunidades que se desarrolla alrededor de los amigos de sus hijos.</a:t>
            </a:r>
            <a:endParaRPr b="0" lang="en-US" sz="3600" spc="-1" strike="noStrike">
              <a:solidFill>
                <a:srgbClr val="0099cc"/>
              </a:solidFill>
              <a:latin typeface="Times New Roman"/>
            </a:endParaRPr>
          </a:p>
        </p:txBody>
      </p:sp>
      <p:pic>
        <p:nvPicPr>
          <p:cNvPr id="81" name="" descr=""/>
          <p:cNvPicPr/>
          <p:nvPr/>
        </p:nvPicPr>
        <p:blipFill>
          <a:blip r:embed="rId2"/>
          <a:stretch/>
        </p:blipFill>
        <p:spPr>
          <a:xfrm>
            <a:off x="304920" y="5410080"/>
            <a:ext cx="1600200" cy="1055880"/>
          </a:xfrm>
          <a:prstGeom prst="rect">
            <a:avLst/>
          </a:prstGeom>
          <a:ln w="0">
            <a:noFill/>
          </a:ln>
        </p:spPr>
      </p:pic>
      <p:pic>
        <p:nvPicPr>
          <p:cNvPr id="82" name="" descr=""/>
          <p:cNvPicPr/>
          <p:nvPr/>
        </p:nvPicPr>
        <p:blipFill>
          <a:blip r:embed="rId3"/>
          <a:stretch/>
        </p:blipFill>
        <p:spPr>
          <a:xfrm>
            <a:off x="2057400" y="5410080"/>
            <a:ext cx="1600200" cy="1055880"/>
          </a:xfrm>
          <a:prstGeom prst="rect">
            <a:avLst/>
          </a:prstGeom>
          <a:ln w="0">
            <a:noFill/>
          </a:ln>
        </p:spPr>
      </p:pic>
      <p:pic>
        <p:nvPicPr>
          <p:cNvPr id="83" name="" descr=""/>
          <p:cNvPicPr/>
          <p:nvPr/>
        </p:nvPicPr>
        <p:blipFill>
          <a:blip r:embed="rId4"/>
          <a:stretch/>
        </p:blipFill>
        <p:spPr>
          <a:xfrm>
            <a:off x="3809880" y="5410080"/>
            <a:ext cx="1600200" cy="1059120"/>
          </a:xfrm>
          <a:prstGeom prst="rect">
            <a:avLst/>
          </a:prstGeom>
          <a:ln w="0">
            <a:noFill/>
          </a:ln>
        </p:spPr>
      </p:pic>
      <p:pic>
        <p:nvPicPr>
          <p:cNvPr id="84" name="" descr=""/>
          <p:cNvPicPr/>
          <p:nvPr/>
        </p:nvPicPr>
        <p:blipFill>
          <a:blip r:embed="rId5"/>
          <a:stretch/>
        </p:blipFill>
        <p:spPr>
          <a:xfrm>
            <a:off x="5562720" y="5410080"/>
            <a:ext cx="1600200" cy="1063800"/>
          </a:xfrm>
          <a:prstGeom prst="rect">
            <a:avLst/>
          </a:prstGeom>
          <a:ln w="0">
            <a:noFill/>
          </a:ln>
        </p:spPr>
      </p:pic>
      <p:pic>
        <p:nvPicPr>
          <p:cNvPr id="85" name="" descr=""/>
          <p:cNvPicPr/>
          <p:nvPr/>
        </p:nvPicPr>
        <p:blipFill>
          <a:blip r:embed="rId6"/>
          <a:stretch/>
        </p:blipFill>
        <p:spPr>
          <a:xfrm>
            <a:off x="7315200" y="5410080"/>
            <a:ext cx="1600200" cy="1055880"/>
          </a:xfrm>
          <a:prstGeom prst="rect">
            <a:avLst/>
          </a:prstGeom>
          <a:ln w="0">
            <a:noFill/>
          </a:ln>
        </p:spPr>
      </p:pic>
    </p:spTree>
  </p:cSld>
  <p:transition>
    <p:strips dir="ru"/>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80">
                                            <p:txEl>
                                              <p:pRg st="0" end="0"/>
                                            </p:txEl>
                                          </p:spTgt>
                                        </p:tgtEl>
                                        <p:attrNameLst>
                                          <p:attrName>style.visibility</p:attrName>
                                        </p:attrNameLst>
                                      </p:cBhvr>
                                      <p:to>
                                        <p:strVal val="visible"/>
                                      </p:to>
                                    </p:set>
                                    <p:animEffect filter="wipe(up)" transition="in">
                                      <p:cBhvr additive="repl">
                                        <p:cTn id="109" dur="500"/>
                                        <p:tgtEl>
                                          <p:spTgt spid="80">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80">
                                            <p:txEl>
                                              <p:pRg st="2" end="2"/>
                                            </p:txEl>
                                          </p:spTgt>
                                        </p:tgtEl>
                                        <p:attrNameLst>
                                          <p:attrName>style.visibility</p:attrName>
                                        </p:attrNameLst>
                                      </p:cBhvr>
                                      <p:to>
                                        <p:strVal val="visible"/>
                                      </p:to>
                                    </p:set>
                                    <p:animEffect filter="wipe(up)" transition="in">
                                      <p:cBhvr additive="repl">
                                        <p:cTn id="114"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447560"/>
            <a:ext cx="6400800" cy="4343400"/>
          </a:xfrm>
          <a:prstGeom prst="rect">
            <a:avLst/>
          </a:prstGeom>
          <a:noFill/>
          <a:ln w="0">
            <a:noFill/>
          </a:ln>
          <a:effectLst>
            <a:outerShdw dist="28496" dir="6974480"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53"/>
                </a:solidFill>
                <a:latin typeface="Arial"/>
              </a:rPr>
              <a:t>Inicio del Proceso</a:t>
            </a:r>
            <a:endParaRPr b="0" lang="en-US" sz="6000" spc="-1" strike="noStrike">
              <a:solidFill>
                <a:srgbClr val="ff9900"/>
              </a:solidFill>
              <a:latin typeface="Times New Roman"/>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5181480" y="4648320"/>
            <a:ext cx="2895840" cy="18288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324480" y="1905120"/>
            <a:ext cx="2667240" cy="190476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p:nvPr>
        </p:nvSpPr>
        <p:spPr>
          <a:xfrm>
            <a:off x="304560" y="1219320"/>
            <a:ext cx="5638680" cy="441936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609480" indent="-609480">
              <a:lnSpc>
                <a:spcPct val="110000"/>
              </a:lnSpc>
              <a:spcBef>
                <a:spcPts val="901"/>
              </a:spcBef>
              <a:buClr>
                <a:srgbClr val="ffff5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Inicie con oración.</a:t>
            </a:r>
            <a:endParaRPr b="0" lang="en-US" sz="3600" spc="-1" strike="noStrike">
              <a:solidFill>
                <a:srgbClr val="0099cc"/>
              </a:solidFill>
              <a:latin typeface="Times New Roman"/>
            </a:endParaRPr>
          </a:p>
          <a:p>
            <a:pPr marL="609480"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cc"/>
              </a:solidFill>
              <a:latin typeface="Times New Roman"/>
            </a:endParaRPr>
          </a:p>
          <a:p>
            <a:pPr marL="609480" indent="-609480">
              <a:lnSpc>
                <a:spcPct val="110000"/>
              </a:lnSpc>
              <a:spcBef>
                <a:spcPts val="901"/>
              </a:spcBef>
              <a:buClr>
                <a:srgbClr val="ffff5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Mantenga los planes en armonía con la declaración de misión de su iglesia.</a:t>
            </a:r>
            <a:endParaRPr b="0" lang="en-US" sz="3600" spc="-1" strike="noStrike">
              <a:solidFill>
                <a:srgbClr val="0099cc"/>
              </a:solidFill>
              <a:latin typeface="Times New Roman"/>
            </a:endParaRPr>
          </a:p>
        </p:txBody>
      </p:sp>
      <p:pic>
        <p:nvPicPr>
          <p:cNvPr id="90" name="" descr=""/>
          <p:cNvPicPr/>
          <p:nvPr/>
        </p:nvPicPr>
        <p:blipFill>
          <a:blip r:embed="rId2"/>
          <a:stretch/>
        </p:blipFill>
        <p:spPr>
          <a:xfrm>
            <a:off x="5943600" y="3276720"/>
            <a:ext cx="2895480" cy="1914480"/>
          </a:xfrm>
          <a:prstGeom prst="rect">
            <a:avLst/>
          </a:prstGeom>
          <a:ln w="0">
            <a:noFill/>
          </a:ln>
        </p:spPr>
      </p:pic>
    </p:spTree>
  </p:cSld>
  <p:transition>
    <p:strips dir="ru"/>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1">
                                  <p:stCondLst>
                                    <p:cond delay="0"/>
                                  </p:stCondLst>
                                  <p:childTnLst>
                                    <p:set>
                                      <p:cBhvr>
                                        <p:cTn id="120"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121" dur="500"/>
                                        <p:tgtEl>
                                          <p:spTgt spid="8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89">
                                            <p:txEl>
                                              <p:pRg st="2" end="2"/>
                                            </p:txEl>
                                          </p:spTgt>
                                        </p:tgtEl>
                                        <p:attrNameLst>
                                          <p:attrName>style.visibility</p:attrName>
                                        </p:attrNameLst>
                                      </p:cBhvr>
                                      <p:to>
                                        <p:strVal val="visible"/>
                                      </p:to>
                                    </p:set>
                                    <p:animEffect filter="wipe(up)" transition="in">
                                      <p:cBhvr additive="repl">
                                        <p:cTn id="126" dur="5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6248520" y="2438280"/>
            <a:ext cx="2895480" cy="13716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3562200">
            <a:off x="6170400" y="3202200"/>
            <a:ext cx="2857680" cy="14828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p:nvPr>
        </p:nvSpPr>
        <p:spPr>
          <a:xfrm>
            <a:off x="228600" y="533520"/>
            <a:ext cx="6477120" cy="5943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609480" indent="-609480">
              <a:lnSpc>
                <a:spcPct val="110000"/>
              </a:lnSpc>
              <a:spcBef>
                <a:spcPts val="901"/>
              </a:spcBef>
              <a:buClr>
                <a:srgbClr val="ffff5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Trabaje juntamente con el pastor y la comisión de la iglesia.</a:t>
            </a:r>
            <a:endParaRPr b="0" lang="en-US" sz="3600" spc="-1" strike="noStrike">
              <a:solidFill>
                <a:srgbClr val="0099cc"/>
              </a:solidFill>
              <a:latin typeface="Times New Roman"/>
            </a:endParaRPr>
          </a:p>
          <a:p>
            <a:pPr marL="6094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6094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53"/>
                </a:solidFill>
                <a:latin typeface="Arial"/>
              </a:rPr>
              <a:t>4.</a:t>
            </a:r>
            <a:r>
              <a:rPr b="1" lang="es-ES" sz="3600" spc="-1" strike="noStrike">
                <a:solidFill>
                  <a:srgbClr val="ffffff"/>
                </a:solidFill>
                <a:latin typeface="Arial"/>
              </a:rPr>
              <a:t>	</a:t>
            </a:r>
            <a:r>
              <a:rPr b="1" lang="es-ES" sz="3600" spc="-1" strike="noStrike">
                <a:solidFill>
                  <a:srgbClr val="ffffff"/>
                </a:solidFill>
                <a:latin typeface="Arial"/>
              </a:rPr>
              <a:t>Permita que el amor sea el motivo principal al evaluar las necesidades de su comunidad.</a:t>
            </a:r>
            <a:endParaRPr b="0" lang="en-US" sz="3600" spc="-1" strike="noStrike">
              <a:solidFill>
                <a:srgbClr val="0099cc"/>
              </a:solidFill>
              <a:latin typeface="Times New Roman"/>
            </a:endParaRPr>
          </a:p>
        </p:txBody>
      </p:sp>
      <p:pic>
        <p:nvPicPr>
          <p:cNvPr id="94" name="" descr=""/>
          <p:cNvPicPr/>
          <p:nvPr/>
        </p:nvPicPr>
        <p:blipFill>
          <a:blip r:embed="rId2"/>
          <a:stretch/>
        </p:blipFill>
        <p:spPr>
          <a:xfrm>
            <a:off x="6553080" y="1600200"/>
            <a:ext cx="2590920" cy="1905120"/>
          </a:xfrm>
          <a:prstGeom prst="rect">
            <a:avLst/>
          </a:prstGeom>
          <a:ln w="0">
            <a:noFill/>
          </a:ln>
        </p:spPr>
      </p:pic>
    </p:spTree>
  </p:cSld>
  <p:transition>
    <p:strips dir="ru"/>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133" dur="500"/>
                                        <p:tgtEl>
                                          <p:spTgt spid="93">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93">
                                            <p:txEl>
                                              <p:pRg st="2" end="2"/>
                                            </p:txEl>
                                          </p:spTgt>
                                        </p:tgtEl>
                                        <p:attrNameLst>
                                          <p:attrName>style.visibility</p:attrName>
                                        </p:attrNameLst>
                                      </p:cBhvr>
                                      <p:to>
                                        <p:strVal val="visible"/>
                                      </p:to>
                                    </p:set>
                                    <p:animEffect filter="wipe(up)" transition="in">
                                      <p:cBhvr additive="repl">
                                        <p:cTn id="138"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1523880"/>
            <a:ext cx="6172200" cy="419112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53"/>
                </a:solidFill>
                <a:latin typeface="Arial"/>
                <a:ea typeface="宋体"/>
              </a:rPr>
              <a:t>Las Mujeres en Nuestras Comunidades</a:t>
            </a:r>
            <a:r>
              <a:rPr b="1" lang="pt-BR" sz="5400" spc="-1" strike="noStrike">
                <a:solidFill>
                  <a:srgbClr val="ffff53"/>
                </a:solidFill>
                <a:latin typeface="Arial"/>
                <a:ea typeface="宋体"/>
              </a:rPr>
              <a:t> </a:t>
            </a:r>
            <a:endParaRPr b="0" lang="en-US" sz="5400" spc="-1" strike="noStrike">
              <a:solidFill>
                <a:srgbClr val="ff9900"/>
              </a:solidFill>
              <a:latin typeface="Times New Roman"/>
            </a:endParaRPr>
          </a:p>
        </p:txBody>
      </p:sp>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80520" y="761760"/>
            <a:ext cx="6324840" cy="510516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536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53"/>
                </a:solidFill>
                <a:latin typeface="Arial"/>
              </a:rPr>
              <a:t>A.</a:t>
            </a:r>
            <a:r>
              <a:rPr b="1" lang="pt-BR" sz="3200" spc="-1" strike="noStrike">
                <a:solidFill>
                  <a:srgbClr val="ffffff"/>
                </a:solidFill>
                <a:latin typeface="Arial"/>
              </a:rPr>
              <a:t>	</a:t>
            </a:r>
            <a:r>
              <a:rPr b="1" lang="es-ES" sz="3200" spc="-1" strike="noStrike">
                <a:solidFill>
                  <a:srgbClr val="ffffff"/>
                </a:solidFill>
                <a:latin typeface="Arial"/>
              </a:rPr>
              <a:t>Conozca personalmente a los miembros de la iglesia.</a:t>
            </a:r>
            <a:endParaRPr b="0" lang="en-US" sz="3200" spc="-1" strike="noStrike">
              <a:solidFill>
                <a:srgbClr val="0099cc"/>
              </a:solidFill>
              <a:latin typeface="Times New Roman"/>
            </a:endParaRPr>
          </a:p>
          <a:p>
            <a:pPr marL="5364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cc"/>
              </a:solidFill>
              <a:latin typeface="Times New Roman"/>
            </a:endParaRPr>
          </a:p>
          <a:p>
            <a:pPr marL="536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53"/>
                </a:solidFill>
                <a:latin typeface="Arial"/>
              </a:rPr>
              <a:t>B.</a:t>
            </a:r>
            <a:r>
              <a:rPr b="1" lang="es-ES" sz="3200" spc="-1" strike="noStrike">
                <a:solidFill>
                  <a:srgbClr val="ffffff"/>
                </a:solidFill>
                <a:latin typeface="Arial"/>
              </a:rPr>
              <a:t>	</a:t>
            </a:r>
            <a:r>
              <a:rPr b="1" lang="es-ES" sz="3200" spc="-1" strike="noStrike">
                <a:solidFill>
                  <a:srgbClr val="ffffff"/>
                </a:solidFill>
                <a:latin typeface="Arial"/>
              </a:rPr>
              <a:t>Haga amistad con sus vecinos.</a:t>
            </a:r>
            <a:endParaRPr b="0" lang="en-US" sz="3200" spc="-1" strike="noStrike">
              <a:solidFill>
                <a:srgbClr val="0099cc"/>
              </a:solidFill>
              <a:latin typeface="Times New Roman"/>
            </a:endParaRPr>
          </a:p>
          <a:p>
            <a:pPr marL="5364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cc"/>
              </a:solidFill>
              <a:latin typeface="Times New Roman"/>
            </a:endParaRPr>
          </a:p>
          <a:p>
            <a:pPr marL="536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53"/>
                </a:solidFill>
                <a:latin typeface="Arial"/>
              </a:rPr>
              <a:t>C.</a:t>
            </a:r>
            <a:r>
              <a:rPr b="1" lang="es-ES" sz="3200" spc="-1" strike="noStrike">
                <a:solidFill>
                  <a:srgbClr val="ffffff"/>
                </a:solidFill>
                <a:latin typeface="Arial"/>
              </a:rPr>
              <a:t>	</a:t>
            </a:r>
            <a:r>
              <a:rPr b="1" lang="es-ES" sz="3200" spc="-1" strike="noStrike">
                <a:solidFill>
                  <a:srgbClr val="ffffff"/>
                </a:solidFill>
                <a:latin typeface="Arial"/>
              </a:rPr>
              <a:t>Llegue a familiarizarse con sus compañeras de trabajo.</a:t>
            </a:r>
            <a:endParaRPr b="0" lang="en-US" sz="3200" spc="-1" strike="noStrike">
              <a:solidFill>
                <a:srgbClr val="0099cc"/>
              </a:solidFill>
              <a:latin typeface="Times New Roman"/>
            </a:endParaRPr>
          </a:p>
        </p:txBody>
      </p:sp>
      <p:pic>
        <p:nvPicPr>
          <p:cNvPr id="97" name="" descr=""/>
          <p:cNvPicPr/>
          <p:nvPr/>
        </p:nvPicPr>
        <p:blipFill>
          <a:blip r:embed="rId2"/>
          <a:stretch/>
        </p:blipFill>
        <p:spPr>
          <a:xfrm>
            <a:off x="5791320" y="1905120"/>
            <a:ext cx="2743200" cy="1809720"/>
          </a:xfrm>
          <a:prstGeom prst="rect">
            <a:avLst/>
          </a:prstGeom>
          <a:ln w="0">
            <a:noFill/>
          </a:ln>
        </p:spPr>
      </p:pic>
      <p:pic>
        <p:nvPicPr>
          <p:cNvPr id="98" name="" descr=""/>
          <p:cNvPicPr/>
          <p:nvPr/>
        </p:nvPicPr>
        <p:blipFill>
          <a:blip r:embed="rId3"/>
          <a:stretch/>
        </p:blipFill>
        <p:spPr>
          <a:xfrm>
            <a:off x="6248520" y="3505320"/>
            <a:ext cx="2666880" cy="1828800"/>
          </a:xfrm>
          <a:prstGeom prst="rect">
            <a:avLst/>
          </a:prstGeom>
          <a:ln w="0">
            <a:noFill/>
          </a:ln>
        </p:spPr>
      </p:pic>
    </p:spTree>
  </p:cSld>
  <p:transition>
    <p:strips dir="ru"/>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145" dur="500"/>
                                        <p:tgtEl>
                                          <p:spTgt spid="96">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150" dur="500"/>
                                        <p:tgtEl>
                                          <p:spTgt spid="96">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96">
                                            <p:txEl>
                                              <p:pRg st="4" end="4"/>
                                            </p:txEl>
                                          </p:spTgt>
                                        </p:tgtEl>
                                        <p:attrNameLst>
                                          <p:attrName>style.visibility</p:attrName>
                                        </p:attrNameLst>
                                      </p:cBhvr>
                                      <p:to>
                                        <p:strVal val="visible"/>
                                      </p:to>
                                    </p:set>
                                    <p:animEffect filter="wipe(up)" transition="in">
                                      <p:cBhvr additive="repl">
                                        <p:cTn id="155" dur="5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1447920"/>
            <a:ext cx="6248520" cy="396216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53"/>
                </a:solidFill>
                <a:latin typeface="Arial"/>
              </a:rPr>
              <a:t>Cómo Determinar las Necesidades</a:t>
            </a:r>
            <a:endParaRPr b="0" lang="en-US" sz="5400" spc="-1" strike="noStrike">
              <a:solidFill>
                <a:srgbClr val="ff9900"/>
              </a:solidFill>
              <a:latin typeface="Times New Roman"/>
            </a:endParaRPr>
          </a:p>
        </p:txBody>
      </p:sp>
    </p:spTree>
  </p:cSld>
  <p:transition>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5105520" y="1600200"/>
            <a:ext cx="3047760" cy="4419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p:nvPr>
        </p:nvSpPr>
        <p:spPr>
          <a:xfrm>
            <a:off x="228240" y="609120"/>
            <a:ext cx="4800600" cy="4343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Reunión general.</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División en grupos.</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Encuestas.</a:t>
            </a:r>
            <a:endParaRPr b="0" lang="en-US" sz="3600" spc="-1" strike="noStrike">
              <a:solidFill>
                <a:srgbClr val="0099cc"/>
              </a:solidFill>
              <a:latin typeface="Times New Roman"/>
            </a:endParaRPr>
          </a:p>
        </p:txBody>
      </p:sp>
      <p:sp>
        <p:nvSpPr>
          <p:cNvPr id="102" name=""/>
          <p:cNvSpPr/>
          <p:nvPr/>
        </p:nvSpPr>
        <p:spPr>
          <a:xfrm>
            <a:off x="1371600" y="4495680"/>
            <a:ext cx="1981080" cy="1524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2"/>
          <a:stretch/>
        </p:blipFill>
        <p:spPr>
          <a:xfrm>
            <a:off x="685800" y="4952880"/>
            <a:ext cx="1523880" cy="1362240"/>
          </a:xfrm>
          <a:prstGeom prst="rect">
            <a:avLst/>
          </a:prstGeom>
          <a:ln w="0">
            <a:noFill/>
          </a:ln>
        </p:spPr>
      </p:pic>
      <p:sp>
        <p:nvSpPr>
          <p:cNvPr id="104" name=""/>
          <p:cNvSpPr/>
          <p:nvPr/>
        </p:nvSpPr>
        <p:spPr>
          <a:xfrm>
            <a:off x="2590920" y="3886200"/>
            <a:ext cx="1981080" cy="15238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 name="" descr=""/>
          <p:cNvPicPr/>
          <p:nvPr/>
        </p:nvPicPr>
        <p:blipFill>
          <a:blip r:embed="rId3"/>
          <a:srcRect l="5354" t="3570" r="3573" b="3570"/>
          <a:stretch/>
        </p:blipFill>
        <p:spPr>
          <a:xfrm>
            <a:off x="6705720" y="1752480"/>
            <a:ext cx="1295280" cy="1981440"/>
          </a:xfrm>
          <a:prstGeom prst="rect">
            <a:avLst/>
          </a:prstGeom>
          <a:ln w="0">
            <a:noFill/>
          </a:ln>
        </p:spPr>
      </p:pic>
      <p:pic>
        <p:nvPicPr>
          <p:cNvPr id="106" name="" descr=""/>
          <p:cNvPicPr/>
          <p:nvPr/>
        </p:nvPicPr>
        <p:blipFill>
          <a:blip r:embed="rId4"/>
          <a:srcRect l="2566" t="3848" r="2566" b="3848"/>
          <a:stretch/>
        </p:blipFill>
        <p:spPr>
          <a:xfrm>
            <a:off x="4191120" y="2514600"/>
            <a:ext cx="2819160" cy="1828800"/>
          </a:xfrm>
          <a:prstGeom prst="rect">
            <a:avLst/>
          </a:prstGeom>
          <a:ln w="0">
            <a:noFill/>
          </a:ln>
        </p:spPr>
      </p:pic>
      <p:pic>
        <p:nvPicPr>
          <p:cNvPr id="107" name="" descr=""/>
          <p:cNvPicPr/>
          <p:nvPr/>
        </p:nvPicPr>
        <p:blipFill>
          <a:blip r:embed="rId5"/>
          <a:srcRect l="4163" t="2776" r="4163" b="5558"/>
          <a:stretch/>
        </p:blipFill>
        <p:spPr>
          <a:xfrm>
            <a:off x="6629400" y="3733920"/>
            <a:ext cx="1676520" cy="2514600"/>
          </a:xfrm>
          <a:prstGeom prst="rect">
            <a:avLst/>
          </a:prstGeom>
          <a:ln w="0">
            <a:noFill/>
          </a:ln>
        </p:spPr>
      </p:pic>
    </p:spTree>
  </p:cSld>
  <p:transition>
    <p:strips dir="ru"/>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101">
                                            <p:txEl>
                                              <p:pRg st="0" end="0"/>
                                            </p:txEl>
                                          </p:spTgt>
                                        </p:tgtEl>
                                        <p:attrNameLst>
                                          <p:attrName>style.visibility</p:attrName>
                                        </p:attrNameLst>
                                      </p:cBhvr>
                                      <p:to>
                                        <p:strVal val="visible"/>
                                      </p:to>
                                    </p:set>
                                    <p:animEffect filter="wipe(up)" transition="in">
                                      <p:cBhvr additive="repl">
                                        <p:cTn id="162" dur="500"/>
                                        <p:tgtEl>
                                          <p:spTgt spid="10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01">
                                            <p:txEl>
                                              <p:pRg st="2" end="2"/>
                                            </p:txEl>
                                          </p:spTgt>
                                        </p:tgtEl>
                                        <p:attrNameLst>
                                          <p:attrName>style.visibility</p:attrName>
                                        </p:attrNameLst>
                                      </p:cBhvr>
                                      <p:to>
                                        <p:strVal val="visible"/>
                                      </p:to>
                                    </p:set>
                                    <p:animEffect filter="wipe(up)" transition="in">
                                      <p:cBhvr additive="repl">
                                        <p:cTn id="167" dur="500"/>
                                        <p:tgtEl>
                                          <p:spTgt spid="101">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01">
                                            <p:txEl>
                                              <p:pRg st="4" end="4"/>
                                            </p:txEl>
                                          </p:spTgt>
                                        </p:tgtEl>
                                        <p:attrNameLst>
                                          <p:attrName>style.visibility</p:attrName>
                                        </p:attrNameLst>
                                      </p:cBhvr>
                                      <p:to>
                                        <p:strVal val="visible"/>
                                      </p:to>
                                    </p:set>
                                    <p:animEffect filter="wipe(up)" transition="in">
                                      <p:cBhvr additive="repl">
                                        <p:cTn id="172"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1371240"/>
            <a:ext cx="6095880" cy="441972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53"/>
                </a:solidFill>
                <a:latin typeface="Arial"/>
              </a:rPr>
              <a:t>Contenido de las Encuestas</a:t>
            </a:r>
            <a:endParaRPr b="0" lang="en-US" sz="5400" spc="-1" strike="noStrike">
              <a:solidFill>
                <a:srgbClr val="ff9900"/>
              </a:solidFill>
              <a:latin typeface="Times New Roman"/>
            </a:endParaRPr>
          </a:p>
        </p:txBody>
      </p:sp>
    </p:spTree>
  </p:cSld>
  <p:transition>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rcRect l="0" t="9724" r="0" b="8333"/>
          <a:stretch/>
        </p:blipFill>
        <p:spPr>
          <a:xfrm>
            <a:off x="3733920" y="5334120"/>
            <a:ext cx="838080" cy="838080"/>
          </a:xfrm>
          <a:prstGeom prst="rect">
            <a:avLst/>
          </a:prstGeom>
          <a:ln w="0">
            <a:noFill/>
          </a:ln>
        </p:spPr>
      </p:pic>
      <p:sp>
        <p:nvSpPr>
          <p:cNvPr id="110" name="PlaceHolder 1"/>
          <p:cNvSpPr>
            <a:spLocks noGrp="1"/>
          </p:cNvSpPr>
          <p:nvPr>
            <p:ph/>
          </p:nvPr>
        </p:nvSpPr>
        <p:spPr>
          <a:xfrm>
            <a:off x="456840" y="838080"/>
            <a:ext cx="7086600" cy="419112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1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Qué ministerios están activos ahora en la iglesia.</a:t>
            </a:r>
            <a:endParaRPr b="0" lang="en-US" sz="3600" spc="-1" strike="noStrike">
              <a:solidFill>
                <a:srgbClr val="0099cc"/>
              </a:solidFill>
              <a:latin typeface="Times New Roman"/>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1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uáles son las necesidades de las mujeres.</a:t>
            </a:r>
            <a:endParaRPr b="0" lang="en-US" sz="3600" spc="-1" strike="noStrike">
              <a:solidFill>
                <a:srgbClr val="0099cc"/>
              </a:solidFill>
              <a:latin typeface="Times New Roman"/>
            </a:endParaRPr>
          </a:p>
        </p:txBody>
      </p:sp>
      <p:sp>
        <p:nvSpPr>
          <p:cNvPr id="111" name=""/>
          <p:cNvSpPr/>
          <p:nvPr/>
        </p:nvSpPr>
        <p:spPr>
          <a:xfrm>
            <a:off x="1752480" y="5334120"/>
            <a:ext cx="838440" cy="83808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743200" y="5334120"/>
            <a:ext cx="838080" cy="83808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62120" y="5334120"/>
            <a:ext cx="838080" cy="83808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 descr=""/>
          <p:cNvPicPr/>
          <p:nvPr/>
        </p:nvPicPr>
        <p:blipFill>
          <a:blip r:embed="rId3"/>
          <a:srcRect l="3425" t="8333" r="3327" b="23615"/>
          <a:stretch/>
        </p:blipFill>
        <p:spPr>
          <a:xfrm>
            <a:off x="5694480" y="5334120"/>
            <a:ext cx="834840" cy="838080"/>
          </a:xfrm>
          <a:prstGeom prst="rect">
            <a:avLst/>
          </a:prstGeom>
          <a:ln w="0">
            <a:noFill/>
          </a:ln>
        </p:spPr>
      </p:pic>
      <p:pic>
        <p:nvPicPr>
          <p:cNvPr id="115" name="" descr=""/>
          <p:cNvPicPr/>
          <p:nvPr/>
        </p:nvPicPr>
        <p:blipFill>
          <a:blip r:embed="rId4"/>
          <a:srcRect l="0" t="11109" r="0" b="25000"/>
          <a:stretch/>
        </p:blipFill>
        <p:spPr>
          <a:xfrm>
            <a:off x="4724280" y="5334120"/>
            <a:ext cx="838440" cy="838080"/>
          </a:xfrm>
          <a:prstGeom prst="rect">
            <a:avLst/>
          </a:prstGeom>
          <a:ln w="0">
            <a:noFill/>
          </a:ln>
        </p:spPr>
      </p:pic>
      <p:pic>
        <p:nvPicPr>
          <p:cNvPr id="116" name="" descr=""/>
          <p:cNvPicPr/>
          <p:nvPr/>
        </p:nvPicPr>
        <p:blipFill>
          <a:blip r:embed="rId5"/>
          <a:srcRect l="4163" t="15276" r="4163" b="15276"/>
          <a:stretch/>
        </p:blipFill>
        <p:spPr>
          <a:xfrm>
            <a:off x="6705720" y="5334120"/>
            <a:ext cx="838080" cy="838080"/>
          </a:xfrm>
          <a:prstGeom prst="rect">
            <a:avLst/>
          </a:prstGeom>
          <a:ln w="0">
            <a:noFill/>
          </a:ln>
        </p:spPr>
      </p:pic>
      <p:pic>
        <p:nvPicPr>
          <p:cNvPr id="117" name="" descr=""/>
          <p:cNvPicPr/>
          <p:nvPr/>
        </p:nvPicPr>
        <p:blipFill>
          <a:blip r:embed="rId6"/>
          <a:srcRect l="4163" t="12500" r="4163" b="18058"/>
          <a:stretch/>
        </p:blipFill>
        <p:spPr>
          <a:xfrm>
            <a:off x="7696080" y="5334120"/>
            <a:ext cx="838440" cy="838080"/>
          </a:xfrm>
          <a:prstGeom prst="rect">
            <a:avLst/>
          </a:prstGeom>
          <a:ln w="0">
            <a:noFill/>
          </a:ln>
        </p:spPr>
      </p:pic>
    </p:spTree>
  </p:cSld>
  <p:transition>
    <p:strips dir="ru"/>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110">
                                            <p:txEl>
                                              <p:pRg st="0" end="0"/>
                                            </p:txEl>
                                          </p:spTgt>
                                        </p:tgtEl>
                                        <p:attrNameLst>
                                          <p:attrName>style.visibility</p:attrName>
                                        </p:attrNameLst>
                                      </p:cBhvr>
                                      <p:to>
                                        <p:strVal val="visible"/>
                                      </p:to>
                                    </p:set>
                                    <p:animEffect filter="wipe(up)" transition="in">
                                      <p:cBhvr additive="repl">
                                        <p:cTn id="179" dur="500"/>
                                        <p:tgtEl>
                                          <p:spTgt spid="110">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10">
                                            <p:txEl>
                                              <p:pRg st="2" end="2"/>
                                            </p:txEl>
                                          </p:spTgt>
                                        </p:tgtEl>
                                        <p:attrNameLst>
                                          <p:attrName>style.visibility</p:attrName>
                                        </p:attrNameLst>
                                      </p:cBhvr>
                                      <p:to>
                                        <p:strVal val="visible"/>
                                      </p:to>
                                    </p:set>
                                    <p:animEffect filter="wipe(up)" transition="in">
                                      <p:cBhvr additive="repl">
                                        <p:cTn id="184"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457200" y="2133720"/>
            <a:ext cx="6477120" cy="28191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00"/>
                </a:solidFill>
                <a:latin typeface="Arial"/>
              </a:rPr>
              <a:t>Los Secretos del Éxito</a:t>
            </a:r>
            <a:endParaRPr b="0" lang="en-US" sz="6000" spc="-1" strike="noStrike">
              <a:solidFill>
                <a:srgbClr val="000000"/>
              </a:solidFill>
              <a:latin typeface="Times New Roman"/>
            </a:endParaRPr>
          </a:p>
        </p:txBody>
      </p:sp>
    </p:spTree>
  </p:cSld>
  <p:transition>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rcRect l="0" t="9724" r="0" b="8333"/>
          <a:stretch/>
        </p:blipFill>
        <p:spPr>
          <a:xfrm>
            <a:off x="3733920" y="5334120"/>
            <a:ext cx="838080" cy="838080"/>
          </a:xfrm>
          <a:prstGeom prst="rect">
            <a:avLst/>
          </a:prstGeom>
          <a:ln w="0">
            <a:noFill/>
          </a:ln>
        </p:spPr>
      </p:pic>
      <p:sp>
        <p:nvSpPr>
          <p:cNvPr id="119" name="PlaceHolder 1"/>
          <p:cNvSpPr>
            <a:spLocks noGrp="1"/>
          </p:cNvSpPr>
          <p:nvPr>
            <p:ph/>
          </p:nvPr>
        </p:nvSpPr>
        <p:spPr>
          <a:xfrm>
            <a:off x="304560" y="990360"/>
            <a:ext cx="7391160" cy="419076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00000"/>
              </a:lnSpc>
              <a:spcBef>
                <a:spcPts val="850"/>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Arial"/>
              </a:rPr>
              <a:t>En qué están interesadas.</a:t>
            </a:r>
            <a:endParaRPr b="0" lang="en-US" sz="3400" spc="-1" strike="noStrike">
              <a:solidFill>
                <a:srgbClr val="0099cc"/>
              </a:solidFill>
              <a:latin typeface="Times New Roman"/>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99cc"/>
              </a:solidFill>
              <a:latin typeface="Times New Roman"/>
            </a:endParaRPr>
          </a:p>
          <a:p>
            <a:pPr marL="343080" indent="-343080">
              <a:lnSpc>
                <a:spcPct val="100000"/>
              </a:lnSpc>
              <a:spcBef>
                <a:spcPts val="850"/>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Arial"/>
              </a:rPr>
              <a:t>De qué manera están dispuestas a ministrar a otras mujeres.</a:t>
            </a:r>
            <a:endParaRPr b="0" lang="en-US" sz="3400" spc="-1" strike="noStrike">
              <a:solidFill>
                <a:srgbClr val="0099cc"/>
              </a:solidFill>
              <a:latin typeface="Times New Roman"/>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99cc"/>
              </a:solidFill>
              <a:latin typeface="Times New Roman"/>
            </a:endParaRPr>
          </a:p>
          <a:p>
            <a:pPr marL="343080" indent="-343080">
              <a:lnSpc>
                <a:spcPct val="100000"/>
              </a:lnSpc>
              <a:spcBef>
                <a:spcPts val="850"/>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Arial"/>
              </a:rPr>
              <a:t>Cuáles son diferentes intereses</a:t>
            </a:r>
            <a:r>
              <a:rPr b="1" lang="pt-BR" sz="3400" spc="-1" strike="noStrike">
                <a:solidFill>
                  <a:srgbClr val="ffffff"/>
                </a:solidFill>
                <a:latin typeface="Arial"/>
              </a:rPr>
              <a:t>.</a:t>
            </a:r>
            <a:endParaRPr b="0" lang="en-US" sz="3400" spc="-1" strike="noStrike">
              <a:solidFill>
                <a:srgbClr val="0099cc"/>
              </a:solidFill>
              <a:latin typeface="Times New Roman"/>
            </a:endParaRPr>
          </a:p>
        </p:txBody>
      </p:sp>
      <p:pic>
        <p:nvPicPr>
          <p:cNvPr id="120" name="" descr=""/>
          <p:cNvPicPr/>
          <p:nvPr/>
        </p:nvPicPr>
        <p:blipFill>
          <a:blip r:embed="rId3"/>
          <a:srcRect l="3425" t="8333" r="3327" b="23615"/>
          <a:stretch/>
        </p:blipFill>
        <p:spPr>
          <a:xfrm>
            <a:off x="5694480" y="5334120"/>
            <a:ext cx="834840" cy="838080"/>
          </a:xfrm>
          <a:prstGeom prst="rect">
            <a:avLst/>
          </a:prstGeom>
          <a:ln w="0">
            <a:noFill/>
          </a:ln>
        </p:spPr>
      </p:pic>
      <p:pic>
        <p:nvPicPr>
          <p:cNvPr id="121" name="" descr=""/>
          <p:cNvPicPr/>
          <p:nvPr/>
        </p:nvPicPr>
        <p:blipFill>
          <a:blip r:embed="rId4"/>
          <a:srcRect l="0" t="11109" r="0" b="25000"/>
          <a:stretch/>
        </p:blipFill>
        <p:spPr>
          <a:xfrm>
            <a:off x="4724280" y="5334120"/>
            <a:ext cx="838440" cy="838080"/>
          </a:xfrm>
          <a:prstGeom prst="rect">
            <a:avLst/>
          </a:prstGeom>
          <a:ln w="0">
            <a:noFill/>
          </a:ln>
        </p:spPr>
      </p:pic>
      <p:pic>
        <p:nvPicPr>
          <p:cNvPr id="122" name="" descr=""/>
          <p:cNvPicPr/>
          <p:nvPr/>
        </p:nvPicPr>
        <p:blipFill>
          <a:blip r:embed="rId5"/>
          <a:srcRect l="4163" t="15276" r="4163" b="15276"/>
          <a:stretch/>
        </p:blipFill>
        <p:spPr>
          <a:xfrm>
            <a:off x="6705720" y="5334120"/>
            <a:ext cx="838080" cy="838080"/>
          </a:xfrm>
          <a:prstGeom prst="rect">
            <a:avLst/>
          </a:prstGeom>
          <a:ln w="0">
            <a:noFill/>
          </a:ln>
        </p:spPr>
      </p:pic>
      <p:pic>
        <p:nvPicPr>
          <p:cNvPr id="123" name="" descr=""/>
          <p:cNvPicPr/>
          <p:nvPr/>
        </p:nvPicPr>
        <p:blipFill>
          <a:blip r:embed="rId6"/>
          <a:srcRect l="4163" t="12500" r="4163" b="18058"/>
          <a:stretch/>
        </p:blipFill>
        <p:spPr>
          <a:xfrm>
            <a:off x="7696080" y="5334120"/>
            <a:ext cx="838440" cy="838080"/>
          </a:xfrm>
          <a:prstGeom prst="rect">
            <a:avLst/>
          </a:prstGeom>
          <a:ln w="0">
            <a:noFill/>
          </a:ln>
        </p:spPr>
      </p:pic>
    </p:spTree>
  </p:cSld>
  <p:transition>
    <p:strips dir="ru"/>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191" dur="500"/>
                                        <p:tgtEl>
                                          <p:spTgt spid="119">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119">
                                            <p:txEl>
                                              <p:pRg st="2" end="2"/>
                                            </p:txEl>
                                          </p:spTgt>
                                        </p:tgtEl>
                                        <p:attrNameLst>
                                          <p:attrName>style.visibility</p:attrName>
                                        </p:attrNameLst>
                                      </p:cBhvr>
                                      <p:to>
                                        <p:strVal val="visible"/>
                                      </p:to>
                                    </p:set>
                                    <p:animEffect filter="wipe(up)" transition="in">
                                      <p:cBhvr additive="repl">
                                        <p:cTn id="196" dur="500"/>
                                        <p:tgtEl>
                                          <p:spTgt spid="119">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119">
                                            <p:txEl>
                                              <p:pRg st="4" end="4"/>
                                            </p:txEl>
                                          </p:spTgt>
                                        </p:tgtEl>
                                        <p:attrNameLst>
                                          <p:attrName>style.visibility</p:attrName>
                                        </p:attrNameLst>
                                      </p:cBhvr>
                                      <p:to>
                                        <p:strVal val="visible"/>
                                      </p:to>
                                    </p:set>
                                    <p:animEffect filter="wipe(up)" transition="in">
                                      <p:cBhvr additive="repl">
                                        <p:cTn id="201" dur="5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7772400" y="4648320"/>
            <a:ext cx="914400" cy="91440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533520" y="609480"/>
            <a:ext cx="2286000" cy="106704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a:rPr>
              <a:t>Incluya:</a:t>
            </a:r>
            <a:endParaRPr b="0" lang="en-US" sz="3600" spc="-1" strike="noStrike">
              <a:solidFill>
                <a:srgbClr val="ff9900"/>
              </a:solidFill>
              <a:latin typeface="Times New Roman"/>
            </a:endParaRPr>
          </a:p>
        </p:txBody>
      </p:sp>
      <p:sp>
        <p:nvSpPr>
          <p:cNvPr id="126" name="PlaceHolder 2"/>
          <p:cNvSpPr>
            <a:spLocks noGrp="1"/>
          </p:cNvSpPr>
          <p:nvPr>
            <p:ph/>
          </p:nvPr>
        </p:nvSpPr>
        <p:spPr>
          <a:xfrm>
            <a:off x="456840" y="2057400"/>
            <a:ext cx="6629400" cy="44956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1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el nombre, dirección, teléfono, y el grupo de edad al que pertenece.</a:t>
            </a:r>
            <a:endParaRPr b="0" lang="en-US" sz="3200" spc="-1" strike="noStrike">
              <a:solidFill>
                <a:srgbClr val="0099cc"/>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11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anotar si desea ayudar en los ministerios que serán establecidos.</a:t>
            </a:r>
            <a:endParaRPr b="0" lang="en-US" sz="3200" spc="-1" strike="noStrike">
              <a:solidFill>
                <a:srgbClr val="0099cc"/>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27" name=""/>
          <p:cNvSpPr/>
          <p:nvPr/>
        </p:nvSpPr>
        <p:spPr>
          <a:xfrm>
            <a:off x="6629400" y="55627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38880" y="51055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26">
                                            <p:txEl>
                                              <p:pRg st="0" end="0"/>
                                            </p:txEl>
                                          </p:spTgt>
                                        </p:tgtEl>
                                        <p:attrNameLst>
                                          <p:attrName>style.visibility</p:attrName>
                                        </p:attrNameLst>
                                      </p:cBhvr>
                                      <p:to>
                                        <p:strVal val="visible"/>
                                      </p:to>
                                    </p:set>
                                    <p:animEffect filter="wipe(up)" transition="in">
                                      <p:cBhvr additive="repl">
                                        <p:cTn id="208" dur="500"/>
                                        <p:tgtEl>
                                          <p:spTgt spid="126">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26">
                                            <p:txEl>
                                              <p:pRg st="2" end="2"/>
                                            </p:txEl>
                                          </p:spTgt>
                                        </p:tgtEl>
                                        <p:attrNameLst>
                                          <p:attrName>style.visibility</p:attrName>
                                        </p:attrNameLst>
                                      </p:cBhvr>
                                      <p:to>
                                        <p:strVal val="visible"/>
                                      </p:to>
                                    </p:set>
                                    <p:animEffect filter="wipe(up)" transition="in">
                                      <p:cBhvr additive="repl">
                                        <p:cTn id="213"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5438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6324480" y="3581280"/>
            <a:ext cx="2590920" cy="1703520"/>
          </a:xfrm>
          <a:prstGeom prst="rect">
            <a:avLst/>
          </a:prstGeom>
          <a:ln w="0">
            <a:noFill/>
          </a:ln>
        </p:spPr>
      </p:pic>
      <p:sp>
        <p:nvSpPr>
          <p:cNvPr id="131" name="PlaceHolder 1"/>
          <p:cNvSpPr>
            <a:spLocks noGrp="1"/>
          </p:cNvSpPr>
          <p:nvPr>
            <p:ph/>
          </p:nvPr>
        </p:nvSpPr>
        <p:spPr>
          <a:xfrm>
            <a:off x="304920" y="1066320"/>
            <a:ext cx="6400800" cy="4800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ista de ministerios posibles.</a:t>
            </a:r>
            <a:endParaRPr b="0" lang="en-US" sz="3200" spc="-1" strike="noStrike">
              <a:solidFill>
                <a:srgbClr val="0099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10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Área para indicar en cuál de los ministerios actuales está participando.</a:t>
            </a:r>
            <a:endParaRPr b="0" lang="en-US" sz="3200" spc="-1" strike="noStrike">
              <a:solidFill>
                <a:srgbClr val="0099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32" name=""/>
          <p:cNvSpPr/>
          <p:nvPr/>
        </p:nvSpPr>
        <p:spPr>
          <a:xfrm>
            <a:off x="83808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0574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76720" y="4952880"/>
            <a:ext cx="1143000" cy="106704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3"/>
          <a:srcRect l="27782" t="0" r="0" b="0"/>
          <a:stretch/>
        </p:blipFill>
        <p:spPr>
          <a:xfrm>
            <a:off x="4572000" y="4508640"/>
            <a:ext cx="1981080" cy="1815840"/>
          </a:xfrm>
          <a:prstGeom prst="rect">
            <a:avLst/>
          </a:prstGeom>
          <a:ln w="0">
            <a:noFill/>
          </a:ln>
        </p:spPr>
      </p:pic>
      <p:pic>
        <p:nvPicPr>
          <p:cNvPr id="136" name="" descr=""/>
          <p:cNvPicPr/>
          <p:nvPr/>
        </p:nvPicPr>
        <p:blipFill>
          <a:blip r:embed="rId4"/>
          <a:srcRect l="27782" t="0" r="0" b="0"/>
          <a:stretch/>
        </p:blipFill>
        <p:spPr>
          <a:xfrm>
            <a:off x="6324480" y="4724280"/>
            <a:ext cx="1905120" cy="1739880"/>
          </a:xfrm>
          <a:prstGeom prst="rect">
            <a:avLst/>
          </a:prstGeom>
          <a:ln w="0">
            <a:noFill/>
          </a:ln>
        </p:spPr>
      </p:pic>
    </p:spTree>
  </p:cSld>
  <p:transition>
    <p:strips dir="ru"/>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31">
                                            <p:txEl>
                                              <p:pRg st="0" end="0"/>
                                            </p:txEl>
                                          </p:spTgt>
                                        </p:tgtEl>
                                        <p:attrNameLst>
                                          <p:attrName>style.visibility</p:attrName>
                                        </p:attrNameLst>
                                      </p:cBhvr>
                                      <p:to>
                                        <p:strVal val="visible"/>
                                      </p:to>
                                    </p:set>
                                    <p:animEffect filter="wipe(up)" transition="in">
                                      <p:cBhvr additive="repl">
                                        <p:cTn id="220" dur="500"/>
                                        <p:tgtEl>
                                          <p:spTgt spid="131">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31">
                                            <p:txEl>
                                              <p:pRg st="2" end="2"/>
                                            </p:txEl>
                                          </p:spTgt>
                                        </p:tgtEl>
                                        <p:attrNameLst>
                                          <p:attrName>style.visibility</p:attrName>
                                        </p:attrNameLst>
                                      </p:cBhvr>
                                      <p:to>
                                        <p:strVal val="visible"/>
                                      </p:to>
                                    </p:set>
                                    <p:animEffect filter="wipe(up)" transition="in">
                                      <p:cBhvr additive="repl">
                                        <p:cTn id="225" dur="5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7772400" y="4648320"/>
            <a:ext cx="914400" cy="91440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533520" y="914400"/>
            <a:ext cx="6858000" cy="510552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indicar si desea participar en los ministerios actuales.</a:t>
            </a:r>
            <a:endParaRPr b="0" lang="en-US" sz="3200" spc="-1" strike="noStrike">
              <a:solidFill>
                <a:srgbClr val="0099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íneas en blanco donde escriba las habilidades e intereses especiales.</a:t>
            </a:r>
            <a:endParaRPr b="0" lang="en-US" sz="3200" spc="-1" strike="noStrike">
              <a:solidFill>
                <a:srgbClr val="0099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indicar se desea ayudar.</a:t>
            </a:r>
            <a:endParaRPr b="0" lang="en-US" sz="3200" spc="-1" strike="noStrike">
              <a:solidFill>
                <a:srgbClr val="0099cc"/>
              </a:solidFill>
              <a:latin typeface="Times New Roman"/>
            </a:endParaRPr>
          </a:p>
        </p:txBody>
      </p:sp>
      <p:sp>
        <p:nvSpPr>
          <p:cNvPr id="139" name=""/>
          <p:cNvSpPr/>
          <p:nvPr/>
        </p:nvSpPr>
        <p:spPr>
          <a:xfrm>
            <a:off x="6629400" y="55627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238880" y="51055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232" dur="500"/>
                                        <p:tgtEl>
                                          <p:spTgt spid="138">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138">
                                            <p:txEl>
                                              <p:pRg st="2" end="2"/>
                                            </p:txEl>
                                          </p:spTgt>
                                        </p:tgtEl>
                                        <p:attrNameLst>
                                          <p:attrName>style.visibility</p:attrName>
                                        </p:attrNameLst>
                                      </p:cBhvr>
                                      <p:to>
                                        <p:strVal val="visible"/>
                                      </p:to>
                                    </p:set>
                                    <p:animEffect filter="wipe(up)" transition="in">
                                      <p:cBhvr additive="repl">
                                        <p:cTn id="237" dur="500"/>
                                        <p:tgtEl>
                                          <p:spTgt spid="138">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38">
                                            <p:txEl>
                                              <p:pRg st="4" end="4"/>
                                            </p:txEl>
                                          </p:spTgt>
                                        </p:tgtEl>
                                        <p:attrNameLst>
                                          <p:attrName>style.visibility</p:attrName>
                                        </p:attrNameLst>
                                      </p:cBhvr>
                                      <p:to>
                                        <p:strVal val="visible"/>
                                      </p:to>
                                    </p:set>
                                    <p:animEffect filter="wipe(up)" transition="in">
                                      <p:cBhvr additive="repl">
                                        <p:cTn id="242" dur="5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75438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 name="" descr=""/>
          <p:cNvPicPr/>
          <p:nvPr/>
        </p:nvPicPr>
        <p:blipFill>
          <a:blip r:embed="rId2"/>
          <a:stretch/>
        </p:blipFill>
        <p:spPr>
          <a:xfrm>
            <a:off x="6324480" y="3581280"/>
            <a:ext cx="2590920" cy="1703520"/>
          </a:xfrm>
          <a:prstGeom prst="rect">
            <a:avLst/>
          </a:prstGeom>
          <a:ln w="0">
            <a:noFill/>
          </a:ln>
        </p:spPr>
      </p:pic>
      <p:sp>
        <p:nvSpPr>
          <p:cNvPr id="143" name="PlaceHolder 1"/>
          <p:cNvSpPr>
            <a:spLocks noGrp="1"/>
          </p:cNvSpPr>
          <p:nvPr>
            <p:ph/>
          </p:nvPr>
        </p:nvSpPr>
        <p:spPr>
          <a:xfrm>
            <a:off x="533520" y="609120"/>
            <a:ext cx="6705360" cy="480060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lgo para cada edad: para casadas, solteras, divorciadas y viudas.</a:t>
            </a:r>
            <a:endParaRPr b="0" lang="en-US" sz="3200" spc="-1" strike="noStrike">
              <a:solidFill>
                <a:srgbClr val="0099cc"/>
              </a:solidFill>
              <a:latin typeface="Times New Roman"/>
            </a:endParaRPr>
          </a:p>
        </p:txBody>
      </p:sp>
      <p:sp>
        <p:nvSpPr>
          <p:cNvPr id="144" name=""/>
          <p:cNvSpPr/>
          <p:nvPr/>
        </p:nvSpPr>
        <p:spPr>
          <a:xfrm>
            <a:off x="83808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0574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276720" y="4952880"/>
            <a:ext cx="1143000" cy="106704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3"/>
          <a:srcRect l="27782" t="0" r="0" b="0"/>
          <a:stretch/>
        </p:blipFill>
        <p:spPr>
          <a:xfrm>
            <a:off x="4572000" y="4508640"/>
            <a:ext cx="1981080" cy="1815840"/>
          </a:xfrm>
          <a:prstGeom prst="rect">
            <a:avLst/>
          </a:prstGeom>
          <a:ln w="0">
            <a:noFill/>
          </a:ln>
        </p:spPr>
      </p:pic>
      <p:pic>
        <p:nvPicPr>
          <p:cNvPr id="148" name="" descr=""/>
          <p:cNvPicPr/>
          <p:nvPr/>
        </p:nvPicPr>
        <p:blipFill>
          <a:blip r:embed="rId4"/>
          <a:srcRect l="27782" t="0" r="0" b="0"/>
          <a:stretch/>
        </p:blipFill>
        <p:spPr>
          <a:xfrm>
            <a:off x="6324480" y="4876920"/>
            <a:ext cx="1905120" cy="1739880"/>
          </a:xfrm>
          <a:prstGeom prst="rect">
            <a:avLst/>
          </a:prstGeom>
          <a:ln w="0">
            <a:noFill/>
          </a:ln>
        </p:spPr>
      </p:pic>
    </p:spTree>
  </p:cSld>
  <p:transition>
    <p:strips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228600" y="228600"/>
            <a:ext cx="8001000" cy="588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CUESTA DE MINISTERIOS DE LA MUJ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comisión local de Ministerios de la Mujer apreciaría que conteste las preguntas siguientes. Por favor, complete la encuesta y devuélvala a la directora de Ministerios de la Mujer (Escriba su nombre, dirección, y teléfono, para la directora loc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ombre_________________________________________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irección________________________________________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léfo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_______________________________________________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dad ____Menos de 30 _____31-40 _____41-50 _____51-60 _______61-70_____ Más de 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civi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soltera _____solter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casada ______casad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divorciada ______divorciad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viuda ______viud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152280" y="117360"/>
            <a:ext cx="7391520" cy="734832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mbre y edad de los hijos: _____________________________________________________________________________________________________________________________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Trabaj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 trabajo tiempo integral en cas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 trabajo medio período en cas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____ trabajo tiempo integral fuera de casa</a:t>
            </a:r>
            <a:r>
              <a:rPr b="1" lang="es-ES" sz="2000" spc="-1" strike="noStrike">
                <a:solidFill>
                  <a:srgbClr val="ffffff"/>
                </a:solidFill>
                <a:latin typeface="Arial"/>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 trabajo tiempo integral en los negocios de la famil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 estudiante</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ualmente colaboro en las siguientes actividades de la igles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1. 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 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 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263520" y="304920"/>
            <a:ext cx="7432560" cy="667764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ntereses e habilidades especial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músic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ant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instrumental – Instrumento: 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arte</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bajos manuales – áreas de conocimiento: 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hablar em público – relacione las áreas y temas: 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líder de grupo de estudio de la Bibl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habilidades para escribir y preparar notici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Tengo interés en participar de los siguientes program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Desayuno o almuerzo de oració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Mini retiro de 24 hor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Seminarios Sobre la Salud de la Mujer</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Seminarios Sobre el Control de Pes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____Curso sobre Educación de los hijos</a:t>
            </a:r>
            <a:r>
              <a:rPr b="1" lang="es-ES" sz="2000" spc="-1" strike="noStrike">
                <a:solidFill>
                  <a:srgbClr val="ffffff"/>
                </a:solidFill>
                <a:latin typeface="Arial"/>
              </a:rPr>
              <a:t> </a:t>
            </a:r>
            <a:endParaRPr b="0" lang="en-US" sz="2000" spc="-1" strike="noStrike">
              <a:solidFill>
                <a:srgbClr val="000000"/>
              </a:solidFill>
              <a:latin typeface="Times New Roman"/>
            </a:endParaRPr>
          </a:p>
        </p:txBody>
      </p:sp>
    </p:spTree>
  </p:cSld>
  <p:transition>
    <p:strips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304920" y="-76320"/>
            <a:ext cx="7315200" cy="710208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Sobre Nutrició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Sobre Trabajos Manuale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Pequeños Negoc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el control de peso</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de Planificación Financiera</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Apreciar la vida solo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Sobre Jardinería</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de arreglos Florale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de Decoración del hogar</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Crecimiento Espiritual</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Testimon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Estudios Bíblic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el matrimonio de éxito</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 Seminar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ista sugerente de seminar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____________________________________________________________________________________________________</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685800" y="228600"/>
            <a:ext cx="7391520" cy="7378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Me gustaría  participar de los siguientes grupos de apoy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Divorciad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Alcohólic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Padres con hijos con alguna deficienc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Dejar de fumar</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Personas con desórdenes alimentari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Viciados en drogas (incluyendo drogas legal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____Viudas</a:t>
            </a:r>
            <a:r>
              <a:rPr b="1" lang="es-ES" sz="2000" spc="-1" strike="noStrike">
                <a:solidFill>
                  <a:srgbClr val="ffffff"/>
                </a:solidFill>
                <a:latin typeface="Arial"/>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 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e gustaría  ayudar e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Retir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Almuerzos especial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nsport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Grupos de oració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Estudios bíblic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Ministerio de la  oració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
          <p:cNvSpPr/>
          <p:nvPr/>
        </p:nvSpPr>
        <p:spPr>
          <a:xfrm>
            <a:off x="7467480" y="2362320"/>
            <a:ext cx="1676520" cy="1218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162920" y="4343400"/>
            <a:ext cx="1981080" cy="1219320"/>
          </a:xfrm>
          <a:prstGeom prst="rect">
            <a:avLst/>
          </a:prstGeom>
          <a:solidFill>
            <a:srgbClr val="ffff66"/>
          </a:solidFill>
          <a:ln w="0">
            <a:noFill/>
          </a:ln>
          <a:effectLst>
            <a:outerShdw dist="153753" dir="2700000" blurRad="0" rotWithShape="0">
              <a:srgbClr val="9898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p:nvPr>
        </p:nvSpPr>
        <p:spPr>
          <a:xfrm>
            <a:off x="228600" y="761760"/>
            <a:ext cx="6934320" cy="3352680"/>
          </a:xfrm>
          <a:prstGeom prst="rect">
            <a:avLst/>
          </a:prstGeom>
          <a:noFill/>
          <a:ln w="0">
            <a:noFill/>
          </a:ln>
          <a:effectLst>
            <a:outerShdw dist="28496" dir="6974480" blurRad="0" rotWithShape="0">
              <a:srgbClr val="000000"/>
            </a:outerShdw>
          </a:effectLst>
        </p:spPr>
        <p:txBody>
          <a:bodyPr lIns="90000" rIns="90000" tIns="46800" bIns="46800" anchor="t">
            <a:normAutofit fontScale="75000"/>
          </a:bodyPr>
          <a:p>
            <a:pPr marL="257040" indent="-25704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Deseo sincero de trabajar para el Maestro.</a:t>
            </a:r>
            <a:endParaRPr b="0" lang="en-US" sz="3600" spc="-1" strike="noStrike">
              <a:solidFill>
                <a:srgbClr val="0099cc"/>
              </a:solidFill>
              <a:latin typeface="Times New Roman"/>
            </a:endParaRPr>
          </a:p>
          <a:p>
            <a:pPr marL="257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257040" indent="-25704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mpromiso de seguir y concluir los proyectos que inició.</a:t>
            </a:r>
            <a:endParaRPr b="0" lang="en-US" sz="3600" spc="-1" strike="noStrike">
              <a:solidFill>
                <a:srgbClr val="0099cc"/>
              </a:solidFill>
              <a:latin typeface="Times New Roman"/>
            </a:endParaRPr>
          </a:p>
          <a:p>
            <a:pPr marL="257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257040" indent="-25704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Amor por los Ministerios de la Mujer.</a:t>
            </a:r>
            <a:endParaRPr b="0" lang="en-US" sz="3600" spc="-1" strike="noStrike">
              <a:solidFill>
                <a:srgbClr val="0099cc"/>
              </a:solidFill>
              <a:latin typeface="Times New Roman"/>
            </a:endParaRPr>
          </a:p>
        </p:txBody>
      </p:sp>
      <p:pic>
        <p:nvPicPr>
          <p:cNvPr id="54" name="" descr=""/>
          <p:cNvPicPr/>
          <p:nvPr/>
        </p:nvPicPr>
        <p:blipFill>
          <a:blip r:embed="rId2"/>
          <a:stretch/>
        </p:blipFill>
        <p:spPr>
          <a:xfrm>
            <a:off x="6629400" y="3200400"/>
            <a:ext cx="2133720" cy="1600200"/>
          </a:xfrm>
          <a:prstGeom prst="rect">
            <a:avLst/>
          </a:prstGeom>
          <a:ln w="0">
            <a:noFill/>
          </a:ln>
        </p:spPr>
      </p:pic>
    </p:spTree>
  </p:cSld>
  <p:transition>
    <p:strips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Effect filter="wipe(up)" transition="in">
                                      <p:cBhvr additive="repl">
                                        <p:cTn id="7" dur="500"/>
                                        <p:tgtEl>
                                          <p:spTgt spid="5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3">
                                            <p:txEl>
                                              <p:pRg st="2" end="2"/>
                                            </p:txEl>
                                          </p:spTgt>
                                        </p:tgtEl>
                                        <p:attrNameLst>
                                          <p:attrName>style.visibility</p:attrName>
                                        </p:attrNameLst>
                                      </p:cBhvr>
                                      <p:to>
                                        <p:strVal val="visible"/>
                                      </p:to>
                                    </p:set>
                                    <p:animEffect filter="wipe(up)" transition="in">
                                      <p:cBhvr additive="repl">
                                        <p:cTn id="12" dur="500"/>
                                        <p:tgtEl>
                                          <p:spTgt spid="5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3">
                                            <p:txEl>
                                              <p:pRg st="4" end="4"/>
                                            </p:txEl>
                                          </p:spTgt>
                                        </p:tgtEl>
                                        <p:attrNameLst>
                                          <p:attrName>style.visibility</p:attrName>
                                        </p:attrNameLst>
                                      </p:cBhvr>
                                      <p:to>
                                        <p:strVal val="visible"/>
                                      </p:to>
                                    </p:set>
                                    <p:animEffect filter="wipe(up)" transition="in">
                                      <p:cBhvr additive="repl">
                                        <p:cTn id="17"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228600" y="380880"/>
            <a:ext cx="7315200" cy="62208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idar niños</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Decoración</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Publicidad</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elefonist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Recepción</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bajos de dactilografía y computación</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Recibir visitas en mi cas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 _______________________________________</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ara poder participar necesito de ayuda con:</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idado de mis hijos pequeños</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idado de miembro  enfermos de la famili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nsporte de ida y vuelt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_______________________________________</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791320" y="5181480"/>
            <a:ext cx="2438280" cy="1371600"/>
          </a:xfrm>
          <a:prstGeom prst="rect">
            <a:avLst/>
          </a:prstGeom>
          <a:solidFill>
            <a:srgbClr val="ffff66"/>
          </a:solidFill>
          <a:ln w="0">
            <a:noFill/>
          </a:ln>
          <a:effectLst>
            <a:outerShdw dist="153753" dir="2700000" blurRad="0" rotWithShape="0">
              <a:srgbClr val="9898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p:nvPr>
        </p:nvSpPr>
        <p:spPr>
          <a:xfrm>
            <a:off x="228240" y="1143000"/>
            <a:ext cx="7086600" cy="457200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Disposición de gastar tiempo en oración y preparación personal.</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nfianza plena en el Señor.</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recimiento espiritual.</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p:txBody>
      </p:sp>
      <p:pic>
        <p:nvPicPr>
          <p:cNvPr id="57" name="" descr=""/>
          <p:cNvPicPr/>
          <p:nvPr/>
        </p:nvPicPr>
        <p:blipFill>
          <a:blip r:embed="rId2"/>
          <a:stretch/>
        </p:blipFill>
        <p:spPr>
          <a:xfrm>
            <a:off x="6553080" y="4114800"/>
            <a:ext cx="2362320" cy="1600200"/>
          </a:xfrm>
          <a:prstGeom prst="rect">
            <a:avLst/>
          </a:prstGeom>
          <a:ln w="0">
            <a:noFill/>
          </a:ln>
        </p:spPr>
      </p:pic>
    </p:spTree>
  </p:cSld>
  <p:transition>
    <p:strips dir="ru"/>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56">
                                            <p:txEl>
                                              <p:pRg st="0" end="0"/>
                                            </p:txEl>
                                          </p:spTgt>
                                        </p:tgtEl>
                                        <p:attrNameLst>
                                          <p:attrName>style.visibility</p:attrName>
                                        </p:attrNameLst>
                                      </p:cBhvr>
                                      <p:to>
                                        <p:strVal val="visible"/>
                                      </p:to>
                                    </p:set>
                                    <p:animEffect filter="wipe(up)" transition="in">
                                      <p:cBhvr additive="repl">
                                        <p:cTn id="24" dur="500"/>
                                        <p:tgtEl>
                                          <p:spTgt spid="56">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56">
                                            <p:txEl>
                                              <p:pRg st="2" end="2"/>
                                            </p:txEl>
                                          </p:spTgt>
                                        </p:tgtEl>
                                        <p:attrNameLst>
                                          <p:attrName>style.visibility</p:attrName>
                                        </p:attrNameLst>
                                      </p:cBhvr>
                                      <p:to>
                                        <p:strVal val="visible"/>
                                      </p:to>
                                    </p:set>
                                    <p:animEffect filter="wipe(up)" transition="in">
                                      <p:cBhvr additive="repl">
                                        <p:cTn id="29" dur="500"/>
                                        <p:tgtEl>
                                          <p:spTgt spid="5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56">
                                            <p:txEl>
                                              <p:pRg st="4" end="4"/>
                                            </p:txEl>
                                          </p:spTgt>
                                        </p:tgtEl>
                                        <p:attrNameLst>
                                          <p:attrName>style.visibility</p:attrName>
                                        </p:attrNameLst>
                                      </p:cBhvr>
                                      <p:to>
                                        <p:strVal val="visible"/>
                                      </p:to>
                                    </p:set>
                                    <p:animEffect filter="wipe(up)" transition="in">
                                      <p:cBhvr additive="repl">
                                        <p:cTn id="34" dur="500"/>
                                        <p:tgtEl>
                                          <p:spTgt spid="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228240" y="990360"/>
            <a:ext cx="6705720" cy="556236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fianza en sí misma y con un sentido de dignidad propia.</a:t>
            </a:r>
            <a:endParaRPr b="0" lang="en-US" sz="2800" spc="-1" strike="noStrike">
              <a:solidFill>
                <a:srgbClr val="0099cc"/>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imes New Roman"/>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Utilización de sus talentos.</a:t>
            </a:r>
            <a:endParaRPr b="0" lang="en-US" sz="2800" spc="-1" strike="noStrike">
              <a:solidFill>
                <a:srgbClr val="0099cc"/>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imes New Roman"/>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eguridad de que sus necesidades son atendidas.</a:t>
            </a:r>
            <a:endParaRPr b="0" lang="en-US" sz="2800" spc="-1" strike="noStrike">
              <a:solidFill>
                <a:srgbClr val="0099cc"/>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imes New Roman"/>
            </a:endParaRPr>
          </a:p>
        </p:txBody>
      </p:sp>
      <p:sp>
        <p:nvSpPr>
          <p:cNvPr id="59" name=""/>
          <p:cNvSpPr/>
          <p:nvPr/>
        </p:nvSpPr>
        <p:spPr>
          <a:xfrm>
            <a:off x="7010280" y="4952880"/>
            <a:ext cx="1676520" cy="99072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010280" y="2666880"/>
            <a:ext cx="1676520" cy="76212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2"/>
          <a:stretch/>
        </p:blipFill>
        <p:spPr>
          <a:xfrm>
            <a:off x="6781680" y="1066680"/>
            <a:ext cx="1981440" cy="1308240"/>
          </a:xfrm>
          <a:prstGeom prst="rect">
            <a:avLst/>
          </a:prstGeom>
          <a:ln w="0">
            <a:noFill/>
          </a:ln>
        </p:spPr>
      </p:pic>
      <p:sp>
        <p:nvSpPr>
          <p:cNvPr id="62" name=""/>
          <p:cNvSpPr/>
          <p:nvPr/>
        </p:nvSpPr>
        <p:spPr>
          <a:xfrm>
            <a:off x="7010280" y="3733920"/>
            <a:ext cx="1676520" cy="83808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58">
                                            <p:txEl>
                                              <p:pRg st="0" end="0"/>
                                            </p:txEl>
                                          </p:spTgt>
                                        </p:tgtEl>
                                        <p:attrNameLst>
                                          <p:attrName>style.visibility</p:attrName>
                                        </p:attrNameLst>
                                      </p:cBhvr>
                                      <p:to>
                                        <p:strVal val="visible"/>
                                      </p:to>
                                    </p:set>
                                    <p:animEffect filter="wipe(up)" transition="in">
                                      <p:cBhvr additive="repl">
                                        <p:cTn id="41" dur="500"/>
                                        <p:tgtEl>
                                          <p:spTgt spid="58">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58">
                                            <p:txEl>
                                              <p:pRg st="2" end="2"/>
                                            </p:txEl>
                                          </p:spTgt>
                                        </p:tgtEl>
                                        <p:attrNameLst>
                                          <p:attrName>style.visibility</p:attrName>
                                        </p:attrNameLst>
                                      </p:cBhvr>
                                      <p:to>
                                        <p:strVal val="visible"/>
                                      </p:to>
                                    </p:set>
                                    <p:animEffect filter="wipe(up)" transition="in">
                                      <p:cBhvr additive="repl">
                                        <p:cTn id="46" dur="500"/>
                                        <p:tgtEl>
                                          <p:spTgt spid="58">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58">
                                            <p:txEl>
                                              <p:pRg st="4" end="4"/>
                                            </p:txEl>
                                          </p:spTgt>
                                        </p:tgtEl>
                                        <p:attrNameLst>
                                          <p:attrName>style.visibility</p:attrName>
                                        </p:attrNameLst>
                                      </p:cBhvr>
                                      <p:to>
                                        <p:strVal val="visible"/>
                                      </p:to>
                                    </p:set>
                                    <p:animEffect filter="wipe(up)" transition="in">
                                      <p:cBhvr additive="repl">
                                        <p:cTn id="51"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228240" y="1295280"/>
            <a:ext cx="6629400" cy="45720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Educación.</a:t>
            </a:r>
            <a:endParaRPr b="0" lang="en-US" sz="3600" spc="-1" strike="noStrike">
              <a:solidFill>
                <a:srgbClr val="0099cc"/>
              </a:solidFill>
              <a:latin typeface="Times New Roman"/>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Enriquecimiento personal.</a:t>
            </a:r>
            <a:endParaRPr b="0" lang="en-US" sz="3600" spc="-1" strike="noStrike">
              <a:solidFill>
                <a:srgbClr val="0099cc"/>
              </a:solidFill>
              <a:latin typeface="Times New Roman"/>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ura para los abusos ocurridos en el  pasado.</a:t>
            </a:r>
            <a:endParaRPr b="0" lang="en-US" sz="3600" spc="-1" strike="noStrike">
              <a:solidFill>
                <a:srgbClr val="0099cc"/>
              </a:solidFill>
              <a:latin typeface="Times New Roman"/>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p:txBody>
      </p:sp>
      <p:sp>
        <p:nvSpPr>
          <p:cNvPr id="64" name=""/>
          <p:cNvSpPr/>
          <p:nvPr/>
        </p:nvSpPr>
        <p:spPr>
          <a:xfrm>
            <a:off x="7010280" y="5105520"/>
            <a:ext cx="1676520" cy="990360"/>
          </a:xfrm>
          <a:prstGeom prst="rect">
            <a:avLst/>
          </a:prstGeom>
          <a:solidFill>
            <a:srgbClr val="1389ff"/>
          </a:solidFill>
          <a:ln w="0">
            <a:noFill/>
          </a:ln>
          <a:effectLst>
            <a:outerShdw dist="153753" dir="2700000" blurRad="0" rotWithShape="0">
              <a:srgbClr val="0b51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010280" y="2666880"/>
            <a:ext cx="1676520" cy="762120"/>
          </a:xfrm>
          <a:prstGeom prst="rect">
            <a:avLst/>
          </a:prstGeom>
          <a:solidFill>
            <a:srgbClr val="e1f5ff"/>
          </a:solidFill>
          <a:ln w="0">
            <a:noFill/>
          </a:ln>
          <a:effectLst>
            <a:outerShdw dist="153753" dir="2700000" blurRad="0" rotWithShape="0">
              <a:srgbClr val="8692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 name="" descr=""/>
          <p:cNvPicPr/>
          <p:nvPr/>
        </p:nvPicPr>
        <p:blipFill>
          <a:blip r:embed="rId2"/>
          <a:stretch/>
        </p:blipFill>
        <p:spPr>
          <a:xfrm>
            <a:off x="7010280" y="1295280"/>
            <a:ext cx="1676520" cy="1106640"/>
          </a:xfrm>
          <a:prstGeom prst="rect">
            <a:avLst/>
          </a:prstGeom>
          <a:ln w="0">
            <a:noFill/>
          </a:ln>
        </p:spPr>
      </p:pic>
      <p:sp>
        <p:nvSpPr>
          <p:cNvPr id="67" name=""/>
          <p:cNvSpPr/>
          <p:nvPr/>
        </p:nvSpPr>
        <p:spPr>
          <a:xfrm>
            <a:off x="7010280" y="3809880"/>
            <a:ext cx="1676520" cy="914400"/>
          </a:xfrm>
          <a:prstGeom prst="rect">
            <a:avLst/>
          </a:prstGeom>
          <a:solidFill>
            <a:srgbClr val="bfdfff"/>
          </a:solidFill>
          <a:ln w="0">
            <a:noFill/>
          </a:ln>
          <a:effectLst>
            <a:outerShdw dist="153753" dir="2700000" blurRad="0" rotWithShape="0">
              <a:srgbClr val="7285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63">
                                            <p:txEl>
                                              <p:pRg st="0" end="0"/>
                                            </p:txEl>
                                          </p:spTgt>
                                        </p:tgtEl>
                                        <p:attrNameLst>
                                          <p:attrName>style.visibility</p:attrName>
                                        </p:attrNameLst>
                                      </p:cBhvr>
                                      <p:to>
                                        <p:strVal val="visible"/>
                                      </p:to>
                                    </p:set>
                                    <p:animEffect filter="wipe(up)" transition="in">
                                      <p:cBhvr additive="repl">
                                        <p:cTn id="58" dur="500"/>
                                        <p:tgtEl>
                                          <p:spTgt spid="63">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63">
                                            <p:txEl>
                                              <p:pRg st="2" end="2"/>
                                            </p:txEl>
                                          </p:spTgt>
                                        </p:tgtEl>
                                        <p:attrNameLst>
                                          <p:attrName>style.visibility</p:attrName>
                                        </p:attrNameLst>
                                      </p:cBhvr>
                                      <p:to>
                                        <p:strVal val="visible"/>
                                      </p:to>
                                    </p:set>
                                    <p:animEffect filter="wipe(up)" transition="in">
                                      <p:cBhvr additive="repl">
                                        <p:cTn id="63" dur="500"/>
                                        <p:tgtEl>
                                          <p:spTgt spid="63">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63">
                                            <p:txEl>
                                              <p:pRg st="4" end="4"/>
                                            </p:txEl>
                                          </p:spTgt>
                                        </p:tgtEl>
                                        <p:attrNameLst>
                                          <p:attrName>style.visibility</p:attrName>
                                        </p:attrNameLst>
                                      </p:cBhvr>
                                      <p:to>
                                        <p:strVal val="visible"/>
                                      </p:to>
                                    </p:set>
                                    <p:animEffect filter="wipe(up)" transition="in">
                                      <p:cBhvr additive="repl">
                                        <p:cTn id="68"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04560" y="380880"/>
            <a:ext cx="6629400" cy="5943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Seguridad  económica y financiera.</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apacidad para fortalecerse unas a  otras.</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Amistades.</a:t>
            </a:r>
            <a:endParaRPr b="0" lang="en-US" sz="3600" spc="-1" strike="noStrike">
              <a:solidFill>
                <a:srgbClr val="0099cc"/>
              </a:solidFill>
              <a:latin typeface="Times New Roman"/>
            </a:endParaRPr>
          </a:p>
        </p:txBody>
      </p:sp>
      <p:sp>
        <p:nvSpPr>
          <p:cNvPr id="69" name=""/>
          <p:cNvSpPr/>
          <p:nvPr/>
        </p:nvSpPr>
        <p:spPr>
          <a:xfrm>
            <a:off x="7010280" y="5105520"/>
            <a:ext cx="1676520" cy="990360"/>
          </a:xfrm>
          <a:prstGeom prst="rect">
            <a:avLst/>
          </a:prstGeom>
          <a:solidFill>
            <a:srgbClr val="1389ff"/>
          </a:solidFill>
          <a:ln w="0">
            <a:noFill/>
          </a:ln>
          <a:effectLst>
            <a:outerShdw dist="153753" dir="2700000" blurRad="0" rotWithShape="0">
              <a:srgbClr val="0b51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010280" y="2666880"/>
            <a:ext cx="1676520" cy="762120"/>
          </a:xfrm>
          <a:prstGeom prst="rect">
            <a:avLst/>
          </a:prstGeom>
          <a:solidFill>
            <a:srgbClr val="e1f5ff"/>
          </a:solidFill>
          <a:ln w="0">
            <a:noFill/>
          </a:ln>
          <a:effectLst>
            <a:outerShdw dist="153753" dir="2700000" blurRad="0" rotWithShape="0">
              <a:srgbClr val="8692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7010280" y="1295280"/>
            <a:ext cx="1676520" cy="1106640"/>
          </a:xfrm>
          <a:prstGeom prst="rect">
            <a:avLst/>
          </a:prstGeom>
          <a:ln w="0">
            <a:noFill/>
          </a:ln>
        </p:spPr>
      </p:pic>
      <p:sp>
        <p:nvSpPr>
          <p:cNvPr id="72" name=""/>
          <p:cNvSpPr/>
          <p:nvPr/>
        </p:nvSpPr>
        <p:spPr>
          <a:xfrm>
            <a:off x="7010280" y="3809880"/>
            <a:ext cx="1676520" cy="914400"/>
          </a:xfrm>
          <a:prstGeom prst="rect">
            <a:avLst/>
          </a:prstGeom>
          <a:solidFill>
            <a:srgbClr val="bfdfff"/>
          </a:solidFill>
          <a:ln w="0">
            <a:noFill/>
          </a:ln>
          <a:effectLst>
            <a:outerShdw dist="153753" dir="2700000" blurRad="0" rotWithShape="0">
              <a:srgbClr val="7285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68">
                                            <p:txEl>
                                              <p:pRg st="1" end="1"/>
                                            </p:txEl>
                                          </p:spTgt>
                                        </p:tgtEl>
                                        <p:attrNameLst>
                                          <p:attrName>style.visibility</p:attrName>
                                        </p:attrNameLst>
                                      </p:cBhvr>
                                      <p:to>
                                        <p:strVal val="visible"/>
                                      </p:to>
                                    </p:set>
                                    <p:animEffect filter="wipe(up)" transition="in">
                                      <p:cBhvr additive="repl">
                                        <p:cTn id="75" dur="500"/>
                                        <p:tgtEl>
                                          <p:spTgt spid="68">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68">
                                            <p:txEl>
                                              <p:pRg st="3" end="3"/>
                                            </p:txEl>
                                          </p:spTgt>
                                        </p:tgtEl>
                                        <p:attrNameLst>
                                          <p:attrName>style.visibility</p:attrName>
                                        </p:attrNameLst>
                                      </p:cBhvr>
                                      <p:to>
                                        <p:strVal val="visible"/>
                                      </p:to>
                                    </p:set>
                                    <p:animEffect filter="wipe(up)" transition="in">
                                      <p:cBhvr additive="repl">
                                        <p:cTn id="80" dur="500"/>
                                        <p:tgtEl>
                                          <p:spTgt spid="68">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68">
                                            <p:txEl>
                                              <p:pRg st="5" end="5"/>
                                            </p:txEl>
                                          </p:spTgt>
                                        </p:tgtEl>
                                        <p:attrNameLst>
                                          <p:attrName>style.visibility</p:attrName>
                                        </p:attrNameLst>
                                      </p:cBhvr>
                                      <p:to>
                                        <p:strVal val="visible"/>
                                      </p:to>
                                    </p:set>
                                    <p:animEffect filter="wipe(up)" transition="in">
                                      <p:cBhvr additive="repl">
                                        <p:cTn id="85" dur="5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980720"/>
            <a:ext cx="6324480" cy="29718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53"/>
                </a:solidFill>
                <a:latin typeface="Arial"/>
              </a:rPr>
              <a:t>Definición de Comunidad</a:t>
            </a:r>
            <a:endParaRPr b="0" lang="en-US" sz="6000" spc="-1" strike="noStrike">
              <a:solidFill>
                <a:srgbClr val="ff9900"/>
              </a:solidFill>
              <a:latin typeface="Times New Roman"/>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80880" y="1143000"/>
            <a:ext cx="6553440" cy="449568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Congregación de la iglesia.</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Área en la cual vivimos.</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empresa donde usted trabaja.</a:t>
            </a:r>
            <a:endParaRPr b="0" lang="en-US" sz="3600" spc="-1" strike="noStrike">
              <a:solidFill>
                <a:srgbClr val="0099cc"/>
              </a:solidFill>
              <a:latin typeface="Times New Roman"/>
            </a:endParaRPr>
          </a:p>
        </p:txBody>
      </p:sp>
      <p:pic>
        <p:nvPicPr>
          <p:cNvPr id="75" name="" descr=""/>
          <p:cNvPicPr/>
          <p:nvPr/>
        </p:nvPicPr>
        <p:blipFill>
          <a:blip r:embed="rId2"/>
          <a:stretch/>
        </p:blipFill>
        <p:spPr>
          <a:xfrm>
            <a:off x="304920" y="5410080"/>
            <a:ext cx="1600200" cy="1055880"/>
          </a:xfrm>
          <a:prstGeom prst="rect">
            <a:avLst/>
          </a:prstGeom>
          <a:ln w="0">
            <a:noFill/>
          </a:ln>
        </p:spPr>
      </p:pic>
      <p:pic>
        <p:nvPicPr>
          <p:cNvPr id="76" name="" descr=""/>
          <p:cNvPicPr/>
          <p:nvPr/>
        </p:nvPicPr>
        <p:blipFill>
          <a:blip r:embed="rId3"/>
          <a:stretch/>
        </p:blipFill>
        <p:spPr>
          <a:xfrm>
            <a:off x="2057400" y="5410080"/>
            <a:ext cx="1600200" cy="1055880"/>
          </a:xfrm>
          <a:prstGeom prst="rect">
            <a:avLst/>
          </a:prstGeom>
          <a:ln w="0">
            <a:noFill/>
          </a:ln>
        </p:spPr>
      </p:pic>
      <p:pic>
        <p:nvPicPr>
          <p:cNvPr id="77" name="" descr=""/>
          <p:cNvPicPr/>
          <p:nvPr/>
        </p:nvPicPr>
        <p:blipFill>
          <a:blip r:embed="rId4"/>
          <a:stretch/>
        </p:blipFill>
        <p:spPr>
          <a:xfrm>
            <a:off x="3809880" y="5410080"/>
            <a:ext cx="1600200" cy="1059120"/>
          </a:xfrm>
          <a:prstGeom prst="rect">
            <a:avLst/>
          </a:prstGeom>
          <a:ln w="0">
            <a:noFill/>
          </a:ln>
        </p:spPr>
      </p:pic>
      <p:pic>
        <p:nvPicPr>
          <p:cNvPr id="78" name="" descr=""/>
          <p:cNvPicPr/>
          <p:nvPr/>
        </p:nvPicPr>
        <p:blipFill>
          <a:blip r:embed="rId5"/>
          <a:stretch/>
        </p:blipFill>
        <p:spPr>
          <a:xfrm>
            <a:off x="5562720" y="5410080"/>
            <a:ext cx="1600200" cy="1063800"/>
          </a:xfrm>
          <a:prstGeom prst="rect">
            <a:avLst/>
          </a:prstGeom>
          <a:ln w="0">
            <a:noFill/>
          </a:ln>
        </p:spPr>
      </p:pic>
      <p:pic>
        <p:nvPicPr>
          <p:cNvPr id="79" name="" descr=""/>
          <p:cNvPicPr/>
          <p:nvPr/>
        </p:nvPicPr>
        <p:blipFill>
          <a:blip r:embed="rId6"/>
          <a:stretch/>
        </p:blipFill>
        <p:spPr>
          <a:xfrm>
            <a:off x="7315200" y="5410080"/>
            <a:ext cx="1600200" cy="1055880"/>
          </a:xfrm>
          <a:prstGeom prst="rect">
            <a:avLst/>
          </a:prstGeom>
          <a:ln w="0">
            <a:noFill/>
          </a:ln>
        </p:spPr>
      </p:pic>
    </p:spTree>
  </p:cSld>
  <p:transition>
    <p:strips dir="ru"/>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92" dur="500"/>
                                        <p:tgtEl>
                                          <p:spTgt spid="74">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1">
                                  <p:stCondLst>
                                    <p:cond delay="0"/>
                                  </p:stCondLst>
                                  <p:childTnLst>
                                    <p:set>
                                      <p:cBhvr>
                                        <p:cTn id="96"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97" dur="500"/>
                                        <p:tgtEl>
                                          <p:spTgt spid="74">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74">
                                            <p:txEl>
                                              <p:pRg st="4" end="4"/>
                                            </p:txEl>
                                          </p:spTgt>
                                        </p:tgtEl>
                                        <p:attrNameLst>
                                          <p:attrName>style.visibility</p:attrName>
                                        </p:attrNameLst>
                                      </p:cBhvr>
                                      <p:to>
                                        <p:strVal val="visible"/>
                                      </p:to>
                                    </p:set>
                                    <p:animEffect filter="wipe(up)" transition="in">
                                      <p:cBhvr additive="repl">
                                        <p:cTn id="102" dur="5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9T16:46:43Z</dcterms:created>
  <dc:creator>TRANS-EUROPEAN DIVISION</dc:creator>
  <dc:description/>
  <dc:language>en-US</dc:language>
  <cp:lastModifiedBy>Sede Administrativa</cp:lastModifiedBy>
  <dcterms:modified xsi:type="dcterms:W3CDTF">2003-10-13T13:07:33Z</dcterms:modified>
  <cp:revision>13</cp:revision>
  <dc:subject/>
  <dc:title>PowerPoint Presentation</dc:title>
</cp:coreProperties>
</file>