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38.png" ContentType="image/png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1.wmf" ContentType="image/x-wmf"/>
  <Override PartName="/ppt/media/image48.png" ContentType="image/png"/>
  <Override PartName="/ppt/media/image40.png" ContentType="image/png"/>
  <Override PartName="/ppt/media/image8.wmf" ContentType="image/x-wmf"/>
  <Override PartName="/ppt/media/image56.jpeg" ContentType="image/jpeg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463-172A-4B49-B0C4-F954C412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870-C999-4C92-96AF-6F0C5B38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07F-973D-4964-B6A0-58515048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1E7-0292-4526-814D-8190974C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D01-E793-4694-AB32-96DB880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117-B7ED-42A8-8395-7FAE9017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0D2-7E13-4687-A4B3-2705BBF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A8C-4360-4F0D-A88A-FFB2A55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914-0F5A-4B2E-B726-FC7F8E75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1F6-6211-460D-A2E5-43E6D5A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1AE-6D36-4429-A42F-2FCC81F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E29-B8F9-4F98-AA32-9753D13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A82-44ED-4316-8134-31DB92D523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7800" y="1197000"/>
            <a:ext cx="295128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Gando BT"/>
              </a:rPr>
              <a:t>M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anual de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s-ES" sz="6000" spc="-1" strike="noStrike">
                <a:solidFill>
                  <a:srgbClr val="ffff00"/>
                </a:solidFill>
                <a:latin typeface="Gando BT"/>
              </a:rPr>
              <a:t>E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vangelismo</a:t>
            </a:r>
            <a:br>
              <a:rPr sz="4400"/>
            </a:br>
            <a:r>
              <a:rPr b="1" i="1" lang="es-ES" sz="5400" spc="-1" strike="noStrike">
                <a:solidFill>
                  <a:srgbClr val="ffff00"/>
                </a:solidFill>
                <a:latin typeface="Gando BT"/>
              </a:rPr>
              <a:t>F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menino</a:t>
            </a:r>
            <a:br>
              <a:rPr sz="44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ategias de Evang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236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3080" y="5473800"/>
            <a:ext cx="86364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240" y="604044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al 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omen’s Ministrie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/>
          <p:nvPr/>
        </p:nvSpPr>
        <p:spPr>
          <a:xfrm>
            <a:off x="1476360" y="6114960"/>
            <a:ext cx="6048360" cy="69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435880" cy="35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lanificación de un programa que despierte el interés de la comunidad, es muy similar a una reunión evangelística. Requiere de planificación, ideas, oración, comisiones y comprom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1258920" y="476280"/>
            <a:ext cx="635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 del Program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714760" y="4514760"/>
            <a:ext cx="3547800" cy="2070000"/>
            <a:chOff x="2714760" y="4514760"/>
            <a:chExt cx="3547800" cy="2070000"/>
          </a:xfrm>
        </p:grpSpPr>
        <p:grpSp>
          <p:nvGrpSpPr>
            <p:cNvPr id="5578" name=""/>
            <p:cNvGrpSpPr/>
            <p:nvPr/>
          </p:nvGrpSpPr>
          <p:grpSpPr>
            <a:xfrm>
              <a:off x="3701880" y="4514760"/>
              <a:ext cx="1370160" cy="906480"/>
              <a:chOff x="3701880" y="4514760"/>
              <a:chExt cx="1370160" cy="906480"/>
            </a:xfrm>
          </p:grpSpPr>
          <p:sp>
            <p:nvSpPr>
              <p:cNvPr id="5579" name=""/>
              <p:cNvSpPr/>
              <p:nvPr/>
            </p:nvSpPr>
            <p:spPr>
              <a:xfrm>
                <a:off x="3701880" y="4514760"/>
                <a:ext cx="1370160" cy="9064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736800" y="4549680"/>
                <a:ext cx="1285920" cy="8301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2714760" y="4647960"/>
              <a:ext cx="1598400" cy="1658880"/>
              <a:chOff x="2714760" y="4647960"/>
              <a:chExt cx="1598400" cy="1658880"/>
            </a:xfrm>
          </p:grpSpPr>
          <p:sp>
            <p:nvSpPr>
              <p:cNvPr id="5582" name=""/>
              <p:cNvSpPr/>
              <p:nvPr/>
            </p:nvSpPr>
            <p:spPr>
              <a:xfrm>
                <a:off x="3751200" y="4647960"/>
                <a:ext cx="561960" cy="765360"/>
              </a:xfrm>
              <a:custGeom>
                <a:avLst/>
                <a:gdLst/>
                <a:ahLst/>
                <a:rect l="l" t="t" r="r" b="b"/>
                <a:pathLst>
                  <a:path w="707" h="965">
                    <a:moveTo>
                      <a:pt x="0" y="965"/>
                    </a:moveTo>
                    <a:lnTo>
                      <a:pt x="707" y="0"/>
                    </a:lnTo>
                    <a:lnTo>
                      <a:pt x="707" y="0"/>
                    </a:lnTo>
                  </a:path>
                </a:pathLst>
              </a:custGeom>
              <a:solidFill>
                <a:srgbClr val="000000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2714760" y="4832280"/>
                <a:ext cx="1266840" cy="1474560"/>
                <a:chOff x="2714760" y="4832280"/>
                <a:chExt cx="1266840" cy="147456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3040200" y="4832280"/>
                  <a:ext cx="358560" cy="35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735280" y="5179680"/>
                  <a:ext cx="1246320" cy="1127160"/>
                </a:xfrm>
                <a:custGeom>
                  <a:avLst/>
                  <a:gdLst/>
                  <a:ahLst/>
                  <a:rect l="l" t="t" r="r" b="b"/>
                  <a:pathLst>
                    <a:path w="1570" h="1418">
                      <a:moveTo>
                        <a:pt x="465" y="56"/>
                      </a:moveTo>
                      <a:lnTo>
                        <a:pt x="375" y="56"/>
                      </a:lnTo>
                      <a:lnTo>
                        <a:pt x="254" y="125"/>
                      </a:lnTo>
                      <a:lnTo>
                        <a:pt x="0" y="489"/>
                      </a:lnTo>
                      <a:lnTo>
                        <a:pt x="12" y="655"/>
                      </a:lnTo>
                      <a:lnTo>
                        <a:pt x="185" y="785"/>
                      </a:lnTo>
                      <a:lnTo>
                        <a:pt x="324" y="878"/>
                      </a:lnTo>
                      <a:lnTo>
                        <a:pt x="497" y="666"/>
                      </a:lnTo>
                      <a:lnTo>
                        <a:pt x="428" y="611"/>
                      </a:lnTo>
                      <a:lnTo>
                        <a:pt x="377" y="561"/>
                      </a:lnTo>
                      <a:lnTo>
                        <a:pt x="491" y="379"/>
                      </a:lnTo>
                      <a:lnTo>
                        <a:pt x="829" y="609"/>
                      </a:lnTo>
                      <a:lnTo>
                        <a:pt x="500" y="1060"/>
                      </a:lnTo>
                      <a:lnTo>
                        <a:pt x="178" y="829"/>
                      </a:lnTo>
                      <a:lnTo>
                        <a:pt x="178" y="1110"/>
                      </a:lnTo>
                      <a:lnTo>
                        <a:pt x="227" y="1110"/>
                      </a:lnTo>
                      <a:lnTo>
                        <a:pt x="227" y="1418"/>
                      </a:lnTo>
                      <a:lnTo>
                        <a:pt x="975" y="1418"/>
                      </a:lnTo>
                      <a:lnTo>
                        <a:pt x="975" y="1112"/>
                      </a:lnTo>
                      <a:lnTo>
                        <a:pt x="1032" y="1113"/>
                      </a:lnTo>
                      <a:lnTo>
                        <a:pt x="1032" y="539"/>
                      </a:lnTo>
                      <a:lnTo>
                        <a:pt x="1098" y="588"/>
                      </a:lnTo>
                      <a:lnTo>
                        <a:pt x="1241" y="588"/>
                      </a:lnTo>
                      <a:lnTo>
                        <a:pt x="1258" y="567"/>
                      </a:lnTo>
                      <a:lnTo>
                        <a:pt x="1365" y="416"/>
                      </a:lnTo>
                      <a:lnTo>
                        <a:pt x="1570" y="156"/>
                      </a:lnTo>
                      <a:lnTo>
                        <a:pt x="1337" y="0"/>
                      </a:lnTo>
                      <a:lnTo>
                        <a:pt x="1190" y="195"/>
                      </a:lnTo>
                      <a:lnTo>
                        <a:pt x="1153" y="234"/>
                      </a:lnTo>
                      <a:lnTo>
                        <a:pt x="853" y="56"/>
                      </a:lnTo>
                      <a:lnTo>
                        <a:pt x="733" y="56"/>
                      </a:lnTo>
                      <a:lnTo>
                        <a:pt x="658" y="226"/>
                      </a:lnTo>
                      <a:lnTo>
                        <a:pt x="623" y="159"/>
                      </a:lnTo>
                      <a:lnTo>
                        <a:pt x="660" y="54"/>
                      </a:lnTo>
                      <a:lnTo>
                        <a:pt x="550" y="54"/>
                      </a:lnTo>
                      <a:lnTo>
                        <a:pt x="588" y="160"/>
                      </a:lnTo>
                      <a:lnTo>
                        <a:pt x="550" y="226"/>
                      </a:lnTo>
                      <a:lnTo>
                        <a:pt x="46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930400" y="5225760"/>
                  <a:ext cx="177840" cy="133560"/>
                </a:xfrm>
                <a:custGeom>
                  <a:avLst/>
                  <a:gdLst/>
                  <a:ahLst/>
                  <a:rect l="l" t="t" r="r" b="b"/>
                  <a:pathLst>
                    <a:path w="191" h="144">
                      <a:moveTo>
                        <a:pt x="191" y="24"/>
                      </a:moveTo>
                      <a:cubicBezTo>
                        <a:pt x="170" y="8"/>
                        <a:pt x="142" y="0"/>
                        <a:pt x="113" y="0"/>
                      </a:cubicBezTo>
                      <a:cubicBezTo>
                        <a:pt x="51" y="0"/>
                        <a:pt x="1" y="38"/>
                        <a:pt x="1" y="85"/>
                      </a:cubicBezTo>
                      <a:cubicBezTo>
                        <a:pt x="0" y="107"/>
                        <a:pt x="12" y="128"/>
                        <a:pt x="31" y="144"/>
                      </a:cubicBezTo>
                      <a:lnTo>
                        <a:pt x="113" y="86"/>
                      </a:lnTo>
                      <a:lnTo>
                        <a:pt x="19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714760" y="5546520"/>
                  <a:ext cx="142560" cy="168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3584520" y="5537160"/>
                  <a:ext cx="158760" cy="129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3760920" y="5551200"/>
              <a:ext cx="581040" cy="1033560"/>
              <a:chOff x="3760920" y="5551200"/>
              <a:chExt cx="581040" cy="1033560"/>
            </a:xfrm>
          </p:grpSpPr>
          <p:grpSp>
            <p:nvGrpSpPr>
              <p:cNvPr id="5590" name=""/>
              <p:cNvGrpSpPr/>
              <p:nvPr/>
            </p:nvGrpSpPr>
            <p:grpSpPr>
              <a:xfrm>
                <a:off x="3760920" y="5945040"/>
                <a:ext cx="581040" cy="639720"/>
                <a:chOff x="3760920" y="5945040"/>
                <a:chExt cx="581040" cy="639720"/>
              </a:xfrm>
            </p:grpSpPr>
            <p:sp>
              <p:nvSpPr>
                <p:cNvPr id="5591" name=""/>
                <p:cNvSpPr/>
                <p:nvPr/>
              </p:nvSpPr>
              <p:spPr>
                <a:xfrm>
                  <a:off x="3855960" y="5945040"/>
                  <a:ext cx="38592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376092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76092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127400" y="5945040"/>
                  <a:ext cx="21276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5" name=""/>
              <p:cNvSpPr/>
              <p:nvPr/>
            </p:nvSpPr>
            <p:spPr>
              <a:xfrm>
                <a:off x="3875040" y="5551200"/>
                <a:ext cx="3589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4386240" y="5551200"/>
              <a:ext cx="581040" cy="1033560"/>
              <a:chOff x="4386240" y="5551200"/>
              <a:chExt cx="581040" cy="1033560"/>
            </a:xfrm>
          </p:grpSpPr>
          <p:sp>
            <p:nvSpPr>
              <p:cNvPr id="5597" name=""/>
              <p:cNvSpPr/>
              <p:nvPr/>
            </p:nvSpPr>
            <p:spPr>
              <a:xfrm>
                <a:off x="4500720" y="5551200"/>
                <a:ext cx="3571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4386240" y="5945040"/>
                <a:ext cx="581040" cy="639720"/>
                <a:chOff x="4386240" y="5945040"/>
                <a:chExt cx="581040" cy="63972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479840" y="5945040"/>
                  <a:ext cx="38736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38624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38624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4751280" y="5945040"/>
                  <a:ext cx="21600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3" name=""/>
            <p:cNvGrpSpPr/>
            <p:nvPr/>
          </p:nvGrpSpPr>
          <p:grpSpPr>
            <a:xfrm>
              <a:off x="5056200" y="5537160"/>
              <a:ext cx="581040" cy="1032480"/>
              <a:chOff x="5056200" y="5537160"/>
              <a:chExt cx="581040" cy="1032480"/>
            </a:xfrm>
          </p:grpSpPr>
          <p:grpSp>
            <p:nvGrpSpPr>
              <p:cNvPr id="5604" name=""/>
              <p:cNvGrpSpPr/>
              <p:nvPr/>
            </p:nvGrpSpPr>
            <p:grpSpPr>
              <a:xfrm>
                <a:off x="5056200" y="5930640"/>
                <a:ext cx="581040" cy="639000"/>
                <a:chOff x="5056200" y="5930640"/>
                <a:chExt cx="581040" cy="6390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151240" y="5930640"/>
                  <a:ext cx="38592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05620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505620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5422680" y="5930640"/>
                  <a:ext cx="21276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5170320" y="5537160"/>
                <a:ext cx="3589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5681520" y="5537160"/>
              <a:ext cx="581040" cy="1032480"/>
              <a:chOff x="5681520" y="5537160"/>
              <a:chExt cx="581040" cy="1032480"/>
            </a:xfrm>
          </p:grpSpPr>
          <p:sp>
            <p:nvSpPr>
              <p:cNvPr id="5611" name=""/>
              <p:cNvSpPr/>
              <p:nvPr/>
            </p:nvSpPr>
            <p:spPr>
              <a:xfrm>
                <a:off x="5796000" y="5537160"/>
                <a:ext cx="3571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2" name=""/>
              <p:cNvGrpSpPr/>
              <p:nvPr/>
            </p:nvGrpSpPr>
            <p:grpSpPr>
              <a:xfrm>
                <a:off x="5681520" y="5930640"/>
                <a:ext cx="581040" cy="639000"/>
                <a:chOff x="5681520" y="5930640"/>
                <a:chExt cx="581040" cy="6390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5775120" y="5930640"/>
                  <a:ext cx="38736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568152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68152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046560" y="5930640"/>
                  <a:ext cx="21600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/>
          </p:nvPr>
        </p:nvSpPr>
        <p:spPr>
          <a:xfrm>
            <a:off x="178920" y="2216160"/>
            <a:ext cx="8820360" cy="4525920"/>
          </a:xfrm>
          <a:prstGeom prst="rect">
            <a:avLst/>
          </a:prstGeom>
          <a:solidFill>
            <a:srgbClr val="b5f3ab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ás valiosos recursos que usted puede tener para el éxito del evangelismo son los nombres de personas que pueden ser invitadas y  de personas intere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rene a su equipo de  recep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e con el coordinador de inte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oque el equipo de visitación a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 a estas personas a asistir a las reuniones y posteriormente a una clase bí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 txBox="1"/>
          <p:nvPr/>
        </p:nvSpPr>
        <p:spPr>
          <a:xfrm>
            <a:off x="2906640" y="476280"/>
            <a:ext cx="3537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btener Nombre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19" name=""/>
          <p:cNvGraphicFramePr/>
          <p:nvPr/>
        </p:nvGraphicFramePr>
        <p:xfrm>
          <a:off x="6732720" y="0"/>
          <a:ext cx="21733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0"/>
                    <a:ext cx="21733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ersonas no vendrán si no tienen conocimiento de sus reuniones. Esto se aplica a los miembros de iglesia y al público e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Importante en la public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r a cono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quienes usted quiere alcan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Si usted quiere alcanzar a todos, probablemente no llegará a ning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2" name="" descr=""/>
          <p:cNvPicPr/>
          <p:nvPr/>
        </p:nvPicPr>
        <p:blipFill>
          <a:blip r:embed="rId1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623" name=""/>
          <p:cNvSpPr txBox="1"/>
          <p:nvPr/>
        </p:nvSpPr>
        <p:spPr>
          <a:xfrm>
            <a:off x="2843280" y="404640"/>
            <a:ext cx="33084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ublic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2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49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"/>
          <p:cNvSpPr/>
          <p:nvPr/>
        </p:nvSpPr>
        <p:spPr>
          <a:xfrm>
            <a:off x="1187280" y="5734080"/>
            <a:ext cx="7417080" cy="914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6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627" name=""/>
          <p:cNvSpPr txBox="1"/>
          <p:nvPr/>
        </p:nvSpPr>
        <p:spPr>
          <a:xfrm>
            <a:off x="1258920" y="581040"/>
            <a:ext cx="64087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de la Iglesi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7632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Tanto la iglesia como las personas que lideran una serie evangelística necesitan prepararse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s esencial que usted asuma un compromiso radical con Cris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in de poder alcanzar  el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ara é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Él le dará co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2328840" y="404640"/>
            <a:ext cx="4403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eparación 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30" name=""/>
          <p:cNvGraphicFramePr/>
          <p:nvPr/>
        </p:nvGraphicFramePr>
        <p:xfrm>
          <a:off x="5580000" y="3675240"/>
          <a:ext cx="388800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675240"/>
                    <a:ext cx="38880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/>
          </p:nvPr>
        </p:nvSpPr>
        <p:spPr>
          <a:xfrm>
            <a:off x="528120" y="1600200"/>
            <a:ext cx="5699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test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compromet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so significa, capacitación y plan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2193840" y="333360"/>
            <a:ext cx="46101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o Prepara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4" name="" descr=""/>
          <p:cNvPicPr/>
          <p:nvPr/>
        </p:nvPicPr>
        <p:blipFill>
          <a:blip r:embed="rId1"/>
          <a:stretch/>
        </p:blipFill>
        <p:spPr>
          <a:xfrm>
            <a:off x="5616720" y="3398760"/>
            <a:ext cx="3527280" cy="3459240"/>
          </a:xfrm>
          <a:prstGeom prst="rect">
            <a:avLst/>
          </a:prstGeom>
          <a:ln w="0">
            <a:noFill/>
          </a:ln>
        </p:spPr>
      </p:pic>
      <p:sp>
        <p:nvSpPr>
          <p:cNvPr id="5635" name=""/>
          <p:cNvSpPr/>
          <p:nvPr/>
        </p:nvSpPr>
        <p:spPr>
          <a:xfrm>
            <a:off x="6239520" y="3654360"/>
            <a:ext cx="161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Semana S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6851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tiro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 y 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írculo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amina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Grupo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2719440" y="404640"/>
            <a:ext cx="37242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gerenci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8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457800" cy="34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"/>
          <p:cNvSpPr/>
          <p:nvPr/>
        </p:nvSpPr>
        <p:spPr>
          <a:xfrm>
            <a:off x="1403280" y="5661000"/>
            <a:ext cx="6913800" cy="9144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1979640" y="365040"/>
            <a:ext cx="553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Personal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1" name="" descr=""/>
          <p:cNvPicPr/>
          <p:nvPr/>
        </p:nvPicPr>
        <p:blipFill>
          <a:blip r:embed="rId1"/>
          <a:stretch/>
        </p:blipFill>
        <p:spPr>
          <a:xfrm>
            <a:off x="2122560" y="2421000"/>
            <a:ext cx="5329080" cy="4176720"/>
          </a:xfrm>
          <a:prstGeom prst="rect">
            <a:avLst/>
          </a:prstGeom>
          <a:ln w="0">
            <a:noFill/>
          </a:ln>
        </p:spPr>
      </p:pic>
      <p:sp>
        <p:nvSpPr>
          <p:cNvPr id="5642" name=""/>
          <p:cNvSpPr/>
          <p:nvPr/>
        </p:nvSpPr>
        <p:spPr>
          <a:xfrm>
            <a:off x="2627280" y="3811680"/>
            <a:ext cx="144360" cy="122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210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inisterios espirituales más satisfactorios es el de dar estudios bíblicos personalmente. Es una obra importante. Todo miembro debería aprender los principios de dar estudi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studio bíblico de persona a persona es uno de los principales métodos de testimonios para el cual Dios nos llamó como Crist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4" name="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422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secreto número uno es la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stablezca el estudio una vez por se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untualidad e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 txBox="1"/>
          <p:nvPr/>
        </p:nvSpPr>
        <p:spPr>
          <a:xfrm>
            <a:off x="1371600" y="260280"/>
            <a:ext cx="6400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ómo Dar Estudios Bíblic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manera Efica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3693960" y="4222800"/>
            <a:ext cx="5486040" cy="2590560"/>
            <a:chOff x="3693960" y="4222800"/>
            <a:chExt cx="5486040" cy="2590560"/>
          </a:xfrm>
        </p:grpSpPr>
        <p:pic>
          <p:nvPicPr>
            <p:cNvPr id="5648" name="" descr=""/>
            <p:cNvPicPr/>
            <p:nvPr/>
          </p:nvPicPr>
          <p:blipFill>
            <a:blip r:embed="rId1"/>
            <a:stretch/>
          </p:blipFill>
          <p:spPr>
            <a:xfrm>
              <a:off x="3693960" y="4222800"/>
              <a:ext cx="54860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9" name="" descr=""/>
            <p:cNvPicPr/>
            <p:nvPr/>
          </p:nvPicPr>
          <p:blipFill>
            <a:blip r:embed="rId2"/>
            <a:stretch/>
          </p:blipFill>
          <p:spPr>
            <a:xfrm>
              <a:off x="3693960" y="5682960"/>
              <a:ext cx="70020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855800"/>
            <a:ext cx="8435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or tanto, id y haced discípulos a todas las naciones, bautizándolos en el Nombre del Padre, del Hijo y del Espíritu Santo, enseñándoles que guarden todo lo que os he mandado. Y yo estoy con vosotros todos los días, hasta el fin del mundo".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ateo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8:18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476280"/>
            <a:ext cx="5742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omisión Evangél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"/>
          <p:cNvSpPr/>
          <p:nvPr/>
        </p:nvSpPr>
        <p:spPr>
          <a:xfrm>
            <a:off x="250920" y="189000"/>
            <a:ext cx="8675640" cy="47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icie una amistad con el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ga un llamado al final de cada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é su testimonio personal de su co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ogio, apoyo y aceptació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ortantes en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50920" y="4149720"/>
            <a:ext cx="8496360" cy="184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Trabajar en parejas, es el me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edio. Mientras una enseñ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tra 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2" name=""/>
          <p:cNvGrpSpPr/>
          <p:nvPr/>
        </p:nvGrpSpPr>
        <p:grpSpPr>
          <a:xfrm>
            <a:off x="6545160" y="2852640"/>
            <a:ext cx="2419200" cy="3817800"/>
            <a:chOff x="6545160" y="2852640"/>
            <a:chExt cx="2419200" cy="3817800"/>
          </a:xfrm>
        </p:grpSpPr>
        <p:grpSp>
          <p:nvGrpSpPr>
            <p:cNvPr id="5653" name=""/>
            <p:cNvGrpSpPr/>
            <p:nvPr/>
          </p:nvGrpSpPr>
          <p:grpSpPr>
            <a:xfrm>
              <a:off x="6545160" y="2852640"/>
              <a:ext cx="1832040" cy="3748320"/>
              <a:chOff x="6545160" y="2852640"/>
              <a:chExt cx="1832040" cy="3748320"/>
            </a:xfrm>
          </p:grpSpPr>
          <p:sp>
            <p:nvSpPr>
              <p:cNvPr id="5654" name=""/>
              <p:cNvSpPr/>
              <p:nvPr/>
            </p:nvSpPr>
            <p:spPr>
              <a:xfrm>
                <a:off x="6545160" y="2852640"/>
                <a:ext cx="1832040" cy="3748320"/>
              </a:xfrm>
              <a:custGeom>
                <a:avLst/>
                <a:gdLst/>
                <a:ahLst/>
                <a:rect l="l" t="t" r="r" b="b"/>
                <a:pathLst>
                  <a:path w="1152" h="2508">
                    <a:moveTo>
                      <a:pt x="502" y="1188"/>
                    </a:moveTo>
                    <a:lnTo>
                      <a:pt x="460" y="1197"/>
                    </a:lnTo>
                    <a:lnTo>
                      <a:pt x="408" y="1210"/>
                    </a:lnTo>
                    <a:lnTo>
                      <a:pt x="350" y="1223"/>
                    </a:lnTo>
                    <a:lnTo>
                      <a:pt x="294" y="1233"/>
                    </a:lnTo>
                    <a:lnTo>
                      <a:pt x="284" y="1233"/>
                    </a:lnTo>
                    <a:lnTo>
                      <a:pt x="277" y="1231"/>
                    </a:lnTo>
                    <a:lnTo>
                      <a:pt x="271" y="1228"/>
                    </a:lnTo>
                    <a:lnTo>
                      <a:pt x="264" y="1223"/>
                    </a:lnTo>
                    <a:lnTo>
                      <a:pt x="261" y="1217"/>
                    </a:lnTo>
                    <a:lnTo>
                      <a:pt x="257" y="1210"/>
                    </a:lnTo>
                    <a:lnTo>
                      <a:pt x="256" y="1201"/>
                    </a:lnTo>
                    <a:lnTo>
                      <a:pt x="255" y="1193"/>
                    </a:lnTo>
                    <a:lnTo>
                      <a:pt x="245" y="1193"/>
                    </a:lnTo>
                    <a:lnTo>
                      <a:pt x="234" y="1195"/>
                    </a:lnTo>
                    <a:lnTo>
                      <a:pt x="223" y="1199"/>
                    </a:lnTo>
                    <a:lnTo>
                      <a:pt x="219" y="1201"/>
                    </a:lnTo>
                    <a:lnTo>
                      <a:pt x="215" y="1205"/>
                    </a:lnTo>
                    <a:lnTo>
                      <a:pt x="208" y="1207"/>
                    </a:lnTo>
                    <a:lnTo>
                      <a:pt x="198" y="1207"/>
                    </a:lnTo>
                    <a:lnTo>
                      <a:pt x="189" y="1208"/>
                    </a:lnTo>
                    <a:lnTo>
                      <a:pt x="170" y="1213"/>
                    </a:lnTo>
                    <a:lnTo>
                      <a:pt x="153" y="1219"/>
                    </a:lnTo>
                    <a:lnTo>
                      <a:pt x="136" y="1227"/>
                    </a:lnTo>
                    <a:lnTo>
                      <a:pt x="102" y="1241"/>
                    </a:lnTo>
                    <a:lnTo>
                      <a:pt x="83" y="1247"/>
                    </a:lnTo>
                    <a:lnTo>
                      <a:pt x="64" y="1251"/>
                    </a:lnTo>
                    <a:lnTo>
                      <a:pt x="59" y="1251"/>
                    </a:lnTo>
                    <a:lnTo>
                      <a:pt x="55" y="1249"/>
                    </a:lnTo>
                    <a:lnTo>
                      <a:pt x="54" y="1245"/>
                    </a:lnTo>
                    <a:lnTo>
                      <a:pt x="53" y="1239"/>
                    </a:lnTo>
                    <a:lnTo>
                      <a:pt x="47" y="1240"/>
                    </a:lnTo>
                    <a:lnTo>
                      <a:pt x="42" y="1241"/>
                    </a:lnTo>
                    <a:lnTo>
                      <a:pt x="31" y="1244"/>
                    </a:lnTo>
                    <a:lnTo>
                      <a:pt x="24" y="1242"/>
                    </a:lnTo>
                    <a:lnTo>
                      <a:pt x="22" y="1240"/>
                    </a:lnTo>
                    <a:lnTo>
                      <a:pt x="20" y="1236"/>
                    </a:lnTo>
                    <a:lnTo>
                      <a:pt x="18" y="1230"/>
                    </a:lnTo>
                    <a:lnTo>
                      <a:pt x="12" y="1229"/>
                    </a:lnTo>
                    <a:lnTo>
                      <a:pt x="9" y="1227"/>
                    </a:lnTo>
                    <a:lnTo>
                      <a:pt x="5" y="1224"/>
                    </a:lnTo>
                    <a:lnTo>
                      <a:pt x="2" y="1221"/>
                    </a:lnTo>
                    <a:lnTo>
                      <a:pt x="1" y="1216"/>
                    </a:lnTo>
                    <a:lnTo>
                      <a:pt x="2" y="1211"/>
                    </a:lnTo>
                    <a:lnTo>
                      <a:pt x="4" y="1206"/>
                    </a:lnTo>
                    <a:lnTo>
                      <a:pt x="6" y="1201"/>
                    </a:lnTo>
                    <a:lnTo>
                      <a:pt x="5" y="1199"/>
                    </a:lnTo>
                    <a:lnTo>
                      <a:pt x="0" y="1195"/>
                    </a:lnTo>
                    <a:lnTo>
                      <a:pt x="0" y="1188"/>
                    </a:lnTo>
                    <a:lnTo>
                      <a:pt x="1" y="1182"/>
                    </a:lnTo>
                    <a:lnTo>
                      <a:pt x="4" y="1176"/>
                    </a:lnTo>
                    <a:lnTo>
                      <a:pt x="6" y="1169"/>
                    </a:lnTo>
                    <a:lnTo>
                      <a:pt x="13" y="1158"/>
                    </a:lnTo>
                    <a:lnTo>
                      <a:pt x="22" y="1148"/>
                    </a:lnTo>
                    <a:lnTo>
                      <a:pt x="38" y="1135"/>
                    </a:lnTo>
                    <a:lnTo>
                      <a:pt x="54" y="1124"/>
                    </a:lnTo>
                    <a:lnTo>
                      <a:pt x="70" y="1113"/>
                    </a:lnTo>
                    <a:lnTo>
                      <a:pt x="86" y="1101"/>
                    </a:lnTo>
                    <a:lnTo>
                      <a:pt x="78" y="1099"/>
                    </a:lnTo>
                    <a:lnTo>
                      <a:pt x="71" y="1096"/>
                    </a:lnTo>
                    <a:lnTo>
                      <a:pt x="67" y="1093"/>
                    </a:lnTo>
                    <a:lnTo>
                      <a:pt x="64" y="1088"/>
                    </a:lnTo>
                    <a:lnTo>
                      <a:pt x="61" y="1087"/>
                    </a:lnTo>
                    <a:lnTo>
                      <a:pt x="59" y="1082"/>
                    </a:lnTo>
                    <a:lnTo>
                      <a:pt x="59" y="1077"/>
                    </a:lnTo>
                    <a:lnTo>
                      <a:pt x="61" y="1072"/>
                    </a:lnTo>
                    <a:lnTo>
                      <a:pt x="64" y="1070"/>
                    </a:lnTo>
                    <a:lnTo>
                      <a:pt x="82" y="1065"/>
                    </a:lnTo>
                    <a:lnTo>
                      <a:pt x="100" y="1061"/>
                    </a:lnTo>
                    <a:lnTo>
                      <a:pt x="120" y="1057"/>
                    </a:lnTo>
                    <a:lnTo>
                      <a:pt x="138" y="1055"/>
                    </a:lnTo>
                    <a:lnTo>
                      <a:pt x="158" y="1054"/>
                    </a:lnTo>
                    <a:lnTo>
                      <a:pt x="178" y="1054"/>
                    </a:lnTo>
                    <a:lnTo>
                      <a:pt x="197" y="1054"/>
                    </a:lnTo>
                    <a:lnTo>
                      <a:pt x="215" y="1055"/>
                    </a:lnTo>
                    <a:lnTo>
                      <a:pt x="218" y="1054"/>
                    </a:lnTo>
                    <a:lnTo>
                      <a:pt x="262" y="1043"/>
                    </a:lnTo>
                    <a:lnTo>
                      <a:pt x="285" y="1037"/>
                    </a:lnTo>
                    <a:lnTo>
                      <a:pt x="306" y="1027"/>
                    </a:lnTo>
                    <a:lnTo>
                      <a:pt x="345" y="1015"/>
                    </a:lnTo>
                    <a:lnTo>
                      <a:pt x="381" y="1001"/>
                    </a:lnTo>
                    <a:lnTo>
                      <a:pt x="377" y="993"/>
                    </a:lnTo>
                    <a:lnTo>
                      <a:pt x="377" y="982"/>
                    </a:lnTo>
                    <a:lnTo>
                      <a:pt x="378" y="971"/>
                    </a:lnTo>
                    <a:lnTo>
                      <a:pt x="382" y="961"/>
                    </a:lnTo>
                    <a:lnTo>
                      <a:pt x="394" y="942"/>
                    </a:lnTo>
                    <a:lnTo>
                      <a:pt x="408" y="922"/>
                    </a:lnTo>
                    <a:lnTo>
                      <a:pt x="425" y="903"/>
                    </a:lnTo>
                    <a:lnTo>
                      <a:pt x="444" y="883"/>
                    </a:lnTo>
                    <a:lnTo>
                      <a:pt x="449" y="842"/>
                    </a:lnTo>
                    <a:lnTo>
                      <a:pt x="453" y="801"/>
                    </a:lnTo>
                    <a:lnTo>
                      <a:pt x="455" y="716"/>
                    </a:lnTo>
                    <a:lnTo>
                      <a:pt x="458" y="673"/>
                    </a:lnTo>
                    <a:lnTo>
                      <a:pt x="459" y="652"/>
                    </a:lnTo>
                    <a:lnTo>
                      <a:pt x="463" y="632"/>
                    </a:lnTo>
                    <a:lnTo>
                      <a:pt x="466" y="611"/>
                    </a:lnTo>
                    <a:lnTo>
                      <a:pt x="471" y="591"/>
                    </a:lnTo>
                    <a:lnTo>
                      <a:pt x="477" y="572"/>
                    </a:lnTo>
                    <a:lnTo>
                      <a:pt x="485" y="554"/>
                    </a:lnTo>
                    <a:lnTo>
                      <a:pt x="503" y="543"/>
                    </a:lnTo>
                    <a:lnTo>
                      <a:pt x="522" y="533"/>
                    </a:lnTo>
                    <a:lnTo>
                      <a:pt x="562" y="516"/>
                    </a:lnTo>
                    <a:lnTo>
                      <a:pt x="601" y="499"/>
                    </a:lnTo>
                    <a:lnTo>
                      <a:pt x="619" y="489"/>
                    </a:lnTo>
                    <a:lnTo>
                      <a:pt x="635" y="477"/>
                    </a:lnTo>
                    <a:lnTo>
                      <a:pt x="641" y="466"/>
                    </a:lnTo>
                    <a:lnTo>
                      <a:pt x="648" y="453"/>
                    </a:lnTo>
                    <a:lnTo>
                      <a:pt x="628" y="450"/>
                    </a:lnTo>
                    <a:lnTo>
                      <a:pt x="604" y="444"/>
                    </a:lnTo>
                    <a:lnTo>
                      <a:pt x="591" y="441"/>
                    </a:lnTo>
                    <a:lnTo>
                      <a:pt x="580" y="436"/>
                    </a:lnTo>
                    <a:lnTo>
                      <a:pt x="573" y="430"/>
                    </a:lnTo>
                    <a:lnTo>
                      <a:pt x="570" y="426"/>
                    </a:lnTo>
                    <a:lnTo>
                      <a:pt x="570" y="422"/>
                    </a:lnTo>
                    <a:lnTo>
                      <a:pt x="569" y="406"/>
                    </a:lnTo>
                    <a:lnTo>
                      <a:pt x="570" y="389"/>
                    </a:lnTo>
                    <a:lnTo>
                      <a:pt x="574" y="358"/>
                    </a:lnTo>
                    <a:lnTo>
                      <a:pt x="575" y="341"/>
                    </a:lnTo>
                    <a:lnTo>
                      <a:pt x="575" y="322"/>
                    </a:lnTo>
                    <a:lnTo>
                      <a:pt x="574" y="290"/>
                    </a:lnTo>
                    <a:lnTo>
                      <a:pt x="573" y="257"/>
                    </a:lnTo>
                    <a:lnTo>
                      <a:pt x="574" y="241"/>
                    </a:lnTo>
                    <a:lnTo>
                      <a:pt x="578" y="224"/>
                    </a:lnTo>
                    <a:lnTo>
                      <a:pt x="582" y="219"/>
                    </a:lnTo>
                    <a:lnTo>
                      <a:pt x="586" y="214"/>
                    </a:lnTo>
                    <a:lnTo>
                      <a:pt x="582" y="209"/>
                    </a:lnTo>
                    <a:lnTo>
                      <a:pt x="577" y="206"/>
                    </a:lnTo>
                    <a:lnTo>
                      <a:pt x="573" y="202"/>
                    </a:lnTo>
                    <a:lnTo>
                      <a:pt x="569" y="196"/>
                    </a:lnTo>
                    <a:lnTo>
                      <a:pt x="570" y="176"/>
                    </a:lnTo>
                    <a:lnTo>
                      <a:pt x="573" y="156"/>
                    </a:lnTo>
                    <a:lnTo>
                      <a:pt x="577" y="134"/>
                    </a:lnTo>
                    <a:lnTo>
                      <a:pt x="583" y="114"/>
                    </a:lnTo>
                    <a:lnTo>
                      <a:pt x="575" y="99"/>
                    </a:lnTo>
                    <a:lnTo>
                      <a:pt x="568" y="80"/>
                    </a:lnTo>
                    <a:lnTo>
                      <a:pt x="566" y="61"/>
                    </a:lnTo>
                    <a:lnTo>
                      <a:pt x="566" y="51"/>
                    </a:lnTo>
                    <a:lnTo>
                      <a:pt x="567" y="41"/>
                    </a:lnTo>
                    <a:lnTo>
                      <a:pt x="570" y="37"/>
                    </a:lnTo>
                    <a:lnTo>
                      <a:pt x="573" y="32"/>
                    </a:lnTo>
                    <a:lnTo>
                      <a:pt x="580" y="24"/>
                    </a:lnTo>
                    <a:lnTo>
                      <a:pt x="585" y="21"/>
                    </a:lnTo>
                    <a:lnTo>
                      <a:pt x="590" y="19"/>
                    </a:lnTo>
                    <a:lnTo>
                      <a:pt x="596" y="18"/>
                    </a:lnTo>
                    <a:lnTo>
                      <a:pt x="601" y="17"/>
                    </a:lnTo>
                    <a:lnTo>
                      <a:pt x="613" y="17"/>
                    </a:lnTo>
                    <a:lnTo>
                      <a:pt x="624" y="17"/>
                    </a:lnTo>
                    <a:lnTo>
                      <a:pt x="645" y="21"/>
                    </a:lnTo>
                    <a:lnTo>
                      <a:pt x="664" y="15"/>
                    </a:lnTo>
                    <a:lnTo>
                      <a:pt x="682" y="10"/>
                    </a:lnTo>
                    <a:lnTo>
                      <a:pt x="700" y="5"/>
                    </a:lnTo>
                    <a:lnTo>
                      <a:pt x="719" y="2"/>
                    </a:lnTo>
                    <a:lnTo>
                      <a:pt x="737" y="0"/>
                    </a:lnTo>
                    <a:lnTo>
                      <a:pt x="757" y="0"/>
                    </a:lnTo>
                    <a:lnTo>
                      <a:pt x="775" y="1"/>
                    </a:lnTo>
                    <a:lnTo>
                      <a:pt x="793" y="2"/>
                    </a:lnTo>
                    <a:lnTo>
                      <a:pt x="796" y="4"/>
                    </a:lnTo>
                    <a:lnTo>
                      <a:pt x="799" y="5"/>
                    </a:lnTo>
                    <a:lnTo>
                      <a:pt x="808" y="7"/>
                    </a:lnTo>
                    <a:lnTo>
                      <a:pt x="814" y="12"/>
                    </a:lnTo>
                    <a:lnTo>
                      <a:pt x="820" y="16"/>
                    </a:lnTo>
                    <a:lnTo>
                      <a:pt x="830" y="27"/>
                    </a:lnTo>
                    <a:lnTo>
                      <a:pt x="839" y="38"/>
                    </a:lnTo>
                    <a:lnTo>
                      <a:pt x="846" y="51"/>
                    </a:lnTo>
                    <a:lnTo>
                      <a:pt x="852" y="66"/>
                    </a:lnTo>
                    <a:lnTo>
                      <a:pt x="857" y="80"/>
                    </a:lnTo>
                    <a:lnTo>
                      <a:pt x="862" y="95"/>
                    </a:lnTo>
                    <a:lnTo>
                      <a:pt x="864" y="112"/>
                    </a:lnTo>
                    <a:lnTo>
                      <a:pt x="875" y="110"/>
                    </a:lnTo>
                    <a:lnTo>
                      <a:pt x="880" y="110"/>
                    </a:lnTo>
                    <a:lnTo>
                      <a:pt x="886" y="112"/>
                    </a:lnTo>
                    <a:lnTo>
                      <a:pt x="896" y="114"/>
                    </a:lnTo>
                    <a:lnTo>
                      <a:pt x="905" y="120"/>
                    </a:lnTo>
                    <a:lnTo>
                      <a:pt x="913" y="129"/>
                    </a:lnTo>
                    <a:lnTo>
                      <a:pt x="921" y="139"/>
                    </a:lnTo>
                    <a:lnTo>
                      <a:pt x="923" y="144"/>
                    </a:lnTo>
                    <a:lnTo>
                      <a:pt x="924" y="150"/>
                    </a:lnTo>
                    <a:lnTo>
                      <a:pt x="927" y="155"/>
                    </a:lnTo>
                    <a:lnTo>
                      <a:pt x="927" y="161"/>
                    </a:lnTo>
                    <a:lnTo>
                      <a:pt x="917" y="163"/>
                    </a:lnTo>
                    <a:lnTo>
                      <a:pt x="919" y="174"/>
                    </a:lnTo>
                    <a:lnTo>
                      <a:pt x="921" y="183"/>
                    </a:lnTo>
                    <a:lnTo>
                      <a:pt x="922" y="192"/>
                    </a:lnTo>
                    <a:lnTo>
                      <a:pt x="922" y="213"/>
                    </a:lnTo>
                    <a:lnTo>
                      <a:pt x="919" y="223"/>
                    </a:lnTo>
                    <a:lnTo>
                      <a:pt x="917" y="232"/>
                    </a:lnTo>
                    <a:lnTo>
                      <a:pt x="905" y="249"/>
                    </a:lnTo>
                    <a:lnTo>
                      <a:pt x="894" y="266"/>
                    </a:lnTo>
                    <a:lnTo>
                      <a:pt x="866" y="298"/>
                    </a:lnTo>
                    <a:lnTo>
                      <a:pt x="863" y="305"/>
                    </a:lnTo>
                    <a:lnTo>
                      <a:pt x="858" y="312"/>
                    </a:lnTo>
                    <a:lnTo>
                      <a:pt x="848" y="321"/>
                    </a:lnTo>
                    <a:lnTo>
                      <a:pt x="836" y="327"/>
                    </a:lnTo>
                    <a:lnTo>
                      <a:pt x="824" y="333"/>
                    </a:lnTo>
                    <a:lnTo>
                      <a:pt x="823" y="350"/>
                    </a:lnTo>
                    <a:lnTo>
                      <a:pt x="823" y="367"/>
                    </a:lnTo>
                    <a:lnTo>
                      <a:pt x="823" y="386"/>
                    </a:lnTo>
                    <a:lnTo>
                      <a:pt x="821" y="404"/>
                    </a:lnTo>
                    <a:lnTo>
                      <a:pt x="828" y="408"/>
                    </a:lnTo>
                    <a:lnTo>
                      <a:pt x="829" y="410"/>
                    </a:lnTo>
                    <a:lnTo>
                      <a:pt x="832" y="414"/>
                    </a:lnTo>
                    <a:lnTo>
                      <a:pt x="834" y="417"/>
                    </a:lnTo>
                    <a:lnTo>
                      <a:pt x="834" y="422"/>
                    </a:lnTo>
                    <a:lnTo>
                      <a:pt x="834" y="432"/>
                    </a:lnTo>
                    <a:lnTo>
                      <a:pt x="835" y="442"/>
                    </a:lnTo>
                    <a:lnTo>
                      <a:pt x="836" y="450"/>
                    </a:lnTo>
                    <a:lnTo>
                      <a:pt x="864" y="465"/>
                    </a:lnTo>
                    <a:lnTo>
                      <a:pt x="894" y="477"/>
                    </a:lnTo>
                    <a:lnTo>
                      <a:pt x="955" y="498"/>
                    </a:lnTo>
                    <a:lnTo>
                      <a:pt x="986" y="509"/>
                    </a:lnTo>
                    <a:lnTo>
                      <a:pt x="1000" y="515"/>
                    </a:lnTo>
                    <a:lnTo>
                      <a:pt x="1014" y="522"/>
                    </a:lnTo>
                    <a:lnTo>
                      <a:pt x="1027" y="531"/>
                    </a:lnTo>
                    <a:lnTo>
                      <a:pt x="1041" y="539"/>
                    </a:lnTo>
                    <a:lnTo>
                      <a:pt x="1052" y="549"/>
                    </a:lnTo>
                    <a:lnTo>
                      <a:pt x="1063" y="559"/>
                    </a:lnTo>
                    <a:lnTo>
                      <a:pt x="1082" y="604"/>
                    </a:lnTo>
                    <a:lnTo>
                      <a:pt x="1091" y="627"/>
                    </a:lnTo>
                    <a:lnTo>
                      <a:pt x="1098" y="650"/>
                    </a:lnTo>
                    <a:lnTo>
                      <a:pt x="1105" y="673"/>
                    </a:lnTo>
                    <a:lnTo>
                      <a:pt x="1113" y="696"/>
                    </a:lnTo>
                    <a:lnTo>
                      <a:pt x="1124" y="744"/>
                    </a:lnTo>
                    <a:lnTo>
                      <a:pt x="1129" y="768"/>
                    </a:lnTo>
                    <a:lnTo>
                      <a:pt x="1134" y="791"/>
                    </a:lnTo>
                    <a:lnTo>
                      <a:pt x="1140" y="838"/>
                    </a:lnTo>
                    <a:lnTo>
                      <a:pt x="1146" y="886"/>
                    </a:lnTo>
                    <a:lnTo>
                      <a:pt x="1150" y="933"/>
                    </a:lnTo>
                    <a:lnTo>
                      <a:pt x="1151" y="960"/>
                    </a:lnTo>
                    <a:lnTo>
                      <a:pt x="1152" y="986"/>
                    </a:lnTo>
                    <a:lnTo>
                      <a:pt x="1152" y="1039"/>
                    </a:lnTo>
                    <a:lnTo>
                      <a:pt x="1148" y="1093"/>
                    </a:lnTo>
                    <a:lnTo>
                      <a:pt x="1143" y="1145"/>
                    </a:lnTo>
                    <a:lnTo>
                      <a:pt x="1130" y="1249"/>
                    </a:lnTo>
                    <a:lnTo>
                      <a:pt x="1114" y="1351"/>
                    </a:lnTo>
                    <a:lnTo>
                      <a:pt x="1108" y="1352"/>
                    </a:lnTo>
                    <a:lnTo>
                      <a:pt x="1107" y="1393"/>
                    </a:lnTo>
                    <a:lnTo>
                      <a:pt x="1108" y="1435"/>
                    </a:lnTo>
                    <a:lnTo>
                      <a:pt x="1110" y="1477"/>
                    </a:lnTo>
                    <a:lnTo>
                      <a:pt x="1116" y="1519"/>
                    </a:lnTo>
                    <a:lnTo>
                      <a:pt x="1114" y="1525"/>
                    </a:lnTo>
                    <a:lnTo>
                      <a:pt x="1110" y="1531"/>
                    </a:lnTo>
                    <a:lnTo>
                      <a:pt x="1099" y="1539"/>
                    </a:lnTo>
                    <a:lnTo>
                      <a:pt x="1094" y="1548"/>
                    </a:lnTo>
                    <a:lnTo>
                      <a:pt x="1088" y="1554"/>
                    </a:lnTo>
                    <a:lnTo>
                      <a:pt x="1081" y="1559"/>
                    </a:lnTo>
                    <a:lnTo>
                      <a:pt x="1072" y="1561"/>
                    </a:lnTo>
                    <a:lnTo>
                      <a:pt x="1066" y="1573"/>
                    </a:lnTo>
                    <a:lnTo>
                      <a:pt x="1057" y="1584"/>
                    </a:lnTo>
                    <a:lnTo>
                      <a:pt x="1052" y="1588"/>
                    </a:lnTo>
                    <a:lnTo>
                      <a:pt x="1045" y="1590"/>
                    </a:lnTo>
                    <a:lnTo>
                      <a:pt x="1039" y="1592"/>
                    </a:lnTo>
                    <a:lnTo>
                      <a:pt x="1032" y="1590"/>
                    </a:lnTo>
                    <a:lnTo>
                      <a:pt x="1028" y="1587"/>
                    </a:lnTo>
                    <a:lnTo>
                      <a:pt x="1027" y="1584"/>
                    </a:lnTo>
                    <a:lnTo>
                      <a:pt x="1023" y="1583"/>
                    </a:lnTo>
                    <a:lnTo>
                      <a:pt x="1017" y="1584"/>
                    </a:lnTo>
                    <a:lnTo>
                      <a:pt x="1011" y="1586"/>
                    </a:lnTo>
                    <a:lnTo>
                      <a:pt x="1008" y="1586"/>
                    </a:lnTo>
                    <a:lnTo>
                      <a:pt x="1003" y="1584"/>
                    </a:lnTo>
                    <a:lnTo>
                      <a:pt x="997" y="1578"/>
                    </a:lnTo>
                    <a:lnTo>
                      <a:pt x="993" y="1570"/>
                    </a:lnTo>
                    <a:lnTo>
                      <a:pt x="990" y="1560"/>
                    </a:lnTo>
                    <a:lnTo>
                      <a:pt x="990" y="1550"/>
                    </a:lnTo>
                    <a:lnTo>
                      <a:pt x="988" y="1531"/>
                    </a:lnTo>
                    <a:lnTo>
                      <a:pt x="972" y="1538"/>
                    </a:lnTo>
                    <a:lnTo>
                      <a:pt x="972" y="1584"/>
                    </a:lnTo>
                    <a:lnTo>
                      <a:pt x="971" y="1721"/>
                    </a:lnTo>
                    <a:lnTo>
                      <a:pt x="968" y="1855"/>
                    </a:lnTo>
                    <a:lnTo>
                      <a:pt x="967" y="1988"/>
                    </a:lnTo>
                    <a:lnTo>
                      <a:pt x="965" y="2054"/>
                    </a:lnTo>
                    <a:lnTo>
                      <a:pt x="961" y="2121"/>
                    </a:lnTo>
                    <a:lnTo>
                      <a:pt x="971" y="2177"/>
                    </a:lnTo>
                    <a:lnTo>
                      <a:pt x="977" y="2232"/>
                    </a:lnTo>
                    <a:lnTo>
                      <a:pt x="986" y="2343"/>
                    </a:lnTo>
                    <a:lnTo>
                      <a:pt x="1011" y="2369"/>
                    </a:lnTo>
                    <a:lnTo>
                      <a:pt x="1038" y="2394"/>
                    </a:lnTo>
                    <a:lnTo>
                      <a:pt x="1060" y="2396"/>
                    </a:lnTo>
                    <a:lnTo>
                      <a:pt x="1079" y="2398"/>
                    </a:lnTo>
                    <a:lnTo>
                      <a:pt x="1092" y="2403"/>
                    </a:lnTo>
                    <a:lnTo>
                      <a:pt x="1103" y="2408"/>
                    </a:lnTo>
                    <a:lnTo>
                      <a:pt x="1112" y="2414"/>
                    </a:lnTo>
                    <a:lnTo>
                      <a:pt x="1118" y="2422"/>
                    </a:lnTo>
                    <a:lnTo>
                      <a:pt x="1120" y="2428"/>
                    </a:lnTo>
                    <a:lnTo>
                      <a:pt x="1121" y="2437"/>
                    </a:lnTo>
                    <a:lnTo>
                      <a:pt x="1125" y="2437"/>
                    </a:lnTo>
                    <a:lnTo>
                      <a:pt x="1128" y="2439"/>
                    </a:lnTo>
                    <a:lnTo>
                      <a:pt x="1128" y="2451"/>
                    </a:lnTo>
                    <a:lnTo>
                      <a:pt x="1128" y="2457"/>
                    </a:lnTo>
                    <a:lnTo>
                      <a:pt x="1128" y="2463"/>
                    </a:lnTo>
                    <a:lnTo>
                      <a:pt x="1120" y="2471"/>
                    </a:lnTo>
                    <a:lnTo>
                      <a:pt x="1110" y="2479"/>
                    </a:lnTo>
                    <a:lnTo>
                      <a:pt x="1101" y="2485"/>
                    </a:lnTo>
                    <a:lnTo>
                      <a:pt x="1090" y="2490"/>
                    </a:lnTo>
                    <a:lnTo>
                      <a:pt x="1079" y="2493"/>
                    </a:lnTo>
                    <a:lnTo>
                      <a:pt x="1066" y="2497"/>
                    </a:lnTo>
                    <a:lnTo>
                      <a:pt x="1041" y="2504"/>
                    </a:lnTo>
                    <a:lnTo>
                      <a:pt x="1027" y="2506"/>
                    </a:lnTo>
                    <a:lnTo>
                      <a:pt x="1014" y="2508"/>
                    </a:lnTo>
                    <a:lnTo>
                      <a:pt x="986" y="2508"/>
                    </a:lnTo>
                    <a:lnTo>
                      <a:pt x="983" y="2508"/>
                    </a:lnTo>
                    <a:lnTo>
                      <a:pt x="962" y="2504"/>
                    </a:lnTo>
                    <a:lnTo>
                      <a:pt x="941" y="2498"/>
                    </a:lnTo>
                    <a:lnTo>
                      <a:pt x="921" y="2490"/>
                    </a:lnTo>
                    <a:lnTo>
                      <a:pt x="911" y="2484"/>
                    </a:lnTo>
                    <a:lnTo>
                      <a:pt x="902" y="2478"/>
                    </a:lnTo>
                    <a:lnTo>
                      <a:pt x="888" y="2482"/>
                    </a:lnTo>
                    <a:lnTo>
                      <a:pt x="883" y="2484"/>
                    </a:lnTo>
                    <a:lnTo>
                      <a:pt x="870" y="2484"/>
                    </a:lnTo>
                    <a:lnTo>
                      <a:pt x="850" y="2476"/>
                    </a:lnTo>
                    <a:lnTo>
                      <a:pt x="824" y="2467"/>
                    </a:lnTo>
                    <a:lnTo>
                      <a:pt x="782" y="2448"/>
                    </a:lnTo>
                    <a:lnTo>
                      <a:pt x="717" y="2448"/>
                    </a:lnTo>
                    <a:lnTo>
                      <a:pt x="716" y="2445"/>
                    </a:lnTo>
                    <a:lnTo>
                      <a:pt x="715" y="2439"/>
                    </a:lnTo>
                    <a:lnTo>
                      <a:pt x="709" y="2437"/>
                    </a:lnTo>
                    <a:lnTo>
                      <a:pt x="695" y="2445"/>
                    </a:lnTo>
                    <a:lnTo>
                      <a:pt x="681" y="2451"/>
                    </a:lnTo>
                    <a:lnTo>
                      <a:pt x="665" y="2456"/>
                    </a:lnTo>
                    <a:lnTo>
                      <a:pt x="650" y="2461"/>
                    </a:lnTo>
                    <a:lnTo>
                      <a:pt x="618" y="2467"/>
                    </a:lnTo>
                    <a:lnTo>
                      <a:pt x="585" y="2470"/>
                    </a:lnTo>
                    <a:lnTo>
                      <a:pt x="553" y="2470"/>
                    </a:lnTo>
                    <a:lnTo>
                      <a:pt x="522" y="2470"/>
                    </a:lnTo>
                    <a:lnTo>
                      <a:pt x="490" y="2468"/>
                    </a:lnTo>
                    <a:lnTo>
                      <a:pt x="462" y="2464"/>
                    </a:lnTo>
                    <a:lnTo>
                      <a:pt x="453" y="2462"/>
                    </a:lnTo>
                    <a:lnTo>
                      <a:pt x="447" y="2459"/>
                    </a:lnTo>
                    <a:lnTo>
                      <a:pt x="442" y="2457"/>
                    </a:lnTo>
                    <a:lnTo>
                      <a:pt x="437" y="2452"/>
                    </a:lnTo>
                    <a:lnTo>
                      <a:pt x="435" y="2447"/>
                    </a:lnTo>
                    <a:lnTo>
                      <a:pt x="436" y="2440"/>
                    </a:lnTo>
                    <a:lnTo>
                      <a:pt x="438" y="2433"/>
                    </a:lnTo>
                    <a:lnTo>
                      <a:pt x="444" y="2430"/>
                    </a:lnTo>
                    <a:lnTo>
                      <a:pt x="449" y="2428"/>
                    </a:lnTo>
                    <a:lnTo>
                      <a:pt x="453" y="2407"/>
                    </a:lnTo>
                    <a:lnTo>
                      <a:pt x="454" y="2397"/>
                    </a:lnTo>
                    <a:lnTo>
                      <a:pt x="459" y="2388"/>
                    </a:lnTo>
                    <a:lnTo>
                      <a:pt x="463" y="2385"/>
                    </a:lnTo>
                    <a:lnTo>
                      <a:pt x="470" y="2383"/>
                    </a:lnTo>
                    <a:lnTo>
                      <a:pt x="504" y="2378"/>
                    </a:lnTo>
                    <a:lnTo>
                      <a:pt x="539" y="2375"/>
                    </a:lnTo>
                    <a:lnTo>
                      <a:pt x="558" y="2351"/>
                    </a:lnTo>
                    <a:lnTo>
                      <a:pt x="578" y="2327"/>
                    </a:lnTo>
                    <a:lnTo>
                      <a:pt x="577" y="2324"/>
                    </a:lnTo>
                    <a:lnTo>
                      <a:pt x="577" y="2321"/>
                    </a:lnTo>
                    <a:lnTo>
                      <a:pt x="586" y="2301"/>
                    </a:lnTo>
                    <a:lnTo>
                      <a:pt x="597" y="2280"/>
                    </a:lnTo>
                    <a:lnTo>
                      <a:pt x="599" y="2255"/>
                    </a:lnTo>
                    <a:lnTo>
                      <a:pt x="591" y="2154"/>
                    </a:lnTo>
                    <a:lnTo>
                      <a:pt x="580" y="2054"/>
                    </a:lnTo>
                    <a:lnTo>
                      <a:pt x="555" y="1855"/>
                    </a:lnTo>
                    <a:lnTo>
                      <a:pt x="544" y="1755"/>
                    </a:lnTo>
                    <a:lnTo>
                      <a:pt x="534" y="1655"/>
                    </a:lnTo>
                    <a:lnTo>
                      <a:pt x="531" y="1606"/>
                    </a:lnTo>
                    <a:lnTo>
                      <a:pt x="530" y="1556"/>
                    </a:lnTo>
                    <a:lnTo>
                      <a:pt x="529" y="1505"/>
                    </a:lnTo>
                    <a:lnTo>
                      <a:pt x="530" y="1455"/>
                    </a:lnTo>
                    <a:lnTo>
                      <a:pt x="502" y="1454"/>
                    </a:lnTo>
                    <a:lnTo>
                      <a:pt x="488" y="1452"/>
                    </a:lnTo>
                    <a:lnTo>
                      <a:pt x="479" y="1448"/>
                    </a:lnTo>
                    <a:lnTo>
                      <a:pt x="491" y="1364"/>
                    </a:lnTo>
                    <a:lnTo>
                      <a:pt x="497" y="1315"/>
                    </a:lnTo>
                    <a:lnTo>
                      <a:pt x="502" y="1267"/>
                    </a:lnTo>
                    <a:lnTo>
                      <a:pt x="502" y="1217"/>
                    </a:lnTo>
                    <a:lnTo>
                      <a:pt x="502" y="1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974640" y="3616920"/>
                <a:ext cx="495360" cy="1070640"/>
              </a:xfrm>
              <a:custGeom>
                <a:avLst/>
                <a:gdLst/>
                <a:ahLst/>
                <a:rect l="l" t="t" r="r" b="b"/>
                <a:pathLst>
                  <a:path w="313" h="715">
                    <a:moveTo>
                      <a:pt x="234" y="670"/>
                    </a:moveTo>
                    <a:lnTo>
                      <a:pt x="135" y="694"/>
                    </a:lnTo>
                    <a:lnTo>
                      <a:pt x="82" y="706"/>
                    </a:lnTo>
                    <a:lnTo>
                      <a:pt x="28" y="715"/>
                    </a:lnTo>
                    <a:lnTo>
                      <a:pt x="37" y="687"/>
                    </a:lnTo>
                    <a:lnTo>
                      <a:pt x="40" y="659"/>
                    </a:lnTo>
                    <a:lnTo>
                      <a:pt x="40" y="629"/>
                    </a:lnTo>
                    <a:lnTo>
                      <a:pt x="38" y="601"/>
                    </a:lnTo>
                    <a:lnTo>
                      <a:pt x="32" y="582"/>
                    </a:lnTo>
                    <a:lnTo>
                      <a:pt x="25" y="565"/>
                    </a:lnTo>
                    <a:lnTo>
                      <a:pt x="14" y="550"/>
                    </a:lnTo>
                    <a:lnTo>
                      <a:pt x="8" y="544"/>
                    </a:lnTo>
                    <a:lnTo>
                      <a:pt x="0" y="538"/>
                    </a:lnTo>
                    <a:lnTo>
                      <a:pt x="0" y="536"/>
                    </a:lnTo>
                    <a:lnTo>
                      <a:pt x="62" y="514"/>
                    </a:lnTo>
                    <a:lnTo>
                      <a:pt x="122" y="492"/>
                    </a:lnTo>
                    <a:lnTo>
                      <a:pt x="125" y="488"/>
                    </a:lnTo>
                    <a:lnTo>
                      <a:pt x="129" y="485"/>
                    </a:lnTo>
                    <a:lnTo>
                      <a:pt x="137" y="480"/>
                    </a:lnTo>
                    <a:lnTo>
                      <a:pt x="146" y="476"/>
                    </a:lnTo>
                    <a:lnTo>
                      <a:pt x="156" y="474"/>
                    </a:lnTo>
                    <a:lnTo>
                      <a:pt x="167" y="472"/>
                    </a:lnTo>
                    <a:lnTo>
                      <a:pt x="178" y="472"/>
                    </a:lnTo>
                    <a:lnTo>
                      <a:pt x="186" y="476"/>
                    </a:lnTo>
                    <a:lnTo>
                      <a:pt x="191" y="479"/>
                    </a:lnTo>
                    <a:lnTo>
                      <a:pt x="195" y="481"/>
                    </a:lnTo>
                    <a:lnTo>
                      <a:pt x="201" y="488"/>
                    </a:lnTo>
                    <a:lnTo>
                      <a:pt x="207" y="485"/>
                    </a:lnTo>
                    <a:lnTo>
                      <a:pt x="201" y="480"/>
                    </a:lnTo>
                    <a:lnTo>
                      <a:pt x="194" y="474"/>
                    </a:lnTo>
                    <a:lnTo>
                      <a:pt x="185" y="470"/>
                    </a:lnTo>
                    <a:lnTo>
                      <a:pt x="175" y="468"/>
                    </a:lnTo>
                    <a:lnTo>
                      <a:pt x="163" y="468"/>
                    </a:lnTo>
                    <a:lnTo>
                      <a:pt x="157" y="468"/>
                    </a:lnTo>
                    <a:lnTo>
                      <a:pt x="150" y="469"/>
                    </a:lnTo>
                    <a:lnTo>
                      <a:pt x="142" y="472"/>
                    </a:lnTo>
                    <a:lnTo>
                      <a:pt x="135" y="476"/>
                    </a:lnTo>
                    <a:lnTo>
                      <a:pt x="128" y="480"/>
                    </a:lnTo>
                    <a:lnTo>
                      <a:pt x="119" y="486"/>
                    </a:lnTo>
                    <a:lnTo>
                      <a:pt x="117" y="486"/>
                    </a:lnTo>
                    <a:lnTo>
                      <a:pt x="112" y="476"/>
                    </a:lnTo>
                    <a:lnTo>
                      <a:pt x="113" y="468"/>
                    </a:lnTo>
                    <a:lnTo>
                      <a:pt x="115" y="459"/>
                    </a:lnTo>
                    <a:lnTo>
                      <a:pt x="124" y="442"/>
                    </a:lnTo>
                    <a:lnTo>
                      <a:pt x="135" y="425"/>
                    </a:lnTo>
                    <a:lnTo>
                      <a:pt x="150" y="407"/>
                    </a:lnTo>
                    <a:lnTo>
                      <a:pt x="166" y="388"/>
                    </a:lnTo>
                    <a:lnTo>
                      <a:pt x="183" y="373"/>
                    </a:lnTo>
                    <a:lnTo>
                      <a:pt x="186" y="331"/>
                    </a:lnTo>
                    <a:lnTo>
                      <a:pt x="190" y="290"/>
                    </a:lnTo>
                    <a:lnTo>
                      <a:pt x="193" y="207"/>
                    </a:lnTo>
                    <a:lnTo>
                      <a:pt x="195" y="166"/>
                    </a:lnTo>
                    <a:lnTo>
                      <a:pt x="199" y="127"/>
                    </a:lnTo>
                    <a:lnTo>
                      <a:pt x="206" y="89"/>
                    </a:lnTo>
                    <a:lnTo>
                      <a:pt x="211" y="70"/>
                    </a:lnTo>
                    <a:lnTo>
                      <a:pt x="217" y="53"/>
                    </a:lnTo>
                    <a:lnTo>
                      <a:pt x="217" y="49"/>
                    </a:lnTo>
                    <a:lnTo>
                      <a:pt x="219" y="45"/>
                    </a:lnTo>
                    <a:lnTo>
                      <a:pt x="227" y="39"/>
                    </a:lnTo>
                    <a:lnTo>
                      <a:pt x="238" y="33"/>
                    </a:lnTo>
                    <a:lnTo>
                      <a:pt x="251" y="26"/>
                    </a:lnTo>
                    <a:lnTo>
                      <a:pt x="282" y="12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287" y="47"/>
                    </a:lnTo>
                    <a:lnTo>
                      <a:pt x="276" y="70"/>
                    </a:lnTo>
                    <a:lnTo>
                      <a:pt x="271" y="82"/>
                    </a:lnTo>
                    <a:lnTo>
                      <a:pt x="267" y="94"/>
                    </a:lnTo>
                    <a:lnTo>
                      <a:pt x="284" y="107"/>
                    </a:lnTo>
                    <a:lnTo>
                      <a:pt x="300" y="121"/>
                    </a:lnTo>
                    <a:lnTo>
                      <a:pt x="287" y="128"/>
                    </a:lnTo>
                    <a:lnTo>
                      <a:pt x="273" y="133"/>
                    </a:lnTo>
                    <a:lnTo>
                      <a:pt x="245" y="137"/>
                    </a:lnTo>
                    <a:lnTo>
                      <a:pt x="244" y="154"/>
                    </a:lnTo>
                    <a:lnTo>
                      <a:pt x="243" y="185"/>
                    </a:lnTo>
                    <a:lnTo>
                      <a:pt x="240" y="234"/>
                    </a:lnTo>
                    <a:lnTo>
                      <a:pt x="239" y="163"/>
                    </a:lnTo>
                    <a:lnTo>
                      <a:pt x="239" y="140"/>
                    </a:lnTo>
                    <a:lnTo>
                      <a:pt x="242" y="118"/>
                    </a:lnTo>
                    <a:lnTo>
                      <a:pt x="243" y="73"/>
                    </a:lnTo>
                    <a:lnTo>
                      <a:pt x="238" y="73"/>
                    </a:lnTo>
                    <a:lnTo>
                      <a:pt x="237" y="90"/>
                    </a:lnTo>
                    <a:lnTo>
                      <a:pt x="237" y="111"/>
                    </a:lnTo>
                    <a:lnTo>
                      <a:pt x="233" y="180"/>
                    </a:lnTo>
                    <a:lnTo>
                      <a:pt x="233" y="250"/>
                    </a:lnTo>
                    <a:lnTo>
                      <a:pt x="233" y="391"/>
                    </a:lnTo>
                    <a:lnTo>
                      <a:pt x="235" y="530"/>
                    </a:lnTo>
                    <a:lnTo>
                      <a:pt x="234" y="67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976880" y="6504480"/>
                <a:ext cx="352800" cy="83880"/>
              </a:xfrm>
              <a:custGeom>
                <a:avLst/>
                <a:gdLst/>
                <a:ahLst/>
                <a:rect l="l" t="t" r="r" b="b"/>
                <a:pathLst>
                  <a:path w="223" h="56">
                    <a:moveTo>
                      <a:pt x="84" y="56"/>
                    </a:moveTo>
                    <a:lnTo>
                      <a:pt x="61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17" y="35"/>
                    </a:lnTo>
                    <a:lnTo>
                      <a:pt x="7" y="28"/>
                    </a:lnTo>
                    <a:lnTo>
                      <a:pt x="0" y="19"/>
                    </a:lnTo>
                    <a:lnTo>
                      <a:pt x="30" y="27"/>
                    </a:lnTo>
                    <a:lnTo>
                      <a:pt x="59" y="32"/>
                    </a:lnTo>
                    <a:lnTo>
                      <a:pt x="86" y="34"/>
                    </a:lnTo>
                    <a:lnTo>
                      <a:pt x="111" y="34"/>
                    </a:lnTo>
                    <a:lnTo>
                      <a:pt x="137" y="32"/>
                    </a:lnTo>
                    <a:lnTo>
                      <a:pt x="149" y="29"/>
                    </a:lnTo>
                    <a:lnTo>
                      <a:pt x="161" y="27"/>
                    </a:lnTo>
                    <a:lnTo>
                      <a:pt x="175" y="23"/>
                    </a:lnTo>
                    <a:lnTo>
                      <a:pt x="187" y="18"/>
                    </a:lnTo>
                    <a:lnTo>
                      <a:pt x="212" y="7"/>
                    </a:lnTo>
                    <a:lnTo>
                      <a:pt x="221" y="0"/>
                    </a:lnTo>
                    <a:lnTo>
                      <a:pt x="223" y="13"/>
                    </a:lnTo>
                    <a:lnTo>
                      <a:pt x="219" y="18"/>
                    </a:lnTo>
                    <a:lnTo>
                      <a:pt x="210" y="27"/>
                    </a:lnTo>
                    <a:lnTo>
                      <a:pt x="199" y="34"/>
                    </a:lnTo>
                    <a:lnTo>
                      <a:pt x="187" y="39"/>
                    </a:lnTo>
                    <a:lnTo>
                      <a:pt x="175" y="44"/>
                    </a:lnTo>
                    <a:lnTo>
                      <a:pt x="161" y="47"/>
                    </a:lnTo>
                    <a:lnTo>
                      <a:pt x="148" y="51"/>
                    </a:lnTo>
                    <a:lnTo>
                      <a:pt x="120" y="56"/>
                    </a:lnTo>
                    <a:lnTo>
                      <a:pt x="84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939080" y="6528960"/>
                <a:ext cx="37800" cy="295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0" y="0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4"/>
                    </a:lnTo>
                    <a:lnTo>
                      <a:pt x="13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95080" y="6474960"/>
                <a:ext cx="133920" cy="784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83" y="54"/>
                    </a:moveTo>
                    <a:lnTo>
                      <a:pt x="40" y="37"/>
                    </a:lnTo>
                    <a:lnTo>
                      <a:pt x="20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3" y="16"/>
                    </a:lnTo>
                    <a:lnTo>
                      <a:pt x="65" y="26"/>
                    </a:lnTo>
                    <a:lnTo>
                      <a:pt x="84" y="35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95080" y="6355440"/>
                <a:ext cx="524880" cy="190800"/>
              </a:xfrm>
              <a:custGeom>
                <a:avLst/>
                <a:gdLst/>
                <a:ahLst/>
                <a:rect l="l" t="t" r="r" b="b"/>
                <a:pathLst>
                  <a:path w="328" h="129">
                    <a:moveTo>
                      <a:pt x="210" y="129"/>
                    </a:moveTo>
                    <a:lnTo>
                      <a:pt x="181" y="126"/>
                    </a:lnTo>
                    <a:lnTo>
                      <a:pt x="153" y="122"/>
                    </a:lnTo>
                    <a:lnTo>
                      <a:pt x="96" y="109"/>
                    </a:lnTo>
                    <a:lnTo>
                      <a:pt x="72" y="102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0" y="55"/>
                    </a:lnTo>
                    <a:lnTo>
                      <a:pt x="22" y="45"/>
                    </a:lnTo>
                    <a:lnTo>
                      <a:pt x="45" y="35"/>
                    </a:lnTo>
                    <a:lnTo>
                      <a:pt x="69" y="25"/>
                    </a:lnTo>
                    <a:lnTo>
                      <a:pt x="93" y="16"/>
                    </a:lnTo>
                    <a:lnTo>
                      <a:pt x="118" y="7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183" y="0"/>
                    </a:lnTo>
                    <a:lnTo>
                      <a:pt x="195" y="2"/>
                    </a:lnTo>
                    <a:lnTo>
                      <a:pt x="219" y="25"/>
                    </a:lnTo>
                    <a:lnTo>
                      <a:pt x="232" y="38"/>
                    </a:lnTo>
                    <a:lnTo>
                      <a:pt x="243" y="50"/>
                    </a:lnTo>
                    <a:lnTo>
                      <a:pt x="199" y="69"/>
                    </a:lnTo>
                    <a:lnTo>
                      <a:pt x="178" y="80"/>
                    </a:lnTo>
                    <a:lnTo>
                      <a:pt x="158" y="92"/>
                    </a:lnTo>
                    <a:lnTo>
                      <a:pt x="158" y="97"/>
                    </a:lnTo>
                    <a:lnTo>
                      <a:pt x="161" y="97"/>
                    </a:lnTo>
                    <a:lnTo>
                      <a:pt x="192" y="79"/>
                    </a:lnTo>
                    <a:lnTo>
                      <a:pt x="210" y="71"/>
                    </a:lnTo>
                    <a:lnTo>
                      <a:pt x="225" y="64"/>
                    </a:lnTo>
                    <a:lnTo>
                      <a:pt x="243" y="60"/>
                    </a:lnTo>
                    <a:lnTo>
                      <a:pt x="261" y="56"/>
                    </a:lnTo>
                    <a:lnTo>
                      <a:pt x="281" y="57"/>
                    </a:lnTo>
                    <a:lnTo>
                      <a:pt x="303" y="62"/>
                    </a:lnTo>
                    <a:lnTo>
                      <a:pt x="310" y="66"/>
                    </a:lnTo>
                    <a:lnTo>
                      <a:pt x="316" y="69"/>
                    </a:lnTo>
                    <a:lnTo>
                      <a:pt x="321" y="73"/>
                    </a:lnTo>
                    <a:lnTo>
                      <a:pt x="325" y="78"/>
                    </a:lnTo>
                    <a:lnTo>
                      <a:pt x="327" y="83"/>
                    </a:lnTo>
                    <a:lnTo>
                      <a:pt x="328" y="88"/>
                    </a:lnTo>
                    <a:lnTo>
                      <a:pt x="328" y="92"/>
                    </a:lnTo>
                    <a:lnTo>
                      <a:pt x="327" y="97"/>
                    </a:lnTo>
                    <a:lnTo>
                      <a:pt x="306" y="108"/>
                    </a:lnTo>
                    <a:lnTo>
                      <a:pt x="283" y="117"/>
                    </a:lnTo>
                    <a:lnTo>
                      <a:pt x="258" y="124"/>
                    </a:lnTo>
                    <a:lnTo>
                      <a:pt x="233" y="129"/>
                    </a:lnTo>
                    <a:lnTo>
                      <a:pt x="213" y="129"/>
                    </a:lnTo>
                    <a:lnTo>
                      <a:pt x="210" y="12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46440" y="6493680"/>
                <a:ext cx="386280" cy="40320"/>
              </a:xfrm>
              <a:custGeom>
                <a:avLst/>
                <a:gdLst/>
                <a:ahLst/>
                <a:rect l="l" t="t" r="r" b="b"/>
                <a:pathLst>
                  <a:path w="243" h="30">
                    <a:moveTo>
                      <a:pt x="73" y="30"/>
                    </a:moveTo>
                    <a:lnTo>
                      <a:pt x="47" y="28"/>
                    </a:lnTo>
                    <a:lnTo>
                      <a:pt x="35" y="27"/>
                    </a:lnTo>
                    <a:lnTo>
                      <a:pt x="22" y="24"/>
                    </a:lnTo>
                    <a:lnTo>
                      <a:pt x="10" y="21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6"/>
                    </a:lnTo>
                    <a:lnTo>
                      <a:pt x="32" y="11"/>
                    </a:lnTo>
                    <a:lnTo>
                      <a:pt x="61" y="18"/>
                    </a:lnTo>
                    <a:lnTo>
                      <a:pt x="92" y="21"/>
                    </a:lnTo>
                    <a:lnTo>
                      <a:pt x="121" y="21"/>
                    </a:lnTo>
                    <a:lnTo>
                      <a:pt x="153" y="19"/>
                    </a:lnTo>
                    <a:lnTo>
                      <a:pt x="183" y="16"/>
                    </a:lnTo>
                    <a:lnTo>
                      <a:pt x="243" y="7"/>
                    </a:lnTo>
                    <a:lnTo>
                      <a:pt x="241" y="9"/>
                    </a:lnTo>
                    <a:lnTo>
                      <a:pt x="221" y="16"/>
                    </a:lnTo>
                    <a:lnTo>
                      <a:pt x="200" y="22"/>
                    </a:lnTo>
                    <a:lnTo>
                      <a:pt x="180" y="26"/>
                    </a:lnTo>
                    <a:lnTo>
                      <a:pt x="159" y="28"/>
                    </a:lnTo>
                    <a:lnTo>
                      <a:pt x="115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270200" y="6330960"/>
                <a:ext cx="516240" cy="185400"/>
              </a:xfrm>
              <a:custGeom>
                <a:avLst/>
                <a:gdLst/>
                <a:ahLst/>
                <a:rect l="l" t="t" r="r" b="b"/>
                <a:pathLst>
                  <a:path w="324" h="124">
                    <a:moveTo>
                      <a:pt x="0" y="107"/>
                    </a:moveTo>
                    <a:lnTo>
                      <a:pt x="3" y="86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35" y="57"/>
                    </a:lnTo>
                    <a:lnTo>
                      <a:pt x="56" y="56"/>
                    </a:lnTo>
                    <a:lnTo>
                      <a:pt x="73" y="54"/>
                    </a:lnTo>
                    <a:lnTo>
                      <a:pt x="91" y="57"/>
                    </a:lnTo>
                    <a:lnTo>
                      <a:pt x="109" y="61"/>
                    </a:lnTo>
                    <a:lnTo>
                      <a:pt x="127" y="67"/>
                    </a:lnTo>
                    <a:lnTo>
                      <a:pt x="144" y="75"/>
                    </a:lnTo>
                    <a:lnTo>
                      <a:pt x="160" y="87"/>
                    </a:lnTo>
                    <a:lnTo>
                      <a:pt x="166" y="84"/>
                    </a:lnTo>
                    <a:lnTo>
                      <a:pt x="152" y="73"/>
                    </a:lnTo>
                    <a:lnTo>
                      <a:pt x="141" y="67"/>
                    </a:lnTo>
                    <a:lnTo>
                      <a:pt x="133" y="61"/>
                    </a:lnTo>
                    <a:lnTo>
                      <a:pt x="123" y="58"/>
                    </a:lnTo>
                    <a:lnTo>
                      <a:pt x="107" y="53"/>
                    </a:lnTo>
                    <a:lnTo>
                      <a:pt x="90" y="48"/>
                    </a:lnTo>
                    <a:lnTo>
                      <a:pt x="111" y="24"/>
                    </a:lnTo>
                    <a:lnTo>
                      <a:pt x="131" y="0"/>
                    </a:lnTo>
                    <a:lnTo>
                      <a:pt x="172" y="5"/>
                    </a:lnTo>
                    <a:lnTo>
                      <a:pt x="212" y="12"/>
                    </a:lnTo>
                    <a:lnTo>
                      <a:pt x="233" y="17"/>
                    </a:lnTo>
                    <a:lnTo>
                      <a:pt x="253" y="23"/>
                    </a:lnTo>
                    <a:lnTo>
                      <a:pt x="272" y="30"/>
                    </a:lnTo>
                    <a:lnTo>
                      <a:pt x="292" y="39"/>
                    </a:lnTo>
                    <a:lnTo>
                      <a:pt x="302" y="45"/>
                    </a:lnTo>
                    <a:lnTo>
                      <a:pt x="313" y="51"/>
                    </a:lnTo>
                    <a:lnTo>
                      <a:pt x="316" y="62"/>
                    </a:lnTo>
                    <a:lnTo>
                      <a:pt x="320" y="73"/>
                    </a:lnTo>
                    <a:lnTo>
                      <a:pt x="324" y="76"/>
                    </a:lnTo>
                    <a:lnTo>
                      <a:pt x="324" y="92"/>
                    </a:lnTo>
                    <a:lnTo>
                      <a:pt x="227" y="109"/>
                    </a:lnTo>
                    <a:lnTo>
                      <a:pt x="177" y="117"/>
                    </a:lnTo>
                    <a:lnTo>
                      <a:pt x="127" y="123"/>
                    </a:lnTo>
                    <a:lnTo>
                      <a:pt x="95" y="124"/>
                    </a:lnTo>
                    <a:lnTo>
                      <a:pt x="79" y="124"/>
                    </a:lnTo>
                    <a:lnTo>
                      <a:pt x="64" y="123"/>
                    </a:lnTo>
                    <a:lnTo>
                      <a:pt x="49" y="120"/>
                    </a:lnTo>
                    <a:lnTo>
                      <a:pt x="33" y="117"/>
                    </a:lnTo>
                    <a:lnTo>
                      <a:pt x="18" y="11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689960" y="6474960"/>
                <a:ext cx="96120" cy="295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lnTo>
                      <a:pt x="0" y="12"/>
                    </a:lnTo>
                    <a:lnTo>
                      <a:pt x="15" y="8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394760" y="4484520"/>
                <a:ext cx="706680" cy="1947960"/>
              </a:xfrm>
              <a:custGeom>
                <a:avLst/>
                <a:gdLst/>
                <a:ahLst/>
                <a:rect l="l" t="t" r="r" b="b"/>
                <a:pathLst>
                  <a:path w="445" h="1302">
                    <a:moveTo>
                      <a:pt x="247" y="1302"/>
                    </a:moveTo>
                    <a:lnTo>
                      <a:pt x="236" y="1264"/>
                    </a:lnTo>
                    <a:lnTo>
                      <a:pt x="226" y="1222"/>
                    </a:lnTo>
                    <a:lnTo>
                      <a:pt x="210" y="1138"/>
                    </a:lnTo>
                    <a:lnTo>
                      <a:pt x="198" y="1062"/>
                    </a:lnTo>
                    <a:lnTo>
                      <a:pt x="193" y="1032"/>
                    </a:lnTo>
                    <a:lnTo>
                      <a:pt x="187" y="1010"/>
                    </a:lnTo>
                    <a:lnTo>
                      <a:pt x="153" y="738"/>
                    </a:lnTo>
                    <a:lnTo>
                      <a:pt x="137" y="603"/>
                    </a:lnTo>
                    <a:lnTo>
                      <a:pt x="122" y="468"/>
                    </a:lnTo>
                    <a:lnTo>
                      <a:pt x="114" y="370"/>
                    </a:lnTo>
                    <a:lnTo>
                      <a:pt x="106" y="272"/>
                    </a:lnTo>
                    <a:lnTo>
                      <a:pt x="93" y="81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93" y="191"/>
                    </a:lnTo>
                    <a:lnTo>
                      <a:pt x="101" y="300"/>
                    </a:lnTo>
                    <a:lnTo>
                      <a:pt x="120" y="521"/>
                    </a:lnTo>
                    <a:lnTo>
                      <a:pt x="142" y="712"/>
                    </a:lnTo>
                    <a:lnTo>
                      <a:pt x="166" y="901"/>
                    </a:lnTo>
                    <a:lnTo>
                      <a:pt x="180" y="995"/>
                    </a:lnTo>
                    <a:lnTo>
                      <a:pt x="196" y="1089"/>
                    </a:lnTo>
                    <a:lnTo>
                      <a:pt x="212" y="1184"/>
                    </a:lnTo>
                    <a:lnTo>
                      <a:pt x="230" y="1276"/>
                    </a:lnTo>
                    <a:lnTo>
                      <a:pt x="213" y="1265"/>
                    </a:lnTo>
                    <a:lnTo>
                      <a:pt x="192" y="1256"/>
                    </a:lnTo>
                    <a:lnTo>
                      <a:pt x="170" y="1247"/>
                    </a:lnTo>
                    <a:lnTo>
                      <a:pt x="145" y="1241"/>
                    </a:lnTo>
                    <a:lnTo>
                      <a:pt x="122" y="1236"/>
                    </a:lnTo>
                    <a:lnTo>
                      <a:pt x="98" y="1232"/>
                    </a:lnTo>
                    <a:lnTo>
                      <a:pt x="54" y="1228"/>
                    </a:lnTo>
                    <a:lnTo>
                      <a:pt x="50" y="1225"/>
                    </a:lnTo>
                    <a:lnTo>
                      <a:pt x="73" y="1183"/>
                    </a:lnTo>
                    <a:lnTo>
                      <a:pt x="96" y="1141"/>
                    </a:lnTo>
                    <a:lnTo>
                      <a:pt x="93" y="1141"/>
                    </a:lnTo>
                    <a:lnTo>
                      <a:pt x="90" y="1142"/>
                    </a:lnTo>
                    <a:lnTo>
                      <a:pt x="81" y="1157"/>
                    </a:lnTo>
                    <a:lnTo>
                      <a:pt x="72" y="1174"/>
                    </a:lnTo>
                    <a:lnTo>
                      <a:pt x="65" y="1058"/>
                    </a:lnTo>
                    <a:lnTo>
                      <a:pt x="55" y="957"/>
                    </a:lnTo>
                    <a:lnTo>
                      <a:pt x="43" y="867"/>
                    </a:lnTo>
                    <a:lnTo>
                      <a:pt x="32" y="785"/>
                    </a:lnTo>
                    <a:lnTo>
                      <a:pt x="22" y="708"/>
                    </a:lnTo>
                    <a:lnTo>
                      <a:pt x="12" y="635"/>
                    </a:lnTo>
                    <a:lnTo>
                      <a:pt x="10" y="598"/>
                    </a:lnTo>
                    <a:lnTo>
                      <a:pt x="6" y="562"/>
                    </a:lnTo>
                    <a:lnTo>
                      <a:pt x="5" y="524"/>
                    </a:lnTo>
                    <a:lnTo>
                      <a:pt x="5" y="485"/>
                    </a:lnTo>
                    <a:lnTo>
                      <a:pt x="0" y="358"/>
                    </a:lnTo>
                    <a:lnTo>
                      <a:pt x="0" y="24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9" y="3"/>
                    </a:lnTo>
                    <a:lnTo>
                      <a:pt x="73" y="6"/>
                    </a:lnTo>
                    <a:lnTo>
                      <a:pt x="142" y="7"/>
                    </a:lnTo>
                    <a:lnTo>
                      <a:pt x="137" y="154"/>
                    </a:lnTo>
                    <a:lnTo>
                      <a:pt x="137" y="257"/>
                    </a:lnTo>
                    <a:lnTo>
                      <a:pt x="139" y="356"/>
                    </a:lnTo>
                    <a:lnTo>
                      <a:pt x="142" y="365"/>
                    </a:lnTo>
                    <a:lnTo>
                      <a:pt x="210" y="368"/>
                    </a:lnTo>
                    <a:lnTo>
                      <a:pt x="279" y="370"/>
                    </a:lnTo>
                    <a:lnTo>
                      <a:pt x="314" y="370"/>
                    </a:lnTo>
                    <a:lnTo>
                      <a:pt x="349" y="367"/>
                    </a:lnTo>
                    <a:lnTo>
                      <a:pt x="383" y="362"/>
                    </a:lnTo>
                    <a:lnTo>
                      <a:pt x="416" y="356"/>
                    </a:lnTo>
                    <a:lnTo>
                      <a:pt x="421" y="366"/>
                    </a:lnTo>
                    <a:lnTo>
                      <a:pt x="423" y="376"/>
                    </a:lnTo>
                    <a:lnTo>
                      <a:pt x="425" y="395"/>
                    </a:lnTo>
                    <a:lnTo>
                      <a:pt x="425" y="415"/>
                    </a:lnTo>
                    <a:lnTo>
                      <a:pt x="425" y="434"/>
                    </a:lnTo>
                    <a:lnTo>
                      <a:pt x="425" y="439"/>
                    </a:lnTo>
                    <a:lnTo>
                      <a:pt x="428" y="443"/>
                    </a:lnTo>
                    <a:lnTo>
                      <a:pt x="431" y="446"/>
                    </a:lnTo>
                    <a:lnTo>
                      <a:pt x="429" y="707"/>
                    </a:lnTo>
                    <a:lnTo>
                      <a:pt x="428" y="859"/>
                    </a:lnTo>
                    <a:lnTo>
                      <a:pt x="426" y="934"/>
                    </a:lnTo>
                    <a:lnTo>
                      <a:pt x="422" y="1010"/>
                    </a:lnTo>
                    <a:lnTo>
                      <a:pt x="404" y="961"/>
                    </a:lnTo>
                    <a:lnTo>
                      <a:pt x="388" y="912"/>
                    </a:lnTo>
                    <a:lnTo>
                      <a:pt x="374" y="864"/>
                    </a:lnTo>
                    <a:lnTo>
                      <a:pt x="369" y="839"/>
                    </a:lnTo>
                    <a:lnTo>
                      <a:pt x="366" y="815"/>
                    </a:lnTo>
                    <a:lnTo>
                      <a:pt x="360" y="814"/>
                    </a:lnTo>
                    <a:lnTo>
                      <a:pt x="366" y="854"/>
                    </a:lnTo>
                    <a:lnTo>
                      <a:pt x="373" y="891"/>
                    </a:lnTo>
                    <a:lnTo>
                      <a:pt x="383" y="923"/>
                    </a:lnTo>
                    <a:lnTo>
                      <a:pt x="393" y="953"/>
                    </a:lnTo>
                    <a:lnTo>
                      <a:pt x="412" y="1000"/>
                    </a:lnTo>
                    <a:lnTo>
                      <a:pt x="418" y="1020"/>
                    </a:lnTo>
                    <a:lnTo>
                      <a:pt x="422" y="1035"/>
                    </a:lnTo>
                    <a:lnTo>
                      <a:pt x="436" y="1141"/>
                    </a:lnTo>
                    <a:lnTo>
                      <a:pt x="442" y="1203"/>
                    </a:lnTo>
                    <a:lnTo>
                      <a:pt x="445" y="1245"/>
                    </a:lnTo>
                    <a:lnTo>
                      <a:pt x="420" y="1245"/>
                    </a:lnTo>
                    <a:lnTo>
                      <a:pt x="394" y="1247"/>
                    </a:lnTo>
                    <a:lnTo>
                      <a:pt x="369" y="1253"/>
                    </a:lnTo>
                    <a:lnTo>
                      <a:pt x="345" y="1262"/>
                    </a:lnTo>
                    <a:lnTo>
                      <a:pt x="296" y="1280"/>
                    </a:lnTo>
                    <a:lnTo>
                      <a:pt x="250" y="1301"/>
                    </a:lnTo>
                    <a:lnTo>
                      <a:pt x="247" y="1302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067960" y="4908960"/>
                <a:ext cx="228240" cy="31032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74" y="202"/>
                    </a:moveTo>
                    <a:lnTo>
                      <a:pt x="78" y="191"/>
                    </a:lnTo>
                    <a:lnTo>
                      <a:pt x="82" y="180"/>
                    </a:lnTo>
                    <a:lnTo>
                      <a:pt x="85" y="168"/>
                    </a:lnTo>
                    <a:lnTo>
                      <a:pt x="86" y="156"/>
                    </a:lnTo>
                    <a:lnTo>
                      <a:pt x="87" y="132"/>
                    </a:lnTo>
                    <a:lnTo>
                      <a:pt x="86" y="107"/>
                    </a:lnTo>
                    <a:lnTo>
                      <a:pt x="81" y="109"/>
                    </a:lnTo>
                    <a:lnTo>
                      <a:pt x="81" y="141"/>
                    </a:lnTo>
                    <a:lnTo>
                      <a:pt x="80" y="158"/>
                    </a:lnTo>
                    <a:lnTo>
                      <a:pt x="78" y="177"/>
                    </a:lnTo>
                    <a:lnTo>
                      <a:pt x="77" y="179"/>
                    </a:lnTo>
                    <a:lnTo>
                      <a:pt x="76" y="186"/>
                    </a:lnTo>
                    <a:lnTo>
                      <a:pt x="71" y="195"/>
                    </a:lnTo>
                    <a:lnTo>
                      <a:pt x="65" y="201"/>
                    </a:lnTo>
                    <a:lnTo>
                      <a:pt x="64" y="202"/>
                    </a:lnTo>
                    <a:lnTo>
                      <a:pt x="61" y="204"/>
                    </a:lnTo>
                    <a:lnTo>
                      <a:pt x="56" y="204"/>
                    </a:lnTo>
                    <a:lnTo>
                      <a:pt x="45" y="200"/>
                    </a:lnTo>
                    <a:lnTo>
                      <a:pt x="42" y="185"/>
                    </a:lnTo>
                    <a:lnTo>
                      <a:pt x="39" y="169"/>
                    </a:lnTo>
                    <a:lnTo>
                      <a:pt x="38" y="139"/>
                    </a:lnTo>
                    <a:lnTo>
                      <a:pt x="38" y="124"/>
                    </a:lnTo>
                    <a:lnTo>
                      <a:pt x="36" y="109"/>
                    </a:lnTo>
                    <a:lnTo>
                      <a:pt x="33" y="94"/>
                    </a:lnTo>
                    <a:lnTo>
                      <a:pt x="28" y="78"/>
                    </a:lnTo>
                    <a:lnTo>
                      <a:pt x="23" y="78"/>
                    </a:lnTo>
                    <a:lnTo>
                      <a:pt x="28" y="113"/>
                    </a:lnTo>
                    <a:lnTo>
                      <a:pt x="31" y="131"/>
                    </a:lnTo>
                    <a:lnTo>
                      <a:pt x="31" y="149"/>
                    </a:lnTo>
                    <a:lnTo>
                      <a:pt x="26" y="151"/>
                    </a:lnTo>
                    <a:lnTo>
                      <a:pt x="20" y="154"/>
                    </a:lnTo>
                    <a:lnTo>
                      <a:pt x="11" y="154"/>
                    </a:lnTo>
                    <a:lnTo>
                      <a:pt x="7" y="148"/>
                    </a:lnTo>
                    <a:lnTo>
                      <a:pt x="9" y="133"/>
                    </a:lnTo>
                    <a:lnTo>
                      <a:pt x="10" y="118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10" y="9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31" y="9"/>
                    </a:lnTo>
                    <a:lnTo>
                      <a:pt x="47" y="11"/>
                    </a:lnTo>
                    <a:lnTo>
                      <a:pt x="64" y="12"/>
                    </a:lnTo>
                    <a:lnTo>
                      <a:pt x="80" y="14"/>
                    </a:lnTo>
                    <a:lnTo>
                      <a:pt x="97" y="12"/>
                    </a:lnTo>
                    <a:lnTo>
                      <a:pt x="113" y="10"/>
                    </a:lnTo>
                    <a:lnTo>
                      <a:pt x="129" y="6"/>
                    </a:lnTo>
                    <a:lnTo>
                      <a:pt x="143" y="0"/>
                    </a:lnTo>
                    <a:lnTo>
                      <a:pt x="145" y="59"/>
                    </a:lnTo>
                    <a:lnTo>
                      <a:pt x="143" y="117"/>
                    </a:lnTo>
                    <a:lnTo>
                      <a:pt x="143" y="131"/>
                    </a:lnTo>
                    <a:lnTo>
                      <a:pt x="142" y="144"/>
                    </a:lnTo>
                    <a:lnTo>
                      <a:pt x="138" y="156"/>
                    </a:lnTo>
                    <a:lnTo>
                      <a:pt x="134" y="168"/>
                    </a:lnTo>
                    <a:lnTo>
                      <a:pt x="131" y="172"/>
                    </a:lnTo>
                    <a:lnTo>
                      <a:pt x="126" y="176"/>
                    </a:lnTo>
                    <a:lnTo>
                      <a:pt x="120" y="178"/>
                    </a:lnTo>
                    <a:lnTo>
                      <a:pt x="124" y="146"/>
                    </a:lnTo>
                    <a:lnTo>
                      <a:pt x="125" y="115"/>
                    </a:lnTo>
                    <a:lnTo>
                      <a:pt x="120" y="113"/>
                    </a:lnTo>
                    <a:lnTo>
                      <a:pt x="118" y="145"/>
                    </a:lnTo>
                    <a:lnTo>
                      <a:pt x="115" y="161"/>
                    </a:lnTo>
                    <a:lnTo>
                      <a:pt x="113" y="178"/>
                    </a:lnTo>
                    <a:lnTo>
                      <a:pt x="112" y="182"/>
                    </a:lnTo>
                    <a:lnTo>
                      <a:pt x="109" y="188"/>
                    </a:lnTo>
                    <a:lnTo>
                      <a:pt x="105" y="195"/>
                    </a:lnTo>
                    <a:lnTo>
                      <a:pt x="99" y="202"/>
                    </a:lnTo>
                    <a:lnTo>
                      <a:pt x="93" y="207"/>
                    </a:lnTo>
                    <a:lnTo>
                      <a:pt x="89" y="208"/>
                    </a:lnTo>
                    <a:lnTo>
                      <a:pt x="87" y="210"/>
                    </a:lnTo>
                    <a:lnTo>
                      <a:pt x="80" y="208"/>
                    </a:lnTo>
                    <a:lnTo>
                      <a:pt x="74" y="20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296200" y="5040360"/>
                <a:ext cx="15120" cy="101520"/>
              </a:xfrm>
              <a:custGeom>
                <a:avLst/>
                <a:gdLst/>
                <a:ahLst/>
                <a:rect l="l" t="t" r="r" b="b"/>
                <a:pathLst>
                  <a:path w="8" h="70">
                    <a:moveTo>
                      <a:pt x="0" y="70"/>
                    </a:moveTo>
                    <a:lnTo>
                      <a:pt x="1" y="53"/>
                    </a:lnTo>
                    <a:lnTo>
                      <a:pt x="2" y="35"/>
                    </a:lnTo>
                    <a:lnTo>
                      <a:pt x="2" y="0"/>
                    </a:lnTo>
                    <a:lnTo>
                      <a:pt x="7" y="33"/>
                    </a:lnTo>
                    <a:lnTo>
                      <a:pt x="8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24080" y="3569760"/>
                <a:ext cx="744480" cy="1458360"/>
              </a:xfrm>
              <a:custGeom>
                <a:avLst/>
                <a:gdLst/>
                <a:ahLst/>
                <a:rect l="l" t="t" r="r" b="b"/>
                <a:pathLst>
                  <a:path w="467" h="979">
                    <a:moveTo>
                      <a:pt x="2" y="973"/>
                    </a:moveTo>
                    <a:lnTo>
                      <a:pt x="0" y="864"/>
                    </a:lnTo>
                    <a:lnTo>
                      <a:pt x="0" y="755"/>
                    </a:lnTo>
                    <a:lnTo>
                      <a:pt x="4" y="647"/>
                    </a:lnTo>
                    <a:lnTo>
                      <a:pt x="8" y="592"/>
                    </a:lnTo>
                    <a:lnTo>
                      <a:pt x="13" y="537"/>
                    </a:lnTo>
                    <a:lnTo>
                      <a:pt x="45" y="479"/>
                    </a:lnTo>
                    <a:lnTo>
                      <a:pt x="76" y="423"/>
                    </a:lnTo>
                    <a:lnTo>
                      <a:pt x="142" y="313"/>
                    </a:lnTo>
                    <a:lnTo>
                      <a:pt x="160" y="311"/>
                    </a:lnTo>
                    <a:lnTo>
                      <a:pt x="174" y="311"/>
                    </a:lnTo>
                    <a:lnTo>
                      <a:pt x="191" y="312"/>
                    </a:lnTo>
                    <a:lnTo>
                      <a:pt x="209" y="311"/>
                    </a:lnTo>
                    <a:lnTo>
                      <a:pt x="215" y="311"/>
                    </a:lnTo>
                    <a:lnTo>
                      <a:pt x="217" y="306"/>
                    </a:lnTo>
                    <a:lnTo>
                      <a:pt x="217" y="299"/>
                    </a:lnTo>
                    <a:lnTo>
                      <a:pt x="217" y="285"/>
                    </a:lnTo>
                    <a:lnTo>
                      <a:pt x="215" y="280"/>
                    </a:lnTo>
                    <a:lnTo>
                      <a:pt x="164" y="280"/>
                    </a:lnTo>
                    <a:lnTo>
                      <a:pt x="196" y="230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16" y="167"/>
                    </a:lnTo>
                    <a:lnTo>
                      <a:pt x="199" y="155"/>
                    </a:lnTo>
                    <a:lnTo>
                      <a:pt x="183" y="144"/>
                    </a:lnTo>
                    <a:lnTo>
                      <a:pt x="167" y="132"/>
                    </a:lnTo>
                    <a:lnTo>
                      <a:pt x="191" y="121"/>
                    </a:lnTo>
                    <a:lnTo>
                      <a:pt x="217" y="111"/>
                    </a:lnTo>
                    <a:lnTo>
                      <a:pt x="216" y="84"/>
                    </a:lnTo>
                    <a:lnTo>
                      <a:pt x="213" y="56"/>
                    </a:lnTo>
                    <a:lnTo>
                      <a:pt x="206" y="3"/>
                    </a:lnTo>
                    <a:lnTo>
                      <a:pt x="207" y="0"/>
                    </a:lnTo>
                    <a:lnTo>
                      <a:pt x="254" y="16"/>
                    </a:lnTo>
                    <a:lnTo>
                      <a:pt x="277" y="25"/>
                    </a:lnTo>
                    <a:lnTo>
                      <a:pt x="299" y="32"/>
                    </a:lnTo>
                    <a:lnTo>
                      <a:pt x="321" y="42"/>
                    </a:lnTo>
                    <a:lnTo>
                      <a:pt x="341" y="53"/>
                    </a:lnTo>
                    <a:lnTo>
                      <a:pt x="359" y="65"/>
                    </a:lnTo>
                    <a:lnTo>
                      <a:pt x="376" y="80"/>
                    </a:lnTo>
                    <a:lnTo>
                      <a:pt x="373" y="80"/>
                    </a:lnTo>
                    <a:lnTo>
                      <a:pt x="369" y="80"/>
                    </a:lnTo>
                    <a:lnTo>
                      <a:pt x="360" y="81"/>
                    </a:lnTo>
                    <a:lnTo>
                      <a:pt x="347" y="89"/>
                    </a:lnTo>
                    <a:lnTo>
                      <a:pt x="335" y="101"/>
                    </a:lnTo>
                    <a:lnTo>
                      <a:pt x="322" y="115"/>
                    </a:lnTo>
                    <a:lnTo>
                      <a:pt x="311" y="128"/>
                    </a:lnTo>
                    <a:lnTo>
                      <a:pt x="318" y="132"/>
                    </a:lnTo>
                    <a:lnTo>
                      <a:pt x="330" y="117"/>
                    </a:lnTo>
                    <a:lnTo>
                      <a:pt x="343" y="100"/>
                    </a:lnTo>
                    <a:lnTo>
                      <a:pt x="352" y="93"/>
                    </a:lnTo>
                    <a:lnTo>
                      <a:pt x="360" y="88"/>
                    </a:lnTo>
                    <a:lnTo>
                      <a:pt x="370" y="86"/>
                    </a:lnTo>
                    <a:lnTo>
                      <a:pt x="376" y="86"/>
                    </a:lnTo>
                    <a:lnTo>
                      <a:pt x="381" y="88"/>
                    </a:lnTo>
                    <a:lnTo>
                      <a:pt x="392" y="115"/>
                    </a:lnTo>
                    <a:lnTo>
                      <a:pt x="403" y="143"/>
                    </a:lnTo>
                    <a:lnTo>
                      <a:pt x="413" y="172"/>
                    </a:lnTo>
                    <a:lnTo>
                      <a:pt x="420" y="200"/>
                    </a:lnTo>
                    <a:lnTo>
                      <a:pt x="433" y="244"/>
                    </a:lnTo>
                    <a:lnTo>
                      <a:pt x="444" y="286"/>
                    </a:lnTo>
                    <a:lnTo>
                      <a:pt x="451" y="329"/>
                    </a:lnTo>
                    <a:lnTo>
                      <a:pt x="458" y="372"/>
                    </a:lnTo>
                    <a:lnTo>
                      <a:pt x="463" y="413"/>
                    </a:lnTo>
                    <a:lnTo>
                      <a:pt x="466" y="454"/>
                    </a:lnTo>
                    <a:lnTo>
                      <a:pt x="467" y="496"/>
                    </a:lnTo>
                    <a:lnTo>
                      <a:pt x="467" y="537"/>
                    </a:lnTo>
                    <a:lnTo>
                      <a:pt x="466" y="578"/>
                    </a:lnTo>
                    <a:lnTo>
                      <a:pt x="463" y="620"/>
                    </a:lnTo>
                    <a:lnTo>
                      <a:pt x="455" y="700"/>
                    </a:lnTo>
                    <a:lnTo>
                      <a:pt x="442" y="782"/>
                    </a:lnTo>
                    <a:lnTo>
                      <a:pt x="430" y="864"/>
                    </a:lnTo>
                    <a:lnTo>
                      <a:pt x="429" y="868"/>
                    </a:lnTo>
                    <a:lnTo>
                      <a:pt x="411" y="869"/>
                    </a:lnTo>
                    <a:lnTo>
                      <a:pt x="393" y="869"/>
                    </a:lnTo>
                    <a:lnTo>
                      <a:pt x="358" y="868"/>
                    </a:lnTo>
                    <a:lnTo>
                      <a:pt x="322" y="864"/>
                    </a:lnTo>
                    <a:lnTo>
                      <a:pt x="286" y="860"/>
                    </a:lnTo>
                    <a:lnTo>
                      <a:pt x="280" y="857"/>
                    </a:lnTo>
                    <a:lnTo>
                      <a:pt x="277" y="838"/>
                    </a:lnTo>
                    <a:lnTo>
                      <a:pt x="272" y="687"/>
                    </a:lnTo>
                    <a:lnTo>
                      <a:pt x="269" y="537"/>
                    </a:lnTo>
                    <a:lnTo>
                      <a:pt x="266" y="387"/>
                    </a:lnTo>
                    <a:lnTo>
                      <a:pt x="266" y="238"/>
                    </a:lnTo>
                    <a:lnTo>
                      <a:pt x="262" y="234"/>
                    </a:lnTo>
                    <a:lnTo>
                      <a:pt x="260" y="235"/>
                    </a:lnTo>
                    <a:lnTo>
                      <a:pt x="260" y="313"/>
                    </a:lnTo>
                    <a:lnTo>
                      <a:pt x="258" y="313"/>
                    </a:lnTo>
                    <a:lnTo>
                      <a:pt x="249" y="306"/>
                    </a:lnTo>
                    <a:lnTo>
                      <a:pt x="243" y="296"/>
                    </a:lnTo>
                    <a:lnTo>
                      <a:pt x="232" y="272"/>
                    </a:lnTo>
                    <a:lnTo>
                      <a:pt x="227" y="272"/>
                    </a:lnTo>
                    <a:lnTo>
                      <a:pt x="227" y="277"/>
                    </a:lnTo>
                    <a:lnTo>
                      <a:pt x="232" y="291"/>
                    </a:lnTo>
                    <a:lnTo>
                      <a:pt x="239" y="303"/>
                    </a:lnTo>
                    <a:lnTo>
                      <a:pt x="249" y="316"/>
                    </a:lnTo>
                    <a:lnTo>
                      <a:pt x="260" y="325"/>
                    </a:lnTo>
                    <a:lnTo>
                      <a:pt x="260" y="368"/>
                    </a:lnTo>
                    <a:lnTo>
                      <a:pt x="262" y="549"/>
                    </a:lnTo>
                    <a:lnTo>
                      <a:pt x="266" y="729"/>
                    </a:lnTo>
                    <a:lnTo>
                      <a:pt x="211" y="728"/>
                    </a:lnTo>
                    <a:lnTo>
                      <a:pt x="183" y="726"/>
                    </a:lnTo>
                    <a:lnTo>
                      <a:pt x="155" y="726"/>
                    </a:lnTo>
                    <a:lnTo>
                      <a:pt x="153" y="731"/>
                    </a:lnTo>
                    <a:lnTo>
                      <a:pt x="155" y="750"/>
                    </a:lnTo>
                    <a:lnTo>
                      <a:pt x="155" y="771"/>
                    </a:lnTo>
                    <a:lnTo>
                      <a:pt x="156" y="793"/>
                    </a:lnTo>
                    <a:lnTo>
                      <a:pt x="160" y="812"/>
                    </a:lnTo>
                    <a:lnTo>
                      <a:pt x="269" y="812"/>
                    </a:lnTo>
                    <a:lnTo>
                      <a:pt x="270" y="824"/>
                    </a:lnTo>
                    <a:lnTo>
                      <a:pt x="270" y="838"/>
                    </a:lnTo>
                    <a:lnTo>
                      <a:pt x="271" y="851"/>
                    </a:lnTo>
                    <a:lnTo>
                      <a:pt x="273" y="864"/>
                    </a:lnTo>
                    <a:lnTo>
                      <a:pt x="278" y="864"/>
                    </a:lnTo>
                    <a:lnTo>
                      <a:pt x="280" y="868"/>
                    </a:lnTo>
                    <a:lnTo>
                      <a:pt x="280" y="895"/>
                    </a:lnTo>
                    <a:lnTo>
                      <a:pt x="283" y="900"/>
                    </a:lnTo>
                    <a:lnTo>
                      <a:pt x="278" y="931"/>
                    </a:lnTo>
                    <a:lnTo>
                      <a:pt x="275" y="948"/>
                    </a:lnTo>
                    <a:lnTo>
                      <a:pt x="269" y="964"/>
                    </a:lnTo>
                    <a:lnTo>
                      <a:pt x="264" y="965"/>
                    </a:lnTo>
                    <a:lnTo>
                      <a:pt x="258" y="968"/>
                    </a:lnTo>
                    <a:lnTo>
                      <a:pt x="227" y="973"/>
                    </a:lnTo>
                    <a:lnTo>
                      <a:pt x="196" y="975"/>
                    </a:lnTo>
                    <a:lnTo>
                      <a:pt x="164" y="978"/>
                    </a:lnTo>
                    <a:lnTo>
                      <a:pt x="130" y="979"/>
                    </a:lnTo>
                    <a:lnTo>
                      <a:pt x="65" y="976"/>
                    </a:lnTo>
                    <a:lnTo>
                      <a:pt x="2" y="97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317720" y="4526640"/>
                <a:ext cx="76680" cy="489240"/>
              </a:xfrm>
              <a:custGeom>
                <a:avLst/>
                <a:gdLst/>
                <a:ahLst/>
                <a:rect l="l" t="t" r="r" b="b"/>
                <a:pathLst>
                  <a:path w="46" h="327">
                    <a:moveTo>
                      <a:pt x="0" y="322"/>
                    </a:moveTo>
                    <a:lnTo>
                      <a:pt x="46" y="0"/>
                    </a:lnTo>
                    <a:lnTo>
                      <a:pt x="42" y="79"/>
                    </a:lnTo>
                    <a:lnTo>
                      <a:pt x="41" y="163"/>
                    </a:lnTo>
                    <a:lnTo>
                      <a:pt x="41" y="248"/>
                    </a:lnTo>
                    <a:lnTo>
                      <a:pt x="43" y="327"/>
                    </a:lnTo>
                    <a:lnTo>
                      <a:pt x="32" y="327"/>
                    </a:lnTo>
                    <a:lnTo>
                      <a:pt x="21" y="327"/>
                    </a:lnTo>
                    <a:lnTo>
                      <a:pt x="10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082000" y="4866840"/>
                <a:ext cx="214200" cy="54000"/>
              </a:xfrm>
              <a:custGeom>
                <a:avLst/>
                <a:gdLst/>
                <a:ahLst/>
                <a:rect l="l" t="t" r="r" b="b"/>
                <a:pathLst>
                  <a:path w="136" h="38">
                    <a:moveTo>
                      <a:pt x="53" y="38"/>
                    </a:moveTo>
                    <a:lnTo>
                      <a:pt x="27" y="33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5"/>
                    </a:lnTo>
                    <a:lnTo>
                      <a:pt x="100" y="7"/>
                    </a:lnTo>
                    <a:lnTo>
                      <a:pt x="133" y="6"/>
                    </a:lnTo>
                    <a:lnTo>
                      <a:pt x="135" y="10"/>
                    </a:lnTo>
                    <a:lnTo>
                      <a:pt x="135" y="13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2" y="28"/>
                    </a:lnTo>
                    <a:lnTo>
                      <a:pt x="113" y="31"/>
                    </a:lnTo>
                    <a:lnTo>
                      <a:pt x="93" y="34"/>
                    </a:lnTo>
                    <a:lnTo>
                      <a:pt x="5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7881840" y="4663800"/>
                <a:ext cx="171000" cy="10836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" y="72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79" y="1"/>
                    </a:lnTo>
                    <a:lnTo>
                      <a:pt x="105" y="3"/>
                    </a:lnTo>
                    <a:lnTo>
                      <a:pt x="106" y="4"/>
                    </a:lnTo>
                    <a:lnTo>
                      <a:pt x="107" y="37"/>
                    </a:lnTo>
                    <a:lnTo>
                      <a:pt x="109" y="68"/>
                    </a:lnTo>
                    <a:lnTo>
                      <a:pt x="106" y="72"/>
                    </a:lnTo>
                    <a:lnTo>
                      <a:pt x="6" y="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351200" y="3952080"/>
                <a:ext cx="52920" cy="788760"/>
              </a:xfrm>
              <a:custGeom>
                <a:avLst/>
                <a:gdLst/>
                <a:ahLst/>
                <a:rect l="l" t="t" r="r" b="b"/>
                <a:pathLst>
                  <a:path w="32" h="528">
                    <a:moveTo>
                      <a:pt x="0" y="528"/>
                    </a:moveTo>
                    <a:lnTo>
                      <a:pt x="1" y="399"/>
                    </a:lnTo>
                    <a:lnTo>
                      <a:pt x="1" y="264"/>
                    </a:lnTo>
                    <a:lnTo>
                      <a:pt x="0" y="130"/>
                    </a:lnTo>
                    <a:lnTo>
                      <a:pt x="1" y="0"/>
                    </a:lnTo>
                    <a:lnTo>
                      <a:pt x="5" y="65"/>
                    </a:lnTo>
                    <a:lnTo>
                      <a:pt x="11" y="144"/>
                    </a:lnTo>
                    <a:lnTo>
                      <a:pt x="21" y="223"/>
                    </a:lnTo>
                    <a:lnTo>
                      <a:pt x="26" y="258"/>
                    </a:lnTo>
                    <a:lnTo>
                      <a:pt x="32" y="287"/>
                    </a:lnTo>
                    <a:lnTo>
                      <a:pt x="32" y="311"/>
                    </a:lnTo>
                    <a:lnTo>
                      <a:pt x="29" y="324"/>
                    </a:lnTo>
                    <a:lnTo>
                      <a:pt x="27" y="337"/>
                    </a:lnTo>
                    <a:lnTo>
                      <a:pt x="23" y="360"/>
                    </a:lnTo>
                    <a:lnTo>
                      <a:pt x="11" y="444"/>
                    </a:lnTo>
                    <a:lnTo>
                      <a:pt x="0" y="526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549480" y="4437360"/>
                <a:ext cx="405720" cy="28044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55" y="176"/>
                    </a:moveTo>
                    <a:lnTo>
                      <a:pt x="82" y="163"/>
                    </a:lnTo>
                    <a:lnTo>
                      <a:pt x="95" y="154"/>
                    </a:lnTo>
                    <a:lnTo>
                      <a:pt x="110" y="148"/>
                    </a:lnTo>
                    <a:lnTo>
                      <a:pt x="110" y="142"/>
                    </a:lnTo>
                    <a:lnTo>
                      <a:pt x="105" y="142"/>
                    </a:lnTo>
                    <a:lnTo>
                      <a:pt x="87" y="153"/>
                    </a:lnTo>
                    <a:lnTo>
                      <a:pt x="68" y="164"/>
                    </a:lnTo>
                    <a:lnTo>
                      <a:pt x="50" y="174"/>
                    </a:lnTo>
                    <a:lnTo>
                      <a:pt x="39" y="177"/>
                    </a:lnTo>
                    <a:lnTo>
                      <a:pt x="28" y="179"/>
                    </a:lnTo>
                    <a:lnTo>
                      <a:pt x="23" y="177"/>
                    </a:lnTo>
                    <a:lnTo>
                      <a:pt x="20" y="175"/>
                    </a:lnTo>
                    <a:lnTo>
                      <a:pt x="20" y="171"/>
                    </a:lnTo>
                    <a:lnTo>
                      <a:pt x="20" y="170"/>
                    </a:lnTo>
                    <a:lnTo>
                      <a:pt x="41" y="159"/>
                    </a:lnTo>
                    <a:lnTo>
                      <a:pt x="62" y="147"/>
                    </a:lnTo>
                    <a:lnTo>
                      <a:pt x="82" y="135"/>
                    </a:lnTo>
                    <a:lnTo>
                      <a:pt x="91" y="130"/>
                    </a:lnTo>
                    <a:lnTo>
                      <a:pt x="103" y="125"/>
                    </a:lnTo>
                    <a:lnTo>
                      <a:pt x="103" y="119"/>
                    </a:lnTo>
                    <a:lnTo>
                      <a:pt x="99" y="118"/>
                    </a:lnTo>
                    <a:lnTo>
                      <a:pt x="67" y="135"/>
                    </a:lnTo>
                    <a:lnTo>
                      <a:pt x="54" y="144"/>
                    </a:lnTo>
                    <a:lnTo>
                      <a:pt x="39" y="155"/>
                    </a:lnTo>
                    <a:lnTo>
                      <a:pt x="23" y="164"/>
                    </a:lnTo>
                    <a:lnTo>
                      <a:pt x="16" y="166"/>
                    </a:lnTo>
                    <a:lnTo>
                      <a:pt x="7" y="166"/>
                    </a:lnTo>
                    <a:lnTo>
                      <a:pt x="3" y="159"/>
                    </a:lnTo>
                    <a:lnTo>
                      <a:pt x="3" y="153"/>
                    </a:lnTo>
                    <a:lnTo>
                      <a:pt x="6" y="147"/>
                    </a:lnTo>
                    <a:lnTo>
                      <a:pt x="11" y="142"/>
                    </a:lnTo>
                    <a:lnTo>
                      <a:pt x="32" y="130"/>
                    </a:lnTo>
                    <a:lnTo>
                      <a:pt x="51" y="117"/>
                    </a:lnTo>
                    <a:lnTo>
                      <a:pt x="72" y="103"/>
                    </a:lnTo>
                    <a:lnTo>
                      <a:pt x="83" y="97"/>
                    </a:lnTo>
                    <a:lnTo>
                      <a:pt x="94" y="92"/>
                    </a:lnTo>
                    <a:lnTo>
                      <a:pt x="91" y="89"/>
                    </a:lnTo>
                    <a:lnTo>
                      <a:pt x="79" y="92"/>
                    </a:lnTo>
                    <a:lnTo>
                      <a:pt x="68" y="97"/>
                    </a:lnTo>
                    <a:lnTo>
                      <a:pt x="58" y="103"/>
                    </a:lnTo>
                    <a:lnTo>
                      <a:pt x="49" y="109"/>
                    </a:lnTo>
                    <a:lnTo>
                      <a:pt x="30" y="123"/>
                    </a:lnTo>
                    <a:lnTo>
                      <a:pt x="8" y="135"/>
                    </a:lnTo>
                    <a:lnTo>
                      <a:pt x="5" y="135"/>
                    </a:lnTo>
                    <a:lnTo>
                      <a:pt x="0" y="132"/>
                    </a:lnTo>
                    <a:lnTo>
                      <a:pt x="2" y="123"/>
                    </a:lnTo>
                    <a:lnTo>
                      <a:pt x="6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30" y="86"/>
                    </a:lnTo>
                    <a:lnTo>
                      <a:pt x="46" y="75"/>
                    </a:lnTo>
                    <a:lnTo>
                      <a:pt x="52" y="71"/>
                    </a:lnTo>
                    <a:lnTo>
                      <a:pt x="60" y="64"/>
                    </a:lnTo>
                    <a:lnTo>
                      <a:pt x="67" y="61"/>
                    </a:lnTo>
                    <a:lnTo>
                      <a:pt x="74" y="54"/>
                    </a:lnTo>
                    <a:lnTo>
                      <a:pt x="83" y="50"/>
                    </a:lnTo>
                    <a:lnTo>
                      <a:pt x="91" y="46"/>
                    </a:lnTo>
                    <a:lnTo>
                      <a:pt x="115" y="48"/>
                    </a:lnTo>
                    <a:lnTo>
                      <a:pt x="127" y="48"/>
                    </a:lnTo>
                    <a:lnTo>
                      <a:pt x="139" y="48"/>
                    </a:lnTo>
                    <a:lnTo>
                      <a:pt x="145" y="56"/>
                    </a:lnTo>
                    <a:lnTo>
                      <a:pt x="151" y="62"/>
                    </a:lnTo>
                    <a:lnTo>
                      <a:pt x="160" y="68"/>
                    </a:lnTo>
                    <a:lnTo>
                      <a:pt x="170" y="73"/>
                    </a:lnTo>
                    <a:lnTo>
                      <a:pt x="172" y="71"/>
                    </a:lnTo>
                    <a:lnTo>
                      <a:pt x="171" y="65"/>
                    </a:lnTo>
                    <a:lnTo>
                      <a:pt x="166" y="65"/>
                    </a:lnTo>
                    <a:lnTo>
                      <a:pt x="162" y="63"/>
                    </a:lnTo>
                    <a:lnTo>
                      <a:pt x="155" y="54"/>
                    </a:lnTo>
                    <a:lnTo>
                      <a:pt x="148" y="46"/>
                    </a:lnTo>
                    <a:lnTo>
                      <a:pt x="142" y="40"/>
                    </a:lnTo>
                    <a:lnTo>
                      <a:pt x="139" y="41"/>
                    </a:lnTo>
                    <a:lnTo>
                      <a:pt x="128" y="43"/>
                    </a:lnTo>
                    <a:lnTo>
                      <a:pt x="117" y="42"/>
                    </a:lnTo>
                    <a:lnTo>
                      <a:pt x="95" y="40"/>
                    </a:lnTo>
                    <a:lnTo>
                      <a:pt x="87" y="39"/>
                    </a:lnTo>
                    <a:lnTo>
                      <a:pt x="78" y="36"/>
                    </a:lnTo>
                    <a:lnTo>
                      <a:pt x="72" y="33"/>
                    </a:lnTo>
                    <a:lnTo>
                      <a:pt x="63" y="28"/>
                    </a:lnTo>
                    <a:lnTo>
                      <a:pt x="62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82" y="11"/>
                    </a:lnTo>
                    <a:lnTo>
                      <a:pt x="101" y="7"/>
                    </a:lnTo>
                    <a:lnTo>
                      <a:pt x="121" y="3"/>
                    </a:lnTo>
                    <a:lnTo>
                      <a:pt x="140" y="1"/>
                    </a:lnTo>
                    <a:lnTo>
                      <a:pt x="160" y="0"/>
                    </a:lnTo>
                    <a:lnTo>
                      <a:pt x="181" y="0"/>
                    </a:lnTo>
                    <a:lnTo>
                      <a:pt x="200" y="1"/>
                    </a:lnTo>
                    <a:lnTo>
                      <a:pt x="220" y="3"/>
                    </a:lnTo>
                    <a:lnTo>
                      <a:pt x="229" y="13"/>
                    </a:lnTo>
                    <a:lnTo>
                      <a:pt x="238" y="23"/>
                    </a:lnTo>
                    <a:lnTo>
                      <a:pt x="246" y="40"/>
                    </a:lnTo>
                    <a:lnTo>
                      <a:pt x="252" y="59"/>
                    </a:lnTo>
                    <a:lnTo>
                      <a:pt x="254" y="79"/>
                    </a:lnTo>
                    <a:lnTo>
                      <a:pt x="252" y="99"/>
                    </a:lnTo>
                    <a:lnTo>
                      <a:pt x="231" y="120"/>
                    </a:lnTo>
                    <a:lnTo>
                      <a:pt x="207" y="142"/>
                    </a:lnTo>
                    <a:lnTo>
                      <a:pt x="197" y="142"/>
                    </a:lnTo>
                    <a:lnTo>
                      <a:pt x="187" y="143"/>
                    </a:lnTo>
                    <a:lnTo>
                      <a:pt x="177" y="144"/>
                    </a:lnTo>
                    <a:lnTo>
                      <a:pt x="169" y="147"/>
                    </a:lnTo>
                    <a:lnTo>
                      <a:pt x="150" y="153"/>
                    </a:lnTo>
                    <a:lnTo>
                      <a:pt x="133" y="160"/>
                    </a:lnTo>
                    <a:lnTo>
                      <a:pt x="99" y="175"/>
                    </a:lnTo>
                    <a:lnTo>
                      <a:pt x="82" y="182"/>
                    </a:lnTo>
                    <a:lnTo>
                      <a:pt x="63" y="187"/>
                    </a:lnTo>
                    <a:lnTo>
                      <a:pt x="58" y="186"/>
                    </a:lnTo>
                    <a:lnTo>
                      <a:pt x="56" y="183"/>
                    </a:lnTo>
                    <a:lnTo>
                      <a:pt x="55" y="181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960600" y="4616280"/>
                <a:ext cx="65880" cy="71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2" y="44"/>
                    </a:moveTo>
                    <a:lnTo>
                      <a:pt x="6" y="37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5" y="33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1" y="47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903360" y="459180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14" y="13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18" y="22"/>
                    </a:lnTo>
                    <a:lnTo>
                      <a:pt x="13" y="2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907680" y="4425120"/>
                <a:ext cx="118800" cy="196560"/>
              </a:xfrm>
              <a:custGeom>
                <a:avLst/>
                <a:gdLst/>
                <a:ahLst/>
                <a:rect l="l" t="t" r="r" b="b"/>
                <a:pathLst>
                  <a:path w="74" h="133">
                    <a:moveTo>
                      <a:pt x="24" y="133"/>
                    </a:moveTo>
                    <a:lnTo>
                      <a:pt x="29" y="127"/>
                    </a:lnTo>
                    <a:lnTo>
                      <a:pt x="33" y="118"/>
                    </a:lnTo>
                    <a:lnTo>
                      <a:pt x="36" y="100"/>
                    </a:lnTo>
                    <a:lnTo>
                      <a:pt x="38" y="82"/>
                    </a:lnTo>
                    <a:lnTo>
                      <a:pt x="35" y="64"/>
                    </a:lnTo>
                    <a:lnTo>
                      <a:pt x="30" y="47"/>
                    </a:lnTo>
                    <a:lnTo>
                      <a:pt x="22" y="31"/>
                    </a:lnTo>
                    <a:lnTo>
                      <a:pt x="12" y="19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49" y="13"/>
                    </a:lnTo>
                    <a:lnTo>
                      <a:pt x="60" y="26"/>
                    </a:lnTo>
                    <a:lnTo>
                      <a:pt x="65" y="37"/>
                    </a:lnTo>
                    <a:lnTo>
                      <a:pt x="69" y="48"/>
                    </a:lnTo>
                    <a:lnTo>
                      <a:pt x="72" y="60"/>
                    </a:lnTo>
                    <a:lnTo>
                      <a:pt x="73" y="72"/>
                    </a:lnTo>
                    <a:lnTo>
                      <a:pt x="74" y="98"/>
                    </a:lnTo>
                    <a:lnTo>
                      <a:pt x="74" y="122"/>
                    </a:lnTo>
                    <a:lnTo>
                      <a:pt x="50" y="128"/>
                    </a:lnTo>
                    <a:lnTo>
                      <a:pt x="2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7475760" y="443052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5" y="38"/>
                    </a:moveTo>
                    <a:lnTo>
                      <a:pt x="1" y="36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33" y="1"/>
                    </a:lnTo>
                    <a:lnTo>
                      <a:pt x="66" y="1"/>
                    </a:lnTo>
                    <a:lnTo>
                      <a:pt x="68" y="19"/>
                    </a:lnTo>
                    <a:lnTo>
                      <a:pt x="69" y="37"/>
                    </a:lnTo>
                    <a:lnTo>
                      <a:pt x="47" y="38"/>
                    </a:lnTo>
                    <a:lnTo>
                      <a:pt x="36" y="38"/>
                    </a:ln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94920" y="4430520"/>
                <a:ext cx="33480" cy="54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" y="3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0" y="20"/>
                    </a:lnTo>
                    <a:lnTo>
                      <a:pt x="17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404480" y="4425120"/>
                <a:ext cx="61560" cy="5940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0" y="39"/>
                    </a:moveTo>
                    <a:lnTo>
                      <a:pt x="23" y="37"/>
                    </a:lnTo>
                    <a:lnTo>
                      <a:pt x="16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2"/>
                    </a:lnTo>
                    <a:lnTo>
                      <a:pt x="38" y="3"/>
                    </a:lnTo>
                    <a:lnTo>
                      <a:pt x="39" y="11"/>
                    </a:lnTo>
                    <a:lnTo>
                      <a:pt x="39" y="20"/>
                    </a:lnTo>
                    <a:lnTo>
                      <a:pt x="39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7499520" y="4442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1" y="18"/>
                    </a:move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6" y="0"/>
                    </a:lnTo>
                    <a:lnTo>
                      <a:pt x="39" y="5"/>
                    </a:lnTo>
                    <a:lnTo>
                      <a:pt x="39" y="15"/>
                    </a:lnTo>
                    <a:lnTo>
                      <a:pt x="35" y="18"/>
                    </a:lnTo>
                    <a:lnTo>
                      <a:pt x="28" y="17"/>
                    </a:lnTo>
                    <a:lnTo>
                      <a:pt x="19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7509240" y="445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414200" y="3616920"/>
                <a:ext cx="228240" cy="807840"/>
              </a:xfrm>
              <a:custGeom>
                <a:avLst/>
                <a:gdLst/>
                <a:ahLst/>
                <a:rect l="l" t="t" r="r" b="b"/>
                <a:pathLst>
                  <a:path w="144" h="539">
                    <a:moveTo>
                      <a:pt x="76" y="539"/>
                    </a:moveTo>
                    <a:lnTo>
                      <a:pt x="57" y="538"/>
                    </a:lnTo>
                    <a:lnTo>
                      <a:pt x="38" y="537"/>
                    </a:lnTo>
                    <a:lnTo>
                      <a:pt x="18" y="535"/>
                    </a:lnTo>
                    <a:lnTo>
                      <a:pt x="0" y="536"/>
                    </a:lnTo>
                    <a:lnTo>
                      <a:pt x="17" y="403"/>
                    </a:lnTo>
                    <a:lnTo>
                      <a:pt x="38" y="272"/>
                    </a:lnTo>
                    <a:lnTo>
                      <a:pt x="60" y="137"/>
                    </a:lnTo>
                    <a:lnTo>
                      <a:pt x="84" y="0"/>
                    </a:lnTo>
                    <a:lnTo>
                      <a:pt x="82" y="54"/>
                    </a:lnTo>
                    <a:lnTo>
                      <a:pt x="79" y="109"/>
                    </a:lnTo>
                    <a:lnTo>
                      <a:pt x="83" y="111"/>
                    </a:lnTo>
                    <a:lnTo>
                      <a:pt x="100" y="90"/>
                    </a:lnTo>
                    <a:lnTo>
                      <a:pt x="116" y="68"/>
                    </a:lnTo>
                    <a:lnTo>
                      <a:pt x="120" y="68"/>
                    </a:lnTo>
                    <a:lnTo>
                      <a:pt x="128" y="95"/>
                    </a:lnTo>
                    <a:lnTo>
                      <a:pt x="109" y="157"/>
                    </a:lnTo>
                    <a:lnTo>
                      <a:pt x="68" y="292"/>
                    </a:lnTo>
                    <a:lnTo>
                      <a:pt x="29" y="425"/>
                    </a:lnTo>
                    <a:lnTo>
                      <a:pt x="60" y="479"/>
                    </a:lnTo>
                    <a:lnTo>
                      <a:pt x="93" y="533"/>
                    </a:lnTo>
                    <a:lnTo>
                      <a:pt x="96" y="533"/>
                    </a:lnTo>
                    <a:lnTo>
                      <a:pt x="120" y="507"/>
                    </a:lnTo>
                    <a:lnTo>
                      <a:pt x="144" y="480"/>
                    </a:lnTo>
                    <a:lnTo>
                      <a:pt x="139" y="508"/>
                    </a:lnTo>
                    <a:lnTo>
                      <a:pt x="136" y="538"/>
                    </a:lnTo>
                    <a:lnTo>
                      <a:pt x="109" y="538"/>
                    </a:lnTo>
                    <a:lnTo>
                      <a:pt x="79" y="539"/>
                    </a:lnTo>
                    <a:lnTo>
                      <a:pt x="76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470360" y="3767400"/>
                <a:ext cx="219600" cy="632880"/>
              </a:xfrm>
              <a:custGeom>
                <a:avLst/>
                <a:gdLst/>
                <a:ahLst/>
                <a:rect l="l" t="t" r="r" b="b"/>
                <a:pathLst>
                  <a:path w="137" h="426">
                    <a:moveTo>
                      <a:pt x="59" y="426"/>
                    </a:moveTo>
                    <a:lnTo>
                      <a:pt x="29" y="376"/>
                    </a:lnTo>
                    <a:lnTo>
                      <a:pt x="14" y="350"/>
                    </a:lnTo>
                    <a:lnTo>
                      <a:pt x="0" y="325"/>
                    </a:lnTo>
                    <a:lnTo>
                      <a:pt x="23" y="243"/>
                    </a:lnTo>
                    <a:lnTo>
                      <a:pt x="47" y="164"/>
                    </a:lnTo>
                    <a:lnTo>
                      <a:pt x="96" y="1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7" y="52"/>
                    </a:lnTo>
                    <a:lnTo>
                      <a:pt x="124" y="107"/>
                    </a:lnTo>
                    <a:lnTo>
                      <a:pt x="137" y="212"/>
                    </a:lnTo>
                    <a:lnTo>
                      <a:pt x="124" y="287"/>
                    </a:lnTo>
                    <a:lnTo>
                      <a:pt x="106" y="375"/>
                    </a:lnTo>
                    <a:lnTo>
                      <a:pt x="95" y="387"/>
                    </a:lnTo>
                    <a:lnTo>
                      <a:pt x="83" y="399"/>
                    </a:lnTo>
                    <a:lnTo>
                      <a:pt x="61" y="423"/>
                    </a:lnTo>
                    <a:lnTo>
                      <a:pt x="59" y="42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365240" y="3785040"/>
                <a:ext cx="138240" cy="579960"/>
              </a:xfrm>
              <a:custGeom>
                <a:avLst/>
                <a:gdLst/>
                <a:ahLst/>
                <a:rect l="l" t="t" r="r" b="b"/>
                <a:pathLst>
                  <a:path w="87" h="387">
                    <a:moveTo>
                      <a:pt x="26" y="387"/>
                    </a:moveTo>
                    <a:lnTo>
                      <a:pt x="13" y="297"/>
                    </a:lnTo>
                    <a:lnTo>
                      <a:pt x="4" y="207"/>
                    </a:lnTo>
                    <a:lnTo>
                      <a:pt x="2" y="162"/>
                    </a:lnTo>
                    <a:lnTo>
                      <a:pt x="0" y="118"/>
                    </a:lnTo>
                    <a:lnTo>
                      <a:pt x="2" y="73"/>
                    </a:lnTo>
                    <a:lnTo>
                      <a:pt x="5" y="28"/>
                    </a:lnTo>
                    <a:lnTo>
                      <a:pt x="29" y="27"/>
                    </a:lnTo>
                    <a:lnTo>
                      <a:pt x="48" y="20"/>
                    </a:lnTo>
                    <a:lnTo>
                      <a:pt x="68" y="1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70" y="96"/>
                    </a:lnTo>
                    <a:lnTo>
                      <a:pt x="55" y="193"/>
                    </a:lnTo>
                    <a:lnTo>
                      <a:pt x="26" y="385"/>
                    </a:lnTo>
                    <a:lnTo>
                      <a:pt x="26" y="3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7652160" y="3737880"/>
                <a:ext cx="328680" cy="603000"/>
              </a:xfrm>
              <a:custGeom>
                <a:avLst/>
                <a:gdLst/>
                <a:ahLst/>
                <a:rect l="l" t="t" r="r" b="b"/>
                <a:pathLst>
                  <a:path w="207" h="405">
                    <a:moveTo>
                      <a:pt x="0" y="405"/>
                    </a:moveTo>
                    <a:lnTo>
                      <a:pt x="9" y="354"/>
                    </a:lnTo>
                    <a:lnTo>
                      <a:pt x="19" y="303"/>
                    </a:lnTo>
                    <a:lnTo>
                      <a:pt x="30" y="252"/>
                    </a:lnTo>
                    <a:lnTo>
                      <a:pt x="43" y="199"/>
                    </a:lnTo>
                    <a:lnTo>
                      <a:pt x="58" y="148"/>
                    </a:lnTo>
                    <a:lnTo>
                      <a:pt x="74" y="97"/>
                    </a:lnTo>
                    <a:lnTo>
                      <a:pt x="92" y="47"/>
                    </a:lnTo>
                    <a:lnTo>
                      <a:pt x="112" y="0"/>
                    </a:lnTo>
                    <a:lnTo>
                      <a:pt x="158" y="32"/>
                    </a:lnTo>
                    <a:lnTo>
                      <a:pt x="207" y="67"/>
                    </a:lnTo>
                    <a:lnTo>
                      <a:pt x="164" y="129"/>
                    </a:lnTo>
                    <a:lnTo>
                      <a:pt x="144" y="160"/>
                    </a:lnTo>
                    <a:lnTo>
                      <a:pt x="123" y="192"/>
                    </a:lnTo>
                    <a:lnTo>
                      <a:pt x="92" y="243"/>
                    </a:lnTo>
                    <a:lnTo>
                      <a:pt x="62" y="294"/>
                    </a:lnTo>
                    <a:lnTo>
                      <a:pt x="31" y="348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7652160" y="3708000"/>
                <a:ext cx="166680" cy="364320"/>
              </a:xfrm>
              <a:custGeom>
                <a:avLst/>
                <a:gdLst/>
                <a:ahLst/>
                <a:rect l="l" t="t" r="r" b="b"/>
                <a:pathLst>
                  <a:path w="105" h="245">
                    <a:moveTo>
                      <a:pt x="27" y="245"/>
                    </a:moveTo>
                    <a:lnTo>
                      <a:pt x="20" y="192"/>
                    </a:lnTo>
                    <a:lnTo>
                      <a:pt x="14" y="140"/>
                    </a:lnTo>
                    <a:lnTo>
                      <a:pt x="0" y="37"/>
                    </a:lnTo>
                    <a:lnTo>
                      <a:pt x="16" y="17"/>
                    </a:lnTo>
                    <a:lnTo>
                      <a:pt x="30" y="0"/>
                    </a:lnTo>
                    <a:lnTo>
                      <a:pt x="49" y="24"/>
                    </a:lnTo>
                    <a:lnTo>
                      <a:pt x="67" y="50"/>
                    </a:lnTo>
                    <a:lnTo>
                      <a:pt x="69" y="50"/>
                    </a:lnTo>
                    <a:lnTo>
                      <a:pt x="88" y="29"/>
                    </a:lnTo>
                    <a:lnTo>
                      <a:pt x="105" y="9"/>
                    </a:lnTo>
                    <a:lnTo>
                      <a:pt x="105" y="11"/>
                    </a:lnTo>
                    <a:lnTo>
                      <a:pt x="74" y="90"/>
                    </a:lnTo>
                    <a:lnTo>
                      <a:pt x="47" y="173"/>
                    </a:lnTo>
                    <a:lnTo>
                      <a:pt x="39" y="203"/>
                    </a:lnTo>
                    <a:lnTo>
                      <a:pt x="30" y="235"/>
                    </a:lnTo>
                    <a:lnTo>
                      <a:pt x="28" y="239"/>
                    </a:lnTo>
                    <a:lnTo>
                      <a:pt x="27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862040" y="4000680"/>
                <a:ext cx="100440" cy="230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17"/>
                    </a:moveTo>
                    <a:lnTo>
                      <a:pt x="4" y="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1" y="9"/>
                    </a:lnTo>
                    <a:lnTo>
                      <a:pt x="6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356600" y="39114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356600" y="3869280"/>
                <a:ext cx="4320" cy="3492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404480" y="358740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8">
                    <a:moveTo>
                      <a:pt x="33" y="138"/>
                    </a:moveTo>
                    <a:lnTo>
                      <a:pt x="17" y="125"/>
                    </a:lnTo>
                    <a:lnTo>
                      <a:pt x="0" y="110"/>
                    </a:lnTo>
                    <a:lnTo>
                      <a:pt x="5" y="97"/>
                    </a:lnTo>
                    <a:lnTo>
                      <a:pt x="10" y="84"/>
                    </a:lnTo>
                    <a:lnTo>
                      <a:pt x="16" y="71"/>
                    </a:lnTo>
                    <a:lnTo>
                      <a:pt x="23" y="62"/>
                    </a:lnTo>
                    <a:lnTo>
                      <a:pt x="52" y="18"/>
                    </a:lnTo>
                    <a:lnTo>
                      <a:pt x="70" y="9"/>
                    </a:lnTo>
                    <a:lnTo>
                      <a:pt x="87" y="0"/>
                    </a:lnTo>
                    <a:lnTo>
                      <a:pt x="65" y="121"/>
                    </a:lnTo>
                    <a:lnTo>
                      <a:pt x="49" y="13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671600" y="3467880"/>
                <a:ext cx="190440" cy="299520"/>
              </a:xfrm>
              <a:custGeom>
                <a:avLst/>
                <a:gdLst/>
                <a:ahLst/>
                <a:rect l="l" t="t" r="r" b="b"/>
                <a:pathLst>
                  <a:path w="120" h="199">
                    <a:moveTo>
                      <a:pt x="57" y="199"/>
                    </a:moveTo>
                    <a:lnTo>
                      <a:pt x="41" y="180"/>
                    </a:lnTo>
                    <a:lnTo>
                      <a:pt x="29" y="159"/>
                    </a:lnTo>
                    <a:lnTo>
                      <a:pt x="16" y="137"/>
                    </a:lnTo>
                    <a:lnTo>
                      <a:pt x="0" y="117"/>
                    </a:lnTo>
                    <a:lnTo>
                      <a:pt x="19" y="110"/>
                    </a:lnTo>
                    <a:lnTo>
                      <a:pt x="37" y="102"/>
                    </a:lnTo>
                    <a:lnTo>
                      <a:pt x="51" y="91"/>
                    </a:lnTo>
                    <a:lnTo>
                      <a:pt x="65" y="79"/>
                    </a:lnTo>
                    <a:lnTo>
                      <a:pt x="76" y="64"/>
                    </a:lnTo>
                    <a:lnTo>
                      <a:pt x="87" y="48"/>
                    </a:lnTo>
                    <a:lnTo>
                      <a:pt x="105" y="17"/>
                    </a:lnTo>
                    <a:lnTo>
                      <a:pt x="110" y="11"/>
                    </a:lnTo>
                    <a:lnTo>
                      <a:pt x="115" y="0"/>
                    </a:lnTo>
                    <a:lnTo>
                      <a:pt x="116" y="2"/>
                    </a:lnTo>
                    <a:lnTo>
                      <a:pt x="119" y="20"/>
                    </a:lnTo>
                    <a:lnTo>
                      <a:pt x="120" y="40"/>
                    </a:lnTo>
                    <a:lnTo>
                      <a:pt x="119" y="58"/>
                    </a:lnTo>
                    <a:lnTo>
                      <a:pt x="117" y="79"/>
                    </a:lnTo>
                    <a:lnTo>
                      <a:pt x="114" y="98"/>
                    </a:lnTo>
                    <a:lnTo>
                      <a:pt x="109" y="118"/>
                    </a:lnTo>
                    <a:lnTo>
                      <a:pt x="104" y="137"/>
                    </a:lnTo>
                    <a:lnTo>
                      <a:pt x="97" y="154"/>
                    </a:lnTo>
                    <a:lnTo>
                      <a:pt x="78" y="176"/>
                    </a:lnTo>
                    <a:lnTo>
                      <a:pt x="57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833960" y="3539880"/>
                <a:ext cx="128520" cy="220680"/>
              </a:xfrm>
              <a:custGeom>
                <a:avLst/>
                <a:gdLst/>
                <a:ahLst/>
                <a:rect l="l" t="t" r="r" b="b"/>
                <a:pathLst>
                  <a:path w="81" h="151">
                    <a:moveTo>
                      <a:pt x="33" y="151"/>
                    </a:moveTo>
                    <a:lnTo>
                      <a:pt x="0" y="129"/>
                    </a:lnTo>
                    <a:lnTo>
                      <a:pt x="0" y="125"/>
                    </a:lnTo>
                    <a:lnTo>
                      <a:pt x="11" y="95"/>
                    </a:lnTo>
                    <a:lnTo>
                      <a:pt x="19" y="63"/>
                    </a:lnTo>
                    <a:lnTo>
                      <a:pt x="23" y="3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69" y="17"/>
                    </a:lnTo>
                    <a:lnTo>
                      <a:pt x="75" y="72"/>
                    </a:lnTo>
                    <a:lnTo>
                      <a:pt x="81" y="125"/>
                    </a:lnTo>
                    <a:lnTo>
                      <a:pt x="57" y="136"/>
                    </a:lnTo>
                    <a:lnTo>
                      <a:pt x="44" y="142"/>
                    </a:lnTo>
                    <a:lnTo>
                      <a:pt x="33" y="148"/>
                    </a:lnTo>
                    <a:lnTo>
                      <a:pt x="33" y="1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547400" y="3546720"/>
                <a:ext cx="104760" cy="213840"/>
              </a:xfrm>
              <a:custGeom>
                <a:avLst/>
                <a:gdLst/>
                <a:ahLst/>
                <a:rect l="l" t="t" r="r" b="b"/>
                <a:pathLst>
                  <a:path w="65" h="146">
                    <a:moveTo>
                      <a:pt x="0" y="146"/>
                    </a:moveTo>
                    <a:lnTo>
                      <a:pt x="3" y="83"/>
                    </a:lnTo>
                    <a:lnTo>
                      <a:pt x="4" y="30"/>
                    </a:lnTo>
                    <a:lnTo>
                      <a:pt x="7" y="24"/>
                    </a:lnTo>
                    <a:lnTo>
                      <a:pt x="11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7" y="20"/>
                    </a:lnTo>
                    <a:lnTo>
                      <a:pt x="36" y="39"/>
                    </a:lnTo>
                    <a:lnTo>
                      <a:pt x="48" y="55"/>
                    </a:lnTo>
                    <a:lnTo>
                      <a:pt x="56" y="62"/>
                    </a:lnTo>
                    <a:lnTo>
                      <a:pt x="65" y="69"/>
                    </a:lnTo>
                    <a:lnTo>
                      <a:pt x="35" y="106"/>
                    </a:lnTo>
                    <a:lnTo>
                      <a:pt x="19" y="12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7604640" y="3646800"/>
                <a:ext cx="90720" cy="10836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14" y="71"/>
                    </a:moveTo>
                    <a:lnTo>
                      <a:pt x="6" y="57"/>
                    </a:lnTo>
                    <a:lnTo>
                      <a:pt x="0" y="43"/>
                    </a:lnTo>
                    <a:lnTo>
                      <a:pt x="34" y="0"/>
                    </a:lnTo>
                    <a:lnTo>
                      <a:pt x="41" y="6"/>
                    </a:lnTo>
                    <a:lnTo>
                      <a:pt x="47" y="13"/>
                    </a:lnTo>
                    <a:lnTo>
                      <a:pt x="57" y="30"/>
                    </a:lnTo>
                    <a:lnTo>
                      <a:pt x="57" y="34"/>
                    </a:lnTo>
                    <a:lnTo>
                      <a:pt x="42" y="52"/>
                    </a:lnTo>
                    <a:lnTo>
                      <a:pt x="25" y="71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7585200" y="3354120"/>
                <a:ext cx="262800" cy="281880"/>
              </a:xfrm>
              <a:custGeom>
                <a:avLst/>
                <a:gdLst/>
                <a:ahLst/>
                <a:rect l="l" t="t" r="r" b="b"/>
                <a:pathLst>
                  <a:path w="163" h="188">
                    <a:moveTo>
                      <a:pt x="21" y="169"/>
                    </a:moveTo>
                    <a:lnTo>
                      <a:pt x="10" y="146"/>
                    </a:lnTo>
                    <a:lnTo>
                      <a:pt x="4" y="131"/>
                    </a:lnTo>
                    <a:lnTo>
                      <a:pt x="0" y="117"/>
                    </a:lnTo>
                    <a:lnTo>
                      <a:pt x="21" y="115"/>
                    </a:lnTo>
                    <a:lnTo>
                      <a:pt x="38" y="112"/>
                    </a:lnTo>
                    <a:lnTo>
                      <a:pt x="55" y="107"/>
                    </a:lnTo>
                    <a:lnTo>
                      <a:pt x="72" y="100"/>
                    </a:lnTo>
                    <a:lnTo>
                      <a:pt x="88" y="90"/>
                    </a:lnTo>
                    <a:lnTo>
                      <a:pt x="103" y="80"/>
                    </a:lnTo>
                    <a:lnTo>
                      <a:pt x="117" y="68"/>
                    </a:lnTo>
                    <a:lnTo>
                      <a:pt x="131" y="56"/>
                    </a:lnTo>
                    <a:lnTo>
                      <a:pt x="141" y="44"/>
                    </a:lnTo>
                    <a:lnTo>
                      <a:pt x="148" y="30"/>
                    </a:lnTo>
                    <a:lnTo>
                      <a:pt x="155" y="17"/>
                    </a:lnTo>
                    <a:lnTo>
                      <a:pt x="162" y="0"/>
                    </a:lnTo>
                    <a:lnTo>
                      <a:pt x="162" y="38"/>
                    </a:lnTo>
                    <a:lnTo>
                      <a:pt x="163" y="74"/>
                    </a:lnTo>
                    <a:lnTo>
                      <a:pt x="155" y="90"/>
                    </a:lnTo>
                    <a:lnTo>
                      <a:pt x="146" y="107"/>
                    </a:lnTo>
                    <a:lnTo>
                      <a:pt x="137" y="122"/>
                    </a:lnTo>
                    <a:lnTo>
                      <a:pt x="126" y="136"/>
                    </a:lnTo>
                    <a:lnTo>
                      <a:pt x="114" y="151"/>
                    </a:lnTo>
                    <a:lnTo>
                      <a:pt x="100" y="164"/>
                    </a:lnTo>
                    <a:lnTo>
                      <a:pt x="86" y="174"/>
                    </a:lnTo>
                    <a:lnTo>
                      <a:pt x="69" y="184"/>
                    </a:lnTo>
                    <a:lnTo>
                      <a:pt x="58" y="187"/>
                    </a:lnTo>
                    <a:lnTo>
                      <a:pt x="53" y="188"/>
                    </a:lnTo>
                    <a:lnTo>
                      <a:pt x="46" y="188"/>
                    </a:lnTo>
                    <a:lnTo>
                      <a:pt x="40" y="186"/>
                    </a:lnTo>
                    <a:lnTo>
                      <a:pt x="34" y="184"/>
                    </a:lnTo>
                    <a:lnTo>
                      <a:pt x="21" y="169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7461720" y="2954160"/>
                <a:ext cx="380880" cy="561240"/>
              </a:xfrm>
              <a:custGeom>
                <a:avLst/>
                <a:gdLst/>
                <a:ahLst/>
                <a:rect l="l" t="t" r="r" b="b"/>
                <a:pathLst>
                  <a:path w="242" h="378">
                    <a:moveTo>
                      <a:pt x="68" y="0"/>
                    </a:moveTo>
                    <a:lnTo>
                      <a:pt x="55" y="4"/>
                    </a:lnTo>
                    <a:lnTo>
                      <a:pt x="44" y="10"/>
                    </a:lnTo>
                    <a:lnTo>
                      <a:pt x="36" y="16"/>
                    </a:lnTo>
                    <a:lnTo>
                      <a:pt x="27" y="24"/>
                    </a:lnTo>
                    <a:lnTo>
                      <a:pt x="18" y="43"/>
                    </a:lnTo>
                    <a:lnTo>
                      <a:pt x="13" y="51"/>
                    </a:lnTo>
                    <a:lnTo>
                      <a:pt x="11" y="61"/>
                    </a:lnTo>
                    <a:lnTo>
                      <a:pt x="24" y="61"/>
                    </a:lnTo>
                    <a:lnTo>
                      <a:pt x="29" y="62"/>
                    </a:lnTo>
                    <a:lnTo>
                      <a:pt x="31" y="64"/>
                    </a:lnTo>
                    <a:lnTo>
                      <a:pt x="33" y="67"/>
                    </a:lnTo>
                    <a:lnTo>
                      <a:pt x="35" y="69"/>
                    </a:lnTo>
                    <a:lnTo>
                      <a:pt x="33" y="77"/>
                    </a:lnTo>
                    <a:lnTo>
                      <a:pt x="31" y="81"/>
                    </a:lnTo>
                    <a:lnTo>
                      <a:pt x="18" y="92"/>
                    </a:lnTo>
                    <a:lnTo>
                      <a:pt x="3" y="100"/>
                    </a:lnTo>
                    <a:lnTo>
                      <a:pt x="2" y="107"/>
                    </a:lnTo>
                    <a:lnTo>
                      <a:pt x="2" y="117"/>
                    </a:lnTo>
                    <a:lnTo>
                      <a:pt x="3" y="113"/>
                    </a:lnTo>
                    <a:lnTo>
                      <a:pt x="5" y="111"/>
                    </a:lnTo>
                    <a:lnTo>
                      <a:pt x="13" y="106"/>
                    </a:lnTo>
                    <a:lnTo>
                      <a:pt x="21" y="102"/>
                    </a:lnTo>
                    <a:lnTo>
                      <a:pt x="25" y="102"/>
                    </a:lnTo>
                    <a:lnTo>
                      <a:pt x="27" y="103"/>
                    </a:lnTo>
                    <a:lnTo>
                      <a:pt x="27" y="108"/>
                    </a:lnTo>
                    <a:lnTo>
                      <a:pt x="20" y="109"/>
                    </a:lnTo>
                    <a:lnTo>
                      <a:pt x="13" y="113"/>
                    </a:lnTo>
                    <a:lnTo>
                      <a:pt x="7" y="119"/>
                    </a:lnTo>
                    <a:lnTo>
                      <a:pt x="3" y="126"/>
                    </a:lnTo>
                    <a:lnTo>
                      <a:pt x="0" y="129"/>
                    </a:lnTo>
                    <a:lnTo>
                      <a:pt x="7" y="136"/>
                    </a:lnTo>
                    <a:lnTo>
                      <a:pt x="13" y="139"/>
                    </a:lnTo>
                    <a:lnTo>
                      <a:pt x="16" y="139"/>
                    </a:lnTo>
                    <a:lnTo>
                      <a:pt x="16" y="131"/>
                    </a:lnTo>
                    <a:lnTo>
                      <a:pt x="18" y="123"/>
                    </a:lnTo>
                    <a:lnTo>
                      <a:pt x="22" y="117"/>
                    </a:lnTo>
                    <a:lnTo>
                      <a:pt x="25" y="114"/>
                    </a:lnTo>
                    <a:lnTo>
                      <a:pt x="30" y="113"/>
                    </a:lnTo>
                    <a:lnTo>
                      <a:pt x="35" y="117"/>
                    </a:lnTo>
                    <a:lnTo>
                      <a:pt x="38" y="126"/>
                    </a:lnTo>
                    <a:lnTo>
                      <a:pt x="40" y="137"/>
                    </a:lnTo>
                    <a:lnTo>
                      <a:pt x="38" y="147"/>
                    </a:lnTo>
                    <a:lnTo>
                      <a:pt x="35" y="157"/>
                    </a:lnTo>
                    <a:lnTo>
                      <a:pt x="30" y="159"/>
                    </a:lnTo>
                    <a:lnTo>
                      <a:pt x="25" y="159"/>
                    </a:lnTo>
                    <a:lnTo>
                      <a:pt x="21" y="156"/>
                    </a:lnTo>
                    <a:lnTo>
                      <a:pt x="18" y="148"/>
                    </a:lnTo>
                    <a:lnTo>
                      <a:pt x="14" y="153"/>
                    </a:lnTo>
                    <a:lnTo>
                      <a:pt x="9" y="157"/>
                    </a:lnTo>
                    <a:lnTo>
                      <a:pt x="5" y="162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68"/>
                    </a:lnTo>
                    <a:lnTo>
                      <a:pt x="2" y="313"/>
                    </a:lnTo>
                    <a:lnTo>
                      <a:pt x="0" y="339"/>
                    </a:lnTo>
                    <a:lnTo>
                      <a:pt x="0" y="348"/>
                    </a:lnTo>
                    <a:lnTo>
                      <a:pt x="2" y="354"/>
                    </a:lnTo>
                    <a:lnTo>
                      <a:pt x="5" y="360"/>
                    </a:lnTo>
                    <a:lnTo>
                      <a:pt x="11" y="364"/>
                    </a:lnTo>
                    <a:lnTo>
                      <a:pt x="19" y="367"/>
                    </a:lnTo>
                    <a:lnTo>
                      <a:pt x="27" y="371"/>
                    </a:lnTo>
                    <a:lnTo>
                      <a:pt x="47" y="375"/>
                    </a:lnTo>
                    <a:lnTo>
                      <a:pt x="66" y="378"/>
                    </a:lnTo>
                    <a:lnTo>
                      <a:pt x="68" y="378"/>
                    </a:lnTo>
                    <a:lnTo>
                      <a:pt x="87" y="378"/>
                    </a:lnTo>
                    <a:lnTo>
                      <a:pt x="104" y="377"/>
                    </a:lnTo>
                    <a:lnTo>
                      <a:pt x="122" y="374"/>
                    </a:lnTo>
                    <a:lnTo>
                      <a:pt x="139" y="367"/>
                    </a:lnTo>
                    <a:lnTo>
                      <a:pt x="155" y="359"/>
                    </a:lnTo>
                    <a:lnTo>
                      <a:pt x="169" y="350"/>
                    </a:lnTo>
                    <a:lnTo>
                      <a:pt x="195" y="331"/>
                    </a:lnTo>
                    <a:lnTo>
                      <a:pt x="207" y="319"/>
                    </a:lnTo>
                    <a:lnTo>
                      <a:pt x="217" y="305"/>
                    </a:lnTo>
                    <a:lnTo>
                      <a:pt x="226" y="291"/>
                    </a:lnTo>
                    <a:lnTo>
                      <a:pt x="231" y="275"/>
                    </a:lnTo>
                    <a:lnTo>
                      <a:pt x="235" y="259"/>
                    </a:lnTo>
                    <a:lnTo>
                      <a:pt x="239" y="242"/>
                    </a:lnTo>
                    <a:lnTo>
                      <a:pt x="240" y="225"/>
                    </a:lnTo>
                    <a:lnTo>
                      <a:pt x="242" y="208"/>
                    </a:lnTo>
                    <a:lnTo>
                      <a:pt x="232" y="207"/>
                    </a:lnTo>
                    <a:lnTo>
                      <a:pt x="222" y="206"/>
                    </a:lnTo>
                    <a:lnTo>
                      <a:pt x="221" y="193"/>
                    </a:lnTo>
                    <a:lnTo>
                      <a:pt x="218" y="180"/>
                    </a:lnTo>
                    <a:lnTo>
                      <a:pt x="213" y="153"/>
                    </a:lnTo>
                    <a:lnTo>
                      <a:pt x="210" y="125"/>
                    </a:lnTo>
                    <a:lnTo>
                      <a:pt x="210" y="112"/>
                    </a:lnTo>
                    <a:lnTo>
                      <a:pt x="211" y="100"/>
                    </a:lnTo>
                    <a:lnTo>
                      <a:pt x="216" y="90"/>
                    </a:lnTo>
                    <a:lnTo>
                      <a:pt x="221" y="81"/>
                    </a:lnTo>
                    <a:lnTo>
                      <a:pt x="204" y="80"/>
                    </a:lnTo>
                    <a:lnTo>
                      <a:pt x="185" y="75"/>
                    </a:lnTo>
                    <a:lnTo>
                      <a:pt x="177" y="71"/>
                    </a:lnTo>
                    <a:lnTo>
                      <a:pt x="169" y="64"/>
                    </a:lnTo>
                    <a:lnTo>
                      <a:pt x="164" y="57"/>
                    </a:lnTo>
                    <a:lnTo>
                      <a:pt x="161" y="47"/>
                    </a:lnTo>
                    <a:lnTo>
                      <a:pt x="149" y="39"/>
                    </a:lnTo>
                    <a:lnTo>
                      <a:pt x="142" y="35"/>
                    </a:lnTo>
                    <a:lnTo>
                      <a:pt x="139" y="34"/>
                    </a:lnTo>
                    <a:lnTo>
                      <a:pt x="157" y="53"/>
                    </a:lnTo>
                    <a:lnTo>
                      <a:pt x="157" y="57"/>
                    </a:lnTo>
                    <a:lnTo>
                      <a:pt x="155" y="60"/>
                    </a:lnTo>
                    <a:lnTo>
                      <a:pt x="152" y="60"/>
                    </a:lnTo>
                    <a:lnTo>
                      <a:pt x="129" y="46"/>
                    </a:lnTo>
                    <a:lnTo>
                      <a:pt x="108" y="3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456320" y="2858040"/>
                <a:ext cx="453240" cy="209880"/>
              </a:xfrm>
              <a:custGeom>
                <a:avLst/>
                <a:gdLst/>
                <a:ahLst/>
                <a:rect l="l" t="t" r="r" b="b"/>
                <a:pathLst>
                  <a:path w="285" h="137">
                    <a:moveTo>
                      <a:pt x="36" y="72"/>
                    </a:moveTo>
                    <a:lnTo>
                      <a:pt x="52" y="63"/>
                    </a:lnTo>
                    <a:lnTo>
                      <a:pt x="63" y="58"/>
                    </a:lnTo>
                    <a:lnTo>
                      <a:pt x="61" y="58"/>
                    </a:lnTo>
                    <a:lnTo>
                      <a:pt x="50" y="56"/>
                    </a:lnTo>
                    <a:lnTo>
                      <a:pt x="30" y="52"/>
                    </a:lnTo>
                    <a:lnTo>
                      <a:pt x="34" y="47"/>
                    </a:lnTo>
                    <a:lnTo>
                      <a:pt x="43" y="47"/>
                    </a:lnTo>
                    <a:lnTo>
                      <a:pt x="51" y="49"/>
                    </a:lnTo>
                    <a:lnTo>
                      <a:pt x="58" y="50"/>
                    </a:lnTo>
                    <a:lnTo>
                      <a:pt x="66" y="53"/>
                    </a:lnTo>
                    <a:lnTo>
                      <a:pt x="79" y="61"/>
                    </a:lnTo>
                    <a:lnTo>
                      <a:pt x="92" y="70"/>
                    </a:lnTo>
                    <a:lnTo>
                      <a:pt x="116" y="91"/>
                    </a:lnTo>
                    <a:lnTo>
                      <a:pt x="128" y="100"/>
                    </a:lnTo>
                    <a:lnTo>
                      <a:pt x="142" y="107"/>
                    </a:lnTo>
                    <a:lnTo>
                      <a:pt x="149" y="112"/>
                    </a:lnTo>
                    <a:lnTo>
                      <a:pt x="134" y="96"/>
                    </a:lnTo>
                    <a:lnTo>
                      <a:pt x="121" y="79"/>
                    </a:lnTo>
                    <a:lnTo>
                      <a:pt x="120" y="74"/>
                    </a:lnTo>
                    <a:lnTo>
                      <a:pt x="123" y="73"/>
                    </a:lnTo>
                    <a:lnTo>
                      <a:pt x="145" y="90"/>
                    </a:lnTo>
                    <a:lnTo>
                      <a:pt x="156" y="97"/>
                    </a:lnTo>
                    <a:lnTo>
                      <a:pt x="169" y="103"/>
                    </a:lnTo>
                    <a:lnTo>
                      <a:pt x="186" y="106"/>
                    </a:lnTo>
                    <a:lnTo>
                      <a:pt x="200" y="107"/>
                    </a:lnTo>
                    <a:lnTo>
                      <a:pt x="203" y="108"/>
                    </a:lnTo>
                    <a:lnTo>
                      <a:pt x="203" y="112"/>
                    </a:lnTo>
                    <a:lnTo>
                      <a:pt x="200" y="114"/>
                    </a:lnTo>
                    <a:lnTo>
                      <a:pt x="187" y="112"/>
                    </a:lnTo>
                    <a:lnTo>
                      <a:pt x="172" y="111"/>
                    </a:lnTo>
                    <a:lnTo>
                      <a:pt x="170" y="112"/>
                    </a:lnTo>
                    <a:lnTo>
                      <a:pt x="170" y="114"/>
                    </a:lnTo>
                    <a:lnTo>
                      <a:pt x="175" y="122"/>
                    </a:lnTo>
                    <a:lnTo>
                      <a:pt x="180" y="128"/>
                    </a:lnTo>
                    <a:lnTo>
                      <a:pt x="187" y="133"/>
                    </a:lnTo>
                    <a:lnTo>
                      <a:pt x="196" y="135"/>
                    </a:lnTo>
                    <a:lnTo>
                      <a:pt x="213" y="137"/>
                    </a:lnTo>
                    <a:lnTo>
                      <a:pt x="230" y="137"/>
                    </a:lnTo>
                    <a:lnTo>
                      <a:pt x="238" y="131"/>
                    </a:lnTo>
                    <a:lnTo>
                      <a:pt x="253" y="123"/>
                    </a:lnTo>
                    <a:lnTo>
                      <a:pt x="269" y="114"/>
                    </a:lnTo>
                    <a:lnTo>
                      <a:pt x="285" y="108"/>
                    </a:lnTo>
                    <a:lnTo>
                      <a:pt x="285" y="107"/>
                    </a:lnTo>
                    <a:lnTo>
                      <a:pt x="284" y="100"/>
                    </a:lnTo>
                    <a:lnTo>
                      <a:pt x="284" y="94"/>
                    </a:lnTo>
                    <a:lnTo>
                      <a:pt x="280" y="80"/>
                    </a:lnTo>
                    <a:lnTo>
                      <a:pt x="276" y="67"/>
                    </a:lnTo>
                    <a:lnTo>
                      <a:pt x="271" y="56"/>
                    </a:lnTo>
                    <a:lnTo>
                      <a:pt x="267" y="45"/>
                    </a:lnTo>
                    <a:lnTo>
                      <a:pt x="260" y="34"/>
                    </a:lnTo>
                    <a:lnTo>
                      <a:pt x="253" y="25"/>
                    </a:lnTo>
                    <a:lnTo>
                      <a:pt x="245" y="17"/>
                    </a:lnTo>
                    <a:lnTo>
                      <a:pt x="235" y="11"/>
                    </a:lnTo>
                    <a:lnTo>
                      <a:pt x="225" y="7"/>
                    </a:lnTo>
                    <a:lnTo>
                      <a:pt x="216" y="5"/>
                    </a:lnTo>
                    <a:lnTo>
                      <a:pt x="197" y="1"/>
                    </a:lnTo>
                    <a:lnTo>
                      <a:pt x="178" y="0"/>
                    </a:lnTo>
                    <a:lnTo>
                      <a:pt x="159" y="1"/>
                    </a:lnTo>
                    <a:lnTo>
                      <a:pt x="139" y="4"/>
                    </a:lnTo>
                    <a:lnTo>
                      <a:pt x="120" y="7"/>
                    </a:lnTo>
                    <a:lnTo>
                      <a:pt x="82" y="18"/>
                    </a:lnTo>
                    <a:lnTo>
                      <a:pt x="87" y="23"/>
                    </a:lnTo>
                    <a:lnTo>
                      <a:pt x="94" y="28"/>
                    </a:lnTo>
                    <a:lnTo>
                      <a:pt x="100" y="34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4" y="53"/>
                    </a:lnTo>
                    <a:lnTo>
                      <a:pt x="99" y="42"/>
                    </a:lnTo>
                    <a:lnTo>
                      <a:pt x="85" y="29"/>
                    </a:lnTo>
                    <a:lnTo>
                      <a:pt x="78" y="25"/>
                    </a:lnTo>
                    <a:lnTo>
                      <a:pt x="69" y="23"/>
                    </a:lnTo>
                    <a:lnTo>
                      <a:pt x="51" y="18"/>
                    </a:lnTo>
                    <a:lnTo>
                      <a:pt x="34" y="18"/>
                    </a:lnTo>
                    <a:lnTo>
                      <a:pt x="25" y="19"/>
                    </a:lnTo>
                    <a:lnTo>
                      <a:pt x="16" y="21"/>
                    </a:lnTo>
                    <a:lnTo>
                      <a:pt x="11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7"/>
                    </a:lnTo>
                    <a:lnTo>
                      <a:pt x="6" y="81"/>
                    </a:lnTo>
                    <a:lnTo>
                      <a:pt x="12" y="98"/>
                    </a:lnTo>
                    <a:lnTo>
                      <a:pt x="16" y="101"/>
                    </a:lnTo>
                    <a:lnTo>
                      <a:pt x="19" y="90"/>
                    </a:lnTo>
                    <a:lnTo>
                      <a:pt x="24" y="83"/>
                    </a:lnTo>
                    <a:lnTo>
                      <a:pt x="30" y="77"/>
                    </a:lnTo>
                    <a:lnTo>
                      <a:pt x="36" y="7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99520" y="3402720"/>
                <a:ext cx="95040" cy="2952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45" y="7"/>
                    </a:lnTo>
                    <a:lnTo>
                      <a:pt x="57" y="1"/>
                    </a:lnTo>
                    <a:lnTo>
                      <a:pt x="59" y="7"/>
                    </a:lnTo>
                    <a:lnTo>
                      <a:pt x="44" y="13"/>
                    </a:lnTo>
                    <a:lnTo>
                      <a:pt x="34" y="17"/>
                    </a:lnTo>
                    <a:lnTo>
                      <a:pt x="24" y="19"/>
                    </a:lnTo>
                    <a:lnTo>
                      <a:pt x="16" y="19"/>
                    </a:lnTo>
                    <a:lnTo>
                      <a:pt x="7" y="18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470360" y="3331080"/>
                <a:ext cx="195840" cy="594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6" y="22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38" y="17"/>
                    </a:lnTo>
                    <a:lnTo>
                      <a:pt x="63" y="21"/>
                    </a:lnTo>
                    <a:lnTo>
                      <a:pt x="90" y="21"/>
                    </a:lnTo>
                    <a:lnTo>
                      <a:pt x="104" y="19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8" y="3"/>
                    </a:lnTo>
                    <a:lnTo>
                      <a:pt x="120" y="3"/>
                    </a:lnTo>
                    <a:lnTo>
                      <a:pt x="122" y="5"/>
                    </a:lnTo>
                    <a:lnTo>
                      <a:pt x="121" y="17"/>
                    </a:lnTo>
                    <a:lnTo>
                      <a:pt x="120" y="31"/>
                    </a:lnTo>
                    <a:lnTo>
                      <a:pt x="114" y="31"/>
                    </a:lnTo>
                    <a:lnTo>
                      <a:pt x="115" y="29"/>
                    </a:lnTo>
                    <a:lnTo>
                      <a:pt x="115" y="24"/>
                    </a:lnTo>
                    <a:lnTo>
                      <a:pt x="103" y="24"/>
                    </a:lnTo>
                    <a:lnTo>
                      <a:pt x="90" y="27"/>
                    </a:lnTo>
                    <a:lnTo>
                      <a:pt x="68" y="34"/>
                    </a:lnTo>
                    <a:lnTo>
                      <a:pt x="51" y="40"/>
                    </a:lnTo>
                    <a:lnTo>
                      <a:pt x="39" y="41"/>
                    </a:lnTo>
                    <a:lnTo>
                      <a:pt x="30" y="41"/>
                    </a:lnTo>
                    <a:lnTo>
                      <a:pt x="24" y="39"/>
                    </a:lnTo>
                    <a:lnTo>
                      <a:pt x="21" y="34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509240" y="3360960"/>
                <a:ext cx="75600" cy="23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0" y="0"/>
                    </a:moveTo>
                    <a:lnTo>
                      <a:pt x="23" y="2"/>
                    </a:lnTo>
                    <a:lnTo>
                      <a:pt x="48" y="5"/>
                    </a:lnTo>
                    <a:lnTo>
                      <a:pt x="44" y="7"/>
                    </a:lnTo>
                    <a:lnTo>
                      <a:pt x="34" y="10"/>
                    </a:lnTo>
                    <a:lnTo>
                      <a:pt x="20" y="13"/>
                    </a:lnTo>
                    <a:lnTo>
                      <a:pt x="11" y="15"/>
                    </a:ln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723800" y="3229200"/>
                <a:ext cx="76680" cy="11376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0" y="77"/>
                    </a:moveTo>
                    <a:lnTo>
                      <a:pt x="1" y="63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10" y="39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2" y="13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5" y="17"/>
                    </a:lnTo>
                    <a:lnTo>
                      <a:pt x="39" y="24"/>
                    </a:lnTo>
                    <a:lnTo>
                      <a:pt x="32" y="30"/>
                    </a:lnTo>
                    <a:lnTo>
                      <a:pt x="15" y="41"/>
                    </a:lnTo>
                    <a:lnTo>
                      <a:pt x="11" y="49"/>
                    </a:lnTo>
                    <a:lnTo>
                      <a:pt x="8" y="58"/>
                    </a:lnTo>
                    <a:lnTo>
                      <a:pt x="7" y="67"/>
                    </a:lnTo>
                    <a:lnTo>
                      <a:pt x="4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848000" y="3241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67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3" y="29"/>
                    </a:lnTo>
                    <a:lnTo>
                      <a:pt x="25" y="20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4" y="15"/>
                    </a:lnTo>
                    <a:lnTo>
                      <a:pt x="42" y="26"/>
                    </a:lnTo>
                    <a:lnTo>
                      <a:pt x="38" y="37"/>
                    </a:lnTo>
                    <a:lnTo>
                      <a:pt x="33" y="48"/>
                    </a:lnTo>
                    <a:lnTo>
                      <a:pt x="27" y="54"/>
                    </a:lnTo>
                    <a:lnTo>
                      <a:pt x="19" y="5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624080" y="326448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0" y="39"/>
                    </a:moveTo>
                    <a:lnTo>
                      <a:pt x="27" y="34"/>
                    </a:lnTo>
                    <a:lnTo>
                      <a:pt x="25" y="30"/>
                    </a:lnTo>
                    <a:lnTo>
                      <a:pt x="17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7"/>
                    </a:lnTo>
                    <a:lnTo>
                      <a:pt x="20" y="17"/>
                    </a:lnTo>
                    <a:lnTo>
                      <a:pt x="28" y="27"/>
                    </a:lnTo>
                    <a:lnTo>
                      <a:pt x="35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489800" y="3120840"/>
                <a:ext cx="114480" cy="18540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2" y="122"/>
                    </a:moveTo>
                    <a:lnTo>
                      <a:pt x="1" y="107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1" y="70"/>
                    </a:lnTo>
                    <a:lnTo>
                      <a:pt x="3" y="61"/>
                    </a:lnTo>
                    <a:lnTo>
                      <a:pt x="18" y="49"/>
                    </a:lnTo>
                    <a:lnTo>
                      <a:pt x="31" y="36"/>
                    </a:lnTo>
                    <a:lnTo>
                      <a:pt x="36" y="28"/>
                    </a:lnTo>
                    <a:lnTo>
                      <a:pt x="36" y="16"/>
                    </a:lnTo>
                    <a:lnTo>
                      <a:pt x="37" y="4"/>
                    </a:lnTo>
                    <a:lnTo>
                      <a:pt x="37" y="0"/>
                    </a:lnTo>
                    <a:lnTo>
                      <a:pt x="42" y="3"/>
                    </a:lnTo>
                    <a:lnTo>
                      <a:pt x="42" y="28"/>
                    </a:lnTo>
                    <a:lnTo>
                      <a:pt x="37" y="39"/>
                    </a:lnTo>
                    <a:lnTo>
                      <a:pt x="29" y="48"/>
                    </a:lnTo>
                    <a:lnTo>
                      <a:pt x="9" y="64"/>
                    </a:lnTo>
                    <a:lnTo>
                      <a:pt x="6" y="77"/>
                    </a:lnTo>
                    <a:lnTo>
                      <a:pt x="4" y="90"/>
                    </a:lnTo>
                    <a:lnTo>
                      <a:pt x="6" y="117"/>
                    </a:lnTo>
                    <a:lnTo>
                      <a:pt x="33" y="116"/>
                    </a:lnTo>
                    <a:lnTo>
                      <a:pt x="60" y="115"/>
                    </a:lnTo>
                    <a:lnTo>
                      <a:pt x="62" y="112"/>
                    </a:lnTo>
                    <a:lnTo>
                      <a:pt x="66" y="109"/>
                    </a:lnTo>
                    <a:lnTo>
                      <a:pt x="68" y="101"/>
                    </a:lnTo>
                    <a:lnTo>
                      <a:pt x="68" y="98"/>
                    </a:lnTo>
                    <a:lnTo>
                      <a:pt x="66" y="94"/>
                    </a:lnTo>
                    <a:lnTo>
                      <a:pt x="62" y="93"/>
                    </a:lnTo>
                    <a:lnTo>
                      <a:pt x="57" y="93"/>
                    </a:lnTo>
                    <a:lnTo>
                      <a:pt x="48" y="95"/>
                    </a:lnTo>
                    <a:lnTo>
                      <a:pt x="45" y="92"/>
                    </a:lnTo>
                    <a:lnTo>
                      <a:pt x="55" y="88"/>
                    </a:lnTo>
                    <a:lnTo>
                      <a:pt x="66" y="87"/>
                    </a:lnTo>
                    <a:lnTo>
                      <a:pt x="72" y="89"/>
                    </a:lnTo>
                    <a:lnTo>
                      <a:pt x="73" y="93"/>
                    </a:lnTo>
                    <a:lnTo>
                      <a:pt x="74" y="96"/>
                    </a:lnTo>
                    <a:lnTo>
                      <a:pt x="74" y="100"/>
                    </a:lnTo>
                    <a:lnTo>
                      <a:pt x="73" y="105"/>
                    </a:lnTo>
                    <a:lnTo>
                      <a:pt x="72" y="110"/>
                    </a:lnTo>
                    <a:lnTo>
                      <a:pt x="68" y="115"/>
                    </a:lnTo>
                    <a:lnTo>
                      <a:pt x="56" y="121"/>
                    </a:lnTo>
                    <a:lnTo>
                      <a:pt x="29" y="121"/>
                    </a:lnTo>
                    <a:lnTo>
                      <a:pt x="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852320" y="3259080"/>
                <a:ext cx="29160" cy="471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33"/>
                    </a:moveTo>
                    <a:lnTo>
                      <a:pt x="2" y="20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818840" y="3211560"/>
                <a:ext cx="100440" cy="403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6" y="12"/>
                    </a:moveTo>
                    <a:lnTo>
                      <a:pt x="0" y="23"/>
                    </a:lnTo>
                    <a:lnTo>
                      <a:pt x="1" y="28"/>
                    </a:lnTo>
                    <a:lnTo>
                      <a:pt x="12" y="28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35" y="20"/>
                    </a:lnTo>
                    <a:lnTo>
                      <a:pt x="42" y="17"/>
                    </a:lnTo>
                    <a:lnTo>
                      <a:pt x="50" y="14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1" y="7"/>
                    </a:lnTo>
                    <a:lnTo>
                      <a:pt x="57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1" y="5"/>
                    </a:lnTo>
                    <a:lnTo>
                      <a:pt x="17" y="13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804800" y="3026160"/>
                <a:ext cx="205560" cy="257400"/>
              </a:xfrm>
              <a:custGeom>
                <a:avLst/>
                <a:gdLst/>
                <a:ahLst/>
                <a:rect l="l" t="t" r="r" b="b"/>
                <a:pathLst>
                  <a:path w="130" h="170">
                    <a:moveTo>
                      <a:pt x="10" y="137"/>
                    </a:move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39" y="123"/>
                    </a:lnTo>
                    <a:lnTo>
                      <a:pt x="52" y="119"/>
                    </a:lnTo>
                    <a:lnTo>
                      <a:pt x="62" y="118"/>
                    </a:lnTo>
                    <a:lnTo>
                      <a:pt x="67" y="119"/>
                    </a:lnTo>
                    <a:lnTo>
                      <a:pt x="71" y="120"/>
                    </a:lnTo>
                    <a:lnTo>
                      <a:pt x="75" y="123"/>
                    </a:lnTo>
                    <a:lnTo>
                      <a:pt x="77" y="128"/>
                    </a:lnTo>
                    <a:lnTo>
                      <a:pt x="79" y="131"/>
                    </a:lnTo>
                    <a:lnTo>
                      <a:pt x="79" y="137"/>
                    </a:lnTo>
                    <a:lnTo>
                      <a:pt x="79" y="152"/>
                    </a:lnTo>
                    <a:lnTo>
                      <a:pt x="77" y="170"/>
                    </a:lnTo>
                    <a:lnTo>
                      <a:pt x="94" y="151"/>
                    </a:lnTo>
                    <a:lnTo>
                      <a:pt x="108" y="132"/>
                    </a:lnTo>
                    <a:lnTo>
                      <a:pt x="114" y="123"/>
                    </a:lnTo>
                    <a:lnTo>
                      <a:pt x="120" y="112"/>
                    </a:lnTo>
                    <a:lnTo>
                      <a:pt x="122" y="101"/>
                    </a:lnTo>
                    <a:lnTo>
                      <a:pt x="123" y="90"/>
                    </a:lnTo>
                    <a:lnTo>
                      <a:pt x="123" y="78"/>
                    </a:lnTo>
                    <a:lnTo>
                      <a:pt x="122" y="66"/>
                    </a:lnTo>
                    <a:lnTo>
                      <a:pt x="120" y="53"/>
                    </a:lnTo>
                    <a:lnTo>
                      <a:pt x="116" y="42"/>
                    </a:lnTo>
                    <a:lnTo>
                      <a:pt x="122" y="40"/>
                    </a:lnTo>
                    <a:lnTo>
                      <a:pt x="130" y="40"/>
                    </a:lnTo>
                    <a:lnTo>
                      <a:pt x="126" y="29"/>
                    </a:lnTo>
                    <a:lnTo>
                      <a:pt x="122" y="19"/>
                    </a:lnTo>
                    <a:lnTo>
                      <a:pt x="109" y="7"/>
                    </a:lnTo>
                    <a:lnTo>
                      <a:pt x="103" y="3"/>
                    </a:lnTo>
                    <a:lnTo>
                      <a:pt x="94" y="0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62" y="3"/>
                    </a:lnTo>
                    <a:lnTo>
                      <a:pt x="52" y="7"/>
                    </a:lnTo>
                    <a:lnTo>
                      <a:pt x="34" y="17"/>
                    </a:lnTo>
                    <a:lnTo>
                      <a:pt x="18" y="29"/>
                    </a:lnTo>
                    <a:lnTo>
                      <a:pt x="13" y="35"/>
                    </a:lnTo>
                    <a:lnTo>
                      <a:pt x="8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1" y="86"/>
                    </a:lnTo>
                    <a:lnTo>
                      <a:pt x="7" y="119"/>
                    </a:lnTo>
                    <a:lnTo>
                      <a:pt x="10" y="135"/>
                    </a:lnTo>
                    <a:lnTo>
                      <a:pt x="10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594920" y="3120840"/>
                <a:ext cx="43200" cy="6624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5" y="40"/>
                    </a:moveTo>
                    <a:lnTo>
                      <a:pt x="3" y="3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" y="13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6" y="13"/>
                    </a:lnTo>
                    <a:lnTo>
                      <a:pt x="27" y="22"/>
                    </a:lnTo>
                    <a:lnTo>
                      <a:pt x="26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7" y="41"/>
                    </a:lnTo>
                    <a:lnTo>
                      <a:pt x="11" y="43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594920" y="3085560"/>
                <a:ext cx="66960" cy="540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7" y="36"/>
                    </a:moveTo>
                    <a:lnTo>
                      <a:pt x="32" y="27"/>
                    </a:lnTo>
                    <a:lnTo>
                      <a:pt x="25" y="17"/>
                    </a:lnTo>
                    <a:lnTo>
                      <a:pt x="16" y="11"/>
                    </a:lnTo>
                    <a:lnTo>
                      <a:pt x="10" y="7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11"/>
                    </a:lnTo>
                    <a:lnTo>
                      <a:pt x="34" y="2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0" y="35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604640" y="3031560"/>
                <a:ext cx="76680" cy="892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44" y="58"/>
                    </a:moveTo>
                    <a:lnTo>
                      <a:pt x="22" y="26"/>
                    </a:lnTo>
                    <a:lnTo>
                      <a:pt x="17" y="23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9"/>
                    </a:lnTo>
                    <a:lnTo>
                      <a:pt x="45" y="18"/>
                    </a:lnTo>
                    <a:lnTo>
                      <a:pt x="48" y="5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614360" y="3043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1"/>
                    </a:lnTo>
                    <a:lnTo>
                      <a:pt x="22" y="21"/>
                    </a:lnTo>
                    <a:lnTo>
                      <a:pt x="17" y="18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20" y="2"/>
                    </a:lnTo>
                    <a:lnTo>
                      <a:pt x="28" y="9"/>
                    </a:lnTo>
                    <a:lnTo>
                      <a:pt x="31" y="13"/>
                    </a:lnTo>
                    <a:lnTo>
                      <a:pt x="33" y="18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466040" y="3050280"/>
                <a:ext cx="37800" cy="40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5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19" y="13"/>
                    </a:lnTo>
                    <a:lnTo>
                      <a:pt x="11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509240" y="2948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4"/>
                    </a:moveTo>
                    <a:lnTo>
                      <a:pt x="17" y="5"/>
                    </a:lnTo>
                    <a:lnTo>
                      <a:pt x="30" y="0"/>
                    </a:lnTo>
                    <a:lnTo>
                      <a:pt x="37" y="4"/>
                    </a:lnTo>
                    <a:lnTo>
                      <a:pt x="23" y="8"/>
                    </a:lnTo>
                    <a:lnTo>
                      <a:pt x="12" y="14"/>
                    </a:lnTo>
                    <a:lnTo>
                      <a:pt x="0" y="22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9966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 flipH="1">
              <a:off x="7791480" y="3146400"/>
              <a:ext cx="117288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 estudio bíblico contiene cinco part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 para conocerse uno a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 de la lección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udio de la l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lamado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óximo encuentr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 txBox="1"/>
          <p:nvPr/>
        </p:nvSpPr>
        <p:spPr>
          <a:xfrm>
            <a:off x="830160" y="404640"/>
            <a:ext cx="7486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ción del Estudio Bíbl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7" name="" descr=""/>
          <p:cNvPicPr/>
          <p:nvPr/>
        </p:nvPicPr>
        <p:blipFill>
          <a:blip r:embed="rId1"/>
          <a:stretch/>
        </p:blipFill>
        <p:spPr>
          <a:xfrm>
            <a:off x="5796000" y="442908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/>
          </p:nvPr>
        </p:nvSpPr>
        <p:spPr>
          <a:xfrm>
            <a:off x="2771280" y="1844640"/>
            <a:ext cx="6264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un estudio bíblico es muy importante que usted comparta su experiencia e invite al alumno a tener su propia experiencia  con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 txBox="1"/>
          <p:nvPr/>
        </p:nvSpPr>
        <p:spPr>
          <a:xfrm>
            <a:off x="1403280" y="404640"/>
            <a:ext cx="628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partiendo  el Evangel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0" name="" descr=""/>
          <p:cNvPicPr/>
          <p:nvPr/>
        </p:nvPicPr>
        <p:blipFill>
          <a:blip r:embed="rId1"/>
          <a:stretch/>
        </p:blipFill>
        <p:spPr>
          <a:xfrm>
            <a:off x="108000" y="3814920"/>
            <a:ext cx="3610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engo buenas noticias para usted. La Biblia enseña que la gracia de Dios está a su dis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oy segura que usted está de acuerdo conmigo, que nuestra vida espiritual es muy importante en estos días difíc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ás sugerencias en la página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3086280" y="333360"/>
            <a:ext cx="297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é dec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23" name="" descr=""/>
          <p:cNvPicPr/>
          <p:nvPr/>
        </p:nvPicPr>
        <p:blipFill>
          <a:blip r:embed="rId1"/>
          <a:stretch/>
        </p:blipFill>
        <p:spPr>
          <a:xfrm>
            <a:off x="7451640" y="5038560"/>
            <a:ext cx="1521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7800"/>
          </a:xfrm>
          <a:prstGeom prst="rect">
            <a:avLst/>
          </a:prstGeom>
          <a:solidFill>
            <a:srgbClr val="bfcedf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del material: Biblia, cintas, estudio bíblico, ficha de bautismo en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 lanz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da persona que lleva una Biblia, asume un comprom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e a esa persona para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lto de fin de a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r un 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600120" y="476280"/>
            <a:ext cx="794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yecto B = B: Biblia = Bauti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6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2013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"/>
          <p:cNvSpPr/>
          <p:nvPr/>
        </p:nvSpPr>
        <p:spPr>
          <a:xfrm>
            <a:off x="1042920" y="4221000"/>
            <a:ext cx="756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826920" y="500040"/>
            <a:ext cx="770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de los Grupos Pequeño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29" name="" descr=""/>
          <p:cNvPicPr/>
          <p:nvPr/>
        </p:nvPicPr>
        <p:blipFill>
          <a:blip r:embed="rId1"/>
          <a:stretch/>
        </p:blipFill>
        <p:spPr>
          <a:xfrm>
            <a:off x="2475000" y="2421000"/>
            <a:ext cx="4618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o de los estudios bíblicos de mayor éx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179280" y="1926720"/>
            <a:ext cx="8229600" cy="4526280"/>
          </a:xfrm>
          <a:prstGeom prst="rect">
            <a:avLst/>
          </a:prstGeom>
          <a:solidFill>
            <a:srgbClr val="a8fa70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os GP las personas se sienten más libres para partici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uniones en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és de unos por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an a su rit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crea un ambiente apropiado para dar continu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6012000" y="3139920"/>
            <a:ext cx="3168000" cy="2089080"/>
            <a:chOff x="6012000" y="3139920"/>
            <a:chExt cx="3168000" cy="2089080"/>
          </a:xfrm>
        </p:grpSpPr>
        <p:sp>
          <p:nvSpPr>
            <p:cNvPr id="5733" name=""/>
            <p:cNvSpPr/>
            <p:nvPr/>
          </p:nvSpPr>
          <p:spPr>
            <a:xfrm>
              <a:off x="6012000" y="3139920"/>
              <a:ext cx="316224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4" name="" descr=""/>
            <p:cNvPicPr/>
            <p:nvPr/>
          </p:nvPicPr>
          <p:blipFill>
            <a:blip r:embed="rId1"/>
            <a:stretch/>
          </p:blipFill>
          <p:spPr>
            <a:xfrm>
              <a:off x="6012000" y="3709440"/>
              <a:ext cx="3168000" cy="15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PlaceHolder 1"/>
          <p:cNvSpPr>
            <a:spLocks noGrp="1"/>
          </p:cNvSpPr>
          <p:nvPr>
            <p:ph/>
          </p:nvPr>
        </p:nvSpPr>
        <p:spPr>
          <a:xfrm>
            <a:off x="684360" y="1855800"/>
            <a:ext cx="6480000" cy="4525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ticipe: haga amis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udio Bíblico: Aprender sob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labr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.   Oración: pedir la ayud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.   Hora Social: encuentros fu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 los moment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.   Servicio: hacer algo por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338040" y="473040"/>
            <a:ext cx="8467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grama para los Grupos Pequeño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7" name=""/>
          <p:cNvSpPr/>
          <p:nvPr/>
        </p:nvSpPr>
        <p:spPr>
          <a:xfrm>
            <a:off x="6588000" y="3413160"/>
            <a:ext cx="2509920" cy="2598840"/>
          </a:xfrm>
          <a:custGeom>
            <a:avLst/>
            <a:gdLst/>
            <a:ahLst/>
            <a:rect l="l" t="t" r="r" b="b"/>
            <a:pathLst>
              <a:path w="1581" h="1637">
                <a:moveTo>
                  <a:pt x="1150" y="0"/>
                </a:moveTo>
                <a:lnTo>
                  <a:pt x="1262" y="135"/>
                </a:lnTo>
                <a:lnTo>
                  <a:pt x="1427" y="291"/>
                </a:lnTo>
                <a:lnTo>
                  <a:pt x="1513" y="768"/>
                </a:lnTo>
                <a:lnTo>
                  <a:pt x="1527" y="1219"/>
                </a:lnTo>
                <a:lnTo>
                  <a:pt x="1581" y="1396"/>
                </a:lnTo>
                <a:lnTo>
                  <a:pt x="1488" y="1564"/>
                </a:lnTo>
                <a:lnTo>
                  <a:pt x="1435" y="1590"/>
                </a:lnTo>
                <a:lnTo>
                  <a:pt x="1276" y="1637"/>
                </a:lnTo>
                <a:lnTo>
                  <a:pt x="733" y="1620"/>
                </a:lnTo>
                <a:lnTo>
                  <a:pt x="725" y="1210"/>
                </a:lnTo>
                <a:lnTo>
                  <a:pt x="674" y="1210"/>
                </a:lnTo>
                <a:lnTo>
                  <a:pt x="624" y="1246"/>
                </a:lnTo>
                <a:lnTo>
                  <a:pt x="448" y="1184"/>
                </a:lnTo>
                <a:lnTo>
                  <a:pt x="215" y="1148"/>
                </a:lnTo>
                <a:lnTo>
                  <a:pt x="140" y="1051"/>
                </a:lnTo>
                <a:lnTo>
                  <a:pt x="17" y="1007"/>
                </a:lnTo>
                <a:lnTo>
                  <a:pt x="8" y="989"/>
                </a:lnTo>
                <a:lnTo>
                  <a:pt x="8" y="972"/>
                </a:lnTo>
                <a:lnTo>
                  <a:pt x="0" y="948"/>
                </a:lnTo>
                <a:lnTo>
                  <a:pt x="6" y="948"/>
                </a:lnTo>
                <a:lnTo>
                  <a:pt x="0" y="927"/>
                </a:lnTo>
                <a:lnTo>
                  <a:pt x="6" y="904"/>
                </a:lnTo>
                <a:lnTo>
                  <a:pt x="8" y="883"/>
                </a:lnTo>
                <a:lnTo>
                  <a:pt x="17" y="857"/>
                </a:lnTo>
                <a:lnTo>
                  <a:pt x="22" y="833"/>
                </a:lnTo>
                <a:lnTo>
                  <a:pt x="31" y="813"/>
                </a:lnTo>
                <a:lnTo>
                  <a:pt x="42" y="789"/>
                </a:lnTo>
                <a:lnTo>
                  <a:pt x="59" y="777"/>
                </a:lnTo>
                <a:lnTo>
                  <a:pt x="64" y="777"/>
                </a:lnTo>
                <a:lnTo>
                  <a:pt x="190" y="813"/>
                </a:lnTo>
                <a:lnTo>
                  <a:pt x="227" y="798"/>
                </a:lnTo>
                <a:lnTo>
                  <a:pt x="420" y="813"/>
                </a:lnTo>
                <a:lnTo>
                  <a:pt x="515" y="839"/>
                </a:lnTo>
                <a:lnTo>
                  <a:pt x="557" y="777"/>
                </a:lnTo>
                <a:lnTo>
                  <a:pt x="565" y="763"/>
                </a:lnTo>
                <a:lnTo>
                  <a:pt x="725" y="674"/>
                </a:lnTo>
                <a:lnTo>
                  <a:pt x="781" y="586"/>
                </a:lnTo>
                <a:lnTo>
                  <a:pt x="806" y="291"/>
                </a:lnTo>
                <a:lnTo>
                  <a:pt x="817" y="282"/>
                </a:lnTo>
                <a:lnTo>
                  <a:pt x="839" y="259"/>
                </a:lnTo>
                <a:lnTo>
                  <a:pt x="831" y="238"/>
                </a:lnTo>
                <a:lnTo>
                  <a:pt x="825" y="221"/>
                </a:lnTo>
                <a:lnTo>
                  <a:pt x="822" y="203"/>
                </a:lnTo>
                <a:lnTo>
                  <a:pt x="822" y="185"/>
                </a:lnTo>
                <a:lnTo>
                  <a:pt x="834" y="168"/>
                </a:lnTo>
                <a:lnTo>
                  <a:pt x="1060" y="0"/>
                </a:lnTo>
                <a:lnTo>
                  <a:pt x="1074" y="9"/>
                </a:lnTo>
                <a:lnTo>
                  <a:pt x="1102" y="17"/>
                </a:lnTo>
                <a:lnTo>
                  <a:pt x="1125" y="17"/>
                </a:lnTo>
                <a:lnTo>
                  <a:pt x="1119" y="17"/>
                </a:lnTo>
                <a:lnTo>
                  <a:pt x="1141" y="17"/>
                </a:lnTo>
                <a:lnTo>
                  <a:pt x="1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7524720" y="2286000"/>
            <a:ext cx="1066680" cy="1154160"/>
          </a:xfrm>
          <a:custGeom>
            <a:avLst/>
            <a:gdLst/>
            <a:ahLst/>
            <a:rect l="l" t="t" r="r" b="b"/>
            <a:pathLst>
              <a:path w="672" h="727">
                <a:moveTo>
                  <a:pt x="613" y="680"/>
                </a:moveTo>
                <a:lnTo>
                  <a:pt x="638" y="616"/>
                </a:lnTo>
                <a:lnTo>
                  <a:pt x="652" y="574"/>
                </a:lnTo>
                <a:lnTo>
                  <a:pt x="663" y="530"/>
                </a:lnTo>
                <a:lnTo>
                  <a:pt x="672" y="483"/>
                </a:lnTo>
                <a:lnTo>
                  <a:pt x="672" y="433"/>
                </a:lnTo>
                <a:lnTo>
                  <a:pt x="672" y="353"/>
                </a:lnTo>
                <a:lnTo>
                  <a:pt x="663" y="309"/>
                </a:lnTo>
                <a:lnTo>
                  <a:pt x="661" y="265"/>
                </a:lnTo>
                <a:lnTo>
                  <a:pt x="647" y="221"/>
                </a:lnTo>
                <a:lnTo>
                  <a:pt x="638" y="177"/>
                </a:lnTo>
                <a:lnTo>
                  <a:pt x="619" y="133"/>
                </a:lnTo>
                <a:lnTo>
                  <a:pt x="596" y="91"/>
                </a:lnTo>
                <a:lnTo>
                  <a:pt x="568" y="62"/>
                </a:lnTo>
                <a:lnTo>
                  <a:pt x="535" y="35"/>
                </a:lnTo>
                <a:lnTo>
                  <a:pt x="496" y="27"/>
                </a:lnTo>
                <a:lnTo>
                  <a:pt x="462" y="18"/>
                </a:lnTo>
                <a:lnTo>
                  <a:pt x="434" y="18"/>
                </a:lnTo>
                <a:lnTo>
                  <a:pt x="426" y="9"/>
                </a:lnTo>
                <a:lnTo>
                  <a:pt x="395" y="0"/>
                </a:lnTo>
                <a:lnTo>
                  <a:pt x="353" y="0"/>
                </a:lnTo>
                <a:lnTo>
                  <a:pt x="316" y="3"/>
                </a:lnTo>
                <a:lnTo>
                  <a:pt x="269" y="12"/>
                </a:lnTo>
                <a:lnTo>
                  <a:pt x="219" y="21"/>
                </a:lnTo>
                <a:lnTo>
                  <a:pt x="185" y="35"/>
                </a:lnTo>
                <a:lnTo>
                  <a:pt x="157" y="53"/>
                </a:lnTo>
                <a:lnTo>
                  <a:pt x="123" y="71"/>
                </a:lnTo>
                <a:lnTo>
                  <a:pt x="93" y="80"/>
                </a:lnTo>
                <a:lnTo>
                  <a:pt x="51" y="88"/>
                </a:lnTo>
                <a:lnTo>
                  <a:pt x="23" y="106"/>
                </a:lnTo>
                <a:lnTo>
                  <a:pt x="0" y="133"/>
                </a:lnTo>
                <a:lnTo>
                  <a:pt x="6" y="168"/>
                </a:lnTo>
                <a:lnTo>
                  <a:pt x="17" y="203"/>
                </a:lnTo>
                <a:lnTo>
                  <a:pt x="34" y="256"/>
                </a:lnTo>
                <a:lnTo>
                  <a:pt x="59" y="265"/>
                </a:lnTo>
                <a:lnTo>
                  <a:pt x="76" y="283"/>
                </a:lnTo>
                <a:lnTo>
                  <a:pt x="93" y="292"/>
                </a:lnTo>
                <a:lnTo>
                  <a:pt x="123" y="295"/>
                </a:lnTo>
                <a:lnTo>
                  <a:pt x="107" y="283"/>
                </a:lnTo>
                <a:lnTo>
                  <a:pt x="93" y="268"/>
                </a:lnTo>
                <a:lnTo>
                  <a:pt x="123" y="283"/>
                </a:lnTo>
                <a:lnTo>
                  <a:pt x="143" y="286"/>
                </a:lnTo>
                <a:lnTo>
                  <a:pt x="160" y="292"/>
                </a:lnTo>
                <a:lnTo>
                  <a:pt x="140" y="277"/>
                </a:lnTo>
                <a:lnTo>
                  <a:pt x="123" y="259"/>
                </a:lnTo>
                <a:lnTo>
                  <a:pt x="160" y="283"/>
                </a:lnTo>
                <a:lnTo>
                  <a:pt x="202" y="295"/>
                </a:lnTo>
                <a:lnTo>
                  <a:pt x="233" y="303"/>
                </a:lnTo>
                <a:lnTo>
                  <a:pt x="202" y="401"/>
                </a:lnTo>
                <a:lnTo>
                  <a:pt x="286" y="456"/>
                </a:lnTo>
                <a:lnTo>
                  <a:pt x="311" y="512"/>
                </a:lnTo>
                <a:lnTo>
                  <a:pt x="428" y="512"/>
                </a:lnTo>
                <a:lnTo>
                  <a:pt x="442" y="539"/>
                </a:lnTo>
                <a:lnTo>
                  <a:pt x="445" y="563"/>
                </a:lnTo>
                <a:lnTo>
                  <a:pt x="454" y="589"/>
                </a:lnTo>
                <a:lnTo>
                  <a:pt x="454" y="648"/>
                </a:lnTo>
                <a:lnTo>
                  <a:pt x="451" y="671"/>
                </a:lnTo>
                <a:lnTo>
                  <a:pt x="470" y="686"/>
                </a:lnTo>
                <a:lnTo>
                  <a:pt x="493" y="701"/>
                </a:lnTo>
                <a:lnTo>
                  <a:pt x="512" y="710"/>
                </a:lnTo>
                <a:lnTo>
                  <a:pt x="526" y="719"/>
                </a:lnTo>
                <a:lnTo>
                  <a:pt x="554" y="727"/>
                </a:lnTo>
                <a:lnTo>
                  <a:pt x="577" y="727"/>
                </a:lnTo>
                <a:lnTo>
                  <a:pt x="571" y="727"/>
                </a:lnTo>
                <a:lnTo>
                  <a:pt x="593" y="727"/>
                </a:lnTo>
                <a:lnTo>
                  <a:pt x="602" y="710"/>
                </a:lnTo>
                <a:lnTo>
                  <a:pt x="613" y="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7524720" y="2697120"/>
            <a:ext cx="843120" cy="982800"/>
          </a:xfrm>
          <a:custGeom>
            <a:avLst/>
            <a:gdLst/>
            <a:ahLst/>
            <a:rect l="l" t="t" r="r" b="b"/>
            <a:pathLst>
              <a:path w="531" h="619">
                <a:moveTo>
                  <a:pt x="78" y="6"/>
                </a:moveTo>
                <a:lnTo>
                  <a:pt x="95" y="24"/>
                </a:lnTo>
                <a:lnTo>
                  <a:pt x="112" y="33"/>
                </a:lnTo>
                <a:lnTo>
                  <a:pt x="142" y="36"/>
                </a:lnTo>
                <a:lnTo>
                  <a:pt x="126" y="24"/>
                </a:lnTo>
                <a:lnTo>
                  <a:pt x="112" y="9"/>
                </a:lnTo>
                <a:lnTo>
                  <a:pt x="142" y="24"/>
                </a:lnTo>
                <a:lnTo>
                  <a:pt x="162" y="27"/>
                </a:lnTo>
                <a:lnTo>
                  <a:pt x="179" y="33"/>
                </a:lnTo>
                <a:lnTo>
                  <a:pt x="159" y="18"/>
                </a:lnTo>
                <a:lnTo>
                  <a:pt x="142" y="0"/>
                </a:lnTo>
                <a:lnTo>
                  <a:pt x="179" y="24"/>
                </a:lnTo>
                <a:lnTo>
                  <a:pt x="221" y="36"/>
                </a:lnTo>
                <a:lnTo>
                  <a:pt x="252" y="44"/>
                </a:lnTo>
                <a:lnTo>
                  <a:pt x="221" y="142"/>
                </a:lnTo>
                <a:lnTo>
                  <a:pt x="305" y="197"/>
                </a:lnTo>
                <a:lnTo>
                  <a:pt x="330" y="253"/>
                </a:lnTo>
                <a:lnTo>
                  <a:pt x="447" y="253"/>
                </a:lnTo>
                <a:lnTo>
                  <a:pt x="461" y="280"/>
                </a:lnTo>
                <a:lnTo>
                  <a:pt x="464" y="304"/>
                </a:lnTo>
                <a:lnTo>
                  <a:pt x="473" y="330"/>
                </a:lnTo>
                <a:lnTo>
                  <a:pt x="473" y="389"/>
                </a:lnTo>
                <a:lnTo>
                  <a:pt x="470" y="412"/>
                </a:lnTo>
                <a:lnTo>
                  <a:pt x="489" y="427"/>
                </a:lnTo>
                <a:lnTo>
                  <a:pt x="512" y="442"/>
                </a:lnTo>
                <a:lnTo>
                  <a:pt x="531" y="451"/>
                </a:lnTo>
                <a:lnTo>
                  <a:pt x="305" y="619"/>
                </a:lnTo>
                <a:lnTo>
                  <a:pt x="271" y="586"/>
                </a:lnTo>
                <a:lnTo>
                  <a:pt x="238" y="574"/>
                </a:lnTo>
                <a:lnTo>
                  <a:pt x="212" y="574"/>
                </a:lnTo>
                <a:lnTo>
                  <a:pt x="187" y="566"/>
                </a:lnTo>
                <a:lnTo>
                  <a:pt x="154" y="560"/>
                </a:lnTo>
                <a:lnTo>
                  <a:pt x="128" y="551"/>
                </a:lnTo>
                <a:lnTo>
                  <a:pt x="103" y="542"/>
                </a:lnTo>
                <a:lnTo>
                  <a:pt x="84" y="539"/>
                </a:lnTo>
                <a:lnTo>
                  <a:pt x="67" y="530"/>
                </a:lnTo>
                <a:lnTo>
                  <a:pt x="53" y="513"/>
                </a:lnTo>
                <a:lnTo>
                  <a:pt x="50" y="489"/>
                </a:lnTo>
                <a:lnTo>
                  <a:pt x="53" y="463"/>
                </a:lnTo>
                <a:lnTo>
                  <a:pt x="59" y="442"/>
                </a:lnTo>
                <a:lnTo>
                  <a:pt x="36" y="410"/>
                </a:lnTo>
                <a:lnTo>
                  <a:pt x="36" y="398"/>
                </a:lnTo>
                <a:lnTo>
                  <a:pt x="53" y="389"/>
                </a:lnTo>
                <a:lnTo>
                  <a:pt x="33" y="359"/>
                </a:lnTo>
                <a:lnTo>
                  <a:pt x="45" y="318"/>
                </a:lnTo>
                <a:lnTo>
                  <a:pt x="28" y="304"/>
                </a:lnTo>
                <a:lnTo>
                  <a:pt x="8" y="295"/>
                </a:lnTo>
                <a:lnTo>
                  <a:pt x="0" y="283"/>
                </a:lnTo>
                <a:lnTo>
                  <a:pt x="3" y="265"/>
                </a:lnTo>
                <a:lnTo>
                  <a:pt x="59" y="171"/>
                </a:lnTo>
                <a:lnTo>
                  <a:pt x="50" y="133"/>
                </a:lnTo>
                <a:lnTo>
                  <a:pt x="78" y="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7740720" y="5832360"/>
            <a:ext cx="1265040" cy="692280"/>
          </a:xfrm>
          <a:custGeom>
            <a:avLst/>
            <a:gdLst/>
            <a:ahLst/>
            <a:rect l="l" t="t" r="r" b="b"/>
            <a:pathLst>
              <a:path w="797" h="436">
                <a:moveTo>
                  <a:pt x="0" y="91"/>
                </a:moveTo>
                <a:lnTo>
                  <a:pt x="17" y="436"/>
                </a:lnTo>
                <a:lnTo>
                  <a:pt x="789" y="436"/>
                </a:lnTo>
                <a:lnTo>
                  <a:pt x="797" y="242"/>
                </a:lnTo>
                <a:lnTo>
                  <a:pt x="772" y="91"/>
                </a:lnTo>
                <a:lnTo>
                  <a:pt x="738" y="53"/>
                </a:lnTo>
                <a:lnTo>
                  <a:pt x="738" y="21"/>
                </a:lnTo>
                <a:lnTo>
                  <a:pt x="727" y="0"/>
                </a:lnTo>
                <a:lnTo>
                  <a:pt x="568" y="47"/>
                </a:lnTo>
                <a:lnTo>
                  <a:pt x="25" y="3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6080040" y="4384800"/>
            <a:ext cx="652680" cy="533160"/>
          </a:xfrm>
          <a:custGeom>
            <a:avLst/>
            <a:gdLst/>
            <a:ahLst/>
            <a:rect l="l" t="t" r="r" b="b"/>
            <a:pathLst>
              <a:path w="411" h="336">
                <a:moveTo>
                  <a:pt x="352" y="336"/>
                </a:moveTo>
                <a:lnTo>
                  <a:pt x="251" y="298"/>
                </a:lnTo>
                <a:lnTo>
                  <a:pt x="232" y="307"/>
                </a:lnTo>
                <a:lnTo>
                  <a:pt x="209" y="307"/>
                </a:lnTo>
                <a:lnTo>
                  <a:pt x="109" y="274"/>
                </a:lnTo>
                <a:lnTo>
                  <a:pt x="100" y="262"/>
                </a:lnTo>
                <a:lnTo>
                  <a:pt x="92" y="236"/>
                </a:lnTo>
                <a:lnTo>
                  <a:pt x="83" y="221"/>
                </a:lnTo>
                <a:lnTo>
                  <a:pt x="75" y="209"/>
                </a:lnTo>
                <a:lnTo>
                  <a:pt x="75" y="192"/>
                </a:lnTo>
                <a:lnTo>
                  <a:pt x="81" y="177"/>
                </a:lnTo>
                <a:lnTo>
                  <a:pt x="75" y="165"/>
                </a:lnTo>
                <a:lnTo>
                  <a:pt x="58" y="142"/>
                </a:lnTo>
                <a:lnTo>
                  <a:pt x="58" y="130"/>
                </a:lnTo>
                <a:lnTo>
                  <a:pt x="67" y="112"/>
                </a:lnTo>
                <a:lnTo>
                  <a:pt x="14" y="103"/>
                </a:lnTo>
                <a:lnTo>
                  <a:pt x="5" y="95"/>
                </a:lnTo>
                <a:lnTo>
                  <a:pt x="0" y="77"/>
                </a:lnTo>
                <a:lnTo>
                  <a:pt x="8" y="59"/>
                </a:lnTo>
                <a:lnTo>
                  <a:pt x="25" y="53"/>
                </a:lnTo>
                <a:lnTo>
                  <a:pt x="50" y="50"/>
                </a:lnTo>
                <a:lnTo>
                  <a:pt x="109" y="45"/>
                </a:lnTo>
                <a:lnTo>
                  <a:pt x="81" y="15"/>
                </a:lnTo>
                <a:lnTo>
                  <a:pt x="83" y="6"/>
                </a:lnTo>
                <a:lnTo>
                  <a:pt x="97" y="0"/>
                </a:lnTo>
                <a:lnTo>
                  <a:pt x="131" y="9"/>
                </a:lnTo>
                <a:lnTo>
                  <a:pt x="151" y="9"/>
                </a:lnTo>
                <a:lnTo>
                  <a:pt x="173" y="15"/>
                </a:lnTo>
                <a:lnTo>
                  <a:pt x="190" y="24"/>
                </a:lnTo>
                <a:lnTo>
                  <a:pt x="207" y="33"/>
                </a:lnTo>
                <a:lnTo>
                  <a:pt x="240" y="33"/>
                </a:lnTo>
                <a:lnTo>
                  <a:pt x="257" y="42"/>
                </a:lnTo>
                <a:lnTo>
                  <a:pt x="268" y="50"/>
                </a:lnTo>
                <a:lnTo>
                  <a:pt x="318" y="89"/>
                </a:lnTo>
                <a:lnTo>
                  <a:pt x="332" y="103"/>
                </a:lnTo>
                <a:lnTo>
                  <a:pt x="344" y="124"/>
                </a:lnTo>
                <a:lnTo>
                  <a:pt x="352" y="139"/>
                </a:lnTo>
                <a:lnTo>
                  <a:pt x="411" y="165"/>
                </a:lnTo>
                <a:lnTo>
                  <a:pt x="394" y="177"/>
                </a:lnTo>
                <a:lnTo>
                  <a:pt x="383" y="201"/>
                </a:lnTo>
                <a:lnTo>
                  <a:pt x="374" y="221"/>
                </a:lnTo>
                <a:lnTo>
                  <a:pt x="369" y="245"/>
                </a:lnTo>
                <a:lnTo>
                  <a:pt x="360" y="271"/>
                </a:lnTo>
                <a:lnTo>
                  <a:pt x="358" y="292"/>
                </a:lnTo>
                <a:lnTo>
                  <a:pt x="352" y="315"/>
                </a:lnTo>
                <a:lnTo>
                  <a:pt x="358" y="336"/>
                </a:lnTo>
                <a:lnTo>
                  <a:pt x="352" y="33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580000" y="3789360"/>
            <a:ext cx="647640" cy="666720"/>
          </a:xfrm>
          <a:custGeom>
            <a:avLst/>
            <a:gdLst/>
            <a:ahLst/>
            <a:rect l="l" t="t" r="r" b="b"/>
            <a:pathLst>
              <a:path w="493" h="478">
                <a:moveTo>
                  <a:pt x="428" y="457"/>
                </a:moveTo>
                <a:lnTo>
                  <a:pt x="0" y="9"/>
                </a:lnTo>
                <a:lnTo>
                  <a:pt x="14" y="0"/>
                </a:lnTo>
                <a:lnTo>
                  <a:pt x="445" y="430"/>
                </a:lnTo>
                <a:lnTo>
                  <a:pt x="493" y="478"/>
                </a:lnTo>
                <a:lnTo>
                  <a:pt x="428" y="457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7499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Quién, YO?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r 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 es una de las mejores maneras de alcanzar a un gran número de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uede ser en un gran auditorio  o en una pequeña igl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763560" y="260280"/>
            <a:ext cx="7480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-Evangelismo Público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6443640" y="3789360"/>
            <a:ext cx="2666880" cy="2971800"/>
            <a:chOff x="6443640" y="3789360"/>
            <a:chExt cx="2666880" cy="2971800"/>
          </a:xfrm>
        </p:grpSpPr>
        <p:sp>
          <p:nvSpPr>
            <p:cNvPr id="5746" name=""/>
            <p:cNvSpPr/>
            <p:nvPr/>
          </p:nvSpPr>
          <p:spPr>
            <a:xfrm flipH="1">
              <a:off x="6464160" y="3789360"/>
              <a:ext cx="2625480" cy="2850840"/>
            </a:xfrm>
            <a:custGeom>
              <a:avLst/>
              <a:gdLst/>
              <a:ahLst/>
              <a:rect l="l" t="t" r="r" b="b"/>
              <a:pathLst>
                <a:path w="2429" h="2521">
                  <a:moveTo>
                    <a:pt x="1075" y="222"/>
                  </a:moveTo>
                  <a:lnTo>
                    <a:pt x="1065" y="331"/>
                  </a:lnTo>
                  <a:lnTo>
                    <a:pt x="1069" y="341"/>
                  </a:lnTo>
                  <a:lnTo>
                    <a:pt x="1083" y="360"/>
                  </a:lnTo>
                  <a:lnTo>
                    <a:pt x="1093" y="383"/>
                  </a:lnTo>
                  <a:lnTo>
                    <a:pt x="1100" y="405"/>
                  </a:lnTo>
                  <a:lnTo>
                    <a:pt x="1101" y="428"/>
                  </a:lnTo>
                  <a:lnTo>
                    <a:pt x="1098" y="451"/>
                  </a:lnTo>
                  <a:lnTo>
                    <a:pt x="1084" y="549"/>
                  </a:lnTo>
                  <a:lnTo>
                    <a:pt x="1083" y="571"/>
                  </a:lnTo>
                  <a:lnTo>
                    <a:pt x="1086" y="617"/>
                  </a:lnTo>
                  <a:lnTo>
                    <a:pt x="1090" y="659"/>
                  </a:lnTo>
                  <a:lnTo>
                    <a:pt x="1094" y="703"/>
                  </a:lnTo>
                  <a:lnTo>
                    <a:pt x="1094" y="726"/>
                  </a:lnTo>
                  <a:lnTo>
                    <a:pt x="1090" y="747"/>
                  </a:lnTo>
                  <a:lnTo>
                    <a:pt x="1079" y="770"/>
                  </a:lnTo>
                  <a:lnTo>
                    <a:pt x="1066" y="788"/>
                  </a:lnTo>
                  <a:lnTo>
                    <a:pt x="1055" y="803"/>
                  </a:lnTo>
                  <a:lnTo>
                    <a:pt x="1042" y="814"/>
                  </a:lnTo>
                  <a:lnTo>
                    <a:pt x="1027" y="823"/>
                  </a:lnTo>
                  <a:lnTo>
                    <a:pt x="1011" y="830"/>
                  </a:lnTo>
                  <a:lnTo>
                    <a:pt x="967" y="843"/>
                  </a:lnTo>
                  <a:lnTo>
                    <a:pt x="998" y="863"/>
                  </a:lnTo>
                  <a:lnTo>
                    <a:pt x="1032" y="879"/>
                  </a:lnTo>
                  <a:lnTo>
                    <a:pt x="1096" y="910"/>
                  </a:lnTo>
                  <a:lnTo>
                    <a:pt x="1163" y="936"/>
                  </a:lnTo>
                  <a:lnTo>
                    <a:pt x="1194" y="950"/>
                  </a:lnTo>
                  <a:lnTo>
                    <a:pt x="1227" y="966"/>
                  </a:lnTo>
                  <a:lnTo>
                    <a:pt x="1255" y="985"/>
                  </a:lnTo>
                  <a:lnTo>
                    <a:pt x="1284" y="1008"/>
                  </a:lnTo>
                  <a:lnTo>
                    <a:pt x="1297" y="1020"/>
                  </a:lnTo>
                  <a:lnTo>
                    <a:pt x="1310" y="1033"/>
                  </a:lnTo>
                  <a:lnTo>
                    <a:pt x="1320" y="1047"/>
                  </a:lnTo>
                  <a:lnTo>
                    <a:pt x="1329" y="1062"/>
                  </a:lnTo>
                  <a:lnTo>
                    <a:pt x="1355" y="1139"/>
                  </a:lnTo>
                  <a:lnTo>
                    <a:pt x="1380" y="1219"/>
                  </a:lnTo>
                  <a:lnTo>
                    <a:pt x="1406" y="1298"/>
                  </a:lnTo>
                  <a:lnTo>
                    <a:pt x="1426" y="1375"/>
                  </a:lnTo>
                  <a:lnTo>
                    <a:pt x="1462" y="1507"/>
                  </a:lnTo>
                  <a:lnTo>
                    <a:pt x="1485" y="1593"/>
                  </a:lnTo>
                  <a:lnTo>
                    <a:pt x="1519" y="1606"/>
                  </a:lnTo>
                  <a:lnTo>
                    <a:pt x="1553" y="1625"/>
                  </a:lnTo>
                  <a:lnTo>
                    <a:pt x="1568" y="1638"/>
                  </a:lnTo>
                  <a:lnTo>
                    <a:pt x="1582" y="1650"/>
                  </a:lnTo>
                  <a:lnTo>
                    <a:pt x="1593" y="1666"/>
                  </a:lnTo>
                  <a:lnTo>
                    <a:pt x="1600" y="1681"/>
                  </a:lnTo>
                  <a:lnTo>
                    <a:pt x="1603" y="1683"/>
                  </a:lnTo>
                  <a:lnTo>
                    <a:pt x="1619" y="1689"/>
                  </a:lnTo>
                  <a:lnTo>
                    <a:pt x="1631" y="1697"/>
                  </a:lnTo>
                  <a:lnTo>
                    <a:pt x="1638" y="1703"/>
                  </a:lnTo>
                  <a:lnTo>
                    <a:pt x="1646" y="1708"/>
                  </a:lnTo>
                  <a:lnTo>
                    <a:pt x="1651" y="1712"/>
                  </a:lnTo>
                  <a:lnTo>
                    <a:pt x="1656" y="1713"/>
                  </a:lnTo>
                  <a:lnTo>
                    <a:pt x="1662" y="1712"/>
                  </a:lnTo>
                  <a:lnTo>
                    <a:pt x="1671" y="1707"/>
                  </a:lnTo>
                  <a:lnTo>
                    <a:pt x="1696" y="1730"/>
                  </a:lnTo>
                  <a:lnTo>
                    <a:pt x="1682" y="1766"/>
                  </a:lnTo>
                  <a:lnTo>
                    <a:pt x="1856" y="1765"/>
                  </a:lnTo>
                  <a:lnTo>
                    <a:pt x="1890" y="1765"/>
                  </a:lnTo>
                  <a:lnTo>
                    <a:pt x="1900" y="1742"/>
                  </a:lnTo>
                  <a:lnTo>
                    <a:pt x="1918" y="1718"/>
                  </a:lnTo>
                  <a:lnTo>
                    <a:pt x="1940" y="1698"/>
                  </a:lnTo>
                  <a:lnTo>
                    <a:pt x="1961" y="1683"/>
                  </a:lnTo>
                  <a:lnTo>
                    <a:pt x="1986" y="1678"/>
                  </a:lnTo>
                  <a:lnTo>
                    <a:pt x="1998" y="1681"/>
                  </a:lnTo>
                  <a:lnTo>
                    <a:pt x="2008" y="1684"/>
                  </a:lnTo>
                  <a:lnTo>
                    <a:pt x="2023" y="1668"/>
                  </a:lnTo>
                  <a:lnTo>
                    <a:pt x="2039" y="1657"/>
                  </a:lnTo>
                  <a:lnTo>
                    <a:pt x="2049" y="1653"/>
                  </a:lnTo>
                  <a:lnTo>
                    <a:pt x="2058" y="1652"/>
                  </a:lnTo>
                  <a:lnTo>
                    <a:pt x="2068" y="1653"/>
                  </a:lnTo>
                  <a:lnTo>
                    <a:pt x="2076" y="1655"/>
                  </a:lnTo>
                  <a:lnTo>
                    <a:pt x="2103" y="1681"/>
                  </a:lnTo>
                  <a:lnTo>
                    <a:pt x="2116" y="1671"/>
                  </a:lnTo>
                  <a:lnTo>
                    <a:pt x="2127" y="1664"/>
                  </a:lnTo>
                  <a:lnTo>
                    <a:pt x="2138" y="1663"/>
                  </a:lnTo>
                  <a:lnTo>
                    <a:pt x="2149" y="1664"/>
                  </a:lnTo>
                  <a:lnTo>
                    <a:pt x="2159" y="1669"/>
                  </a:lnTo>
                  <a:lnTo>
                    <a:pt x="2169" y="1678"/>
                  </a:lnTo>
                  <a:lnTo>
                    <a:pt x="2176" y="1689"/>
                  </a:lnTo>
                  <a:lnTo>
                    <a:pt x="2181" y="1706"/>
                  </a:lnTo>
                  <a:lnTo>
                    <a:pt x="2199" y="1705"/>
                  </a:lnTo>
                  <a:lnTo>
                    <a:pt x="2214" y="1706"/>
                  </a:lnTo>
                  <a:lnTo>
                    <a:pt x="2220" y="1708"/>
                  </a:lnTo>
                  <a:lnTo>
                    <a:pt x="2226" y="1712"/>
                  </a:lnTo>
                  <a:lnTo>
                    <a:pt x="2231" y="1717"/>
                  </a:lnTo>
                  <a:lnTo>
                    <a:pt x="2237" y="1725"/>
                  </a:lnTo>
                  <a:lnTo>
                    <a:pt x="2238" y="1736"/>
                  </a:lnTo>
                  <a:lnTo>
                    <a:pt x="2239" y="1747"/>
                  </a:lnTo>
                  <a:lnTo>
                    <a:pt x="2237" y="1771"/>
                  </a:lnTo>
                  <a:lnTo>
                    <a:pt x="2291" y="1777"/>
                  </a:lnTo>
                  <a:lnTo>
                    <a:pt x="2288" y="1857"/>
                  </a:lnTo>
                  <a:lnTo>
                    <a:pt x="2279" y="1874"/>
                  </a:lnTo>
                  <a:lnTo>
                    <a:pt x="2118" y="1991"/>
                  </a:lnTo>
                  <a:lnTo>
                    <a:pt x="1955" y="2117"/>
                  </a:lnTo>
                  <a:lnTo>
                    <a:pt x="1790" y="2245"/>
                  </a:lnTo>
                  <a:lnTo>
                    <a:pt x="1710" y="2304"/>
                  </a:lnTo>
                  <a:lnTo>
                    <a:pt x="1633" y="2360"/>
                  </a:lnTo>
                  <a:lnTo>
                    <a:pt x="1629" y="2362"/>
                  </a:lnTo>
                  <a:lnTo>
                    <a:pt x="1593" y="2360"/>
                  </a:lnTo>
                  <a:lnTo>
                    <a:pt x="1593" y="2430"/>
                  </a:lnTo>
                  <a:lnTo>
                    <a:pt x="1593" y="2501"/>
                  </a:lnTo>
                  <a:lnTo>
                    <a:pt x="1788" y="2504"/>
                  </a:lnTo>
                  <a:lnTo>
                    <a:pt x="1979" y="2504"/>
                  </a:lnTo>
                  <a:lnTo>
                    <a:pt x="2030" y="2504"/>
                  </a:lnTo>
                  <a:lnTo>
                    <a:pt x="2047" y="2504"/>
                  </a:lnTo>
                  <a:lnTo>
                    <a:pt x="2074" y="2503"/>
                  </a:lnTo>
                  <a:lnTo>
                    <a:pt x="2214" y="2506"/>
                  </a:lnTo>
                  <a:lnTo>
                    <a:pt x="2237" y="2504"/>
                  </a:lnTo>
                  <a:lnTo>
                    <a:pt x="2332" y="2508"/>
                  </a:lnTo>
                  <a:lnTo>
                    <a:pt x="2363" y="2508"/>
                  </a:lnTo>
                  <a:lnTo>
                    <a:pt x="2382" y="2508"/>
                  </a:lnTo>
                  <a:lnTo>
                    <a:pt x="2424" y="2511"/>
                  </a:lnTo>
                  <a:lnTo>
                    <a:pt x="2429" y="2511"/>
                  </a:lnTo>
                  <a:lnTo>
                    <a:pt x="2429" y="2521"/>
                  </a:lnTo>
                  <a:lnTo>
                    <a:pt x="2306" y="2520"/>
                  </a:lnTo>
                  <a:lnTo>
                    <a:pt x="2297" y="2520"/>
                  </a:lnTo>
                  <a:lnTo>
                    <a:pt x="2066" y="2520"/>
                  </a:lnTo>
                  <a:lnTo>
                    <a:pt x="1949" y="2516"/>
                  </a:lnTo>
                  <a:lnTo>
                    <a:pt x="1881" y="2516"/>
                  </a:lnTo>
                  <a:lnTo>
                    <a:pt x="1830" y="2516"/>
                  </a:lnTo>
                  <a:lnTo>
                    <a:pt x="1301" y="2511"/>
                  </a:lnTo>
                  <a:lnTo>
                    <a:pt x="1037" y="2508"/>
                  </a:lnTo>
                  <a:lnTo>
                    <a:pt x="773" y="2503"/>
                  </a:lnTo>
                  <a:lnTo>
                    <a:pt x="453" y="2501"/>
                  </a:lnTo>
                  <a:lnTo>
                    <a:pt x="233" y="2498"/>
                  </a:lnTo>
                  <a:lnTo>
                    <a:pt x="13" y="2496"/>
                  </a:lnTo>
                  <a:lnTo>
                    <a:pt x="0" y="2496"/>
                  </a:lnTo>
                  <a:lnTo>
                    <a:pt x="0" y="2483"/>
                  </a:lnTo>
                  <a:lnTo>
                    <a:pt x="244" y="2487"/>
                  </a:lnTo>
                  <a:lnTo>
                    <a:pt x="365" y="2489"/>
                  </a:lnTo>
                  <a:lnTo>
                    <a:pt x="485" y="2491"/>
                  </a:lnTo>
                  <a:lnTo>
                    <a:pt x="492" y="2487"/>
                  </a:lnTo>
                  <a:lnTo>
                    <a:pt x="489" y="2410"/>
                  </a:lnTo>
                  <a:lnTo>
                    <a:pt x="485" y="2357"/>
                  </a:lnTo>
                  <a:lnTo>
                    <a:pt x="464" y="2354"/>
                  </a:lnTo>
                  <a:lnTo>
                    <a:pt x="438" y="2354"/>
                  </a:lnTo>
                  <a:lnTo>
                    <a:pt x="409" y="2352"/>
                  </a:lnTo>
                  <a:lnTo>
                    <a:pt x="395" y="2351"/>
                  </a:lnTo>
                  <a:lnTo>
                    <a:pt x="381" y="2348"/>
                  </a:lnTo>
                  <a:lnTo>
                    <a:pt x="381" y="2312"/>
                  </a:lnTo>
                  <a:lnTo>
                    <a:pt x="381" y="2289"/>
                  </a:lnTo>
                  <a:lnTo>
                    <a:pt x="380" y="2279"/>
                  </a:lnTo>
                  <a:lnTo>
                    <a:pt x="379" y="2274"/>
                  </a:lnTo>
                  <a:lnTo>
                    <a:pt x="381" y="2269"/>
                  </a:lnTo>
                  <a:lnTo>
                    <a:pt x="389" y="2259"/>
                  </a:lnTo>
                  <a:lnTo>
                    <a:pt x="405" y="2242"/>
                  </a:lnTo>
                  <a:lnTo>
                    <a:pt x="406" y="2198"/>
                  </a:lnTo>
                  <a:lnTo>
                    <a:pt x="406" y="2152"/>
                  </a:lnTo>
                  <a:lnTo>
                    <a:pt x="406" y="2067"/>
                  </a:lnTo>
                  <a:lnTo>
                    <a:pt x="381" y="2060"/>
                  </a:lnTo>
                  <a:lnTo>
                    <a:pt x="356" y="2054"/>
                  </a:lnTo>
                  <a:lnTo>
                    <a:pt x="331" y="2044"/>
                  </a:lnTo>
                  <a:lnTo>
                    <a:pt x="303" y="2030"/>
                  </a:lnTo>
                  <a:lnTo>
                    <a:pt x="265" y="1964"/>
                  </a:lnTo>
                  <a:lnTo>
                    <a:pt x="250" y="1931"/>
                  </a:lnTo>
                  <a:lnTo>
                    <a:pt x="236" y="1901"/>
                  </a:lnTo>
                  <a:lnTo>
                    <a:pt x="224" y="1866"/>
                  </a:lnTo>
                  <a:lnTo>
                    <a:pt x="211" y="1829"/>
                  </a:lnTo>
                  <a:lnTo>
                    <a:pt x="200" y="1790"/>
                  </a:lnTo>
                  <a:lnTo>
                    <a:pt x="190" y="1746"/>
                  </a:lnTo>
                  <a:lnTo>
                    <a:pt x="177" y="1682"/>
                  </a:lnTo>
                  <a:lnTo>
                    <a:pt x="169" y="1618"/>
                  </a:lnTo>
                  <a:lnTo>
                    <a:pt x="164" y="1555"/>
                  </a:lnTo>
                  <a:lnTo>
                    <a:pt x="161" y="1494"/>
                  </a:lnTo>
                  <a:lnTo>
                    <a:pt x="161" y="1438"/>
                  </a:lnTo>
                  <a:lnTo>
                    <a:pt x="162" y="1384"/>
                  </a:lnTo>
                  <a:lnTo>
                    <a:pt x="167" y="1293"/>
                  </a:lnTo>
                  <a:lnTo>
                    <a:pt x="171" y="1261"/>
                  </a:lnTo>
                  <a:lnTo>
                    <a:pt x="176" y="1224"/>
                  </a:lnTo>
                  <a:lnTo>
                    <a:pt x="182" y="1183"/>
                  </a:lnTo>
                  <a:lnTo>
                    <a:pt x="191" y="1140"/>
                  </a:lnTo>
                  <a:lnTo>
                    <a:pt x="200" y="1100"/>
                  </a:lnTo>
                  <a:lnTo>
                    <a:pt x="211" y="1063"/>
                  </a:lnTo>
                  <a:lnTo>
                    <a:pt x="224" y="1033"/>
                  </a:lnTo>
                  <a:lnTo>
                    <a:pt x="229" y="1020"/>
                  </a:lnTo>
                  <a:lnTo>
                    <a:pt x="235" y="1013"/>
                  </a:lnTo>
                  <a:lnTo>
                    <a:pt x="270" y="991"/>
                  </a:lnTo>
                  <a:lnTo>
                    <a:pt x="303" y="975"/>
                  </a:lnTo>
                  <a:lnTo>
                    <a:pt x="336" y="960"/>
                  </a:lnTo>
                  <a:lnTo>
                    <a:pt x="372" y="946"/>
                  </a:lnTo>
                  <a:lnTo>
                    <a:pt x="441" y="911"/>
                  </a:lnTo>
                  <a:lnTo>
                    <a:pt x="508" y="876"/>
                  </a:lnTo>
                  <a:lnTo>
                    <a:pt x="572" y="835"/>
                  </a:lnTo>
                  <a:lnTo>
                    <a:pt x="637" y="790"/>
                  </a:lnTo>
                  <a:lnTo>
                    <a:pt x="639" y="762"/>
                  </a:lnTo>
                  <a:lnTo>
                    <a:pt x="637" y="737"/>
                  </a:lnTo>
                  <a:lnTo>
                    <a:pt x="629" y="683"/>
                  </a:lnTo>
                  <a:lnTo>
                    <a:pt x="607" y="624"/>
                  </a:lnTo>
                  <a:lnTo>
                    <a:pt x="576" y="620"/>
                  </a:lnTo>
                  <a:lnTo>
                    <a:pt x="551" y="613"/>
                  </a:lnTo>
                  <a:lnTo>
                    <a:pt x="529" y="600"/>
                  </a:lnTo>
                  <a:lnTo>
                    <a:pt x="513" y="584"/>
                  </a:lnTo>
                  <a:lnTo>
                    <a:pt x="502" y="562"/>
                  </a:lnTo>
                  <a:lnTo>
                    <a:pt x="495" y="539"/>
                  </a:lnTo>
                  <a:lnTo>
                    <a:pt x="492" y="511"/>
                  </a:lnTo>
                  <a:lnTo>
                    <a:pt x="492" y="482"/>
                  </a:lnTo>
                  <a:lnTo>
                    <a:pt x="487" y="472"/>
                  </a:lnTo>
                  <a:lnTo>
                    <a:pt x="482" y="466"/>
                  </a:lnTo>
                  <a:lnTo>
                    <a:pt x="477" y="459"/>
                  </a:lnTo>
                  <a:lnTo>
                    <a:pt x="473" y="448"/>
                  </a:lnTo>
                  <a:lnTo>
                    <a:pt x="455" y="418"/>
                  </a:lnTo>
                  <a:lnTo>
                    <a:pt x="440" y="386"/>
                  </a:lnTo>
                  <a:lnTo>
                    <a:pt x="429" y="356"/>
                  </a:lnTo>
                  <a:lnTo>
                    <a:pt x="421" y="326"/>
                  </a:lnTo>
                  <a:lnTo>
                    <a:pt x="419" y="311"/>
                  </a:lnTo>
                  <a:lnTo>
                    <a:pt x="417" y="295"/>
                  </a:lnTo>
                  <a:lnTo>
                    <a:pt x="420" y="278"/>
                  </a:lnTo>
                  <a:lnTo>
                    <a:pt x="423" y="263"/>
                  </a:lnTo>
                  <a:lnTo>
                    <a:pt x="429" y="247"/>
                  </a:lnTo>
                  <a:lnTo>
                    <a:pt x="436" y="230"/>
                  </a:lnTo>
                  <a:lnTo>
                    <a:pt x="448" y="213"/>
                  </a:lnTo>
                  <a:lnTo>
                    <a:pt x="461" y="195"/>
                  </a:lnTo>
                  <a:lnTo>
                    <a:pt x="470" y="189"/>
                  </a:lnTo>
                  <a:lnTo>
                    <a:pt x="479" y="184"/>
                  </a:lnTo>
                  <a:lnTo>
                    <a:pt x="489" y="179"/>
                  </a:lnTo>
                  <a:lnTo>
                    <a:pt x="499" y="176"/>
                  </a:lnTo>
                  <a:lnTo>
                    <a:pt x="472" y="146"/>
                  </a:lnTo>
                  <a:lnTo>
                    <a:pt x="464" y="140"/>
                  </a:lnTo>
                  <a:lnTo>
                    <a:pt x="469" y="131"/>
                  </a:lnTo>
                  <a:lnTo>
                    <a:pt x="474" y="126"/>
                  </a:lnTo>
                  <a:lnTo>
                    <a:pt x="480" y="125"/>
                  </a:lnTo>
                  <a:lnTo>
                    <a:pt x="487" y="125"/>
                  </a:lnTo>
                  <a:lnTo>
                    <a:pt x="502" y="129"/>
                  </a:lnTo>
                  <a:lnTo>
                    <a:pt x="517" y="136"/>
                  </a:lnTo>
                  <a:lnTo>
                    <a:pt x="519" y="129"/>
                  </a:lnTo>
                  <a:lnTo>
                    <a:pt x="522" y="121"/>
                  </a:lnTo>
                  <a:lnTo>
                    <a:pt x="531" y="108"/>
                  </a:lnTo>
                  <a:lnTo>
                    <a:pt x="534" y="93"/>
                  </a:lnTo>
                  <a:lnTo>
                    <a:pt x="539" y="80"/>
                  </a:lnTo>
                  <a:lnTo>
                    <a:pt x="547" y="64"/>
                  </a:lnTo>
                  <a:lnTo>
                    <a:pt x="556" y="49"/>
                  </a:lnTo>
                  <a:lnTo>
                    <a:pt x="570" y="36"/>
                  </a:lnTo>
                  <a:lnTo>
                    <a:pt x="581" y="23"/>
                  </a:lnTo>
                  <a:lnTo>
                    <a:pt x="596" y="14"/>
                  </a:lnTo>
                  <a:lnTo>
                    <a:pt x="611" y="8"/>
                  </a:lnTo>
                  <a:lnTo>
                    <a:pt x="625" y="4"/>
                  </a:lnTo>
                  <a:lnTo>
                    <a:pt x="639" y="2"/>
                  </a:lnTo>
                  <a:lnTo>
                    <a:pt x="665" y="0"/>
                  </a:lnTo>
                  <a:lnTo>
                    <a:pt x="690" y="0"/>
                  </a:lnTo>
                  <a:lnTo>
                    <a:pt x="717" y="4"/>
                  </a:lnTo>
                  <a:lnTo>
                    <a:pt x="743" y="10"/>
                  </a:lnTo>
                  <a:lnTo>
                    <a:pt x="767" y="19"/>
                  </a:lnTo>
                  <a:lnTo>
                    <a:pt x="819" y="39"/>
                  </a:lnTo>
                  <a:lnTo>
                    <a:pt x="841" y="27"/>
                  </a:lnTo>
                  <a:lnTo>
                    <a:pt x="864" y="15"/>
                  </a:lnTo>
                  <a:lnTo>
                    <a:pt x="888" y="8"/>
                  </a:lnTo>
                  <a:lnTo>
                    <a:pt x="899" y="5"/>
                  </a:lnTo>
                  <a:lnTo>
                    <a:pt x="913" y="4"/>
                  </a:lnTo>
                  <a:lnTo>
                    <a:pt x="924" y="4"/>
                  </a:lnTo>
                  <a:lnTo>
                    <a:pt x="938" y="5"/>
                  </a:lnTo>
                  <a:lnTo>
                    <a:pt x="949" y="9"/>
                  </a:lnTo>
                  <a:lnTo>
                    <a:pt x="963" y="15"/>
                  </a:lnTo>
                  <a:lnTo>
                    <a:pt x="977" y="22"/>
                  </a:lnTo>
                  <a:lnTo>
                    <a:pt x="989" y="32"/>
                  </a:lnTo>
                  <a:lnTo>
                    <a:pt x="1002" y="43"/>
                  </a:lnTo>
                  <a:lnTo>
                    <a:pt x="1016" y="58"/>
                  </a:lnTo>
                  <a:lnTo>
                    <a:pt x="1050" y="48"/>
                  </a:lnTo>
                  <a:lnTo>
                    <a:pt x="1065" y="44"/>
                  </a:lnTo>
                  <a:lnTo>
                    <a:pt x="1079" y="43"/>
                  </a:lnTo>
                  <a:lnTo>
                    <a:pt x="1094" y="43"/>
                  </a:lnTo>
                  <a:lnTo>
                    <a:pt x="1106" y="47"/>
                  </a:lnTo>
                  <a:lnTo>
                    <a:pt x="1121" y="52"/>
                  </a:lnTo>
                  <a:lnTo>
                    <a:pt x="1138" y="61"/>
                  </a:lnTo>
                  <a:lnTo>
                    <a:pt x="1144" y="71"/>
                  </a:lnTo>
                  <a:lnTo>
                    <a:pt x="1147" y="81"/>
                  </a:lnTo>
                  <a:lnTo>
                    <a:pt x="1150" y="92"/>
                  </a:lnTo>
                  <a:lnTo>
                    <a:pt x="1150" y="103"/>
                  </a:lnTo>
                  <a:lnTo>
                    <a:pt x="1147" y="125"/>
                  </a:lnTo>
                  <a:lnTo>
                    <a:pt x="1138" y="146"/>
                  </a:lnTo>
                  <a:lnTo>
                    <a:pt x="1109" y="186"/>
                  </a:lnTo>
                  <a:lnTo>
                    <a:pt x="1075" y="2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7858800" y="3797280"/>
              <a:ext cx="646200" cy="281520"/>
            </a:xfrm>
            <a:custGeom>
              <a:avLst/>
              <a:gdLst/>
              <a:ahLst/>
              <a:rect l="l" t="t" r="r" b="b"/>
              <a:pathLst>
                <a:path w="598" h="249">
                  <a:moveTo>
                    <a:pt x="531" y="201"/>
                  </a:moveTo>
                  <a:lnTo>
                    <a:pt x="533" y="200"/>
                  </a:lnTo>
                  <a:lnTo>
                    <a:pt x="531" y="200"/>
                  </a:lnTo>
                  <a:lnTo>
                    <a:pt x="563" y="166"/>
                  </a:lnTo>
                  <a:lnTo>
                    <a:pt x="577" y="148"/>
                  </a:lnTo>
                  <a:lnTo>
                    <a:pt x="588" y="132"/>
                  </a:lnTo>
                  <a:lnTo>
                    <a:pt x="596" y="114"/>
                  </a:lnTo>
                  <a:lnTo>
                    <a:pt x="598" y="96"/>
                  </a:lnTo>
                  <a:lnTo>
                    <a:pt x="598" y="88"/>
                  </a:lnTo>
                  <a:lnTo>
                    <a:pt x="596" y="79"/>
                  </a:lnTo>
                  <a:lnTo>
                    <a:pt x="587" y="62"/>
                  </a:lnTo>
                  <a:lnTo>
                    <a:pt x="577" y="55"/>
                  </a:lnTo>
                  <a:lnTo>
                    <a:pt x="565" y="50"/>
                  </a:lnTo>
                  <a:lnTo>
                    <a:pt x="555" y="47"/>
                  </a:lnTo>
                  <a:lnTo>
                    <a:pt x="547" y="45"/>
                  </a:lnTo>
                  <a:lnTo>
                    <a:pt x="538" y="45"/>
                  </a:lnTo>
                  <a:lnTo>
                    <a:pt x="528" y="46"/>
                  </a:lnTo>
                  <a:lnTo>
                    <a:pt x="519" y="47"/>
                  </a:lnTo>
                  <a:lnTo>
                    <a:pt x="510" y="51"/>
                  </a:lnTo>
                  <a:lnTo>
                    <a:pt x="491" y="57"/>
                  </a:lnTo>
                  <a:lnTo>
                    <a:pt x="472" y="66"/>
                  </a:lnTo>
                  <a:lnTo>
                    <a:pt x="454" y="74"/>
                  </a:lnTo>
                  <a:lnTo>
                    <a:pt x="432" y="80"/>
                  </a:lnTo>
                  <a:lnTo>
                    <a:pt x="432" y="69"/>
                  </a:lnTo>
                  <a:lnTo>
                    <a:pt x="455" y="59"/>
                  </a:lnTo>
                  <a:lnTo>
                    <a:pt x="460" y="54"/>
                  </a:lnTo>
                  <a:lnTo>
                    <a:pt x="451" y="41"/>
                  </a:lnTo>
                  <a:lnTo>
                    <a:pt x="440" y="30"/>
                  </a:lnTo>
                  <a:lnTo>
                    <a:pt x="430" y="21"/>
                  </a:lnTo>
                  <a:lnTo>
                    <a:pt x="418" y="15"/>
                  </a:lnTo>
                  <a:lnTo>
                    <a:pt x="406" y="11"/>
                  </a:lnTo>
                  <a:lnTo>
                    <a:pt x="393" y="8"/>
                  </a:lnTo>
                  <a:lnTo>
                    <a:pt x="382" y="7"/>
                  </a:lnTo>
                  <a:lnTo>
                    <a:pt x="369" y="8"/>
                  </a:lnTo>
                  <a:lnTo>
                    <a:pt x="357" y="10"/>
                  </a:lnTo>
                  <a:lnTo>
                    <a:pt x="347" y="12"/>
                  </a:lnTo>
                  <a:lnTo>
                    <a:pt x="324" y="20"/>
                  </a:lnTo>
                  <a:lnTo>
                    <a:pt x="304" y="30"/>
                  </a:lnTo>
                  <a:lnTo>
                    <a:pt x="288" y="41"/>
                  </a:lnTo>
                  <a:lnTo>
                    <a:pt x="221" y="104"/>
                  </a:lnTo>
                  <a:lnTo>
                    <a:pt x="220" y="104"/>
                  </a:lnTo>
                  <a:lnTo>
                    <a:pt x="213" y="106"/>
                  </a:lnTo>
                  <a:lnTo>
                    <a:pt x="216" y="91"/>
                  </a:lnTo>
                  <a:lnTo>
                    <a:pt x="264" y="46"/>
                  </a:lnTo>
                  <a:lnTo>
                    <a:pt x="259" y="41"/>
                  </a:lnTo>
                  <a:lnTo>
                    <a:pt x="252" y="37"/>
                  </a:lnTo>
                  <a:lnTo>
                    <a:pt x="240" y="29"/>
                  </a:lnTo>
                  <a:lnTo>
                    <a:pt x="202" y="15"/>
                  </a:lnTo>
                  <a:lnTo>
                    <a:pt x="163" y="5"/>
                  </a:lnTo>
                  <a:lnTo>
                    <a:pt x="132" y="0"/>
                  </a:lnTo>
                  <a:lnTo>
                    <a:pt x="107" y="2"/>
                  </a:lnTo>
                  <a:lnTo>
                    <a:pt x="84" y="8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2" y="26"/>
                  </a:lnTo>
                  <a:lnTo>
                    <a:pt x="27" y="41"/>
                  </a:lnTo>
                  <a:lnTo>
                    <a:pt x="20" y="49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5" y="80"/>
                  </a:lnTo>
                  <a:lnTo>
                    <a:pt x="0" y="104"/>
                  </a:lnTo>
                  <a:lnTo>
                    <a:pt x="7" y="119"/>
                  </a:lnTo>
                  <a:lnTo>
                    <a:pt x="14" y="135"/>
                  </a:lnTo>
                  <a:lnTo>
                    <a:pt x="17" y="151"/>
                  </a:lnTo>
                  <a:lnTo>
                    <a:pt x="17" y="166"/>
                  </a:lnTo>
                  <a:lnTo>
                    <a:pt x="39" y="171"/>
                  </a:lnTo>
                  <a:lnTo>
                    <a:pt x="55" y="178"/>
                  </a:lnTo>
                  <a:lnTo>
                    <a:pt x="68" y="186"/>
                  </a:lnTo>
                  <a:lnTo>
                    <a:pt x="79" y="196"/>
                  </a:lnTo>
                  <a:lnTo>
                    <a:pt x="98" y="220"/>
                  </a:lnTo>
                  <a:lnTo>
                    <a:pt x="118" y="249"/>
                  </a:lnTo>
                  <a:lnTo>
                    <a:pt x="149" y="241"/>
                  </a:lnTo>
                  <a:lnTo>
                    <a:pt x="166" y="235"/>
                  </a:lnTo>
                  <a:lnTo>
                    <a:pt x="183" y="227"/>
                  </a:lnTo>
                  <a:lnTo>
                    <a:pt x="198" y="218"/>
                  </a:lnTo>
                  <a:lnTo>
                    <a:pt x="212" y="206"/>
                  </a:lnTo>
                  <a:lnTo>
                    <a:pt x="221" y="193"/>
                  </a:lnTo>
                  <a:lnTo>
                    <a:pt x="223" y="186"/>
                  </a:lnTo>
                  <a:lnTo>
                    <a:pt x="225" y="179"/>
                  </a:lnTo>
                  <a:lnTo>
                    <a:pt x="166" y="153"/>
                  </a:lnTo>
                  <a:lnTo>
                    <a:pt x="166" y="145"/>
                  </a:lnTo>
                  <a:lnTo>
                    <a:pt x="181" y="149"/>
                  </a:lnTo>
                  <a:lnTo>
                    <a:pt x="196" y="156"/>
                  </a:lnTo>
                  <a:lnTo>
                    <a:pt x="211" y="162"/>
                  </a:lnTo>
                  <a:lnTo>
                    <a:pt x="223" y="164"/>
                  </a:lnTo>
                  <a:lnTo>
                    <a:pt x="239" y="164"/>
                  </a:lnTo>
                  <a:lnTo>
                    <a:pt x="271" y="167"/>
                  </a:lnTo>
                  <a:lnTo>
                    <a:pt x="304" y="164"/>
                  </a:lnTo>
                  <a:lnTo>
                    <a:pt x="333" y="159"/>
                  </a:lnTo>
                  <a:lnTo>
                    <a:pt x="364" y="151"/>
                  </a:lnTo>
                  <a:lnTo>
                    <a:pt x="393" y="139"/>
                  </a:lnTo>
                  <a:lnTo>
                    <a:pt x="422" y="128"/>
                  </a:lnTo>
                  <a:lnTo>
                    <a:pt x="481" y="101"/>
                  </a:lnTo>
                  <a:lnTo>
                    <a:pt x="492" y="100"/>
                  </a:lnTo>
                  <a:lnTo>
                    <a:pt x="524" y="91"/>
                  </a:lnTo>
                  <a:lnTo>
                    <a:pt x="568" y="94"/>
                  </a:lnTo>
                  <a:lnTo>
                    <a:pt x="562" y="104"/>
                  </a:lnTo>
                  <a:lnTo>
                    <a:pt x="547" y="103"/>
                  </a:lnTo>
                  <a:lnTo>
                    <a:pt x="531" y="104"/>
                  </a:lnTo>
                  <a:lnTo>
                    <a:pt x="515" y="106"/>
                  </a:lnTo>
                  <a:lnTo>
                    <a:pt x="501" y="110"/>
                  </a:lnTo>
                  <a:lnTo>
                    <a:pt x="519" y="149"/>
                  </a:lnTo>
                  <a:lnTo>
                    <a:pt x="528" y="172"/>
                  </a:lnTo>
                  <a:lnTo>
                    <a:pt x="531" y="201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8388720" y="3940560"/>
              <a:ext cx="235440" cy="358200"/>
            </a:xfrm>
            <a:custGeom>
              <a:avLst/>
              <a:gdLst/>
              <a:ahLst/>
              <a:rect l="l" t="t" r="r" b="b"/>
              <a:pathLst>
                <a:path w="218" h="317">
                  <a:moveTo>
                    <a:pt x="57" y="309"/>
                  </a:moveTo>
                  <a:lnTo>
                    <a:pt x="63" y="317"/>
                  </a:lnTo>
                  <a:lnTo>
                    <a:pt x="63" y="315"/>
                  </a:lnTo>
                  <a:lnTo>
                    <a:pt x="64" y="303"/>
                  </a:lnTo>
                  <a:lnTo>
                    <a:pt x="68" y="294"/>
                  </a:lnTo>
                  <a:lnTo>
                    <a:pt x="72" y="286"/>
                  </a:lnTo>
                  <a:lnTo>
                    <a:pt x="78" y="281"/>
                  </a:lnTo>
                  <a:lnTo>
                    <a:pt x="86" y="279"/>
                  </a:lnTo>
                  <a:lnTo>
                    <a:pt x="95" y="278"/>
                  </a:lnTo>
                  <a:lnTo>
                    <a:pt x="113" y="280"/>
                  </a:lnTo>
                  <a:lnTo>
                    <a:pt x="134" y="285"/>
                  </a:lnTo>
                  <a:lnTo>
                    <a:pt x="152" y="293"/>
                  </a:lnTo>
                  <a:lnTo>
                    <a:pt x="168" y="300"/>
                  </a:lnTo>
                  <a:lnTo>
                    <a:pt x="178" y="306"/>
                  </a:lnTo>
                  <a:lnTo>
                    <a:pt x="189" y="278"/>
                  </a:lnTo>
                  <a:lnTo>
                    <a:pt x="199" y="249"/>
                  </a:lnTo>
                  <a:lnTo>
                    <a:pt x="209" y="220"/>
                  </a:lnTo>
                  <a:lnTo>
                    <a:pt x="217" y="191"/>
                  </a:lnTo>
                  <a:lnTo>
                    <a:pt x="218" y="162"/>
                  </a:lnTo>
                  <a:lnTo>
                    <a:pt x="217" y="147"/>
                  </a:lnTo>
                  <a:lnTo>
                    <a:pt x="213" y="133"/>
                  </a:lnTo>
                  <a:lnTo>
                    <a:pt x="208" y="119"/>
                  </a:lnTo>
                  <a:lnTo>
                    <a:pt x="200" y="104"/>
                  </a:lnTo>
                  <a:lnTo>
                    <a:pt x="190" y="90"/>
                  </a:lnTo>
                  <a:lnTo>
                    <a:pt x="176" y="76"/>
                  </a:lnTo>
                  <a:lnTo>
                    <a:pt x="160" y="65"/>
                  </a:lnTo>
                  <a:lnTo>
                    <a:pt x="147" y="59"/>
                  </a:lnTo>
                  <a:lnTo>
                    <a:pt x="131" y="55"/>
                  </a:lnTo>
                  <a:lnTo>
                    <a:pt x="110" y="5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2" y="32"/>
                  </a:lnTo>
                  <a:lnTo>
                    <a:pt x="93" y="24"/>
                  </a:lnTo>
                  <a:lnTo>
                    <a:pt x="85" y="15"/>
                  </a:lnTo>
                  <a:lnTo>
                    <a:pt x="74" y="8"/>
                  </a:lnTo>
                  <a:lnTo>
                    <a:pt x="67" y="5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3"/>
                  </a:lnTo>
                  <a:lnTo>
                    <a:pt x="83" y="39"/>
                  </a:lnTo>
                  <a:lnTo>
                    <a:pt x="90" y="45"/>
                  </a:lnTo>
                  <a:lnTo>
                    <a:pt x="86" y="50"/>
                  </a:lnTo>
                  <a:lnTo>
                    <a:pt x="67" y="55"/>
                  </a:lnTo>
                  <a:lnTo>
                    <a:pt x="49" y="62"/>
                  </a:lnTo>
                  <a:lnTo>
                    <a:pt x="33" y="78"/>
                  </a:lnTo>
                  <a:lnTo>
                    <a:pt x="22" y="93"/>
                  </a:lnTo>
                  <a:lnTo>
                    <a:pt x="12" y="108"/>
                  </a:lnTo>
                  <a:lnTo>
                    <a:pt x="5" y="124"/>
                  </a:lnTo>
                  <a:lnTo>
                    <a:pt x="2" y="140"/>
                  </a:lnTo>
                  <a:lnTo>
                    <a:pt x="0" y="157"/>
                  </a:lnTo>
                  <a:lnTo>
                    <a:pt x="3" y="190"/>
                  </a:lnTo>
                  <a:lnTo>
                    <a:pt x="10" y="221"/>
                  </a:lnTo>
                  <a:lnTo>
                    <a:pt x="24" y="252"/>
                  </a:lnTo>
                  <a:lnTo>
                    <a:pt x="41" y="281"/>
                  </a:lnTo>
                  <a:lnTo>
                    <a:pt x="57" y="30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7377840" y="6165000"/>
              <a:ext cx="547920" cy="452160"/>
            </a:xfrm>
            <a:custGeom>
              <a:avLst/>
              <a:gdLst/>
              <a:ahLst/>
              <a:rect l="l" t="t" r="r" b="b"/>
              <a:pathLst>
                <a:path w="507" h="400">
                  <a:moveTo>
                    <a:pt x="0" y="395"/>
                  </a:moveTo>
                  <a:lnTo>
                    <a:pt x="0" y="288"/>
                  </a:lnTo>
                  <a:lnTo>
                    <a:pt x="3" y="144"/>
                  </a:lnTo>
                  <a:lnTo>
                    <a:pt x="4" y="1"/>
                  </a:lnTo>
                  <a:lnTo>
                    <a:pt x="153" y="0"/>
                  </a:lnTo>
                  <a:lnTo>
                    <a:pt x="276" y="2"/>
                  </a:lnTo>
                  <a:lnTo>
                    <a:pt x="389" y="9"/>
                  </a:lnTo>
                  <a:lnTo>
                    <a:pt x="506" y="19"/>
                  </a:lnTo>
                  <a:lnTo>
                    <a:pt x="507" y="113"/>
                  </a:lnTo>
                  <a:lnTo>
                    <a:pt x="507" y="209"/>
                  </a:lnTo>
                  <a:lnTo>
                    <a:pt x="505" y="400"/>
                  </a:lnTo>
                  <a:lnTo>
                    <a:pt x="244" y="39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7932240" y="6168600"/>
              <a:ext cx="253800" cy="442800"/>
            </a:xfrm>
            <a:custGeom>
              <a:avLst/>
              <a:gdLst/>
              <a:ahLst/>
              <a:rect l="l" t="t" r="r" b="b"/>
              <a:pathLst>
                <a:path w="235" h="392">
                  <a:moveTo>
                    <a:pt x="225" y="392"/>
                  </a:moveTo>
                  <a:lnTo>
                    <a:pt x="8" y="390"/>
                  </a:lnTo>
                  <a:lnTo>
                    <a:pt x="5" y="282"/>
                  </a:lnTo>
                  <a:lnTo>
                    <a:pt x="0" y="173"/>
                  </a:lnTo>
                  <a:lnTo>
                    <a:pt x="42" y="135"/>
                  </a:lnTo>
                  <a:lnTo>
                    <a:pt x="98" y="89"/>
                  </a:lnTo>
                  <a:lnTo>
                    <a:pt x="167" y="41"/>
                  </a:lnTo>
                  <a:lnTo>
                    <a:pt x="235" y="0"/>
                  </a:lnTo>
                  <a:lnTo>
                    <a:pt x="233" y="47"/>
                  </a:lnTo>
                  <a:lnTo>
                    <a:pt x="230" y="219"/>
                  </a:lnTo>
                  <a:lnTo>
                    <a:pt x="230" y="306"/>
                  </a:lnTo>
                  <a:lnTo>
                    <a:pt x="229" y="392"/>
                  </a:lnTo>
                  <a:lnTo>
                    <a:pt x="225" y="392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H="1">
              <a:off x="8186040" y="6456600"/>
              <a:ext cx="371880" cy="152640"/>
            </a:xfrm>
            <a:custGeom>
              <a:avLst/>
              <a:gdLst/>
              <a:ahLst/>
              <a:rect l="l" t="t" r="r" b="b"/>
              <a:pathLst>
                <a:path w="344" h="135">
                  <a:moveTo>
                    <a:pt x="6" y="132"/>
                  </a:moveTo>
                  <a:lnTo>
                    <a:pt x="7" y="127"/>
                  </a:lnTo>
                  <a:lnTo>
                    <a:pt x="11" y="124"/>
                  </a:lnTo>
                  <a:lnTo>
                    <a:pt x="16" y="122"/>
                  </a:lnTo>
                  <a:lnTo>
                    <a:pt x="13" y="93"/>
                  </a:lnTo>
                  <a:lnTo>
                    <a:pt x="0" y="1"/>
                  </a:lnTo>
                  <a:lnTo>
                    <a:pt x="169" y="0"/>
                  </a:lnTo>
                  <a:lnTo>
                    <a:pt x="337" y="1"/>
                  </a:lnTo>
                  <a:lnTo>
                    <a:pt x="339" y="62"/>
                  </a:lnTo>
                  <a:lnTo>
                    <a:pt x="339" y="124"/>
                  </a:lnTo>
                  <a:lnTo>
                    <a:pt x="344" y="135"/>
                  </a:lnTo>
                  <a:lnTo>
                    <a:pt x="174" y="132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>
              <a:off x="6642720" y="5891400"/>
              <a:ext cx="2014920" cy="557280"/>
            </a:xfrm>
            <a:custGeom>
              <a:avLst/>
              <a:gdLst/>
              <a:ahLst/>
              <a:rect l="l" t="t" r="r" b="b"/>
              <a:pathLst>
                <a:path w="1864" h="493">
                  <a:moveTo>
                    <a:pt x="1837" y="5"/>
                  </a:moveTo>
                  <a:lnTo>
                    <a:pt x="1864" y="8"/>
                  </a:lnTo>
                  <a:lnTo>
                    <a:pt x="1862" y="12"/>
                  </a:lnTo>
                  <a:lnTo>
                    <a:pt x="1760" y="86"/>
                  </a:lnTo>
                  <a:lnTo>
                    <a:pt x="1659" y="164"/>
                  </a:lnTo>
                  <a:lnTo>
                    <a:pt x="1233" y="491"/>
                  </a:lnTo>
                  <a:lnTo>
                    <a:pt x="1192" y="493"/>
                  </a:lnTo>
                  <a:lnTo>
                    <a:pt x="1192" y="488"/>
                  </a:lnTo>
                  <a:lnTo>
                    <a:pt x="1195" y="370"/>
                  </a:lnTo>
                  <a:lnTo>
                    <a:pt x="1195" y="311"/>
                  </a:lnTo>
                  <a:lnTo>
                    <a:pt x="1193" y="281"/>
                  </a:lnTo>
                  <a:lnTo>
                    <a:pt x="1190" y="253"/>
                  </a:lnTo>
                  <a:lnTo>
                    <a:pt x="1125" y="245"/>
                  </a:lnTo>
                  <a:lnTo>
                    <a:pt x="1061" y="239"/>
                  </a:lnTo>
                  <a:lnTo>
                    <a:pt x="931" y="234"/>
                  </a:lnTo>
                  <a:lnTo>
                    <a:pt x="802" y="233"/>
                  </a:lnTo>
                  <a:lnTo>
                    <a:pt x="672" y="233"/>
                  </a:lnTo>
                  <a:lnTo>
                    <a:pt x="615" y="268"/>
                  </a:lnTo>
                  <a:lnTo>
                    <a:pt x="544" y="315"/>
                  </a:lnTo>
                  <a:lnTo>
                    <a:pt x="478" y="365"/>
                  </a:lnTo>
                  <a:lnTo>
                    <a:pt x="449" y="390"/>
                  </a:lnTo>
                  <a:lnTo>
                    <a:pt x="427" y="414"/>
                  </a:lnTo>
                  <a:lnTo>
                    <a:pt x="427" y="493"/>
                  </a:lnTo>
                  <a:lnTo>
                    <a:pt x="236" y="491"/>
                  </a:lnTo>
                  <a:lnTo>
                    <a:pt x="0" y="483"/>
                  </a:lnTo>
                  <a:lnTo>
                    <a:pt x="68" y="422"/>
                  </a:lnTo>
                  <a:lnTo>
                    <a:pt x="138" y="360"/>
                  </a:lnTo>
                  <a:lnTo>
                    <a:pt x="284" y="239"/>
                  </a:lnTo>
                  <a:lnTo>
                    <a:pt x="434" y="120"/>
                  </a:lnTo>
                  <a:lnTo>
                    <a:pt x="507" y="61"/>
                  </a:lnTo>
                  <a:lnTo>
                    <a:pt x="578" y="0"/>
                  </a:lnTo>
                  <a:lnTo>
                    <a:pt x="1837" y="8"/>
                  </a:lnTo>
                  <a:lnTo>
                    <a:pt x="1837" y="5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>
              <a:off x="6630480" y="5797440"/>
              <a:ext cx="1402200" cy="91800"/>
            </a:xfrm>
            <a:custGeom>
              <a:avLst/>
              <a:gdLst/>
              <a:ahLst/>
              <a:rect l="l" t="t" r="r" b="b"/>
              <a:pathLst>
                <a:path w="1297" h="81">
                  <a:moveTo>
                    <a:pt x="1292" y="81"/>
                  </a:moveTo>
                  <a:lnTo>
                    <a:pt x="1259" y="81"/>
                  </a:lnTo>
                  <a:lnTo>
                    <a:pt x="6" y="71"/>
                  </a:lnTo>
                  <a:lnTo>
                    <a:pt x="0" y="4"/>
                  </a:lnTo>
                  <a:lnTo>
                    <a:pt x="45" y="4"/>
                  </a:lnTo>
                  <a:lnTo>
                    <a:pt x="154" y="1"/>
                  </a:lnTo>
                  <a:lnTo>
                    <a:pt x="164" y="1"/>
                  </a:lnTo>
                  <a:lnTo>
                    <a:pt x="201" y="0"/>
                  </a:lnTo>
                  <a:lnTo>
                    <a:pt x="211" y="17"/>
                  </a:lnTo>
                  <a:lnTo>
                    <a:pt x="225" y="32"/>
                  </a:lnTo>
                  <a:lnTo>
                    <a:pt x="233" y="38"/>
                  </a:lnTo>
                  <a:lnTo>
                    <a:pt x="240" y="43"/>
                  </a:lnTo>
                  <a:lnTo>
                    <a:pt x="250" y="44"/>
                  </a:lnTo>
                  <a:lnTo>
                    <a:pt x="262" y="43"/>
                  </a:lnTo>
                  <a:lnTo>
                    <a:pt x="272" y="33"/>
                  </a:lnTo>
                  <a:lnTo>
                    <a:pt x="277" y="24"/>
                  </a:lnTo>
                  <a:lnTo>
                    <a:pt x="303" y="33"/>
                  </a:lnTo>
                  <a:lnTo>
                    <a:pt x="314" y="33"/>
                  </a:lnTo>
                  <a:lnTo>
                    <a:pt x="322" y="32"/>
                  </a:lnTo>
                  <a:lnTo>
                    <a:pt x="327" y="28"/>
                  </a:lnTo>
                  <a:lnTo>
                    <a:pt x="337" y="15"/>
                  </a:lnTo>
                  <a:lnTo>
                    <a:pt x="358" y="28"/>
                  </a:lnTo>
                  <a:lnTo>
                    <a:pt x="367" y="32"/>
                  </a:lnTo>
                  <a:lnTo>
                    <a:pt x="375" y="33"/>
                  </a:lnTo>
                  <a:lnTo>
                    <a:pt x="382" y="32"/>
                  </a:lnTo>
                  <a:lnTo>
                    <a:pt x="390" y="28"/>
                  </a:lnTo>
                  <a:lnTo>
                    <a:pt x="397" y="22"/>
                  </a:lnTo>
                  <a:lnTo>
                    <a:pt x="406" y="13"/>
                  </a:lnTo>
                  <a:lnTo>
                    <a:pt x="418" y="14"/>
                  </a:lnTo>
                  <a:lnTo>
                    <a:pt x="428" y="14"/>
                  </a:lnTo>
                  <a:lnTo>
                    <a:pt x="438" y="12"/>
                  </a:lnTo>
                  <a:lnTo>
                    <a:pt x="448" y="8"/>
                  </a:lnTo>
                  <a:lnTo>
                    <a:pt x="517" y="5"/>
                  </a:lnTo>
                  <a:lnTo>
                    <a:pt x="587" y="4"/>
                  </a:lnTo>
                  <a:lnTo>
                    <a:pt x="654" y="3"/>
                  </a:lnTo>
                  <a:lnTo>
                    <a:pt x="719" y="1"/>
                  </a:lnTo>
                  <a:lnTo>
                    <a:pt x="972" y="0"/>
                  </a:lnTo>
                  <a:lnTo>
                    <a:pt x="993" y="4"/>
                  </a:lnTo>
                  <a:lnTo>
                    <a:pt x="998" y="18"/>
                  </a:lnTo>
                  <a:lnTo>
                    <a:pt x="1007" y="29"/>
                  </a:lnTo>
                  <a:lnTo>
                    <a:pt x="1016" y="35"/>
                  </a:lnTo>
                  <a:lnTo>
                    <a:pt x="1026" y="40"/>
                  </a:lnTo>
                  <a:lnTo>
                    <a:pt x="1036" y="43"/>
                  </a:lnTo>
                  <a:lnTo>
                    <a:pt x="1046" y="43"/>
                  </a:lnTo>
                  <a:lnTo>
                    <a:pt x="1056" y="42"/>
                  </a:lnTo>
                  <a:lnTo>
                    <a:pt x="1065" y="39"/>
                  </a:lnTo>
                  <a:lnTo>
                    <a:pt x="1085" y="43"/>
                  </a:lnTo>
                  <a:lnTo>
                    <a:pt x="1103" y="47"/>
                  </a:lnTo>
                  <a:lnTo>
                    <a:pt x="1110" y="45"/>
                  </a:lnTo>
                  <a:lnTo>
                    <a:pt x="1119" y="43"/>
                  </a:lnTo>
                  <a:lnTo>
                    <a:pt x="1129" y="37"/>
                  </a:lnTo>
                  <a:lnTo>
                    <a:pt x="1138" y="27"/>
                  </a:lnTo>
                  <a:lnTo>
                    <a:pt x="1155" y="32"/>
                  </a:lnTo>
                  <a:lnTo>
                    <a:pt x="1167" y="35"/>
                  </a:lnTo>
                  <a:lnTo>
                    <a:pt x="1173" y="35"/>
                  </a:lnTo>
                  <a:lnTo>
                    <a:pt x="1179" y="33"/>
                  </a:lnTo>
                  <a:lnTo>
                    <a:pt x="1194" y="25"/>
                  </a:lnTo>
                  <a:lnTo>
                    <a:pt x="1207" y="33"/>
                  </a:lnTo>
                  <a:lnTo>
                    <a:pt x="1217" y="35"/>
                  </a:lnTo>
                  <a:lnTo>
                    <a:pt x="1236" y="28"/>
                  </a:lnTo>
                  <a:lnTo>
                    <a:pt x="1242" y="25"/>
                  </a:lnTo>
                  <a:lnTo>
                    <a:pt x="1247" y="20"/>
                  </a:lnTo>
                  <a:lnTo>
                    <a:pt x="1252" y="12"/>
                  </a:lnTo>
                  <a:lnTo>
                    <a:pt x="1297" y="9"/>
                  </a:lnTo>
                  <a:lnTo>
                    <a:pt x="1292" y="81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H="1">
              <a:off x="8039520" y="5807520"/>
              <a:ext cx="630000" cy="625320"/>
            </a:xfrm>
            <a:custGeom>
              <a:avLst/>
              <a:gdLst/>
              <a:ahLst/>
              <a:rect l="l" t="t" r="r" b="b"/>
              <a:pathLst>
                <a:path w="583" h="553">
                  <a:moveTo>
                    <a:pt x="0" y="489"/>
                  </a:moveTo>
                  <a:lnTo>
                    <a:pt x="11" y="473"/>
                  </a:lnTo>
                  <a:lnTo>
                    <a:pt x="84" y="408"/>
                  </a:lnTo>
                  <a:lnTo>
                    <a:pt x="157" y="345"/>
                  </a:lnTo>
                  <a:lnTo>
                    <a:pt x="304" y="226"/>
                  </a:lnTo>
                  <a:lnTo>
                    <a:pt x="445" y="112"/>
                  </a:lnTo>
                  <a:lnTo>
                    <a:pt x="514" y="57"/>
                  </a:lnTo>
                  <a:lnTo>
                    <a:pt x="578" y="0"/>
                  </a:lnTo>
                  <a:lnTo>
                    <a:pt x="583" y="26"/>
                  </a:lnTo>
                  <a:lnTo>
                    <a:pt x="583" y="52"/>
                  </a:lnTo>
                  <a:lnTo>
                    <a:pt x="583" y="59"/>
                  </a:lnTo>
                  <a:lnTo>
                    <a:pt x="514" y="118"/>
                  </a:lnTo>
                  <a:lnTo>
                    <a:pt x="441" y="179"/>
                  </a:lnTo>
                  <a:lnTo>
                    <a:pt x="290" y="299"/>
                  </a:lnTo>
                  <a:lnTo>
                    <a:pt x="213" y="362"/>
                  </a:lnTo>
                  <a:lnTo>
                    <a:pt x="140" y="425"/>
                  </a:lnTo>
                  <a:lnTo>
                    <a:pt x="67" y="489"/>
                  </a:lnTo>
                  <a:lnTo>
                    <a:pt x="0" y="553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8402760" y="6098040"/>
              <a:ext cx="237600" cy="216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0" y="191"/>
                  </a:moveTo>
                  <a:lnTo>
                    <a:pt x="1" y="109"/>
                  </a:lnTo>
                  <a:lnTo>
                    <a:pt x="1" y="27"/>
                  </a:lnTo>
                  <a:lnTo>
                    <a:pt x="57" y="22"/>
                  </a:lnTo>
                  <a:lnTo>
                    <a:pt x="111" y="18"/>
                  </a:lnTo>
                  <a:lnTo>
                    <a:pt x="167" y="10"/>
                  </a:lnTo>
                  <a:lnTo>
                    <a:pt x="220" y="0"/>
                  </a:lnTo>
                  <a:lnTo>
                    <a:pt x="108" y="91"/>
                  </a:lnTo>
                  <a:lnTo>
                    <a:pt x="53" y="14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H="1">
              <a:off x="8129160" y="4769640"/>
              <a:ext cx="778320" cy="1345680"/>
            </a:xfrm>
            <a:custGeom>
              <a:avLst/>
              <a:gdLst/>
              <a:ahLst/>
              <a:rect l="l" t="t" r="r" b="b"/>
              <a:pathLst>
                <a:path w="720" h="1190">
                  <a:moveTo>
                    <a:pt x="145" y="1154"/>
                  </a:moveTo>
                  <a:lnTo>
                    <a:pt x="124" y="1122"/>
                  </a:lnTo>
                  <a:lnTo>
                    <a:pt x="106" y="1089"/>
                  </a:lnTo>
                  <a:lnTo>
                    <a:pt x="89" y="1055"/>
                  </a:lnTo>
                  <a:lnTo>
                    <a:pt x="75" y="1020"/>
                  </a:lnTo>
                  <a:lnTo>
                    <a:pt x="61" y="985"/>
                  </a:lnTo>
                  <a:lnTo>
                    <a:pt x="51" y="947"/>
                  </a:lnTo>
                  <a:lnTo>
                    <a:pt x="41" y="910"/>
                  </a:lnTo>
                  <a:lnTo>
                    <a:pt x="32" y="871"/>
                  </a:lnTo>
                  <a:lnTo>
                    <a:pt x="26" y="850"/>
                  </a:lnTo>
                  <a:lnTo>
                    <a:pt x="22" y="829"/>
                  </a:lnTo>
                  <a:lnTo>
                    <a:pt x="15" y="786"/>
                  </a:lnTo>
                  <a:lnTo>
                    <a:pt x="7" y="729"/>
                  </a:lnTo>
                  <a:lnTo>
                    <a:pt x="3" y="673"/>
                  </a:lnTo>
                  <a:lnTo>
                    <a:pt x="2" y="616"/>
                  </a:lnTo>
                  <a:lnTo>
                    <a:pt x="0" y="560"/>
                  </a:lnTo>
                  <a:lnTo>
                    <a:pt x="6" y="461"/>
                  </a:lnTo>
                  <a:lnTo>
                    <a:pt x="10" y="414"/>
                  </a:lnTo>
                  <a:lnTo>
                    <a:pt x="15" y="367"/>
                  </a:lnTo>
                  <a:lnTo>
                    <a:pt x="22" y="318"/>
                  </a:lnTo>
                  <a:lnTo>
                    <a:pt x="31" y="270"/>
                  </a:lnTo>
                  <a:lnTo>
                    <a:pt x="45" y="221"/>
                  </a:lnTo>
                  <a:lnTo>
                    <a:pt x="61" y="173"/>
                  </a:lnTo>
                  <a:lnTo>
                    <a:pt x="74" y="158"/>
                  </a:lnTo>
                  <a:lnTo>
                    <a:pt x="84" y="150"/>
                  </a:lnTo>
                  <a:lnTo>
                    <a:pt x="91" y="150"/>
                  </a:lnTo>
                  <a:lnTo>
                    <a:pt x="96" y="150"/>
                  </a:lnTo>
                  <a:lnTo>
                    <a:pt x="106" y="153"/>
                  </a:lnTo>
                  <a:lnTo>
                    <a:pt x="111" y="152"/>
                  </a:lnTo>
                  <a:lnTo>
                    <a:pt x="113" y="141"/>
                  </a:lnTo>
                  <a:lnTo>
                    <a:pt x="103" y="137"/>
                  </a:lnTo>
                  <a:lnTo>
                    <a:pt x="127" y="123"/>
                  </a:lnTo>
                  <a:lnTo>
                    <a:pt x="153" y="111"/>
                  </a:lnTo>
                  <a:lnTo>
                    <a:pt x="218" y="82"/>
                  </a:lnTo>
                  <a:lnTo>
                    <a:pt x="294" y="46"/>
                  </a:lnTo>
                  <a:lnTo>
                    <a:pt x="334" y="25"/>
                  </a:lnTo>
                  <a:lnTo>
                    <a:pt x="374" y="0"/>
                  </a:lnTo>
                  <a:lnTo>
                    <a:pt x="355" y="64"/>
                  </a:lnTo>
                  <a:lnTo>
                    <a:pt x="339" y="138"/>
                  </a:lnTo>
                  <a:lnTo>
                    <a:pt x="324" y="209"/>
                  </a:lnTo>
                  <a:lnTo>
                    <a:pt x="315" y="258"/>
                  </a:lnTo>
                  <a:lnTo>
                    <a:pt x="333" y="265"/>
                  </a:lnTo>
                  <a:lnTo>
                    <a:pt x="350" y="269"/>
                  </a:lnTo>
                  <a:lnTo>
                    <a:pt x="365" y="270"/>
                  </a:lnTo>
                  <a:lnTo>
                    <a:pt x="379" y="275"/>
                  </a:lnTo>
                  <a:lnTo>
                    <a:pt x="359" y="289"/>
                  </a:lnTo>
                  <a:lnTo>
                    <a:pt x="329" y="308"/>
                  </a:lnTo>
                  <a:lnTo>
                    <a:pt x="303" y="326"/>
                  </a:lnTo>
                  <a:lnTo>
                    <a:pt x="292" y="333"/>
                  </a:lnTo>
                  <a:lnTo>
                    <a:pt x="286" y="339"/>
                  </a:lnTo>
                  <a:lnTo>
                    <a:pt x="323" y="425"/>
                  </a:lnTo>
                  <a:lnTo>
                    <a:pt x="370" y="521"/>
                  </a:lnTo>
                  <a:lnTo>
                    <a:pt x="419" y="616"/>
                  </a:lnTo>
                  <a:lnTo>
                    <a:pt x="468" y="707"/>
                  </a:lnTo>
                  <a:lnTo>
                    <a:pt x="470" y="716"/>
                  </a:lnTo>
                  <a:lnTo>
                    <a:pt x="477" y="729"/>
                  </a:lnTo>
                  <a:lnTo>
                    <a:pt x="482" y="737"/>
                  </a:lnTo>
                  <a:lnTo>
                    <a:pt x="521" y="820"/>
                  </a:lnTo>
                  <a:lnTo>
                    <a:pt x="543" y="878"/>
                  </a:lnTo>
                  <a:lnTo>
                    <a:pt x="553" y="879"/>
                  </a:lnTo>
                  <a:lnTo>
                    <a:pt x="546" y="854"/>
                  </a:lnTo>
                  <a:lnTo>
                    <a:pt x="472" y="695"/>
                  </a:lnTo>
                  <a:lnTo>
                    <a:pt x="468" y="687"/>
                  </a:lnTo>
                  <a:lnTo>
                    <a:pt x="424" y="601"/>
                  </a:lnTo>
                  <a:lnTo>
                    <a:pt x="377" y="512"/>
                  </a:lnTo>
                  <a:lnTo>
                    <a:pt x="333" y="422"/>
                  </a:lnTo>
                  <a:lnTo>
                    <a:pt x="313" y="381"/>
                  </a:lnTo>
                  <a:lnTo>
                    <a:pt x="295" y="339"/>
                  </a:lnTo>
                  <a:lnTo>
                    <a:pt x="353" y="304"/>
                  </a:lnTo>
                  <a:lnTo>
                    <a:pt x="403" y="269"/>
                  </a:lnTo>
                  <a:lnTo>
                    <a:pt x="451" y="226"/>
                  </a:lnTo>
                  <a:lnTo>
                    <a:pt x="472" y="201"/>
                  </a:lnTo>
                  <a:lnTo>
                    <a:pt x="495" y="172"/>
                  </a:lnTo>
                  <a:lnTo>
                    <a:pt x="504" y="192"/>
                  </a:lnTo>
                  <a:lnTo>
                    <a:pt x="511" y="217"/>
                  </a:lnTo>
                  <a:lnTo>
                    <a:pt x="524" y="278"/>
                  </a:lnTo>
                  <a:lnTo>
                    <a:pt x="539" y="381"/>
                  </a:lnTo>
                  <a:lnTo>
                    <a:pt x="544" y="402"/>
                  </a:lnTo>
                  <a:lnTo>
                    <a:pt x="587" y="656"/>
                  </a:lnTo>
                  <a:lnTo>
                    <a:pt x="628" y="865"/>
                  </a:lnTo>
                  <a:lnTo>
                    <a:pt x="634" y="879"/>
                  </a:lnTo>
                  <a:lnTo>
                    <a:pt x="600" y="884"/>
                  </a:lnTo>
                  <a:lnTo>
                    <a:pt x="568" y="887"/>
                  </a:lnTo>
                  <a:lnTo>
                    <a:pt x="534" y="887"/>
                  </a:lnTo>
                  <a:lnTo>
                    <a:pt x="500" y="885"/>
                  </a:lnTo>
                  <a:lnTo>
                    <a:pt x="467" y="882"/>
                  </a:lnTo>
                  <a:lnTo>
                    <a:pt x="435" y="877"/>
                  </a:lnTo>
                  <a:lnTo>
                    <a:pt x="404" y="871"/>
                  </a:lnTo>
                  <a:lnTo>
                    <a:pt x="374" y="866"/>
                  </a:lnTo>
                  <a:lnTo>
                    <a:pt x="374" y="858"/>
                  </a:lnTo>
                  <a:lnTo>
                    <a:pt x="370" y="846"/>
                  </a:lnTo>
                  <a:lnTo>
                    <a:pt x="365" y="835"/>
                  </a:lnTo>
                  <a:lnTo>
                    <a:pt x="360" y="825"/>
                  </a:lnTo>
                  <a:lnTo>
                    <a:pt x="352" y="815"/>
                  </a:lnTo>
                  <a:lnTo>
                    <a:pt x="333" y="801"/>
                  </a:lnTo>
                  <a:lnTo>
                    <a:pt x="320" y="796"/>
                  </a:lnTo>
                  <a:lnTo>
                    <a:pt x="308" y="794"/>
                  </a:lnTo>
                  <a:lnTo>
                    <a:pt x="279" y="722"/>
                  </a:lnTo>
                  <a:lnTo>
                    <a:pt x="250" y="646"/>
                  </a:lnTo>
                  <a:lnTo>
                    <a:pt x="223" y="573"/>
                  </a:lnTo>
                  <a:lnTo>
                    <a:pt x="201" y="507"/>
                  </a:lnTo>
                  <a:lnTo>
                    <a:pt x="215" y="482"/>
                  </a:lnTo>
                  <a:lnTo>
                    <a:pt x="225" y="460"/>
                  </a:lnTo>
                  <a:lnTo>
                    <a:pt x="233" y="438"/>
                  </a:lnTo>
                  <a:lnTo>
                    <a:pt x="236" y="415"/>
                  </a:lnTo>
                  <a:lnTo>
                    <a:pt x="236" y="381"/>
                  </a:lnTo>
                  <a:lnTo>
                    <a:pt x="230" y="372"/>
                  </a:lnTo>
                  <a:lnTo>
                    <a:pt x="227" y="411"/>
                  </a:lnTo>
                  <a:lnTo>
                    <a:pt x="223" y="431"/>
                  </a:lnTo>
                  <a:lnTo>
                    <a:pt x="217" y="450"/>
                  </a:lnTo>
                  <a:lnTo>
                    <a:pt x="201" y="487"/>
                  </a:lnTo>
                  <a:lnTo>
                    <a:pt x="189" y="454"/>
                  </a:lnTo>
                  <a:lnTo>
                    <a:pt x="181" y="419"/>
                  </a:lnTo>
                  <a:lnTo>
                    <a:pt x="166" y="348"/>
                  </a:lnTo>
                  <a:lnTo>
                    <a:pt x="144" y="206"/>
                  </a:lnTo>
                  <a:lnTo>
                    <a:pt x="142" y="205"/>
                  </a:lnTo>
                  <a:lnTo>
                    <a:pt x="132" y="191"/>
                  </a:lnTo>
                  <a:lnTo>
                    <a:pt x="130" y="192"/>
                  </a:lnTo>
                  <a:lnTo>
                    <a:pt x="134" y="217"/>
                  </a:lnTo>
                  <a:lnTo>
                    <a:pt x="166" y="409"/>
                  </a:lnTo>
                  <a:lnTo>
                    <a:pt x="173" y="441"/>
                  </a:lnTo>
                  <a:lnTo>
                    <a:pt x="178" y="461"/>
                  </a:lnTo>
                  <a:lnTo>
                    <a:pt x="183" y="484"/>
                  </a:lnTo>
                  <a:lnTo>
                    <a:pt x="199" y="533"/>
                  </a:lnTo>
                  <a:lnTo>
                    <a:pt x="228" y="614"/>
                  </a:lnTo>
                  <a:lnTo>
                    <a:pt x="262" y="705"/>
                  </a:lnTo>
                  <a:lnTo>
                    <a:pt x="294" y="794"/>
                  </a:lnTo>
                  <a:lnTo>
                    <a:pt x="267" y="792"/>
                  </a:lnTo>
                  <a:lnTo>
                    <a:pt x="243" y="791"/>
                  </a:lnTo>
                  <a:lnTo>
                    <a:pt x="218" y="783"/>
                  </a:lnTo>
                  <a:lnTo>
                    <a:pt x="206" y="780"/>
                  </a:lnTo>
                  <a:lnTo>
                    <a:pt x="194" y="773"/>
                  </a:lnTo>
                  <a:lnTo>
                    <a:pt x="184" y="777"/>
                  </a:lnTo>
                  <a:lnTo>
                    <a:pt x="186" y="780"/>
                  </a:lnTo>
                  <a:lnTo>
                    <a:pt x="201" y="786"/>
                  </a:lnTo>
                  <a:lnTo>
                    <a:pt x="216" y="794"/>
                  </a:lnTo>
                  <a:lnTo>
                    <a:pt x="233" y="796"/>
                  </a:lnTo>
                  <a:lnTo>
                    <a:pt x="247" y="799"/>
                  </a:lnTo>
                  <a:lnTo>
                    <a:pt x="308" y="804"/>
                  </a:lnTo>
                  <a:lnTo>
                    <a:pt x="330" y="815"/>
                  </a:lnTo>
                  <a:lnTo>
                    <a:pt x="344" y="825"/>
                  </a:lnTo>
                  <a:lnTo>
                    <a:pt x="353" y="839"/>
                  </a:lnTo>
                  <a:lnTo>
                    <a:pt x="362" y="860"/>
                  </a:lnTo>
                  <a:lnTo>
                    <a:pt x="362" y="863"/>
                  </a:lnTo>
                  <a:lnTo>
                    <a:pt x="364" y="866"/>
                  </a:lnTo>
                  <a:lnTo>
                    <a:pt x="372" y="875"/>
                  </a:lnTo>
                  <a:lnTo>
                    <a:pt x="407" y="885"/>
                  </a:lnTo>
                  <a:lnTo>
                    <a:pt x="443" y="890"/>
                  </a:lnTo>
                  <a:lnTo>
                    <a:pt x="485" y="894"/>
                  </a:lnTo>
                  <a:lnTo>
                    <a:pt x="543" y="897"/>
                  </a:lnTo>
                  <a:lnTo>
                    <a:pt x="624" y="890"/>
                  </a:lnTo>
                  <a:lnTo>
                    <a:pt x="598" y="933"/>
                  </a:lnTo>
                  <a:lnTo>
                    <a:pt x="587" y="953"/>
                  </a:lnTo>
                  <a:lnTo>
                    <a:pt x="578" y="975"/>
                  </a:lnTo>
                  <a:lnTo>
                    <a:pt x="570" y="997"/>
                  </a:lnTo>
                  <a:lnTo>
                    <a:pt x="568" y="1020"/>
                  </a:lnTo>
                  <a:lnTo>
                    <a:pt x="568" y="1045"/>
                  </a:lnTo>
                  <a:lnTo>
                    <a:pt x="573" y="1073"/>
                  </a:lnTo>
                  <a:lnTo>
                    <a:pt x="578" y="1076"/>
                  </a:lnTo>
                  <a:lnTo>
                    <a:pt x="579" y="1076"/>
                  </a:lnTo>
                  <a:lnTo>
                    <a:pt x="585" y="1064"/>
                  </a:lnTo>
                  <a:lnTo>
                    <a:pt x="579" y="1044"/>
                  </a:lnTo>
                  <a:lnTo>
                    <a:pt x="579" y="1022"/>
                  </a:lnTo>
                  <a:lnTo>
                    <a:pt x="583" y="1001"/>
                  </a:lnTo>
                  <a:lnTo>
                    <a:pt x="588" y="978"/>
                  </a:lnTo>
                  <a:lnTo>
                    <a:pt x="597" y="958"/>
                  </a:lnTo>
                  <a:lnTo>
                    <a:pt x="609" y="937"/>
                  </a:lnTo>
                  <a:lnTo>
                    <a:pt x="623" y="919"/>
                  </a:lnTo>
                  <a:lnTo>
                    <a:pt x="637" y="902"/>
                  </a:lnTo>
                  <a:lnTo>
                    <a:pt x="638" y="898"/>
                  </a:lnTo>
                  <a:lnTo>
                    <a:pt x="646" y="894"/>
                  </a:lnTo>
                  <a:lnTo>
                    <a:pt x="668" y="889"/>
                  </a:lnTo>
                  <a:lnTo>
                    <a:pt x="720" y="885"/>
                  </a:lnTo>
                  <a:lnTo>
                    <a:pt x="711" y="903"/>
                  </a:lnTo>
                  <a:lnTo>
                    <a:pt x="709" y="922"/>
                  </a:lnTo>
                  <a:lnTo>
                    <a:pt x="709" y="939"/>
                  </a:lnTo>
                  <a:lnTo>
                    <a:pt x="710" y="957"/>
                  </a:lnTo>
                  <a:lnTo>
                    <a:pt x="717" y="971"/>
                  </a:lnTo>
                  <a:lnTo>
                    <a:pt x="642" y="1036"/>
                  </a:lnTo>
                  <a:lnTo>
                    <a:pt x="606" y="1069"/>
                  </a:lnTo>
                  <a:lnTo>
                    <a:pt x="568" y="1099"/>
                  </a:lnTo>
                  <a:lnTo>
                    <a:pt x="485" y="1165"/>
                  </a:lnTo>
                  <a:lnTo>
                    <a:pt x="403" y="1178"/>
                  </a:lnTo>
                  <a:lnTo>
                    <a:pt x="358" y="1185"/>
                  </a:lnTo>
                  <a:lnTo>
                    <a:pt x="311" y="1188"/>
                  </a:lnTo>
                  <a:lnTo>
                    <a:pt x="266" y="1190"/>
                  </a:lnTo>
                  <a:lnTo>
                    <a:pt x="243" y="1187"/>
                  </a:lnTo>
                  <a:lnTo>
                    <a:pt x="222" y="1185"/>
                  </a:lnTo>
                  <a:lnTo>
                    <a:pt x="201" y="1180"/>
                  </a:lnTo>
                  <a:lnTo>
                    <a:pt x="181" y="1173"/>
                  </a:lnTo>
                  <a:lnTo>
                    <a:pt x="163" y="1165"/>
                  </a:lnTo>
                  <a:lnTo>
                    <a:pt x="145" y="1154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H="1">
              <a:off x="8527320" y="5740920"/>
              <a:ext cx="168480" cy="13320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3" y="117"/>
                  </a:moveTo>
                  <a:lnTo>
                    <a:pt x="0" y="112"/>
                  </a:lnTo>
                  <a:lnTo>
                    <a:pt x="16" y="95"/>
                  </a:lnTo>
                  <a:lnTo>
                    <a:pt x="31" y="79"/>
                  </a:lnTo>
                  <a:lnTo>
                    <a:pt x="56" y="49"/>
                  </a:lnTo>
                  <a:lnTo>
                    <a:pt x="70" y="35"/>
                  </a:lnTo>
                  <a:lnTo>
                    <a:pt x="88" y="24"/>
                  </a:lnTo>
                  <a:lnTo>
                    <a:pt x="108" y="12"/>
                  </a:lnTo>
                  <a:lnTo>
                    <a:pt x="133" y="5"/>
                  </a:lnTo>
                  <a:lnTo>
                    <a:pt x="144" y="0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27" y="18"/>
                  </a:lnTo>
                  <a:lnTo>
                    <a:pt x="110" y="24"/>
                  </a:lnTo>
                  <a:lnTo>
                    <a:pt x="96" y="30"/>
                  </a:lnTo>
                  <a:lnTo>
                    <a:pt x="83" y="40"/>
                  </a:lnTo>
                  <a:lnTo>
                    <a:pt x="58" y="65"/>
                  </a:lnTo>
                  <a:lnTo>
                    <a:pt x="24" y="103"/>
                  </a:lnTo>
                  <a:lnTo>
                    <a:pt x="7" y="118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H="1">
              <a:off x="7742160" y="5690160"/>
              <a:ext cx="390240" cy="170280"/>
            </a:xfrm>
            <a:custGeom>
              <a:avLst/>
              <a:gdLst/>
              <a:ahLst/>
              <a:rect l="l" t="t" r="r" b="b"/>
              <a:pathLst>
                <a:path w="361" h="151">
                  <a:moveTo>
                    <a:pt x="9" y="79"/>
                  </a:moveTo>
                  <a:lnTo>
                    <a:pt x="93" y="57"/>
                  </a:lnTo>
                  <a:lnTo>
                    <a:pt x="139" y="44"/>
                  </a:lnTo>
                  <a:lnTo>
                    <a:pt x="163" y="35"/>
                  </a:lnTo>
                  <a:lnTo>
                    <a:pt x="185" y="25"/>
                  </a:lnTo>
                  <a:lnTo>
                    <a:pt x="212" y="16"/>
                  </a:lnTo>
                  <a:lnTo>
                    <a:pt x="249" y="5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302" y="0"/>
                  </a:lnTo>
                  <a:lnTo>
                    <a:pt x="311" y="1"/>
                  </a:lnTo>
                  <a:lnTo>
                    <a:pt x="317" y="5"/>
                  </a:lnTo>
                  <a:lnTo>
                    <a:pt x="325" y="10"/>
                  </a:lnTo>
                  <a:lnTo>
                    <a:pt x="330" y="16"/>
                  </a:lnTo>
                  <a:lnTo>
                    <a:pt x="335" y="24"/>
                  </a:lnTo>
                  <a:lnTo>
                    <a:pt x="339" y="35"/>
                  </a:lnTo>
                  <a:lnTo>
                    <a:pt x="350" y="56"/>
                  </a:lnTo>
                  <a:lnTo>
                    <a:pt x="359" y="79"/>
                  </a:lnTo>
                  <a:lnTo>
                    <a:pt x="361" y="100"/>
                  </a:lnTo>
                  <a:lnTo>
                    <a:pt x="359" y="112"/>
                  </a:lnTo>
                  <a:lnTo>
                    <a:pt x="356" y="123"/>
                  </a:lnTo>
                  <a:lnTo>
                    <a:pt x="349" y="127"/>
                  </a:lnTo>
                  <a:lnTo>
                    <a:pt x="341" y="128"/>
                  </a:lnTo>
                  <a:lnTo>
                    <a:pt x="335" y="125"/>
                  </a:lnTo>
                  <a:lnTo>
                    <a:pt x="329" y="120"/>
                  </a:lnTo>
                  <a:lnTo>
                    <a:pt x="315" y="107"/>
                  </a:lnTo>
                  <a:lnTo>
                    <a:pt x="306" y="93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88" y="78"/>
                  </a:lnTo>
                  <a:lnTo>
                    <a:pt x="291" y="86"/>
                  </a:lnTo>
                  <a:lnTo>
                    <a:pt x="243" y="89"/>
                  </a:lnTo>
                  <a:lnTo>
                    <a:pt x="186" y="89"/>
                  </a:lnTo>
                  <a:lnTo>
                    <a:pt x="132" y="89"/>
                  </a:lnTo>
                  <a:lnTo>
                    <a:pt x="106" y="90"/>
                  </a:lnTo>
                  <a:lnTo>
                    <a:pt x="83" y="91"/>
                  </a:lnTo>
                  <a:lnTo>
                    <a:pt x="66" y="104"/>
                  </a:lnTo>
                  <a:lnTo>
                    <a:pt x="48" y="120"/>
                  </a:lnTo>
                  <a:lnTo>
                    <a:pt x="28" y="137"/>
                  </a:lnTo>
                  <a:lnTo>
                    <a:pt x="9" y="151"/>
                  </a:lnTo>
                  <a:lnTo>
                    <a:pt x="5" y="144"/>
                  </a:lnTo>
                  <a:lnTo>
                    <a:pt x="3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H="1">
              <a:off x="6809040" y="5668560"/>
              <a:ext cx="98280" cy="16848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34" y="143"/>
                  </a:moveTo>
                  <a:lnTo>
                    <a:pt x="35" y="79"/>
                  </a:lnTo>
                  <a:lnTo>
                    <a:pt x="30" y="66"/>
                  </a:lnTo>
                  <a:lnTo>
                    <a:pt x="24" y="54"/>
                  </a:lnTo>
                  <a:lnTo>
                    <a:pt x="13" y="40"/>
                  </a:lnTo>
                  <a:lnTo>
                    <a:pt x="0" y="29"/>
                  </a:lnTo>
                  <a:lnTo>
                    <a:pt x="9" y="16"/>
                  </a:lnTo>
                  <a:lnTo>
                    <a:pt x="18" y="6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5"/>
                  </a:lnTo>
                  <a:lnTo>
                    <a:pt x="65" y="12"/>
                  </a:lnTo>
                  <a:lnTo>
                    <a:pt x="74" y="22"/>
                  </a:lnTo>
                  <a:lnTo>
                    <a:pt x="80" y="36"/>
                  </a:lnTo>
                  <a:lnTo>
                    <a:pt x="86" y="50"/>
                  </a:lnTo>
                  <a:lnTo>
                    <a:pt x="91" y="76"/>
                  </a:lnTo>
                  <a:lnTo>
                    <a:pt x="91" y="103"/>
                  </a:lnTo>
                  <a:lnTo>
                    <a:pt x="89" y="117"/>
                  </a:lnTo>
                  <a:lnTo>
                    <a:pt x="87" y="129"/>
                  </a:lnTo>
                  <a:lnTo>
                    <a:pt x="83" y="139"/>
                  </a:lnTo>
                  <a:lnTo>
                    <a:pt x="78" y="146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53" y="147"/>
                  </a:lnTo>
                  <a:lnTo>
                    <a:pt x="34" y="14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H="1">
              <a:off x="6881760" y="5697000"/>
              <a:ext cx="149040" cy="1378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85" y="109"/>
                  </a:moveTo>
                  <a:lnTo>
                    <a:pt x="80" y="96"/>
                  </a:lnTo>
                  <a:lnTo>
                    <a:pt x="74" y="82"/>
                  </a:lnTo>
                  <a:lnTo>
                    <a:pt x="56" y="39"/>
                  </a:lnTo>
                  <a:lnTo>
                    <a:pt x="46" y="38"/>
                  </a:lnTo>
                  <a:lnTo>
                    <a:pt x="56" y="79"/>
                  </a:lnTo>
                  <a:lnTo>
                    <a:pt x="0" y="80"/>
                  </a:lnTo>
                  <a:lnTo>
                    <a:pt x="11" y="50"/>
                  </a:lnTo>
                  <a:lnTo>
                    <a:pt x="32" y="26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4"/>
                  </a:lnTo>
                  <a:lnTo>
                    <a:pt x="114" y="16"/>
                  </a:lnTo>
                  <a:lnTo>
                    <a:pt x="129" y="33"/>
                  </a:lnTo>
                  <a:lnTo>
                    <a:pt x="135" y="51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35" y="109"/>
                  </a:lnTo>
                  <a:lnTo>
                    <a:pt x="134" y="116"/>
                  </a:lnTo>
                  <a:lnTo>
                    <a:pt x="129" y="118"/>
                  </a:lnTo>
                  <a:lnTo>
                    <a:pt x="123" y="121"/>
                  </a:lnTo>
                  <a:lnTo>
                    <a:pt x="114" y="122"/>
                  </a:lnTo>
                  <a:lnTo>
                    <a:pt x="100" y="118"/>
                  </a:lnTo>
                  <a:lnTo>
                    <a:pt x="93" y="114"/>
                  </a:lnTo>
                  <a:lnTo>
                    <a:pt x="85" y="10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H="1">
              <a:off x="6738120" y="5678640"/>
              <a:ext cx="71280" cy="14940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11" y="120"/>
                  </a:moveTo>
                  <a:lnTo>
                    <a:pt x="12" y="81"/>
                  </a:lnTo>
                  <a:lnTo>
                    <a:pt x="11" y="61"/>
                  </a:lnTo>
                  <a:lnTo>
                    <a:pt x="6" y="42"/>
                  </a:lnTo>
                  <a:lnTo>
                    <a:pt x="0" y="17"/>
                  </a:lnTo>
                  <a:lnTo>
                    <a:pt x="11" y="7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2" y="5"/>
                  </a:lnTo>
                  <a:lnTo>
                    <a:pt x="49" y="13"/>
                  </a:lnTo>
                  <a:lnTo>
                    <a:pt x="55" y="22"/>
                  </a:lnTo>
                  <a:lnTo>
                    <a:pt x="61" y="35"/>
                  </a:lnTo>
                  <a:lnTo>
                    <a:pt x="65" y="50"/>
                  </a:lnTo>
                  <a:lnTo>
                    <a:pt x="66" y="67"/>
                  </a:lnTo>
                  <a:lnTo>
                    <a:pt x="66" y="84"/>
                  </a:lnTo>
                  <a:lnTo>
                    <a:pt x="65" y="101"/>
                  </a:lnTo>
                  <a:lnTo>
                    <a:pt x="61" y="112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H="1">
              <a:off x="6684840" y="5729760"/>
              <a:ext cx="47520" cy="9360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75"/>
                  </a:moveTo>
                  <a:lnTo>
                    <a:pt x="5" y="56"/>
                  </a:lnTo>
                  <a:lnTo>
                    <a:pt x="8" y="39"/>
                  </a:lnTo>
                  <a:lnTo>
                    <a:pt x="8" y="22"/>
                  </a:lnTo>
                  <a:lnTo>
                    <a:pt x="6" y="5"/>
                  </a:lnTo>
                  <a:lnTo>
                    <a:pt x="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4" y="40"/>
                  </a:lnTo>
                  <a:lnTo>
                    <a:pt x="43" y="50"/>
                  </a:lnTo>
                  <a:lnTo>
                    <a:pt x="40" y="58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19" y="82"/>
                  </a:lnTo>
                  <a:lnTo>
                    <a:pt x="13" y="83"/>
                  </a:lnTo>
                  <a:lnTo>
                    <a:pt x="8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H="1">
              <a:off x="7679520" y="5658480"/>
              <a:ext cx="97200" cy="16020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49" y="128"/>
                  </a:moveTo>
                  <a:lnTo>
                    <a:pt x="40" y="102"/>
                  </a:lnTo>
                  <a:lnTo>
                    <a:pt x="28" y="75"/>
                  </a:lnTo>
                  <a:lnTo>
                    <a:pt x="16" y="48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70" y="35"/>
                  </a:lnTo>
                  <a:lnTo>
                    <a:pt x="77" y="54"/>
                  </a:lnTo>
                  <a:lnTo>
                    <a:pt x="86" y="80"/>
                  </a:lnTo>
                  <a:lnTo>
                    <a:pt x="90" y="106"/>
                  </a:lnTo>
                  <a:lnTo>
                    <a:pt x="90" y="133"/>
                  </a:lnTo>
                  <a:lnTo>
                    <a:pt x="86" y="137"/>
                  </a:lnTo>
                  <a:lnTo>
                    <a:pt x="80" y="140"/>
                  </a:lnTo>
                  <a:lnTo>
                    <a:pt x="75" y="141"/>
                  </a:lnTo>
                  <a:lnTo>
                    <a:pt x="70" y="142"/>
                  </a:lnTo>
                  <a:lnTo>
                    <a:pt x="59" y="138"/>
                  </a:lnTo>
                  <a:lnTo>
                    <a:pt x="49" y="12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7605000" y="5652720"/>
              <a:ext cx="110160" cy="16740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46" y="129"/>
                  </a:moveTo>
                  <a:lnTo>
                    <a:pt x="44" y="111"/>
                  </a:lnTo>
                  <a:lnTo>
                    <a:pt x="42" y="93"/>
                  </a:lnTo>
                  <a:lnTo>
                    <a:pt x="38" y="78"/>
                  </a:lnTo>
                  <a:lnTo>
                    <a:pt x="33" y="63"/>
                  </a:lnTo>
                  <a:lnTo>
                    <a:pt x="27" y="49"/>
                  </a:lnTo>
                  <a:lnTo>
                    <a:pt x="19" y="36"/>
                  </a:lnTo>
                  <a:lnTo>
                    <a:pt x="0" y="7"/>
                  </a:lnTo>
                  <a:lnTo>
                    <a:pt x="8" y="2"/>
                  </a:lnTo>
                  <a:lnTo>
                    <a:pt x="23" y="0"/>
                  </a:lnTo>
                  <a:lnTo>
                    <a:pt x="37" y="2"/>
                  </a:lnTo>
                  <a:lnTo>
                    <a:pt x="51" y="10"/>
                  </a:lnTo>
                  <a:lnTo>
                    <a:pt x="66" y="23"/>
                  </a:lnTo>
                  <a:lnTo>
                    <a:pt x="78" y="36"/>
                  </a:lnTo>
                  <a:lnTo>
                    <a:pt x="90" y="60"/>
                  </a:lnTo>
                  <a:lnTo>
                    <a:pt x="97" y="85"/>
                  </a:lnTo>
                  <a:lnTo>
                    <a:pt x="102" y="108"/>
                  </a:lnTo>
                  <a:lnTo>
                    <a:pt x="102" y="132"/>
                  </a:lnTo>
                  <a:lnTo>
                    <a:pt x="96" y="142"/>
                  </a:lnTo>
                  <a:lnTo>
                    <a:pt x="88" y="146"/>
                  </a:lnTo>
                  <a:lnTo>
                    <a:pt x="83" y="148"/>
                  </a:lnTo>
                  <a:lnTo>
                    <a:pt x="74" y="147"/>
                  </a:lnTo>
                  <a:lnTo>
                    <a:pt x="61" y="140"/>
                  </a:lnTo>
                  <a:lnTo>
                    <a:pt x="46" y="12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7539840" y="5658480"/>
              <a:ext cx="88200" cy="14004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35" y="123"/>
                  </a:moveTo>
                  <a:lnTo>
                    <a:pt x="32" y="98"/>
                  </a:lnTo>
                  <a:lnTo>
                    <a:pt x="27" y="74"/>
                  </a:lnTo>
                  <a:lnTo>
                    <a:pt x="18" y="50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57" y="14"/>
                  </a:lnTo>
                  <a:lnTo>
                    <a:pt x="65" y="20"/>
                  </a:lnTo>
                  <a:lnTo>
                    <a:pt x="71" y="29"/>
                  </a:lnTo>
                  <a:lnTo>
                    <a:pt x="75" y="36"/>
                  </a:lnTo>
                  <a:lnTo>
                    <a:pt x="77" y="45"/>
                  </a:lnTo>
                  <a:lnTo>
                    <a:pt x="82" y="80"/>
                  </a:lnTo>
                  <a:lnTo>
                    <a:pt x="82" y="88"/>
                  </a:lnTo>
                  <a:lnTo>
                    <a:pt x="81" y="98"/>
                  </a:lnTo>
                  <a:lnTo>
                    <a:pt x="77" y="106"/>
                  </a:lnTo>
                  <a:lnTo>
                    <a:pt x="74" y="114"/>
                  </a:lnTo>
                  <a:lnTo>
                    <a:pt x="65" y="121"/>
                  </a:lnTo>
                  <a:lnTo>
                    <a:pt x="55" y="123"/>
                  </a:lnTo>
                  <a:lnTo>
                    <a:pt x="44" y="124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H="1">
              <a:off x="7268760" y="4786560"/>
              <a:ext cx="724320" cy="1005120"/>
            </a:xfrm>
            <a:custGeom>
              <a:avLst/>
              <a:gdLst/>
              <a:ahLst/>
              <a:rect l="l" t="t" r="r" b="b"/>
              <a:pathLst>
                <a:path w="670" h="889">
                  <a:moveTo>
                    <a:pt x="182" y="782"/>
                  </a:moveTo>
                  <a:lnTo>
                    <a:pt x="181" y="791"/>
                  </a:lnTo>
                  <a:lnTo>
                    <a:pt x="188" y="792"/>
                  </a:lnTo>
                  <a:lnTo>
                    <a:pt x="193" y="781"/>
                  </a:lnTo>
                  <a:lnTo>
                    <a:pt x="200" y="773"/>
                  </a:lnTo>
                  <a:lnTo>
                    <a:pt x="207" y="767"/>
                  </a:lnTo>
                  <a:lnTo>
                    <a:pt x="215" y="765"/>
                  </a:lnTo>
                  <a:lnTo>
                    <a:pt x="223" y="763"/>
                  </a:lnTo>
                  <a:lnTo>
                    <a:pt x="232" y="763"/>
                  </a:lnTo>
                  <a:lnTo>
                    <a:pt x="250" y="768"/>
                  </a:lnTo>
                  <a:lnTo>
                    <a:pt x="261" y="761"/>
                  </a:lnTo>
                  <a:lnTo>
                    <a:pt x="272" y="756"/>
                  </a:lnTo>
                  <a:lnTo>
                    <a:pt x="282" y="755"/>
                  </a:lnTo>
                  <a:lnTo>
                    <a:pt x="291" y="756"/>
                  </a:lnTo>
                  <a:lnTo>
                    <a:pt x="301" y="760"/>
                  </a:lnTo>
                  <a:lnTo>
                    <a:pt x="311" y="765"/>
                  </a:lnTo>
                  <a:lnTo>
                    <a:pt x="331" y="779"/>
                  </a:lnTo>
                  <a:lnTo>
                    <a:pt x="350" y="762"/>
                  </a:lnTo>
                  <a:lnTo>
                    <a:pt x="368" y="761"/>
                  </a:lnTo>
                  <a:lnTo>
                    <a:pt x="386" y="765"/>
                  </a:lnTo>
                  <a:lnTo>
                    <a:pt x="402" y="773"/>
                  </a:lnTo>
                  <a:lnTo>
                    <a:pt x="411" y="781"/>
                  </a:lnTo>
                  <a:lnTo>
                    <a:pt x="418" y="790"/>
                  </a:lnTo>
                  <a:lnTo>
                    <a:pt x="427" y="809"/>
                  </a:lnTo>
                  <a:lnTo>
                    <a:pt x="430" y="848"/>
                  </a:lnTo>
                  <a:lnTo>
                    <a:pt x="430" y="867"/>
                  </a:lnTo>
                  <a:lnTo>
                    <a:pt x="427" y="889"/>
                  </a:lnTo>
                  <a:lnTo>
                    <a:pt x="541" y="889"/>
                  </a:lnTo>
                  <a:lnTo>
                    <a:pt x="601" y="888"/>
                  </a:lnTo>
                  <a:lnTo>
                    <a:pt x="656" y="885"/>
                  </a:lnTo>
                  <a:lnTo>
                    <a:pt x="670" y="848"/>
                  </a:lnTo>
                  <a:lnTo>
                    <a:pt x="621" y="826"/>
                  </a:lnTo>
                  <a:lnTo>
                    <a:pt x="597" y="819"/>
                  </a:lnTo>
                  <a:lnTo>
                    <a:pt x="573" y="815"/>
                  </a:lnTo>
                  <a:lnTo>
                    <a:pt x="549" y="814"/>
                  </a:lnTo>
                  <a:lnTo>
                    <a:pt x="525" y="815"/>
                  </a:lnTo>
                  <a:lnTo>
                    <a:pt x="501" y="821"/>
                  </a:lnTo>
                  <a:lnTo>
                    <a:pt x="476" y="834"/>
                  </a:lnTo>
                  <a:lnTo>
                    <a:pt x="475" y="825"/>
                  </a:lnTo>
                  <a:lnTo>
                    <a:pt x="484" y="817"/>
                  </a:lnTo>
                  <a:lnTo>
                    <a:pt x="485" y="816"/>
                  </a:lnTo>
                  <a:lnTo>
                    <a:pt x="509" y="805"/>
                  </a:lnTo>
                  <a:lnTo>
                    <a:pt x="570" y="799"/>
                  </a:lnTo>
                  <a:lnTo>
                    <a:pt x="559" y="781"/>
                  </a:lnTo>
                  <a:lnTo>
                    <a:pt x="553" y="771"/>
                  </a:lnTo>
                  <a:lnTo>
                    <a:pt x="543" y="762"/>
                  </a:lnTo>
                  <a:lnTo>
                    <a:pt x="521" y="746"/>
                  </a:lnTo>
                  <a:lnTo>
                    <a:pt x="500" y="734"/>
                  </a:lnTo>
                  <a:lnTo>
                    <a:pt x="479" y="726"/>
                  </a:lnTo>
                  <a:lnTo>
                    <a:pt x="456" y="719"/>
                  </a:lnTo>
                  <a:lnTo>
                    <a:pt x="412" y="706"/>
                  </a:lnTo>
                  <a:lnTo>
                    <a:pt x="391" y="697"/>
                  </a:lnTo>
                  <a:lnTo>
                    <a:pt x="369" y="684"/>
                  </a:lnTo>
                  <a:lnTo>
                    <a:pt x="372" y="679"/>
                  </a:lnTo>
                  <a:lnTo>
                    <a:pt x="458" y="706"/>
                  </a:lnTo>
                  <a:lnTo>
                    <a:pt x="447" y="660"/>
                  </a:lnTo>
                  <a:lnTo>
                    <a:pt x="389" y="451"/>
                  </a:lnTo>
                  <a:lnTo>
                    <a:pt x="357" y="345"/>
                  </a:lnTo>
                  <a:lnTo>
                    <a:pt x="325" y="243"/>
                  </a:lnTo>
                  <a:lnTo>
                    <a:pt x="315" y="209"/>
                  </a:lnTo>
                  <a:lnTo>
                    <a:pt x="304" y="185"/>
                  </a:lnTo>
                  <a:lnTo>
                    <a:pt x="293" y="167"/>
                  </a:lnTo>
                  <a:lnTo>
                    <a:pt x="280" y="153"/>
                  </a:lnTo>
                  <a:lnTo>
                    <a:pt x="252" y="131"/>
                  </a:lnTo>
                  <a:lnTo>
                    <a:pt x="237" y="118"/>
                  </a:lnTo>
                  <a:lnTo>
                    <a:pt x="220" y="103"/>
                  </a:lnTo>
                  <a:lnTo>
                    <a:pt x="163" y="75"/>
                  </a:lnTo>
                  <a:lnTo>
                    <a:pt x="106" y="49"/>
                  </a:lnTo>
                  <a:lnTo>
                    <a:pt x="0" y="0"/>
                  </a:lnTo>
                  <a:lnTo>
                    <a:pt x="18" y="36"/>
                  </a:lnTo>
                  <a:lnTo>
                    <a:pt x="41" y="80"/>
                  </a:lnTo>
                  <a:lnTo>
                    <a:pt x="57" y="103"/>
                  </a:lnTo>
                  <a:lnTo>
                    <a:pt x="74" y="126"/>
                  </a:lnTo>
                  <a:lnTo>
                    <a:pt x="94" y="150"/>
                  </a:lnTo>
                  <a:lnTo>
                    <a:pt x="118" y="172"/>
                  </a:lnTo>
                  <a:lnTo>
                    <a:pt x="125" y="184"/>
                  </a:lnTo>
                  <a:lnTo>
                    <a:pt x="125" y="191"/>
                  </a:lnTo>
                  <a:lnTo>
                    <a:pt x="94" y="250"/>
                  </a:lnTo>
                  <a:lnTo>
                    <a:pt x="114" y="262"/>
                  </a:lnTo>
                  <a:lnTo>
                    <a:pt x="137" y="269"/>
                  </a:lnTo>
                  <a:lnTo>
                    <a:pt x="174" y="283"/>
                  </a:lnTo>
                  <a:lnTo>
                    <a:pt x="184" y="379"/>
                  </a:lnTo>
                  <a:lnTo>
                    <a:pt x="197" y="477"/>
                  </a:lnTo>
                  <a:lnTo>
                    <a:pt x="200" y="555"/>
                  </a:lnTo>
                  <a:lnTo>
                    <a:pt x="201" y="633"/>
                  </a:lnTo>
                  <a:lnTo>
                    <a:pt x="196" y="707"/>
                  </a:lnTo>
                  <a:lnTo>
                    <a:pt x="189" y="746"/>
                  </a:lnTo>
                  <a:lnTo>
                    <a:pt x="182" y="78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7786440" y="5031000"/>
              <a:ext cx="216000" cy="660240"/>
            </a:xfrm>
            <a:custGeom>
              <a:avLst/>
              <a:gdLst/>
              <a:ahLst/>
              <a:rect l="l" t="t" r="r" b="b"/>
              <a:pathLst>
                <a:path w="200" h="584">
                  <a:moveTo>
                    <a:pt x="183" y="563"/>
                  </a:moveTo>
                  <a:lnTo>
                    <a:pt x="182" y="573"/>
                  </a:lnTo>
                  <a:lnTo>
                    <a:pt x="183" y="574"/>
                  </a:lnTo>
                  <a:lnTo>
                    <a:pt x="171" y="571"/>
                  </a:lnTo>
                  <a:lnTo>
                    <a:pt x="159" y="571"/>
                  </a:lnTo>
                  <a:lnTo>
                    <a:pt x="148" y="573"/>
                  </a:lnTo>
                  <a:lnTo>
                    <a:pt x="118" y="580"/>
                  </a:lnTo>
                  <a:lnTo>
                    <a:pt x="109" y="584"/>
                  </a:lnTo>
                  <a:lnTo>
                    <a:pt x="108" y="575"/>
                  </a:lnTo>
                  <a:lnTo>
                    <a:pt x="109" y="575"/>
                  </a:lnTo>
                  <a:lnTo>
                    <a:pt x="99" y="472"/>
                  </a:lnTo>
                  <a:lnTo>
                    <a:pt x="85" y="368"/>
                  </a:lnTo>
                  <a:lnTo>
                    <a:pt x="68" y="268"/>
                  </a:lnTo>
                  <a:lnTo>
                    <a:pt x="49" y="178"/>
                  </a:lnTo>
                  <a:lnTo>
                    <a:pt x="24" y="83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40" y="17"/>
                  </a:lnTo>
                  <a:lnTo>
                    <a:pt x="108" y="49"/>
                  </a:lnTo>
                  <a:lnTo>
                    <a:pt x="141" y="63"/>
                  </a:lnTo>
                  <a:lnTo>
                    <a:pt x="173" y="73"/>
                  </a:lnTo>
                  <a:lnTo>
                    <a:pt x="188" y="190"/>
                  </a:lnTo>
                  <a:lnTo>
                    <a:pt x="195" y="251"/>
                  </a:lnTo>
                  <a:lnTo>
                    <a:pt x="198" y="313"/>
                  </a:lnTo>
                  <a:lnTo>
                    <a:pt x="200" y="376"/>
                  </a:lnTo>
                  <a:lnTo>
                    <a:pt x="198" y="438"/>
                  </a:lnTo>
                  <a:lnTo>
                    <a:pt x="193" y="497"/>
                  </a:lnTo>
                  <a:lnTo>
                    <a:pt x="188" y="527"/>
                  </a:lnTo>
                  <a:lnTo>
                    <a:pt x="183" y="555"/>
                  </a:lnTo>
                  <a:lnTo>
                    <a:pt x="183" y="563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>
              <a:off x="7896960" y="4934880"/>
              <a:ext cx="233280" cy="779040"/>
            </a:xfrm>
            <a:custGeom>
              <a:avLst/>
              <a:gdLst/>
              <a:ahLst/>
              <a:rect l="l" t="t" r="r" b="b"/>
              <a:pathLst>
                <a:path w="216" h="689">
                  <a:moveTo>
                    <a:pt x="169" y="689"/>
                  </a:moveTo>
                  <a:lnTo>
                    <a:pt x="167" y="674"/>
                  </a:lnTo>
                  <a:lnTo>
                    <a:pt x="166" y="674"/>
                  </a:lnTo>
                  <a:lnTo>
                    <a:pt x="156" y="603"/>
                  </a:lnTo>
                  <a:lnTo>
                    <a:pt x="142" y="529"/>
                  </a:lnTo>
                  <a:lnTo>
                    <a:pt x="127" y="455"/>
                  </a:lnTo>
                  <a:lnTo>
                    <a:pt x="107" y="381"/>
                  </a:lnTo>
                  <a:lnTo>
                    <a:pt x="84" y="308"/>
                  </a:lnTo>
                  <a:lnTo>
                    <a:pt x="59" y="237"/>
                  </a:lnTo>
                  <a:lnTo>
                    <a:pt x="31" y="168"/>
                  </a:lnTo>
                  <a:lnTo>
                    <a:pt x="0" y="103"/>
                  </a:lnTo>
                  <a:lnTo>
                    <a:pt x="6" y="54"/>
                  </a:lnTo>
                  <a:lnTo>
                    <a:pt x="16" y="0"/>
                  </a:lnTo>
                  <a:lnTo>
                    <a:pt x="36" y="17"/>
                  </a:lnTo>
                  <a:lnTo>
                    <a:pt x="54" y="36"/>
                  </a:lnTo>
                  <a:lnTo>
                    <a:pt x="74" y="56"/>
                  </a:lnTo>
                  <a:lnTo>
                    <a:pt x="84" y="64"/>
                  </a:lnTo>
                  <a:lnTo>
                    <a:pt x="95" y="69"/>
                  </a:lnTo>
                  <a:lnTo>
                    <a:pt x="101" y="68"/>
                  </a:lnTo>
                  <a:lnTo>
                    <a:pt x="127" y="144"/>
                  </a:lnTo>
                  <a:lnTo>
                    <a:pt x="152" y="237"/>
                  </a:lnTo>
                  <a:lnTo>
                    <a:pt x="173" y="332"/>
                  </a:lnTo>
                  <a:lnTo>
                    <a:pt x="187" y="414"/>
                  </a:lnTo>
                  <a:lnTo>
                    <a:pt x="202" y="534"/>
                  </a:lnTo>
                  <a:lnTo>
                    <a:pt x="210" y="595"/>
                  </a:lnTo>
                  <a:lnTo>
                    <a:pt x="215" y="655"/>
                  </a:lnTo>
                  <a:lnTo>
                    <a:pt x="216" y="671"/>
                  </a:lnTo>
                  <a:lnTo>
                    <a:pt x="193" y="679"/>
                  </a:lnTo>
                  <a:lnTo>
                    <a:pt x="16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>
              <a:off x="7958160" y="5061240"/>
              <a:ext cx="234360" cy="706680"/>
            </a:xfrm>
            <a:custGeom>
              <a:avLst/>
              <a:gdLst/>
              <a:ahLst/>
              <a:rect l="l" t="t" r="r" b="b"/>
              <a:pathLst>
                <a:path w="217" h="625">
                  <a:moveTo>
                    <a:pt x="217" y="581"/>
                  </a:moveTo>
                  <a:lnTo>
                    <a:pt x="216" y="562"/>
                  </a:lnTo>
                  <a:lnTo>
                    <a:pt x="206" y="491"/>
                  </a:lnTo>
                  <a:lnTo>
                    <a:pt x="190" y="412"/>
                  </a:lnTo>
                  <a:lnTo>
                    <a:pt x="171" y="330"/>
                  </a:lnTo>
                  <a:lnTo>
                    <a:pt x="148" y="247"/>
                  </a:lnTo>
                  <a:lnTo>
                    <a:pt x="124" y="170"/>
                  </a:lnTo>
                  <a:lnTo>
                    <a:pt x="99" y="100"/>
                  </a:lnTo>
                  <a:lnTo>
                    <a:pt x="74" y="41"/>
                  </a:lnTo>
                  <a:lnTo>
                    <a:pt x="63" y="19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4" y="15"/>
                  </a:lnTo>
                  <a:lnTo>
                    <a:pt x="31" y="97"/>
                  </a:lnTo>
                  <a:lnTo>
                    <a:pt x="26" y="177"/>
                  </a:lnTo>
                  <a:lnTo>
                    <a:pt x="16" y="341"/>
                  </a:lnTo>
                  <a:lnTo>
                    <a:pt x="0" y="624"/>
                  </a:lnTo>
                  <a:lnTo>
                    <a:pt x="17" y="622"/>
                  </a:lnTo>
                  <a:lnTo>
                    <a:pt x="34" y="621"/>
                  </a:lnTo>
                  <a:lnTo>
                    <a:pt x="50" y="620"/>
                  </a:lnTo>
                  <a:lnTo>
                    <a:pt x="68" y="621"/>
                  </a:lnTo>
                  <a:lnTo>
                    <a:pt x="68" y="625"/>
                  </a:lnTo>
                  <a:lnTo>
                    <a:pt x="118" y="612"/>
                  </a:lnTo>
                  <a:lnTo>
                    <a:pt x="165" y="600"/>
                  </a:lnTo>
                  <a:lnTo>
                    <a:pt x="209" y="585"/>
                  </a:lnTo>
                  <a:lnTo>
                    <a:pt x="217" y="581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>
              <a:off x="8165160" y="4944960"/>
              <a:ext cx="166320" cy="818280"/>
            </a:xfrm>
            <a:custGeom>
              <a:avLst/>
              <a:gdLst/>
              <a:ahLst/>
              <a:rect l="l" t="t" r="r" b="b"/>
              <a:pathLst>
                <a:path w="154" h="724">
                  <a:moveTo>
                    <a:pt x="109" y="722"/>
                  </a:moveTo>
                  <a:lnTo>
                    <a:pt x="94" y="654"/>
                  </a:lnTo>
                  <a:lnTo>
                    <a:pt x="79" y="581"/>
                  </a:lnTo>
                  <a:lnTo>
                    <a:pt x="51" y="427"/>
                  </a:lnTo>
                  <a:lnTo>
                    <a:pt x="26" y="269"/>
                  </a:lnTo>
                  <a:lnTo>
                    <a:pt x="0" y="114"/>
                  </a:lnTo>
                  <a:lnTo>
                    <a:pt x="22" y="80"/>
                  </a:lnTo>
                  <a:lnTo>
                    <a:pt x="46" y="49"/>
                  </a:lnTo>
                  <a:lnTo>
                    <a:pt x="71" y="22"/>
                  </a:lnTo>
                  <a:lnTo>
                    <a:pt x="95" y="0"/>
                  </a:lnTo>
                  <a:lnTo>
                    <a:pt x="127" y="51"/>
                  </a:lnTo>
                  <a:lnTo>
                    <a:pt x="154" y="103"/>
                  </a:lnTo>
                  <a:lnTo>
                    <a:pt x="129" y="489"/>
                  </a:lnTo>
                  <a:lnTo>
                    <a:pt x="128" y="552"/>
                  </a:lnTo>
                  <a:lnTo>
                    <a:pt x="122" y="625"/>
                  </a:lnTo>
                  <a:lnTo>
                    <a:pt x="122" y="672"/>
                  </a:lnTo>
                  <a:lnTo>
                    <a:pt x="118" y="720"/>
                  </a:lnTo>
                  <a:lnTo>
                    <a:pt x="113" y="724"/>
                  </a:lnTo>
                  <a:lnTo>
                    <a:pt x="110" y="724"/>
                  </a:lnTo>
                  <a:lnTo>
                    <a:pt x="109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7657560" y="5044320"/>
              <a:ext cx="74520" cy="608040"/>
            </a:xfrm>
            <a:custGeom>
              <a:avLst/>
              <a:gdLst/>
              <a:ahLst/>
              <a:rect l="l" t="t" r="r" b="b"/>
              <a:pathLst>
                <a:path w="69" h="538">
                  <a:moveTo>
                    <a:pt x="0" y="537"/>
                  </a:moveTo>
                  <a:lnTo>
                    <a:pt x="4" y="455"/>
                  </a:lnTo>
                  <a:lnTo>
                    <a:pt x="9" y="373"/>
                  </a:lnTo>
                  <a:lnTo>
                    <a:pt x="11" y="334"/>
                  </a:lnTo>
                  <a:lnTo>
                    <a:pt x="13" y="293"/>
                  </a:lnTo>
                  <a:lnTo>
                    <a:pt x="13" y="252"/>
                  </a:lnTo>
                  <a:lnTo>
                    <a:pt x="11" y="211"/>
                  </a:lnTo>
                  <a:lnTo>
                    <a:pt x="10" y="185"/>
                  </a:lnTo>
                  <a:lnTo>
                    <a:pt x="9" y="159"/>
                  </a:lnTo>
                  <a:lnTo>
                    <a:pt x="4" y="108"/>
                  </a:lnTo>
                  <a:lnTo>
                    <a:pt x="1" y="57"/>
                  </a:lnTo>
                  <a:lnTo>
                    <a:pt x="2" y="6"/>
                  </a:lnTo>
                  <a:lnTo>
                    <a:pt x="4" y="0"/>
                  </a:lnTo>
                  <a:lnTo>
                    <a:pt x="13" y="2"/>
                  </a:lnTo>
                  <a:lnTo>
                    <a:pt x="13" y="83"/>
                  </a:lnTo>
                  <a:lnTo>
                    <a:pt x="24" y="182"/>
                  </a:lnTo>
                  <a:lnTo>
                    <a:pt x="33" y="167"/>
                  </a:lnTo>
                  <a:lnTo>
                    <a:pt x="38" y="153"/>
                  </a:lnTo>
                  <a:lnTo>
                    <a:pt x="46" y="128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9" y="76"/>
                  </a:lnTo>
                  <a:lnTo>
                    <a:pt x="67" y="98"/>
                  </a:lnTo>
                  <a:lnTo>
                    <a:pt x="64" y="118"/>
                  </a:lnTo>
                  <a:lnTo>
                    <a:pt x="58" y="138"/>
                  </a:lnTo>
                  <a:lnTo>
                    <a:pt x="49" y="159"/>
                  </a:lnTo>
                  <a:lnTo>
                    <a:pt x="26" y="206"/>
                  </a:lnTo>
                  <a:lnTo>
                    <a:pt x="20" y="388"/>
                  </a:lnTo>
                  <a:lnTo>
                    <a:pt x="14" y="459"/>
                  </a:lnTo>
                  <a:lnTo>
                    <a:pt x="11" y="496"/>
                  </a:lnTo>
                  <a:lnTo>
                    <a:pt x="8" y="537"/>
                  </a:lnTo>
                  <a:lnTo>
                    <a:pt x="4" y="53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8373600" y="4694040"/>
              <a:ext cx="181440" cy="378720"/>
            </a:xfrm>
            <a:custGeom>
              <a:avLst/>
              <a:gdLst/>
              <a:ahLst/>
              <a:rect l="l" t="t" r="r" b="b"/>
              <a:pathLst>
                <a:path w="168" h="335">
                  <a:moveTo>
                    <a:pt x="0" y="318"/>
                  </a:moveTo>
                  <a:lnTo>
                    <a:pt x="10" y="254"/>
                  </a:lnTo>
                  <a:lnTo>
                    <a:pt x="26" y="191"/>
                  </a:lnTo>
                  <a:lnTo>
                    <a:pt x="42" y="127"/>
                  </a:lnTo>
                  <a:lnTo>
                    <a:pt x="52" y="93"/>
                  </a:lnTo>
                  <a:lnTo>
                    <a:pt x="63" y="57"/>
                  </a:lnTo>
                  <a:lnTo>
                    <a:pt x="81" y="43"/>
                  </a:lnTo>
                  <a:lnTo>
                    <a:pt x="109" y="25"/>
                  </a:lnTo>
                  <a:lnTo>
                    <a:pt x="146" y="0"/>
                  </a:lnTo>
                  <a:lnTo>
                    <a:pt x="146" y="58"/>
                  </a:lnTo>
                  <a:lnTo>
                    <a:pt x="151" y="110"/>
                  </a:lnTo>
                  <a:lnTo>
                    <a:pt x="159" y="162"/>
                  </a:lnTo>
                  <a:lnTo>
                    <a:pt x="168" y="223"/>
                  </a:lnTo>
                  <a:lnTo>
                    <a:pt x="121" y="279"/>
                  </a:lnTo>
                  <a:lnTo>
                    <a:pt x="96" y="306"/>
                  </a:lnTo>
                  <a:lnTo>
                    <a:pt x="63" y="335"/>
                  </a:lnTo>
                  <a:lnTo>
                    <a:pt x="48" y="332"/>
                  </a:lnTo>
                  <a:lnTo>
                    <a:pt x="32" y="32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8179920" y="4764960"/>
              <a:ext cx="204120" cy="29628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44" y="262"/>
                  </a:moveTo>
                  <a:lnTo>
                    <a:pt x="41" y="255"/>
                  </a:lnTo>
                  <a:lnTo>
                    <a:pt x="13" y="127"/>
                  </a:lnTo>
                  <a:lnTo>
                    <a:pt x="3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35" y="33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9" y="71"/>
                  </a:lnTo>
                  <a:lnTo>
                    <a:pt x="123" y="81"/>
                  </a:lnTo>
                  <a:lnTo>
                    <a:pt x="153" y="88"/>
                  </a:lnTo>
                  <a:lnTo>
                    <a:pt x="189" y="94"/>
                  </a:lnTo>
                  <a:lnTo>
                    <a:pt x="134" y="152"/>
                  </a:lnTo>
                  <a:lnTo>
                    <a:pt x="84" y="209"/>
                  </a:lnTo>
                  <a:lnTo>
                    <a:pt x="62" y="234"/>
                  </a:lnTo>
                  <a:lnTo>
                    <a:pt x="54" y="247"/>
                  </a:lnTo>
                  <a:lnTo>
                    <a:pt x="46" y="258"/>
                  </a:lnTo>
                  <a:lnTo>
                    <a:pt x="44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H="1">
              <a:off x="7870680" y="4749120"/>
              <a:ext cx="189000" cy="315360"/>
            </a:xfrm>
            <a:custGeom>
              <a:avLst/>
              <a:gdLst/>
              <a:ahLst/>
              <a:rect l="l" t="t" r="r" b="b"/>
              <a:pathLst>
                <a:path w="175" h="279">
                  <a:moveTo>
                    <a:pt x="50" y="240"/>
                  </a:moveTo>
                  <a:lnTo>
                    <a:pt x="39" y="213"/>
                  </a:lnTo>
                  <a:lnTo>
                    <a:pt x="30" y="180"/>
                  </a:lnTo>
                  <a:lnTo>
                    <a:pt x="16" y="117"/>
                  </a:lnTo>
                  <a:lnTo>
                    <a:pt x="6" y="58"/>
                  </a:lnTo>
                  <a:lnTo>
                    <a:pt x="0" y="0"/>
                  </a:lnTo>
                  <a:lnTo>
                    <a:pt x="39" y="18"/>
                  </a:lnTo>
                  <a:lnTo>
                    <a:pt x="45" y="22"/>
                  </a:lnTo>
                  <a:lnTo>
                    <a:pt x="45" y="29"/>
                  </a:lnTo>
                  <a:lnTo>
                    <a:pt x="74" y="80"/>
                  </a:lnTo>
                  <a:lnTo>
                    <a:pt x="103" y="129"/>
                  </a:lnTo>
                  <a:lnTo>
                    <a:pt x="137" y="176"/>
                  </a:lnTo>
                  <a:lnTo>
                    <a:pt x="175" y="218"/>
                  </a:lnTo>
                  <a:lnTo>
                    <a:pt x="145" y="279"/>
                  </a:lnTo>
                  <a:lnTo>
                    <a:pt x="126" y="272"/>
                  </a:lnTo>
                  <a:lnTo>
                    <a:pt x="107" y="262"/>
                  </a:lnTo>
                  <a:lnTo>
                    <a:pt x="96" y="256"/>
                  </a:lnTo>
                  <a:lnTo>
                    <a:pt x="83" y="251"/>
                  </a:lnTo>
                  <a:lnTo>
                    <a:pt x="69" y="246"/>
                  </a:lnTo>
                  <a:lnTo>
                    <a:pt x="50" y="240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8119440" y="4875840"/>
              <a:ext cx="99360" cy="17496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58" y="154"/>
                  </a:moveTo>
                  <a:lnTo>
                    <a:pt x="25" y="105"/>
                  </a:lnTo>
                  <a:lnTo>
                    <a:pt x="13" y="79"/>
                  </a:lnTo>
                  <a:lnTo>
                    <a:pt x="0" y="56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21" y="27"/>
                  </a:lnTo>
                  <a:lnTo>
                    <a:pt x="33" y="14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4" y="19"/>
                  </a:lnTo>
                  <a:lnTo>
                    <a:pt x="85" y="29"/>
                  </a:lnTo>
                  <a:lnTo>
                    <a:pt x="92" y="42"/>
                  </a:lnTo>
                  <a:lnTo>
                    <a:pt x="70" y="154"/>
                  </a:lnTo>
                  <a:lnTo>
                    <a:pt x="60" y="155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H="1">
              <a:off x="8026200" y="4812480"/>
              <a:ext cx="135000" cy="1854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118" y="162"/>
                  </a:moveTo>
                  <a:lnTo>
                    <a:pt x="104" y="153"/>
                  </a:lnTo>
                  <a:lnTo>
                    <a:pt x="89" y="140"/>
                  </a:lnTo>
                  <a:lnTo>
                    <a:pt x="61" y="108"/>
                  </a:lnTo>
                  <a:lnTo>
                    <a:pt x="32" y="75"/>
                  </a:lnTo>
                  <a:lnTo>
                    <a:pt x="17" y="60"/>
                  </a:lnTo>
                  <a:lnTo>
                    <a:pt x="7" y="54"/>
                  </a:lnTo>
                  <a:lnTo>
                    <a:pt x="0" y="49"/>
                  </a:lnTo>
                  <a:lnTo>
                    <a:pt x="22" y="34"/>
                  </a:lnTo>
                  <a:lnTo>
                    <a:pt x="46" y="22"/>
                  </a:lnTo>
                  <a:lnTo>
                    <a:pt x="88" y="0"/>
                  </a:lnTo>
                  <a:lnTo>
                    <a:pt x="118" y="135"/>
                  </a:lnTo>
                  <a:lnTo>
                    <a:pt x="125" y="164"/>
                  </a:lnTo>
                  <a:lnTo>
                    <a:pt x="122" y="164"/>
                  </a:lnTo>
                  <a:lnTo>
                    <a:pt x="11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H="1">
              <a:off x="8066160" y="4584240"/>
              <a:ext cx="330840" cy="274320"/>
            </a:xfrm>
            <a:custGeom>
              <a:avLst/>
              <a:gdLst/>
              <a:ahLst/>
              <a:rect l="l" t="t" r="r" b="b"/>
              <a:pathLst>
                <a:path w="306" h="243">
                  <a:moveTo>
                    <a:pt x="20" y="149"/>
                  </a:moveTo>
                  <a:lnTo>
                    <a:pt x="14" y="140"/>
                  </a:lnTo>
                  <a:lnTo>
                    <a:pt x="0" y="0"/>
                  </a:lnTo>
                  <a:lnTo>
                    <a:pt x="32" y="37"/>
                  </a:lnTo>
                  <a:lnTo>
                    <a:pt x="61" y="67"/>
                  </a:lnTo>
                  <a:lnTo>
                    <a:pt x="90" y="91"/>
                  </a:lnTo>
                  <a:lnTo>
                    <a:pt x="126" y="114"/>
                  </a:lnTo>
                  <a:lnTo>
                    <a:pt x="147" y="125"/>
                  </a:lnTo>
                  <a:lnTo>
                    <a:pt x="170" y="132"/>
                  </a:lnTo>
                  <a:lnTo>
                    <a:pt x="191" y="139"/>
                  </a:lnTo>
                  <a:lnTo>
                    <a:pt x="214" y="142"/>
                  </a:lnTo>
                  <a:lnTo>
                    <a:pt x="257" y="144"/>
                  </a:lnTo>
                  <a:lnTo>
                    <a:pt x="302" y="141"/>
                  </a:lnTo>
                  <a:lnTo>
                    <a:pt x="306" y="184"/>
                  </a:lnTo>
                  <a:lnTo>
                    <a:pt x="296" y="194"/>
                  </a:lnTo>
                  <a:lnTo>
                    <a:pt x="283" y="203"/>
                  </a:lnTo>
                  <a:lnTo>
                    <a:pt x="254" y="219"/>
                  </a:lnTo>
                  <a:lnTo>
                    <a:pt x="228" y="232"/>
                  </a:lnTo>
                  <a:lnTo>
                    <a:pt x="206" y="243"/>
                  </a:lnTo>
                  <a:lnTo>
                    <a:pt x="183" y="242"/>
                  </a:lnTo>
                  <a:lnTo>
                    <a:pt x="155" y="236"/>
                  </a:lnTo>
                  <a:lnTo>
                    <a:pt x="128" y="227"/>
                  </a:lnTo>
                  <a:lnTo>
                    <a:pt x="102" y="214"/>
                  </a:lnTo>
                  <a:lnTo>
                    <a:pt x="79" y="202"/>
                  </a:lnTo>
                  <a:lnTo>
                    <a:pt x="57" y="185"/>
                  </a:lnTo>
                  <a:lnTo>
                    <a:pt x="38" y="16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7914240" y="3925800"/>
              <a:ext cx="632160" cy="809640"/>
            </a:xfrm>
            <a:custGeom>
              <a:avLst/>
              <a:gdLst/>
              <a:ahLst/>
              <a:rect l="l" t="t" r="r" b="b"/>
              <a:pathLst>
                <a:path w="585" h="716">
                  <a:moveTo>
                    <a:pt x="356" y="714"/>
                  </a:moveTo>
                  <a:lnTo>
                    <a:pt x="316" y="704"/>
                  </a:lnTo>
                  <a:lnTo>
                    <a:pt x="275" y="688"/>
                  </a:lnTo>
                  <a:lnTo>
                    <a:pt x="236" y="663"/>
                  </a:lnTo>
                  <a:lnTo>
                    <a:pt x="196" y="631"/>
                  </a:lnTo>
                  <a:lnTo>
                    <a:pt x="172" y="601"/>
                  </a:lnTo>
                  <a:lnTo>
                    <a:pt x="150" y="574"/>
                  </a:lnTo>
                  <a:lnTo>
                    <a:pt x="146" y="571"/>
                  </a:lnTo>
                  <a:lnTo>
                    <a:pt x="136" y="556"/>
                  </a:lnTo>
                  <a:lnTo>
                    <a:pt x="127" y="535"/>
                  </a:lnTo>
                  <a:lnTo>
                    <a:pt x="121" y="512"/>
                  </a:lnTo>
                  <a:lnTo>
                    <a:pt x="111" y="467"/>
                  </a:lnTo>
                  <a:lnTo>
                    <a:pt x="104" y="423"/>
                  </a:lnTo>
                  <a:lnTo>
                    <a:pt x="94" y="379"/>
                  </a:lnTo>
                  <a:lnTo>
                    <a:pt x="94" y="376"/>
                  </a:lnTo>
                  <a:lnTo>
                    <a:pt x="36" y="345"/>
                  </a:lnTo>
                  <a:lnTo>
                    <a:pt x="0" y="347"/>
                  </a:lnTo>
                  <a:lnTo>
                    <a:pt x="1" y="333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9" y="303"/>
                  </a:lnTo>
                  <a:lnTo>
                    <a:pt x="33" y="303"/>
                  </a:lnTo>
                  <a:lnTo>
                    <a:pt x="49" y="308"/>
                  </a:lnTo>
                  <a:lnTo>
                    <a:pt x="65" y="316"/>
                  </a:lnTo>
                  <a:lnTo>
                    <a:pt x="101" y="336"/>
                  </a:lnTo>
                  <a:lnTo>
                    <a:pt x="112" y="338"/>
                  </a:lnTo>
                  <a:lnTo>
                    <a:pt x="113" y="336"/>
                  </a:lnTo>
                  <a:lnTo>
                    <a:pt x="131" y="289"/>
                  </a:lnTo>
                  <a:lnTo>
                    <a:pt x="146" y="242"/>
                  </a:lnTo>
                  <a:lnTo>
                    <a:pt x="158" y="195"/>
                  </a:lnTo>
                  <a:lnTo>
                    <a:pt x="160" y="172"/>
                  </a:lnTo>
                  <a:lnTo>
                    <a:pt x="156" y="150"/>
                  </a:lnTo>
                  <a:lnTo>
                    <a:pt x="195" y="138"/>
                  </a:lnTo>
                  <a:lnTo>
                    <a:pt x="212" y="131"/>
                  </a:lnTo>
                  <a:lnTo>
                    <a:pt x="228" y="122"/>
                  </a:lnTo>
                  <a:lnTo>
                    <a:pt x="243" y="111"/>
                  </a:lnTo>
                  <a:lnTo>
                    <a:pt x="255" y="98"/>
                  </a:lnTo>
                  <a:lnTo>
                    <a:pt x="268" y="83"/>
                  </a:lnTo>
                  <a:lnTo>
                    <a:pt x="277" y="65"/>
                  </a:lnTo>
                  <a:lnTo>
                    <a:pt x="290" y="67"/>
                  </a:lnTo>
                  <a:lnTo>
                    <a:pt x="318" y="65"/>
                  </a:lnTo>
                  <a:lnTo>
                    <a:pt x="348" y="63"/>
                  </a:lnTo>
                  <a:lnTo>
                    <a:pt x="377" y="55"/>
                  </a:lnTo>
                  <a:lnTo>
                    <a:pt x="409" y="47"/>
                  </a:lnTo>
                  <a:lnTo>
                    <a:pt x="469" y="25"/>
                  </a:lnTo>
                  <a:lnTo>
                    <a:pt x="522" y="0"/>
                  </a:lnTo>
                  <a:lnTo>
                    <a:pt x="533" y="13"/>
                  </a:lnTo>
                  <a:lnTo>
                    <a:pt x="542" y="26"/>
                  </a:lnTo>
                  <a:lnTo>
                    <a:pt x="552" y="54"/>
                  </a:lnTo>
                  <a:lnTo>
                    <a:pt x="557" y="73"/>
                  </a:lnTo>
                  <a:lnTo>
                    <a:pt x="558" y="92"/>
                  </a:lnTo>
                  <a:lnTo>
                    <a:pt x="558" y="130"/>
                  </a:lnTo>
                  <a:lnTo>
                    <a:pt x="548" y="206"/>
                  </a:lnTo>
                  <a:lnTo>
                    <a:pt x="553" y="228"/>
                  </a:lnTo>
                  <a:lnTo>
                    <a:pt x="562" y="238"/>
                  </a:lnTo>
                  <a:lnTo>
                    <a:pt x="572" y="255"/>
                  </a:lnTo>
                  <a:lnTo>
                    <a:pt x="581" y="279"/>
                  </a:lnTo>
                  <a:lnTo>
                    <a:pt x="585" y="304"/>
                  </a:lnTo>
                  <a:lnTo>
                    <a:pt x="583" y="330"/>
                  </a:lnTo>
                  <a:lnTo>
                    <a:pt x="580" y="356"/>
                  </a:lnTo>
                  <a:lnTo>
                    <a:pt x="571" y="406"/>
                  </a:lnTo>
                  <a:lnTo>
                    <a:pt x="568" y="431"/>
                  </a:lnTo>
                  <a:lnTo>
                    <a:pt x="568" y="455"/>
                  </a:lnTo>
                  <a:lnTo>
                    <a:pt x="569" y="478"/>
                  </a:lnTo>
                  <a:lnTo>
                    <a:pt x="572" y="514"/>
                  </a:lnTo>
                  <a:lnTo>
                    <a:pt x="577" y="550"/>
                  </a:lnTo>
                  <a:lnTo>
                    <a:pt x="578" y="586"/>
                  </a:lnTo>
                  <a:lnTo>
                    <a:pt x="574" y="623"/>
                  </a:lnTo>
                  <a:lnTo>
                    <a:pt x="563" y="649"/>
                  </a:lnTo>
                  <a:lnTo>
                    <a:pt x="548" y="670"/>
                  </a:lnTo>
                  <a:lnTo>
                    <a:pt x="529" y="687"/>
                  </a:lnTo>
                  <a:lnTo>
                    <a:pt x="504" y="699"/>
                  </a:lnTo>
                  <a:lnTo>
                    <a:pt x="476" y="707"/>
                  </a:lnTo>
                  <a:lnTo>
                    <a:pt x="442" y="713"/>
                  </a:lnTo>
                  <a:lnTo>
                    <a:pt x="406" y="716"/>
                  </a:lnTo>
                  <a:lnTo>
                    <a:pt x="362" y="716"/>
                  </a:lnTo>
                  <a:lnTo>
                    <a:pt x="358" y="712"/>
                  </a:lnTo>
                  <a:lnTo>
                    <a:pt x="356" y="71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7993440" y="4626000"/>
              <a:ext cx="126000" cy="3924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31" y="35"/>
                  </a:moveTo>
                  <a:lnTo>
                    <a:pt x="5" y="25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36" y="19"/>
                  </a:lnTo>
                  <a:lnTo>
                    <a:pt x="61" y="21"/>
                  </a:lnTo>
                  <a:lnTo>
                    <a:pt x="74" y="19"/>
                  </a:lnTo>
                  <a:lnTo>
                    <a:pt x="85" y="15"/>
                  </a:lnTo>
                  <a:lnTo>
                    <a:pt x="97" y="9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12" y="17"/>
                  </a:lnTo>
                  <a:lnTo>
                    <a:pt x="83" y="30"/>
                  </a:lnTo>
                  <a:lnTo>
                    <a:pt x="69" y="35"/>
                  </a:lnTo>
                  <a:lnTo>
                    <a:pt x="56" y="35"/>
                  </a:lnTo>
                  <a:lnTo>
                    <a:pt x="34" y="35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>
              <a:off x="7985520" y="4487040"/>
              <a:ext cx="278640" cy="105840"/>
            </a:xfrm>
            <a:custGeom>
              <a:avLst/>
              <a:gdLst/>
              <a:ahLst/>
              <a:rect l="l" t="t" r="r" b="b"/>
              <a:pathLst>
                <a:path w="258" h="94">
                  <a:moveTo>
                    <a:pt x="149" y="91"/>
                  </a:moveTo>
                  <a:lnTo>
                    <a:pt x="132" y="89"/>
                  </a:lnTo>
                  <a:lnTo>
                    <a:pt x="115" y="86"/>
                  </a:lnTo>
                  <a:lnTo>
                    <a:pt x="83" y="75"/>
                  </a:lnTo>
                  <a:lnTo>
                    <a:pt x="51" y="65"/>
                  </a:lnTo>
                  <a:lnTo>
                    <a:pt x="34" y="60"/>
                  </a:lnTo>
                  <a:lnTo>
                    <a:pt x="17" y="57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8" y="78"/>
                  </a:lnTo>
                  <a:lnTo>
                    <a:pt x="3" y="61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7" y="16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2" y="42"/>
                  </a:lnTo>
                  <a:lnTo>
                    <a:pt x="41" y="44"/>
                  </a:lnTo>
                  <a:lnTo>
                    <a:pt x="67" y="41"/>
                  </a:lnTo>
                  <a:lnTo>
                    <a:pt x="92" y="35"/>
                  </a:lnTo>
                  <a:lnTo>
                    <a:pt x="120" y="26"/>
                  </a:lnTo>
                  <a:lnTo>
                    <a:pt x="145" y="17"/>
                  </a:lnTo>
                  <a:lnTo>
                    <a:pt x="170" y="8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58" y="0"/>
                  </a:lnTo>
                  <a:lnTo>
                    <a:pt x="258" y="3"/>
                  </a:lnTo>
                  <a:lnTo>
                    <a:pt x="252" y="15"/>
                  </a:lnTo>
                  <a:lnTo>
                    <a:pt x="241" y="12"/>
                  </a:lnTo>
                  <a:lnTo>
                    <a:pt x="241" y="32"/>
                  </a:lnTo>
                  <a:lnTo>
                    <a:pt x="237" y="52"/>
                  </a:lnTo>
                  <a:lnTo>
                    <a:pt x="228" y="68"/>
                  </a:lnTo>
                  <a:lnTo>
                    <a:pt x="215" y="80"/>
                  </a:lnTo>
                  <a:lnTo>
                    <a:pt x="202" y="89"/>
                  </a:lnTo>
                  <a:lnTo>
                    <a:pt x="185" y="93"/>
                  </a:lnTo>
                  <a:lnTo>
                    <a:pt x="168" y="94"/>
                  </a:lnTo>
                  <a:lnTo>
                    <a:pt x="149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8017920" y="4500720"/>
              <a:ext cx="168480" cy="7992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6" y="68"/>
                  </a:moveTo>
                  <a:lnTo>
                    <a:pt x="0" y="45"/>
                  </a:lnTo>
                  <a:lnTo>
                    <a:pt x="30" y="33"/>
                  </a:lnTo>
                  <a:lnTo>
                    <a:pt x="73" y="18"/>
                  </a:lnTo>
                  <a:lnTo>
                    <a:pt x="116" y="5"/>
                  </a:lnTo>
                  <a:lnTo>
                    <a:pt x="135" y="1"/>
                  </a:lnTo>
                  <a:lnTo>
                    <a:pt x="148" y="0"/>
                  </a:lnTo>
                  <a:lnTo>
                    <a:pt x="156" y="11"/>
                  </a:lnTo>
                  <a:lnTo>
                    <a:pt x="156" y="24"/>
                  </a:lnTo>
                  <a:lnTo>
                    <a:pt x="152" y="35"/>
                  </a:lnTo>
                  <a:lnTo>
                    <a:pt x="146" y="47"/>
                  </a:lnTo>
                  <a:lnTo>
                    <a:pt x="136" y="59"/>
                  </a:lnTo>
                  <a:lnTo>
                    <a:pt x="121" y="67"/>
                  </a:lnTo>
                  <a:lnTo>
                    <a:pt x="102" y="69"/>
                  </a:lnTo>
                  <a:lnTo>
                    <a:pt x="83" y="71"/>
                  </a:lnTo>
                  <a:lnTo>
                    <a:pt x="76" y="68"/>
                  </a:lnTo>
                  <a:close/>
                </a:path>
              </a:pathLst>
            </a:custGeom>
            <a:solidFill>
              <a:srgbClr val="f4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8436600" y="4332960"/>
              <a:ext cx="104400" cy="14328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9" y="127"/>
                  </a:moveTo>
                  <a:lnTo>
                    <a:pt x="72" y="127"/>
                  </a:lnTo>
                  <a:lnTo>
                    <a:pt x="57" y="124"/>
                  </a:lnTo>
                  <a:lnTo>
                    <a:pt x="44" y="119"/>
                  </a:lnTo>
                  <a:lnTo>
                    <a:pt x="33" y="113"/>
                  </a:lnTo>
                  <a:lnTo>
                    <a:pt x="25" y="104"/>
                  </a:lnTo>
                  <a:lnTo>
                    <a:pt x="16" y="93"/>
                  </a:lnTo>
                  <a:lnTo>
                    <a:pt x="11" y="83"/>
                  </a:lnTo>
                  <a:lnTo>
                    <a:pt x="6" y="71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0" y="9"/>
                  </a:lnTo>
                  <a:lnTo>
                    <a:pt x="1" y="2"/>
                  </a:lnTo>
                  <a:lnTo>
                    <a:pt x="35" y="0"/>
                  </a:lnTo>
                  <a:lnTo>
                    <a:pt x="26" y="20"/>
                  </a:lnTo>
                  <a:lnTo>
                    <a:pt x="23" y="39"/>
                  </a:lnTo>
                  <a:lnTo>
                    <a:pt x="23" y="54"/>
                  </a:lnTo>
                  <a:lnTo>
                    <a:pt x="28" y="65"/>
                  </a:lnTo>
                  <a:lnTo>
                    <a:pt x="36" y="74"/>
                  </a:lnTo>
                  <a:lnTo>
                    <a:pt x="49" y="83"/>
                  </a:lnTo>
                  <a:lnTo>
                    <a:pt x="67" y="90"/>
                  </a:lnTo>
                  <a:lnTo>
                    <a:pt x="89" y="95"/>
                  </a:lnTo>
                  <a:lnTo>
                    <a:pt x="97" y="127"/>
                  </a:lnTo>
                  <a:lnTo>
                    <a:pt x="94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H="1">
              <a:off x="8341200" y="4329720"/>
              <a:ext cx="88560" cy="10512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68" y="92"/>
                  </a:moveTo>
                  <a:lnTo>
                    <a:pt x="43" y="77"/>
                  </a:lnTo>
                  <a:lnTo>
                    <a:pt x="23" y="61"/>
                  </a:lnTo>
                  <a:lnTo>
                    <a:pt x="14" y="51"/>
                  </a:lnTo>
                  <a:lnTo>
                    <a:pt x="9" y="38"/>
                  </a:lnTo>
                  <a:lnTo>
                    <a:pt x="3" y="24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8" y="20"/>
                  </a:lnTo>
                  <a:lnTo>
                    <a:pt x="23" y="33"/>
                  </a:lnTo>
                  <a:lnTo>
                    <a:pt x="28" y="43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9" y="8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3"/>
                  </a:lnTo>
                  <a:lnTo>
                    <a:pt x="68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8031960" y="4131720"/>
              <a:ext cx="164160" cy="301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12" y="261"/>
                  </a:moveTo>
                  <a:lnTo>
                    <a:pt x="4" y="249"/>
                  </a:lnTo>
                  <a:lnTo>
                    <a:pt x="2" y="232"/>
                  </a:lnTo>
                  <a:lnTo>
                    <a:pt x="0" y="214"/>
                  </a:lnTo>
                  <a:lnTo>
                    <a:pt x="3" y="198"/>
                  </a:lnTo>
                  <a:lnTo>
                    <a:pt x="9" y="180"/>
                  </a:lnTo>
                  <a:lnTo>
                    <a:pt x="15" y="175"/>
                  </a:lnTo>
                  <a:lnTo>
                    <a:pt x="20" y="173"/>
                  </a:lnTo>
                  <a:lnTo>
                    <a:pt x="28" y="173"/>
                  </a:lnTo>
                  <a:lnTo>
                    <a:pt x="33" y="175"/>
                  </a:lnTo>
                  <a:lnTo>
                    <a:pt x="47" y="183"/>
                  </a:lnTo>
                  <a:lnTo>
                    <a:pt x="57" y="190"/>
                  </a:lnTo>
                  <a:lnTo>
                    <a:pt x="67" y="200"/>
                  </a:lnTo>
                  <a:lnTo>
                    <a:pt x="72" y="210"/>
                  </a:lnTo>
                  <a:lnTo>
                    <a:pt x="74" y="214"/>
                  </a:lnTo>
                  <a:lnTo>
                    <a:pt x="74" y="218"/>
                  </a:lnTo>
                  <a:lnTo>
                    <a:pt x="69" y="219"/>
                  </a:lnTo>
                  <a:lnTo>
                    <a:pt x="61" y="221"/>
                  </a:lnTo>
                  <a:lnTo>
                    <a:pt x="43" y="198"/>
                  </a:lnTo>
                  <a:lnTo>
                    <a:pt x="38" y="194"/>
                  </a:lnTo>
                  <a:lnTo>
                    <a:pt x="32" y="190"/>
                  </a:lnTo>
                  <a:lnTo>
                    <a:pt x="27" y="189"/>
                  </a:lnTo>
                  <a:lnTo>
                    <a:pt x="20" y="190"/>
                  </a:lnTo>
                  <a:lnTo>
                    <a:pt x="15" y="203"/>
                  </a:lnTo>
                  <a:lnTo>
                    <a:pt x="14" y="215"/>
                  </a:lnTo>
                  <a:lnTo>
                    <a:pt x="15" y="228"/>
                  </a:lnTo>
                  <a:lnTo>
                    <a:pt x="19" y="241"/>
                  </a:lnTo>
                  <a:lnTo>
                    <a:pt x="19" y="246"/>
                  </a:lnTo>
                  <a:lnTo>
                    <a:pt x="29" y="251"/>
                  </a:lnTo>
                  <a:lnTo>
                    <a:pt x="43" y="253"/>
                  </a:lnTo>
                  <a:lnTo>
                    <a:pt x="74" y="253"/>
                  </a:lnTo>
                  <a:lnTo>
                    <a:pt x="106" y="247"/>
                  </a:lnTo>
                  <a:lnTo>
                    <a:pt x="130" y="239"/>
                  </a:lnTo>
                  <a:lnTo>
                    <a:pt x="135" y="236"/>
                  </a:lnTo>
                  <a:lnTo>
                    <a:pt x="136" y="232"/>
                  </a:lnTo>
                  <a:lnTo>
                    <a:pt x="135" y="217"/>
                  </a:lnTo>
                  <a:lnTo>
                    <a:pt x="129" y="198"/>
                  </a:lnTo>
                  <a:lnTo>
                    <a:pt x="120" y="178"/>
                  </a:lnTo>
                  <a:lnTo>
                    <a:pt x="101" y="135"/>
                  </a:lnTo>
                  <a:lnTo>
                    <a:pt x="87" y="102"/>
                  </a:lnTo>
                  <a:lnTo>
                    <a:pt x="83" y="77"/>
                  </a:lnTo>
                  <a:lnTo>
                    <a:pt x="86" y="53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5" y="14"/>
                  </a:lnTo>
                  <a:lnTo>
                    <a:pt x="101" y="39"/>
                  </a:lnTo>
                  <a:lnTo>
                    <a:pt x="100" y="63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12" y="139"/>
                  </a:lnTo>
                  <a:lnTo>
                    <a:pt x="127" y="165"/>
                  </a:lnTo>
                  <a:lnTo>
                    <a:pt x="140" y="190"/>
                  </a:lnTo>
                  <a:lnTo>
                    <a:pt x="146" y="204"/>
                  </a:lnTo>
                  <a:lnTo>
                    <a:pt x="150" y="218"/>
                  </a:lnTo>
                  <a:lnTo>
                    <a:pt x="152" y="229"/>
                  </a:lnTo>
                  <a:lnTo>
                    <a:pt x="151" y="237"/>
                  </a:lnTo>
                  <a:lnTo>
                    <a:pt x="147" y="244"/>
                  </a:lnTo>
                  <a:lnTo>
                    <a:pt x="142" y="248"/>
                  </a:lnTo>
                  <a:lnTo>
                    <a:pt x="127" y="253"/>
                  </a:lnTo>
                  <a:lnTo>
                    <a:pt x="106" y="259"/>
                  </a:lnTo>
                  <a:lnTo>
                    <a:pt x="62" y="267"/>
                  </a:lnTo>
                  <a:lnTo>
                    <a:pt x="39" y="267"/>
                  </a:lnTo>
                  <a:lnTo>
                    <a:pt x="12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8445600" y="4343400"/>
              <a:ext cx="57240" cy="83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10" y="0"/>
                  </a:moveTo>
                  <a:lnTo>
                    <a:pt x="45" y="15"/>
                  </a:lnTo>
                  <a:lnTo>
                    <a:pt x="47" y="28"/>
                  </a:lnTo>
                  <a:lnTo>
                    <a:pt x="49" y="45"/>
                  </a:lnTo>
                  <a:lnTo>
                    <a:pt x="52" y="59"/>
                  </a:lnTo>
                  <a:lnTo>
                    <a:pt x="53" y="74"/>
                  </a:lnTo>
                  <a:lnTo>
                    <a:pt x="25" y="61"/>
                  </a:lnTo>
                  <a:lnTo>
                    <a:pt x="13" y="55"/>
                  </a:lnTo>
                  <a:lnTo>
                    <a:pt x="5" y="47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8185320" y="4189320"/>
              <a:ext cx="52920" cy="856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2" y="61"/>
                  </a:move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9" y="17"/>
                  </a:lnTo>
                  <a:lnTo>
                    <a:pt x="48" y="46"/>
                  </a:lnTo>
                  <a:lnTo>
                    <a:pt x="43" y="59"/>
                  </a:lnTo>
                  <a:lnTo>
                    <a:pt x="39" y="68"/>
                  </a:lnTo>
                  <a:lnTo>
                    <a:pt x="32" y="74"/>
                  </a:lnTo>
                  <a:lnTo>
                    <a:pt x="23" y="76"/>
                  </a:lnTo>
                  <a:lnTo>
                    <a:pt x="14" y="73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8017920" y="4185000"/>
              <a:ext cx="47520" cy="756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49"/>
                  </a:moveTo>
                  <a:lnTo>
                    <a:pt x="1" y="35"/>
                  </a:lnTo>
                  <a:lnTo>
                    <a:pt x="4" y="24"/>
                  </a:lnTo>
                  <a:lnTo>
                    <a:pt x="8" y="14"/>
                  </a:lnTo>
                  <a:lnTo>
                    <a:pt x="11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41" y="9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0" y="46"/>
                  </a:lnTo>
                  <a:lnTo>
                    <a:pt x="35" y="57"/>
                  </a:lnTo>
                  <a:lnTo>
                    <a:pt x="29" y="64"/>
                  </a:lnTo>
                  <a:lnTo>
                    <a:pt x="19" y="67"/>
                  </a:lnTo>
                  <a:lnTo>
                    <a:pt x="11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H="1">
              <a:off x="8199360" y="4068360"/>
              <a:ext cx="102600" cy="10512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" y="92"/>
                  </a:moveTo>
                  <a:lnTo>
                    <a:pt x="2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69" y="1"/>
                  </a:lnTo>
                  <a:lnTo>
                    <a:pt x="78" y="5"/>
                  </a:lnTo>
                  <a:lnTo>
                    <a:pt x="86" y="9"/>
                  </a:lnTo>
                  <a:lnTo>
                    <a:pt x="91" y="14"/>
                  </a:lnTo>
                  <a:lnTo>
                    <a:pt x="95" y="21"/>
                  </a:lnTo>
                  <a:lnTo>
                    <a:pt x="92" y="29"/>
                  </a:lnTo>
                  <a:lnTo>
                    <a:pt x="90" y="38"/>
                  </a:lnTo>
                  <a:lnTo>
                    <a:pt x="82" y="48"/>
                  </a:lnTo>
                  <a:lnTo>
                    <a:pt x="64" y="56"/>
                  </a:lnTo>
                  <a:lnTo>
                    <a:pt x="49" y="65"/>
                  </a:lnTo>
                  <a:lnTo>
                    <a:pt x="32" y="77"/>
                  </a:lnTo>
                  <a:lnTo>
                    <a:pt x="14" y="93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7994880" y="4057200"/>
              <a:ext cx="74520" cy="8892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" y="37"/>
                  </a:moveTo>
                  <a:lnTo>
                    <a:pt x="0" y="27"/>
                  </a:lnTo>
                  <a:lnTo>
                    <a:pt x="5" y="14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5"/>
                  </a:lnTo>
                  <a:lnTo>
                    <a:pt x="59" y="11"/>
                  </a:lnTo>
                  <a:lnTo>
                    <a:pt x="66" y="19"/>
                  </a:lnTo>
                  <a:lnTo>
                    <a:pt x="69" y="34"/>
                  </a:lnTo>
                  <a:lnTo>
                    <a:pt x="69" y="49"/>
                  </a:lnTo>
                  <a:lnTo>
                    <a:pt x="66" y="63"/>
                  </a:lnTo>
                  <a:lnTo>
                    <a:pt x="58" y="79"/>
                  </a:lnTo>
                  <a:lnTo>
                    <a:pt x="40" y="74"/>
                  </a:lnTo>
                  <a:lnTo>
                    <a:pt x="27" y="65"/>
                  </a:lnTo>
                  <a:lnTo>
                    <a:pt x="15" y="5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H="1">
              <a:off x="8213400" y="4082040"/>
              <a:ext cx="73440" cy="698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62"/>
                  </a:moveTo>
                  <a:lnTo>
                    <a:pt x="0" y="51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7" y="7"/>
                  </a:lnTo>
                  <a:lnTo>
                    <a:pt x="68" y="14"/>
                  </a:lnTo>
                  <a:lnTo>
                    <a:pt x="67" y="26"/>
                  </a:lnTo>
                  <a:lnTo>
                    <a:pt x="50" y="33"/>
                  </a:lnTo>
                  <a:lnTo>
                    <a:pt x="33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8003520" y="4073040"/>
              <a:ext cx="52920" cy="60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9" y="52"/>
                  </a:moveTo>
                  <a:lnTo>
                    <a:pt x="26" y="45"/>
                  </a:lnTo>
                  <a:lnTo>
                    <a:pt x="16" y="37"/>
                  </a:lnTo>
                  <a:lnTo>
                    <a:pt x="7" y="26"/>
                  </a:lnTo>
                  <a:lnTo>
                    <a:pt x="0" y="15"/>
                  </a:lnTo>
                  <a:lnTo>
                    <a:pt x="1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9" y="23"/>
                  </a:lnTo>
                  <a:lnTo>
                    <a:pt x="41" y="54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8497440" y="3925800"/>
              <a:ext cx="20520" cy="486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9" y="43"/>
                  </a:moveTo>
                  <a:lnTo>
                    <a:pt x="18" y="29"/>
                  </a:lnTo>
                  <a:lnTo>
                    <a:pt x="17" y="18"/>
                  </a:lnTo>
                  <a:lnTo>
                    <a:pt x="14" y="10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7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622200" y="5889240"/>
              <a:ext cx="58320" cy="122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" y="1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54" y="1"/>
                  </a:lnTo>
                  <a:lnTo>
                    <a:pt x="48" y="11"/>
                  </a:lnTo>
                  <a:lnTo>
                    <a:pt x="0" y="7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7884720" y="5674320"/>
              <a:ext cx="12600" cy="27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" y="24"/>
                  </a:lnTo>
                  <a:lnTo>
                    <a:pt x="6" y="21"/>
                  </a:lnTo>
                  <a:lnTo>
                    <a:pt x="11" y="19"/>
                  </a:lnTo>
                  <a:lnTo>
                    <a:pt x="12" y="16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7795080" y="5659560"/>
              <a:ext cx="10440" cy="248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0" y="17"/>
                  </a:lnTo>
                  <a:lnTo>
                    <a:pt x="6" y="22"/>
                  </a:lnTo>
                  <a:lnTo>
                    <a:pt x="10" y="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H="1">
              <a:off x="7945920" y="5697000"/>
              <a:ext cx="13680" cy="31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3" y="28"/>
                  </a:lnTo>
                  <a:lnTo>
                    <a:pt x="13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6443640" y="6568920"/>
              <a:ext cx="2666880" cy="19224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a de las decisiones más importantes al planificar una serie de evangelismo público es definir quién será la orad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514600" y="333360"/>
            <a:ext cx="4114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vangelis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0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782720"/>
            <a:ext cx="7705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ha dotado a muchas mujeres con habil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cubra sus habilidades y póngalas al servici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e y ponga en práctica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deas y se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rdadera bendición en su igles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gar  y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3400" y="549360"/>
            <a:ext cx="4603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os te llama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2600" y="3716280"/>
            <a:ext cx="3281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r totalmente comprometida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metida con la iglesia y ser leal a ella, a la misión y su doct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amor por alcanzar a los per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habilidad para llevar a otros a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hablar a grandes audito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1905120" y="404640"/>
            <a:ext cx="53337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sta mujer necesita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3" name="" descr=""/>
          <p:cNvPicPr/>
          <p:nvPr/>
        </p:nvPicPr>
        <p:blipFill>
          <a:blip r:embed="rId1"/>
          <a:stretch/>
        </p:blipFill>
        <p:spPr>
          <a:xfrm>
            <a:off x="5292720" y="4846680"/>
            <a:ext cx="3851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relacion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delegar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humilde, capaz de seguir la orientación de Dios y de oír los consejos de quien puede ayud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r otros talentos como: flexibilidad, misericordia, hospi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personas que poseen los dones que le faltan a fin de realizar  una obr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" descr=""/>
          <p:cNvPicPr/>
          <p:nvPr/>
        </p:nvPicPr>
        <p:blipFill>
          <a:blip r:embed="rId1"/>
          <a:stretch/>
        </p:blipFill>
        <p:spPr>
          <a:xfrm>
            <a:off x="5788080" y="5238720"/>
            <a:ext cx="31766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mujeres que les guste el evange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un grupo de personas que les guste conversar y estudiar la Biblia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recepcionistas entre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sonido y audio-vis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uien responsable de las lu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s de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7" name="" descr=""/>
          <p:cNvPicPr/>
          <p:nvPr/>
        </p:nvPicPr>
        <p:blipFill>
          <a:blip r:embed="rId1"/>
          <a:stretch/>
        </p:blipFill>
        <p:spPr>
          <a:xfrm>
            <a:off x="6588000" y="3914640"/>
            <a:ext cx="2951280" cy="2943360"/>
          </a:xfrm>
          <a:prstGeom prst="rect">
            <a:avLst/>
          </a:prstGeom>
          <a:ln w="0">
            <a:noFill/>
          </a:ln>
        </p:spPr>
      </p:pic>
      <p:sp>
        <p:nvSpPr>
          <p:cNvPr id="5808" name=""/>
          <p:cNvSpPr/>
          <p:nvPr/>
        </p:nvSpPr>
        <p:spPr>
          <a:xfrm>
            <a:off x="6396120" y="38815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pastor debe estar involucrado en la planificación y organización de las reuniones, desde el inicio, o la campaña no tendrá éxito de largo al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 txBox="1"/>
          <p:nvPr/>
        </p:nvSpPr>
        <p:spPr>
          <a:xfrm>
            <a:off x="1692360" y="476280"/>
            <a:ext cx="59767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rabaje en armonía con el Pas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1" name="" descr=""/>
          <p:cNvPicPr/>
          <p:nvPr/>
        </p:nvPicPr>
        <p:blipFill>
          <a:blip r:embed="rId1"/>
          <a:stretch/>
        </p:blipFill>
        <p:spPr>
          <a:xfrm>
            <a:off x="2771640" y="4325760"/>
            <a:ext cx="381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decisión  en cuanto a la fecha  en que serán realizadas las reuniones puede influir mucho en el éxito final de la campaña. Tenga en cuenta lo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rario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 txBox="1"/>
          <p:nvPr/>
        </p:nvSpPr>
        <p:spPr>
          <a:xfrm>
            <a:off x="2695680" y="333360"/>
            <a:ext cx="3752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echa y Horar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5508720" y="3956040"/>
            <a:ext cx="3025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/>
          </p:nvPr>
        </p:nvSpPr>
        <p:spPr>
          <a:xfrm>
            <a:off x="324000" y="1998720"/>
            <a:ext cx="7354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sidere los gastos y la comodidad de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los lugares donde no existen preconceptos, es bueno utilizar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ilidades de ac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luminación d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 txBox="1"/>
          <p:nvPr/>
        </p:nvSpPr>
        <p:spPr>
          <a:xfrm>
            <a:off x="3646440" y="476280"/>
            <a:ext cx="1862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Loc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7" name="" descr=""/>
          <p:cNvPicPr/>
          <p:nvPr/>
        </p:nvPicPr>
        <p:blipFill>
          <a:blip r:embed="rId1"/>
          <a:stretch/>
        </p:blipFill>
        <p:spPr>
          <a:xfrm>
            <a:off x="6372360" y="36432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 txBox="1"/>
          <p:nvPr/>
        </p:nvSpPr>
        <p:spPr>
          <a:xfrm>
            <a:off x="2932200" y="333360"/>
            <a:ext cx="322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esupues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880000" cy="1912680"/>
          </a:xfrm>
          <a:prstGeom prst="rect">
            <a:avLst/>
          </a:prstGeom>
          <a:ln w="0">
            <a:noFill/>
          </a:ln>
        </p:spPr>
      </p:pic>
      <p:sp>
        <p:nvSpPr>
          <p:cNvPr id="5820" name=""/>
          <p:cNvSpPr/>
          <p:nvPr/>
        </p:nvSpPr>
        <p:spPr>
          <a:xfrm>
            <a:off x="1023840" y="4024440"/>
            <a:ext cx="71485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anejo de las finanzas es muy importante. Cuidar del dinero de Dios es una gran  responsabilidad. El principio es mantenerse dentro del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/>
          </p:nvPr>
        </p:nvSpPr>
        <p:spPr>
          <a:xfrm>
            <a:off x="107640" y="1600200"/>
            <a:ext cx="84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a de las cosas más importantes que se puede hacer para mejorar el ministerio es ayudar a entrenar a los otros, y hacer una evaluación cuidadosa al final de cada reun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 txBox="1"/>
          <p:nvPr/>
        </p:nvSpPr>
        <p:spPr>
          <a:xfrm>
            <a:off x="2090880" y="404640"/>
            <a:ext cx="49622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ntrenando Obr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3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96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"/>
          <p:cNvSpPr/>
          <p:nvPr/>
        </p:nvSpPr>
        <p:spPr>
          <a:xfrm>
            <a:off x="6732720" y="2205000"/>
            <a:ext cx="172692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209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las existen porque involucran a un mayor número de personas en el trabajo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ir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 encarg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Dec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Conservació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 txBox="1"/>
          <p:nvPr/>
        </p:nvSpPr>
        <p:spPr>
          <a:xfrm>
            <a:off x="1835280" y="403200"/>
            <a:ext cx="54482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r Comis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7" name="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195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"/>
          <p:cNvSpPr/>
          <p:nvPr/>
        </p:nvSpPr>
        <p:spPr>
          <a:xfrm>
            <a:off x="6659640" y="1413000"/>
            <a:ext cx="1635120" cy="453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66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atención a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Recep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0" name="" descr=""/>
          <p:cNvPicPr/>
          <p:nvPr/>
        </p:nvPicPr>
        <p:blipFill>
          <a:blip r:embed="rId1"/>
          <a:stretch/>
        </p:blipFill>
        <p:spPr>
          <a:xfrm>
            <a:off x="6327720" y="2492280"/>
            <a:ext cx="2276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Importante entender que las mujeres tienen neces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usted es líder o alguien que le gusta  el evangelismo, comience a entrenar a las mujeres en  testimon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vite a los varone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e ejemplos bíblic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jeres y cómo fueron tra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404640"/>
            <a:ext cx="5680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Colocando en Práct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0000" y="3789360"/>
            <a:ext cx="2664000" cy="2304360"/>
            <a:chOff x="6480000" y="3789360"/>
            <a:chExt cx="2664000" cy="2304360"/>
          </a:xfrm>
        </p:grpSpPr>
        <p:grpSp>
          <p:nvGrpSpPr>
            <p:cNvPr id="54" name=""/>
            <p:cNvGrpSpPr/>
            <p:nvPr/>
          </p:nvGrpSpPr>
          <p:grpSpPr>
            <a:xfrm>
              <a:off x="6480000" y="3789360"/>
              <a:ext cx="2664000" cy="1484280"/>
              <a:chOff x="6480000" y="3789360"/>
              <a:chExt cx="2664000" cy="14842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714000" y="3949560"/>
                <a:ext cx="2138040" cy="449640"/>
              </a:xfrm>
              <a:custGeom>
                <a:avLst/>
                <a:gdLst/>
                <a:ahLst/>
                <a:rect l="l" t="t" r="r" b="b"/>
                <a:pathLst>
                  <a:path w="1926" h="370">
                    <a:moveTo>
                      <a:pt x="1855" y="370"/>
                    </a:moveTo>
                    <a:lnTo>
                      <a:pt x="1852" y="367"/>
                    </a:lnTo>
                    <a:lnTo>
                      <a:pt x="1849" y="359"/>
                    </a:lnTo>
                    <a:lnTo>
                      <a:pt x="1846" y="356"/>
                    </a:lnTo>
                    <a:lnTo>
                      <a:pt x="1843" y="348"/>
                    </a:lnTo>
                    <a:lnTo>
                      <a:pt x="1840" y="341"/>
                    </a:lnTo>
                    <a:lnTo>
                      <a:pt x="1834" y="337"/>
                    </a:lnTo>
                    <a:lnTo>
                      <a:pt x="1830" y="330"/>
                    </a:lnTo>
                    <a:lnTo>
                      <a:pt x="1827" y="326"/>
                    </a:lnTo>
                    <a:lnTo>
                      <a:pt x="1824" y="326"/>
                    </a:lnTo>
                    <a:lnTo>
                      <a:pt x="1824" y="326"/>
                    </a:lnTo>
                    <a:lnTo>
                      <a:pt x="1821" y="323"/>
                    </a:lnTo>
                    <a:lnTo>
                      <a:pt x="1821" y="323"/>
                    </a:lnTo>
                    <a:lnTo>
                      <a:pt x="1818" y="323"/>
                    </a:lnTo>
                    <a:lnTo>
                      <a:pt x="1818" y="323"/>
                    </a:lnTo>
                    <a:lnTo>
                      <a:pt x="1815" y="323"/>
                    </a:lnTo>
                    <a:lnTo>
                      <a:pt x="1815" y="323"/>
                    </a:lnTo>
                    <a:lnTo>
                      <a:pt x="1809" y="323"/>
                    </a:lnTo>
                    <a:lnTo>
                      <a:pt x="1803" y="323"/>
                    </a:lnTo>
                    <a:lnTo>
                      <a:pt x="1796" y="326"/>
                    </a:lnTo>
                    <a:lnTo>
                      <a:pt x="1787" y="330"/>
                    </a:lnTo>
                    <a:lnTo>
                      <a:pt x="1778" y="334"/>
                    </a:lnTo>
                    <a:lnTo>
                      <a:pt x="1768" y="330"/>
                    </a:lnTo>
                    <a:lnTo>
                      <a:pt x="1762" y="326"/>
                    </a:lnTo>
                    <a:lnTo>
                      <a:pt x="1756" y="315"/>
                    </a:lnTo>
                    <a:lnTo>
                      <a:pt x="1756" y="312"/>
                    </a:lnTo>
                    <a:lnTo>
                      <a:pt x="1753" y="308"/>
                    </a:lnTo>
                    <a:lnTo>
                      <a:pt x="1753" y="308"/>
                    </a:lnTo>
                    <a:lnTo>
                      <a:pt x="1753" y="304"/>
                    </a:lnTo>
                    <a:lnTo>
                      <a:pt x="1756" y="301"/>
                    </a:lnTo>
                    <a:lnTo>
                      <a:pt x="1756" y="297"/>
                    </a:lnTo>
                    <a:lnTo>
                      <a:pt x="1756" y="293"/>
                    </a:lnTo>
                    <a:lnTo>
                      <a:pt x="1756" y="293"/>
                    </a:lnTo>
                    <a:lnTo>
                      <a:pt x="1753" y="286"/>
                    </a:lnTo>
                    <a:lnTo>
                      <a:pt x="1750" y="279"/>
                    </a:lnTo>
                    <a:lnTo>
                      <a:pt x="1747" y="271"/>
                    </a:lnTo>
                    <a:lnTo>
                      <a:pt x="1744" y="264"/>
                    </a:lnTo>
                    <a:lnTo>
                      <a:pt x="1741" y="257"/>
                    </a:lnTo>
                    <a:lnTo>
                      <a:pt x="1741" y="249"/>
                    </a:lnTo>
                    <a:lnTo>
                      <a:pt x="1738" y="242"/>
                    </a:lnTo>
                    <a:lnTo>
                      <a:pt x="1738" y="238"/>
                    </a:lnTo>
                    <a:lnTo>
                      <a:pt x="1734" y="238"/>
                    </a:lnTo>
                    <a:lnTo>
                      <a:pt x="1731" y="238"/>
                    </a:lnTo>
                    <a:lnTo>
                      <a:pt x="1731" y="235"/>
                    </a:lnTo>
                    <a:lnTo>
                      <a:pt x="1728" y="235"/>
                    </a:lnTo>
                    <a:lnTo>
                      <a:pt x="1725" y="235"/>
                    </a:lnTo>
                    <a:lnTo>
                      <a:pt x="1725" y="231"/>
                    </a:lnTo>
                    <a:lnTo>
                      <a:pt x="1722" y="231"/>
                    </a:lnTo>
                    <a:lnTo>
                      <a:pt x="1722" y="227"/>
                    </a:lnTo>
                    <a:lnTo>
                      <a:pt x="1722" y="224"/>
                    </a:lnTo>
                    <a:lnTo>
                      <a:pt x="1722" y="224"/>
                    </a:lnTo>
                    <a:lnTo>
                      <a:pt x="1725" y="220"/>
                    </a:lnTo>
                    <a:lnTo>
                      <a:pt x="1725" y="216"/>
                    </a:lnTo>
                    <a:lnTo>
                      <a:pt x="1725" y="216"/>
                    </a:lnTo>
                    <a:lnTo>
                      <a:pt x="1728" y="213"/>
                    </a:lnTo>
                    <a:lnTo>
                      <a:pt x="1728" y="209"/>
                    </a:lnTo>
                    <a:lnTo>
                      <a:pt x="1731" y="209"/>
                    </a:lnTo>
                    <a:lnTo>
                      <a:pt x="1731" y="205"/>
                    </a:lnTo>
                    <a:lnTo>
                      <a:pt x="1731" y="205"/>
                    </a:lnTo>
                    <a:lnTo>
                      <a:pt x="1734" y="202"/>
                    </a:lnTo>
                    <a:lnTo>
                      <a:pt x="1734" y="202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1" y="191"/>
                    </a:lnTo>
                    <a:lnTo>
                      <a:pt x="1731" y="191"/>
                    </a:lnTo>
                    <a:lnTo>
                      <a:pt x="1728" y="191"/>
                    </a:lnTo>
                    <a:lnTo>
                      <a:pt x="1728" y="187"/>
                    </a:lnTo>
                    <a:lnTo>
                      <a:pt x="1725" y="187"/>
                    </a:lnTo>
                    <a:lnTo>
                      <a:pt x="1725" y="187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31" y="176"/>
                    </a:lnTo>
                    <a:lnTo>
                      <a:pt x="1728" y="176"/>
                    </a:lnTo>
                    <a:lnTo>
                      <a:pt x="1728" y="172"/>
                    </a:lnTo>
                    <a:lnTo>
                      <a:pt x="1728" y="172"/>
                    </a:lnTo>
                    <a:lnTo>
                      <a:pt x="1725" y="169"/>
                    </a:lnTo>
                    <a:lnTo>
                      <a:pt x="1725" y="165"/>
                    </a:lnTo>
                    <a:lnTo>
                      <a:pt x="1725" y="165"/>
                    </a:lnTo>
                    <a:lnTo>
                      <a:pt x="1722" y="161"/>
                    </a:lnTo>
                    <a:lnTo>
                      <a:pt x="1722" y="161"/>
                    </a:lnTo>
                    <a:lnTo>
                      <a:pt x="1722" y="158"/>
                    </a:lnTo>
                    <a:lnTo>
                      <a:pt x="1722" y="154"/>
                    </a:lnTo>
                    <a:lnTo>
                      <a:pt x="1722" y="150"/>
                    </a:lnTo>
                    <a:lnTo>
                      <a:pt x="1722" y="150"/>
                    </a:lnTo>
                    <a:lnTo>
                      <a:pt x="1722" y="147"/>
                    </a:lnTo>
                    <a:lnTo>
                      <a:pt x="1725" y="143"/>
                    </a:lnTo>
                    <a:lnTo>
                      <a:pt x="1725" y="143"/>
                    </a:lnTo>
                    <a:lnTo>
                      <a:pt x="1725" y="139"/>
                    </a:lnTo>
                    <a:lnTo>
                      <a:pt x="1725" y="132"/>
                    </a:lnTo>
                    <a:lnTo>
                      <a:pt x="1728" y="125"/>
                    </a:lnTo>
                    <a:lnTo>
                      <a:pt x="1728" y="117"/>
                    </a:lnTo>
                    <a:lnTo>
                      <a:pt x="1728" y="114"/>
                    </a:lnTo>
                    <a:lnTo>
                      <a:pt x="1728" y="106"/>
                    </a:lnTo>
                    <a:lnTo>
                      <a:pt x="1728" y="99"/>
                    </a:lnTo>
                    <a:lnTo>
                      <a:pt x="1731" y="95"/>
                    </a:lnTo>
                    <a:lnTo>
                      <a:pt x="1731" y="88"/>
                    </a:lnTo>
                    <a:lnTo>
                      <a:pt x="1734" y="84"/>
                    </a:lnTo>
                    <a:lnTo>
                      <a:pt x="1741" y="81"/>
                    </a:lnTo>
                    <a:lnTo>
                      <a:pt x="1744" y="73"/>
                    </a:lnTo>
                    <a:lnTo>
                      <a:pt x="1750" y="73"/>
                    </a:lnTo>
                    <a:lnTo>
                      <a:pt x="1756" y="70"/>
                    </a:lnTo>
                    <a:lnTo>
                      <a:pt x="1759" y="70"/>
                    </a:lnTo>
                    <a:lnTo>
                      <a:pt x="1765" y="73"/>
                    </a:lnTo>
                    <a:lnTo>
                      <a:pt x="1768" y="77"/>
                    </a:lnTo>
                    <a:lnTo>
                      <a:pt x="1775" y="84"/>
                    </a:lnTo>
                    <a:lnTo>
                      <a:pt x="1775" y="95"/>
                    </a:lnTo>
                    <a:lnTo>
                      <a:pt x="1775" y="103"/>
                    </a:lnTo>
                    <a:lnTo>
                      <a:pt x="1772" y="110"/>
                    </a:lnTo>
                    <a:lnTo>
                      <a:pt x="1765" y="117"/>
                    </a:lnTo>
                    <a:lnTo>
                      <a:pt x="1759" y="128"/>
                    </a:lnTo>
                    <a:lnTo>
                      <a:pt x="1753" y="136"/>
                    </a:lnTo>
                    <a:lnTo>
                      <a:pt x="1750" y="147"/>
                    </a:lnTo>
                    <a:lnTo>
                      <a:pt x="1756" y="158"/>
                    </a:lnTo>
                    <a:lnTo>
                      <a:pt x="1778" y="158"/>
                    </a:lnTo>
                    <a:lnTo>
                      <a:pt x="1799" y="187"/>
                    </a:lnTo>
                    <a:lnTo>
                      <a:pt x="1799" y="202"/>
                    </a:lnTo>
                    <a:lnTo>
                      <a:pt x="1803" y="202"/>
                    </a:lnTo>
                    <a:lnTo>
                      <a:pt x="1803" y="202"/>
                    </a:lnTo>
                    <a:lnTo>
                      <a:pt x="1806" y="202"/>
                    </a:lnTo>
                    <a:lnTo>
                      <a:pt x="1809" y="202"/>
                    </a:lnTo>
                    <a:lnTo>
                      <a:pt x="1809" y="202"/>
                    </a:lnTo>
                    <a:lnTo>
                      <a:pt x="1812" y="198"/>
                    </a:lnTo>
                    <a:lnTo>
                      <a:pt x="1815" y="198"/>
                    </a:lnTo>
                    <a:lnTo>
                      <a:pt x="1818" y="198"/>
                    </a:lnTo>
                    <a:lnTo>
                      <a:pt x="1818" y="191"/>
                    </a:lnTo>
                    <a:lnTo>
                      <a:pt x="1818" y="187"/>
                    </a:lnTo>
                    <a:lnTo>
                      <a:pt x="1821" y="180"/>
                    </a:lnTo>
                    <a:lnTo>
                      <a:pt x="1827" y="180"/>
                    </a:lnTo>
                    <a:lnTo>
                      <a:pt x="1830" y="176"/>
                    </a:lnTo>
                    <a:lnTo>
                      <a:pt x="1837" y="176"/>
                    </a:lnTo>
                    <a:lnTo>
                      <a:pt x="1840" y="176"/>
                    </a:lnTo>
                    <a:lnTo>
                      <a:pt x="1846" y="176"/>
                    </a:lnTo>
                    <a:lnTo>
                      <a:pt x="1846" y="180"/>
                    </a:lnTo>
                    <a:lnTo>
                      <a:pt x="1849" y="180"/>
                    </a:lnTo>
                    <a:lnTo>
                      <a:pt x="1852" y="183"/>
                    </a:lnTo>
                    <a:lnTo>
                      <a:pt x="1852" y="187"/>
                    </a:lnTo>
                    <a:lnTo>
                      <a:pt x="1855" y="191"/>
                    </a:lnTo>
                    <a:lnTo>
                      <a:pt x="1855" y="194"/>
                    </a:lnTo>
                    <a:lnTo>
                      <a:pt x="1858" y="198"/>
                    </a:lnTo>
                    <a:lnTo>
                      <a:pt x="1858" y="202"/>
                    </a:lnTo>
                    <a:lnTo>
                      <a:pt x="1858" y="205"/>
                    </a:lnTo>
                    <a:lnTo>
                      <a:pt x="1858" y="213"/>
                    </a:lnTo>
                    <a:lnTo>
                      <a:pt x="1855" y="216"/>
                    </a:lnTo>
                    <a:lnTo>
                      <a:pt x="1855" y="220"/>
                    </a:lnTo>
                    <a:lnTo>
                      <a:pt x="1852" y="224"/>
                    </a:lnTo>
                    <a:lnTo>
                      <a:pt x="1852" y="227"/>
                    </a:lnTo>
                    <a:lnTo>
                      <a:pt x="1849" y="235"/>
                    </a:lnTo>
                    <a:lnTo>
                      <a:pt x="1846" y="238"/>
                    </a:lnTo>
                    <a:lnTo>
                      <a:pt x="1852" y="238"/>
                    </a:lnTo>
                    <a:lnTo>
                      <a:pt x="1861" y="242"/>
                    </a:lnTo>
                    <a:lnTo>
                      <a:pt x="1868" y="242"/>
                    </a:lnTo>
                    <a:lnTo>
                      <a:pt x="1874" y="242"/>
                    </a:lnTo>
                    <a:lnTo>
                      <a:pt x="1880" y="246"/>
                    </a:lnTo>
                    <a:lnTo>
                      <a:pt x="1886" y="249"/>
                    </a:lnTo>
                    <a:lnTo>
                      <a:pt x="1892" y="253"/>
                    </a:lnTo>
                    <a:lnTo>
                      <a:pt x="1899" y="260"/>
                    </a:lnTo>
                    <a:lnTo>
                      <a:pt x="1902" y="260"/>
                    </a:lnTo>
                    <a:lnTo>
                      <a:pt x="1905" y="260"/>
                    </a:lnTo>
                    <a:lnTo>
                      <a:pt x="1911" y="264"/>
                    </a:lnTo>
                    <a:lnTo>
                      <a:pt x="1914" y="264"/>
                    </a:lnTo>
                    <a:lnTo>
                      <a:pt x="1917" y="268"/>
                    </a:lnTo>
                    <a:lnTo>
                      <a:pt x="1920" y="268"/>
                    </a:lnTo>
                    <a:lnTo>
                      <a:pt x="1923" y="271"/>
                    </a:lnTo>
                    <a:lnTo>
                      <a:pt x="1926" y="271"/>
                    </a:lnTo>
                    <a:lnTo>
                      <a:pt x="1926" y="304"/>
                    </a:lnTo>
                    <a:lnTo>
                      <a:pt x="1917" y="308"/>
                    </a:lnTo>
                    <a:lnTo>
                      <a:pt x="1908" y="315"/>
                    </a:lnTo>
                    <a:lnTo>
                      <a:pt x="1899" y="323"/>
                    </a:lnTo>
                    <a:lnTo>
                      <a:pt x="1889" y="330"/>
                    </a:lnTo>
                    <a:lnTo>
                      <a:pt x="1880" y="337"/>
                    </a:lnTo>
                    <a:lnTo>
                      <a:pt x="1871" y="348"/>
                    </a:lnTo>
                    <a:lnTo>
                      <a:pt x="1861" y="359"/>
                    </a:lnTo>
                    <a:lnTo>
                      <a:pt x="1855" y="370"/>
                    </a:lnTo>
                    <a:close/>
                    <a:moveTo>
                      <a:pt x="1134" y="70"/>
                    </a:moveTo>
                    <a:lnTo>
                      <a:pt x="1134" y="73"/>
                    </a:lnTo>
                    <a:lnTo>
                      <a:pt x="1134" y="81"/>
                    </a:lnTo>
                    <a:lnTo>
                      <a:pt x="1131" y="92"/>
                    </a:lnTo>
                    <a:lnTo>
                      <a:pt x="1131" y="99"/>
                    </a:lnTo>
                    <a:lnTo>
                      <a:pt x="1127" y="106"/>
                    </a:lnTo>
                    <a:lnTo>
                      <a:pt x="1127" y="114"/>
                    </a:lnTo>
                    <a:lnTo>
                      <a:pt x="1124" y="121"/>
                    </a:lnTo>
                    <a:lnTo>
                      <a:pt x="1124" y="125"/>
                    </a:lnTo>
                    <a:lnTo>
                      <a:pt x="1124" y="125"/>
                    </a:lnTo>
                    <a:lnTo>
                      <a:pt x="1124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32"/>
                    </a:lnTo>
                    <a:lnTo>
                      <a:pt x="1127" y="132"/>
                    </a:lnTo>
                    <a:lnTo>
                      <a:pt x="1131" y="132"/>
                    </a:lnTo>
                    <a:lnTo>
                      <a:pt x="1131" y="139"/>
                    </a:lnTo>
                    <a:lnTo>
                      <a:pt x="1131" y="147"/>
                    </a:lnTo>
                    <a:lnTo>
                      <a:pt x="1131" y="154"/>
                    </a:lnTo>
                    <a:lnTo>
                      <a:pt x="1131" y="161"/>
                    </a:lnTo>
                    <a:lnTo>
                      <a:pt x="1131" y="169"/>
                    </a:lnTo>
                    <a:lnTo>
                      <a:pt x="1131" y="176"/>
                    </a:lnTo>
                    <a:lnTo>
                      <a:pt x="1131" y="183"/>
                    </a:lnTo>
                    <a:lnTo>
                      <a:pt x="1131" y="191"/>
                    </a:lnTo>
                    <a:lnTo>
                      <a:pt x="1131" y="194"/>
                    </a:lnTo>
                    <a:lnTo>
                      <a:pt x="1134" y="202"/>
                    </a:lnTo>
                    <a:lnTo>
                      <a:pt x="1134" y="205"/>
                    </a:lnTo>
                    <a:lnTo>
                      <a:pt x="1137" y="213"/>
                    </a:lnTo>
                    <a:lnTo>
                      <a:pt x="1137" y="216"/>
                    </a:lnTo>
                    <a:lnTo>
                      <a:pt x="1140" y="224"/>
                    </a:lnTo>
                    <a:lnTo>
                      <a:pt x="1143" y="227"/>
                    </a:lnTo>
                    <a:lnTo>
                      <a:pt x="1143" y="231"/>
                    </a:lnTo>
                    <a:lnTo>
                      <a:pt x="1146" y="235"/>
                    </a:lnTo>
                    <a:lnTo>
                      <a:pt x="1146" y="235"/>
                    </a:lnTo>
                    <a:lnTo>
                      <a:pt x="1149" y="238"/>
                    </a:lnTo>
                    <a:lnTo>
                      <a:pt x="1149" y="242"/>
                    </a:lnTo>
                    <a:lnTo>
                      <a:pt x="1152" y="246"/>
                    </a:lnTo>
                    <a:lnTo>
                      <a:pt x="1152" y="249"/>
                    </a:lnTo>
                    <a:lnTo>
                      <a:pt x="1155" y="253"/>
                    </a:lnTo>
                    <a:lnTo>
                      <a:pt x="1158" y="257"/>
                    </a:lnTo>
                    <a:lnTo>
                      <a:pt x="1158" y="264"/>
                    </a:lnTo>
                    <a:lnTo>
                      <a:pt x="1158" y="271"/>
                    </a:lnTo>
                    <a:lnTo>
                      <a:pt x="1162" y="279"/>
                    </a:lnTo>
                    <a:lnTo>
                      <a:pt x="1165" y="282"/>
                    </a:lnTo>
                    <a:lnTo>
                      <a:pt x="1165" y="282"/>
                    </a:lnTo>
                    <a:lnTo>
                      <a:pt x="1168" y="286"/>
                    </a:lnTo>
                    <a:lnTo>
                      <a:pt x="1171" y="286"/>
                    </a:lnTo>
                    <a:lnTo>
                      <a:pt x="1174" y="286"/>
                    </a:lnTo>
                    <a:lnTo>
                      <a:pt x="1180" y="290"/>
                    </a:lnTo>
                    <a:lnTo>
                      <a:pt x="1186" y="290"/>
                    </a:lnTo>
                    <a:lnTo>
                      <a:pt x="1192" y="290"/>
                    </a:lnTo>
                    <a:lnTo>
                      <a:pt x="1199" y="290"/>
                    </a:lnTo>
                    <a:lnTo>
                      <a:pt x="1205" y="286"/>
                    </a:lnTo>
                    <a:lnTo>
                      <a:pt x="1208" y="286"/>
                    </a:lnTo>
                    <a:lnTo>
                      <a:pt x="1214" y="282"/>
                    </a:lnTo>
                    <a:lnTo>
                      <a:pt x="1217" y="282"/>
                    </a:lnTo>
                    <a:lnTo>
                      <a:pt x="1220" y="282"/>
                    </a:lnTo>
                    <a:lnTo>
                      <a:pt x="1223" y="282"/>
                    </a:lnTo>
                    <a:lnTo>
                      <a:pt x="1227" y="286"/>
                    </a:lnTo>
                    <a:lnTo>
                      <a:pt x="1227" y="286"/>
                    </a:lnTo>
                    <a:lnTo>
                      <a:pt x="1230" y="286"/>
                    </a:lnTo>
                    <a:lnTo>
                      <a:pt x="1233" y="286"/>
                    </a:lnTo>
                    <a:lnTo>
                      <a:pt x="1233" y="286"/>
                    </a:lnTo>
                    <a:lnTo>
                      <a:pt x="1236" y="290"/>
                    </a:lnTo>
                    <a:lnTo>
                      <a:pt x="1245" y="282"/>
                    </a:lnTo>
                    <a:lnTo>
                      <a:pt x="1254" y="275"/>
                    </a:lnTo>
                    <a:lnTo>
                      <a:pt x="1264" y="264"/>
                    </a:lnTo>
                    <a:lnTo>
                      <a:pt x="1273" y="253"/>
                    </a:lnTo>
                    <a:lnTo>
                      <a:pt x="1282" y="238"/>
                    </a:lnTo>
                    <a:lnTo>
                      <a:pt x="1288" y="227"/>
                    </a:lnTo>
                    <a:lnTo>
                      <a:pt x="1295" y="213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298" y="194"/>
                    </a:lnTo>
                    <a:lnTo>
                      <a:pt x="1298" y="194"/>
                    </a:lnTo>
                    <a:lnTo>
                      <a:pt x="1295" y="194"/>
                    </a:lnTo>
                    <a:lnTo>
                      <a:pt x="1295" y="191"/>
                    </a:lnTo>
                    <a:lnTo>
                      <a:pt x="1292" y="191"/>
                    </a:lnTo>
                    <a:lnTo>
                      <a:pt x="1292" y="191"/>
                    </a:lnTo>
                    <a:lnTo>
                      <a:pt x="1298" y="191"/>
                    </a:lnTo>
                    <a:lnTo>
                      <a:pt x="1301" y="191"/>
                    </a:lnTo>
                    <a:lnTo>
                      <a:pt x="1304" y="187"/>
                    </a:lnTo>
                    <a:lnTo>
                      <a:pt x="1307" y="187"/>
                    </a:lnTo>
                    <a:lnTo>
                      <a:pt x="1310" y="183"/>
                    </a:lnTo>
                    <a:lnTo>
                      <a:pt x="1310" y="183"/>
                    </a:lnTo>
                    <a:lnTo>
                      <a:pt x="1313" y="180"/>
                    </a:lnTo>
                    <a:lnTo>
                      <a:pt x="1313" y="176"/>
                    </a:lnTo>
                    <a:lnTo>
                      <a:pt x="1316" y="172"/>
                    </a:lnTo>
                    <a:lnTo>
                      <a:pt x="1316" y="169"/>
                    </a:lnTo>
                    <a:lnTo>
                      <a:pt x="1316" y="165"/>
                    </a:lnTo>
                    <a:lnTo>
                      <a:pt x="1316" y="161"/>
                    </a:lnTo>
                    <a:lnTo>
                      <a:pt x="1319" y="158"/>
                    </a:lnTo>
                    <a:lnTo>
                      <a:pt x="1319" y="154"/>
                    </a:lnTo>
                    <a:lnTo>
                      <a:pt x="1319" y="150"/>
                    </a:lnTo>
                    <a:lnTo>
                      <a:pt x="1323" y="143"/>
                    </a:lnTo>
                    <a:lnTo>
                      <a:pt x="1323" y="136"/>
                    </a:lnTo>
                    <a:lnTo>
                      <a:pt x="1323" y="132"/>
                    </a:lnTo>
                    <a:lnTo>
                      <a:pt x="1319" y="128"/>
                    </a:lnTo>
                    <a:lnTo>
                      <a:pt x="1319" y="128"/>
                    </a:lnTo>
                    <a:lnTo>
                      <a:pt x="1316" y="125"/>
                    </a:lnTo>
                    <a:lnTo>
                      <a:pt x="1313" y="125"/>
                    </a:lnTo>
                    <a:lnTo>
                      <a:pt x="1307" y="125"/>
                    </a:lnTo>
                    <a:lnTo>
                      <a:pt x="1304" y="128"/>
                    </a:lnTo>
                    <a:lnTo>
                      <a:pt x="1298" y="128"/>
                    </a:lnTo>
                    <a:lnTo>
                      <a:pt x="1295" y="132"/>
                    </a:lnTo>
                    <a:lnTo>
                      <a:pt x="1292" y="136"/>
                    </a:lnTo>
                    <a:lnTo>
                      <a:pt x="1285" y="143"/>
                    </a:lnTo>
                    <a:lnTo>
                      <a:pt x="1282" y="147"/>
                    </a:lnTo>
                    <a:lnTo>
                      <a:pt x="1279" y="154"/>
                    </a:lnTo>
                    <a:lnTo>
                      <a:pt x="1276" y="161"/>
                    </a:lnTo>
                    <a:lnTo>
                      <a:pt x="1273" y="169"/>
                    </a:lnTo>
                    <a:lnTo>
                      <a:pt x="1273" y="169"/>
                    </a:lnTo>
                    <a:lnTo>
                      <a:pt x="1270" y="169"/>
                    </a:lnTo>
                    <a:lnTo>
                      <a:pt x="1270" y="169"/>
                    </a:lnTo>
                    <a:lnTo>
                      <a:pt x="1267" y="169"/>
                    </a:lnTo>
                    <a:lnTo>
                      <a:pt x="1267" y="169"/>
                    </a:lnTo>
                    <a:lnTo>
                      <a:pt x="1264" y="169"/>
                    </a:lnTo>
                    <a:lnTo>
                      <a:pt x="1264" y="165"/>
                    </a:lnTo>
                    <a:lnTo>
                      <a:pt x="1261" y="165"/>
                    </a:lnTo>
                    <a:lnTo>
                      <a:pt x="1261" y="161"/>
                    </a:lnTo>
                    <a:lnTo>
                      <a:pt x="1261" y="161"/>
                    </a:lnTo>
                    <a:lnTo>
                      <a:pt x="1261" y="158"/>
                    </a:lnTo>
                    <a:lnTo>
                      <a:pt x="1261" y="154"/>
                    </a:lnTo>
                    <a:lnTo>
                      <a:pt x="1261" y="154"/>
                    </a:lnTo>
                    <a:lnTo>
                      <a:pt x="1261" y="150"/>
                    </a:lnTo>
                    <a:lnTo>
                      <a:pt x="1261" y="150"/>
                    </a:lnTo>
                    <a:lnTo>
                      <a:pt x="1261" y="147"/>
                    </a:lnTo>
                    <a:lnTo>
                      <a:pt x="1258" y="143"/>
                    </a:lnTo>
                    <a:lnTo>
                      <a:pt x="1258" y="139"/>
                    </a:lnTo>
                    <a:lnTo>
                      <a:pt x="1254" y="139"/>
                    </a:lnTo>
                    <a:lnTo>
                      <a:pt x="1251" y="136"/>
                    </a:lnTo>
                    <a:lnTo>
                      <a:pt x="1251" y="136"/>
                    </a:lnTo>
                    <a:lnTo>
                      <a:pt x="1248" y="136"/>
                    </a:lnTo>
                    <a:lnTo>
                      <a:pt x="1248" y="136"/>
                    </a:lnTo>
                    <a:lnTo>
                      <a:pt x="1245" y="136"/>
                    </a:lnTo>
                    <a:lnTo>
                      <a:pt x="1248" y="128"/>
                    </a:lnTo>
                    <a:lnTo>
                      <a:pt x="1251" y="125"/>
                    </a:lnTo>
                    <a:lnTo>
                      <a:pt x="1251" y="121"/>
                    </a:lnTo>
                    <a:lnTo>
                      <a:pt x="1254" y="117"/>
                    </a:lnTo>
                    <a:lnTo>
                      <a:pt x="1254" y="114"/>
                    </a:lnTo>
                    <a:lnTo>
                      <a:pt x="1251" y="110"/>
                    </a:lnTo>
                    <a:lnTo>
                      <a:pt x="1251" y="106"/>
                    </a:lnTo>
                    <a:lnTo>
                      <a:pt x="1248" y="103"/>
                    </a:lnTo>
                    <a:lnTo>
                      <a:pt x="1242" y="103"/>
                    </a:lnTo>
                    <a:lnTo>
                      <a:pt x="1233" y="103"/>
                    </a:lnTo>
                    <a:lnTo>
                      <a:pt x="1223" y="103"/>
                    </a:lnTo>
                    <a:lnTo>
                      <a:pt x="1214" y="106"/>
                    </a:lnTo>
                    <a:lnTo>
                      <a:pt x="1202" y="106"/>
                    </a:lnTo>
                    <a:lnTo>
                      <a:pt x="1196" y="110"/>
                    </a:lnTo>
                    <a:lnTo>
                      <a:pt x="1186" y="110"/>
                    </a:lnTo>
                    <a:lnTo>
                      <a:pt x="1180" y="110"/>
                    </a:lnTo>
                    <a:lnTo>
                      <a:pt x="1171" y="106"/>
                    </a:lnTo>
                    <a:lnTo>
                      <a:pt x="1165" y="103"/>
                    </a:lnTo>
                    <a:lnTo>
                      <a:pt x="1162" y="99"/>
                    </a:lnTo>
                    <a:lnTo>
                      <a:pt x="1155" y="95"/>
                    </a:lnTo>
                    <a:lnTo>
                      <a:pt x="1152" y="92"/>
                    </a:lnTo>
                    <a:lnTo>
                      <a:pt x="1149" y="84"/>
                    </a:lnTo>
                    <a:lnTo>
                      <a:pt x="1143" y="77"/>
                    </a:lnTo>
                    <a:lnTo>
                      <a:pt x="1134" y="70"/>
                    </a:lnTo>
                    <a:close/>
                    <a:moveTo>
                      <a:pt x="576" y="249"/>
                    </a:moveTo>
                    <a:lnTo>
                      <a:pt x="579" y="246"/>
                    </a:lnTo>
                    <a:lnTo>
                      <a:pt x="586" y="246"/>
                    </a:lnTo>
                    <a:lnTo>
                      <a:pt x="589" y="242"/>
                    </a:lnTo>
                    <a:lnTo>
                      <a:pt x="589" y="242"/>
                    </a:lnTo>
                    <a:lnTo>
                      <a:pt x="592" y="238"/>
                    </a:lnTo>
                    <a:lnTo>
                      <a:pt x="592" y="235"/>
                    </a:lnTo>
                    <a:lnTo>
                      <a:pt x="592" y="227"/>
                    </a:lnTo>
                    <a:lnTo>
                      <a:pt x="592" y="220"/>
                    </a:lnTo>
                    <a:lnTo>
                      <a:pt x="592" y="220"/>
                    </a:lnTo>
                    <a:lnTo>
                      <a:pt x="595" y="220"/>
                    </a:lnTo>
                    <a:lnTo>
                      <a:pt x="595" y="216"/>
                    </a:lnTo>
                    <a:lnTo>
                      <a:pt x="598" y="216"/>
                    </a:lnTo>
                    <a:lnTo>
                      <a:pt x="598" y="216"/>
                    </a:lnTo>
                    <a:lnTo>
                      <a:pt x="598" y="213"/>
                    </a:lnTo>
                    <a:lnTo>
                      <a:pt x="601" y="213"/>
                    </a:lnTo>
                    <a:lnTo>
                      <a:pt x="601" y="209"/>
                    </a:lnTo>
                    <a:lnTo>
                      <a:pt x="601" y="209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598" y="202"/>
                    </a:lnTo>
                    <a:lnTo>
                      <a:pt x="598" y="202"/>
                    </a:lnTo>
                    <a:lnTo>
                      <a:pt x="598" y="198"/>
                    </a:lnTo>
                    <a:lnTo>
                      <a:pt x="601" y="198"/>
                    </a:lnTo>
                    <a:lnTo>
                      <a:pt x="604" y="187"/>
                    </a:lnTo>
                    <a:lnTo>
                      <a:pt x="601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10" y="176"/>
                    </a:lnTo>
                    <a:lnTo>
                      <a:pt x="613" y="176"/>
                    </a:lnTo>
                    <a:lnTo>
                      <a:pt x="616" y="172"/>
                    </a:lnTo>
                    <a:lnTo>
                      <a:pt x="616" y="172"/>
                    </a:lnTo>
                    <a:lnTo>
                      <a:pt x="620" y="169"/>
                    </a:lnTo>
                    <a:lnTo>
                      <a:pt x="620" y="165"/>
                    </a:lnTo>
                    <a:lnTo>
                      <a:pt x="620" y="165"/>
                    </a:lnTo>
                    <a:lnTo>
                      <a:pt x="620" y="161"/>
                    </a:lnTo>
                    <a:lnTo>
                      <a:pt x="616" y="161"/>
                    </a:lnTo>
                    <a:lnTo>
                      <a:pt x="616" y="158"/>
                    </a:lnTo>
                    <a:lnTo>
                      <a:pt x="610" y="150"/>
                    </a:lnTo>
                    <a:lnTo>
                      <a:pt x="607" y="143"/>
                    </a:lnTo>
                    <a:lnTo>
                      <a:pt x="604" y="136"/>
                    </a:lnTo>
                    <a:lnTo>
                      <a:pt x="604" y="128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598" y="114"/>
                    </a:lnTo>
                    <a:lnTo>
                      <a:pt x="595" y="110"/>
                    </a:lnTo>
                    <a:lnTo>
                      <a:pt x="598" y="106"/>
                    </a:lnTo>
                    <a:lnTo>
                      <a:pt x="601" y="103"/>
                    </a:lnTo>
                    <a:lnTo>
                      <a:pt x="601" y="99"/>
                    </a:lnTo>
                    <a:lnTo>
                      <a:pt x="604" y="99"/>
                    </a:lnTo>
                    <a:lnTo>
                      <a:pt x="604" y="95"/>
                    </a:lnTo>
                    <a:lnTo>
                      <a:pt x="604" y="92"/>
                    </a:lnTo>
                    <a:lnTo>
                      <a:pt x="604" y="88"/>
                    </a:lnTo>
                    <a:lnTo>
                      <a:pt x="601" y="84"/>
                    </a:lnTo>
                    <a:lnTo>
                      <a:pt x="601" y="81"/>
                    </a:lnTo>
                    <a:lnTo>
                      <a:pt x="601" y="81"/>
                    </a:lnTo>
                    <a:lnTo>
                      <a:pt x="601" y="77"/>
                    </a:lnTo>
                    <a:lnTo>
                      <a:pt x="601" y="73"/>
                    </a:lnTo>
                    <a:lnTo>
                      <a:pt x="601" y="70"/>
                    </a:lnTo>
                    <a:lnTo>
                      <a:pt x="601" y="66"/>
                    </a:lnTo>
                    <a:lnTo>
                      <a:pt x="598" y="66"/>
                    </a:lnTo>
                    <a:lnTo>
                      <a:pt x="598" y="62"/>
                    </a:lnTo>
                    <a:lnTo>
                      <a:pt x="598" y="62"/>
                    </a:lnTo>
                    <a:lnTo>
                      <a:pt x="595" y="62"/>
                    </a:lnTo>
                    <a:lnTo>
                      <a:pt x="592" y="66"/>
                    </a:lnTo>
                    <a:lnTo>
                      <a:pt x="592" y="66"/>
                    </a:lnTo>
                    <a:lnTo>
                      <a:pt x="589" y="66"/>
                    </a:lnTo>
                    <a:lnTo>
                      <a:pt x="589" y="66"/>
                    </a:lnTo>
                    <a:lnTo>
                      <a:pt x="586" y="66"/>
                    </a:lnTo>
                    <a:lnTo>
                      <a:pt x="586" y="62"/>
                    </a:lnTo>
                    <a:lnTo>
                      <a:pt x="589" y="62"/>
                    </a:lnTo>
                    <a:lnTo>
                      <a:pt x="592" y="59"/>
                    </a:lnTo>
                    <a:lnTo>
                      <a:pt x="595" y="59"/>
                    </a:lnTo>
                    <a:lnTo>
                      <a:pt x="595" y="55"/>
                    </a:lnTo>
                    <a:lnTo>
                      <a:pt x="598" y="51"/>
                    </a:lnTo>
                    <a:lnTo>
                      <a:pt x="598" y="48"/>
                    </a:lnTo>
                    <a:lnTo>
                      <a:pt x="598" y="48"/>
                    </a:lnTo>
                    <a:lnTo>
                      <a:pt x="598" y="44"/>
                    </a:lnTo>
                    <a:lnTo>
                      <a:pt x="595" y="44"/>
                    </a:lnTo>
                    <a:lnTo>
                      <a:pt x="595" y="40"/>
                    </a:lnTo>
                    <a:lnTo>
                      <a:pt x="595" y="37"/>
                    </a:lnTo>
                    <a:lnTo>
                      <a:pt x="592" y="33"/>
                    </a:lnTo>
                    <a:lnTo>
                      <a:pt x="592" y="29"/>
                    </a:lnTo>
                    <a:lnTo>
                      <a:pt x="589" y="29"/>
                    </a:lnTo>
                    <a:lnTo>
                      <a:pt x="589" y="26"/>
                    </a:lnTo>
                    <a:lnTo>
                      <a:pt x="586" y="22"/>
                    </a:lnTo>
                    <a:lnTo>
                      <a:pt x="586" y="26"/>
                    </a:lnTo>
                    <a:lnTo>
                      <a:pt x="586" y="29"/>
                    </a:lnTo>
                    <a:lnTo>
                      <a:pt x="582" y="29"/>
                    </a:lnTo>
                    <a:lnTo>
                      <a:pt x="582" y="33"/>
                    </a:lnTo>
                    <a:lnTo>
                      <a:pt x="579" y="37"/>
                    </a:lnTo>
                    <a:lnTo>
                      <a:pt x="579" y="37"/>
                    </a:lnTo>
                    <a:lnTo>
                      <a:pt x="576" y="40"/>
                    </a:lnTo>
                    <a:lnTo>
                      <a:pt x="573" y="44"/>
                    </a:lnTo>
                    <a:lnTo>
                      <a:pt x="573" y="48"/>
                    </a:lnTo>
                    <a:lnTo>
                      <a:pt x="573" y="51"/>
                    </a:lnTo>
                    <a:lnTo>
                      <a:pt x="576" y="55"/>
                    </a:lnTo>
                    <a:lnTo>
                      <a:pt x="576" y="59"/>
                    </a:lnTo>
                    <a:lnTo>
                      <a:pt x="576" y="62"/>
                    </a:lnTo>
                    <a:lnTo>
                      <a:pt x="573" y="66"/>
                    </a:lnTo>
                    <a:lnTo>
                      <a:pt x="573" y="70"/>
                    </a:lnTo>
                    <a:lnTo>
                      <a:pt x="570" y="73"/>
                    </a:lnTo>
                    <a:lnTo>
                      <a:pt x="564" y="84"/>
                    </a:lnTo>
                    <a:lnTo>
                      <a:pt x="555" y="95"/>
                    </a:lnTo>
                    <a:lnTo>
                      <a:pt x="545" y="103"/>
                    </a:lnTo>
                    <a:lnTo>
                      <a:pt x="536" y="114"/>
                    </a:lnTo>
                    <a:lnTo>
                      <a:pt x="527" y="121"/>
                    </a:lnTo>
                    <a:lnTo>
                      <a:pt x="517" y="128"/>
                    </a:lnTo>
                    <a:lnTo>
                      <a:pt x="508" y="139"/>
                    </a:lnTo>
                    <a:lnTo>
                      <a:pt x="502" y="150"/>
                    </a:lnTo>
                    <a:lnTo>
                      <a:pt x="499" y="158"/>
                    </a:lnTo>
                    <a:lnTo>
                      <a:pt x="477" y="158"/>
                    </a:lnTo>
                    <a:lnTo>
                      <a:pt x="471" y="147"/>
                    </a:lnTo>
                    <a:lnTo>
                      <a:pt x="465" y="139"/>
                    </a:lnTo>
                    <a:lnTo>
                      <a:pt x="455" y="136"/>
                    </a:lnTo>
                    <a:lnTo>
                      <a:pt x="446" y="139"/>
                    </a:lnTo>
                    <a:lnTo>
                      <a:pt x="440" y="143"/>
                    </a:lnTo>
                    <a:lnTo>
                      <a:pt x="434" y="154"/>
                    </a:lnTo>
                    <a:lnTo>
                      <a:pt x="434" y="165"/>
                    </a:lnTo>
                    <a:lnTo>
                      <a:pt x="440" y="176"/>
                    </a:lnTo>
                    <a:lnTo>
                      <a:pt x="440" y="220"/>
                    </a:lnTo>
                    <a:lnTo>
                      <a:pt x="446" y="227"/>
                    </a:lnTo>
                    <a:lnTo>
                      <a:pt x="452" y="235"/>
                    </a:lnTo>
                    <a:lnTo>
                      <a:pt x="462" y="242"/>
                    </a:lnTo>
                    <a:lnTo>
                      <a:pt x="468" y="249"/>
                    </a:lnTo>
                    <a:lnTo>
                      <a:pt x="477" y="257"/>
                    </a:lnTo>
                    <a:lnTo>
                      <a:pt x="483" y="268"/>
                    </a:lnTo>
                    <a:lnTo>
                      <a:pt x="490" y="275"/>
                    </a:lnTo>
                    <a:lnTo>
                      <a:pt x="496" y="282"/>
                    </a:lnTo>
                    <a:lnTo>
                      <a:pt x="520" y="246"/>
                    </a:lnTo>
                    <a:lnTo>
                      <a:pt x="530" y="246"/>
                    </a:lnTo>
                    <a:lnTo>
                      <a:pt x="536" y="246"/>
                    </a:lnTo>
                    <a:lnTo>
                      <a:pt x="542" y="246"/>
                    </a:lnTo>
                    <a:lnTo>
                      <a:pt x="551" y="249"/>
                    </a:lnTo>
                    <a:lnTo>
                      <a:pt x="558" y="249"/>
                    </a:lnTo>
                    <a:lnTo>
                      <a:pt x="564" y="249"/>
                    </a:lnTo>
                    <a:lnTo>
                      <a:pt x="573" y="249"/>
                    </a:lnTo>
                    <a:lnTo>
                      <a:pt x="576" y="249"/>
                    </a:lnTo>
                    <a:close/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6714000" y="4034520"/>
                <a:ext cx="226440" cy="364680"/>
              </a:xfrm>
              <a:custGeom>
                <a:avLst/>
                <a:gdLst/>
                <a:ahLst/>
                <a:rect l="l" t="t" r="r" b="b"/>
                <a:pathLst>
                  <a:path w="204" h="300">
                    <a:moveTo>
                      <a:pt x="133" y="300"/>
                    </a:moveTo>
                    <a:lnTo>
                      <a:pt x="130" y="297"/>
                    </a:lnTo>
                    <a:lnTo>
                      <a:pt x="127" y="289"/>
                    </a:lnTo>
                    <a:lnTo>
                      <a:pt x="124" y="286"/>
                    </a:lnTo>
                    <a:lnTo>
                      <a:pt x="121" y="278"/>
                    </a:lnTo>
                    <a:lnTo>
                      <a:pt x="118" y="271"/>
                    </a:lnTo>
                    <a:lnTo>
                      <a:pt x="112" y="267"/>
                    </a:lnTo>
                    <a:lnTo>
                      <a:pt x="108" y="260"/>
                    </a:lnTo>
                    <a:lnTo>
                      <a:pt x="105" y="256"/>
                    </a:lnTo>
                    <a:lnTo>
                      <a:pt x="102" y="256"/>
                    </a:lnTo>
                    <a:lnTo>
                      <a:pt x="99" y="253"/>
                    </a:lnTo>
                    <a:lnTo>
                      <a:pt x="96" y="253"/>
                    </a:lnTo>
                    <a:lnTo>
                      <a:pt x="93" y="253"/>
                    </a:lnTo>
                    <a:lnTo>
                      <a:pt x="87" y="253"/>
                    </a:lnTo>
                    <a:lnTo>
                      <a:pt x="81" y="253"/>
                    </a:lnTo>
                    <a:lnTo>
                      <a:pt x="74" y="256"/>
                    </a:lnTo>
                    <a:lnTo>
                      <a:pt x="65" y="260"/>
                    </a:lnTo>
                    <a:lnTo>
                      <a:pt x="56" y="264"/>
                    </a:lnTo>
                    <a:lnTo>
                      <a:pt x="46" y="260"/>
                    </a:lnTo>
                    <a:lnTo>
                      <a:pt x="40" y="256"/>
                    </a:lnTo>
                    <a:lnTo>
                      <a:pt x="34" y="245"/>
                    </a:lnTo>
                    <a:lnTo>
                      <a:pt x="34" y="242"/>
                    </a:lnTo>
                    <a:lnTo>
                      <a:pt x="31" y="238"/>
                    </a:lnTo>
                    <a:lnTo>
                      <a:pt x="31" y="234"/>
                    </a:lnTo>
                    <a:lnTo>
                      <a:pt x="34" y="231"/>
                    </a:lnTo>
                    <a:lnTo>
                      <a:pt x="34" y="227"/>
                    </a:lnTo>
                    <a:lnTo>
                      <a:pt x="34" y="223"/>
                    </a:lnTo>
                    <a:lnTo>
                      <a:pt x="31" y="216"/>
                    </a:lnTo>
                    <a:lnTo>
                      <a:pt x="28" y="209"/>
                    </a:lnTo>
                    <a:lnTo>
                      <a:pt x="25" y="201"/>
                    </a:lnTo>
                    <a:lnTo>
                      <a:pt x="22" y="194"/>
                    </a:lnTo>
                    <a:lnTo>
                      <a:pt x="19" y="187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6" y="168"/>
                    </a:lnTo>
                    <a:lnTo>
                      <a:pt x="12" y="168"/>
                    </a:lnTo>
                    <a:lnTo>
                      <a:pt x="9" y="168"/>
                    </a:lnTo>
                    <a:lnTo>
                      <a:pt x="9" y="165"/>
                    </a:lnTo>
                    <a:lnTo>
                      <a:pt x="6" y="165"/>
                    </a:lnTo>
                    <a:lnTo>
                      <a:pt x="3" y="165"/>
                    </a:lnTo>
                    <a:lnTo>
                      <a:pt x="3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9" y="139"/>
                    </a:lnTo>
                    <a:lnTo>
                      <a:pt x="9" y="135"/>
                    </a:lnTo>
                    <a:lnTo>
                      <a:pt x="12" y="132"/>
                    </a:lnTo>
                    <a:lnTo>
                      <a:pt x="12" y="128"/>
                    </a:lnTo>
                    <a:lnTo>
                      <a:pt x="12" y="124"/>
                    </a:lnTo>
                    <a:lnTo>
                      <a:pt x="9" y="121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3" y="117"/>
                    </a:lnTo>
                    <a:lnTo>
                      <a:pt x="3" y="113"/>
                    </a:lnTo>
                    <a:lnTo>
                      <a:pt x="6" y="110"/>
                    </a:lnTo>
                    <a:lnTo>
                      <a:pt x="9" y="106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3" y="73"/>
                    </a:lnTo>
                    <a:lnTo>
                      <a:pt x="3" y="69"/>
                    </a:lnTo>
                    <a:lnTo>
                      <a:pt x="3" y="62"/>
                    </a:lnTo>
                    <a:lnTo>
                      <a:pt x="6" y="55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2" y="14"/>
                    </a:lnTo>
                    <a:lnTo>
                      <a:pt x="19" y="11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6" y="7"/>
                    </a:lnTo>
                    <a:lnTo>
                      <a:pt x="53" y="14"/>
                    </a:lnTo>
                    <a:lnTo>
                      <a:pt x="53" y="25"/>
                    </a:lnTo>
                    <a:lnTo>
                      <a:pt x="53" y="33"/>
                    </a:lnTo>
                    <a:lnTo>
                      <a:pt x="50" y="40"/>
                    </a:lnTo>
                    <a:lnTo>
                      <a:pt x="43" y="47"/>
                    </a:lnTo>
                    <a:lnTo>
                      <a:pt x="37" y="58"/>
                    </a:lnTo>
                    <a:lnTo>
                      <a:pt x="31" y="66"/>
                    </a:lnTo>
                    <a:lnTo>
                      <a:pt x="28" y="77"/>
                    </a:lnTo>
                    <a:lnTo>
                      <a:pt x="34" y="88"/>
                    </a:lnTo>
                    <a:lnTo>
                      <a:pt x="56" y="88"/>
                    </a:lnTo>
                    <a:lnTo>
                      <a:pt x="77" y="117"/>
                    </a:lnTo>
                    <a:lnTo>
                      <a:pt x="77" y="132"/>
                    </a:lnTo>
                    <a:lnTo>
                      <a:pt x="81" y="132"/>
                    </a:lnTo>
                    <a:lnTo>
                      <a:pt x="84" y="132"/>
                    </a:lnTo>
                    <a:lnTo>
                      <a:pt x="87" y="132"/>
                    </a:lnTo>
                    <a:lnTo>
                      <a:pt x="90" y="128"/>
                    </a:lnTo>
                    <a:lnTo>
                      <a:pt x="93" y="128"/>
                    </a:lnTo>
                    <a:lnTo>
                      <a:pt x="96" y="128"/>
                    </a:lnTo>
                    <a:lnTo>
                      <a:pt x="96" y="121"/>
                    </a:lnTo>
                    <a:lnTo>
                      <a:pt x="96" y="117"/>
                    </a:lnTo>
                    <a:lnTo>
                      <a:pt x="99" y="110"/>
                    </a:lnTo>
                    <a:lnTo>
                      <a:pt x="105" y="110"/>
                    </a:lnTo>
                    <a:lnTo>
                      <a:pt x="108" y="106"/>
                    </a:lnTo>
                    <a:lnTo>
                      <a:pt x="115" y="106"/>
                    </a:lnTo>
                    <a:lnTo>
                      <a:pt x="118" y="106"/>
                    </a:lnTo>
                    <a:lnTo>
                      <a:pt x="124" y="106"/>
                    </a:lnTo>
                    <a:lnTo>
                      <a:pt x="124" y="110"/>
                    </a:lnTo>
                    <a:lnTo>
                      <a:pt x="127" y="110"/>
                    </a:lnTo>
                    <a:lnTo>
                      <a:pt x="130" y="113"/>
                    </a:lnTo>
                    <a:lnTo>
                      <a:pt x="130" y="117"/>
                    </a:lnTo>
                    <a:lnTo>
                      <a:pt x="133" y="121"/>
                    </a:lnTo>
                    <a:lnTo>
                      <a:pt x="133" y="124"/>
                    </a:lnTo>
                    <a:lnTo>
                      <a:pt x="136" y="128"/>
                    </a:lnTo>
                    <a:lnTo>
                      <a:pt x="136" y="132"/>
                    </a:lnTo>
                    <a:lnTo>
                      <a:pt x="136" y="135"/>
                    </a:lnTo>
                    <a:lnTo>
                      <a:pt x="136" y="143"/>
                    </a:lnTo>
                    <a:lnTo>
                      <a:pt x="133" y="146"/>
                    </a:lnTo>
                    <a:lnTo>
                      <a:pt x="133" y="150"/>
                    </a:lnTo>
                    <a:lnTo>
                      <a:pt x="130" y="154"/>
                    </a:lnTo>
                    <a:lnTo>
                      <a:pt x="130" y="157"/>
                    </a:lnTo>
                    <a:lnTo>
                      <a:pt x="127" y="165"/>
                    </a:lnTo>
                    <a:lnTo>
                      <a:pt x="124" y="168"/>
                    </a:lnTo>
                    <a:lnTo>
                      <a:pt x="130" y="168"/>
                    </a:lnTo>
                    <a:lnTo>
                      <a:pt x="139" y="172"/>
                    </a:lnTo>
                    <a:lnTo>
                      <a:pt x="146" y="172"/>
                    </a:lnTo>
                    <a:lnTo>
                      <a:pt x="152" y="172"/>
                    </a:lnTo>
                    <a:lnTo>
                      <a:pt x="158" y="176"/>
                    </a:lnTo>
                    <a:lnTo>
                      <a:pt x="164" y="179"/>
                    </a:lnTo>
                    <a:lnTo>
                      <a:pt x="170" y="183"/>
                    </a:lnTo>
                    <a:lnTo>
                      <a:pt x="177" y="190"/>
                    </a:lnTo>
                    <a:lnTo>
                      <a:pt x="180" y="190"/>
                    </a:lnTo>
                    <a:lnTo>
                      <a:pt x="183" y="190"/>
                    </a:lnTo>
                    <a:lnTo>
                      <a:pt x="189" y="194"/>
                    </a:lnTo>
                    <a:lnTo>
                      <a:pt x="192" y="194"/>
                    </a:lnTo>
                    <a:lnTo>
                      <a:pt x="195" y="198"/>
                    </a:lnTo>
                    <a:lnTo>
                      <a:pt x="198" y="198"/>
                    </a:lnTo>
                    <a:lnTo>
                      <a:pt x="201" y="201"/>
                    </a:lnTo>
                    <a:lnTo>
                      <a:pt x="204" y="201"/>
                    </a:lnTo>
                    <a:lnTo>
                      <a:pt x="204" y="234"/>
                    </a:lnTo>
                    <a:lnTo>
                      <a:pt x="195" y="238"/>
                    </a:lnTo>
                    <a:lnTo>
                      <a:pt x="186" y="245"/>
                    </a:lnTo>
                    <a:lnTo>
                      <a:pt x="177" y="253"/>
                    </a:lnTo>
                    <a:lnTo>
                      <a:pt x="167" y="260"/>
                    </a:lnTo>
                    <a:lnTo>
                      <a:pt x="158" y="267"/>
                    </a:lnTo>
                    <a:lnTo>
                      <a:pt x="149" y="278"/>
                    </a:lnTo>
                    <a:lnTo>
                      <a:pt x="139" y="289"/>
                    </a:lnTo>
                    <a:lnTo>
                      <a:pt x="133" y="3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83600" y="4034520"/>
                <a:ext cx="220680" cy="267480"/>
              </a:xfrm>
              <a:custGeom>
                <a:avLst/>
                <a:gdLst/>
                <a:ahLst/>
                <a:rect l="l" t="t" r="r" b="b"/>
                <a:pathLst>
                  <a:path w="199" h="220">
                    <a:moveTo>
                      <a:pt x="10" y="0"/>
                    </a:moveTo>
                    <a:lnTo>
                      <a:pt x="10" y="3"/>
                    </a:lnTo>
                    <a:lnTo>
                      <a:pt x="10" y="11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7" y="77"/>
                    </a:lnTo>
                    <a:lnTo>
                      <a:pt x="7" y="84"/>
                    </a:lnTo>
                    <a:lnTo>
                      <a:pt x="7" y="91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13"/>
                    </a:lnTo>
                    <a:lnTo>
                      <a:pt x="7" y="121"/>
                    </a:lnTo>
                    <a:lnTo>
                      <a:pt x="7" y="124"/>
                    </a:lnTo>
                    <a:lnTo>
                      <a:pt x="10" y="132"/>
                    </a:lnTo>
                    <a:lnTo>
                      <a:pt x="10" y="135"/>
                    </a:lnTo>
                    <a:lnTo>
                      <a:pt x="13" y="143"/>
                    </a:lnTo>
                    <a:lnTo>
                      <a:pt x="13" y="146"/>
                    </a:lnTo>
                    <a:lnTo>
                      <a:pt x="16" y="154"/>
                    </a:lnTo>
                    <a:lnTo>
                      <a:pt x="19" y="157"/>
                    </a:lnTo>
                    <a:lnTo>
                      <a:pt x="19" y="161"/>
                    </a:lnTo>
                    <a:lnTo>
                      <a:pt x="22" y="165"/>
                    </a:lnTo>
                    <a:lnTo>
                      <a:pt x="25" y="168"/>
                    </a:lnTo>
                    <a:lnTo>
                      <a:pt x="25" y="172"/>
                    </a:lnTo>
                    <a:lnTo>
                      <a:pt x="28" y="176"/>
                    </a:lnTo>
                    <a:lnTo>
                      <a:pt x="28" y="179"/>
                    </a:lnTo>
                    <a:lnTo>
                      <a:pt x="31" y="183"/>
                    </a:lnTo>
                    <a:lnTo>
                      <a:pt x="34" y="187"/>
                    </a:lnTo>
                    <a:lnTo>
                      <a:pt x="34" y="194"/>
                    </a:lnTo>
                    <a:lnTo>
                      <a:pt x="34" y="201"/>
                    </a:lnTo>
                    <a:lnTo>
                      <a:pt x="38" y="209"/>
                    </a:lnTo>
                    <a:lnTo>
                      <a:pt x="41" y="212"/>
                    </a:lnTo>
                    <a:lnTo>
                      <a:pt x="44" y="216"/>
                    </a:lnTo>
                    <a:lnTo>
                      <a:pt x="47" y="216"/>
                    </a:lnTo>
                    <a:lnTo>
                      <a:pt x="50" y="216"/>
                    </a:lnTo>
                    <a:lnTo>
                      <a:pt x="56" y="220"/>
                    </a:lnTo>
                    <a:lnTo>
                      <a:pt x="62" y="220"/>
                    </a:lnTo>
                    <a:lnTo>
                      <a:pt x="68" y="220"/>
                    </a:lnTo>
                    <a:lnTo>
                      <a:pt x="75" y="220"/>
                    </a:lnTo>
                    <a:lnTo>
                      <a:pt x="81" y="216"/>
                    </a:lnTo>
                    <a:lnTo>
                      <a:pt x="84" y="216"/>
                    </a:lnTo>
                    <a:lnTo>
                      <a:pt x="90" y="212"/>
                    </a:lnTo>
                    <a:lnTo>
                      <a:pt x="93" y="212"/>
                    </a:lnTo>
                    <a:lnTo>
                      <a:pt x="96" y="212"/>
                    </a:lnTo>
                    <a:lnTo>
                      <a:pt x="99" y="212"/>
                    </a:lnTo>
                    <a:lnTo>
                      <a:pt x="103" y="216"/>
                    </a:lnTo>
                    <a:lnTo>
                      <a:pt x="106" y="216"/>
                    </a:lnTo>
                    <a:lnTo>
                      <a:pt x="109" y="216"/>
                    </a:lnTo>
                    <a:lnTo>
                      <a:pt x="112" y="220"/>
                    </a:lnTo>
                    <a:lnTo>
                      <a:pt x="121" y="212"/>
                    </a:lnTo>
                    <a:lnTo>
                      <a:pt x="130" y="205"/>
                    </a:lnTo>
                    <a:lnTo>
                      <a:pt x="140" y="194"/>
                    </a:lnTo>
                    <a:lnTo>
                      <a:pt x="149" y="183"/>
                    </a:lnTo>
                    <a:lnTo>
                      <a:pt x="158" y="168"/>
                    </a:lnTo>
                    <a:lnTo>
                      <a:pt x="164" y="157"/>
                    </a:lnTo>
                    <a:lnTo>
                      <a:pt x="171" y="143"/>
                    </a:lnTo>
                    <a:lnTo>
                      <a:pt x="177" y="128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71" y="121"/>
                    </a:lnTo>
                    <a:lnTo>
                      <a:pt x="168" y="121"/>
                    </a:lnTo>
                    <a:lnTo>
                      <a:pt x="174" y="121"/>
                    </a:lnTo>
                    <a:lnTo>
                      <a:pt x="177" y="121"/>
                    </a:lnTo>
                    <a:lnTo>
                      <a:pt x="180" y="117"/>
                    </a:lnTo>
                    <a:lnTo>
                      <a:pt x="183" y="117"/>
                    </a:lnTo>
                    <a:lnTo>
                      <a:pt x="186" y="113"/>
                    </a:lnTo>
                    <a:lnTo>
                      <a:pt x="189" y="110"/>
                    </a:lnTo>
                    <a:lnTo>
                      <a:pt x="189" y="106"/>
                    </a:lnTo>
                    <a:lnTo>
                      <a:pt x="192" y="102"/>
                    </a:lnTo>
                    <a:lnTo>
                      <a:pt x="192" y="99"/>
                    </a:lnTo>
                    <a:lnTo>
                      <a:pt x="192" y="95"/>
                    </a:lnTo>
                    <a:lnTo>
                      <a:pt x="192" y="91"/>
                    </a:lnTo>
                    <a:lnTo>
                      <a:pt x="195" y="88"/>
                    </a:lnTo>
                    <a:lnTo>
                      <a:pt x="195" y="84"/>
                    </a:lnTo>
                    <a:lnTo>
                      <a:pt x="195" y="80"/>
                    </a:lnTo>
                    <a:lnTo>
                      <a:pt x="199" y="73"/>
                    </a:lnTo>
                    <a:lnTo>
                      <a:pt x="199" y="66"/>
                    </a:lnTo>
                    <a:lnTo>
                      <a:pt x="199" y="62"/>
                    </a:lnTo>
                    <a:lnTo>
                      <a:pt x="195" y="58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3" y="55"/>
                    </a:lnTo>
                    <a:lnTo>
                      <a:pt x="180" y="58"/>
                    </a:lnTo>
                    <a:lnTo>
                      <a:pt x="174" y="58"/>
                    </a:lnTo>
                    <a:lnTo>
                      <a:pt x="171" y="62"/>
                    </a:lnTo>
                    <a:lnTo>
                      <a:pt x="168" y="66"/>
                    </a:lnTo>
                    <a:lnTo>
                      <a:pt x="161" y="73"/>
                    </a:lnTo>
                    <a:lnTo>
                      <a:pt x="158" y="77"/>
                    </a:lnTo>
                    <a:lnTo>
                      <a:pt x="155" y="84"/>
                    </a:lnTo>
                    <a:lnTo>
                      <a:pt x="152" y="91"/>
                    </a:lnTo>
                    <a:lnTo>
                      <a:pt x="149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40" y="95"/>
                    </a:lnTo>
                    <a:lnTo>
                      <a:pt x="137" y="95"/>
                    </a:lnTo>
                    <a:lnTo>
                      <a:pt x="137" y="91"/>
                    </a:lnTo>
                    <a:lnTo>
                      <a:pt x="137" y="88"/>
                    </a:lnTo>
                    <a:lnTo>
                      <a:pt x="137" y="84"/>
                    </a:lnTo>
                    <a:lnTo>
                      <a:pt x="137" y="80"/>
                    </a:lnTo>
                    <a:lnTo>
                      <a:pt x="137" y="77"/>
                    </a:lnTo>
                    <a:lnTo>
                      <a:pt x="134" y="73"/>
                    </a:lnTo>
                    <a:lnTo>
                      <a:pt x="134" y="69"/>
                    </a:lnTo>
                    <a:lnTo>
                      <a:pt x="130" y="69"/>
                    </a:lnTo>
                    <a:lnTo>
                      <a:pt x="127" y="66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24" y="58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30" y="47"/>
                    </a:lnTo>
                    <a:lnTo>
                      <a:pt x="130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4" y="33"/>
                    </a:lnTo>
                    <a:lnTo>
                      <a:pt x="118" y="33"/>
                    </a:lnTo>
                    <a:lnTo>
                      <a:pt x="109" y="33"/>
                    </a:lnTo>
                    <a:lnTo>
                      <a:pt x="99" y="33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2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8" y="29"/>
                    </a:lnTo>
                    <a:lnTo>
                      <a:pt x="31" y="25"/>
                    </a:lnTo>
                    <a:lnTo>
                      <a:pt x="28" y="22"/>
                    </a:lnTo>
                    <a:lnTo>
                      <a:pt x="25" y="14"/>
                    </a:lnTo>
                    <a:lnTo>
                      <a:pt x="19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080" y="3976200"/>
                <a:ext cx="206280" cy="315720"/>
              </a:xfrm>
              <a:custGeom>
                <a:avLst/>
                <a:gdLst/>
                <a:ahLst/>
                <a:rect l="l" t="t" r="r" b="b"/>
                <a:pathLst>
                  <a:path w="186" h="260">
                    <a:moveTo>
                      <a:pt x="142" y="227"/>
                    </a:moveTo>
                    <a:lnTo>
                      <a:pt x="145" y="224"/>
                    </a:lnTo>
                    <a:lnTo>
                      <a:pt x="152" y="224"/>
                    </a:lnTo>
                    <a:lnTo>
                      <a:pt x="155" y="220"/>
                    </a:lnTo>
                    <a:lnTo>
                      <a:pt x="158" y="216"/>
                    </a:lnTo>
                    <a:lnTo>
                      <a:pt x="158" y="213"/>
                    </a:lnTo>
                    <a:lnTo>
                      <a:pt x="158" y="205"/>
                    </a:lnTo>
                    <a:lnTo>
                      <a:pt x="158" y="198"/>
                    </a:lnTo>
                    <a:lnTo>
                      <a:pt x="161" y="198"/>
                    </a:lnTo>
                    <a:lnTo>
                      <a:pt x="161" y="194"/>
                    </a:lnTo>
                    <a:lnTo>
                      <a:pt x="164" y="194"/>
                    </a:lnTo>
                    <a:lnTo>
                      <a:pt x="164" y="191"/>
                    </a:lnTo>
                    <a:lnTo>
                      <a:pt x="167" y="191"/>
                    </a:lnTo>
                    <a:lnTo>
                      <a:pt x="167" y="187"/>
                    </a:lnTo>
                    <a:lnTo>
                      <a:pt x="167" y="183"/>
                    </a:lnTo>
                    <a:lnTo>
                      <a:pt x="164" y="180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65"/>
                    </a:lnTo>
                    <a:lnTo>
                      <a:pt x="167" y="154"/>
                    </a:lnTo>
                    <a:lnTo>
                      <a:pt x="170" y="154"/>
                    </a:lnTo>
                    <a:lnTo>
                      <a:pt x="173" y="154"/>
                    </a:lnTo>
                    <a:lnTo>
                      <a:pt x="176" y="154"/>
                    </a:lnTo>
                    <a:lnTo>
                      <a:pt x="179" y="154"/>
                    </a:lnTo>
                    <a:lnTo>
                      <a:pt x="182" y="150"/>
                    </a:lnTo>
                    <a:lnTo>
                      <a:pt x="186" y="147"/>
                    </a:lnTo>
                    <a:lnTo>
                      <a:pt x="186" y="143"/>
                    </a:lnTo>
                    <a:lnTo>
                      <a:pt x="186" y="139"/>
                    </a:lnTo>
                    <a:lnTo>
                      <a:pt x="182" y="139"/>
                    </a:lnTo>
                    <a:lnTo>
                      <a:pt x="182" y="136"/>
                    </a:lnTo>
                    <a:lnTo>
                      <a:pt x="176" y="128"/>
                    </a:lnTo>
                    <a:lnTo>
                      <a:pt x="173" y="121"/>
                    </a:lnTo>
                    <a:lnTo>
                      <a:pt x="170" y="114"/>
                    </a:lnTo>
                    <a:lnTo>
                      <a:pt x="170" y="106"/>
                    </a:lnTo>
                    <a:lnTo>
                      <a:pt x="167" y="103"/>
                    </a:lnTo>
                    <a:lnTo>
                      <a:pt x="167" y="99"/>
                    </a:lnTo>
                    <a:lnTo>
                      <a:pt x="164" y="92"/>
                    </a:lnTo>
                    <a:lnTo>
                      <a:pt x="161" y="88"/>
                    </a:lnTo>
                    <a:lnTo>
                      <a:pt x="164" y="84"/>
                    </a:lnTo>
                    <a:lnTo>
                      <a:pt x="167" y="81"/>
                    </a:lnTo>
                    <a:lnTo>
                      <a:pt x="167" y="77"/>
                    </a:lnTo>
                    <a:lnTo>
                      <a:pt x="170" y="77"/>
                    </a:lnTo>
                    <a:lnTo>
                      <a:pt x="170" y="73"/>
                    </a:lnTo>
                    <a:lnTo>
                      <a:pt x="170" y="70"/>
                    </a:lnTo>
                    <a:lnTo>
                      <a:pt x="170" y="66"/>
                    </a:lnTo>
                    <a:lnTo>
                      <a:pt x="167" y="62"/>
                    </a:lnTo>
                    <a:lnTo>
                      <a:pt x="167" y="59"/>
                    </a:lnTo>
                    <a:lnTo>
                      <a:pt x="167" y="55"/>
                    </a:lnTo>
                    <a:lnTo>
                      <a:pt x="167" y="51"/>
                    </a:lnTo>
                    <a:lnTo>
                      <a:pt x="167" y="48"/>
                    </a:lnTo>
                    <a:lnTo>
                      <a:pt x="167" y="44"/>
                    </a:lnTo>
                    <a:lnTo>
                      <a:pt x="164" y="44"/>
                    </a:lnTo>
                    <a:lnTo>
                      <a:pt x="164" y="40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5" y="44"/>
                    </a:lnTo>
                    <a:lnTo>
                      <a:pt x="152" y="44"/>
                    </a:lnTo>
                    <a:lnTo>
                      <a:pt x="152" y="40"/>
                    </a:lnTo>
                    <a:lnTo>
                      <a:pt x="155" y="40"/>
                    </a:lnTo>
                    <a:lnTo>
                      <a:pt x="158" y="37"/>
                    </a:lnTo>
                    <a:lnTo>
                      <a:pt x="161" y="37"/>
                    </a:lnTo>
                    <a:lnTo>
                      <a:pt x="161" y="33"/>
                    </a:lnTo>
                    <a:lnTo>
                      <a:pt x="164" y="29"/>
                    </a:lnTo>
                    <a:lnTo>
                      <a:pt x="164" y="26"/>
                    </a:lnTo>
                    <a:lnTo>
                      <a:pt x="164" y="22"/>
                    </a:lnTo>
                    <a:lnTo>
                      <a:pt x="161" y="22"/>
                    </a:lnTo>
                    <a:lnTo>
                      <a:pt x="161" y="18"/>
                    </a:lnTo>
                    <a:lnTo>
                      <a:pt x="161" y="15"/>
                    </a:lnTo>
                    <a:lnTo>
                      <a:pt x="158" y="11"/>
                    </a:lnTo>
                    <a:lnTo>
                      <a:pt x="158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2" y="0"/>
                    </a:lnTo>
                    <a:lnTo>
                      <a:pt x="152" y="4"/>
                    </a:lnTo>
                    <a:lnTo>
                      <a:pt x="152" y="7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5" y="15"/>
                    </a:lnTo>
                    <a:lnTo>
                      <a:pt x="142" y="18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2" y="33"/>
                    </a:lnTo>
                    <a:lnTo>
                      <a:pt x="142" y="37"/>
                    </a:lnTo>
                    <a:lnTo>
                      <a:pt x="142" y="40"/>
                    </a:lnTo>
                    <a:lnTo>
                      <a:pt x="139" y="44"/>
                    </a:lnTo>
                    <a:lnTo>
                      <a:pt x="139" y="48"/>
                    </a:lnTo>
                    <a:lnTo>
                      <a:pt x="136" y="51"/>
                    </a:lnTo>
                    <a:lnTo>
                      <a:pt x="130" y="62"/>
                    </a:lnTo>
                    <a:lnTo>
                      <a:pt x="121" y="73"/>
                    </a:lnTo>
                    <a:lnTo>
                      <a:pt x="111" y="81"/>
                    </a:lnTo>
                    <a:lnTo>
                      <a:pt x="102" y="92"/>
                    </a:lnTo>
                    <a:lnTo>
                      <a:pt x="93" y="99"/>
                    </a:lnTo>
                    <a:lnTo>
                      <a:pt x="83" y="106"/>
                    </a:lnTo>
                    <a:lnTo>
                      <a:pt x="74" y="117"/>
                    </a:lnTo>
                    <a:lnTo>
                      <a:pt x="68" y="128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37" y="125"/>
                    </a:lnTo>
                    <a:lnTo>
                      <a:pt x="31" y="117"/>
                    </a:lnTo>
                    <a:lnTo>
                      <a:pt x="21" y="114"/>
                    </a:lnTo>
                    <a:lnTo>
                      <a:pt x="12" y="117"/>
                    </a:lnTo>
                    <a:lnTo>
                      <a:pt x="6" y="121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6" y="154"/>
                    </a:lnTo>
                    <a:lnTo>
                      <a:pt x="6" y="198"/>
                    </a:lnTo>
                    <a:lnTo>
                      <a:pt x="12" y="205"/>
                    </a:lnTo>
                    <a:lnTo>
                      <a:pt x="18" y="213"/>
                    </a:lnTo>
                    <a:lnTo>
                      <a:pt x="28" y="220"/>
                    </a:lnTo>
                    <a:lnTo>
                      <a:pt x="34" y="227"/>
                    </a:lnTo>
                    <a:lnTo>
                      <a:pt x="43" y="235"/>
                    </a:lnTo>
                    <a:lnTo>
                      <a:pt x="49" y="246"/>
                    </a:lnTo>
                    <a:lnTo>
                      <a:pt x="56" y="253"/>
                    </a:lnTo>
                    <a:lnTo>
                      <a:pt x="62" y="260"/>
                    </a:lnTo>
                    <a:lnTo>
                      <a:pt x="86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8" y="224"/>
                    </a:lnTo>
                    <a:lnTo>
                      <a:pt x="117" y="227"/>
                    </a:lnTo>
                    <a:lnTo>
                      <a:pt x="124" y="227"/>
                    </a:lnTo>
                    <a:lnTo>
                      <a:pt x="130" y="227"/>
                    </a:lnTo>
                    <a:lnTo>
                      <a:pt x="139" y="227"/>
                    </a:lnTo>
                    <a:lnTo>
                      <a:pt x="142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549280" y="3949560"/>
                <a:ext cx="302760" cy="414360"/>
              </a:xfrm>
              <a:custGeom>
                <a:avLst/>
                <a:gdLst/>
                <a:ahLst/>
                <a:rect l="l" t="t" r="r" b="b"/>
                <a:pathLst>
                  <a:path w="273" h="341"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714000" y="4038480"/>
                <a:ext cx="2138040" cy="360720"/>
              </a:xfrm>
              <a:custGeom>
                <a:avLst/>
                <a:gdLst/>
                <a:ahLst/>
                <a:rect l="l" t="t" r="r" b="b"/>
                <a:pathLst>
                  <a:path w="1926" h="297">
                    <a:moveTo>
                      <a:pt x="1134" y="44"/>
                    </a:moveTo>
                    <a:lnTo>
                      <a:pt x="1134" y="44"/>
                    </a:lnTo>
                    <a:lnTo>
                      <a:pt x="1131" y="44"/>
                    </a:lnTo>
                    <a:lnTo>
                      <a:pt x="1131" y="48"/>
                    </a:lnTo>
                    <a:lnTo>
                      <a:pt x="1131" y="48"/>
                    </a:lnTo>
                    <a:lnTo>
                      <a:pt x="1127" y="48"/>
                    </a:lnTo>
                    <a:lnTo>
                      <a:pt x="1127" y="48"/>
                    </a:lnTo>
                    <a:lnTo>
                      <a:pt x="1127" y="52"/>
                    </a:lnTo>
                    <a:lnTo>
                      <a:pt x="1124" y="52"/>
                    </a:lnTo>
                    <a:lnTo>
                      <a:pt x="1124" y="52"/>
                    </a:lnTo>
                    <a:lnTo>
                      <a:pt x="1124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9"/>
                    </a:lnTo>
                    <a:lnTo>
                      <a:pt x="1127" y="59"/>
                    </a:lnTo>
                    <a:lnTo>
                      <a:pt x="1131" y="59"/>
                    </a:lnTo>
                    <a:lnTo>
                      <a:pt x="1131" y="66"/>
                    </a:lnTo>
                    <a:lnTo>
                      <a:pt x="1131" y="74"/>
                    </a:lnTo>
                    <a:lnTo>
                      <a:pt x="1131" y="81"/>
                    </a:lnTo>
                    <a:lnTo>
                      <a:pt x="1131" y="88"/>
                    </a:lnTo>
                    <a:lnTo>
                      <a:pt x="1131" y="96"/>
                    </a:lnTo>
                    <a:lnTo>
                      <a:pt x="1131" y="103"/>
                    </a:lnTo>
                    <a:lnTo>
                      <a:pt x="1131" y="110"/>
                    </a:lnTo>
                    <a:lnTo>
                      <a:pt x="1131" y="118"/>
                    </a:lnTo>
                    <a:lnTo>
                      <a:pt x="1131" y="121"/>
                    </a:lnTo>
                    <a:lnTo>
                      <a:pt x="1134" y="129"/>
                    </a:lnTo>
                    <a:lnTo>
                      <a:pt x="1134" y="132"/>
                    </a:lnTo>
                    <a:lnTo>
                      <a:pt x="1137" y="140"/>
                    </a:lnTo>
                    <a:lnTo>
                      <a:pt x="1137" y="143"/>
                    </a:lnTo>
                    <a:lnTo>
                      <a:pt x="1140" y="151"/>
                    </a:lnTo>
                    <a:lnTo>
                      <a:pt x="1143" y="154"/>
                    </a:lnTo>
                    <a:lnTo>
                      <a:pt x="1143" y="158"/>
                    </a:lnTo>
                    <a:lnTo>
                      <a:pt x="1146" y="162"/>
                    </a:lnTo>
                    <a:lnTo>
                      <a:pt x="1146" y="162"/>
                    </a:lnTo>
                    <a:lnTo>
                      <a:pt x="1149" y="165"/>
                    </a:lnTo>
                    <a:lnTo>
                      <a:pt x="1149" y="169"/>
                    </a:lnTo>
                    <a:lnTo>
                      <a:pt x="1152" y="173"/>
                    </a:lnTo>
                    <a:lnTo>
                      <a:pt x="1152" y="176"/>
                    </a:lnTo>
                    <a:lnTo>
                      <a:pt x="1155" y="180"/>
                    </a:lnTo>
                    <a:lnTo>
                      <a:pt x="1158" y="184"/>
                    </a:lnTo>
                    <a:lnTo>
                      <a:pt x="1158" y="191"/>
                    </a:lnTo>
                    <a:lnTo>
                      <a:pt x="1158" y="198"/>
                    </a:lnTo>
                    <a:lnTo>
                      <a:pt x="1162" y="206"/>
                    </a:lnTo>
                    <a:lnTo>
                      <a:pt x="1165" y="209"/>
                    </a:lnTo>
                    <a:lnTo>
                      <a:pt x="1165" y="209"/>
                    </a:lnTo>
                    <a:lnTo>
                      <a:pt x="1168" y="213"/>
                    </a:lnTo>
                    <a:lnTo>
                      <a:pt x="1171" y="213"/>
                    </a:lnTo>
                    <a:lnTo>
                      <a:pt x="1174" y="213"/>
                    </a:lnTo>
                    <a:lnTo>
                      <a:pt x="1180" y="217"/>
                    </a:lnTo>
                    <a:lnTo>
                      <a:pt x="1186" y="217"/>
                    </a:lnTo>
                    <a:lnTo>
                      <a:pt x="1192" y="217"/>
                    </a:lnTo>
                    <a:lnTo>
                      <a:pt x="1199" y="217"/>
                    </a:lnTo>
                    <a:lnTo>
                      <a:pt x="1205" y="213"/>
                    </a:lnTo>
                    <a:lnTo>
                      <a:pt x="1208" y="213"/>
                    </a:lnTo>
                    <a:lnTo>
                      <a:pt x="1214" y="209"/>
                    </a:lnTo>
                    <a:lnTo>
                      <a:pt x="1217" y="209"/>
                    </a:lnTo>
                    <a:lnTo>
                      <a:pt x="1220" y="209"/>
                    </a:lnTo>
                    <a:lnTo>
                      <a:pt x="1223" y="209"/>
                    </a:lnTo>
                    <a:lnTo>
                      <a:pt x="1227" y="213"/>
                    </a:lnTo>
                    <a:lnTo>
                      <a:pt x="1227" y="213"/>
                    </a:lnTo>
                    <a:lnTo>
                      <a:pt x="1230" y="213"/>
                    </a:lnTo>
                    <a:lnTo>
                      <a:pt x="1233" y="213"/>
                    </a:lnTo>
                    <a:lnTo>
                      <a:pt x="1233" y="213"/>
                    </a:lnTo>
                    <a:lnTo>
                      <a:pt x="1236" y="217"/>
                    </a:lnTo>
                    <a:lnTo>
                      <a:pt x="1245" y="209"/>
                    </a:lnTo>
                    <a:lnTo>
                      <a:pt x="1254" y="202"/>
                    </a:lnTo>
                    <a:lnTo>
                      <a:pt x="1264" y="191"/>
                    </a:lnTo>
                    <a:lnTo>
                      <a:pt x="1273" y="180"/>
                    </a:lnTo>
                    <a:lnTo>
                      <a:pt x="1282" y="165"/>
                    </a:lnTo>
                    <a:lnTo>
                      <a:pt x="1288" y="154"/>
                    </a:lnTo>
                    <a:lnTo>
                      <a:pt x="1295" y="140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298" y="121"/>
                    </a:lnTo>
                    <a:lnTo>
                      <a:pt x="1298" y="121"/>
                    </a:lnTo>
                    <a:lnTo>
                      <a:pt x="1295" y="121"/>
                    </a:lnTo>
                    <a:lnTo>
                      <a:pt x="1295" y="118"/>
                    </a:lnTo>
                    <a:lnTo>
                      <a:pt x="1292" y="118"/>
                    </a:lnTo>
                    <a:lnTo>
                      <a:pt x="1292" y="118"/>
                    </a:lnTo>
                    <a:lnTo>
                      <a:pt x="1288" y="118"/>
                    </a:lnTo>
                    <a:lnTo>
                      <a:pt x="1288" y="118"/>
                    </a:lnTo>
                    <a:lnTo>
                      <a:pt x="1285" y="118"/>
                    </a:lnTo>
                    <a:lnTo>
                      <a:pt x="1285" y="118"/>
                    </a:lnTo>
                    <a:lnTo>
                      <a:pt x="1282" y="118"/>
                    </a:lnTo>
                    <a:lnTo>
                      <a:pt x="1282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0"/>
                    </a:lnTo>
                    <a:lnTo>
                      <a:pt x="1276" y="110"/>
                    </a:lnTo>
                    <a:lnTo>
                      <a:pt x="1276" y="107"/>
                    </a:lnTo>
                    <a:lnTo>
                      <a:pt x="1276" y="107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99"/>
                    </a:lnTo>
                    <a:lnTo>
                      <a:pt x="1273" y="99"/>
                    </a:lnTo>
                    <a:lnTo>
                      <a:pt x="1273" y="99"/>
                    </a:lnTo>
                    <a:lnTo>
                      <a:pt x="1273" y="96"/>
                    </a:lnTo>
                    <a:lnTo>
                      <a:pt x="1273" y="103"/>
                    </a:lnTo>
                    <a:lnTo>
                      <a:pt x="1270" y="103"/>
                    </a:lnTo>
                    <a:lnTo>
                      <a:pt x="1267" y="107"/>
                    </a:lnTo>
                    <a:lnTo>
                      <a:pt x="1264" y="107"/>
                    </a:lnTo>
                    <a:lnTo>
                      <a:pt x="1261" y="107"/>
                    </a:lnTo>
                    <a:lnTo>
                      <a:pt x="1258" y="107"/>
                    </a:lnTo>
                    <a:lnTo>
                      <a:pt x="1258" y="110"/>
                    </a:lnTo>
                    <a:lnTo>
                      <a:pt x="1254" y="114"/>
                    </a:lnTo>
                    <a:lnTo>
                      <a:pt x="1251" y="121"/>
                    </a:lnTo>
                    <a:lnTo>
                      <a:pt x="1248" y="125"/>
                    </a:lnTo>
                    <a:lnTo>
                      <a:pt x="1245" y="132"/>
                    </a:lnTo>
                    <a:lnTo>
                      <a:pt x="1242" y="136"/>
                    </a:lnTo>
                    <a:lnTo>
                      <a:pt x="1239" y="140"/>
                    </a:lnTo>
                    <a:lnTo>
                      <a:pt x="1236" y="143"/>
                    </a:lnTo>
                    <a:lnTo>
                      <a:pt x="1233" y="147"/>
                    </a:lnTo>
                    <a:lnTo>
                      <a:pt x="1230" y="147"/>
                    </a:lnTo>
                    <a:lnTo>
                      <a:pt x="1230" y="151"/>
                    </a:lnTo>
                    <a:lnTo>
                      <a:pt x="1230" y="154"/>
                    </a:lnTo>
                    <a:lnTo>
                      <a:pt x="1230" y="162"/>
                    </a:lnTo>
                    <a:lnTo>
                      <a:pt x="1230" y="165"/>
                    </a:lnTo>
                    <a:lnTo>
                      <a:pt x="1233" y="169"/>
                    </a:lnTo>
                    <a:lnTo>
                      <a:pt x="1236" y="173"/>
                    </a:lnTo>
                    <a:lnTo>
                      <a:pt x="1239" y="176"/>
                    </a:lnTo>
                    <a:lnTo>
                      <a:pt x="1245" y="176"/>
                    </a:lnTo>
                    <a:lnTo>
                      <a:pt x="1245" y="180"/>
                    </a:lnTo>
                    <a:lnTo>
                      <a:pt x="1239" y="184"/>
                    </a:lnTo>
                    <a:lnTo>
                      <a:pt x="1236" y="187"/>
                    </a:lnTo>
                    <a:lnTo>
                      <a:pt x="1233" y="191"/>
                    </a:lnTo>
                    <a:lnTo>
                      <a:pt x="1227" y="191"/>
                    </a:lnTo>
                    <a:lnTo>
                      <a:pt x="1223" y="195"/>
                    </a:lnTo>
                    <a:lnTo>
                      <a:pt x="1220" y="198"/>
                    </a:lnTo>
                    <a:lnTo>
                      <a:pt x="1217" y="202"/>
                    </a:lnTo>
                    <a:lnTo>
                      <a:pt x="1208" y="209"/>
                    </a:lnTo>
                    <a:lnTo>
                      <a:pt x="1199" y="213"/>
                    </a:lnTo>
                    <a:lnTo>
                      <a:pt x="1189" y="213"/>
                    </a:lnTo>
                    <a:lnTo>
                      <a:pt x="1180" y="209"/>
                    </a:lnTo>
                    <a:lnTo>
                      <a:pt x="1171" y="206"/>
                    </a:lnTo>
                    <a:lnTo>
                      <a:pt x="1165" y="198"/>
                    </a:lnTo>
                    <a:lnTo>
                      <a:pt x="1162" y="187"/>
                    </a:lnTo>
                    <a:lnTo>
                      <a:pt x="1158" y="173"/>
                    </a:lnTo>
                    <a:lnTo>
                      <a:pt x="1162" y="173"/>
                    </a:lnTo>
                    <a:lnTo>
                      <a:pt x="1162" y="173"/>
                    </a:lnTo>
                    <a:lnTo>
                      <a:pt x="1165" y="176"/>
                    </a:lnTo>
                    <a:lnTo>
                      <a:pt x="1168" y="176"/>
                    </a:lnTo>
                    <a:lnTo>
                      <a:pt x="1171" y="180"/>
                    </a:lnTo>
                    <a:lnTo>
                      <a:pt x="1174" y="180"/>
                    </a:lnTo>
                    <a:lnTo>
                      <a:pt x="1177" y="180"/>
                    </a:lnTo>
                    <a:lnTo>
                      <a:pt x="1177" y="180"/>
                    </a:lnTo>
                    <a:lnTo>
                      <a:pt x="1180" y="180"/>
                    </a:lnTo>
                    <a:lnTo>
                      <a:pt x="1180" y="180"/>
                    </a:lnTo>
                    <a:lnTo>
                      <a:pt x="1180" y="176"/>
                    </a:lnTo>
                    <a:lnTo>
                      <a:pt x="1177" y="176"/>
                    </a:lnTo>
                    <a:lnTo>
                      <a:pt x="1177" y="176"/>
                    </a:lnTo>
                    <a:lnTo>
                      <a:pt x="1177" y="173"/>
                    </a:lnTo>
                    <a:lnTo>
                      <a:pt x="1177" y="173"/>
                    </a:lnTo>
                    <a:lnTo>
                      <a:pt x="1180" y="173"/>
                    </a:lnTo>
                    <a:lnTo>
                      <a:pt x="1183" y="173"/>
                    </a:lnTo>
                    <a:lnTo>
                      <a:pt x="1186" y="173"/>
                    </a:lnTo>
                    <a:lnTo>
                      <a:pt x="1189" y="173"/>
                    </a:lnTo>
                    <a:lnTo>
                      <a:pt x="1192" y="173"/>
                    </a:lnTo>
                    <a:lnTo>
                      <a:pt x="1192" y="173"/>
                    </a:lnTo>
                    <a:lnTo>
                      <a:pt x="1196" y="169"/>
                    </a:lnTo>
                    <a:lnTo>
                      <a:pt x="1199" y="169"/>
                    </a:lnTo>
                    <a:lnTo>
                      <a:pt x="1202" y="165"/>
                    </a:lnTo>
                    <a:lnTo>
                      <a:pt x="1199" y="169"/>
                    </a:lnTo>
                    <a:lnTo>
                      <a:pt x="1196" y="169"/>
                    </a:lnTo>
                    <a:lnTo>
                      <a:pt x="1192" y="169"/>
                    </a:lnTo>
                    <a:lnTo>
                      <a:pt x="1189" y="169"/>
                    </a:lnTo>
                    <a:lnTo>
                      <a:pt x="1186" y="169"/>
                    </a:lnTo>
                    <a:lnTo>
                      <a:pt x="1183" y="165"/>
                    </a:lnTo>
                    <a:lnTo>
                      <a:pt x="1183" y="165"/>
                    </a:lnTo>
                    <a:lnTo>
                      <a:pt x="1180" y="165"/>
                    </a:lnTo>
                    <a:lnTo>
                      <a:pt x="1177" y="162"/>
                    </a:lnTo>
                    <a:lnTo>
                      <a:pt x="1174" y="162"/>
                    </a:lnTo>
                    <a:lnTo>
                      <a:pt x="1174" y="162"/>
                    </a:lnTo>
                    <a:lnTo>
                      <a:pt x="1171" y="162"/>
                    </a:lnTo>
                    <a:lnTo>
                      <a:pt x="1171" y="162"/>
                    </a:lnTo>
                    <a:lnTo>
                      <a:pt x="1168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58"/>
                    </a:lnTo>
                    <a:lnTo>
                      <a:pt x="1168" y="158"/>
                    </a:lnTo>
                    <a:lnTo>
                      <a:pt x="1168" y="154"/>
                    </a:lnTo>
                    <a:lnTo>
                      <a:pt x="1168" y="151"/>
                    </a:lnTo>
                    <a:lnTo>
                      <a:pt x="1171" y="151"/>
                    </a:lnTo>
                    <a:lnTo>
                      <a:pt x="1171" y="147"/>
                    </a:lnTo>
                    <a:lnTo>
                      <a:pt x="1171" y="147"/>
                    </a:lnTo>
                    <a:lnTo>
                      <a:pt x="1171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7" y="143"/>
                    </a:lnTo>
                    <a:lnTo>
                      <a:pt x="1177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0"/>
                    </a:lnTo>
                    <a:lnTo>
                      <a:pt x="1180" y="136"/>
                    </a:lnTo>
                    <a:lnTo>
                      <a:pt x="1180" y="136"/>
                    </a:lnTo>
                    <a:lnTo>
                      <a:pt x="1180" y="132"/>
                    </a:lnTo>
                    <a:lnTo>
                      <a:pt x="1180" y="129"/>
                    </a:lnTo>
                    <a:lnTo>
                      <a:pt x="1180" y="132"/>
                    </a:lnTo>
                    <a:lnTo>
                      <a:pt x="1180" y="132"/>
                    </a:lnTo>
                    <a:lnTo>
                      <a:pt x="1180" y="136"/>
                    </a:lnTo>
                    <a:lnTo>
                      <a:pt x="1177" y="136"/>
                    </a:lnTo>
                    <a:lnTo>
                      <a:pt x="1174" y="136"/>
                    </a:lnTo>
                    <a:lnTo>
                      <a:pt x="1171" y="136"/>
                    </a:lnTo>
                    <a:lnTo>
                      <a:pt x="1168" y="136"/>
                    </a:lnTo>
                    <a:lnTo>
                      <a:pt x="1165" y="140"/>
                    </a:lnTo>
                    <a:lnTo>
                      <a:pt x="1162" y="140"/>
                    </a:lnTo>
                    <a:lnTo>
                      <a:pt x="1158" y="143"/>
                    </a:lnTo>
                    <a:lnTo>
                      <a:pt x="1158" y="143"/>
                    </a:lnTo>
                    <a:lnTo>
                      <a:pt x="1155" y="143"/>
                    </a:lnTo>
                    <a:lnTo>
                      <a:pt x="1152" y="143"/>
                    </a:lnTo>
                    <a:lnTo>
                      <a:pt x="1149" y="143"/>
                    </a:lnTo>
                    <a:lnTo>
                      <a:pt x="1146" y="143"/>
                    </a:lnTo>
                    <a:lnTo>
                      <a:pt x="1143" y="143"/>
                    </a:lnTo>
                    <a:lnTo>
                      <a:pt x="1140" y="140"/>
                    </a:lnTo>
                    <a:lnTo>
                      <a:pt x="1140" y="136"/>
                    </a:lnTo>
                    <a:lnTo>
                      <a:pt x="1140" y="132"/>
                    </a:lnTo>
                    <a:lnTo>
                      <a:pt x="1143" y="129"/>
                    </a:lnTo>
                    <a:lnTo>
                      <a:pt x="1143" y="125"/>
                    </a:lnTo>
                    <a:lnTo>
                      <a:pt x="1146" y="125"/>
                    </a:lnTo>
                    <a:lnTo>
                      <a:pt x="1146" y="121"/>
                    </a:lnTo>
                    <a:lnTo>
                      <a:pt x="1149" y="118"/>
                    </a:lnTo>
                    <a:lnTo>
                      <a:pt x="1149" y="114"/>
                    </a:lnTo>
                    <a:lnTo>
                      <a:pt x="1152" y="107"/>
                    </a:lnTo>
                    <a:lnTo>
                      <a:pt x="1149" y="110"/>
                    </a:lnTo>
                    <a:lnTo>
                      <a:pt x="1149" y="114"/>
                    </a:lnTo>
                    <a:lnTo>
                      <a:pt x="1146" y="118"/>
                    </a:lnTo>
                    <a:lnTo>
                      <a:pt x="1143" y="121"/>
                    </a:lnTo>
                    <a:lnTo>
                      <a:pt x="1143" y="125"/>
                    </a:lnTo>
                    <a:lnTo>
                      <a:pt x="1140" y="129"/>
                    </a:lnTo>
                    <a:lnTo>
                      <a:pt x="1140" y="132"/>
                    </a:lnTo>
                    <a:lnTo>
                      <a:pt x="1137" y="132"/>
                    </a:lnTo>
                    <a:lnTo>
                      <a:pt x="1134" y="129"/>
                    </a:lnTo>
                    <a:lnTo>
                      <a:pt x="1134" y="121"/>
                    </a:lnTo>
                    <a:lnTo>
                      <a:pt x="1134" y="114"/>
                    </a:lnTo>
                    <a:lnTo>
                      <a:pt x="1131" y="107"/>
                    </a:lnTo>
                    <a:lnTo>
                      <a:pt x="1131" y="99"/>
                    </a:lnTo>
                    <a:lnTo>
                      <a:pt x="1131" y="92"/>
                    </a:lnTo>
                    <a:lnTo>
                      <a:pt x="1131" y="81"/>
                    </a:lnTo>
                    <a:lnTo>
                      <a:pt x="1131" y="74"/>
                    </a:lnTo>
                    <a:lnTo>
                      <a:pt x="1131" y="77"/>
                    </a:lnTo>
                    <a:lnTo>
                      <a:pt x="1134" y="81"/>
                    </a:lnTo>
                    <a:lnTo>
                      <a:pt x="1137" y="85"/>
                    </a:lnTo>
                    <a:lnTo>
                      <a:pt x="1140" y="85"/>
                    </a:lnTo>
                    <a:lnTo>
                      <a:pt x="1143" y="88"/>
                    </a:lnTo>
                    <a:lnTo>
                      <a:pt x="1149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5" y="88"/>
                    </a:lnTo>
                    <a:lnTo>
                      <a:pt x="1158" y="88"/>
                    </a:lnTo>
                    <a:lnTo>
                      <a:pt x="1158" y="85"/>
                    </a:lnTo>
                    <a:lnTo>
                      <a:pt x="1158" y="85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62" y="81"/>
                    </a:lnTo>
                    <a:lnTo>
                      <a:pt x="1165" y="81"/>
                    </a:lnTo>
                    <a:lnTo>
                      <a:pt x="1168" y="85"/>
                    </a:lnTo>
                    <a:lnTo>
                      <a:pt x="1168" y="88"/>
                    </a:lnTo>
                    <a:lnTo>
                      <a:pt x="1171" y="92"/>
                    </a:lnTo>
                    <a:lnTo>
                      <a:pt x="1174" y="92"/>
                    </a:lnTo>
                    <a:lnTo>
                      <a:pt x="1177" y="96"/>
                    </a:lnTo>
                    <a:lnTo>
                      <a:pt x="1180" y="99"/>
                    </a:lnTo>
                    <a:lnTo>
                      <a:pt x="1186" y="99"/>
                    </a:lnTo>
                    <a:lnTo>
                      <a:pt x="1186" y="99"/>
                    </a:lnTo>
                    <a:lnTo>
                      <a:pt x="1189" y="103"/>
                    </a:lnTo>
                    <a:lnTo>
                      <a:pt x="1192" y="103"/>
                    </a:lnTo>
                    <a:lnTo>
                      <a:pt x="1196" y="107"/>
                    </a:lnTo>
                    <a:lnTo>
                      <a:pt x="1196" y="107"/>
                    </a:lnTo>
                    <a:lnTo>
                      <a:pt x="1199" y="110"/>
                    </a:lnTo>
                    <a:lnTo>
                      <a:pt x="1202" y="110"/>
                    </a:lnTo>
                    <a:lnTo>
                      <a:pt x="1202" y="110"/>
                    </a:lnTo>
                    <a:lnTo>
                      <a:pt x="1199" y="107"/>
                    </a:lnTo>
                    <a:lnTo>
                      <a:pt x="1199" y="107"/>
                    </a:lnTo>
                    <a:lnTo>
                      <a:pt x="1196" y="103"/>
                    </a:lnTo>
                    <a:lnTo>
                      <a:pt x="1192" y="103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6" y="99"/>
                    </a:lnTo>
                    <a:lnTo>
                      <a:pt x="1199" y="99"/>
                    </a:lnTo>
                    <a:lnTo>
                      <a:pt x="1205" y="99"/>
                    </a:lnTo>
                    <a:lnTo>
                      <a:pt x="1214" y="96"/>
                    </a:lnTo>
                    <a:lnTo>
                      <a:pt x="1223" y="96"/>
                    </a:lnTo>
                    <a:lnTo>
                      <a:pt x="1230" y="96"/>
                    </a:lnTo>
                    <a:lnTo>
                      <a:pt x="1236" y="96"/>
                    </a:lnTo>
                    <a:lnTo>
                      <a:pt x="1242" y="96"/>
                    </a:lnTo>
                    <a:lnTo>
                      <a:pt x="1242" y="96"/>
                    </a:lnTo>
                    <a:lnTo>
                      <a:pt x="1236" y="92"/>
                    </a:lnTo>
                    <a:lnTo>
                      <a:pt x="1230" y="88"/>
                    </a:lnTo>
                    <a:lnTo>
                      <a:pt x="1223" y="85"/>
                    </a:lnTo>
                    <a:lnTo>
                      <a:pt x="1217" y="81"/>
                    </a:lnTo>
                    <a:lnTo>
                      <a:pt x="1211" y="81"/>
                    </a:lnTo>
                    <a:lnTo>
                      <a:pt x="1205" y="77"/>
                    </a:lnTo>
                    <a:lnTo>
                      <a:pt x="1199" y="77"/>
                    </a:lnTo>
                    <a:lnTo>
                      <a:pt x="1196" y="74"/>
                    </a:lnTo>
                    <a:lnTo>
                      <a:pt x="1189" y="74"/>
                    </a:lnTo>
                    <a:lnTo>
                      <a:pt x="1186" y="74"/>
                    </a:lnTo>
                    <a:lnTo>
                      <a:pt x="1180" y="74"/>
                    </a:lnTo>
                    <a:lnTo>
                      <a:pt x="1177" y="74"/>
                    </a:lnTo>
                    <a:lnTo>
                      <a:pt x="1174" y="77"/>
                    </a:lnTo>
                    <a:lnTo>
                      <a:pt x="1168" y="77"/>
                    </a:lnTo>
                    <a:lnTo>
                      <a:pt x="1168" y="77"/>
                    </a:lnTo>
                    <a:lnTo>
                      <a:pt x="1165" y="81"/>
                    </a:lnTo>
                    <a:lnTo>
                      <a:pt x="1162" y="81"/>
                    </a:lnTo>
                    <a:lnTo>
                      <a:pt x="1162" y="81"/>
                    </a:lnTo>
                    <a:lnTo>
                      <a:pt x="1158" y="77"/>
                    </a:lnTo>
                    <a:lnTo>
                      <a:pt x="1155" y="74"/>
                    </a:lnTo>
                    <a:lnTo>
                      <a:pt x="1152" y="70"/>
                    </a:lnTo>
                    <a:lnTo>
                      <a:pt x="1149" y="63"/>
                    </a:lnTo>
                    <a:lnTo>
                      <a:pt x="1143" y="55"/>
                    </a:lnTo>
                    <a:lnTo>
                      <a:pt x="1134" y="44"/>
                    </a:lnTo>
                    <a:close/>
                    <a:moveTo>
                      <a:pt x="1744" y="114"/>
                    </a:moveTo>
                    <a:lnTo>
                      <a:pt x="1744" y="118"/>
                    </a:lnTo>
                    <a:lnTo>
                      <a:pt x="1744" y="118"/>
                    </a:lnTo>
                    <a:lnTo>
                      <a:pt x="1744" y="121"/>
                    </a:lnTo>
                    <a:lnTo>
                      <a:pt x="1741" y="121"/>
                    </a:lnTo>
                    <a:lnTo>
                      <a:pt x="1741" y="125"/>
                    </a:lnTo>
                    <a:lnTo>
                      <a:pt x="1741" y="125"/>
                    </a:lnTo>
                    <a:lnTo>
                      <a:pt x="1738" y="129"/>
                    </a:lnTo>
                    <a:lnTo>
                      <a:pt x="1738" y="132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1" y="118"/>
                    </a:lnTo>
                    <a:lnTo>
                      <a:pt x="1731" y="118"/>
                    </a:lnTo>
                    <a:lnTo>
                      <a:pt x="1728" y="118"/>
                    </a:lnTo>
                    <a:lnTo>
                      <a:pt x="1728" y="114"/>
                    </a:lnTo>
                    <a:lnTo>
                      <a:pt x="1725" y="114"/>
                    </a:lnTo>
                    <a:lnTo>
                      <a:pt x="1725" y="114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31" y="103"/>
                    </a:lnTo>
                    <a:lnTo>
                      <a:pt x="1728" y="103"/>
                    </a:lnTo>
                    <a:lnTo>
                      <a:pt x="1728" y="99"/>
                    </a:lnTo>
                    <a:lnTo>
                      <a:pt x="1728" y="99"/>
                    </a:lnTo>
                    <a:lnTo>
                      <a:pt x="1725" y="96"/>
                    </a:lnTo>
                    <a:lnTo>
                      <a:pt x="1725" y="92"/>
                    </a:lnTo>
                    <a:lnTo>
                      <a:pt x="1725" y="92"/>
                    </a:lnTo>
                    <a:lnTo>
                      <a:pt x="1722" y="88"/>
                    </a:lnTo>
                    <a:lnTo>
                      <a:pt x="1722" y="88"/>
                    </a:lnTo>
                    <a:lnTo>
                      <a:pt x="1725" y="92"/>
                    </a:lnTo>
                    <a:lnTo>
                      <a:pt x="1728" y="92"/>
                    </a:lnTo>
                    <a:lnTo>
                      <a:pt x="1731" y="96"/>
                    </a:lnTo>
                    <a:lnTo>
                      <a:pt x="1734" y="99"/>
                    </a:lnTo>
                    <a:lnTo>
                      <a:pt x="1738" y="103"/>
                    </a:lnTo>
                    <a:lnTo>
                      <a:pt x="1741" y="107"/>
                    </a:lnTo>
                    <a:lnTo>
                      <a:pt x="1741" y="110"/>
                    </a:lnTo>
                    <a:lnTo>
                      <a:pt x="1744" y="114"/>
                    </a:lnTo>
                    <a:close/>
                    <a:moveTo>
                      <a:pt x="1824" y="176"/>
                    </a:moveTo>
                    <a:lnTo>
                      <a:pt x="1827" y="176"/>
                    </a:lnTo>
                    <a:lnTo>
                      <a:pt x="1830" y="176"/>
                    </a:lnTo>
                    <a:lnTo>
                      <a:pt x="1834" y="176"/>
                    </a:lnTo>
                    <a:lnTo>
                      <a:pt x="1837" y="176"/>
                    </a:lnTo>
                    <a:lnTo>
                      <a:pt x="1840" y="173"/>
                    </a:lnTo>
                    <a:lnTo>
                      <a:pt x="1840" y="173"/>
                    </a:lnTo>
                    <a:lnTo>
                      <a:pt x="1843" y="169"/>
                    </a:lnTo>
                    <a:lnTo>
                      <a:pt x="1846" y="165"/>
                    </a:lnTo>
                    <a:lnTo>
                      <a:pt x="1852" y="165"/>
                    </a:lnTo>
                    <a:lnTo>
                      <a:pt x="1861" y="169"/>
                    </a:lnTo>
                    <a:lnTo>
                      <a:pt x="1868" y="169"/>
                    </a:lnTo>
                    <a:lnTo>
                      <a:pt x="1874" y="169"/>
                    </a:lnTo>
                    <a:lnTo>
                      <a:pt x="1880" y="173"/>
                    </a:lnTo>
                    <a:lnTo>
                      <a:pt x="1886" y="176"/>
                    </a:lnTo>
                    <a:lnTo>
                      <a:pt x="1892" y="180"/>
                    </a:lnTo>
                    <a:lnTo>
                      <a:pt x="1899" y="187"/>
                    </a:lnTo>
                    <a:lnTo>
                      <a:pt x="1902" y="187"/>
                    </a:lnTo>
                    <a:lnTo>
                      <a:pt x="1905" y="187"/>
                    </a:lnTo>
                    <a:lnTo>
                      <a:pt x="1911" y="191"/>
                    </a:lnTo>
                    <a:lnTo>
                      <a:pt x="1914" y="191"/>
                    </a:lnTo>
                    <a:lnTo>
                      <a:pt x="1917" y="195"/>
                    </a:lnTo>
                    <a:lnTo>
                      <a:pt x="1920" y="195"/>
                    </a:lnTo>
                    <a:lnTo>
                      <a:pt x="1923" y="198"/>
                    </a:lnTo>
                    <a:lnTo>
                      <a:pt x="1926" y="198"/>
                    </a:lnTo>
                    <a:lnTo>
                      <a:pt x="1926" y="231"/>
                    </a:lnTo>
                    <a:lnTo>
                      <a:pt x="1917" y="235"/>
                    </a:lnTo>
                    <a:lnTo>
                      <a:pt x="1908" y="242"/>
                    </a:lnTo>
                    <a:lnTo>
                      <a:pt x="1899" y="250"/>
                    </a:lnTo>
                    <a:lnTo>
                      <a:pt x="1889" y="257"/>
                    </a:lnTo>
                    <a:lnTo>
                      <a:pt x="1880" y="264"/>
                    </a:lnTo>
                    <a:lnTo>
                      <a:pt x="1871" y="275"/>
                    </a:lnTo>
                    <a:lnTo>
                      <a:pt x="1861" y="286"/>
                    </a:lnTo>
                    <a:lnTo>
                      <a:pt x="1855" y="297"/>
                    </a:lnTo>
                    <a:lnTo>
                      <a:pt x="1852" y="294"/>
                    </a:lnTo>
                    <a:lnTo>
                      <a:pt x="1849" y="286"/>
                    </a:lnTo>
                    <a:lnTo>
                      <a:pt x="1846" y="283"/>
                    </a:lnTo>
                    <a:lnTo>
                      <a:pt x="1843" y="275"/>
                    </a:lnTo>
                    <a:lnTo>
                      <a:pt x="1840" y="268"/>
                    </a:lnTo>
                    <a:lnTo>
                      <a:pt x="1834" y="264"/>
                    </a:lnTo>
                    <a:lnTo>
                      <a:pt x="1830" y="257"/>
                    </a:lnTo>
                    <a:lnTo>
                      <a:pt x="1827" y="253"/>
                    </a:lnTo>
                    <a:lnTo>
                      <a:pt x="1824" y="253"/>
                    </a:lnTo>
                    <a:lnTo>
                      <a:pt x="1824" y="253"/>
                    </a:lnTo>
                    <a:lnTo>
                      <a:pt x="1821" y="250"/>
                    </a:lnTo>
                    <a:lnTo>
                      <a:pt x="1821" y="250"/>
                    </a:lnTo>
                    <a:lnTo>
                      <a:pt x="1818" y="250"/>
                    </a:lnTo>
                    <a:lnTo>
                      <a:pt x="1818" y="250"/>
                    </a:lnTo>
                    <a:lnTo>
                      <a:pt x="1815" y="250"/>
                    </a:lnTo>
                    <a:lnTo>
                      <a:pt x="1815" y="250"/>
                    </a:lnTo>
                    <a:lnTo>
                      <a:pt x="1812" y="250"/>
                    </a:lnTo>
                    <a:lnTo>
                      <a:pt x="1809" y="250"/>
                    </a:lnTo>
                    <a:lnTo>
                      <a:pt x="1806" y="250"/>
                    </a:lnTo>
                    <a:lnTo>
                      <a:pt x="1803" y="253"/>
                    </a:lnTo>
                    <a:lnTo>
                      <a:pt x="1799" y="253"/>
                    </a:lnTo>
                    <a:lnTo>
                      <a:pt x="1796" y="253"/>
                    </a:lnTo>
                    <a:lnTo>
                      <a:pt x="1790" y="257"/>
                    </a:lnTo>
                    <a:lnTo>
                      <a:pt x="1787" y="257"/>
                    </a:lnTo>
                    <a:lnTo>
                      <a:pt x="1796" y="250"/>
                    </a:lnTo>
                    <a:lnTo>
                      <a:pt x="1806" y="239"/>
                    </a:lnTo>
                    <a:lnTo>
                      <a:pt x="1815" y="228"/>
                    </a:lnTo>
                    <a:lnTo>
                      <a:pt x="1818" y="217"/>
                    </a:lnTo>
                    <a:lnTo>
                      <a:pt x="1824" y="206"/>
                    </a:lnTo>
                    <a:lnTo>
                      <a:pt x="1824" y="195"/>
                    </a:lnTo>
                    <a:lnTo>
                      <a:pt x="1827" y="184"/>
                    </a:lnTo>
                    <a:lnTo>
                      <a:pt x="1824" y="176"/>
                    </a:lnTo>
                    <a:close/>
                    <a:moveTo>
                      <a:pt x="202" y="26"/>
                    </a:moveTo>
                    <a:lnTo>
                      <a:pt x="208" y="22"/>
                    </a:lnTo>
                    <a:lnTo>
                      <a:pt x="214" y="22"/>
                    </a:lnTo>
                    <a:lnTo>
                      <a:pt x="220" y="19"/>
                    </a:lnTo>
                    <a:lnTo>
                      <a:pt x="226" y="15"/>
                    </a:lnTo>
                    <a:lnTo>
                      <a:pt x="232" y="11"/>
                    </a:lnTo>
                    <a:lnTo>
                      <a:pt x="239" y="8"/>
                    </a:lnTo>
                    <a:lnTo>
                      <a:pt x="245" y="4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8" y="4"/>
                    </a:lnTo>
                    <a:lnTo>
                      <a:pt x="248" y="4"/>
                    </a:lnTo>
                    <a:lnTo>
                      <a:pt x="248" y="8"/>
                    </a:lnTo>
                    <a:lnTo>
                      <a:pt x="245" y="8"/>
                    </a:lnTo>
                    <a:lnTo>
                      <a:pt x="245" y="11"/>
                    </a:lnTo>
                    <a:lnTo>
                      <a:pt x="245" y="15"/>
                    </a:lnTo>
                    <a:lnTo>
                      <a:pt x="242" y="15"/>
                    </a:lnTo>
                    <a:lnTo>
                      <a:pt x="242" y="19"/>
                    </a:lnTo>
                    <a:lnTo>
                      <a:pt x="242" y="22"/>
                    </a:lnTo>
                    <a:lnTo>
                      <a:pt x="239" y="22"/>
                    </a:lnTo>
                    <a:lnTo>
                      <a:pt x="236" y="26"/>
                    </a:lnTo>
                    <a:lnTo>
                      <a:pt x="232" y="30"/>
                    </a:lnTo>
                    <a:lnTo>
                      <a:pt x="232" y="33"/>
                    </a:lnTo>
                    <a:lnTo>
                      <a:pt x="229" y="37"/>
                    </a:lnTo>
                    <a:lnTo>
                      <a:pt x="229" y="37"/>
                    </a:lnTo>
                    <a:lnTo>
                      <a:pt x="226" y="48"/>
                    </a:lnTo>
                    <a:lnTo>
                      <a:pt x="226" y="52"/>
                    </a:lnTo>
                    <a:lnTo>
                      <a:pt x="223" y="52"/>
                    </a:lnTo>
                    <a:lnTo>
                      <a:pt x="217" y="48"/>
                    </a:lnTo>
                    <a:lnTo>
                      <a:pt x="214" y="41"/>
                    </a:lnTo>
                    <a:lnTo>
                      <a:pt x="211" y="37"/>
                    </a:lnTo>
                    <a:lnTo>
                      <a:pt x="208" y="30"/>
                    </a:lnTo>
                    <a:lnTo>
                      <a:pt x="202" y="26"/>
                    </a:lnTo>
                    <a:close/>
                    <a:moveTo>
                      <a:pt x="239" y="77"/>
                    </a:moveTo>
                    <a:lnTo>
                      <a:pt x="236" y="88"/>
                    </a:lnTo>
                    <a:lnTo>
                      <a:pt x="236" y="92"/>
                    </a:lnTo>
                    <a:lnTo>
                      <a:pt x="239" y="99"/>
                    </a:lnTo>
                    <a:lnTo>
                      <a:pt x="242" y="99"/>
                    </a:lnTo>
                    <a:lnTo>
                      <a:pt x="248" y="99"/>
                    </a:lnTo>
                    <a:lnTo>
                      <a:pt x="254" y="99"/>
                    </a:lnTo>
                    <a:lnTo>
                      <a:pt x="257" y="99"/>
                    </a:lnTo>
                    <a:lnTo>
                      <a:pt x="263" y="99"/>
                    </a:lnTo>
                    <a:lnTo>
                      <a:pt x="260" y="99"/>
                    </a:lnTo>
                    <a:lnTo>
                      <a:pt x="257" y="99"/>
                    </a:lnTo>
                    <a:lnTo>
                      <a:pt x="254" y="99"/>
                    </a:lnTo>
                    <a:lnTo>
                      <a:pt x="251" y="103"/>
                    </a:lnTo>
                    <a:lnTo>
                      <a:pt x="248" y="103"/>
                    </a:lnTo>
                    <a:lnTo>
                      <a:pt x="245" y="103"/>
                    </a:lnTo>
                    <a:lnTo>
                      <a:pt x="242" y="103"/>
                    </a:lnTo>
                    <a:lnTo>
                      <a:pt x="239" y="103"/>
                    </a:lnTo>
                    <a:lnTo>
                      <a:pt x="236" y="103"/>
                    </a:lnTo>
                    <a:lnTo>
                      <a:pt x="236" y="103"/>
                    </a:lnTo>
                    <a:lnTo>
                      <a:pt x="232" y="99"/>
                    </a:lnTo>
                    <a:lnTo>
                      <a:pt x="232" y="96"/>
                    </a:lnTo>
                    <a:lnTo>
                      <a:pt x="232" y="92"/>
                    </a:lnTo>
                    <a:lnTo>
                      <a:pt x="232" y="88"/>
                    </a:lnTo>
                    <a:lnTo>
                      <a:pt x="236" y="81"/>
                    </a:lnTo>
                    <a:lnTo>
                      <a:pt x="239" y="77"/>
                    </a:lnTo>
                    <a:close/>
                    <a:moveTo>
                      <a:pt x="226" y="125"/>
                    </a:moveTo>
                    <a:lnTo>
                      <a:pt x="229" y="125"/>
                    </a:lnTo>
                    <a:lnTo>
                      <a:pt x="229" y="125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6" y="125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39" y="129"/>
                    </a:lnTo>
                    <a:lnTo>
                      <a:pt x="236" y="129"/>
                    </a:lnTo>
                    <a:lnTo>
                      <a:pt x="232" y="132"/>
                    </a:lnTo>
                    <a:lnTo>
                      <a:pt x="229" y="132"/>
                    </a:lnTo>
                    <a:lnTo>
                      <a:pt x="226" y="132"/>
                    </a:lnTo>
                    <a:lnTo>
                      <a:pt x="223" y="132"/>
                    </a:lnTo>
                    <a:lnTo>
                      <a:pt x="220" y="136"/>
                    </a:lnTo>
                    <a:lnTo>
                      <a:pt x="217" y="136"/>
                    </a:lnTo>
                    <a:lnTo>
                      <a:pt x="214" y="140"/>
                    </a:lnTo>
                    <a:lnTo>
                      <a:pt x="217" y="136"/>
                    </a:lnTo>
                    <a:lnTo>
                      <a:pt x="217" y="132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23" y="129"/>
                    </a:lnTo>
                    <a:lnTo>
                      <a:pt x="223" y="129"/>
                    </a:lnTo>
                    <a:lnTo>
                      <a:pt x="226" y="129"/>
                    </a:lnTo>
                    <a:lnTo>
                      <a:pt x="226" y="125"/>
                    </a:lnTo>
                    <a:close/>
                    <a:moveTo>
                      <a:pt x="59" y="213"/>
                    </a:moveTo>
                    <a:lnTo>
                      <a:pt x="59" y="198"/>
                    </a:lnTo>
                    <a:lnTo>
                      <a:pt x="62" y="187"/>
                    </a:lnTo>
                    <a:lnTo>
                      <a:pt x="62" y="176"/>
                    </a:lnTo>
                    <a:lnTo>
                      <a:pt x="62" y="165"/>
                    </a:lnTo>
                    <a:lnTo>
                      <a:pt x="62" y="158"/>
                    </a:lnTo>
                    <a:lnTo>
                      <a:pt x="62" y="147"/>
                    </a:lnTo>
                    <a:lnTo>
                      <a:pt x="68" y="136"/>
                    </a:lnTo>
                    <a:lnTo>
                      <a:pt x="75" y="125"/>
                    </a:lnTo>
                    <a:lnTo>
                      <a:pt x="81" y="136"/>
                    </a:lnTo>
                    <a:lnTo>
                      <a:pt x="84" y="147"/>
                    </a:lnTo>
                    <a:lnTo>
                      <a:pt x="87" y="158"/>
                    </a:lnTo>
                    <a:lnTo>
                      <a:pt x="90" y="165"/>
                    </a:lnTo>
                    <a:lnTo>
                      <a:pt x="90" y="176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3" y="206"/>
                    </a:lnTo>
                    <a:lnTo>
                      <a:pt x="96" y="209"/>
                    </a:lnTo>
                    <a:lnTo>
                      <a:pt x="102" y="213"/>
                    </a:lnTo>
                    <a:lnTo>
                      <a:pt x="106" y="217"/>
                    </a:lnTo>
                    <a:lnTo>
                      <a:pt x="112" y="217"/>
                    </a:lnTo>
                    <a:lnTo>
                      <a:pt x="115" y="220"/>
                    </a:lnTo>
                    <a:lnTo>
                      <a:pt x="118" y="228"/>
                    </a:lnTo>
                    <a:lnTo>
                      <a:pt x="124" y="231"/>
                    </a:lnTo>
                    <a:lnTo>
                      <a:pt x="124" y="239"/>
                    </a:lnTo>
                    <a:lnTo>
                      <a:pt x="127" y="239"/>
                    </a:lnTo>
                    <a:lnTo>
                      <a:pt x="127" y="235"/>
                    </a:lnTo>
                    <a:lnTo>
                      <a:pt x="127" y="231"/>
                    </a:lnTo>
                    <a:lnTo>
                      <a:pt x="130" y="228"/>
                    </a:lnTo>
                    <a:lnTo>
                      <a:pt x="130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3" y="213"/>
                    </a:lnTo>
                    <a:lnTo>
                      <a:pt x="143" y="213"/>
                    </a:lnTo>
                    <a:lnTo>
                      <a:pt x="152" y="217"/>
                    </a:lnTo>
                    <a:lnTo>
                      <a:pt x="161" y="217"/>
                    </a:lnTo>
                    <a:lnTo>
                      <a:pt x="167" y="217"/>
                    </a:lnTo>
                    <a:lnTo>
                      <a:pt x="177" y="220"/>
                    </a:lnTo>
                    <a:lnTo>
                      <a:pt x="183" y="220"/>
                    </a:lnTo>
                    <a:lnTo>
                      <a:pt x="192" y="220"/>
                    </a:lnTo>
                    <a:lnTo>
                      <a:pt x="202" y="217"/>
                    </a:lnTo>
                    <a:lnTo>
                      <a:pt x="205" y="217"/>
                    </a:lnTo>
                    <a:lnTo>
                      <a:pt x="208" y="217"/>
                    </a:lnTo>
                    <a:lnTo>
                      <a:pt x="211" y="217"/>
                    </a:lnTo>
                    <a:lnTo>
                      <a:pt x="214" y="213"/>
                    </a:lnTo>
                    <a:lnTo>
                      <a:pt x="217" y="213"/>
                    </a:lnTo>
                    <a:lnTo>
                      <a:pt x="217" y="209"/>
                    </a:lnTo>
                    <a:lnTo>
                      <a:pt x="220" y="206"/>
                    </a:lnTo>
                    <a:lnTo>
                      <a:pt x="223" y="206"/>
                    </a:lnTo>
                    <a:lnTo>
                      <a:pt x="217" y="209"/>
                    </a:lnTo>
                    <a:lnTo>
                      <a:pt x="214" y="209"/>
                    </a:lnTo>
                    <a:lnTo>
                      <a:pt x="208" y="213"/>
                    </a:lnTo>
                    <a:lnTo>
                      <a:pt x="205" y="213"/>
                    </a:lnTo>
                    <a:lnTo>
                      <a:pt x="198" y="213"/>
                    </a:lnTo>
                    <a:lnTo>
                      <a:pt x="195" y="209"/>
                    </a:lnTo>
                    <a:lnTo>
                      <a:pt x="189" y="209"/>
                    </a:lnTo>
                    <a:lnTo>
                      <a:pt x="183" y="206"/>
                    </a:lnTo>
                    <a:lnTo>
                      <a:pt x="177" y="202"/>
                    </a:lnTo>
                    <a:lnTo>
                      <a:pt x="171" y="195"/>
                    </a:lnTo>
                    <a:lnTo>
                      <a:pt x="161" y="191"/>
                    </a:lnTo>
                    <a:lnTo>
                      <a:pt x="155" y="184"/>
                    </a:lnTo>
                    <a:lnTo>
                      <a:pt x="149" y="176"/>
                    </a:lnTo>
                    <a:lnTo>
                      <a:pt x="143" y="169"/>
                    </a:lnTo>
                    <a:lnTo>
                      <a:pt x="136" y="162"/>
                    </a:lnTo>
                    <a:lnTo>
                      <a:pt x="130" y="158"/>
                    </a:lnTo>
                    <a:lnTo>
                      <a:pt x="127" y="151"/>
                    </a:lnTo>
                    <a:lnTo>
                      <a:pt x="127" y="147"/>
                    </a:lnTo>
                    <a:lnTo>
                      <a:pt x="124" y="140"/>
                    </a:lnTo>
                    <a:lnTo>
                      <a:pt x="121" y="132"/>
                    </a:lnTo>
                    <a:lnTo>
                      <a:pt x="121" y="125"/>
                    </a:lnTo>
                    <a:lnTo>
                      <a:pt x="118" y="118"/>
                    </a:lnTo>
                    <a:lnTo>
                      <a:pt x="118" y="110"/>
                    </a:lnTo>
                    <a:lnTo>
                      <a:pt x="115" y="107"/>
                    </a:lnTo>
                    <a:lnTo>
                      <a:pt x="115" y="107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6" y="110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3"/>
                    </a:lnTo>
                    <a:lnTo>
                      <a:pt x="99" y="103"/>
                    </a:lnTo>
                    <a:lnTo>
                      <a:pt x="99" y="99"/>
                    </a:lnTo>
                    <a:lnTo>
                      <a:pt x="99" y="96"/>
                    </a:lnTo>
                    <a:lnTo>
                      <a:pt x="96" y="96"/>
                    </a:lnTo>
                    <a:lnTo>
                      <a:pt x="93" y="96"/>
                    </a:lnTo>
                    <a:lnTo>
                      <a:pt x="90" y="96"/>
                    </a:lnTo>
                    <a:lnTo>
                      <a:pt x="87" y="96"/>
                    </a:lnTo>
                    <a:lnTo>
                      <a:pt x="84" y="96"/>
                    </a:lnTo>
                    <a:lnTo>
                      <a:pt x="81" y="92"/>
                    </a:lnTo>
                    <a:lnTo>
                      <a:pt x="78" y="92"/>
                    </a:lnTo>
                    <a:lnTo>
                      <a:pt x="75" y="88"/>
                    </a:lnTo>
                    <a:lnTo>
                      <a:pt x="71" y="88"/>
                    </a:lnTo>
                    <a:lnTo>
                      <a:pt x="65" y="88"/>
                    </a:lnTo>
                    <a:lnTo>
                      <a:pt x="59" y="92"/>
                    </a:lnTo>
                    <a:lnTo>
                      <a:pt x="56" y="92"/>
                    </a:lnTo>
                    <a:lnTo>
                      <a:pt x="53" y="96"/>
                    </a:lnTo>
                    <a:lnTo>
                      <a:pt x="50" y="99"/>
                    </a:lnTo>
                    <a:lnTo>
                      <a:pt x="47" y="103"/>
                    </a:lnTo>
                    <a:lnTo>
                      <a:pt x="47" y="110"/>
                    </a:lnTo>
                    <a:lnTo>
                      <a:pt x="40" y="114"/>
                    </a:lnTo>
                    <a:lnTo>
                      <a:pt x="34" y="121"/>
                    </a:lnTo>
                    <a:lnTo>
                      <a:pt x="28" y="129"/>
                    </a:lnTo>
                    <a:lnTo>
                      <a:pt x="19" y="136"/>
                    </a:lnTo>
                    <a:lnTo>
                      <a:pt x="13" y="143"/>
                    </a:lnTo>
                    <a:lnTo>
                      <a:pt x="6" y="151"/>
                    </a:lnTo>
                    <a:lnTo>
                      <a:pt x="3" y="158"/>
                    </a:lnTo>
                    <a:lnTo>
                      <a:pt x="0" y="165"/>
                    </a:lnTo>
                    <a:lnTo>
                      <a:pt x="6" y="173"/>
                    </a:lnTo>
                    <a:lnTo>
                      <a:pt x="16" y="180"/>
                    </a:lnTo>
                    <a:lnTo>
                      <a:pt x="22" y="184"/>
                    </a:lnTo>
                    <a:lnTo>
                      <a:pt x="28" y="191"/>
                    </a:lnTo>
                    <a:lnTo>
                      <a:pt x="34" y="195"/>
                    </a:lnTo>
                    <a:lnTo>
                      <a:pt x="44" y="202"/>
                    </a:lnTo>
                    <a:lnTo>
                      <a:pt x="50" y="206"/>
                    </a:lnTo>
                    <a:lnTo>
                      <a:pt x="59" y="213"/>
                    </a:lnTo>
                    <a:close/>
                    <a:moveTo>
                      <a:pt x="520" y="173"/>
                    </a:moveTo>
                    <a:lnTo>
                      <a:pt x="511" y="169"/>
                    </a:lnTo>
                    <a:lnTo>
                      <a:pt x="505" y="158"/>
                    </a:lnTo>
                    <a:lnTo>
                      <a:pt x="499" y="151"/>
                    </a:lnTo>
                    <a:lnTo>
                      <a:pt x="496" y="140"/>
                    </a:lnTo>
                    <a:lnTo>
                      <a:pt x="493" y="132"/>
                    </a:lnTo>
                    <a:lnTo>
                      <a:pt x="493" y="125"/>
                    </a:lnTo>
                    <a:lnTo>
                      <a:pt x="490" y="118"/>
                    </a:lnTo>
                    <a:lnTo>
                      <a:pt x="483" y="118"/>
                    </a:lnTo>
                    <a:lnTo>
                      <a:pt x="486" y="125"/>
                    </a:lnTo>
                    <a:lnTo>
                      <a:pt x="483" y="132"/>
                    </a:lnTo>
                    <a:lnTo>
                      <a:pt x="480" y="132"/>
                    </a:lnTo>
                    <a:lnTo>
                      <a:pt x="474" y="132"/>
                    </a:lnTo>
                    <a:lnTo>
                      <a:pt x="468" y="132"/>
                    </a:lnTo>
                    <a:lnTo>
                      <a:pt x="462" y="129"/>
                    </a:lnTo>
                    <a:lnTo>
                      <a:pt x="455" y="125"/>
                    </a:lnTo>
                    <a:lnTo>
                      <a:pt x="449" y="121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4"/>
                    </a:lnTo>
                    <a:lnTo>
                      <a:pt x="446" y="114"/>
                    </a:lnTo>
                    <a:lnTo>
                      <a:pt x="443" y="110"/>
                    </a:lnTo>
                    <a:lnTo>
                      <a:pt x="443" y="107"/>
                    </a:lnTo>
                    <a:lnTo>
                      <a:pt x="443" y="107"/>
                    </a:lnTo>
                    <a:lnTo>
                      <a:pt x="440" y="103"/>
                    </a:lnTo>
                    <a:lnTo>
                      <a:pt x="440" y="110"/>
                    </a:lnTo>
                    <a:lnTo>
                      <a:pt x="440" y="114"/>
                    </a:lnTo>
                    <a:lnTo>
                      <a:pt x="440" y="121"/>
                    </a:lnTo>
                    <a:lnTo>
                      <a:pt x="440" y="125"/>
                    </a:lnTo>
                    <a:lnTo>
                      <a:pt x="440" y="129"/>
                    </a:lnTo>
                    <a:lnTo>
                      <a:pt x="440" y="136"/>
                    </a:lnTo>
                    <a:lnTo>
                      <a:pt x="440" y="140"/>
                    </a:lnTo>
                    <a:lnTo>
                      <a:pt x="440" y="147"/>
                    </a:lnTo>
                    <a:lnTo>
                      <a:pt x="446" y="154"/>
                    </a:lnTo>
                    <a:lnTo>
                      <a:pt x="452" y="162"/>
                    </a:lnTo>
                    <a:lnTo>
                      <a:pt x="462" y="169"/>
                    </a:lnTo>
                    <a:lnTo>
                      <a:pt x="468" y="176"/>
                    </a:lnTo>
                    <a:lnTo>
                      <a:pt x="477" y="184"/>
                    </a:lnTo>
                    <a:lnTo>
                      <a:pt x="483" y="195"/>
                    </a:lnTo>
                    <a:lnTo>
                      <a:pt x="490" y="202"/>
                    </a:lnTo>
                    <a:lnTo>
                      <a:pt x="496" y="209"/>
                    </a:lnTo>
                    <a:lnTo>
                      <a:pt x="499" y="206"/>
                    </a:lnTo>
                    <a:lnTo>
                      <a:pt x="502" y="198"/>
                    </a:lnTo>
                    <a:lnTo>
                      <a:pt x="505" y="195"/>
                    </a:lnTo>
                    <a:lnTo>
                      <a:pt x="508" y="191"/>
                    </a:lnTo>
                    <a:lnTo>
                      <a:pt x="511" y="187"/>
                    </a:lnTo>
                    <a:lnTo>
                      <a:pt x="514" y="180"/>
                    </a:lnTo>
                    <a:lnTo>
                      <a:pt x="517" y="176"/>
                    </a:lnTo>
                    <a:lnTo>
                      <a:pt x="520" y="173"/>
                    </a:lnTo>
                    <a:close/>
                    <a:moveTo>
                      <a:pt x="573" y="136"/>
                    </a:moveTo>
                    <a:lnTo>
                      <a:pt x="576" y="136"/>
                    </a:lnTo>
                    <a:lnTo>
                      <a:pt x="579" y="136"/>
                    </a:lnTo>
                    <a:lnTo>
                      <a:pt x="582" y="136"/>
                    </a:lnTo>
                    <a:lnTo>
                      <a:pt x="586" y="140"/>
                    </a:lnTo>
                    <a:lnTo>
                      <a:pt x="586" y="140"/>
                    </a:lnTo>
                    <a:lnTo>
                      <a:pt x="589" y="140"/>
                    </a:lnTo>
                    <a:lnTo>
                      <a:pt x="589" y="140"/>
                    </a:lnTo>
                    <a:lnTo>
                      <a:pt x="592" y="140"/>
                    </a:lnTo>
                    <a:lnTo>
                      <a:pt x="595" y="140"/>
                    </a:lnTo>
                    <a:lnTo>
                      <a:pt x="595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601" y="140"/>
                    </a:lnTo>
                    <a:lnTo>
                      <a:pt x="601" y="136"/>
                    </a:lnTo>
                    <a:lnTo>
                      <a:pt x="601" y="136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598" y="129"/>
                    </a:lnTo>
                    <a:lnTo>
                      <a:pt x="598" y="129"/>
                    </a:lnTo>
                    <a:lnTo>
                      <a:pt x="598" y="125"/>
                    </a:lnTo>
                    <a:lnTo>
                      <a:pt x="601" y="125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4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1" y="118"/>
                    </a:lnTo>
                    <a:lnTo>
                      <a:pt x="601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5" y="118"/>
                    </a:lnTo>
                    <a:lnTo>
                      <a:pt x="595" y="118"/>
                    </a:lnTo>
                    <a:lnTo>
                      <a:pt x="592" y="121"/>
                    </a:lnTo>
                    <a:lnTo>
                      <a:pt x="589" y="125"/>
                    </a:lnTo>
                    <a:lnTo>
                      <a:pt x="586" y="125"/>
                    </a:lnTo>
                    <a:lnTo>
                      <a:pt x="582" y="129"/>
                    </a:lnTo>
                    <a:lnTo>
                      <a:pt x="579" y="132"/>
                    </a:lnTo>
                    <a:lnTo>
                      <a:pt x="576" y="136"/>
                    </a:lnTo>
                    <a:lnTo>
                      <a:pt x="573" y="136"/>
                    </a:lnTo>
                    <a:close/>
                    <a:moveTo>
                      <a:pt x="582" y="110"/>
                    </a:moveTo>
                    <a:lnTo>
                      <a:pt x="586" y="110"/>
                    </a:lnTo>
                    <a:lnTo>
                      <a:pt x="589" y="110"/>
                    </a:lnTo>
                    <a:lnTo>
                      <a:pt x="592" y="107"/>
                    </a:lnTo>
                    <a:lnTo>
                      <a:pt x="595" y="107"/>
                    </a:lnTo>
                    <a:lnTo>
                      <a:pt x="598" y="107"/>
                    </a:lnTo>
                    <a:lnTo>
                      <a:pt x="598" y="103"/>
                    </a:lnTo>
                    <a:lnTo>
                      <a:pt x="601" y="103"/>
                    </a:lnTo>
                    <a:lnTo>
                      <a:pt x="601" y="103"/>
                    </a:lnTo>
                    <a:lnTo>
                      <a:pt x="598" y="103"/>
                    </a:lnTo>
                    <a:lnTo>
                      <a:pt x="592" y="103"/>
                    </a:lnTo>
                    <a:lnTo>
                      <a:pt x="589" y="103"/>
                    </a:lnTo>
                    <a:lnTo>
                      <a:pt x="589" y="99"/>
                    </a:lnTo>
                    <a:lnTo>
                      <a:pt x="589" y="99"/>
                    </a:lnTo>
                    <a:lnTo>
                      <a:pt x="589" y="96"/>
                    </a:lnTo>
                    <a:lnTo>
                      <a:pt x="589" y="92"/>
                    </a:lnTo>
                    <a:lnTo>
                      <a:pt x="589" y="92"/>
                    </a:lnTo>
                    <a:lnTo>
                      <a:pt x="586" y="92"/>
                    </a:lnTo>
                    <a:lnTo>
                      <a:pt x="586" y="96"/>
                    </a:lnTo>
                    <a:lnTo>
                      <a:pt x="582" y="99"/>
                    </a:lnTo>
                    <a:lnTo>
                      <a:pt x="582" y="99"/>
                    </a:lnTo>
                    <a:lnTo>
                      <a:pt x="582" y="103"/>
                    </a:lnTo>
                    <a:lnTo>
                      <a:pt x="582" y="107"/>
                    </a:lnTo>
                    <a:lnTo>
                      <a:pt x="582" y="107"/>
                    </a:lnTo>
                    <a:lnTo>
                      <a:pt x="582" y="110"/>
                    </a:lnTo>
                    <a:close/>
                    <a:moveTo>
                      <a:pt x="545" y="81"/>
                    </a:moveTo>
                    <a:lnTo>
                      <a:pt x="561" y="77"/>
                    </a:lnTo>
                    <a:lnTo>
                      <a:pt x="573" y="74"/>
                    </a:lnTo>
                    <a:lnTo>
                      <a:pt x="579" y="70"/>
                    </a:lnTo>
                    <a:lnTo>
                      <a:pt x="586" y="63"/>
                    </a:lnTo>
                    <a:lnTo>
                      <a:pt x="586" y="52"/>
                    </a:lnTo>
                    <a:lnTo>
                      <a:pt x="589" y="44"/>
                    </a:lnTo>
                    <a:lnTo>
                      <a:pt x="592" y="41"/>
                    </a:lnTo>
                    <a:lnTo>
                      <a:pt x="595" y="37"/>
                    </a:lnTo>
                    <a:lnTo>
                      <a:pt x="595" y="33"/>
                    </a:lnTo>
                    <a:lnTo>
                      <a:pt x="589" y="30"/>
                    </a:lnTo>
                    <a:lnTo>
                      <a:pt x="586" y="30"/>
                    </a:lnTo>
                    <a:lnTo>
                      <a:pt x="576" y="33"/>
                    </a:lnTo>
                    <a:lnTo>
                      <a:pt x="570" y="37"/>
                    </a:lnTo>
                    <a:lnTo>
                      <a:pt x="561" y="41"/>
                    </a:lnTo>
                    <a:lnTo>
                      <a:pt x="555" y="52"/>
                    </a:lnTo>
                    <a:lnTo>
                      <a:pt x="545" y="66"/>
                    </a:lnTo>
                    <a:lnTo>
                      <a:pt x="558" y="55"/>
                    </a:lnTo>
                    <a:lnTo>
                      <a:pt x="567" y="52"/>
                    </a:lnTo>
                    <a:lnTo>
                      <a:pt x="573" y="48"/>
                    </a:lnTo>
                    <a:lnTo>
                      <a:pt x="576" y="48"/>
                    </a:lnTo>
                    <a:lnTo>
                      <a:pt x="579" y="48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6" y="55"/>
                    </a:lnTo>
                    <a:lnTo>
                      <a:pt x="573" y="59"/>
                    </a:lnTo>
                    <a:lnTo>
                      <a:pt x="573" y="59"/>
                    </a:lnTo>
                    <a:lnTo>
                      <a:pt x="567" y="63"/>
                    </a:lnTo>
                    <a:lnTo>
                      <a:pt x="564" y="63"/>
                    </a:lnTo>
                    <a:lnTo>
                      <a:pt x="561" y="66"/>
                    </a:lnTo>
                    <a:lnTo>
                      <a:pt x="558" y="66"/>
                    </a:lnTo>
                    <a:lnTo>
                      <a:pt x="555" y="66"/>
                    </a:lnTo>
                    <a:lnTo>
                      <a:pt x="551" y="66"/>
                    </a:lnTo>
                    <a:lnTo>
                      <a:pt x="548" y="70"/>
                    </a:lnTo>
                    <a:lnTo>
                      <a:pt x="548" y="70"/>
                    </a:lnTo>
                    <a:lnTo>
                      <a:pt x="548" y="74"/>
                    </a:lnTo>
                    <a:lnTo>
                      <a:pt x="545" y="74"/>
                    </a:lnTo>
                    <a:lnTo>
                      <a:pt x="545" y="77"/>
                    </a:lnTo>
                    <a:lnTo>
                      <a:pt x="545" y="81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428960" y="4466160"/>
                <a:ext cx="329760" cy="231840"/>
              </a:xfrm>
              <a:custGeom>
                <a:avLst/>
                <a:gdLst/>
                <a:ahLst/>
                <a:rect l="l" t="t" r="r" b="b"/>
                <a:pathLst>
                  <a:path w="297" h="191">
                    <a:moveTo>
                      <a:pt x="40" y="33"/>
                    </a:moveTo>
                    <a:lnTo>
                      <a:pt x="43" y="44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6" y="92"/>
                    </a:lnTo>
                    <a:lnTo>
                      <a:pt x="50" y="99"/>
                    </a:lnTo>
                    <a:lnTo>
                      <a:pt x="50" y="107"/>
                    </a:lnTo>
                    <a:lnTo>
                      <a:pt x="53" y="114"/>
                    </a:lnTo>
                    <a:lnTo>
                      <a:pt x="56" y="118"/>
                    </a:lnTo>
                    <a:lnTo>
                      <a:pt x="56" y="125"/>
                    </a:lnTo>
                    <a:lnTo>
                      <a:pt x="59" y="132"/>
                    </a:lnTo>
                    <a:lnTo>
                      <a:pt x="62" y="140"/>
                    </a:lnTo>
                    <a:lnTo>
                      <a:pt x="62" y="147"/>
                    </a:lnTo>
                    <a:lnTo>
                      <a:pt x="62" y="154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45" y="143"/>
                    </a:lnTo>
                    <a:lnTo>
                      <a:pt x="248" y="136"/>
                    </a:lnTo>
                    <a:lnTo>
                      <a:pt x="251" y="136"/>
                    </a:lnTo>
                    <a:lnTo>
                      <a:pt x="254" y="132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9" y="136"/>
                    </a:lnTo>
                    <a:lnTo>
                      <a:pt x="276" y="140"/>
                    </a:lnTo>
                    <a:lnTo>
                      <a:pt x="276" y="136"/>
                    </a:lnTo>
                    <a:lnTo>
                      <a:pt x="276" y="132"/>
                    </a:lnTo>
                    <a:lnTo>
                      <a:pt x="276" y="125"/>
                    </a:lnTo>
                    <a:lnTo>
                      <a:pt x="279" y="125"/>
                    </a:lnTo>
                    <a:lnTo>
                      <a:pt x="282" y="121"/>
                    </a:lnTo>
                    <a:lnTo>
                      <a:pt x="285" y="118"/>
                    </a:lnTo>
                    <a:lnTo>
                      <a:pt x="291" y="118"/>
                    </a:lnTo>
                    <a:lnTo>
                      <a:pt x="297" y="118"/>
                    </a:lnTo>
                    <a:lnTo>
                      <a:pt x="294" y="92"/>
                    </a:lnTo>
                    <a:lnTo>
                      <a:pt x="294" y="85"/>
                    </a:lnTo>
                    <a:lnTo>
                      <a:pt x="294" y="74"/>
                    </a:lnTo>
                    <a:lnTo>
                      <a:pt x="294" y="63"/>
                    </a:lnTo>
                    <a:lnTo>
                      <a:pt x="294" y="52"/>
                    </a:lnTo>
                    <a:lnTo>
                      <a:pt x="291" y="41"/>
                    </a:lnTo>
                    <a:lnTo>
                      <a:pt x="291" y="26"/>
                    </a:lnTo>
                    <a:lnTo>
                      <a:pt x="288" y="15"/>
                    </a:lnTo>
                    <a:lnTo>
                      <a:pt x="288" y="0"/>
                    </a:lnTo>
                    <a:lnTo>
                      <a:pt x="276" y="8"/>
                    </a:lnTo>
                    <a:lnTo>
                      <a:pt x="260" y="15"/>
                    </a:lnTo>
                    <a:lnTo>
                      <a:pt x="242" y="22"/>
                    </a:lnTo>
                    <a:lnTo>
                      <a:pt x="223" y="26"/>
                    </a:lnTo>
                    <a:lnTo>
                      <a:pt x="204" y="30"/>
                    </a:lnTo>
                    <a:lnTo>
                      <a:pt x="186" y="33"/>
                    </a:lnTo>
                    <a:lnTo>
                      <a:pt x="167" y="37"/>
                    </a:lnTo>
                    <a:lnTo>
                      <a:pt x="152" y="41"/>
                    </a:lnTo>
                    <a:lnTo>
                      <a:pt x="139" y="41"/>
                    </a:lnTo>
                    <a:lnTo>
                      <a:pt x="127" y="41"/>
                    </a:lnTo>
                    <a:lnTo>
                      <a:pt x="111" y="41"/>
                    </a:lnTo>
                    <a:lnTo>
                      <a:pt x="99" y="41"/>
                    </a:lnTo>
                    <a:lnTo>
                      <a:pt x="84" y="37"/>
                    </a:lnTo>
                    <a:lnTo>
                      <a:pt x="68" y="37"/>
                    </a:lnTo>
                    <a:lnTo>
                      <a:pt x="56" y="33"/>
                    </a:lnTo>
                    <a:lnTo>
                      <a:pt x="40" y="33"/>
                    </a:lnTo>
                    <a:close/>
                    <a:moveTo>
                      <a:pt x="273" y="176"/>
                    </a:moveTo>
                    <a:lnTo>
                      <a:pt x="254" y="191"/>
                    </a:lnTo>
                    <a:lnTo>
                      <a:pt x="0" y="180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5" y="165"/>
                    </a:lnTo>
                    <a:lnTo>
                      <a:pt x="25" y="162"/>
                    </a:lnTo>
                    <a:lnTo>
                      <a:pt x="31" y="158"/>
                    </a:lnTo>
                    <a:lnTo>
                      <a:pt x="37" y="154"/>
                    </a:lnTo>
                    <a:lnTo>
                      <a:pt x="46" y="151"/>
                    </a:lnTo>
                    <a:lnTo>
                      <a:pt x="53" y="147"/>
                    </a:lnTo>
                    <a:lnTo>
                      <a:pt x="59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7"/>
                    </a:lnTo>
                    <a:lnTo>
                      <a:pt x="62" y="147"/>
                    </a:lnTo>
                    <a:lnTo>
                      <a:pt x="62" y="151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51" y="154"/>
                    </a:lnTo>
                    <a:lnTo>
                      <a:pt x="251" y="154"/>
                    </a:lnTo>
                    <a:lnTo>
                      <a:pt x="254" y="158"/>
                    </a:lnTo>
                    <a:lnTo>
                      <a:pt x="257" y="162"/>
                    </a:lnTo>
                    <a:lnTo>
                      <a:pt x="260" y="162"/>
                    </a:lnTo>
                    <a:lnTo>
                      <a:pt x="266" y="165"/>
                    </a:lnTo>
                    <a:lnTo>
                      <a:pt x="269" y="169"/>
                    </a:lnTo>
                    <a:lnTo>
                      <a:pt x="273" y="169"/>
                    </a:lnTo>
                    <a:lnTo>
                      <a:pt x="273" y="1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429320" y="4466160"/>
                <a:ext cx="285120" cy="196560"/>
              </a:xfrm>
              <a:custGeom>
                <a:avLst/>
                <a:gdLst/>
                <a:ahLst/>
                <a:rect l="l" t="t" r="r" b="b"/>
                <a:pathLst>
                  <a:path w="257" h="162">
                    <a:moveTo>
                      <a:pt x="0" y="33"/>
                    </a:moveTo>
                    <a:lnTo>
                      <a:pt x="3" y="44"/>
                    </a:lnTo>
                    <a:lnTo>
                      <a:pt x="3" y="52"/>
                    </a:lnTo>
                    <a:lnTo>
                      <a:pt x="3" y="63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2"/>
                    </a:lnTo>
                    <a:lnTo>
                      <a:pt x="10" y="99"/>
                    </a:lnTo>
                    <a:lnTo>
                      <a:pt x="10" y="107"/>
                    </a:lnTo>
                    <a:lnTo>
                      <a:pt x="13" y="114"/>
                    </a:lnTo>
                    <a:lnTo>
                      <a:pt x="16" y="118"/>
                    </a:lnTo>
                    <a:lnTo>
                      <a:pt x="16" y="125"/>
                    </a:lnTo>
                    <a:lnTo>
                      <a:pt x="19" y="132"/>
                    </a:lnTo>
                    <a:lnTo>
                      <a:pt x="22" y="140"/>
                    </a:lnTo>
                    <a:lnTo>
                      <a:pt x="22" y="147"/>
                    </a:lnTo>
                    <a:lnTo>
                      <a:pt x="22" y="154"/>
                    </a:lnTo>
                    <a:lnTo>
                      <a:pt x="25" y="162"/>
                    </a:lnTo>
                    <a:lnTo>
                      <a:pt x="208" y="151"/>
                    </a:lnTo>
                    <a:lnTo>
                      <a:pt x="205" y="143"/>
                    </a:lnTo>
                    <a:lnTo>
                      <a:pt x="208" y="136"/>
                    </a:lnTo>
                    <a:lnTo>
                      <a:pt x="211" y="136"/>
                    </a:lnTo>
                    <a:lnTo>
                      <a:pt x="214" y="132"/>
                    </a:lnTo>
                    <a:lnTo>
                      <a:pt x="220" y="132"/>
                    </a:lnTo>
                    <a:lnTo>
                      <a:pt x="223" y="136"/>
                    </a:lnTo>
                    <a:lnTo>
                      <a:pt x="229" y="136"/>
                    </a:lnTo>
                    <a:lnTo>
                      <a:pt x="236" y="140"/>
                    </a:lnTo>
                    <a:lnTo>
                      <a:pt x="236" y="136"/>
                    </a:lnTo>
                    <a:lnTo>
                      <a:pt x="236" y="132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42" y="121"/>
                    </a:lnTo>
                    <a:lnTo>
                      <a:pt x="245" y="118"/>
                    </a:lnTo>
                    <a:lnTo>
                      <a:pt x="251" y="118"/>
                    </a:lnTo>
                    <a:lnTo>
                      <a:pt x="257" y="118"/>
                    </a:lnTo>
                    <a:lnTo>
                      <a:pt x="254" y="92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3"/>
                    </a:lnTo>
                    <a:lnTo>
                      <a:pt x="254" y="52"/>
                    </a:lnTo>
                    <a:lnTo>
                      <a:pt x="251" y="41"/>
                    </a:lnTo>
                    <a:lnTo>
                      <a:pt x="251" y="26"/>
                    </a:lnTo>
                    <a:lnTo>
                      <a:pt x="248" y="15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20" y="15"/>
                    </a:lnTo>
                    <a:lnTo>
                      <a:pt x="202" y="22"/>
                    </a:lnTo>
                    <a:lnTo>
                      <a:pt x="183" y="26"/>
                    </a:lnTo>
                    <a:lnTo>
                      <a:pt x="164" y="30"/>
                    </a:lnTo>
                    <a:lnTo>
                      <a:pt x="146" y="33"/>
                    </a:lnTo>
                    <a:lnTo>
                      <a:pt x="127" y="37"/>
                    </a:lnTo>
                    <a:lnTo>
                      <a:pt x="112" y="41"/>
                    </a:lnTo>
                    <a:lnTo>
                      <a:pt x="99" y="41"/>
                    </a:lnTo>
                    <a:lnTo>
                      <a:pt x="87" y="41"/>
                    </a:lnTo>
                    <a:lnTo>
                      <a:pt x="71" y="41"/>
                    </a:lnTo>
                    <a:lnTo>
                      <a:pt x="59" y="41"/>
                    </a:lnTo>
                    <a:lnTo>
                      <a:pt x="44" y="37"/>
                    </a:lnTo>
                    <a:lnTo>
                      <a:pt x="28" y="37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7455600" y="4640400"/>
                <a:ext cx="302760" cy="57960"/>
              </a:xfrm>
              <a:custGeom>
                <a:avLst/>
                <a:gdLst/>
                <a:ahLst/>
                <a:rect l="l" t="t" r="r" b="b"/>
                <a:pathLst>
                  <a:path w="273" h="48">
                    <a:moveTo>
                      <a:pt x="273" y="33"/>
                    </a:moveTo>
                    <a:lnTo>
                      <a:pt x="254" y="48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5" y="22"/>
                    </a:lnTo>
                    <a:lnTo>
                      <a:pt x="25" y="19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2" y="11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248" y="8"/>
                    </a:lnTo>
                    <a:lnTo>
                      <a:pt x="251" y="11"/>
                    </a:lnTo>
                    <a:lnTo>
                      <a:pt x="254" y="15"/>
                    </a:lnTo>
                    <a:lnTo>
                      <a:pt x="257" y="19"/>
                    </a:lnTo>
                    <a:lnTo>
                      <a:pt x="260" y="19"/>
                    </a:lnTo>
                    <a:lnTo>
                      <a:pt x="266" y="22"/>
                    </a:lnTo>
                    <a:lnTo>
                      <a:pt x="269" y="26"/>
                    </a:lnTo>
                    <a:lnTo>
                      <a:pt x="273" y="26"/>
                    </a:lnTo>
                    <a:lnTo>
                      <a:pt x="27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703560" y="4315320"/>
                <a:ext cx="258480" cy="614880"/>
              </a:xfrm>
              <a:custGeom>
                <a:avLst/>
                <a:gdLst/>
                <a:ahLst/>
                <a:rect l="l" t="t" r="r" b="b"/>
                <a:pathLst>
                  <a:path w="233" h="506">
                    <a:moveTo>
                      <a:pt x="44" y="407"/>
                    </a:moveTo>
                    <a:lnTo>
                      <a:pt x="44" y="407"/>
                    </a:lnTo>
                    <a:lnTo>
                      <a:pt x="41" y="403"/>
                    </a:lnTo>
                    <a:lnTo>
                      <a:pt x="41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5" y="403"/>
                    </a:lnTo>
                    <a:lnTo>
                      <a:pt x="31" y="403"/>
                    </a:lnTo>
                    <a:lnTo>
                      <a:pt x="31" y="399"/>
                    </a:lnTo>
                    <a:lnTo>
                      <a:pt x="28" y="407"/>
                    </a:lnTo>
                    <a:lnTo>
                      <a:pt x="25" y="414"/>
                    </a:lnTo>
                    <a:lnTo>
                      <a:pt x="19" y="429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7" y="469"/>
                    </a:lnTo>
                    <a:lnTo>
                      <a:pt x="4" y="480"/>
                    </a:lnTo>
                    <a:lnTo>
                      <a:pt x="0" y="487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5"/>
                    </a:lnTo>
                    <a:lnTo>
                      <a:pt x="7" y="495"/>
                    </a:lnTo>
                    <a:lnTo>
                      <a:pt x="7" y="498"/>
                    </a:lnTo>
                    <a:lnTo>
                      <a:pt x="7" y="498"/>
                    </a:lnTo>
                    <a:lnTo>
                      <a:pt x="10" y="502"/>
                    </a:lnTo>
                    <a:lnTo>
                      <a:pt x="13" y="502"/>
                    </a:lnTo>
                    <a:lnTo>
                      <a:pt x="16" y="502"/>
                    </a:lnTo>
                    <a:lnTo>
                      <a:pt x="19" y="502"/>
                    </a:lnTo>
                    <a:lnTo>
                      <a:pt x="22" y="502"/>
                    </a:lnTo>
                    <a:lnTo>
                      <a:pt x="22" y="502"/>
                    </a:lnTo>
                    <a:lnTo>
                      <a:pt x="25" y="506"/>
                    </a:lnTo>
                    <a:lnTo>
                      <a:pt x="28" y="506"/>
                    </a:lnTo>
                    <a:lnTo>
                      <a:pt x="28" y="506"/>
                    </a:lnTo>
                    <a:lnTo>
                      <a:pt x="31" y="495"/>
                    </a:lnTo>
                    <a:lnTo>
                      <a:pt x="35" y="484"/>
                    </a:lnTo>
                    <a:lnTo>
                      <a:pt x="38" y="476"/>
                    </a:lnTo>
                    <a:lnTo>
                      <a:pt x="41" y="465"/>
                    </a:lnTo>
                    <a:lnTo>
                      <a:pt x="44" y="458"/>
                    </a:lnTo>
                    <a:lnTo>
                      <a:pt x="44" y="443"/>
                    </a:lnTo>
                    <a:lnTo>
                      <a:pt x="47" y="429"/>
                    </a:lnTo>
                    <a:lnTo>
                      <a:pt x="44" y="407"/>
                    </a:lnTo>
                    <a:close/>
                    <a:moveTo>
                      <a:pt x="152" y="69"/>
                    </a:moveTo>
                    <a:lnTo>
                      <a:pt x="161" y="55"/>
                    </a:lnTo>
                    <a:lnTo>
                      <a:pt x="174" y="40"/>
                    </a:lnTo>
                    <a:lnTo>
                      <a:pt x="186" y="29"/>
                    </a:lnTo>
                    <a:lnTo>
                      <a:pt x="199" y="18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3" y="3"/>
                    </a:lnTo>
                    <a:lnTo>
                      <a:pt x="230" y="7"/>
                    </a:lnTo>
                    <a:lnTo>
                      <a:pt x="223" y="11"/>
                    </a:lnTo>
                    <a:lnTo>
                      <a:pt x="217" y="18"/>
                    </a:lnTo>
                    <a:lnTo>
                      <a:pt x="208" y="25"/>
                    </a:lnTo>
                    <a:lnTo>
                      <a:pt x="199" y="36"/>
                    </a:lnTo>
                    <a:lnTo>
                      <a:pt x="189" y="47"/>
                    </a:lnTo>
                    <a:lnTo>
                      <a:pt x="180" y="58"/>
                    </a:lnTo>
                    <a:lnTo>
                      <a:pt x="171" y="69"/>
                    </a:lnTo>
                    <a:lnTo>
                      <a:pt x="165" y="84"/>
                    </a:lnTo>
                    <a:lnTo>
                      <a:pt x="155" y="95"/>
                    </a:lnTo>
                    <a:lnTo>
                      <a:pt x="146" y="106"/>
                    </a:lnTo>
                    <a:lnTo>
                      <a:pt x="140" y="117"/>
                    </a:lnTo>
                    <a:lnTo>
                      <a:pt x="131" y="128"/>
                    </a:lnTo>
                    <a:lnTo>
                      <a:pt x="121" y="143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50"/>
                    </a:lnTo>
                    <a:lnTo>
                      <a:pt x="115" y="146"/>
                    </a:lnTo>
                    <a:lnTo>
                      <a:pt x="115" y="143"/>
                    </a:lnTo>
                    <a:lnTo>
                      <a:pt x="115" y="139"/>
                    </a:lnTo>
                    <a:lnTo>
                      <a:pt x="115" y="139"/>
                    </a:lnTo>
                    <a:lnTo>
                      <a:pt x="115" y="135"/>
                    </a:lnTo>
                    <a:lnTo>
                      <a:pt x="115" y="132"/>
                    </a:lnTo>
                    <a:lnTo>
                      <a:pt x="121" y="124"/>
                    </a:lnTo>
                    <a:lnTo>
                      <a:pt x="124" y="117"/>
                    </a:lnTo>
                    <a:lnTo>
                      <a:pt x="131" y="106"/>
                    </a:lnTo>
                    <a:lnTo>
                      <a:pt x="134" y="99"/>
                    </a:lnTo>
                    <a:lnTo>
                      <a:pt x="140" y="91"/>
                    </a:lnTo>
                    <a:lnTo>
                      <a:pt x="143" y="80"/>
                    </a:lnTo>
                    <a:lnTo>
                      <a:pt x="146" y="73"/>
                    </a:lnTo>
                    <a:lnTo>
                      <a:pt x="152" y="69"/>
                    </a:lnTo>
                    <a:close/>
                    <a:moveTo>
                      <a:pt x="53" y="341"/>
                    </a:moveTo>
                    <a:lnTo>
                      <a:pt x="53" y="348"/>
                    </a:lnTo>
                    <a:lnTo>
                      <a:pt x="53" y="355"/>
                    </a:lnTo>
                    <a:lnTo>
                      <a:pt x="50" y="363"/>
                    </a:lnTo>
                    <a:lnTo>
                      <a:pt x="50" y="374"/>
                    </a:lnTo>
                    <a:lnTo>
                      <a:pt x="50" y="381"/>
                    </a:lnTo>
                    <a:lnTo>
                      <a:pt x="50" y="388"/>
                    </a:lnTo>
                    <a:lnTo>
                      <a:pt x="50" y="396"/>
                    </a:lnTo>
                    <a:lnTo>
                      <a:pt x="47" y="403"/>
                    </a:lnTo>
                    <a:lnTo>
                      <a:pt x="50" y="403"/>
                    </a:lnTo>
                    <a:lnTo>
                      <a:pt x="53" y="403"/>
                    </a:lnTo>
                    <a:lnTo>
                      <a:pt x="56" y="407"/>
                    </a:lnTo>
                    <a:lnTo>
                      <a:pt x="56" y="407"/>
                    </a:lnTo>
                    <a:lnTo>
                      <a:pt x="59" y="407"/>
                    </a:lnTo>
                    <a:lnTo>
                      <a:pt x="62" y="407"/>
                    </a:lnTo>
                    <a:lnTo>
                      <a:pt x="65" y="407"/>
                    </a:lnTo>
                    <a:lnTo>
                      <a:pt x="65" y="407"/>
                    </a:lnTo>
                    <a:lnTo>
                      <a:pt x="65" y="392"/>
                    </a:lnTo>
                    <a:lnTo>
                      <a:pt x="65" y="377"/>
                    </a:lnTo>
                    <a:lnTo>
                      <a:pt x="65" y="363"/>
                    </a:lnTo>
                    <a:lnTo>
                      <a:pt x="65" y="348"/>
                    </a:lnTo>
                    <a:lnTo>
                      <a:pt x="65" y="333"/>
                    </a:lnTo>
                    <a:lnTo>
                      <a:pt x="69" y="319"/>
                    </a:lnTo>
                    <a:lnTo>
                      <a:pt x="69" y="304"/>
                    </a:lnTo>
                    <a:lnTo>
                      <a:pt x="69" y="289"/>
                    </a:lnTo>
                    <a:lnTo>
                      <a:pt x="69" y="282"/>
                    </a:lnTo>
                    <a:lnTo>
                      <a:pt x="72" y="271"/>
                    </a:lnTo>
                    <a:lnTo>
                      <a:pt x="72" y="260"/>
                    </a:lnTo>
                    <a:lnTo>
                      <a:pt x="75" y="253"/>
                    </a:lnTo>
                    <a:lnTo>
                      <a:pt x="78" y="242"/>
                    </a:lnTo>
                    <a:lnTo>
                      <a:pt x="78" y="234"/>
                    </a:lnTo>
                    <a:lnTo>
                      <a:pt x="81" y="223"/>
                    </a:lnTo>
                    <a:lnTo>
                      <a:pt x="84" y="216"/>
                    </a:lnTo>
                    <a:lnTo>
                      <a:pt x="81" y="223"/>
                    </a:lnTo>
                    <a:lnTo>
                      <a:pt x="78" y="231"/>
                    </a:lnTo>
                    <a:lnTo>
                      <a:pt x="75" y="234"/>
                    </a:lnTo>
                    <a:lnTo>
                      <a:pt x="69" y="242"/>
                    </a:lnTo>
                    <a:lnTo>
                      <a:pt x="65" y="249"/>
                    </a:lnTo>
                    <a:lnTo>
                      <a:pt x="62" y="256"/>
                    </a:lnTo>
                    <a:lnTo>
                      <a:pt x="59" y="264"/>
                    </a:lnTo>
                    <a:lnTo>
                      <a:pt x="53" y="267"/>
                    </a:lnTo>
                    <a:lnTo>
                      <a:pt x="53" y="271"/>
                    </a:lnTo>
                    <a:lnTo>
                      <a:pt x="56" y="275"/>
                    </a:lnTo>
                    <a:lnTo>
                      <a:pt x="56" y="278"/>
                    </a:lnTo>
                    <a:lnTo>
                      <a:pt x="59" y="278"/>
                    </a:lnTo>
                    <a:lnTo>
                      <a:pt x="59" y="282"/>
                    </a:lnTo>
                    <a:lnTo>
                      <a:pt x="59" y="286"/>
                    </a:lnTo>
                    <a:lnTo>
                      <a:pt x="62" y="286"/>
                    </a:lnTo>
                    <a:lnTo>
                      <a:pt x="62" y="289"/>
                    </a:lnTo>
                    <a:lnTo>
                      <a:pt x="62" y="293"/>
                    </a:lnTo>
                    <a:lnTo>
                      <a:pt x="59" y="300"/>
                    </a:lnTo>
                    <a:lnTo>
                      <a:pt x="59" y="308"/>
                    </a:lnTo>
                    <a:lnTo>
                      <a:pt x="59" y="315"/>
                    </a:lnTo>
                    <a:lnTo>
                      <a:pt x="56" y="322"/>
                    </a:lnTo>
                    <a:lnTo>
                      <a:pt x="56" y="330"/>
                    </a:lnTo>
                    <a:lnTo>
                      <a:pt x="53" y="337"/>
                    </a:lnTo>
                    <a:lnTo>
                      <a:pt x="53" y="3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910200" y="4800600"/>
                <a:ext cx="51840" cy="129600"/>
              </a:xfrm>
              <a:custGeom>
                <a:avLst/>
                <a:gdLst/>
                <a:ahLst/>
                <a:rect l="l" t="t" r="r" b="b"/>
                <a:pathLst>
                  <a:path w="47" h="107">
                    <a:moveTo>
                      <a:pt x="44" y="8"/>
                    </a:move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8" y="8"/>
                    </a:lnTo>
                    <a:lnTo>
                      <a:pt x="25" y="15"/>
                    </a:lnTo>
                    <a:lnTo>
                      <a:pt x="19" y="30"/>
                    </a:lnTo>
                    <a:lnTo>
                      <a:pt x="16" y="41"/>
                    </a:lnTo>
                    <a:lnTo>
                      <a:pt x="13" y="55"/>
                    </a:lnTo>
                    <a:lnTo>
                      <a:pt x="7" y="70"/>
                    </a:lnTo>
                    <a:lnTo>
                      <a:pt x="4" y="81"/>
                    </a:lnTo>
                    <a:lnTo>
                      <a:pt x="0" y="88"/>
                    </a:lnTo>
                    <a:lnTo>
                      <a:pt x="4" y="92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7" y="99"/>
                    </a:lnTo>
                    <a:lnTo>
                      <a:pt x="10" y="103"/>
                    </a:lnTo>
                    <a:lnTo>
                      <a:pt x="13" y="103"/>
                    </a:lnTo>
                    <a:lnTo>
                      <a:pt x="16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5" y="107"/>
                    </a:lnTo>
                    <a:lnTo>
                      <a:pt x="28" y="107"/>
                    </a:lnTo>
                    <a:lnTo>
                      <a:pt x="31" y="96"/>
                    </a:lnTo>
                    <a:lnTo>
                      <a:pt x="35" y="85"/>
                    </a:lnTo>
                    <a:lnTo>
                      <a:pt x="38" y="77"/>
                    </a:lnTo>
                    <a:lnTo>
                      <a:pt x="41" y="66"/>
                    </a:lnTo>
                    <a:lnTo>
                      <a:pt x="44" y="59"/>
                    </a:lnTo>
                    <a:lnTo>
                      <a:pt x="44" y="44"/>
                    </a:lnTo>
                    <a:lnTo>
                      <a:pt x="47" y="30"/>
                    </a:lnTo>
                    <a:lnTo>
                      <a:pt x="4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703200" y="4315320"/>
                <a:ext cx="131040" cy="1868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37" y="69"/>
                    </a:moveTo>
                    <a:lnTo>
                      <a:pt x="46" y="55"/>
                    </a:lnTo>
                    <a:lnTo>
                      <a:pt x="59" y="40"/>
                    </a:lnTo>
                    <a:lnTo>
                      <a:pt x="71" y="29"/>
                    </a:lnTo>
                    <a:lnTo>
                      <a:pt x="84" y="18"/>
                    </a:lnTo>
                    <a:lnTo>
                      <a:pt x="96" y="11"/>
                    </a:lnTo>
                    <a:lnTo>
                      <a:pt x="105" y="7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102" y="18"/>
                    </a:lnTo>
                    <a:lnTo>
                      <a:pt x="93" y="25"/>
                    </a:lnTo>
                    <a:lnTo>
                      <a:pt x="84" y="36"/>
                    </a:lnTo>
                    <a:lnTo>
                      <a:pt x="74" y="47"/>
                    </a:lnTo>
                    <a:lnTo>
                      <a:pt x="65" y="58"/>
                    </a:lnTo>
                    <a:lnTo>
                      <a:pt x="56" y="69"/>
                    </a:lnTo>
                    <a:lnTo>
                      <a:pt x="50" y="84"/>
                    </a:lnTo>
                    <a:lnTo>
                      <a:pt x="40" y="95"/>
                    </a:lnTo>
                    <a:lnTo>
                      <a:pt x="31" y="106"/>
                    </a:lnTo>
                    <a:lnTo>
                      <a:pt x="25" y="117"/>
                    </a:lnTo>
                    <a:lnTo>
                      <a:pt x="16" y="128"/>
                    </a:lnTo>
                    <a:lnTo>
                      <a:pt x="6" y="143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6" y="124"/>
                    </a:lnTo>
                    <a:lnTo>
                      <a:pt x="9" y="117"/>
                    </a:lnTo>
                    <a:lnTo>
                      <a:pt x="16" y="106"/>
                    </a:lnTo>
                    <a:lnTo>
                      <a:pt x="19" y="99"/>
                    </a:lnTo>
                    <a:lnTo>
                      <a:pt x="25" y="91"/>
                    </a:lnTo>
                    <a:lnTo>
                      <a:pt x="28" y="80"/>
                    </a:lnTo>
                    <a:lnTo>
                      <a:pt x="31" y="73"/>
                    </a:lnTo>
                    <a:lnTo>
                      <a:pt x="37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868800" y="4578120"/>
                <a:ext cx="41040" cy="231840"/>
              </a:xfrm>
              <a:custGeom>
                <a:avLst/>
                <a:gdLst/>
                <a:ahLst/>
                <a:rect l="l" t="t" r="r" b="b"/>
                <a:pathLst>
                  <a:path w="37" h="191">
                    <a:moveTo>
                      <a:pt x="6" y="125"/>
                    </a:moveTo>
                    <a:lnTo>
                      <a:pt x="6" y="132"/>
                    </a:lnTo>
                    <a:lnTo>
                      <a:pt x="6" y="139"/>
                    </a:lnTo>
                    <a:lnTo>
                      <a:pt x="3" y="147"/>
                    </a:lnTo>
                    <a:lnTo>
                      <a:pt x="3" y="158"/>
                    </a:lnTo>
                    <a:lnTo>
                      <a:pt x="3" y="165"/>
                    </a:lnTo>
                    <a:lnTo>
                      <a:pt x="3" y="172"/>
                    </a:lnTo>
                    <a:lnTo>
                      <a:pt x="3" y="180"/>
                    </a:lnTo>
                    <a:lnTo>
                      <a:pt x="0" y="187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9" y="191"/>
                    </a:lnTo>
                    <a:lnTo>
                      <a:pt x="12" y="191"/>
                    </a:lnTo>
                    <a:lnTo>
                      <a:pt x="15" y="191"/>
                    </a:lnTo>
                    <a:lnTo>
                      <a:pt x="18" y="191"/>
                    </a:lnTo>
                    <a:lnTo>
                      <a:pt x="18" y="176"/>
                    </a:lnTo>
                    <a:lnTo>
                      <a:pt x="18" y="161"/>
                    </a:lnTo>
                    <a:lnTo>
                      <a:pt x="18" y="147"/>
                    </a:lnTo>
                    <a:lnTo>
                      <a:pt x="18" y="132"/>
                    </a:lnTo>
                    <a:lnTo>
                      <a:pt x="18" y="117"/>
                    </a:lnTo>
                    <a:lnTo>
                      <a:pt x="22" y="103"/>
                    </a:lnTo>
                    <a:lnTo>
                      <a:pt x="22" y="88"/>
                    </a:lnTo>
                    <a:lnTo>
                      <a:pt x="22" y="73"/>
                    </a:lnTo>
                    <a:lnTo>
                      <a:pt x="22" y="66"/>
                    </a:lnTo>
                    <a:lnTo>
                      <a:pt x="25" y="55"/>
                    </a:lnTo>
                    <a:lnTo>
                      <a:pt x="25" y="44"/>
                    </a:lnTo>
                    <a:lnTo>
                      <a:pt x="28" y="37"/>
                    </a:lnTo>
                    <a:lnTo>
                      <a:pt x="31" y="26"/>
                    </a:lnTo>
                    <a:lnTo>
                      <a:pt x="31" y="18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34" y="7"/>
                    </a:lnTo>
                    <a:lnTo>
                      <a:pt x="31" y="15"/>
                    </a:lnTo>
                    <a:lnTo>
                      <a:pt x="28" y="18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0"/>
                    </a:lnTo>
                    <a:lnTo>
                      <a:pt x="12" y="48"/>
                    </a:lnTo>
                    <a:lnTo>
                      <a:pt x="6" y="51"/>
                    </a:lnTo>
                    <a:lnTo>
                      <a:pt x="6" y="55"/>
                    </a:lnTo>
                    <a:lnTo>
                      <a:pt x="9" y="59"/>
                    </a:lnTo>
                    <a:lnTo>
                      <a:pt x="9" y="62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3"/>
                    </a:lnTo>
                    <a:lnTo>
                      <a:pt x="15" y="77"/>
                    </a:lnTo>
                    <a:lnTo>
                      <a:pt x="12" y="84"/>
                    </a:lnTo>
                    <a:lnTo>
                      <a:pt x="12" y="92"/>
                    </a:lnTo>
                    <a:lnTo>
                      <a:pt x="12" y="99"/>
                    </a:lnTo>
                    <a:lnTo>
                      <a:pt x="9" y="106"/>
                    </a:lnTo>
                    <a:lnTo>
                      <a:pt x="9" y="114"/>
                    </a:lnTo>
                    <a:lnTo>
                      <a:pt x="6" y="121"/>
                    </a:lnTo>
                    <a:lnTo>
                      <a:pt x="6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3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02640" y="4452840"/>
                <a:ext cx="1646280" cy="579960"/>
              </a:xfrm>
              <a:custGeom>
                <a:avLst/>
                <a:gdLst/>
                <a:ahLst/>
                <a:rect l="l" t="t" r="r" b="b"/>
                <a:pathLst>
                  <a:path w="1483" h="477">
                    <a:moveTo>
                      <a:pt x="647" y="22"/>
                    </a:moveTo>
                    <a:lnTo>
                      <a:pt x="653" y="19"/>
                    </a:lnTo>
                    <a:lnTo>
                      <a:pt x="659" y="11"/>
                    </a:lnTo>
                    <a:lnTo>
                      <a:pt x="666" y="8"/>
                    </a:lnTo>
                    <a:lnTo>
                      <a:pt x="672" y="8"/>
                    </a:lnTo>
                    <a:lnTo>
                      <a:pt x="675" y="4"/>
                    </a:lnTo>
                    <a:lnTo>
                      <a:pt x="681" y="0"/>
                    </a:lnTo>
                    <a:lnTo>
                      <a:pt x="684" y="0"/>
                    </a:lnTo>
                    <a:lnTo>
                      <a:pt x="687" y="4"/>
                    </a:lnTo>
                    <a:lnTo>
                      <a:pt x="693" y="8"/>
                    </a:lnTo>
                    <a:lnTo>
                      <a:pt x="700" y="8"/>
                    </a:lnTo>
                    <a:lnTo>
                      <a:pt x="706" y="11"/>
                    </a:lnTo>
                    <a:lnTo>
                      <a:pt x="709" y="15"/>
                    </a:lnTo>
                    <a:lnTo>
                      <a:pt x="712" y="19"/>
                    </a:lnTo>
                    <a:lnTo>
                      <a:pt x="715" y="22"/>
                    </a:lnTo>
                    <a:lnTo>
                      <a:pt x="718" y="30"/>
                    </a:lnTo>
                    <a:lnTo>
                      <a:pt x="718" y="41"/>
                    </a:lnTo>
                    <a:lnTo>
                      <a:pt x="721" y="41"/>
                    </a:lnTo>
                    <a:lnTo>
                      <a:pt x="724" y="41"/>
                    </a:lnTo>
                    <a:lnTo>
                      <a:pt x="731" y="44"/>
                    </a:lnTo>
                    <a:lnTo>
                      <a:pt x="734" y="48"/>
                    </a:lnTo>
                    <a:lnTo>
                      <a:pt x="734" y="52"/>
                    </a:lnTo>
                    <a:lnTo>
                      <a:pt x="737" y="55"/>
                    </a:lnTo>
                    <a:lnTo>
                      <a:pt x="740" y="59"/>
                    </a:lnTo>
                    <a:lnTo>
                      <a:pt x="740" y="59"/>
                    </a:lnTo>
                    <a:lnTo>
                      <a:pt x="740" y="63"/>
                    </a:lnTo>
                    <a:lnTo>
                      <a:pt x="740" y="70"/>
                    </a:lnTo>
                    <a:lnTo>
                      <a:pt x="740" y="77"/>
                    </a:lnTo>
                    <a:lnTo>
                      <a:pt x="740" y="81"/>
                    </a:lnTo>
                    <a:lnTo>
                      <a:pt x="737" y="88"/>
                    </a:lnTo>
                    <a:lnTo>
                      <a:pt x="737" y="96"/>
                    </a:lnTo>
                    <a:lnTo>
                      <a:pt x="734" y="99"/>
                    </a:lnTo>
                    <a:lnTo>
                      <a:pt x="731" y="103"/>
                    </a:lnTo>
                    <a:lnTo>
                      <a:pt x="724" y="103"/>
                    </a:lnTo>
                    <a:lnTo>
                      <a:pt x="718" y="103"/>
                    </a:lnTo>
                    <a:lnTo>
                      <a:pt x="712" y="103"/>
                    </a:lnTo>
                    <a:lnTo>
                      <a:pt x="706" y="107"/>
                    </a:lnTo>
                    <a:lnTo>
                      <a:pt x="700" y="107"/>
                    </a:lnTo>
                    <a:lnTo>
                      <a:pt x="697" y="107"/>
                    </a:lnTo>
                    <a:lnTo>
                      <a:pt x="690" y="107"/>
                    </a:lnTo>
                    <a:lnTo>
                      <a:pt x="687" y="107"/>
                    </a:lnTo>
                    <a:lnTo>
                      <a:pt x="681" y="107"/>
                    </a:lnTo>
                    <a:lnTo>
                      <a:pt x="675" y="107"/>
                    </a:lnTo>
                    <a:lnTo>
                      <a:pt x="672" y="107"/>
                    </a:lnTo>
                    <a:lnTo>
                      <a:pt x="669" y="103"/>
                    </a:lnTo>
                    <a:lnTo>
                      <a:pt x="669" y="103"/>
                    </a:lnTo>
                    <a:lnTo>
                      <a:pt x="666" y="99"/>
                    </a:lnTo>
                    <a:lnTo>
                      <a:pt x="666" y="96"/>
                    </a:lnTo>
                    <a:lnTo>
                      <a:pt x="662" y="96"/>
                    </a:lnTo>
                    <a:lnTo>
                      <a:pt x="656" y="96"/>
                    </a:lnTo>
                    <a:lnTo>
                      <a:pt x="653" y="96"/>
                    </a:lnTo>
                    <a:lnTo>
                      <a:pt x="650" y="92"/>
                    </a:lnTo>
                    <a:lnTo>
                      <a:pt x="647" y="88"/>
                    </a:lnTo>
                    <a:lnTo>
                      <a:pt x="647" y="88"/>
                    </a:lnTo>
                    <a:lnTo>
                      <a:pt x="644" y="85"/>
                    </a:lnTo>
                    <a:lnTo>
                      <a:pt x="644" y="81"/>
                    </a:lnTo>
                    <a:lnTo>
                      <a:pt x="641" y="81"/>
                    </a:lnTo>
                    <a:lnTo>
                      <a:pt x="638" y="81"/>
                    </a:lnTo>
                    <a:lnTo>
                      <a:pt x="631" y="77"/>
                    </a:lnTo>
                    <a:lnTo>
                      <a:pt x="628" y="77"/>
                    </a:lnTo>
                    <a:lnTo>
                      <a:pt x="625" y="74"/>
                    </a:lnTo>
                    <a:lnTo>
                      <a:pt x="622" y="70"/>
                    </a:lnTo>
                    <a:lnTo>
                      <a:pt x="619" y="66"/>
                    </a:lnTo>
                    <a:lnTo>
                      <a:pt x="619" y="63"/>
                    </a:lnTo>
                    <a:lnTo>
                      <a:pt x="616" y="59"/>
                    </a:lnTo>
                    <a:lnTo>
                      <a:pt x="613" y="59"/>
                    </a:lnTo>
                    <a:lnTo>
                      <a:pt x="610" y="59"/>
                    </a:lnTo>
                    <a:lnTo>
                      <a:pt x="607" y="55"/>
                    </a:lnTo>
                    <a:lnTo>
                      <a:pt x="604" y="55"/>
                    </a:lnTo>
                    <a:lnTo>
                      <a:pt x="601" y="52"/>
                    </a:lnTo>
                    <a:lnTo>
                      <a:pt x="601" y="48"/>
                    </a:lnTo>
                    <a:lnTo>
                      <a:pt x="601" y="44"/>
                    </a:lnTo>
                    <a:lnTo>
                      <a:pt x="601" y="41"/>
                    </a:lnTo>
                    <a:lnTo>
                      <a:pt x="601" y="37"/>
                    </a:lnTo>
                    <a:lnTo>
                      <a:pt x="601" y="37"/>
                    </a:lnTo>
                    <a:lnTo>
                      <a:pt x="604" y="33"/>
                    </a:lnTo>
                    <a:lnTo>
                      <a:pt x="607" y="33"/>
                    </a:lnTo>
                    <a:lnTo>
                      <a:pt x="607" y="30"/>
                    </a:lnTo>
                    <a:lnTo>
                      <a:pt x="610" y="30"/>
                    </a:lnTo>
                    <a:lnTo>
                      <a:pt x="613" y="26"/>
                    </a:lnTo>
                    <a:lnTo>
                      <a:pt x="616" y="22"/>
                    </a:lnTo>
                    <a:lnTo>
                      <a:pt x="622" y="22"/>
                    </a:lnTo>
                    <a:lnTo>
                      <a:pt x="625" y="19"/>
                    </a:lnTo>
                    <a:lnTo>
                      <a:pt x="628" y="15"/>
                    </a:lnTo>
                    <a:lnTo>
                      <a:pt x="635" y="15"/>
                    </a:lnTo>
                    <a:lnTo>
                      <a:pt x="638" y="15"/>
                    </a:lnTo>
                    <a:lnTo>
                      <a:pt x="641" y="15"/>
                    </a:lnTo>
                    <a:lnTo>
                      <a:pt x="644" y="15"/>
                    </a:lnTo>
                    <a:lnTo>
                      <a:pt x="647" y="22"/>
                    </a:lnTo>
                    <a:close/>
                    <a:moveTo>
                      <a:pt x="353" y="147"/>
                    </a:moveTo>
                    <a:lnTo>
                      <a:pt x="356" y="147"/>
                    </a:lnTo>
                    <a:lnTo>
                      <a:pt x="356" y="147"/>
                    </a:lnTo>
                    <a:lnTo>
                      <a:pt x="359" y="151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5" y="158"/>
                    </a:lnTo>
                    <a:lnTo>
                      <a:pt x="368" y="158"/>
                    </a:lnTo>
                    <a:lnTo>
                      <a:pt x="368" y="162"/>
                    </a:lnTo>
                    <a:lnTo>
                      <a:pt x="368" y="165"/>
                    </a:lnTo>
                    <a:lnTo>
                      <a:pt x="371" y="173"/>
                    </a:lnTo>
                    <a:lnTo>
                      <a:pt x="371" y="176"/>
                    </a:lnTo>
                    <a:lnTo>
                      <a:pt x="371" y="184"/>
                    </a:lnTo>
                    <a:lnTo>
                      <a:pt x="371" y="191"/>
                    </a:lnTo>
                    <a:lnTo>
                      <a:pt x="371" y="195"/>
                    </a:lnTo>
                    <a:lnTo>
                      <a:pt x="371" y="202"/>
                    </a:lnTo>
                    <a:lnTo>
                      <a:pt x="371" y="209"/>
                    </a:lnTo>
                    <a:lnTo>
                      <a:pt x="381" y="209"/>
                    </a:lnTo>
                    <a:lnTo>
                      <a:pt x="390" y="206"/>
                    </a:lnTo>
                    <a:lnTo>
                      <a:pt x="396" y="206"/>
                    </a:lnTo>
                    <a:lnTo>
                      <a:pt x="405" y="202"/>
                    </a:lnTo>
                    <a:lnTo>
                      <a:pt x="412" y="198"/>
                    </a:lnTo>
                    <a:lnTo>
                      <a:pt x="418" y="195"/>
                    </a:lnTo>
                    <a:lnTo>
                      <a:pt x="421" y="191"/>
                    </a:lnTo>
                    <a:lnTo>
                      <a:pt x="427" y="184"/>
                    </a:lnTo>
                    <a:lnTo>
                      <a:pt x="436" y="173"/>
                    </a:lnTo>
                    <a:lnTo>
                      <a:pt x="433" y="176"/>
                    </a:lnTo>
                    <a:lnTo>
                      <a:pt x="433" y="180"/>
                    </a:lnTo>
                    <a:lnTo>
                      <a:pt x="433" y="184"/>
                    </a:lnTo>
                    <a:lnTo>
                      <a:pt x="430" y="184"/>
                    </a:lnTo>
                    <a:lnTo>
                      <a:pt x="430" y="187"/>
                    </a:lnTo>
                    <a:lnTo>
                      <a:pt x="430" y="191"/>
                    </a:lnTo>
                    <a:lnTo>
                      <a:pt x="430" y="195"/>
                    </a:lnTo>
                    <a:lnTo>
                      <a:pt x="427" y="198"/>
                    </a:lnTo>
                    <a:lnTo>
                      <a:pt x="427" y="202"/>
                    </a:lnTo>
                    <a:lnTo>
                      <a:pt x="427" y="206"/>
                    </a:lnTo>
                    <a:lnTo>
                      <a:pt x="427" y="209"/>
                    </a:lnTo>
                    <a:lnTo>
                      <a:pt x="427" y="209"/>
                    </a:lnTo>
                    <a:lnTo>
                      <a:pt x="427" y="213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20"/>
                    </a:lnTo>
                    <a:lnTo>
                      <a:pt x="430" y="220"/>
                    </a:lnTo>
                    <a:lnTo>
                      <a:pt x="430" y="224"/>
                    </a:lnTo>
                    <a:lnTo>
                      <a:pt x="430" y="224"/>
                    </a:lnTo>
                    <a:lnTo>
                      <a:pt x="430" y="228"/>
                    </a:lnTo>
                    <a:lnTo>
                      <a:pt x="430" y="228"/>
                    </a:lnTo>
                    <a:lnTo>
                      <a:pt x="433" y="228"/>
                    </a:lnTo>
                    <a:lnTo>
                      <a:pt x="433" y="228"/>
                    </a:lnTo>
                    <a:lnTo>
                      <a:pt x="446" y="228"/>
                    </a:lnTo>
                    <a:lnTo>
                      <a:pt x="455" y="220"/>
                    </a:lnTo>
                    <a:lnTo>
                      <a:pt x="458" y="224"/>
                    </a:lnTo>
                    <a:lnTo>
                      <a:pt x="458" y="228"/>
                    </a:lnTo>
                    <a:lnTo>
                      <a:pt x="461" y="228"/>
                    </a:lnTo>
                    <a:lnTo>
                      <a:pt x="464" y="228"/>
                    </a:lnTo>
                    <a:lnTo>
                      <a:pt x="467" y="228"/>
                    </a:lnTo>
                    <a:lnTo>
                      <a:pt x="470" y="224"/>
                    </a:lnTo>
                    <a:lnTo>
                      <a:pt x="474" y="220"/>
                    </a:lnTo>
                    <a:lnTo>
                      <a:pt x="480" y="213"/>
                    </a:lnTo>
                    <a:lnTo>
                      <a:pt x="480" y="217"/>
                    </a:lnTo>
                    <a:lnTo>
                      <a:pt x="480" y="217"/>
                    </a:lnTo>
                    <a:lnTo>
                      <a:pt x="483" y="217"/>
                    </a:lnTo>
                    <a:lnTo>
                      <a:pt x="483" y="220"/>
                    </a:lnTo>
                    <a:lnTo>
                      <a:pt x="486" y="220"/>
                    </a:lnTo>
                    <a:lnTo>
                      <a:pt x="486" y="220"/>
                    </a:lnTo>
                    <a:lnTo>
                      <a:pt x="489" y="220"/>
                    </a:lnTo>
                    <a:lnTo>
                      <a:pt x="489" y="220"/>
                    </a:lnTo>
                    <a:lnTo>
                      <a:pt x="492" y="217"/>
                    </a:lnTo>
                    <a:lnTo>
                      <a:pt x="492" y="217"/>
                    </a:lnTo>
                    <a:lnTo>
                      <a:pt x="495" y="213"/>
                    </a:lnTo>
                    <a:lnTo>
                      <a:pt x="495" y="209"/>
                    </a:lnTo>
                    <a:lnTo>
                      <a:pt x="498" y="206"/>
                    </a:lnTo>
                    <a:lnTo>
                      <a:pt x="501" y="206"/>
                    </a:lnTo>
                    <a:lnTo>
                      <a:pt x="501" y="202"/>
                    </a:lnTo>
                    <a:lnTo>
                      <a:pt x="505" y="202"/>
                    </a:lnTo>
                    <a:lnTo>
                      <a:pt x="505" y="198"/>
                    </a:lnTo>
                    <a:lnTo>
                      <a:pt x="505" y="195"/>
                    </a:lnTo>
                    <a:lnTo>
                      <a:pt x="505" y="187"/>
                    </a:lnTo>
                    <a:lnTo>
                      <a:pt x="505" y="184"/>
                    </a:lnTo>
                    <a:lnTo>
                      <a:pt x="501" y="180"/>
                    </a:lnTo>
                    <a:lnTo>
                      <a:pt x="501" y="176"/>
                    </a:lnTo>
                    <a:lnTo>
                      <a:pt x="498" y="173"/>
                    </a:lnTo>
                    <a:lnTo>
                      <a:pt x="498" y="169"/>
                    </a:lnTo>
                    <a:lnTo>
                      <a:pt x="498" y="165"/>
                    </a:lnTo>
                    <a:lnTo>
                      <a:pt x="495" y="162"/>
                    </a:lnTo>
                    <a:lnTo>
                      <a:pt x="495" y="162"/>
                    </a:lnTo>
                    <a:lnTo>
                      <a:pt x="492" y="162"/>
                    </a:lnTo>
                    <a:lnTo>
                      <a:pt x="492" y="158"/>
                    </a:lnTo>
                    <a:lnTo>
                      <a:pt x="489" y="158"/>
                    </a:lnTo>
                    <a:lnTo>
                      <a:pt x="489" y="158"/>
                    </a:lnTo>
                    <a:lnTo>
                      <a:pt x="486" y="154"/>
                    </a:lnTo>
                    <a:lnTo>
                      <a:pt x="483" y="151"/>
                    </a:lnTo>
                    <a:lnTo>
                      <a:pt x="483" y="143"/>
                    </a:lnTo>
                    <a:lnTo>
                      <a:pt x="480" y="140"/>
                    </a:lnTo>
                    <a:lnTo>
                      <a:pt x="480" y="132"/>
                    </a:lnTo>
                    <a:lnTo>
                      <a:pt x="477" y="129"/>
                    </a:lnTo>
                    <a:lnTo>
                      <a:pt x="474" y="125"/>
                    </a:lnTo>
                    <a:lnTo>
                      <a:pt x="470" y="121"/>
                    </a:lnTo>
                    <a:lnTo>
                      <a:pt x="467" y="118"/>
                    </a:lnTo>
                    <a:lnTo>
                      <a:pt x="464" y="118"/>
                    </a:lnTo>
                    <a:lnTo>
                      <a:pt x="461" y="114"/>
                    </a:lnTo>
                    <a:lnTo>
                      <a:pt x="458" y="110"/>
                    </a:lnTo>
                    <a:lnTo>
                      <a:pt x="455" y="107"/>
                    </a:lnTo>
                    <a:lnTo>
                      <a:pt x="452" y="99"/>
                    </a:lnTo>
                    <a:lnTo>
                      <a:pt x="449" y="96"/>
                    </a:lnTo>
                    <a:lnTo>
                      <a:pt x="449" y="92"/>
                    </a:lnTo>
                    <a:lnTo>
                      <a:pt x="446" y="88"/>
                    </a:lnTo>
                    <a:lnTo>
                      <a:pt x="439" y="88"/>
                    </a:lnTo>
                    <a:lnTo>
                      <a:pt x="436" y="88"/>
                    </a:lnTo>
                    <a:lnTo>
                      <a:pt x="430" y="92"/>
                    </a:lnTo>
                    <a:lnTo>
                      <a:pt x="424" y="92"/>
                    </a:lnTo>
                    <a:lnTo>
                      <a:pt x="418" y="96"/>
                    </a:lnTo>
                    <a:lnTo>
                      <a:pt x="415" y="96"/>
                    </a:lnTo>
                    <a:lnTo>
                      <a:pt x="409" y="96"/>
                    </a:lnTo>
                    <a:lnTo>
                      <a:pt x="402" y="96"/>
                    </a:lnTo>
                    <a:lnTo>
                      <a:pt x="396" y="99"/>
                    </a:lnTo>
                    <a:lnTo>
                      <a:pt x="387" y="107"/>
                    </a:lnTo>
                    <a:lnTo>
                      <a:pt x="381" y="114"/>
                    </a:lnTo>
                    <a:lnTo>
                      <a:pt x="374" y="118"/>
                    </a:lnTo>
                    <a:lnTo>
                      <a:pt x="371" y="125"/>
                    </a:lnTo>
                    <a:lnTo>
                      <a:pt x="365" y="132"/>
                    </a:lnTo>
                    <a:lnTo>
                      <a:pt x="359" y="140"/>
                    </a:lnTo>
                    <a:lnTo>
                      <a:pt x="353" y="147"/>
                    </a:lnTo>
                    <a:close/>
                    <a:moveTo>
                      <a:pt x="343" y="250"/>
                    </a:moveTo>
                    <a:lnTo>
                      <a:pt x="340" y="250"/>
                    </a:lnTo>
                    <a:lnTo>
                      <a:pt x="334" y="250"/>
                    </a:lnTo>
                    <a:lnTo>
                      <a:pt x="328" y="253"/>
                    </a:lnTo>
                    <a:lnTo>
                      <a:pt x="325" y="253"/>
                    </a:lnTo>
                    <a:lnTo>
                      <a:pt x="319" y="257"/>
                    </a:lnTo>
                    <a:lnTo>
                      <a:pt x="316" y="261"/>
                    </a:lnTo>
                    <a:lnTo>
                      <a:pt x="309" y="261"/>
                    </a:lnTo>
                    <a:lnTo>
                      <a:pt x="306" y="264"/>
                    </a:lnTo>
                    <a:lnTo>
                      <a:pt x="303" y="272"/>
                    </a:lnTo>
                    <a:lnTo>
                      <a:pt x="303" y="275"/>
                    </a:lnTo>
                    <a:lnTo>
                      <a:pt x="303" y="283"/>
                    </a:lnTo>
                    <a:lnTo>
                      <a:pt x="303" y="286"/>
                    </a:lnTo>
                    <a:lnTo>
                      <a:pt x="303" y="294"/>
                    </a:lnTo>
                    <a:lnTo>
                      <a:pt x="303" y="301"/>
                    </a:lnTo>
                    <a:lnTo>
                      <a:pt x="303" y="308"/>
                    </a:lnTo>
                    <a:lnTo>
                      <a:pt x="306" y="316"/>
                    </a:lnTo>
                    <a:lnTo>
                      <a:pt x="313" y="319"/>
                    </a:lnTo>
                    <a:lnTo>
                      <a:pt x="322" y="323"/>
                    </a:lnTo>
                    <a:lnTo>
                      <a:pt x="331" y="323"/>
                    </a:lnTo>
                    <a:lnTo>
                      <a:pt x="337" y="327"/>
                    </a:lnTo>
                    <a:lnTo>
                      <a:pt x="347" y="327"/>
                    </a:lnTo>
                    <a:lnTo>
                      <a:pt x="353" y="323"/>
                    </a:lnTo>
                    <a:lnTo>
                      <a:pt x="362" y="319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2" y="312"/>
                    </a:lnTo>
                    <a:lnTo>
                      <a:pt x="359" y="312"/>
                    </a:lnTo>
                    <a:lnTo>
                      <a:pt x="356" y="312"/>
                    </a:lnTo>
                    <a:lnTo>
                      <a:pt x="353" y="308"/>
                    </a:lnTo>
                    <a:lnTo>
                      <a:pt x="350" y="308"/>
                    </a:lnTo>
                    <a:lnTo>
                      <a:pt x="347" y="308"/>
                    </a:lnTo>
                    <a:lnTo>
                      <a:pt x="350" y="308"/>
                    </a:lnTo>
                    <a:lnTo>
                      <a:pt x="356" y="305"/>
                    </a:lnTo>
                    <a:lnTo>
                      <a:pt x="359" y="305"/>
                    </a:lnTo>
                    <a:lnTo>
                      <a:pt x="359" y="305"/>
                    </a:lnTo>
                    <a:lnTo>
                      <a:pt x="362" y="305"/>
                    </a:lnTo>
                    <a:lnTo>
                      <a:pt x="365" y="305"/>
                    </a:lnTo>
                    <a:lnTo>
                      <a:pt x="365" y="301"/>
                    </a:lnTo>
                    <a:lnTo>
                      <a:pt x="365" y="301"/>
                    </a:lnTo>
                    <a:lnTo>
                      <a:pt x="368" y="301"/>
                    </a:lnTo>
                    <a:lnTo>
                      <a:pt x="371" y="301"/>
                    </a:lnTo>
                    <a:lnTo>
                      <a:pt x="371" y="305"/>
                    </a:lnTo>
                    <a:lnTo>
                      <a:pt x="374" y="305"/>
                    </a:lnTo>
                    <a:lnTo>
                      <a:pt x="378" y="308"/>
                    </a:lnTo>
                    <a:lnTo>
                      <a:pt x="381" y="308"/>
                    </a:lnTo>
                    <a:lnTo>
                      <a:pt x="384" y="312"/>
                    </a:lnTo>
                    <a:lnTo>
                      <a:pt x="384" y="312"/>
                    </a:lnTo>
                    <a:lnTo>
                      <a:pt x="387" y="316"/>
                    </a:lnTo>
                    <a:lnTo>
                      <a:pt x="390" y="316"/>
                    </a:lnTo>
                    <a:lnTo>
                      <a:pt x="390" y="316"/>
                    </a:lnTo>
                    <a:lnTo>
                      <a:pt x="393" y="316"/>
                    </a:lnTo>
                    <a:lnTo>
                      <a:pt x="396" y="316"/>
                    </a:lnTo>
                    <a:lnTo>
                      <a:pt x="396" y="316"/>
                    </a:lnTo>
                    <a:lnTo>
                      <a:pt x="399" y="316"/>
                    </a:lnTo>
                    <a:lnTo>
                      <a:pt x="402" y="316"/>
                    </a:lnTo>
                    <a:lnTo>
                      <a:pt x="402" y="316"/>
                    </a:lnTo>
                    <a:lnTo>
                      <a:pt x="405" y="316"/>
                    </a:lnTo>
                    <a:lnTo>
                      <a:pt x="409" y="312"/>
                    </a:lnTo>
                    <a:lnTo>
                      <a:pt x="409" y="308"/>
                    </a:lnTo>
                    <a:lnTo>
                      <a:pt x="412" y="305"/>
                    </a:lnTo>
                    <a:lnTo>
                      <a:pt x="412" y="301"/>
                    </a:lnTo>
                    <a:lnTo>
                      <a:pt x="412" y="297"/>
                    </a:lnTo>
                    <a:lnTo>
                      <a:pt x="412" y="294"/>
                    </a:lnTo>
                    <a:lnTo>
                      <a:pt x="409" y="290"/>
                    </a:lnTo>
                    <a:lnTo>
                      <a:pt x="409" y="286"/>
                    </a:lnTo>
                    <a:lnTo>
                      <a:pt x="405" y="286"/>
                    </a:lnTo>
                    <a:lnTo>
                      <a:pt x="402" y="283"/>
                    </a:lnTo>
                    <a:lnTo>
                      <a:pt x="402" y="283"/>
                    </a:lnTo>
                    <a:lnTo>
                      <a:pt x="399" y="283"/>
                    </a:lnTo>
                    <a:lnTo>
                      <a:pt x="396" y="279"/>
                    </a:lnTo>
                    <a:lnTo>
                      <a:pt x="396" y="279"/>
                    </a:lnTo>
                    <a:lnTo>
                      <a:pt x="393" y="275"/>
                    </a:lnTo>
                    <a:lnTo>
                      <a:pt x="390" y="275"/>
                    </a:lnTo>
                    <a:lnTo>
                      <a:pt x="390" y="275"/>
                    </a:lnTo>
                    <a:lnTo>
                      <a:pt x="387" y="272"/>
                    </a:lnTo>
                    <a:lnTo>
                      <a:pt x="384" y="272"/>
                    </a:lnTo>
                    <a:lnTo>
                      <a:pt x="381" y="268"/>
                    </a:lnTo>
                    <a:lnTo>
                      <a:pt x="378" y="268"/>
                    </a:lnTo>
                    <a:lnTo>
                      <a:pt x="374" y="268"/>
                    </a:lnTo>
                    <a:lnTo>
                      <a:pt x="378" y="268"/>
                    </a:lnTo>
                    <a:lnTo>
                      <a:pt x="381" y="264"/>
                    </a:lnTo>
                    <a:lnTo>
                      <a:pt x="384" y="264"/>
                    </a:lnTo>
                    <a:lnTo>
                      <a:pt x="384" y="261"/>
                    </a:lnTo>
                    <a:lnTo>
                      <a:pt x="384" y="261"/>
                    </a:lnTo>
                    <a:lnTo>
                      <a:pt x="384" y="257"/>
                    </a:lnTo>
                    <a:lnTo>
                      <a:pt x="384" y="253"/>
                    </a:lnTo>
                    <a:lnTo>
                      <a:pt x="384" y="250"/>
                    </a:lnTo>
                    <a:lnTo>
                      <a:pt x="384" y="250"/>
                    </a:lnTo>
                    <a:lnTo>
                      <a:pt x="384" y="253"/>
                    </a:lnTo>
                    <a:lnTo>
                      <a:pt x="387" y="253"/>
                    </a:lnTo>
                    <a:lnTo>
                      <a:pt x="387" y="257"/>
                    </a:lnTo>
                    <a:lnTo>
                      <a:pt x="390" y="261"/>
                    </a:lnTo>
                    <a:lnTo>
                      <a:pt x="390" y="261"/>
                    </a:lnTo>
                    <a:lnTo>
                      <a:pt x="393" y="261"/>
                    </a:lnTo>
                    <a:lnTo>
                      <a:pt x="393" y="261"/>
                    </a:lnTo>
                    <a:lnTo>
                      <a:pt x="396" y="261"/>
                    </a:lnTo>
                    <a:lnTo>
                      <a:pt x="399" y="264"/>
                    </a:lnTo>
                    <a:lnTo>
                      <a:pt x="405" y="264"/>
                    </a:lnTo>
                    <a:lnTo>
                      <a:pt x="409" y="264"/>
                    </a:lnTo>
                    <a:lnTo>
                      <a:pt x="412" y="268"/>
                    </a:lnTo>
                    <a:lnTo>
                      <a:pt x="415" y="268"/>
                    </a:lnTo>
                    <a:lnTo>
                      <a:pt x="415" y="264"/>
                    </a:lnTo>
                    <a:lnTo>
                      <a:pt x="415" y="264"/>
                    </a:lnTo>
                    <a:lnTo>
                      <a:pt x="418" y="268"/>
                    </a:lnTo>
                    <a:lnTo>
                      <a:pt x="418" y="272"/>
                    </a:lnTo>
                    <a:lnTo>
                      <a:pt x="421" y="275"/>
                    </a:lnTo>
                    <a:lnTo>
                      <a:pt x="421" y="283"/>
                    </a:lnTo>
                    <a:lnTo>
                      <a:pt x="424" y="286"/>
                    </a:lnTo>
                    <a:lnTo>
                      <a:pt x="427" y="294"/>
                    </a:lnTo>
                    <a:lnTo>
                      <a:pt x="427" y="297"/>
                    </a:lnTo>
                    <a:lnTo>
                      <a:pt x="430" y="301"/>
                    </a:lnTo>
                    <a:lnTo>
                      <a:pt x="427" y="301"/>
                    </a:lnTo>
                    <a:lnTo>
                      <a:pt x="424" y="305"/>
                    </a:lnTo>
                    <a:lnTo>
                      <a:pt x="424" y="308"/>
                    </a:lnTo>
                    <a:lnTo>
                      <a:pt x="421" y="312"/>
                    </a:lnTo>
                    <a:lnTo>
                      <a:pt x="418" y="316"/>
                    </a:lnTo>
                    <a:lnTo>
                      <a:pt x="418" y="319"/>
                    </a:lnTo>
                    <a:lnTo>
                      <a:pt x="415" y="323"/>
                    </a:lnTo>
                    <a:lnTo>
                      <a:pt x="415" y="327"/>
                    </a:lnTo>
                    <a:lnTo>
                      <a:pt x="412" y="330"/>
                    </a:lnTo>
                    <a:lnTo>
                      <a:pt x="412" y="338"/>
                    </a:lnTo>
                    <a:lnTo>
                      <a:pt x="415" y="341"/>
                    </a:lnTo>
                    <a:lnTo>
                      <a:pt x="415" y="345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1" y="349"/>
                    </a:lnTo>
                    <a:lnTo>
                      <a:pt x="424" y="349"/>
                    </a:lnTo>
                    <a:lnTo>
                      <a:pt x="424" y="352"/>
                    </a:lnTo>
                    <a:lnTo>
                      <a:pt x="424" y="352"/>
                    </a:lnTo>
                    <a:lnTo>
                      <a:pt x="421" y="356"/>
                    </a:lnTo>
                    <a:lnTo>
                      <a:pt x="421" y="356"/>
                    </a:lnTo>
                    <a:lnTo>
                      <a:pt x="424" y="360"/>
                    </a:lnTo>
                    <a:lnTo>
                      <a:pt x="424" y="363"/>
                    </a:lnTo>
                    <a:lnTo>
                      <a:pt x="424" y="363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33" y="374"/>
                    </a:lnTo>
                    <a:lnTo>
                      <a:pt x="439" y="371"/>
                    </a:lnTo>
                    <a:lnTo>
                      <a:pt x="446" y="367"/>
                    </a:lnTo>
                    <a:lnTo>
                      <a:pt x="452" y="360"/>
                    </a:lnTo>
                    <a:lnTo>
                      <a:pt x="458" y="352"/>
                    </a:lnTo>
                    <a:lnTo>
                      <a:pt x="464" y="345"/>
                    </a:lnTo>
                    <a:lnTo>
                      <a:pt x="467" y="334"/>
                    </a:lnTo>
                    <a:lnTo>
                      <a:pt x="470" y="327"/>
                    </a:lnTo>
                    <a:lnTo>
                      <a:pt x="470" y="327"/>
                    </a:lnTo>
                    <a:lnTo>
                      <a:pt x="470" y="323"/>
                    </a:lnTo>
                    <a:lnTo>
                      <a:pt x="470" y="319"/>
                    </a:lnTo>
                    <a:lnTo>
                      <a:pt x="470" y="319"/>
                    </a:lnTo>
                    <a:lnTo>
                      <a:pt x="467" y="316"/>
                    </a:lnTo>
                    <a:lnTo>
                      <a:pt x="467" y="316"/>
                    </a:lnTo>
                    <a:lnTo>
                      <a:pt x="467" y="312"/>
                    </a:lnTo>
                    <a:lnTo>
                      <a:pt x="464" y="312"/>
                    </a:lnTo>
                    <a:lnTo>
                      <a:pt x="467" y="305"/>
                    </a:lnTo>
                    <a:lnTo>
                      <a:pt x="467" y="301"/>
                    </a:lnTo>
                    <a:lnTo>
                      <a:pt x="467" y="301"/>
                    </a:lnTo>
                    <a:lnTo>
                      <a:pt x="467" y="297"/>
                    </a:lnTo>
                    <a:lnTo>
                      <a:pt x="467" y="294"/>
                    </a:lnTo>
                    <a:lnTo>
                      <a:pt x="464" y="294"/>
                    </a:lnTo>
                    <a:lnTo>
                      <a:pt x="461" y="290"/>
                    </a:lnTo>
                    <a:lnTo>
                      <a:pt x="461" y="290"/>
                    </a:lnTo>
                    <a:lnTo>
                      <a:pt x="461" y="286"/>
                    </a:lnTo>
                    <a:lnTo>
                      <a:pt x="461" y="283"/>
                    </a:lnTo>
                    <a:lnTo>
                      <a:pt x="461" y="279"/>
                    </a:lnTo>
                    <a:lnTo>
                      <a:pt x="461" y="275"/>
                    </a:lnTo>
                    <a:lnTo>
                      <a:pt x="458" y="275"/>
                    </a:lnTo>
                    <a:lnTo>
                      <a:pt x="458" y="272"/>
                    </a:lnTo>
                    <a:lnTo>
                      <a:pt x="455" y="264"/>
                    </a:lnTo>
                    <a:lnTo>
                      <a:pt x="449" y="261"/>
                    </a:lnTo>
                    <a:lnTo>
                      <a:pt x="449" y="257"/>
                    </a:lnTo>
                    <a:lnTo>
                      <a:pt x="446" y="253"/>
                    </a:lnTo>
                    <a:lnTo>
                      <a:pt x="439" y="246"/>
                    </a:lnTo>
                    <a:lnTo>
                      <a:pt x="436" y="242"/>
                    </a:lnTo>
                    <a:lnTo>
                      <a:pt x="433" y="239"/>
                    </a:lnTo>
                    <a:lnTo>
                      <a:pt x="430" y="231"/>
                    </a:lnTo>
                    <a:lnTo>
                      <a:pt x="427" y="228"/>
                    </a:lnTo>
                    <a:lnTo>
                      <a:pt x="424" y="224"/>
                    </a:lnTo>
                    <a:lnTo>
                      <a:pt x="421" y="224"/>
                    </a:lnTo>
                    <a:lnTo>
                      <a:pt x="421" y="220"/>
                    </a:lnTo>
                    <a:lnTo>
                      <a:pt x="418" y="220"/>
                    </a:lnTo>
                    <a:lnTo>
                      <a:pt x="415" y="217"/>
                    </a:lnTo>
                    <a:lnTo>
                      <a:pt x="412" y="217"/>
                    </a:lnTo>
                    <a:lnTo>
                      <a:pt x="412" y="217"/>
                    </a:lnTo>
                    <a:lnTo>
                      <a:pt x="409" y="220"/>
                    </a:lnTo>
                    <a:lnTo>
                      <a:pt x="409" y="220"/>
                    </a:lnTo>
                    <a:lnTo>
                      <a:pt x="405" y="220"/>
                    </a:lnTo>
                    <a:lnTo>
                      <a:pt x="405" y="217"/>
                    </a:lnTo>
                    <a:lnTo>
                      <a:pt x="402" y="217"/>
                    </a:lnTo>
                    <a:lnTo>
                      <a:pt x="399" y="217"/>
                    </a:lnTo>
                    <a:lnTo>
                      <a:pt x="399" y="217"/>
                    </a:lnTo>
                    <a:lnTo>
                      <a:pt x="396" y="213"/>
                    </a:lnTo>
                    <a:lnTo>
                      <a:pt x="396" y="213"/>
                    </a:lnTo>
                    <a:lnTo>
                      <a:pt x="393" y="213"/>
                    </a:lnTo>
                    <a:lnTo>
                      <a:pt x="390" y="213"/>
                    </a:lnTo>
                    <a:lnTo>
                      <a:pt x="384" y="217"/>
                    </a:lnTo>
                    <a:lnTo>
                      <a:pt x="381" y="224"/>
                    </a:lnTo>
                    <a:lnTo>
                      <a:pt x="374" y="228"/>
                    </a:lnTo>
                    <a:lnTo>
                      <a:pt x="368" y="235"/>
                    </a:lnTo>
                    <a:lnTo>
                      <a:pt x="362" y="242"/>
                    </a:lnTo>
                    <a:lnTo>
                      <a:pt x="353" y="246"/>
                    </a:lnTo>
                    <a:lnTo>
                      <a:pt x="343" y="250"/>
                    </a:lnTo>
                    <a:close/>
                    <a:moveTo>
                      <a:pt x="3" y="345"/>
                    </a:moveTo>
                    <a:lnTo>
                      <a:pt x="3" y="356"/>
                    </a:lnTo>
                    <a:lnTo>
                      <a:pt x="6" y="371"/>
                    </a:lnTo>
                    <a:lnTo>
                      <a:pt x="6" y="382"/>
                    </a:lnTo>
                    <a:lnTo>
                      <a:pt x="6" y="396"/>
                    </a:lnTo>
                    <a:lnTo>
                      <a:pt x="3" y="411"/>
                    </a:lnTo>
                    <a:lnTo>
                      <a:pt x="3" y="426"/>
                    </a:lnTo>
                    <a:lnTo>
                      <a:pt x="0" y="440"/>
                    </a:lnTo>
                    <a:lnTo>
                      <a:pt x="0" y="455"/>
                    </a:lnTo>
                    <a:lnTo>
                      <a:pt x="12" y="455"/>
                    </a:lnTo>
                    <a:lnTo>
                      <a:pt x="25" y="459"/>
                    </a:lnTo>
                    <a:lnTo>
                      <a:pt x="34" y="459"/>
                    </a:lnTo>
                    <a:lnTo>
                      <a:pt x="43" y="459"/>
                    </a:lnTo>
                    <a:lnTo>
                      <a:pt x="52" y="455"/>
                    </a:lnTo>
                    <a:lnTo>
                      <a:pt x="59" y="451"/>
                    </a:lnTo>
                    <a:lnTo>
                      <a:pt x="68" y="448"/>
                    </a:lnTo>
                    <a:lnTo>
                      <a:pt x="80" y="437"/>
                    </a:lnTo>
                    <a:lnTo>
                      <a:pt x="83" y="440"/>
                    </a:lnTo>
                    <a:lnTo>
                      <a:pt x="86" y="440"/>
                    </a:lnTo>
                    <a:lnTo>
                      <a:pt x="93" y="440"/>
                    </a:lnTo>
                    <a:lnTo>
                      <a:pt x="96" y="440"/>
                    </a:lnTo>
                    <a:lnTo>
                      <a:pt x="102" y="437"/>
                    </a:lnTo>
                    <a:lnTo>
                      <a:pt x="105" y="437"/>
                    </a:lnTo>
                    <a:lnTo>
                      <a:pt x="111" y="433"/>
                    </a:lnTo>
                    <a:lnTo>
                      <a:pt x="114" y="429"/>
                    </a:lnTo>
                    <a:lnTo>
                      <a:pt x="114" y="433"/>
                    </a:lnTo>
                    <a:lnTo>
                      <a:pt x="117" y="437"/>
                    </a:lnTo>
                    <a:lnTo>
                      <a:pt x="121" y="440"/>
                    </a:lnTo>
                    <a:lnTo>
                      <a:pt x="127" y="444"/>
                    </a:lnTo>
                    <a:lnTo>
                      <a:pt x="133" y="444"/>
                    </a:lnTo>
                    <a:lnTo>
                      <a:pt x="136" y="448"/>
                    </a:lnTo>
                    <a:lnTo>
                      <a:pt x="139" y="448"/>
                    </a:lnTo>
                    <a:lnTo>
                      <a:pt x="142" y="448"/>
                    </a:lnTo>
                    <a:lnTo>
                      <a:pt x="142" y="451"/>
                    </a:lnTo>
                    <a:lnTo>
                      <a:pt x="145" y="455"/>
                    </a:lnTo>
                    <a:lnTo>
                      <a:pt x="145" y="459"/>
                    </a:lnTo>
                    <a:lnTo>
                      <a:pt x="145" y="462"/>
                    </a:lnTo>
                    <a:lnTo>
                      <a:pt x="148" y="466"/>
                    </a:lnTo>
                    <a:lnTo>
                      <a:pt x="148" y="470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55" y="473"/>
                    </a:lnTo>
                    <a:lnTo>
                      <a:pt x="155" y="477"/>
                    </a:lnTo>
                    <a:lnTo>
                      <a:pt x="158" y="477"/>
                    </a:lnTo>
                    <a:lnTo>
                      <a:pt x="161" y="477"/>
                    </a:lnTo>
                    <a:lnTo>
                      <a:pt x="161" y="477"/>
                    </a:lnTo>
                    <a:lnTo>
                      <a:pt x="164" y="477"/>
                    </a:lnTo>
                    <a:lnTo>
                      <a:pt x="167" y="477"/>
                    </a:lnTo>
                    <a:lnTo>
                      <a:pt x="170" y="473"/>
                    </a:lnTo>
                    <a:lnTo>
                      <a:pt x="170" y="473"/>
                    </a:lnTo>
                    <a:lnTo>
                      <a:pt x="170" y="470"/>
                    </a:lnTo>
                    <a:lnTo>
                      <a:pt x="170" y="466"/>
                    </a:lnTo>
                    <a:lnTo>
                      <a:pt x="170" y="462"/>
                    </a:lnTo>
                    <a:lnTo>
                      <a:pt x="170" y="462"/>
                    </a:lnTo>
                    <a:lnTo>
                      <a:pt x="170" y="459"/>
                    </a:lnTo>
                    <a:lnTo>
                      <a:pt x="170" y="455"/>
                    </a:lnTo>
                    <a:lnTo>
                      <a:pt x="170" y="451"/>
                    </a:lnTo>
                    <a:lnTo>
                      <a:pt x="170" y="448"/>
                    </a:lnTo>
                    <a:lnTo>
                      <a:pt x="170" y="444"/>
                    </a:lnTo>
                    <a:lnTo>
                      <a:pt x="167" y="444"/>
                    </a:lnTo>
                    <a:lnTo>
                      <a:pt x="167" y="440"/>
                    </a:lnTo>
                    <a:lnTo>
                      <a:pt x="167" y="437"/>
                    </a:lnTo>
                    <a:lnTo>
                      <a:pt x="167" y="437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70" y="433"/>
                    </a:lnTo>
                    <a:lnTo>
                      <a:pt x="170" y="433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3" y="437"/>
                    </a:lnTo>
                    <a:lnTo>
                      <a:pt x="173" y="440"/>
                    </a:lnTo>
                    <a:lnTo>
                      <a:pt x="173" y="444"/>
                    </a:lnTo>
                    <a:lnTo>
                      <a:pt x="173" y="451"/>
                    </a:lnTo>
                    <a:lnTo>
                      <a:pt x="176" y="459"/>
                    </a:lnTo>
                    <a:lnTo>
                      <a:pt x="176" y="466"/>
                    </a:lnTo>
                    <a:lnTo>
                      <a:pt x="179" y="470"/>
                    </a:lnTo>
                    <a:lnTo>
                      <a:pt x="179" y="473"/>
                    </a:lnTo>
                    <a:lnTo>
                      <a:pt x="182" y="477"/>
                    </a:lnTo>
                    <a:lnTo>
                      <a:pt x="186" y="477"/>
                    </a:lnTo>
                    <a:lnTo>
                      <a:pt x="189" y="477"/>
                    </a:lnTo>
                    <a:lnTo>
                      <a:pt x="195" y="477"/>
                    </a:lnTo>
                    <a:lnTo>
                      <a:pt x="198" y="473"/>
                    </a:lnTo>
                    <a:lnTo>
                      <a:pt x="198" y="470"/>
                    </a:lnTo>
                    <a:lnTo>
                      <a:pt x="201" y="466"/>
                    </a:lnTo>
                    <a:lnTo>
                      <a:pt x="201" y="459"/>
                    </a:lnTo>
                    <a:lnTo>
                      <a:pt x="201" y="462"/>
                    </a:lnTo>
                    <a:lnTo>
                      <a:pt x="204" y="462"/>
                    </a:lnTo>
                    <a:lnTo>
                      <a:pt x="204" y="462"/>
                    </a:lnTo>
                    <a:lnTo>
                      <a:pt x="207" y="462"/>
                    </a:lnTo>
                    <a:lnTo>
                      <a:pt x="210" y="462"/>
                    </a:lnTo>
                    <a:lnTo>
                      <a:pt x="210" y="459"/>
                    </a:lnTo>
                    <a:lnTo>
                      <a:pt x="213" y="455"/>
                    </a:lnTo>
                    <a:lnTo>
                      <a:pt x="213" y="451"/>
                    </a:lnTo>
                    <a:lnTo>
                      <a:pt x="213" y="444"/>
                    </a:lnTo>
                    <a:lnTo>
                      <a:pt x="213" y="440"/>
                    </a:lnTo>
                    <a:lnTo>
                      <a:pt x="213" y="433"/>
                    </a:lnTo>
                    <a:lnTo>
                      <a:pt x="213" y="429"/>
                    </a:lnTo>
                    <a:lnTo>
                      <a:pt x="213" y="422"/>
                    </a:lnTo>
                    <a:lnTo>
                      <a:pt x="213" y="418"/>
                    </a:lnTo>
                    <a:lnTo>
                      <a:pt x="217" y="415"/>
                    </a:lnTo>
                    <a:lnTo>
                      <a:pt x="217" y="411"/>
                    </a:lnTo>
                    <a:lnTo>
                      <a:pt x="210" y="400"/>
                    </a:lnTo>
                    <a:lnTo>
                      <a:pt x="210" y="393"/>
                    </a:lnTo>
                    <a:lnTo>
                      <a:pt x="207" y="385"/>
                    </a:lnTo>
                    <a:lnTo>
                      <a:pt x="204" y="378"/>
                    </a:lnTo>
                    <a:lnTo>
                      <a:pt x="201" y="374"/>
                    </a:lnTo>
                    <a:lnTo>
                      <a:pt x="201" y="367"/>
                    </a:lnTo>
                    <a:lnTo>
                      <a:pt x="198" y="360"/>
                    </a:lnTo>
                    <a:lnTo>
                      <a:pt x="192" y="352"/>
                    </a:lnTo>
                    <a:lnTo>
                      <a:pt x="189" y="349"/>
                    </a:lnTo>
                    <a:lnTo>
                      <a:pt x="186" y="345"/>
                    </a:lnTo>
                    <a:lnTo>
                      <a:pt x="182" y="341"/>
                    </a:lnTo>
                    <a:lnTo>
                      <a:pt x="179" y="338"/>
                    </a:lnTo>
                    <a:lnTo>
                      <a:pt x="173" y="338"/>
                    </a:lnTo>
                    <a:lnTo>
                      <a:pt x="170" y="334"/>
                    </a:lnTo>
                    <a:lnTo>
                      <a:pt x="167" y="330"/>
                    </a:lnTo>
                    <a:lnTo>
                      <a:pt x="161" y="330"/>
                    </a:lnTo>
                    <a:lnTo>
                      <a:pt x="155" y="327"/>
                    </a:lnTo>
                    <a:lnTo>
                      <a:pt x="151" y="319"/>
                    </a:lnTo>
                    <a:lnTo>
                      <a:pt x="148" y="316"/>
                    </a:lnTo>
                    <a:lnTo>
                      <a:pt x="145" y="312"/>
                    </a:lnTo>
                    <a:lnTo>
                      <a:pt x="142" y="308"/>
                    </a:lnTo>
                    <a:lnTo>
                      <a:pt x="139" y="305"/>
                    </a:lnTo>
                    <a:lnTo>
                      <a:pt x="136" y="305"/>
                    </a:lnTo>
                    <a:lnTo>
                      <a:pt x="133" y="301"/>
                    </a:lnTo>
                    <a:lnTo>
                      <a:pt x="114" y="305"/>
                    </a:lnTo>
                    <a:lnTo>
                      <a:pt x="96" y="308"/>
                    </a:lnTo>
                    <a:lnTo>
                      <a:pt x="80" y="316"/>
                    </a:lnTo>
                    <a:lnTo>
                      <a:pt x="65" y="323"/>
                    </a:lnTo>
                    <a:lnTo>
                      <a:pt x="49" y="330"/>
                    </a:lnTo>
                    <a:lnTo>
                      <a:pt x="34" y="338"/>
                    </a:lnTo>
                    <a:lnTo>
                      <a:pt x="18" y="341"/>
                    </a:lnTo>
                    <a:lnTo>
                      <a:pt x="3" y="345"/>
                    </a:lnTo>
                    <a:close/>
                    <a:moveTo>
                      <a:pt x="1461" y="286"/>
                    </a:move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27" y="217"/>
                    </a:lnTo>
                    <a:lnTo>
                      <a:pt x="1437" y="220"/>
                    </a:lnTo>
                    <a:lnTo>
                      <a:pt x="1443" y="220"/>
                    </a:lnTo>
                    <a:lnTo>
                      <a:pt x="1452" y="224"/>
                    </a:lnTo>
                    <a:lnTo>
                      <a:pt x="1458" y="228"/>
                    </a:lnTo>
                    <a:lnTo>
                      <a:pt x="1465" y="231"/>
                    </a:lnTo>
                    <a:lnTo>
                      <a:pt x="1474" y="231"/>
                    </a:lnTo>
                    <a:lnTo>
                      <a:pt x="1483" y="235"/>
                    </a:lnTo>
                    <a:lnTo>
                      <a:pt x="1483" y="239"/>
                    </a:lnTo>
                    <a:lnTo>
                      <a:pt x="1483" y="246"/>
                    </a:lnTo>
                    <a:lnTo>
                      <a:pt x="1483" y="250"/>
                    </a:lnTo>
                    <a:lnTo>
                      <a:pt x="1480" y="253"/>
                    </a:lnTo>
                    <a:lnTo>
                      <a:pt x="1480" y="261"/>
                    </a:lnTo>
                    <a:lnTo>
                      <a:pt x="1480" y="264"/>
                    </a:lnTo>
                    <a:lnTo>
                      <a:pt x="1480" y="268"/>
                    </a:lnTo>
                    <a:lnTo>
                      <a:pt x="1480" y="272"/>
                    </a:lnTo>
                    <a:lnTo>
                      <a:pt x="1477" y="275"/>
                    </a:lnTo>
                    <a:lnTo>
                      <a:pt x="1477" y="279"/>
                    </a:lnTo>
                    <a:lnTo>
                      <a:pt x="1474" y="279"/>
                    </a:lnTo>
                    <a:lnTo>
                      <a:pt x="1471" y="283"/>
                    </a:lnTo>
                    <a:lnTo>
                      <a:pt x="1471" y="283"/>
                    </a:lnTo>
                    <a:lnTo>
                      <a:pt x="1468" y="286"/>
                    </a:lnTo>
                    <a:lnTo>
                      <a:pt x="1465" y="286"/>
                    </a:lnTo>
                    <a:lnTo>
                      <a:pt x="1461" y="286"/>
                    </a:lnTo>
                    <a:close/>
                    <a:moveTo>
                      <a:pt x="1006" y="103"/>
                    </a:moveTo>
                    <a:lnTo>
                      <a:pt x="1012" y="103"/>
                    </a:lnTo>
                    <a:lnTo>
                      <a:pt x="1019" y="99"/>
                    </a:lnTo>
                    <a:lnTo>
                      <a:pt x="1025" y="99"/>
                    </a:lnTo>
                    <a:lnTo>
                      <a:pt x="1028" y="96"/>
                    </a:lnTo>
                    <a:lnTo>
                      <a:pt x="1031" y="96"/>
                    </a:lnTo>
                    <a:lnTo>
                      <a:pt x="1034" y="96"/>
                    </a:lnTo>
                    <a:lnTo>
                      <a:pt x="1037" y="92"/>
                    </a:lnTo>
                    <a:lnTo>
                      <a:pt x="1040" y="96"/>
                    </a:lnTo>
                    <a:lnTo>
                      <a:pt x="1043" y="96"/>
                    </a:lnTo>
                    <a:lnTo>
                      <a:pt x="1050" y="99"/>
                    </a:lnTo>
                    <a:lnTo>
                      <a:pt x="1053" y="103"/>
                    </a:lnTo>
                    <a:lnTo>
                      <a:pt x="1059" y="107"/>
                    </a:lnTo>
                    <a:lnTo>
                      <a:pt x="1062" y="110"/>
                    </a:lnTo>
                    <a:lnTo>
                      <a:pt x="1068" y="118"/>
                    </a:lnTo>
                    <a:lnTo>
                      <a:pt x="1071" y="121"/>
                    </a:lnTo>
                    <a:lnTo>
                      <a:pt x="1077" y="129"/>
                    </a:lnTo>
                    <a:lnTo>
                      <a:pt x="1077" y="132"/>
                    </a:lnTo>
                    <a:lnTo>
                      <a:pt x="1077" y="132"/>
                    </a:lnTo>
                    <a:lnTo>
                      <a:pt x="1077" y="136"/>
                    </a:lnTo>
                    <a:lnTo>
                      <a:pt x="1077" y="140"/>
                    </a:lnTo>
                    <a:lnTo>
                      <a:pt x="1077" y="143"/>
                    </a:lnTo>
                    <a:lnTo>
                      <a:pt x="1077" y="143"/>
                    </a:lnTo>
                    <a:lnTo>
                      <a:pt x="1074" y="147"/>
                    </a:lnTo>
                    <a:lnTo>
                      <a:pt x="1071" y="151"/>
                    </a:lnTo>
                    <a:lnTo>
                      <a:pt x="1074" y="154"/>
                    </a:lnTo>
                    <a:lnTo>
                      <a:pt x="1074" y="154"/>
                    </a:lnTo>
                    <a:lnTo>
                      <a:pt x="1077" y="158"/>
                    </a:lnTo>
                    <a:lnTo>
                      <a:pt x="1077" y="158"/>
                    </a:lnTo>
                    <a:lnTo>
                      <a:pt x="1081" y="162"/>
                    </a:lnTo>
                    <a:lnTo>
                      <a:pt x="1081" y="165"/>
                    </a:lnTo>
                    <a:lnTo>
                      <a:pt x="1081" y="173"/>
                    </a:lnTo>
                    <a:lnTo>
                      <a:pt x="1081" y="180"/>
                    </a:lnTo>
                    <a:lnTo>
                      <a:pt x="1077" y="184"/>
                    </a:lnTo>
                    <a:lnTo>
                      <a:pt x="1077" y="187"/>
                    </a:lnTo>
                    <a:lnTo>
                      <a:pt x="1074" y="191"/>
                    </a:lnTo>
                    <a:lnTo>
                      <a:pt x="1071" y="191"/>
                    </a:lnTo>
                    <a:lnTo>
                      <a:pt x="1071" y="195"/>
                    </a:lnTo>
                    <a:lnTo>
                      <a:pt x="1068" y="198"/>
                    </a:lnTo>
                    <a:lnTo>
                      <a:pt x="1065" y="198"/>
                    </a:lnTo>
                    <a:lnTo>
                      <a:pt x="1065" y="202"/>
                    </a:lnTo>
                    <a:lnTo>
                      <a:pt x="1059" y="202"/>
                    </a:lnTo>
                    <a:lnTo>
                      <a:pt x="1053" y="206"/>
                    </a:lnTo>
                    <a:lnTo>
                      <a:pt x="1046" y="206"/>
                    </a:lnTo>
                    <a:lnTo>
                      <a:pt x="1037" y="206"/>
                    </a:lnTo>
                    <a:lnTo>
                      <a:pt x="1028" y="206"/>
                    </a:lnTo>
                    <a:lnTo>
                      <a:pt x="1022" y="206"/>
                    </a:lnTo>
                    <a:lnTo>
                      <a:pt x="1015" y="202"/>
                    </a:lnTo>
                    <a:lnTo>
                      <a:pt x="1012" y="198"/>
                    </a:lnTo>
                    <a:lnTo>
                      <a:pt x="1006" y="198"/>
                    </a:lnTo>
                    <a:lnTo>
                      <a:pt x="1003" y="198"/>
                    </a:lnTo>
                    <a:lnTo>
                      <a:pt x="1000" y="198"/>
                    </a:lnTo>
                    <a:lnTo>
                      <a:pt x="997" y="195"/>
                    </a:lnTo>
                    <a:lnTo>
                      <a:pt x="994" y="195"/>
                    </a:lnTo>
                    <a:lnTo>
                      <a:pt x="991" y="191"/>
                    </a:lnTo>
                    <a:lnTo>
                      <a:pt x="991" y="187"/>
                    </a:lnTo>
                    <a:lnTo>
                      <a:pt x="988" y="184"/>
                    </a:lnTo>
                    <a:lnTo>
                      <a:pt x="985" y="180"/>
                    </a:lnTo>
                    <a:lnTo>
                      <a:pt x="981" y="180"/>
                    </a:lnTo>
                    <a:lnTo>
                      <a:pt x="978" y="176"/>
                    </a:lnTo>
                    <a:lnTo>
                      <a:pt x="975" y="176"/>
                    </a:lnTo>
                    <a:lnTo>
                      <a:pt x="972" y="173"/>
                    </a:lnTo>
                    <a:lnTo>
                      <a:pt x="969" y="169"/>
                    </a:lnTo>
                    <a:lnTo>
                      <a:pt x="969" y="169"/>
                    </a:lnTo>
                    <a:lnTo>
                      <a:pt x="966" y="169"/>
                    </a:lnTo>
                    <a:lnTo>
                      <a:pt x="963" y="165"/>
                    </a:lnTo>
                    <a:lnTo>
                      <a:pt x="963" y="165"/>
                    </a:lnTo>
                    <a:lnTo>
                      <a:pt x="960" y="162"/>
                    </a:lnTo>
                    <a:lnTo>
                      <a:pt x="960" y="162"/>
                    </a:lnTo>
                    <a:lnTo>
                      <a:pt x="960" y="158"/>
                    </a:lnTo>
                    <a:lnTo>
                      <a:pt x="960" y="154"/>
                    </a:lnTo>
                    <a:lnTo>
                      <a:pt x="960" y="151"/>
                    </a:lnTo>
                    <a:lnTo>
                      <a:pt x="960" y="147"/>
                    </a:lnTo>
                    <a:lnTo>
                      <a:pt x="963" y="147"/>
                    </a:lnTo>
                    <a:lnTo>
                      <a:pt x="966" y="143"/>
                    </a:lnTo>
                    <a:lnTo>
                      <a:pt x="969" y="143"/>
                    </a:lnTo>
                    <a:lnTo>
                      <a:pt x="975" y="143"/>
                    </a:lnTo>
                    <a:lnTo>
                      <a:pt x="978" y="147"/>
                    </a:lnTo>
                    <a:lnTo>
                      <a:pt x="981" y="147"/>
                    </a:lnTo>
                    <a:lnTo>
                      <a:pt x="985" y="147"/>
                    </a:lnTo>
                    <a:lnTo>
                      <a:pt x="988" y="151"/>
                    </a:lnTo>
                    <a:lnTo>
                      <a:pt x="988" y="147"/>
                    </a:lnTo>
                    <a:lnTo>
                      <a:pt x="988" y="140"/>
                    </a:lnTo>
                    <a:lnTo>
                      <a:pt x="988" y="136"/>
                    </a:lnTo>
                    <a:lnTo>
                      <a:pt x="991" y="132"/>
                    </a:lnTo>
                    <a:lnTo>
                      <a:pt x="994" y="129"/>
                    </a:lnTo>
                    <a:lnTo>
                      <a:pt x="1000" y="129"/>
                    </a:lnTo>
                    <a:lnTo>
                      <a:pt x="1003" y="129"/>
                    </a:lnTo>
                    <a:lnTo>
                      <a:pt x="1009" y="129"/>
                    </a:lnTo>
                    <a:lnTo>
                      <a:pt x="1009" y="125"/>
                    </a:lnTo>
                    <a:lnTo>
                      <a:pt x="1009" y="121"/>
                    </a:lnTo>
                    <a:lnTo>
                      <a:pt x="1009" y="121"/>
                    </a:lnTo>
                    <a:lnTo>
                      <a:pt x="1009" y="118"/>
                    </a:lnTo>
                    <a:lnTo>
                      <a:pt x="1009" y="114"/>
                    </a:lnTo>
                    <a:lnTo>
                      <a:pt x="1006" y="110"/>
                    </a:lnTo>
                    <a:lnTo>
                      <a:pt x="1006" y="107"/>
                    </a:lnTo>
                    <a:lnTo>
                      <a:pt x="1006" y="103"/>
                    </a:lnTo>
                    <a:close/>
                    <a:moveTo>
                      <a:pt x="1375" y="187"/>
                    </a:moveTo>
                    <a:lnTo>
                      <a:pt x="1372" y="187"/>
                    </a:lnTo>
                    <a:lnTo>
                      <a:pt x="1372" y="184"/>
                    </a:lnTo>
                    <a:lnTo>
                      <a:pt x="1369" y="184"/>
                    </a:lnTo>
                    <a:lnTo>
                      <a:pt x="1369" y="180"/>
                    </a:lnTo>
                    <a:lnTo>
                      <a:pt x="1365" y="180"/>
                    </a:lnTo>
                    <a:lnTo>
                      <a:pt x="1362" y="176"/>
                    </a:lnTo>
                    <a:lnTo>
                      <a:pt x="1362" y="176"/>
                    </a:lnTo>
                    <a:lnTo>
                      <a:pt x="1359" y="176"/>
                    </a:lnTo>
                    <a:lnTo>
                      <a:pt x="1356" y="176"/>
                    </a:lnTo>
                    <a:lnTo>
                      <a:pt x="1356" y="176"/>
                    </a:lnTo>
                    <a:lnTo>
                      <a:pt x="1353" y="176"/>
                    </a:lnTo>
                    <a:lnTo>
                      <a:pt x="1353" y="176"/>
                    </a:lnTo>
                    <a:lnTo>
                      <a:pt x="1353" y="180"/>
                    </a:lnTo>
                    <a:lnTo>
                      <a:pt x="1350" y="180"/>
                    </a:lnTo>
                    <a:lnTo>
                      <a:pt x="1350" y="184"/>
                    </a:lnTo>
                    <a:lnTo>
                      <a:pt x="1350" y="187"/>
                    </a:lnTo>
                    <a:lnTo>
                      <a:pt x="1350" y="187"/>
                    </a:lnTo>
                    <a:lnTo>
                      <a:pt x="1350" y="191"/>
                    </a:lnTo>
                    <a:lnTo>
                      <a:pt x="1353" y="191"/>
                    </a:lnTo>
                    <a:lnTo>
                      <a:pt x="1353" y="195"/>
                    </a:lnTo>
                    <a:lnTo>
                      <a:pt x="1353" y="198"/>
                    </a:lnTo>
                    <a:lnTo>
                      <a:pt x="1353" y="198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6"/>
                    </a:lnTo>
                    <a:lnTo>
                      <a:pt x="1353" y="206"/>
                    </a:lnTo>
                    <a:lnTo>
                      <a:pt x="1353" y="209"/>
                    </a:lnTo>
                    <a:lnTo>
                      <a:pt x="1353" y="209"/>
                    </a:lnTo>
                    <a:lnTo>
                      <a:pt x="1353" y="213"/>
                    </a:lnTo>
                    <a:lnTo>
                      <a:pt x="1356" y="213"/>
                    </a:lnTo>
                    <a:lnTo>
                      <a:pt x="1356" y="217"/>
                    </a:lnTo>
                    <a:lnTo>
                      <a:pt x="1359" y="220"/>
                    </a:lnTo>
                    <a:lnTo>
                      <a:pt x="1359" y="224"/>
                    </a:lnTo>
                    <a:lnTo>
                      <a:pt x="1362" y="224"/>
                    </a:lnTo>
                    <a:lnTo>
                      <a:pt x="1365" y="224"/>
                    </a:lnTo>
                    <a:lnTo>
                      <a:pt x="1365" y="228"/>
                    </a:lnTo>
                    <a:lnTo>
                      <a:pt x="1369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69" y="228"/>
                    </a:lnTo>
                    <a:lnTo>
                      <a:pt x="1365" y="228"/>
                    </a:lnTo>
                    <a:lnTo>
                      <a:pt x="1362" y="228"/>
                    </a:lnTo>
                    <a:lnTo>
                      <a:pt x="1362" y="228"/>
                    </a:lnTo>
                    <a:lnTo>
                      <a:pt x="1359" y="224"/>
                    </a:lnTo>
                    <a:lnTo>
                      <a:pt x="1356" y="224"/>
                    </a:lnTo>
                    <a:lnTo>
                      <a:pt x="1353" y="224"/>
                    </a:lnTo>
                    <a:lnTo>
                      <a:pt x="1350" y="224"/>
                    </a:lnTo>
                    <a:lnTo>
                      <a:pt x="1347" y="228"/>
                    </a:lnTo>
                    <a:lnTo>
                      <a:pt x="1347" y="228"/>
                    </a:lnTo>
                    <a:lnTo>
                      <a:pt x="1344" y="231"/>
                    </a:lnTo>
                    <a:lnTo>
                      <a:pt x="1344" y="239"/>
                    </a:lnTo>
                    <a:lnTo>
                      <a:pt x="1341" y="242"/>
                    </a:lnTo>
                    <a:lnTo>
                      <a:pt x="1344" y="246"/>
                    </a:lnTo>
                    <a:lnTo>
                      <a:pt x="1344" y="250"/>
                    </a:lnTo>
                    <a:lnTo>
                      <a:pt x="1341" y="250"/>
                    </a:lnTo>
                    <a:lnTo>
                      <a:pt x="1338" y="253"/>
                    </a:lnTo>
                    <a:lnTo>
                      <a:pt x="1338" y="257"/>
                    </a:lnTo>
                    <a:lnTo>
                      <a:pt x="1338" y="261"/>
                    </a:lnTo>
                    <a:lnTo>
                      <a:pt x="1338" y="268"/>
                    </a:lnTo>
                    <a:lnTo>
                      <a:pt x="1338" y="272"/>
                    </a:lnTo>
                    <a:lnTo>
                      <a:pt x="1341" y="275"/>
                    </a:lnTo>
                    <a:lnTo>
                      <a:pt x="1344" y="279"/>
                    </a:lnTo>
                    <a:lnTo>
                      <a:pt x="1341" y="279"/>
                    </a:lnTo>
                    <a:lnTo>
                      <a:pt x="1341" y="279"/>
                    </a:lnTo>
                    <a:lnTo>
                      <a:pt x="1341" y="283"/>
                    </a:lnTo>
                    <a:lnTo>
                      <a:pt x="1338" y="283"/>
                    </a:lnTo>
                    <a:lnTo>
                      <a:pt x="1338" y="286"/>
                    </a:lnTo>
                    <a:lnTo>
                      <a:pt x="1338" y="286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97"/>
                    </a:lnTo>
                    <a:lnTo>
                      <a:pt x="1338" y="301"/>
                    </a:lnTo>
                    <a:lnTo>
                      <a:pt x="1341" y="305"/>
                    </a:lnTo>
                    <a:lnTo>
                      <a:pt x="1344" y="308"/>
                    </a:lnTo>
                    <a:lnTo>
                      <a:pt x="1347" y="308"/>
                    </a:lnTo>
                    <a:lnTo>
                      <a:pt x="1350" y="308"/>
                    </a:lnTo>
                    <a:lnTo>
                      <a:pt x="1353" y="308"/>
                    </a:lnTo>
                    <a:lnTo>
                      <a:pt x="1359" y="312"/>
                    </a:lnTo>
                    <a:lnTo>
                      <a:pt x="1369" y="319"/>
                    </a:lnTo>
                    <a:lnTo>
                      <a:pt x="1375" y="327"/>
                    </a:lnTo>
                    <a:lnTo>
                      <a:pt x="1384" y="334"/>
                    </a:lnTo>
                    <a:lnTo>
                      <a:pt x="1393" y="345"/>
                    </a:lnTo>
                    <a:lnTo>
                      <a:pt x="1403" y="352"/>
                    </a:lnTo>
                    <a:lnTo>
                      <a:pt x="1412" y="360"/>
                    </a:lnTo>
                    <a:lnTo>
                      <a:pt x="1424" y="363"/>
                    </a:lnTo>
                    <a:lnTo>
                      <a:pt x="1434" y="363"/>
                    </a:lnTo>
                    <a:lnTo>
                      <a:pt x="1437" y="352"/>
                    </a:lnTo>
                    <a:lnTo>
                      <a:pt x="1443" y="341"/>
                    </a:lnTo>
                    <a:lnTo>
                      <a:pt x="1446" y="330"/>
                    </a:lnTo>
                    <a:lnTo>
                      <a:pt x="1449" y="316"/>
                    </a:lnTo>
                    <a:lnTo>
                      <a:pt x="1452" y="305"/>
                    </a:lnTo>
                    <a:lnTo>
                      <a:pt x="1455" y="297"/>
                    </a:lnTo>
                    <a:lnTo>
                      <a:pt x="1458" y="290"/>
                    </a:lnTo>
                    <a:lnTo>
                      <a:pt x="1461" y="286"/>
                    </a:ln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12" y="209"/>
                    </a:lnTo>
                    <a:lnTo>
                      <a:pt x="1409" y="206"/>
                    </a:lnTo>
                    <a:lnTo>
                      <a:pt x="1406" y="202"/>
                    </a:lnTo>
                    <a:lnTo>
                      <a:pt x="1403" y="198"/>
                    </a:lnTo>
                    <a:lnTo>
                      <a:pt x="1403" y="195"/>
                    </a:lnTo>
                    <a:lnTo>
                      <a:pt x="1399" y="195"/>
                    </a:lnTo>
                    <a:lnTo>
                      <a:pt x="1396" y="191"/>
                    </a:lnTo>
                    <a:lnTo>
                      <a:pt x="1396" y="191"/>
                    </a:lnTo>
                    <a:lnTo>
                      <a:pt x="1393" y="191"/>
                    </a:lnTo>
                    <a:lnTo>
                      <a:pt x="1390" y="191"/>
                    </a:lnTo>
                    <a:lnTo>
                      <a:pt x="1387" y="191"/>
                    </a:lnTo>
                    <a:lnTo>
                      <a:pt x="1387" y="191"/>
                    </a:lnTo>
                    <a:lnTo>
                      <a:pt x="1384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375" y="187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727760" y="445284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46" y="22"/>
                    </a:moveTo>
                    <a:lnTo>
                      <a:pt x="52" y="19"/>
                    </a:lnTo>
                    <a:lnTo>
                      <a:pt x="58" y="11"/>
                    </a:lnTo>
                    <a:lnTo>
                      <a:pt x="65" y="8"/>
                    </a:lnTo>
                    <a:lnTo>
                      <a:pt x="71" y="8"/>
                    </a:lnTo>
                    <a:lnTo>
                      <a:pt x="74" y="4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6" y="4"/>
                    </a:lnTo>
                    <a:lnTo>
                      <a:pt x="92" y="8"/>
                    </a:lnTo>
                    <a:lnTo>
                      <a:pt x="99" y="8"/>
                    </a:lnTo>
                    <a:lnTo>
                      <a:pt x="105" y="11"/>
                    </a:lnTo>
                    <a:lnTo>
                      <a:pt x="108" y="15"/>
                    </a:lnTo>
                    <a:lnTo>
                      <a:pt x="111" y="19"/>
                    </a:lnTo>
                    <a:lnTo>
                      <a:pt x="114" y="22"/>
                    </a:lnTo>
                    <a:lnTo>
                      <a:pt x="117" y="30"/>
                    </a:lnTo>
                    <a:lnTo>
                      <a:pt x="117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0" y="44"/>
                    </a:lnTo>
                    <a:lnTo>
                      <a:pt x="133" y="48"/>
                    </a:lnTo>
                    <a:lnTo>
                      <a:pt x="133" y="52"/>
                    </a:lnTo>
                    <a:lnTo>
                      <a:pt x="136" y="55"/>
                    </a:lnTo>
                    <a:lnTo>
                      <a:pt x="139" y="59"/>
                    </a:lnTo>
                    <a:lnTo>
                      <a:pt x="139" y="63"/>
                    </a:lnTo>
                    <a:lnTo>
                      <a:pt x="139" y="70"/>
                    </a:lnTo>
                    <a:lnTo>
                      <a:pt x="139" y="77"/>
                    </a:lnTo>
                    <a:lnTo>
                      <a:pt x="139" y="81"/>
                    </a:lnTo>
                    <a:lnTo>
                      <a:pt x="136" y="88"/>
                    </a:lnTo>
                    <a:lnTo>
                      <a:pt x="136" y="96"/>
                    </a:lnTo>
                    <a:lnTo>
                      <a:pt x="133" y="99"/>
                    </a:lnTo>
                    <a:lnTo>
                      <a:pt x="130" y="103"/>
                    </a:lnTo>
                    <a:lnTo>
                      <a:pt x="123" y="103"/>
                    </a:lnTo>
                    <a:lnTo>
                      <a:pt x="117" y="103"/>
                    </a:lnTo>
                    <a:lnTo>
                      <a:pt x="111" y="103"/>
                    </a:lnTo>
                    <a:lnTo>
                      <a:pt x="105" y="107"/>
                    </a:lnTo>
                    <a:lnTo>
                      <a:pt x="99" y="107"/>
                    </a:lnTo>
                    <a:lnTo>
                      <a:pt x="96" y="107"/>
                    </a:lnTo>
                    <a:lnTo>
                      <a:pt x="89" y="107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74" y="107"/>
                    </a:lnTo>
                    <a:lnTo>
                      <a:pt x="71" y="107"/>
                    </a:lnTo>
                    <a:lnTo>
                      <a:pt x="68" y="103"/>
                    </a:lnTo>
                    <a:lnTo>
                      <a:pt x="65" y="99"/>
                    </a:lnTo>
                    <a:lnTo>
                      <a:pt x="65" y="96"/>
                    </a:lnTo>
                    <a:lnTo>
                      <a:pt x="61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6" y="88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0" y="77"/>
                    </a:lnTo>
                    <a:lnTo>
                      <a:pt x="27" y="77"/>
                    </a:lnTo>
                    <a:lnTo>
                      <a:pt x="24" y="74"/>
                    </a:lnTo>
                    <a:lnTo>
                      <a:pt x="21" y="70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5" y="59"/>
                    </a:lnTo>
                    <a:lnTo>
                      <a:pt x="12" y="59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3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9" y="30"/>
                    </a:lnTo>
                    <a:lnTo>
                      <a:pt x="12" y="26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4" y="19"/>
                    </a:lnTo>
                    <a:lnTo>
                      <a:pt x="27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6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988760" y="4559760"/>
                <a:ext cx="168480" cy="170280"/>
              </a:xfrm>
              <a:custGeom>
                <a:avLst/>
                <a:gdLst/>
                <a:ahLst/>
                <a:rect l="l" t="t" r="r" b="b"/>
                <a:pathLst>
                  <a:path w="152" h="140">
                    <a:moveTo>
                      <a:pt x="0" y="59"/>
                    </a:moveTo>
                    <a:lnTo>
                      <a:pt x="3" y="59"/>
                    </a:lnTo>
                    <a:lnTo>
                      <a:pt x="6" y="63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4"/>
                    </a:lnTo>
                    <a:lnTo>
                      <a:pt x="15" y="77"/>
                    </a:lnTo>
                    <a:lnTo>
                      <a:pt x="18" y="85"/>
                    </a:lnTo>
                    <a:lnTo>
                      <a:pt x="18" y="88"/>
                    </a:lnTo>
                    <a:lnTo>
                      <a:pt x="18" y="96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4"/>
                    </a:lnTo>
                    <a:lnTo>
                      <a:pt x="18" y="121"/>
                    </a:lnTo>
                    <a:lnTo>
                      <a:pt x="28" y="121"/>
                    </a:lnTo>
                    <a:lnTo>
                      <a:pt x="37" y="118"/>
                    </a:lnTo>
                    <a:lnTo>
                      <a:pt x="43" y="118"/>
                    </a:lnTo>
                    <a:lnTo>
                      <a:pt x="52" y="114"/>
                    </a:lnTo>
                    <a:lnTo>
                      <a:pt x="59" y="110"/>
                    </a:lnTo>
                    <a:lnTo>
                      <a:pt x="65" y="107"/>
                    </a:lnTo>
                    <a:lnTo>
                      <a:pt x="68" y="103"/>
                    </a:lnTo>
                    <a:lnTo>
                      <a:pt x="74" y="96"/>
                    </a:lnTo>
                    <a:lnTo>
                      <a:pt x="83" y="85"/>
                    </a:lnTo>
                    <a:lnTo>
                      <a:pt x="80" y="88"/>
                    </a:lnTo>
                    <a:lnTo>
                      <a:pt x="80" y="92"/>
                    </a:lnTo>
                    <a:lnTo>
                      <a:pt x="80" y="96"/>
                    </a:lnTo>
                    <a:lnTo>
                      <a:pt x="77" y="96"/>
                    </a:lnTo>
                    <a:lnTo>
                      <a:pt x="77" y="99"/>
                    </a:lnTo>
                    <a:lnTo>
                      <a:pt x="77" y="103"/>
                    </a:lnTo>
                    <a:lnTo>
                      <a:pt x="77" y="107"/>
                    </a:lnTo>
                    <a:lnTo>
                      <a:pt x="74" y="110"/>
                    </a:lnTo>
                    <a:lnTo>
                      <a:pt x="74" y="114"/>
                    </a:lnTo>
                    <a:lnTo>
                      <a:pt x="74" y="118"/>
                    </a:lnTo>
                    <a:lnTo>
                      <a:pt x="74" y="121"/>
                    </a:lnTo>
                    <a:lnTo>
                      <a:pt x="74" y="125"/>
                    </a:lnTo>
                    <a:lnTo>
                      <a:pt x="77" y="129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40"/>
                    </a:lnTo>
                    <a:lnTo>
                      <a:pt x="80" y="140"/>
                    </a:lnTo>
                    <a:lnTo>
                      <a:pt x="93" y="140"/>
                    </a:lnTo>
                    <a:lnTo>
                      <a:pt x="102" y="132"/>
                    </a:lnTo>
                    <a:lnTo>
                      <a:pt x="105" y="136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1" y="140"/>
                    </a:lnTo>
                    <a:lnTo>
                      <a:pt x="114" y="140"/>
                    </a:lnTo>
                    <a:lnTo>
                      <a:pt x="117" y="136"/>
                    </a:lnTo>
                    <a:lnTo>
                      <a:pt x="121" y="132"/>
                    </a:lnTo>
                    <a:lnTo>
                      <a:pt x="127" y="125"/>
                    </a:lnTo>
                    <a:lnTo>
                      <a:pt x="127" y="129"/>
                    </a:lnTo>
                    <a:lnTo>
                      <a:pt x="130" y="129"/>
                    </a:lnTo>
                    <a:lnTo>
                      <a:pt x="130" y="132"/>
                    </a:lnTo>
                    <a:lnTo>
                      <a:pt x="133" y="132"/>
                    </a:lnTo>
                    <a:lnTo>
                      <a:pt x="136" y="132"/>
                    </a:lnTo>
                    <a:lnTo>
                      <a:pt x="139" y="129"/>
                    </a:lnTo>
                    <a:lnTo>
                      <a:pt x="142" y="125"/>
                    </a:lnTo>
                    <a:lnTo>
                      <a:pt x="142" y="121"/>
                    </a:lnTo>
                    <a:lnTo>
                      <a:pt x="145" y="118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2" y="114"/>
                    </a:lnTo>
                    <a:lnTo>
                      <a:pt x="152" y="110"/>
                    </a:lnTo>
                    <a:lnTo>
                      <a:pt x="152" y="107"/>
                    </a:lnTo>
                    <a:lnTo>
                      <a:pt x="152" y="99"/>
                    </a:lnTo>
                    <a:lnTo>
                      <a:pt x="152" y="96"/>
                    </a:lnTo>
                    <a:lnTo>
                      <a:pt x="148" y="92"/>
                    </a:lnTo>
                    <a:lnTo>
                      <a:pt x="148" y="88"/>
                    </a:lnTo>
                    <a:lnTo>
                      <a:pt x="145" y="85"/>
                    </a:lnTo>
                    <a:lnTo>
                      <a:pt x="145" y="81"/>
                    </a:lnTo>
                    <a:lnTo>
                      <a:pt x="145" y="77"/>
                    </a:lnTo>
                    <a:lnTo>
                      <a:pt x="142" y="74"/>
                    </a:lnTo>
                    <a:lnTo>
                      <a:pt x="139" y="74"/>
                    </a:lnTo>
                    <a:lnTo>
                      <a:pt x="139" y="70"/>
                    </a:lnTo>
                    <a:lnTo>
                      <a:pt x="136" y="70"/>
                    </a:lnTo>
                    <a:lnTo>
                      <a:pt x="133" y="66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27" y="52"/>
                    </a:lnTo>
                    <a:lnTo>
                      <a:pt x="127" y="44"/>
                    </a:lnTo>
                    <a:lnTo>
                      <a:pt x="124" y="41"/>
                    </a:lnTo>
                    <a:lnTo>
                      <a:pt x="121" y="37"/>
                    </a:lnTo>
                    <a:lnTo>
                      <a:pt x="117" y="33"/>
                    </a:lnTo>
                    <a:lnTo>
                      <a:pt x="114" y="30"/>
                    </a:lnTo>
                    <a:lnTo>
                      <a:pt x="111" y="30"/>
                    </a:lnTo>
                    <a:lnTo>
                      <a:pt x="108" y="26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99" y="11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4"/>
                    </a:lnTo>
                    <a:lnTo>
                      <a:pt x="65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4" y="19"/>
                    </a:lnTo>
                    <a:lnTo>
                      <a:pt x="28" y="26"/>
                    </a:lnTo>
                    <a:lnTo>
                      <a:pt x="21" y="30"/>
                    </a:lnTo>
                    <a:lnTo>
                      <a:pt x="18" y="37"/>
                    </a:lnTo>
                    <a:lnTo>
                      <a:pt x="12" y="44"/>
                    </a:lnTo>
                    <a:lnTo>
                      <a:pt x="6" y="52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27280" y="4712040"/>
                <a:ext cx="185400" cy="195480"/>
              </a:xfrm>
              <a:custGeom>
                <a:avLst/>
                <a:gdLst/>
                <a:ahLst/>
                <a:rect l="l" t="t" r="r" b="b"/>
                <a:pathLst>
                  <a:path w="167" h="161">
                    <a:moveTo>
                      <a:pt x="40" y="37"/>
                    </a:moveTo>
                    <a:lnTo>
                      <a:pt x="37" y="37"/>
                    </a:lnTo>
                    <a:lnTo>
                      <a:pt x="31" y="37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3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3" y="103"/>
                    </a:lnTo>
                    <a:lnTo>
                      <a:pt x="10" y="106"/>
                    </a:lnTo>
                    <a:lnTo>
                      <a:pt x="19" y="110"/>
                    </a:lnTo>
                    <a:lnTo>
                      <a:pt x="28" y="110"/>
                    </a:lnTo>
                    <a:lnTo>
                      <a:pt x="34" y="114"/>
                    </a:lnTo>
                    <a:lnTo>
                      <a:pt x="44" y="114"/>
                    </a:lnTo>
                    <a:lnTo>
                      <a:pt x="50" y="110"/>
                    </a:lnTo>
                    <a:lnTo>
                      <a:pt x="59" y="106"/>
                    </a:lnTo>
                    <a:lnTo>
                      <a:pt x="62" y="99"/>
                    </a:lnTo>
                    <a:lnTo>
                      <a:pt x="59" y="99"/>
                    </a:lnTo>
                    <a:lnTo>
                      <a:pt x="56" y="99"/>
                    </a:lnTo>
                    <a:lnTo>
                      <a:pt x="53" y="99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47" y="95"/>
                    </a:lnTo>
                    <a:lnTo>
                      <a:pt x="53" y="92"/>
                    </a:lnTo>
                    <a:lnTo>
                      <a:pt x="56" y="92"/>
                    </a:lnTo>
                    <a:lnTo>
                      <a:pt x="59" y="92"/>
                    </a:lnTo>
                    <a:lnTo>
                      <a:pt x="62" y="92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8" y="88"/>
                    </a:lnTo>
                    <a:lnTo>
                      <a:pt x="68" y="92"/>
                    </a:lnTo>
                    <a:lnTo>
                      <a:pt x="71" y="92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1" y="99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0" y="103"/>
                    </a:lnTo>
                    <a:lnTo>
                      <a:pt x="93" y="103"/>
                    </a:lnTo>
                    <a:lnTo>
                      <a:pt x="96" y="103"/>
                    </a:lnTo>
                    <a:lnTo>
                      <a:pt x="99" y="103"/>
                    </a:lnTo>
                    <a:lnTo>
                      <a:pt x="102" y="103"/>
                    </a:lnTo>
                    <a:lnTo>
                      <a:pt x="106" y="99"/>
                    </a:lnTo>
                    <a:lnTo>
                      <a:pt x="106" y="95"/>
                    </a:lnTo>
                    <a:lnTo>
                      <a:pt x="109" y="92"/>
                    </a:lnTo>
                    <a:lnTo>
                      <a:pt x="109" y="88"/>
                    </a:lnTo>
                    <a:lnTo>
                      <a:pt x="109" y="84"/>
                    </a:lnTo>
                    <a:lnTo>
                      <a:pt x="109" y="81"/>
                    </a:lnTo>
                    <a:lnTo>
                      <a:pt x="106" y="77"/>
                    </a:lnTo>
                    <a:lnTo>
                      <a:pt x="106" y="73"/>
                    </a:lnTo>
                    <a:lnTo>
                      <a:pt x="102" y="73"/>
                    </a:lnTo>
                    <a:lnTo>
                      <a:pt x="99" y="70"/>
                    </a:lnTo>
                    <a:lnTo>
                      <a:pt x="96" y="70"/>
                    </a:lnTo>
                    <a:lnTo>
                      <a:pt x="93" y="66"/>
                    </a:lnTo>
                    <a:lnTo>
                      <a:pt x="90" y="62"/>
                    </a:lnTo>
                    <a:lnTo>
                      <a:pt x="87" y="62"/>
                    </a:lnTo>
                    <a:lnTo>
                      <a:pt x="84" y="59"/>
                    </a:lnTo>
                    <a:lnTo>
                      <a:pt x="81" y="59"/>
                    </a:lnTo>
                    <a:lnTo>
                      <a:pt x="78" y="55"/>
                    </a:lnTo>
                    <a:lnTo>
                      <a:pt x="75" y="55"/>
                    </a:lnTo>
                    <a:lnTo>
                      <a:pt x="71" y="55"/>
                    </a:lnTo>
                    <a:lnTo>
                      <a:pt x="75" y="55"/>
                    </a:lnTo>
                    <a:lnTo>
                      <a:pt x="78" y="51"/>
                    </a:lnTo>
                    <a:lnTo>
                      <a:pt x="81" y="51"/>
                    </a:lnTo>
                    <a:lnTo>
                      <a:pt x="81" y="48"/>
                    </a:lnTo>
                    <a:lnTo>
                      <a:pt x="81" y="44"/>
                    </a:lnTo>
                    <a:lnTo>
                      <a:pt x="81" y="40"/>
                    </a:lnTo>
                    <a:lnTo>
                      <a:pt x="81" y="37"/>
                    </a:lnTo>
                    <a:lnTo>
                      <a:pt x="81" y="40"/>
                    </a:lnTo>
                    <a:lnTo>
                      <a:pt x="84" y="40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0" y="48"/>
                    </a:lnTo>
                    <a:lnTo>
                      <a:pt x="93" y="48"/>
                    </a:lnTo>
                    <a:lnTo>
                      <a:pt x="96" y="51"/>
                    </a:lnTo>
                    <a:lnTo>
                      <a:pt x="102" y="51"/>
                    </a:lnTo>
                    <a:lnTo>
                      <a:pt x="106" y="51"/>
                    </a:lnTo>
                    <a:lnTo>
                      <a:pt x="109" y="55"/>
                    </a:lnTo>
                    <a:lnTo>
                      <a:pt x="112" y="55"/>
                    </a:lnTo>
                    <a:lnTo>
                      <a:pt x="112" y="51"/>
                    </a:lnTo>
                    <a:lnTo>
                      <a:pt x="115" y="55"/>
                    </a:lnTo>
                    <a:lnTo>
                      <a:pt x="115" y="59"/>
                    </a:lnTo>
                    <a:lnTo>
                      <a:pt x="118" y="62"/>
                    </a:lnTo>
                    <a:lnTo>
                      <a:pt x="118" y="70"/>
                    </a:lnTo>
                    <a:lnTo>
                      <a:pt x="121" y="73"/>
                    </a:lnTo>
                    <a:lnTo>
                      <a:pt x="124" y="81"/>
                    </a:lnTo>
                    <a:lnTo>
                      <a:pt x="124" y="84"/>
                    </a:lnTo>
                    <a:lnTo>
                      <a:pt x="127" y="88"/>
                    </a:lnTo>
                    <a:lnTo>
                      <a:pt x="124" y="88"/>
                    </a:lnTo>
                    <a:lnTo>
                      <a:pt x="121" y="92"/>
                    </a:lnTo>
                    <a:lnTo>
                      <a:pt x="121" y="95"/>
                    </a:lnTo>
                    <a:lnTo>
                      <a:pt x="118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09" y="117"/>
                    </a:lnTo>
                    <a:lnTo>
                      <a:pt x="109" y="125"/>
                    </a:lnTo>
                    <a:lnTo>
                      <a:pt x="112" y="128"/>
                    </a:lnTo>
                    <a:lnTo>
                      <a:pt x="112" y="132"/>
                    </a:lnTo>
                    <a:lnTo>
                      <a:pt x="115" y="132"/>
                    </a:lnTo>
                    <a:lnTo>
                      <a:pt x="118" y="136"/>
                    </a:lnTo>
                    <a:lnTo>
                      <a:pt x="121" y="136"/>
                    </a:lnTo>
                    <a:lnTo>
                      <a:pt x="121" y="139"/>
                    </a:lnTo>
                    <a:lnTo>
                      <a:pt x="118" y="143"/>
                    </a:lnTo>
                    <a:lnTo>
                      <a:pt x="121" y="147"/>
                    </a:lnTo>
                    <a:lnTo>
                      <a:pt x="121" y="150"/>
                    </a:lnTo>
                    <a:lnTo>
                      <a:pt x="124" y="154"/>
                    </a:lnTo>
                    <a:lnTo>
                      <a:pt x="124" y="158"/>
                    </a:lnTo>
                    <a:lnTo>
                      <a:pt x="130" y="161"/>
                    </a:lnTo>
                    <a:lnTo>
                      <a:pt x="136" y="158"/>
                    </a:lnTo>
                    <a:lnTo>
                      <a:pt x="143" y="154"/>
                    </a:lnTo>
                    <a:lnTo>
                      <a:pt x="149" y="147"/>
                    </a:lnTo>
                    <a:lnTo>
                      <a:pt x="155" y="139"/>
                    </a:lnTo>
                    <a:lnTo>
                      <a:pt x="161" y="132"/>
                    </a:lnTo>
                    <a:lnTo>
                      <a:pt x="164" y="121"/>
                    </a:lnTo>
                    <a:lnTo>
                      <a:pt x="167" y="114"/>
                    </a:lnTo>
                    <a:lnTo>
                      <a:pt x="167" y="110"/>
                    </a:lnTo>
                    <a:lnTo>
                      <a:pt x="167" y="106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1" y="99"/>
                    </a:lnTo>
                    <a:lnTo>
                      <a:pt x="164" y="92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64" y="81"/>
                    </a:lnTo>
                    <a:lnTo>
                      <a:pt x="161" y="81"/>
                    </a:lnTo>
                    <a:lnTo>
                      <a:pt x="158" y="77"/>
                    </a:lnTo>
                    <a:lnTo>
                      <a:pt x="158" y="73"/>
                    </a:lnTo>
                    <a:lnTo>
                      <a:pt x="158" y="70"/>
                    </a:lnTo>
                    <a:lnTo>
                      <a:pt x="158" y="66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5" y="59"/>
                    </a:lnTo>
                    <a:lnTo>
                      <a:pt x="152" y="51"/>
                    </a:lnTo>
                    <a:lnTo>
                      <a:pt x="146" y="48"/>
                    </a:lnTo>
                    <a:lnTo>
                      <a:pt x="146" y="44"/>
                    </a:lnTo>
                    <a:lnTo>
                      <a:pt x="143" y="40"/>
                    </a:lnTo>
                    <a:lnTo>
                      <a:pt x="136" y="33"/>
                    </a:lnTo>
                    <a:lnTo>
                      <a:pt x="133" y="29"/>
                    </a:lnTo>
                    <a:lnTo>
                      <a:pt x="130" y="26"/>
                    </a:lnTo>
                    <a:lnTo>
                      <a:pt x="127" y="18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5" y="7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2" y="4"/>
                    </a:lnTo>
                    <a:lnTo>
                      <a:pt x="99" y="4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8" y="11"/>
                    </a:lnTo>
                    <a:lnTo>
                      <a:pt x="71" y="15"/>
                    </a:lnTo>
                    <a:lnTo>
                      <a:pt x="65" y="22"/>
                    </a:lnTo>
                    <a:lnTo>
                      <a:pt x="59" y="29"/>
                    </a:lnTo>
                    <a:lnTo>
                      <a:pt x="50" y="33"/>
                    </a:lnTo>
                    <a:lnTo>
                      <a:pt x="4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8308080" y="4818960"/>
                <a:ext cx="240840" cy="213840"/>
              </a:xfrm>
              <a:custGeom>
                <a:avLst/>
                <a:gdLst/>
                <a:ahLst/>
                <a:rect l="l" t="t" r="r" b="b"/>
                <a:pathLst>
                  <a:path w="217" h="176">
                    <a:moveTo>
                      <a:pt x="3" y="44"/>
                    </a:moveTo>
                    <a:lnTo>
                      <a:pt x="3" y="55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5"/>
                    </a:lnTo>
                    <a:lnTo>
                      <a:pt x="3" y="110"/>
                    </a:lnTo>
                    <a:lnTo>
                      <a:pt x="3" y="125"/>
                    </a:lnTo>
                    <a:lnTo>
                      <a:pt x="0" y="139"/>
                    </a:lnTo>
                    <a:lnTo>
                      <a:pt x="0" y="154"/>
                    </a:lnTo>
                    <a:lnTo>
                      <a:pt x="12" y="154"/>
                    </a:lnTo>
                    <a:lnTo>
                      <a:pt x="25" y="158"/>
                    </a:lnTo>
                    <a:lnTo>
                      <a:pt x="34" y="158"/>
                    </a:lnTo>
                    <a:lnTo>
                      <a:pt x="43" y="158"/>
                    </a:lnTo>
                    <a:lnTo>
                      <a:pt x="52" y="154"/>
                    </a:lnTo>
                    <a:lnTo>
                      <a:pt x="59" y="150"/>
                    </a:lnTo>
                    <a:lnTo>
                      <a:pt x="68" y="147"/>
                    </a:lnTo>
                    <a:lnTo>
                      <a:pt x="80" y="136"/>
                    </a:lnTo>
                    <a:lnTo>
                      <a:pt x="83" y="139"/>
                    </a:lnTo>
                    <a:lnTo>
                      <a:pt x="86" y="139"/>
                    </a:lnTo>
                    <a:lnTo>
                      <a:pt x="93" y="139"/>
                    </a:lnTo>
                    <a:lnTo>
                      <a:pt x="96" y="139"/>
                    </a:lnTo>
                    <a:lnTo>
                      <a:pt x="102" y="136"/>
                    </a:lnTo>
                    <a:lnTo>
                      <a:pt x="105" y="136"/>
                    </a:lnTo>
                    <a:lnTo>
                      <a:pt x="111" y="132"/>
                    </a:lnTo>
                    <a:lnTo>
                      <a:pt x="114" y="128"/>
                    </a:lnTo>
                    <a:lnTo>
                      <a:pt x="114" y="132"/>
                    </a:lnTo>
                    <a:lnTo>
                      <a:pt x="117" y="136"/>
                    </a:lnTo>
                    <a:lnTo>
                      <a:pt x="121" y="139"/>
                    </a:lnTo>
                    <a:lnTo>
                      <a:pt x="127" y="143"/>
                    </a:lnTo>
                    <a:lnTo>
                      <a:pt x="133" y="143"/>
                    </a:lnTo>
                    <a:lnTo>
                      <a:pt x="136" y="147"/>
                    </a:lnTo>
                    <a:lnTo>
                      <a:pt x="139" y="147"/>
                    </a:lnTo>
                    <a:lnTo>
                      <a:pt x="142" y="147"/>
                    </a:lnTo>
                    <a:lnTo>
                      <a:pt x="142" y="150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5" y="161"/>
                    </a:lnTo>
                    <a:lnTo>
                      <a:pt x="148" y="165"/>
                    </a:lnTo>
                    <a:lnTo>
                      <a:pt x="148" y="169"/>
                    </a:lnTo>
                    <a:lnTo>
                      <a:pt x="151" y="169"/>
                    </a:lnTo>
                    <a:lnTo>
                      <a:pt x="151" y="172"/>
                    </a:lnTo>
                    <a:lnTo>
                      <a:pt x="155" y="172"/>
                    </a:lnTo>
                    <a:lnTo>
                      <a:pt x="155" y="176"/>
                    </a:lnTo>
                    <a:lnTo>
                      <a:pt x="158" y="176"/>
                    </a:lnTo>
                    <a:lnTo>
                      <a:pt x="161" y="176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72"/>
                    </a:lnTo>
                    <a:lnTo>
                      <a:pt x="170" y="169"/>
                    </a:lnTo>
                    <a:lnTo>
                      <a:pt x="170" y="165"/>
                    </a:lnTo>
                    <a:lnTo>
                      <a:pt x="170" y="161"/>
                    </a:lnTo>
                    <a:lnTo>
                      <a:pt x="170" y="158"/>
                    </a:lnTo>
                    <a:lnTo>
                      <a:pt x="170" y="154"/>
                    </a:lnTo>
                    <a:lnTo>
                      <a:pt x="170" y="150"/>
                    </a:lnTo>
                    <a:lnTo>
                      <a:pt x="170" y="147"/>
                    </a:lnTo>
                    <a:lnTo>
                      <a:pt x="170" y="143"/>
                    </a:lnTo>
                    <a:lnTo>
                      <a:pt x="167" y="143"/>
                    </a:lnTo>
                    <a:lnTo>
                      <a:pt x="167" y="139"/>
                    </a:lnTo>
                    <a:lnTo>
                      <a:pt x="167" y="136"/>
                    </a:lnTo>
                    <a:lnTo>
                      <a:pt x="167" y="132"/>
                    </a:lnTo>
                    <a:lnTo>
                      <a:pt x="170" y="132"/>
                    </a:lnTo>
                    <a:lnTo>
                      <a:pt x="170" y="136"/>
                    </a:lnTo>
                    <a:lnTo>
                      <a:pt x="173" y="136"/>
                    </a:lnTo>
                    <a:lnTo>
                      <a:pt x="173" y="139"/>
                    </a:lnTo>
                    <a:lnTo>
                      <a:pt x="173" y="143"/>
                    </a:lnTo>
                    <a:lnTo>
                      <a:pt x="173" y="150"/>
                    </a:lnTo>
                    <a:lnTo>
                      <a:pt x="176" y="158"/>
                    </a:lnTo>
                    <a:lnTo>
                      <a:pt x="176" y="165"/>
                    </a:lnTo>
                    <a:lnTo>
                      <a:pt x="179" y="169"/>
                    </a:lnTo>
                    <a:lnTo>
                      <a:pt x="179" y="172"/>
                    </a:lnTo>
                    <a:lnTo>
                      <a:pt x="182" y="176"/>
                    </a:lnTo>
                    <a:lnTo>
                      <a:pt x="186" y="176"/>
                    </a:lnTo>
                    <a:lnTo>
                      <a:pt x="189" y="176"/>
                    </a:lnTo>
                    <a:lnTo>
                      <a:pt x="195" y="176"/>
                    </a:lnTo>
                    <a:lnTo>
                      <a:pt x="198" y="172"/>
                    </a:lnTo>
                    <a:lnTo>
                      <a:pt x="198" y="169"/>
                    </a:lnTo>
                    <a:lnTo>
                      <a:pt x="201" y="165"/>
                    </a:lnTo>
                    <a:lnTo>
                      <a:pt x="201" y="158"/>
                    </a:lnTo>
                    <a:lnTo>
                      <a:pt x="201" y="161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61"/>
                    </a:lnTo>
                    <a:lnTo>
                      <a:pt x="210" y="158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3"/>
                    </a:lnTo>
                    <a:lnTo>
                      <a:pt x="213" y="139"/>
                    </a:lnTo>
                    <a:lnTo>
                      <a:pt x="213" y="132"/>
                    </a:lnTo>
                    <a:lnTo>
                      <a:pt x="213" y="128"/>
                    </a:lnTo>
                    <a:lnTo>
                      <a:pt x="213" y="121"/>
                    </a:lnTo>
                    <a:lnTo>
                      <a:pt x="213" y="117"/>
                    </a:lnTo>
                    <a:lnTo>
                      <a:pt x="217" y="114"/>
                    </a:lnTo>
                    <a:lnTo>
                      <a:pt x="217" y="110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07" y="84"/>
                    </a:lnTo>
                    <a:lnTo>
                      <a:pt x="204" y="77"/>
                    </a:lnTo>
                    <a:lnTo>
                      <a:pt x="201" y="73"/>
                    </a:lnTo>
                    <a:lnTo>
                      <a:pt x="201" y="66"/>
                    </a:lnTo>
                    <a:lnTo>
                      <a:pt x="198" y="59"/>
                    </a:lnTo>
                    <a:lnTo>
                      <a:pt x="192" y="51"/>
                    </a:lnTo>
                    <a:lnTo>
                      <a:pt x="189" y="48"/>
                    </a:lnTo>
                    <a:lnTo>
                      <a:pt x="186" y="44"/>
                    </a:lnTo>
                    <a:lnTo>
                      <a:pt x="182" y="40"/>
                    </a:lnTo>
                    <a:lnTo>
                      <a:pt x="179" y="37"/>
                    </a:lnTo>
                    <a:lnTo>
                      <a:pt x="173" y="37"/>
                    </a:lnTo>
                    <a:lnTo>
                      <a:pt x="170" y="33"/>
                    </a:lnTo>
                    <a:lnTo>
                      <a:pt x="167" y="29"/>
                    </a:lnTo>
                    <a:lnTo>
                      <a:pt x="161" y="29"/>
                    </a:lnTo>
                    <a:lnTo>
                      <a:pt x="155" y="26"/>
                    </a:lnTo>
                    <a:lnTo>
                      <a:pt x="151" y="18"/>
                    </a:lnTo>
                    <a:lnTo>
                      <a:pt x="148" y="15"/>
                    </a:lnTo>
                    <a:lnTo>
                      <a:pt x="145" y="11"/>
                    </a:lnTo>
                    <a:lnTo>
                      <a:pt x="142" y="7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3" y="0"/>
                    </a:lnTo>
                    <a:lnTo>
                      <a:pt x="114" y="4"/>
                    </a:lnTo>
                    <a:lnTo>
                      <a:pt x="96" y="7"/>
                    </a:lnTo>
                    <a:lnTo>
                      <a:pt x="80" y="15"/>
                    </a:lnTo>
                    <a:lnTo>
                      <a:pt x="65" y="22"/>
                    </a:lnTo>
                    <a:lnTo>
                      <a:pt x="49" y="29"/>
                    </a:lnTo>
                    <a:lnTo>
                      <a:pt x="34" y="37"/>
                    </a:lnTo>
                    <a:lnTo>
                      <a:pt x="18" y="40"/>
                    </a:lnTo>
                    <a:lnTo>
                      <a:pt x="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903360" y="471204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43" y="73"/>
                    </a:moveTo>
                    <a:lnTo>
                      <a:pt x="40" y="70"/>
                    </a:lnTo>
                    <a:lnTo>
                      <a:pt x="40" y="66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1" y="59"/>
                    </a:lnTo>
                    <a:lnTo>
                      <a:pt x="31" y="55"/>
                    </a:lnTo>
                    <a:lnTo>
                      <a:pt x="28" y="51"/>
                    </a:lnTo>
                    <a:lnTo>
                      <a:pt x="25" y="48"/>
                    </a:lnTo>
                    <a:lnTo>
                      <a:pt x="25" y="44"/>
                    </a:lnTo>
                    <a:lnTo>
                      <a:pt x="22" y="37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18"/>
                    </a:lnTo>
                    <a:lnTo>
                      <a:pt x="9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0" y="15"/>
                    </a:lnTo>
                    <a:lnTo>
                      <a:pt x="47" y="18"/>
                    </a:lnTo>
                    <a:lnTo>
                      <a:pt x="56" y="18"/>
                    </a:lnTo>
                    <a:lnTo>
                      <a:pt x="65" y="22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0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62" y="55"/>
                    </a:lnTo>
                    <a:lnTo>
                      <a:pt x="62" y="59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6" y="66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7" y="73"/>
                    </a:lnTo>
                    <a:lnTo>
                      <a:pt x="43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349400" y="4564800"/>
                <a:ext cx="133920" cy="138600"/>
              </a:xfrm>
              <a:custGeom>
                <a:avLst/>
                <a:gdLst/>
                <a:ahLst/>
                <a:rect l="l" t="t" r="r" b="b"/>
                <a:pathLst>
                  <a:path w="121" h="114">
                    <a:moveTo>
                      <a:pt x="46" y="11"/>
                    </a:moveTo>
                    <a:lnTo>
                      <a:pt x="52" y="11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90" y="7"/>
                    </a:lnTo>
                    <a:lnTo>
                      <a:pt x="93" y="11"/>
                    </a:lnTo>
                    <a:lnTo>
                      <a:pt x="99" y="15"/>
                    </a:lnTo>
                    <a:lnTo>
                      <a:pt x="102" y="18"/>
                    </a:lnTo>
                    <a:lnTo>
                      <a:pt x="108" y="26"/>
                    </a:lnTo>
                    <a:lnTo>
                      <a:pt x="111" y="29"/>
                    </a:lnTo>
                    <a:lnTo>
                      <a:pt x="117" y="37"/>
                    </a:lnTo>
                    <a:lnTo>
                      <a:pt x="117" y="40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4" y="55"/>
                    </a:lnTo>
                    <a:lnTo>
                      <a:pt x="111" y="59"/>
                    </a:lnTo>
                    <a:lnTo>
                      <a:pt x="114" y="62"/>
                    </a:lnTo>
                    <a:lnTo>
                      <a:pt x="117" y="66"/>
                    </a:lnTo>
                    <a:lnTo>
                      <a:pt x="121" y="70"/>
                    </a:lnTo>
                    <a:lnTo>
                      <a:pt x="121" y="73"/>
                    </a:lnTo>
                    <a:lnTo>
                      <a:pt x="121" y="81"/>
                    </a:lnTo>
                    <a:lnTo>
                      <a:pt x="121" y="88"/>
                    </a:lnTo>
                    <a:lnTo>
                      <a:pt x="117" y="92"/>
                    </a:lnTo>
                    <a:lnTo>
                      <a:pt x="117" y="95"/>
                    </a:lnTo>
                    <a:lnTo>
                      <a:pt x="114" y="99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08" y="106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99" y="110"/>
                    </a:lnTo>
                    <a:lnTo>
                      <a:pt x="93" y="114"/>
                    </a:lnTo>
                    <a:lnTo>
                      <a:pt x="86" y="114"/>
                    </a:lnTo>
                    <a:lnTo>
                      <a:pt x="77" y="114"/>
                    </a:lnTo>
                    <a:lnTo>
                      <a:pt x="68" y="114"/>
                    </a:lnTo>
                    <a:lnTo>
                      <a:pt x="62" y="114"/>
                    </a:lnTo>
                    <a:lnTo>
                      <a:pt x="55" y="110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3" y="106"/>
                    </a:lnTo>
                    <a:lnTo>
                      <a:pt x="40" y="106"/>
                    </a:lnTo>
                    <a:lnTo>
                      <a:pt x="37" y="103"/>
                    </a:lnTo>
                    <a:lnTo>
                      <a:pt x="34" y="103"/>
                    </a:lnTo>
                    <a:lnTo>
                      <a:pt x="31" y="99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88"/>
                    </a:lnTo>
                    <a:lnTo>
                      <a:pt x="21" y="88"/>
                    </a:lnTo>
                    <a:lnTo>
                      <a:pt x="18" y="84"/>
                    </a:lnTo>
                    <a:lnTo>
                      <a:pt x="15" y="84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3" y="73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5" y="51"/>
                    </a:lnTo>
                    <a:lnTo>
                      <a:pt x="18" y="55"/>
                    </a:lnTo>
                    <a:lnTo>
                      <a:pt x="21" y="55"/>
                    </a:lnTo>
                    <a:lnTo>
                      <a:pt x="25" y="55"/>
                    </a:lnTo>
                    <a:lnTo>
                      <a:pt x="28" y="59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31" y="40"/>
                    </a:lnTo>
                    <a:lnTo>
                      <a:pt x="34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9" y="37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27120" y="4667040"/>
                <a:ext cx="136440" cy="227160"/>
              </a:xfrm>
              <a:custGeom>
                <a:avLst/>
                <a:gdLst/>
                <a:ahLst/>
                <a:rect l="l" t="t" r="r" b="b"/>
                <a:pathLst>
                  <a:path w="123" h="187">
                    <a:moveTo>
                      <a:pt x="37" y="11"/>
                    </a:moveTo>
                    <a:lnTo>
                      <a:pt x="34" y="11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31" y="52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2" y="48"/>
                    </a:lnTo>
                    <a:lnTo>
                      <a:pt x="9" y="52"/>
                    </a:lnTo>
                    <a:lnTo>
                      <a:pt x="6" y="55"/>
                    </a:lnTo>
                    <a:lnTo>
                      <a:pt x="6" y="63"/>
                    </a:lnTo>
                    <a:lnTo>
                      <a:pt x="3" y="66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3" y="74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3" y="99"/>
                    </a:lnTo>
                    <a:lnTo>
                      <a:pt x="6" y="103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3" y="129"/>
                    </a:lnTo>
                    <a:lnTo>
                      <a:pt x="6" y="132"/>
                    </a:lnTo>
                    <a:lnTo>
                      <a:pt x="9" y="132"/>
                    </a:lnTo>
                    <a:lnTo>
                      <a:pt x="12" y="132"/>
                    </a:lnTo>
                    <a:lnTo>
                      <a:pt x="15" y="132"/>
                    </a:lnTo>
                    <a:lnTo>
                      <a:pt x="21" y="136"/>
                    </a:lnTo>
                    <a:lnTo>
                      <a:pt x="31" y="143"/>
                    </a:lnTo>
                    <a:lnTo>
                      <a:pt x="37" y="151"/>
                    </a:lnTo>
                    <a:lnTo>
                      <a:pt x="46" y="158"/>
                    </a:lnTo>
                    <a:lnTo>
                      <a:pt x="55" y="169"/>
                    </a:lnTo>
                    <a:lnTo>
                      <a:pt x="65" y="176"/>
                    </a:lnTo>
                    <a:lnTo>
                      <a:pt x="74" y="184"/>
                    </a:lnTo>
                    <a:lnTo>
                      <a:pt x="86" y="187"/>
                    </a:lnTo>
                    <a:lnTo>
                      <a:pt x="96" y="187"/>
                    </a:lnTo>
                    <a:lnTo>
                      <a:pt x="99" y="176"/>
                    </a:lnTo>
                    <a:lnTo>
                      <a:pt x="105" y="165"/>
                    </a:lnTo>
                    <a:lnTo>
                      <a:pt x="108" y="154"/>
                    </a:lnTo>
                    <a:lnTo>
                      <a:pt x="111" y="140"/>
                    </a:lnTo>
                    <a:lnTo>
                      <a:pt x="114" y="129"/>
                    </a:lnTo>
                    <a:lnTo>
                      <a:pt x="117" y="121"/>
                    </a:lnTo>
                    <a:lnTo>
                      <a:pt x="120" y="114"/>
                    </a:lnTo>
                    <a:lnTo>
                      <a:pt x="123" y="110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96"/>
                    </a:lnTo>
                    <a:lnTo>
                      <a:pt x="111" y="92"/>
                    </a:lnTo>
                    <a:lnTo>
                      <a:pt x="108" y="88"/>
                    </a:lnTo>
                    <a:lnTo>
                      <a:pt x="105" y="85"/>
                    </a:lnTo>
                    <a:lnTo>
                      <a:pt x="105" y="81"/>
                    </a:lnTo>
                    <a:lnTo>
                      <a:pt x="102" y="74"/>
                    </a:lnTo>
                    <a:lnTo>
                      <a:pt x="99" y="66"/>
                    </a:lnTo>
                    <a:lnTo>
                      <a:pt x="96" y="63"/>
                    </a:lnTo>
                    <a:lnTo>
                      <a:pt x="92" y="55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0" y="37"/>
                    </a:lnTo>
                    <a:lnTo>
                      <a:pt x="74" y="33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147160" y="4239000"/>
                <a:ext cx="732600" cy="788760"/>
              </a:xfrm>
              <a:custGeom>
                <a:avLst/>
                <a:gdLst/>
                <a:ahLst/>
                <a:rect l="l" t="t" r="r" b="b"/>
                <a:pathLst>
                  <a:path w="660" h="649">
                    <a:moveTo>
                      <a:pt x="660" y="415"/>
                    </a:moveTo>
                    <a:lnTo>
                      <a:pt x="648" y="415"/>
                    </a:lnTo>
                    <a:lnTo>
                      <a:pt x="635" y="415"/>
                    </a:lnTo>
                    <a:lnTo>
                      <a:pt x="623" y="411"/>
                    </a:lnTo>
                    <a:lnTo>
                      <a:pt x="611" y="411"/>
                    </a:lnTo>
                    <a:lnTo>
                      <a:pt x="598" y="411"/>
                    </a:lnTo>
                    <a:lnTo>
                      <a:pt x="589" y="411"/>
                    </a:lnTo>
                    <a:lnTo>
                      <a:pt x="576" y="415"/>
                    </a:lnTo>
                    <a:lnTo>
                      <a:pt x="564" y="422"/>
                    </a:lnTo>
                    <a:lnTo>
                      <a:pt x="561" y="426"/>
                    </a:lnTo>
                    <a:lnTo>
                      <a:pt x="558" y="429"/>
                    </a:lnTo>
                    <a:lnTo>
                      <a:pt x="555" y="437"/>
                    </a:lnTo>
                    <a:lnTo>
                      <a:pt x="552" y="444"/>
                    </a:lnTo>
                    <a:lnTo>
                      <a:pt x="549" y="448"/>
                    </a:lnTo>
                    <a:lnTo>
                      <a:pt x="549" y="455"/>
                    </a:lnTo>
                    <a:lnTo>
                      <a:pt x="545" y="459"/>
                    </a:lnTo>
                    <a:lnTo>
                      <a:pt x="542" y="462"/>
                    </a:lnTo>
                    <a:lnTo>
                      <a:pt x="542" y="470"/>
                    </a:lnTo>
                    <a:lnTo>
                      <a:pt x="545" y="477"/>
                    </a:lnTo>
                    <a:lnTo>
                      <a:pt x="545" y="481"/>
                    </a:lnTo>
                    <a:lnTo>
                      <a:pt x="549" y="481"/>
                    </a:lnTo>
                    <a:lnTo>
                      <a:pt x="552" y="484"/>
                    </a:lnTo>
                    <a:lnTo>
                      <a:pt x="555" y="488"/>
                    </a:lnTo>
                    <a:lnTo>
                      <a:pt x="555" y="495"/>
                    </a:lnTo>
                    <a:lnTo>
                      <a:pt x="558" y="503"/>
                    </a:lnTo>
                    <a:lnTo>
                      <a:pt x="561" y="503"/>
                    </a:lnTo>
                    <a:lnTo>
                      <a:pt x="570" y="503"/>
                    </a:lnTo>
                    <a:lnTo>
                      <a:pt x="576" y="506"/>
                    </a:lnTo>
                    <a:lnTo>
                      <a:pt x="586" y="506"/>
                    </a:lnTo>
                    <a:lnTo>
                      <a:pt x="595" y="510"/>
                    </a:lnTo>
                    <a:lnTo>
                      <a:pt x="604" y="514"/>
                    </a:lnTo>
                    <a:lnTo>
                      <a:pt x="614" y="514"/>
                    </a:lnTo>
                    <a:lnTo>
                      <a:pt x="620" y="514"/>
                    </a:lnTo>
                    <a:lnTo>
                      <a:pt x="614" y="506"/>
                    </a:lnTo>
                    <a:lnTo>
                      <a:pt x="607" y="499"/>
                    </a:lnTo>
                    <a:lnTo>
                      <a:pt x="604" y="495"/>
                    </a:lnTo>
                    <a:lnTo>
                      <a:pt x="601" y="488"/>
                    </a:lnTo>
                    <a:lnTo>
                      <a:pt x="598" y="481"/>
                    </a:lnTo>
                    <a:lnTo>
                      <a:pt x="598" y="470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601" y="440"/>
                    </a:lnTo>
                    <a:lnTo>
                      <a:pt x="611" y="433"/>
                    </a:lnTo>
                    <a:lnTo>
                      <a:pt x="620" y="429"/>
                    </a:lnTo>
                    <a:lnTo>
                      <a:pt x="629" y="426"/>
                    </a:lnTo>
                    <a:lnTo>
                      <a:pt x="641" y="426"/>
                    </a:lnTo>
                    <a:lnTo>
                      <a:pt x="651" y="422"/>
                    </a:lnTo>
                    <a:lnTo>
                      <a:pt x="657" y="418"/>
                    </a:lnTo>
                    <a:lnTo>
                      <a:pt x="660" y="415"/>
                    </a:lnTo>
                    <a:close/>
                    <a:moveTo>
                      <a:pt x="205" y="521"/>
                    </a:moveTo>
                    <a:lnTo>
                      <a:pt x="205" y="528"/>
                    </a:lnTo>
                    <a:lnTo>
                      <a:pt x="202" y="536"/>
                    </a:lnTo>
                    <a:lnTo>
                      <a:pt x="196" y="543"/>
                    </a:lnTo>
                    <a:lnTo>
                      <a:pt x="192" y="550"/>
                    </a:lnTo>
                    <a:lnTo>
                      <a:pt x="189" y="558"/>
                    </a:lnTo>
                    <a:lnTo>
                      <a:pt x="186" y="565"/>
                    </a:lnTo>
                    <a:lnTo>
                      <a:pt x="180" y="572"/>
                    </a:lnTo>
                    <a:lnTo>
                      <a:pt x="180" y="580"/>
                    </a:lnTo>
                    <a:lnTo>
                      <a:pt x="180" y="580"/>
                    </a:lnTo>
                    <a:lnTo>
                      <a:pt x="180" y="583"/>
                    </a:lnTo>
                    <a:lnTo>
                      <a:pt x="180" y="583"/>
                    </a:lnTo>
                    <a:lnTo>
                      <a:pt x="183" y="587"/>
                    </a:lnTo>
                    <a:lnTo>
                      <a:pt x="183" y="587"/>
                    </a:lnTo>
                    <a:lnTo>
                      <a:pt x="183" y="591"/>
                    </a:lnTo>
                    <a:lnTo>
                      <a:pt x="183" y="591"/>
                    </a:lnTo>
                    <a:lnTo>
                      <a:pt x="183" y="594"/>
                    </a:lnTo>
                    <a:lnTo>
                      <a:pt x="180" y="598"/>
                    </a:lnTo>
                    <a:lnTo>
                      <a:pt x="180" y="602"/>
                    </a:lnTo>
                    <a:lnTo>
                      <a:pt x="177" y="605"/>
                    </a:lnTo>
                    <a:lnTo>
                      <a:pt x="177" y="609"/>
                    </a:lnTo>
                    <a:lnTo>
                      <a:pt x="177" y="613"/>
                    </a:lnTo>
                    <a:lnTo>
                      <a:pt x="180" y="616"/>
                    </a:lnTo>
                    <a:lnTo>
                      <a:pt x="183" y="620"/>
                    </a:lnTo>
                    <a:lnTo>
                      <a:pt x="186" y="624"/>
                    </a:lnTo>
                    <a:lnTo>
                      <a:pt x="177" y="649"/>
                    </a:lnTo>
                    <a:lnTo>
                      <a:pt x="192" y="649"/>
                    </a:lnTo>
                    <a:lnTo>
                      <a:pt x="208" y="646"/>
                    </a:lnTo>
                    <a:lnTo>
                      <a:pt x="220" y="646"/>
                    </a:lnTo>
                    <a:lnTo>
                      <a:pt x="236" y="642"/>
                    </a:lnTo>
                    <a:lnTo>
                      <a:pt x="251" y="638"/>
                    </a:lnTo>
                    <a:lnTo>
                      <a:pt x="267" y="638"/>
                    </a:lnTo>
                    <a:lnTo>
                      <a:pt x="282" y="635"/>
                    </a:lnTo>
                    <a:lnTo>
                      <a:pt x="298" y="635"/>
                    </a:lnTo>
                    <a:lnTo>
                      <a:pt x="298" y="624"/>
                    </a:lnTo>
                    <a:lnTo>
                      <a:pt x="298" y="609"/>
                    </a:lnTo>
                    <a:lnTo>
                      <a:pt x="301" y="594"/>
                    </a:lnTo>
                    <a:lnTo>
                      <a:pt x="301" y="580"/>
                    </a:lnTo>
                    <a:lnTo>
                      <a:pt x="304" y="565"/>
                    </a:lnTo>
                    <a:lnTo>
                      <a:pt x="304" y="550"/>
                    </a:lnTo>
                    <a:lnTo>
                      <a:pt x="304" y="536"/>
                    </a:lnTo>
                    <a:lnTo>
                      <a:pt x="301" y="525"/>
                    </a:lnTo>
                    <a:lnTo>
                      <a:pt x="298" y="514"/>
                    </a:lnTo>
                    <a:lnTo>
                      <a:pt x="288" y="514"/>
                    </a:lnTo>
                    <a:lnTo>
                      <a:pt x="279" y="514"/>
                    </a:lnTo>
                    <a:lnTo>
                      <a:pt x="267" y="514"/>
                    </a:lnTo>
                    <a:lnTo>
                      <a:pt x="251" y="514"/>
                    </a:lnTo>
                    <a:lnTo>
                      <a:pt x="239" y="517"/>
                    </a:lnTo>
                    <a:lnTo>
                      <a:pt x="227" y="517"/>
                    </a:lnTo>
                    <a:lnTo>
                      <a:pt x="217" y="521"/>
                    </a:lnTo>
                    <a:lnTo>
                      <a:pt x="205" y="521"/>
                    </a:lnTo>
                    <a:close/>
                    <a:moveTo>
                      <a:pt x="140" y="103"/>
                    </a:moveTo>
                    <a:lnTo>
                      <a:pt x="143" y="107"/>
                    </a:lnTo>
                    <a:lnTo>
                      <a:pt x="149" y="110"/>
                    </a:lnTo>
                    <a:lnTo>
                      <a:pt x="152" y="114"/>
                    </a:lnTo>
                    <a:lnTo>
                      <a:pt x="155" y="118"/>
                    </a:lnTo>
                    <a:lnTo>
                      <a:pt x="158" y="125"/>
                    </a:lnTo>
                    <a:lnTo>
                      <a:pt x="158" y="129"/>
                    </a:lnTo>
                    <a:lnTo>
                      <a:pt x="158" y="140"/>
                    </a:lnTo>
                    <a:lnTo>
                      <a:pt x="155" y="151"/>
                    </a:lnTo>
                    <a:lnTo>
                      <a:pt x="158" y="140"/>
                    </a:lnTo>
                    <a:lnTo>
                      <a:pt x="161" y="132"/>
                    </a:lnTo>
                    <a:lnTo>
                      <a:pt x="161" y="121"/>
                    </a:lnTo>
                    <a:lnTo>
                      <a:pt x="161" y="114"/>
                    </a:lnTo>
                    <a:lnTo>
                      <a:pt x="158" y="107"/>
                    </a:lnTo>
                    <a:lnTo>
                      <a:pt x="155" y="99"/>
                    </a:lnTo>
                    <a:lnTo>
                      <a:pt x="152" y="88"/>
                    </a:lnTo>
                    <a:lnTo>
                      <a:pt x="149" y="77"/>
                    </a:lnTo>
                    <a:lnTo>
                      <a:pt x="149" y="81"/>
                    </a:lnTo>
                    <a:lnTo>
                      <a:pt x="149" y="85"/>
                    </a:lnTo>
                    <a:lnTo>
                      <a:pt x="146" y="88"/>
                    </a:lnTo>
                    <a:lnTo>
                      <a:pt x="146" y="92"/>
                    </a:lnTo>
                    <a:lnTo>
                      <a:pt x="143" y="96"/>
                    </a:lnTo>
                    <a:lnTo>
                      <a:pt x="143" y="96"/>
                    </a:lnTo>
                    <a:lnTo>
                      <a:pt x="140" y="99"/>
                    </a:lnTo>
                    <a:lnTo>
                      <a:pt x="140" y="103"/>
                    </a:lnTo>
                    <a:close/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  <a:close/>
                    <a:moveTo>
                      <a:pt x="41" y="140"/>
                    </a:moveTo>
                    <a:lnTo>
                      <a:pt x="50" y="162"/>
                    </a:lnTo>
                    <a:lnTo>
                      <a:pt x="56" y="187"/>
                    </a:lnTo>
                    <a:lnTo>
                      <a:pt x="62" y="220"/>
                    </a:lnTo>
                    <a:lnTo>
                      <a:pt x="69" y="253"/>
                    </a:lnTo>
                    <a:lnTo>
                      <a:pt x="72" y="290"/>
                    </a:lnTo>
                    <a:lnTo>
                      <a:pt x="75" y="327"/>
                    </a:lnTo>
                    <a:lnTo>
                      <a:pt x="78" y="363"/>
                    </a:lnTo>
                    <a:lnTo>
                      <a:pt x="78" y="400"/>
                    </a:lnTo>
                    <a:lnTo>
                      <a:pt x="81" y="374"/>
                    </a:lnTo>
                    <a:lnTo>
                      <a:pt x="87" y="349"/>
                    </a:lnTo>
                    <a:lnTo>
                      <a:pt x="93" y="327"/>
                    </a:lnTo>
                    <a:lnTo>
                      <a:pt x="100" y="301"/>
                    </a:lnTo>
                    <a:lnTo>
                      <a:pt x="103" y="279"/>
                    </a:lnTo>
                    <a:lnTo>
                      <a:pt x="106" y="257"/>
                    </a:lnTo>
                    <a:lnTo>
                      <a:pt x="109" y="235"/>
                    </a:lnTo>
                    <a:lnTo>
                      <a:pt x="109" y="217"/>
                    </a:lnTo>
                    <a:lnTo>
                      <a:pt x="109" y="213"/>
                    </a:lnTo>
                    <a:lnTo>
                      <a:pt x="109" y="213"/>
                    </a:lnTo>
                    <a:lnTo>
                      <a:pt x="106" y="213"/>
                    </a:lnTo>
                    <a:lnTo>
                      <a:pt x="106" y="217"/>
                    </a:lnTo>
                    <a:lnTo>
                      <a:pt x="103" y="217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09"/>
                    </a:lnTo>
                    <a:lnTo>
                      <a:pt x="90" y="198"/>
                    </a:lnTo>
                    <a:lnTo>
                      <a:pt x="84" y="187"/>
                    </a:lnTo>
                    <a:lnTo>
                      <a:pt x="72" y="176"/>
                    </a:lnTo>
                    <a:lnTo>
                      <a:pt x="62" y="165"/>
                    </a:lnTo>
                    <a:lnTo>
                      <a:pt x="53" y="154"/>
                    </a:lnTo>
                    <a:lnTo>
                      <a:pt x="47" y="147"/>
                    </a:lnTo>
                    <a:lnTo>
                      <a:pt x="41" y="140"/>
                    </a:lnTo>
                    <a:close/>
                    <a:moveTo>
                      <a:pt x="115" y="169"/>
                    </a:moveTo>
                    <a:lnTo>
                      <a:pt x="115" y="217"/>
                    </a:lnTo>
                    <a:lnTo>
                      <a:pt x="112" y="264"/>
                    </a:lnTo>
                    <a:lnTo>
                      <a:pt x="103" y="305"/>
                    </a:lnTo>
                    <a:lnTo>
                      <a:pt x="93" y="345"/>
                    </a:lnTo>
                    <a:lnTo>
                      <a:pt x="84" y="385"/>
                    </a:lnTo>
                    <a:lnTo>
                      <a:pt x="75" y="426"/>
                    </a:lnTo>
                    <a:lnTo>
                      <a:pt x="65" y="462"/>
                    </a:lnTo>
                    <a:lnTo>
                      <a:pt x="62" y="503"/>
                    </a:lnTo>
                    <a:lnTo>
                      <a:pt x="69" y="499"/>
                    </a:lnTo>
                    <a:lnTo>
                      <a:pt x="75" y="495"/>
                    </a:lnTo>
                    <a:lnTo>
                      <a:pt x="81" y="488"/>
                    </a:lnTo>
                    <a:lnTo>
                      <a:pt x="84" y="481"/>
                    </a:lnTo>
                    <a:lnTo>
                      <a:pt x="90" y="473"/>
                    </a:lnTo>
                    <a:lnTo>
                      <a:pt x="93" y="466"/>
                    </a:lnTo>
                    <a:lnTo>
                      <a:pt x="100" y="459"/>
                    </a:lnTo>
                    <a:lnTo>
                      <a:pt x="103" y="448"/>
                    </a:lnTo>
                    <a:lnTo>
                      <a:pt x="103" y="444"/>
                    </a:lnTo>
                    <a:lnTo>
                      <a:pt x="103" y="444"/>
                    </a:lnTo>
                    <a:lnTo>
                      <a:pt x="100" y="444"/>
                    </a:lnTo>
                    <a:lnTo>
                      <a:pt x="96" y="448"/>
                    </a:lnTo>
                    <a:lnTo>
                      <a:pt x="90" y="448"/>
                    </a:lnTo>
                    <a:lnTo>
                      <a:pt x="87" y="451"/>
                    </a:lnTo>
                    <a:lnTo>
                      <a:pt x="87" y="451"/>
                    </a:lnTo>
                    <a:lnTo>
                      <a:pt x="87" y="448"/>
                    </a:lnTo>
                    <a:lnTo>
                      <a:pt x="90" y="440"/>
                    </a:lnTo>
                    <a:lnTo>
                      <a:pt x="93" y="437"/>
                    </a:lnTo>
                    <a:lnTo>
                      <a:pt x="96" y="433"/>
                    </a:lnTo>
                    <a:lnTo>
                      <a:pt x="100" y="429"/>
                    </a:lnTo>
                    <a:lnTo>
                      <a:pt x="103" y="426"/>
                    </a:lnTo>
                    <a:lnTo>
                      <a:pt x="103" y="426"/>
                    </a:lnTo>
                    <a:lnTo>
                      <a:pt x="106" y="422"/>
                    </a:lnTo>
                    <a:lnTo>
                      <a:pt x="106" y="418"/>
                    </a:lnTo>
                    <a:lnTo>
                      <a:pt x="109" y="411"/>
                    </a:lnTo>
                    <a:lnTo>
                      <a:pt x="109" y="404"/>
                    </a:lnTo>
                    <a:lnTo>
                      <a:pt x="109" y="393"/>
                    </a:lnTo>
                    <a:lnTo>
                      <a:pt x="109" y="382"/>
                    </a:lnTo>
                    <a:lnTo>
                      <a:pt x="109" y="371"/>
                    </a:lnTo>
                    <a:lnTo>
                      <a:pt x="109" y="360"/>
                    </a:lnTo>
                    <a:lnTo>
                      <a:pt x="106" y="345"/>
                    </a:lnTo>
                    <a:lnTo>
                      <a:pt x="106" y="334"/>
                    </a:lnTo>
                    <a:lnTo>
                      <a:pt x="106" y="334"/>
                    </a:lnTo>
                    <a:lnTo>
                      <a:pt x="109" y="330"/>
                    </a:lnTo>
                    <a:lnTo>
                      <a:pt x="109" y="330"/>
                    </a:lnTo>
                    <a:lnTo>
                      <a:pt x="109" y="327"/>
                    </a:lnTo>
                    <a:lnTo>
                      <a:pt x="112" y="327"/>
                    </a:lnTo>
                    <a:lnTo>
                      <a:pt x="112" y="323"/>
                    </a:lnTo>
                    <a:lnTo>
                      <a:pt x="112" y="323"/>
                    </a:lnTo>
                    <a:lnTo>
                      <a:pt x="115" y="319"/>
                    </a:lnTo>
                    <a:lnTo>
                      <a:pt x="115" y="312"/>
                    </a:lnTo>
                    <a:lnTo>
                      <a:pt x="118" y="305"/>
                    </a:lnTo>
                    <a:lnTo>
                      <a:pt x="118" y="297"/>
                    </a:lnTo>
                    <a:lnTo>
                      <a:pt x="121" y="294"/>
                    </a:lnTo>
                    <a:lnTo>
                      <a:pt x="121" y="286"/>
                    </a:lnTo>
                    <a:lnTo>
                      <a:pt x="121" y="283"/>
                    </a:lnTo>
                    <a:lnTo>
                      <a:pt x="124" y="275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24" y="242"/>
                    </a:lnTo>
                    <a:lnTo>
                      <a:pt x="124" y="231"/>
                    </a:lnTo>
                    <a:lnTo>
                      <a:pt x="124" y="220"/>
                    </a:lnTo>
                    <a:lnTo>
                      <a:pt x="124" y="206"/>
                    </a:lnTo>
                    <a:lnTo>
                      <a:pt x="124" y="195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27" y="176"/>
                    </a:lnTo>
                    <a:lnTo>
                      <a:pt x="124" y="173"/>
                    </a:lnTo>
                    <a:lnTo>
                      <a:pt x="124" y="173"/>
                    </a:lnTo>
                    <a:lnTo>
                      <a:pt x="121" y="173"/>
                    </a:lnTo>
                    <a:lnTo>
                      <a:pt x="118" y="173"/>
                    </a:lnTo>
                    <a:lnTo>
                      <a:pt x="118" y="169"/>
                    </a:lnTo>
                    <a:lnTo>
                      <a:pt x="115" y="169"/>
                    </a:lnTo>
                    <a:lnTo>
                      <a:pt x="115" y="1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47520" y="4738680"/>
                <a:ext cx="131040" cy="124920"/>
              </a:xfrm>
              <a:custGeom>
                <a:avLst/>
                <a:gdLst/>
                <a:ahLst/>
                <a:rect l="l" t="t" r="r" b="b"/>
                <a:pathLst>
                  <a:path w="118" h="103">
                    <a:moveTo>
                      <a:pt x="118" y="4"/>
                    </a:moveTo>
                    <a:lnTo>
                      <a:pt x="106" y="4"/>
                    </a:lnTo>
                    <a:lnTo>
                      <a:pt x="93" y="4"/>
                    </a:lnTo>
                    <a:lnTo>
                      <a:pt x="81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34" y="4"/>
                    </a:lnTo>
                    <a:lnTo>
                      <a:pt x="22" y="11"/>
                    </a:lnTo>
                    <a:lnTo>
                      <a:pt x="19" y="15"/>
                    </a:lnTo>
                    <a:lnTo>
                      <a:pt x="16" y="18"/>
                    </a:lnTo>
                    <a:lnTo>
                      <a:pt x="13" y="26"/>
                    </a:lnTo>
                    <a:lnTo>
                      <a:pt x="10" y="33"/>
                    </a:lnTo>
                    <a:lnTo>
                      <a:pt x="7" y="37"/>
                    </a:lnTo>
                    <a:lnTo>
                      <a:pt x="7" y="44"/>
                    </a:lnTo>
                    <a:lnTo>
                      <a:pt x="3" y="48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7" y="70"/>
                    </a:lnTo>
                    <a:lnTo>
                      <a:pt x="10" y="73"/>
                    </a:lnTo>
                    <a:lnTo>
                      <a:pt x="13" y="77"/>
                    </a:lnTo>
                    <a:lnTo>
                      <a:pt x="13" y="84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8" y="92"/>
                    </a:lnTo>
                    <a:lnTo>
                      <a:pt x="34" y="95"/>
                    </a:lnTo>
                    <a:lnTo>
                      <a:pt x="44" y="95"/>
                    </a:lnTo>
                    <a:lnTo>
                      <a:pt x="53" y="99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8" y="103"/>
                    </a:lnTo>
                    <a:lnTo>
                      <a:pt x="72" y="95"/>
                    </a:lnTo>
                    <a:lnTo>
                      <a:pt x="65" y="88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6" y="70"/>
                    </a:lnTo>
                    <a:lnTo>
                      <a:pt x="56" y="59"/>
                    </a:lnTo>
                    <a:lnTo>
                      <a:pt x="56" y="51"/>
                    </a:lnTo>
                    <a:lnTo>
                      <a:pt x="56" y="37"/>
                    </a:lnTo>
                    <a:lnTo>
                      <a:pt x="59" y="29"/>
                    </a:lnTo>
                    <a:lnTo>
                      <a:pt x="69" y="22"/>
                    </a:lnTo>
                    <a:lnTo>
                      <a:pt x="78" y="18"/>
                    </a:lnTo>
                    <a:lnTo>
                      <a:pt x="87" y="15"/>
                    </a:lnTo>
                    <a:lnTo>
                      <a:pt x="99" y="15"/>
                    </a:lnTo>
                    <a:lnTo>
                      <a:pt x="109" y="11"/>
                    </a:lnTo>
                    <a:lnTo>
                      <a:pt x="115" y="7"/>
                    </a:lnTo>
                    <a:lnTo>
                      <a:pt x="11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542440" y="4863960"/>
                <a:ext cx="140760" cy="16380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7"/>
                    </a:moveTo>
                    <a:lnTo>
                      <a:pt x="28" y="14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12" y="44"/>
                    </a:lnTo>
                    <a:lnTo>
                      <a:pt x="9" y="51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6" y="73"/>
                    </a:lnTo>
                    <a:lnTo>
                      <a:pt x="6" y="77"/>
                    </a:lnTo>
                    <a:lnTo>
                      <a:pt x="6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3" y="102"/>
                    </a:lnTo>
                    <a:lnTo>
                      <a:pt x="6" y="106"/>
                    </a:lnTo>
                    <a:lnTo>
                      <a:pt x="9" y="110"/>
                    </a:lnTo>
                    <a:lnTo>
                      <a:pt x="0" y="135"/>
                    </a:lnTo>
                    <a:lnTo>
                      <a:pt x="15" y="135"/>
                    </a:lnTo>
                    <a:lnTo>
                      <a:pt x="31" y="132"/>
                    </a:lnTo>
                    <a:lnTo>
                      <a:pt x="43" y="132"/>
                    </a:lnTo>
                    <a:lnTo>
                      <a:pt x="59" y="128"/>
                    </a:lnTo>
                    <a:lnTo>
                      <a:pt x="74" y="124"/>
                    </a:lnTo>
                    <a:lnTo>
                      <a:pt x="90" y="124"/>
                    </a:lnTo>
                    <a:lnTo>
                      <a:pt x="105" y="121"/>
                    </a:lnTo>
                    <a:lnTo>
                      <a:pt x="121" y="121"/>
                    </a:lnTo>
                    <a:lnTo>
                      <a:pt x="121" y="110"/>
                    </a:lnTo>
                    <a:lnTo>
                      <a:pt x="121" y="95"/>
                    </a:lnTo>
                    <a:lnTo>
                      <a:pt x="124" y="80"/>
                    </a:lnTo>
                    <a:lnTo>
                      <a:pt x="124" y="66"/>
                    </a:lnTo>
                    <a:lnTo>
                      <a:pt x="127" y="51"/>
                    </a:lnTo>
                    <a:lnTo>
                      <a:pt x="127" y="36"/>
                    </a:lnTo>
                    <a:lnTo>
                      <a:pt x="127" y="22"/>
                    </a:lnTo>
                    <a:lnTo>
                      <a:pt x="124" y="11"/>
                    </a:lnTo>
                    <a:lnTo>
                      <a:pt x="121" y="0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40" y="7"/>
                    </a:lnTo>
                    <a:lnTo>
                      <a:pt x="2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1560" y="4332600"/>
                <a:ext cx="23040" cy="8964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26"/>
                    </a:moveTo>
                    <a:lnTo>
                      <a:pt x="3" y="30"/>
                    </a:lnTo>
                    <a:lnTo>
                      <a:pt x="9" y="33"/>
                    </a:lnTo>
                    <a:lnTo>
                      <a:pt x="12" y="37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8" y="63"/>
                    </a:lnTo>
                    <a:lnTo>
                      <a:pt x="15" y="74"/>
                    </a:lnTo>
                    <a:lnTo>
                      <a:pt x="18" y="63"/>
                    </a:lnTo>
                    <a:lnTo>
                      <a:pt x="21" y="55"/>
                    </a:lnTo>
                    <a:lnTo>
                      <a:pt x="21" y="44"/>
                    </a:lnTo>
                    <a:lnTo>
                      <a:pt x="21" y="37"/>
                    </a:lnTo>
                    <a:lnTo>
                      <a:pt x="18" y="30"/>
                    </a:lnTo>
                    <a:lnTo>
                      <a:pt x="15" y="22"/>
                    </a:lnTo>
                    <a:lnTo>
                      <a:pt x="12" y="11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8200" y="4239000"/>
                <a:ext cx="151920" cy="2455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58800" y="4409280"/>
                <a:ext cx="75240" cy="315720"/>
              </a:xfrm>
              <a:custGeom>
                <a:avLst/>
                <a:gdLst/>
                <a:ahLst/>
                <a:rect l="l" t="t" r="r" b="b"/>
                <a:pathLst>
                  <a:path w="68" h="260">
                    <a:moveTo>
                      <a:pt x="0" y="0"/>
                    </a:moveTo>
                    <a:lnTo>
                      <a:pt x="9" y="22"/>
                    </a:lnTo>
                    <a:lnTo>
                      <a:pt x="15" y="47"/>
                    </a:lnTo>
                    <a:lnTo>
                      <a:pt x="21" y="80"/>
                    </a:lnTo>
                    <a:lnTo>
                      <a:pt x="28" y="113"/>
                    </a:lnTo>
                    <a:lnTo>
                      <a:pt x="31" y="150"/>
                    </a:lnTo>
                    <a:lnTo>
                      <a:pt x="34" y="187"/>
                    </a:lnTo>
                    <a:lnTo>
                      <a:pt x="37" y="223"/>
                    </a:lnTo>
                    <a:lnTo>
                      <a:pt x="37" y="260"/>
                    </a:lnTo>
                    <a:lnTo>
                      <a:pt x="40" y="234"/>
                    </a:lnTo>
                    <a:lnTo>
                      <a:pt x="46" y="209"/>
                    </a:lnTo>
                    <a:lnTo>
                      <a:pt x="52" y="187"/>
                    </a:lnTo>
                    <a:lnTo>
                      <a:pt x="59" y="161"/>
                    </a:lnTo>
                    <a:lnTo>
                      <a:pt x="62" y="139"/>
                    </a:lnTo>
                    <a:lnTo>
                      <a:pt x="65" y="117"/>
                    </a:lnTo>
                    <a:lnTo>
                      <a:pt x="68" y="95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5" y="73"/>
                    </a:lnTo>
                    <a:lnTo>
                      <a:pt x="65" y="77"/>
                    </a:lnTo>
                    <a:lnTo>
                      <a:pt x="62" y="77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5" y="80"/>
                    </a:lnTo>
                    <a:lnTo>
                      <a:pt x="55" y="69"/>
                    </a:lnTo>
                    <a:lnTo>
                      <a:pt x="49" y="58"/>
                    </a:lnTo>
                    <a:lnTo>
                      <a:pt x="43" y="47"/>
                    </a:lnTo>
                    <a:lnTo>
                      <a:pt x="31" y="36"/>
                    </a:lnTo>
                    <a:lnTo>
                      <a:pt x="21" y="25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39000" y="4444560"/>
                <a:ext cx="71640" cy="405720"/>
              </a:xfrm>
              <a:custGeom>
                <a:avLst/>
                <a:gdLst/>
                <a:ahLst/>
                <a:rect l="l" t="t" r="r" b="b"/>
                <a:pathLst>
                  <a:path w="65" h="334">
                    <a:moveTo>
                      <a:pt x="53" y="0"/>
                    </a:moveTo>
                    <a:lnTo>
                      <a:pt x="53" y="48"/>
                    </a:lnTo>
                    <a:lnTo>
                      <a:pt x="50" y="95"/>
                    </a:lnTo>
                    <a:lnTo>
                      <a:pt x="41" y="136"/>
                    </a:lnTo>
                    <a:lnTo>
                      <a:pt x="31" y="176"/>
                    </a:lnTo>
                    <a:lnTo>
                      <a:pt x="22" y="216"/>
                    </a:lnTo>
                    <a:lnTo>
                      <a:pt x="13" y="257"/>
                    </a:lnTo>
                    <a:lnTo>
                      <a:pt x="3" y="293"/>
                    </a:lnTo>
                    <a:lnTo>
                      <a:pt x="0" y="334"/>
                    </a:lnTo>
                    <a:lnTo>
                      <a:pt x="7" y="330"/>
                    </a:lnTo>
                    <a:lnTo>
                      <a:pt x="13" y="326"/>
                    </a:lnTo>
                    <a:lnTo>
                      <a:pt x="19" y="319"/>
                    </a:lnTo>
                    <a:lnTo>
                      <a:pt x="22" y="312"/>
                    </a:lnTo>
                    <a:lnTo>
                      <a:pt x="28" y="304"/>
                    </a:lnTo>
                    <a:lnTo>
                      <a:pt x="31" y="297"/>
                    </a:lnTo>
                    <a:lnTo>
                      <a:pt x="38" y="290"/>
                    </a:lnTo>
                    <a:lnTo>
                      <a:pt x="41" y="279"/>
                    </a:lnTo>
                    <a:lnTo>
                      <a:pt x="41" y="275"/>
                    </a:lnTo>
                    <a:lnTo>
                      <a:pt x="38" y="275"/>
                    </a:lnTo>
                    <a:lnTo>
                      <a:pt x="34" y="279"/>
                    </a:lnTo>
                    <a:lnTo>
                      <a:pt x="28" y="279"/>
                    </a:lnTo>
                    <a:lnTo>
                      <a:pt x="25" y="282"/>
                    </a:lnTo>
                    <a:lnTo>
                      <a:pt x="25" y="279"/>
                    </a:lnTo>
                    <a:lnTo>
                      <a:pt x="28" y="271"/>
                    </a:lnTo>
                    <a:lnTo>
                      <a:pt x="31" y="268"/>
                    </a:lnTo>
                    <a:lnTo>
                      <a:pt x="34" y="264"/>
                    </a:lnTo>
                    <a:lnTo>
                      <a:pt x="38" y="260"/>
                    </a:lnTo>
                    <a:lnTo>
                      <a:pt x="41" y="257"/>
                    </a:lnTo>
                    <a:lnTo>
                      <a:pt x="44" y="253"/>
                    </a:lnTo>
                    <a:lnTo>
                      <a:pt x="44" y="249"/>
                    </a:lnTo>
                    <a:lnTo>
                      <a:pt x="47" y="242"/>
                    </a:lnTo>
                    <a:lnTo>
                      <a:pt x="47" y="235"/>
                    </a:lnTo>
                    <a:lnTo>
                      <a:pt x="47" y="224"/>
                    </a:lnTo>
                    <a:lnTo>
                      <a:pt x="47" y="213"/>
                    </a:lnTo>
                    <a:lnTo>
                      <a:pt x="47" y="202"/>
                    </a:lnTo>
                    <a:lnTo>
                      <a:pt x="47" y="191"/>
                    </a:lnTo>
                    <a:lnTo>
                      <a:pt x="44" y="176"/>
                    </a:lnTo>
                    <a:lnTo>
                      <a:pt x="44" y="165"/>
                    </a:lnTo>
                    <a:lnTo>
                      <a:pt x="47" y="161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0" y="154"/>
                    </a:lnTo>
                    <a:lnTo>
                      <a:pt x="53" y="150"/>
                    </a:lnTo>
                    <a:lnTo>
                      <a:pt x="53" y="143"/>
                    </a:lnTo>
                    <a:lnTo>
                      <a:pt x="56" y="136"/>
                    </a:lnTo>
                    <a:lnTo>
                      <a:pt x="56" y="128"/>
                    </a:lnTo>
                    <a:lnTo>
                      <a:pt x="59" y="125"/>
                    </a:lnTo>
                    <a:lnTo>
                      <a:pt x="59" y="117"/>
                    </a:lnTo>
                    <a:lnTo>
                      <a:pt x="59" y="114"/>
                    </a:lnTo>
                    <a:lnTo>
                      <a:pt x="62" y="106"/>
                    </a:lnTo>
                    <a:lnTo>
                      <a:pt x="62" y="99"/>
                    </a:lnTo>
                    <a:lnTo>
                      <a:pt x="62" y="88"/>
                    </a:lnTo>
                    <a:lnTo>
                      <a:pt x="62" y="73"/>
                    </a:lnTo>
                    <a:lnTo>
                      <a:pt x="62" y="62"/>
                    </a:lnTo>
                    <a:lnTo>
                      <a:pt x="62" y="51"/>
                    </a:lnTo>
                    <a:lnTo>
                      <a:pt x="62" y="37"/>
                    </a:lnTo>
                    <a:lnTo>
                      <a:pt x="62" y="26"/>
                    </a:lnTo>
                    <a:lnTo>
                      <a:pt x="65" y="15"/>
                    </a:lnTo>
                    <a:lnTo>
                      <a:pt x="65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325640" y="4185360"/>
                <a:ext cx="470520" cy="491040"/>
              </a:xfrm>
              <a:custGeom>
                <a:avLst/>
                <a:gdLst/>
                <a:ahLst/>
                <a:rect l="l" t="t" r="r" b="b"/>
                <a:pathLst>
                  <a:path w="424" h="404">
                    <a:moveTo>
                      <a:pt x="49" y="257"/>
                    </a:moveTo>
                    <a:lnTo>
                      <a:pt x="53" y="261"/>
                    </a:lnTo>
                    <a:lnTo>
                      <a:pt x="53" y="264"/>
                    </a:lnTo>
                    <a:lnTo>
                      <a:pt x="56" y="268"/>
                    </a:lnTo>
                    <a:lnTo>
                      <a:pt x="56" y="268"/>
                    </a:lnTo>
                    <a:lnTo>
                      <a:pt x="59" y="272"/>
                    </a:lnTo>
                    <a:lnTo>
                      <a:pt x="59" y="275"/>
                    </a:lnTo>
                    <a:lnTo>
                      <a:pt x="62" y="275"/>
                    </a:lnTo>
                    <a:lnTo>
                      <a:pt x="62" y="279"/>
                    </a:lnTo>
                    <a:lnTo>
                      <a:pt x="65" y="283"/>
                    </a:lnTo>
                    <a:lnTo>
                      <a:pt x="65" y="286"/>
                    </a:lnTo>
                    <a:lnTo>
                      <a:pt x="62" y="294"/>
                    </a:lnTo>
                    <a:lnTo>
                      <a:pt x="62" y="301"/>
                    </a:lnTo>
                    <a:lnTo>
                      <a:pt x="62" y="308"/>
                    </a:lnTo>
                    <a:lnTo>
                      <a:pt x="59" y="316"/>
                    </a:lnTo>
                    <a:lnTo>
                      <a:pt x="59" y="323"/>
                    </a:lnTo>
                    <a:lnTo>
                      <a:pt x="56" y="323"/>
                    </a:lnTo>
                    <a:lnTo>
                      <a:pt x="56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62" y="323"/>
                    </a:lnTo>
                    <a:lnTo>
                      <a:pt x="62" y="323"/>
                    </a:lnTo>
                    <a:lnTo>
                      <a:pt x="65" y="323"/>
                    </a:lnTo>
                    <a:lnTo>
                      <a:pt x="65" y="323"/>
                    </a:lnTo>
                    <a:lnTo>
                      <a:pt x="65" y="319"/>
                    </a:lnTo>
                    <a:lnTo>
                      <a:pt x="68" y="319"/>
                    </a:lnTo>
                    <a:lnTo>
                      <a:pt x="68" y="316"/>
                    </a:lnTo>
                    <a:lnTo>
                      <a:pt x="71" y="312"/>
                    </a:lnTo>
                    <a:lnTo>
                      <a:pt x="71" y="312"/>
                    </a:lnTo>
                    <a:lnTo>
                      <a:pt x="71" y="308"/>
                    </a:lnTo>
                    <a:lnTo>
                      <a:pt x="74" y="305"/>
                    </a:lnTo>
                    <a:lnTo>
                      <a:pt x="74" y="305"/>
                    </a:lnTo>
                    <a:lnTo>
                      <a:pt x="74" y="297"/>
                    </a:lnTo>
                    <a:lnTo>
                      <a:pt x="74" y="294"/>
                    </a:lnTo>
                    <a:lnTo>
                      <a:pt x="74" y="290"/>
                    </a:lnTo>
                    <a:lnTo>
                      <a:pt x="74" y="286"/>
                    </a:lnTo>
                    <a:lnTo>
                      <a:pt x="71" y="283"/>
                    </a:lnTo>
                    <a:lnTo>
                      <a:pt x="71" y="279"/>
                    </a:lnTo>
                    <a:lnTo>
                      <a:pt x="71" y="275"/>
                    </a:lnTo>
                    <a:lnTo>
                      <a:pt x="68" y="272"/>
                    </a:lnTo>
                    <a:lnTo>
                      <a:pt x="68" y="272"/>
                    </a:lnTo>
                    <a:lnTo>
                      <a:pt x="68" y="268"/>
                    </a:lnTo>
                    <a:lnTo>
                      <a:pt x="65" y="268"/>
                    </a:lnTo>
                    <a:lnTo>
                      <a:pt x="62" y="264"/>
                    </a:lnTo>
                    <a:lnTo>
                      <a:pt x="59" y="264"/>
                    </a:lnTo>
                    <a:lnTo>
                      <a:pt x="56" y="261"/>
                    </a:lnTo>
                    <a:lnTo>
                      <a:pt x="53" y="261"/>
                    </a:lnTo>
                    <a:lnTo>
                      <a:pt x="49" y="257"/>
                    </a:lnTo>
                    <a:close/>
                    <a:moveTo>
                      <a:pt x="68" y="327"/>
                    </a:moveTo>
                    <a:lnTo>
                      <a:pt x="65" y="327"/>
                    </a:lnTo>
                    <a:lnTo>
                      <a:pt x="59" y="327"/>
                    </a:lnTo>
                    <a:lnTo>
                      <a:pt x="56" y="327"/>
                    </a:lnTo>
                    <a:lnTo>
                      <a:pt x="53" y="327"/>
                    </a:lnTo>
                    <a:lnTo>
                      <a:pt x="46" y="327"/>
                    </a:lnTo>
                    <a:lnTo>
                      <a:pt x="43" y="327"/>
                    </a:lnTo>
                    <a:lnTo>
                      <a:pt x="37" y="327"/>
                    </a:lnTo>
                    <a:lnTo>
                      <a:pt x="34" y="330"/>
                    </a:lnTo>
                    <a:lnTo>
                      <a:pt x="31" y="327"/>
                    </a:lnTo>
                    <a:lnTo>
                      <a:pt x="28" y="327"/>
                    </a:lnTo>
                    <a:lnTo>
                      <a:pt x="22" y="327"/>
                    </a:lnTo>
                    <a:lnTo>
                      <a:pt x="19" y="330"/>
                    </a:lnTo>
                    <a:lnTo>
                      <a:pt x="12" y="330"/>
                    </a:lnTo>
                    <a:lnTo>
                      <a:pt x="9" y="330"/>
                    </a:lnTo>
                    <a:lnTo>
                      <a:pt x="3" y="330"/>
                    </a:lnTo>
                    <a:lnTo>
                      <a:pt x="0" y="330"/>
                    </a:lnTo>
                    <a:lnTo>
                      <a:pt x="3" y="330"/>
                    </a:lnTo>
                    <a:lnTo>
                      <a:pt x="6" y="334"/>
                    </a:lnTo>
                    <a:lnTo>
                      <a:pt x="12" y="334"/>
                    </a:lnTo>
                    <a:lnTo>
                      <a:pt x="15" y="338"/>
                    </a:lnTo>
                    <a:lnTo>
                      <a:pt x="22" y="338"/>
                    </a:lnTo>
                    <a:lnTo>
                      <a:pt x="25" y="338"/>
                    </a:lnTo>
                    <a:lnTo>
                      <a:pt x="31" y="338"/>
                    </a:lnTo>
                    <a:lnTo>
                      <a:pt x="37" y="334"/>
                    </a:lnTo>
                    <a:lnTo>
                      <a:pt x="43" y="334"/>
                    </a:lnTo>
                    <a:lnTo>
                      <a:pt x="49" y="334"/>
                    </a:lnTo>
                    <a:lnTo>
                      <a:pt x="53" y="330"/>
                    </a:lnTo>
                    <a:lnTo>
                      <a:pt x="59" y="330"/>
                    </a:lnTo>
                    <a:lnTo>
                      <a:pt x="62" y="330"/>
                    </a:lnTo>
                    <a:lnTo>
                      <a:pt x="65" y="327"/>
                    </a:lnTo>
                    <a:lnTo>
                      <a:pt x="68" y="327"/>
                    </a:lnTo>
                    <a:lnTo>
                      <a:pt x="68" y="327"/>
                    </a:lnTo>
                    <a:close/>
                    <a:moveTo>
                      <a:pt x="285" y="96"/>
                    </a:moveTo>
                    <a:lnTo>
                      <a:pt x="297" y="85"/>
                    </a:lnTo>
                    <a:lnTo>
                      <a:pt x="310" y="77"/>
                    </a:lnTo>
                    <a:lnTo>
                      <a:pt x="319" y="63"/>
                    </a:lnTo>
                    <a:lnTo>
                      <a:pt x="328" y="52"/>
                    </a:lnTo>
                    <a:lnTo>
                      <a:pt x="337" y="37"/>
                    </a:lnTo>
                    <a:lnTo>
                      <a:pt x="344" y="26"/>
                    </a:lnTo>
                    <a:lnTo>
                      <a:pt x="350" y="11"/>
                    </a:lnTo>
                    <a:lnTo>
                      <a:pt x="353" y="0"/>
                    </a:lnTo>
                    <a:lnTo>
                      <a:pt x="353" y="8"/>
                    </a:lnTo>
                    <a:lnTo>
                      <a:pt x="353" y="15"/>
                    </a:lnTo>
                    <a:lnTo>
                      <a:pt x="353" y="19"/>
                    </a:lnTo>
                    <a:lnTo>
                      <a:pt x="353" y="26"/>
                    </a:lnTo>
                    <a:lnTo>
                      <a:pt x="350" y="30"/>
                    </a:lnTo>
                    <a:lnTo>
                      <a:pt x="350" y="33"/>
                    </a:lnTo>
                    <a:lnTo>
                      <a:pt x="350" y="37"/>
                    </a:lnTo>
                    <a:lnTo>
                      <a:pt x="347" y="44"/>
                    </a:lnTo>
                    <a:lnTo>
                      <a:pt x="347" y="48"/>
                    </a:lnTo>
                    <a:lnTo>
                      <a:pt x="347" y="55"/>
                    </a:lnTo>
                    <a:lnTo>
                      <a:pt x="347" y="63"/>
                    </a:lnTo>
                    <a:lnTo>
                      <a:pt x="347" y="66"/>
                    </a:lnTo>
                    <a:lnTo>
                      <a:pt x="350" y="74"/>
                    </a:lnTo>
                    <a:lnTo>
                      <a:pt x="350" y="77"/>
                    </a:lnTo>
                    <a:lnTo>
                      <a:pt x="350" y="85"/>
                    </a:lnTo>
                    <a:lnTo>
                      <a:pt x="350" y="88"/>
                    </a:lnTo>
                    <a:lnTo>
                      <a:pt x="347" y="96"/>
                    </a:lnTo>
                    <a:lnTo>
                      <a:pt x="341" y="103"/>
                    </a:lnTo>
                    <a:lnTo>
                      <a:pt x="337" y="110"/>
                    </a:lnTo>
                    <a:lnTo>
                      <a:pt x="334" y="114"/>
                    </a:lnTo>
                    <a:lnTo>
                      <a:pt x="331" y="121"/>
                    </a:lnTo>
                    <a:lnTo>
                      <a:pt x="328" y="129"/>
                    </a:lnTo>
                    <a:lnTo>
                      <a:pt x="322" y="136"/>
                    </a:lnTo>
                    <a:lnTo>
                      <a:pt x="319" y="143"/>
                    </a:lnTo>
                    <a:lnTo>
                      <a:pt x="316" y="147"/>
                    </a:lnTo>
                    <a:lnTo>
                      <a:pt x="313" y="143"/>
                    </a:lnTo>
                    <a:lnTo>
                      <a:pt x="310" y="140"/>
                    </a:lnTo>
                    <a:lnTo>
                      <a:pt x="307" y="132"/>
                    </a:lnTo>
                    <a:lnTo>
                      <a:pt x="303" y="125"/>
                    </a:lnTo>
                    <a:lnTo>
                      <a:pt x="297" y="114"/>
                    </a:lnTo>
                    <a:lnTo>
                      <a:pt x="291" y="103"/>
                    </a:lnTo>
                    <a:lnTo>
                      <a:pt x="285" y="96"/>
                    </a:lnTo>
                    <a:close/>
                    <a:moveTo>
                      <a:pt x="266" y="88"/>
                    </a:moveTo>
                    <a:lnTo>
                      <a:pt x="263" y="88"/>
                    </a:lnTo>
                    <a:lnTo>
                      <a:pt x="260" y="92"/>
                    </a:lnTo>
                    <a:lnTo>
                      <a:pt x="254" y="92"/>
                    </a:lnTo>
                    <a:lnTo>
                      <a:pt x="251" y="96"/>
                    </a:lnTo>
                    <a:lnTo>
                      <a:pt x="248" y="96"/>
                    </a:lnTo>
                    <a:lnTo>
                      <a:pt x="241" y="96"/>
                    </a:lnTo>
                    <a:lnTo>
                      <a:pt x="238" y="96"/>
                    </a:lnTo>
                    <a:lnTo>
                      <a:pt x="232" y="96"/>
                    </a:lnTo>
                    <a:lnTo>
                      <a:pt x="235" y="103"/>
                    </a:lnTo>
                    <a:lnTo>
                      <a:pt x="235" y="107"/>
                    </a:lnTo>
                    <a:lnTo>
                      <a:pt x="238" y="110"/>
                    </a:lnTo>
                    <a:lnTo>
                      <a:pt x="238" y="114"/>
                    </a:lnTo>
                    <a:lnTo>
                      <a:pt x="241" y="118"/>
                    </a:lnTo>
                    <a:lnTo>
                      <a:pt x="245" y="118"/>
                    </a:lnTo>
                    <a:lnTo>
                      <a:pt x="245" y="121"/>
                    </a:lnTo>
                    <a:lnTo>
                      <a:pt x="248" y="125"/>
                    </a:lnTo>
                    <a:lnTo>
                      <a:pt x="248" y="125"/>
                    </a:lnTo>
                    <a:lnTo>
                      <a:pt x="251" y="129"/>
                    </a:lnTo>
                    <a:lnTo>
                      <a:pt x="254" y="129"/>
                    </a:lnTo>
                    <a:lnTo>
                      <a:pt x="257" y="129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6" y="140"/>
                    </a:lnTo>
                    <a:lnTo>
                      <a:pt x="269" y="143"/>
                    </a:lnTo>
                    <a:lnTo>
                      <a:pt x="269" y="140"/>
                    </a:lnTo>
                    <a:lnTo>
                      <a:pt x="266" y="136"/>
                    </a:lnTo>
                    <a:lnTo>
                      <a:pt x="263" y="132"/>
                    </a:lnTo>
                    <a:lnTo>
                      <a:pt x="260" y="125"/>
                    </a:lnTo>
                    <a:lnTo>
                      <a:pt x="254" y="121"/>
                    </a:lnTo>
                    <a:lnTo>
                      <a:pt x="251" y="118"/>
                    </a:lnTo>
                    <a:lnTo>
                      <a:pt x="248" y="114"/>
                    </a:lnTo>
                    <a:lnTo>
                      <a:pt x="248" y="110"/>
                    </a:lnTo>
                    <a:lnTo>
                      <a:pt x="248" y="107"/>
                    </a:lnTo>
                    <a:lnTo>
                      <a:pt x="251" y="107"/>
                    </a:lnTo>
                    <a:lnTo>
                      <a:pt x="254" y="103"/>
                    </a:lnTo>
                    <a:lnTo>
                      <a:pt x="257" y="99"/>
                    </a:lnTo>
                    <a:lnTo>
                      <a:pt x="260" y="96"/>
                    </a:lnTo>
                    <a:lnTo>
                      <a:pt x="263" y="96"/>
                    </a:lnTo>
                    <a:lnTo>
                      <a:pt x="266" y="92"/>
                    </a:lnTo>
                    <a:lnTo>
                      <a:pt x="266" y="88"/>
                    </a:lnTo>
                    <a:close/>
                    <a:moveTo>
                      <a:pt x="232" y="96"/>
                    </a:moveTo>
                    <a:lnTo>
                      <a:pt x="226" y="121"/>
                    </a:lnTo>
                    <a:lnTo>
                      <a:pt x="223" y="140"/>
                    </a:lnTo>
                    <a:lnTo>
                      <a:pt x="220" y="162"/>
                    </a:lnTo>
                    <a:lnTo>
                      <a:pt x="217" y="184"/>
                    </a:lnTo>
                    <a:lnTo>
                      <a:pt x="217" y="206"/>
                    </a:lnTo>
                    <a:lnTo>
                      <a:pt x="217" y="228"/>
                    </a:lnTo>
                    <a:lnTo>
                      <a:pt x="214" y="246"/>
                    </a:lnTo>
                    <a:lnTo>
                      <a:pt x="214" y="268"/>
                    </a:lnTo>
                    <a:lnTo>
                      <a:pt x="217" y="268"/>
                    </a:lnTo>
                    <a:lnTo>
                      <a:pt x="223" y="264"/>
                    </a:lnTo>
                    <a:lnTo>
                      <a:pt x="226" y="264"/>
                    </a:lnTo>
                    <a:lnTo>
                      <a:pt x="229" y="264"/>
                    </a:lnTo>
                    <a:lnTo>
                      <a:pt x="235" y="264"/>
                    </a:lnTo>
                    <a:lnTo>
                      <a:pt x="238" y="261"/>
                    </a:lnTo>
                    <a:lnTo>
                      <a:pt x="241" y="261"/>
                    </a:lnTo>
                    <a:lnTo>
                      <a:pt x="248" y="261"/>
                    </a:lnTo>
                    <a:lnTo>
                      <a:pt x="251" y="235"/>
                    </a:lnTo>
                    <a:lnTo>
                      <a:pt x="254" y="217"/>
                    </a:lnTo>
                    <a:lnTo>
                      <a:pt x="260" y="198"/>
                    </a:lnTo>
                    <a:lnTo>
                      <a:pt x="263" y="187"/>
                    </a:lnTo>
                    <a:lnTo>
                      <a:pt x="266" y="176"/>
                    </a:lnTo>
                    <a:lnTo>
                      <a:pt x="269" y="165"/>
                    </a:lnTo>
                    <a:lnTo>
                      <a:pt x="269" y="154"/>
                    </a:lnTo>
                    <a:lnTo>
                      <a:pt x="269" y="143"/>
                    </a:lnTo>
                    <a:lnTo>
                      <a:pt x="263" y="136"/>
                    </a:lnTo>
                    <a:lnTo>
                      <a:pt x="257" y="132"/>
                    </a:lnTo>
                    <a:lnTo>
                      <a:pt x="254" y="129"/>
                    </a:lnTo>
                    <a:lnTo>
                      <a:pt x="248" y="129"/>
                    </a:lnTo>
                    <a:lnTo>
                      <a:pt x="245" y="125"/>
                    </a:lnTo>
                    <a:lnTo>
                      <a:pt x="241" y="118"/>
                    </a:lnTo>
                    <a:lnTo>
                      <a:pt x="238" y="110"/>
                    </a:lnTo>
                    <a:lnTo>
                      <a:pt x="232" y="96"/>
                    </a:lnTo>
                    <a:close/>
                    <a:moveTo>
                      <a:pt x="300" y="121"/>
                    </a:moveTo>
                    <a:lnTo>
                      <a:pt x="300" y="125"/>
                    </a:lnTo>
                    <a:lnTo>
                      <a:pt x="303" y="129"/>
                    </a:lnTo>
                    <a:lnTo>
                      <a:pt x="303" y="132"/>
                    </a:lnTo>
                    <a:lnTo>
                      <a:pt x="307" y="136"/>
                    </a:lnTo>
                    <a:lnTo>
                      <a:pt x="307" y="140"/>
                    </a:lnTo>
                    <a:lnTo>
                      <a:pt x="310" y="143"/>
                    </a:lnTo>
                    <a:lnTo>
                      <a:pt x="310" y="143"/>
                    </a:lnTo>
                    <a:lnTo>
                      <a:pt x="313" y="147"/>
                    </a:lnTo>
                    <a:lnTo>
                      <a:pt x="316" y="147"/>
                    </a:lnTo>
                    <a:lnTo>
                      <a:pt x="319" y="147"/>
                    </a:lnTo>
                    <a:lnTo>
                      <a:pt x="325" y="140"/>
                    </a:lnTo>
                    <a:lnTo>
                      <a:pt x="328" y="132"/>
                    </a:lnTo>
                    <a:lnTo>
                      <a:pt x="334" y="125"/>
                    </a:lnTo>
                    <a:lnTo>
                      <a:pt x="341" y="118"/>
                    </a:lnTo>
                    <a:lnTo>
                      <a:pt x="344" y="110"/>
                    </a:lnTo>
                    <a:lnTo>
                      <a:pt x="350" y="103"/>
                    </a:lnTo>
                    <a:lnTo>
                      <a:pt x="350" y="121"/>
                    </a:lnTo>
                    <a:lnTo>
                      <a:pt x="347" y="140"/>
                    </a:lnTo>
                    <a:lnTo>
                      <a:pt x="344" y="151"/>
                    </a:lnTo>
                    <a:lnTo>
                      <a:pt x="344" y="165"/>
                    </a:lnTo>
                    <a:lnTo>
                      <a:pt x="341" y="176"/>
                    </a:lnTo>
                    <a:lnTo>
                      <a:pt x="341" y="184"/>
                    </a:lnTo>
                    <a:lnTo>
                      <a:pt x="337" y="195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7" y="206"/>
                    </a:lnTo>
                    <a:lnTo>
                      <a:pt x="341" y="198"/>
                    </a:lnTo>
                    <a:lnTo>
                      <a:pt x="344" y="187"/>
                    </a:lnTo>
                    <a:lnTo>
                      <a:pt x="344" y="180"/>
                    </a:lnTo>
                    <a:lnTo>
                      <a:pt x="347" y="173"/>
                    </a:lnTo>
                    <a:lnTo>
                      <a:pt x="347" y="169"/>
                    </a:lnTo>
                    <a:lnTo>
                      <a:pt x="347" y="176"/>
                    </a:lnTo>
                    <a:lnTo>
                      <a:pt x="347" y="187"/>
                    </a:lnTo>
                    <a:lnTo>
                      <a:pt x="347" y="206"/>
                    </a:lnTo>
                    <a:lnTo>
                      <a:pt x="347" y="224"/>
                    </a:lnTo>
                    <a:lnTo>
                      <a:pt x="347" y="246"/>
                    </a:lnTo>
                    <a:lnTo>
                      <a:pt x="347" y="268"/>
                    </a:lnTo>
                    <a:lnTo>
                      <a:pt x="347" y="286"/>
                    </a:lnTo>
                    <a:lnTo>
                      <a:pt x="347" y="305"/>
                    </a:lnTo>
                    <a:lnTo>
                      <a:pt x="347" y="319"/>
                    </a:lnTo>
                    <a:lnTo>
                      <a:pt x="347" y="319"/>
                    </a:lnTo>
                    <a:lnTo>
                      <a:pt x="344" y="319"/>
                    </a:lnTo>
                    <a:lnTo>
                      <a:pt x="341" y="319"/>
                    </a:lnTo>
                    <a:lnTo>
                      <a:pt x="337" y="323"/>
                    </a:lnTo>
                    <a:lnTo>
                      <a:pt x="337" y="323"/>
                    </a:lnTo>
                    <a:lnTo>
                      <a:pt x="334" y="323"/>
                    </a:lnTo>
                    <a:lnTo>
                      <a:pt x="331" y="323"/>
                    </a:lnTo>
                    <a:lnTo>
                      <a:pt x="328" y="323"/>
                    </a:lnTo>
                    <a:lnTo>
                      <a:pt x="328" y="312"/>
                    </a:lnTo>
                    <a:lnTo>
                      <a:pt x="328" y="301"/>
                    </a:lnTo>
                    <a:lnTo>
                      <a:pt x="328" y="290"/>
                    </a:lnTo>
                    <a:lnTo>
                      <a:pt x="325" y="279"/>
                    </a:lnTo>
                    <a:lnTo>
                      <a:pt x="325" y="268"/>
                    </a:lnTo>
                    <a:lnTo>
                      <a:pt x="325" y="257"/>
                    </a:lnTo>
                    <a:lnTo>
                      <a:pt x="322" y="246"/>
                    </a:lnTo>
                    <a:lnTo>
                      <a:pt x="322" y="231"/>
                    </a:lnTo>
                    <a:lnTo>
                      <a:pt x="319" y="235"/>
                    </a:lnTo>
                    <a:lnTo>
                      <a:pt x="316" y="239"/>
                    </a:lnTo>
                    <a:lnTo>
                      <a:pt x="313" y="239"/>
                    </a:lnTo>
                    <a:lnTo>
                      <a:pt x="310" y="239"/>
                    </a:lnTo>
                    <a:lnTo>
                      <a:pt x="307" y="242"/>
                    </a:lnTo>
                    <a:lnTo>
                      <a:pt x="303" y="242"/>
                    </a:lnTo>
                    <a:lnTo>
                      <a:pt x="300" y="242"/>
                    </a:lnTo>
                    <a:lnTo>
                      <a:pt x="297" y="246"/>
                    </a:lnTo>
                    <a:lnTo>
                      <a:pt x="297" y="231"/>
                    </a:lnTo>
                    <a:lnTo>
                      <a:pt x="297" y="217"/>
                    </a:lnTo>
                    <a:lnTo>
                      <a:pt x="297" y="202"/>
                    </a:lnTo>
                    <a:lnTo>
                      <a:pt x="297" y="187"/>
                    </a:lnTo>
                    <a:lnTo>
                      <a:pt x="297" y="173"/>
                    </a:lnTo>
                    <a:lnTo>
                      <a:pt x="297" y="162"/>
                    </a:lnTo>
                    <a:lnTo>
                      <a:pt x="294" y="151"/>
                    </a:lnTo>
                    <a:lnTo>
                      <a:pt x="291" y="143"/>
                    </a:lnTo>
                    <a:lnTo>
                      <a:pt x="291" y="140"/>
                    </a:lnTo>
                    <a:lnTo>
                      <a:pt x="294" y="140"/>
                    </a:lnTo>
                    <a:lnTo>
                      <a:pt x="294" y="136"/>
                    </a:lnTo>
                    <a:lnTo>
                      <a:pt x="294" y="132"/>
                    </a:lnTo>
                    <a:lnTo>
                      <a:pt x="294" y="129"/>
                    </a:lnTo>
                    <a:lnTo>
                      <a:pt x="297" y="125"/>
                    </a:lnTo>
                    <a:lnTo>
                      <a:pt x="297" y="125"/>
                    </a:lnTo>
                    <a:lnTo>
                      <a:pt x="300" y="121"/>
                    </a:lnTo>
                    <a:close/>
                    <a:moveTo>
                      <a:pt x="399" y="404"/>
                    </a:moveTo>
                    <a:lnTo>
                      <a:pt x="403" y="396"/>
                    </a:lnTo>
                    <a:lnTo>
                      <a:pt x="403" y="389"/>
                    </a:lnTo>
                    <a:lnTo>
                      <a:pt x="403" y="385"/>
                    </a:lnTo>
                    <a:lnTo>
                      <a:pt x="399" y="382"/>
                    </a:lnTo>
                    <a:lnTo>
                      <a:pt x="399" y="378"/>
                    </a:lnTo>
                    <a:lnTo>
                      <a:pt x="396" y="378"/>
                    </a:lnTo>
                    <a:lnTo>
                      <a:pt x="396" y="374"/>
                    </a:lnTo>
                    <a:lnTo>
                      <a:pt x="396" y="371"/>
                    </a:lnTo>
                    <a:lnTo>
                      <a:pt x="396" y="367"/>
                    </a:lnTo>
                    <a:lnTo>
                      <a:pt x="399" y="367"/>
                    </a:lnTo>
                    <a:lnTo>
                      <a:pt x="399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399" y="356"/>
                    </a:lnTo>
                    <a:lnTo>
                      <a:pt x="399" y="352"/>
                    </a:lnTo>
                    <a:lnTo>
                      <a:pt x="399" y="349"/>
                    </a:lnTo>
                    <a:lnTo>
                      <a:pt x="396" y="345"/>
                    </a:lnTo>
                    <a:lnTo>
                      <a:pt x="393" y="341"/>
                    </a:lnTo>
                    <a:lnTo>
                      <a:pt x="390" y="338"/>
                    </a:lnTo>
                    <a:lnTo>
                      <a:pt x="387" y="334"/>
                    </a:lnTo>
                    <a:lnTo>
                      <a:pt x="384" y="330"/>
                    </a:lnTo>
                    <a:lnTo>
                      <a:pt x="378" y="327"/>
                    </a:lnTo>
                    <a:lnTo>
                      <a:pt x="375" y="323"/>
                    </a:lnTo>
                    <a:lnTo>
                      <a:pt x="372" y="319"/>
                    </a:lnTo>
                    <a:lnTo>
                      <a:pt x="372" y="316"/>
                    </a:lnTo>
                    <a:lnTo>
                      <a:pt x="372" y="316"/>
                    </a:lnTo>
                    <a:lnTo>
                      <a:pt x="375" y="312"/>
                    </a:lnTo>
                    <a:lnTo>
                      <a:pt x="378" y="312"/>
                    </a:lnTo>
                    <a:lnTo>
                      <a:pt x="384" y="312"/>
                    </a:lnTo>
                    <a:lnTo>
                      <a:pt x="387" y="312"/>
                    </a:lnTo>
                    <a:lnTo>
                      <a:pt x="393" y="312"/>
                    </a:lnTo>
                    <a:lnTo>
                      <a:pt x="399" y="312"/>
                    </a:lnTo>
                    <a:lnTo>
                      <a:pt x="406" y="327"/>
                    </a:lnTo>
                    <a:lnTo>
                      <a:pt x="412" y="338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4" y="356"/>
                    </a:lnTo>
                    <a:lnTo>
                      <a:pt x="424" y="363"/>
                    </a:lnTo>
                    <a:lnTo>
                      <a:pt x="424" y="374"/>
                    </a:lnTo>
                    <a:lnTo>
                      <a:pt x="424" y="389"/>
                    </a:lnTo>
                    <a:lnTo>
                      <a:pt x="421" y="393"/>
                    </a:lnTo>
                    <a:lnTo>
                      <a:pt x="418" y="396"/>
                    </a:lnTo>
                    <a:lnTo>
                      <a:pt x="418" y="400"/>
                    </a:lnTo>
                    <a:lnTo>
                      <a:pt x="415" y="400"/>
                    </a:lnTo>
                    <a:lnTo>
                      <a:pt x="412" y="400"/>
                    </a:lnTo>
                    <a:lnTo>
                      <a:pt x="409" y="400"/>
                    </a:lnTo>
                    <a:lnTo>
                      <a:pt x="406" y="404"/>
                    </a:lnTo>
                    <a:lnTo>
                      <a:pt x="399" y="40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714800" y="4497840"/>
                <a:ext cx="27360" cy="7992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0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1"/>
                    </a:lnTo>
                    <a:lnTo>
                      <a:pt x="10" y="59"/>
                    </a:lnTo>
                    <a:lnTo>
                      <a:pt x="10" y="66"/>
                    </a:lnTo>
                    <a:lnTo>
                      <a:pt x="7" y="66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6" y="62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22" y="55"/>
                    </a:lnTo>
                    <a:lnTo>
                      <a:pt x="22" y="51"/>
                    </a:lnTo>
                    <a:lnTo>
                      <a:pt x="25" y="48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5" y="33"/>
                    </a:lnTo>
                    <a:lnTo>
                      <a:pt x="25" y="29"/>
                    </a:lnTo>
                    <a:lnTo>
                      <a:pt x="22" y="26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720920" y="4582800"/>
                <a:ext cx="75240" cy="1332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68" y="0"/>
                    </a:moveTo>
                    <a:lnTo>
                      <a:pt x="65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9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7"/>
                    </a:lnTo>
                    <a:lnTo>
                      <a:pt x="12" y="7"/>
                    </a:lnTo>
                    <a:lnTo>
                      <a:pt x="15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31" y="11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7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404480" y="4185360"/>
                <a:ext cx="75240" cy="178920"/>
              </a:xfrm>
              <a:custGeom>
                <a:avLst/>
                <a:gdLst/>
                <a:ahLst/>
                <a:rect l="l" t="t" r="r" b="b"/>
                <a:pathLst>
                  <a:path w="68" h="147">
                    <a:moveTo>
                      <a:pt x="0" y="96"/>
                    </a:moveTo>
                    <a:lnTo>
                      <a:pt x="12" y="85"/>
                    </a:lnTo>
                    <a:lnTo>
                      <a:pt x="25" y="77"/>
                    </a:lnTo>
                    <a:lnTo>
                      <a:pt x="34" y="63"/>
                    </a:lnTo>
                    <a:lnTo>
                      <a:pt x="43" y="52"/>
                    </a:lnTo>
                    <a:lnTo>
                      <a:pt x="52" y="37"/>
                    </a:lnTo>
                    <a:lnTo>
                      <a:pt x="59" y="26"/>
                    </a:lnTo>
                    <a:lnTo>
                      <a:pt x="65" y="11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6"/>
                    </a:lnTo>
                    <a:lnTo>
                      <a:pt x="65" y="30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62" y="55"/>
                    </a:lnTo>
                    <a:lnTo>
                      <a:pt x="62" y="63"/>
                    </a:lnTo>
                    <a:lnTo>
                      <a:pt x="62" y="66"/>
                    </a:lnTo>
                    <a:lnTo>
                      <a:pt x="65" y="74"/>
                    </a:lnTo>
                    <a:lnTo>
                      <a:pt x="65" y="77"/>
                    </a:lnTo>
                    <a:lnTo>
                      <a:pt x="65" y="85"/>
                    </a:lnTo>
                    <a:lnTo>
                      <a:pt x="65" y="88"/>
                    </a:lnTo>
                    <a:lnTo>
                      <a:pt x="62" y="96"/>
                    </a:lnTo>
                    <a:lnTo>
                      <a:pt x="56" y="103"/>
                    </a:lnTo>
                    <a:lnTo>
                      <a:pt x="52" y="110"/>
                    </a:lnTo>
                    <a:lnTo>
                      <a:pt x="49" y="114"/>
                    </a:lnTo>
                    <a:lnTo>
                      <a:pt x="46" y="121"/>
                    </a:lnTo>
                    <a:lnTo>
                      <a:pt x="43" y="129"/>
                    </a:lnTo>
                    <a:lnTo>
                      <a:pt x="37" y="136"/>
                    </a:lnTo>
                    <a:lnTo>
                      <a:pt x="34" y="143"/>
                    </a:lnTo>
                    <a:lnTo>
                      <a:pt x="31" y="147"/>
                    </a:lnTo>
                    <a:lnTo>
                      <a:pt x="28" y="143"/>
                    </a:lnTo>
                    <a:lnTo>
                      <a:pt x="25" y="140"/>
                    </a:lnTo>
                    <a:lnTo>
                      <a:pt x="22" y="132"/>
                    </a:lnTo>
                    <a:lnTo>
                      <a:pt x="18" y="125"/>
                    </a:lnTo>
                    <a:lnTo>
                      <a:pt x="12" y="114"/>
                    </a:lnTo>
                    <a:lnTo>
                      <a:pt x="6" y="103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498080" y="4292280"/>
                <a:ext cx="40680" cy="6696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4" y="0"/>
                    </a:moveTo>
                    <a:lnTo>
                      <a:pt x="31" y="0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5" y="41"/>
                    </a:lnTo>
                    <a:lnTo>
                      <a:pt x="28" y="44"/>
                    </a:lnTo>
                    <a:lnTo>
                      <a:pt x="31" y="48"/>
                    </a:lnTo>
                    <a:lnTo>
                      <a:pt x="34" y="52"/>
                    </a:lnTo>
                    <a:lnTo>
                      <a:pt x="37" y="55"/>
                    </a:lnTo>
                    <a:lnTo>
                      <a:pt x="37" y="52"/>
                    </a:lnTo>
                    <a:lnTo>
                      <a:pt x="34" y="48"/>
                    </a:lnTo>
                    <a:lnTo>
                      <a:pt x="31" y="44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9" y="30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4" y="4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97720" y="4302360"/>
                <a:ext cx="60840" cy="208800"/>
              </a:xfrm>
              <a:custGeom>
                <a:avLst/>
                <a:gdLst/>
                <a:ahLst/>
                <a:rect l="l" t="t" r="r" b="b"/>
                <a:pathLst>
                  <a:path w="55" h="172">
                    <a:moveTo>
                      <a:pt x="18" y="0"/>
                    </a:moveTo>
                    <a:lnTo>
                      <a:pt x="12" y="25"/>
                    </a:lnTo>
                    <a:lnTo>
                      <a:pt x="9" y="44"/>
                    </a:lnTo>
                    <a:lnTo>
                      <a:pt x="6" y="66"/>
                    </a:lnTo>
                    <a:lnTo>
                      <a:pt x="3" y="88"/>
                    </a:lnTo>
                    <a:lnTo>
                      <a:pt x="3" y="110"/>
                    </a:lnTo>
                    <a:lnTo>
                      <a:pt x="3" y="132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3" y="172"/>
                    </a:lnTo>
                    <a:lnTo>
                      <a:pt x="9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21" y="168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4" y="165"/>
                    </a:lnTo>
                    <a:lnTo>
                      <a:pt x="37" y="139"/>
                    </a:lnTo>
                    <a:lnTo>
                      <a:pt x="40" y="121"/>
                    </a:lnTo>
                    <a:lnTo>
                      <a:pt x="46" y="102"/>
                    </a:lnTo>
                    <a:lnTo>
                      <a:pt x="49" y="91"/>
                    </a:lnTo>
                    <a:lnTo>
                      <a:pt x="52" y="80"/>
                    </a:lnTo>
                    <a:lnTo>
                      <a:pt x="55" y="69"/>
                    </a:lnTo>
                    <a:lnTo>
                      <a:pt x="55" y="58"/>
                    </a:lnTo>
                    <a:lnTo>
                      <a:pt x="55" y="47"/>
                    </a:lnTo>
                    <a:lnTo>
                      <a:pt x="49" y="40"/>
                    </a:lnTo>
                    <a:lnTo>
                      <a:pt x="43" y="36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31" y="29"/>
                    </a:lnTo>
                    <a:lnTo>
                      <a:pt x="27" y="22"/>
                    </a:lnTo>
                    <a:lnTo>
                      <a:pt x="24" y="14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08080" y="4310640"/>
                <a:ext cx="65160" cy="267120"/>
              </a:xfrm>
              <a:custGeom>
                <a:avLst/>
                <a:gdLst/>
                <a:ahLst/>
                <a:rect l="l" t="t" r="r" b="b"/>
                <a:pathLst>
                  <a:path w="59" h="220">
                    <a:moveTo>
                      <a:pt x="9" y="18"/>
                    </a:moveTo>
                    <a:lnTo>
                      <a:pt x="9" y="22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9" y="40"/>
                    </a:lnTo>
                    <a:lnTo>
                      <a:pt x="22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3" y="22"/>
                    </a:lnTo>
                    <a:lnTo>
                      <a:pt x="50" y="15"/>
                    </a:lnTo>
                    <a:lnTo>
                      <a:pt x="53" y="7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6" y="37"/>
                    </a:lnTo>
                    <a:lnTo>
                      <a:pt x="53" y="48"/>
                    </a:lnTo>
                    <a:lnTo>
                      <a:pt x="53" y="62"/>
                    </a:lnTo>
                    <a:lnTo>
                      <a:pt x="50" y="73"/>
                    </a:lnTo>
                    <a:lnTo>
                      <a:pt x="50" y="81"/>
                    </a:lnTo>
                    <a:lnTo>
                      <a:pt x="46" y="92"/>
                    </a:lnTo>
                    <a:lnTo>
                      <a:pt x="46" y="106"/>
                    </a:lnTo>
                    <a:lnTo>
                      <a:pt x="46" y="103"/>
                    </a:lnTo>
                    <a:lnTo>
                      <a:pt x="50" y="95"/>
                    </a:lnTo>
                    <a:lnTo>
                      <a:pt x="53" y="84"/>
                    </a:lnTo>
                    <a:lnTo>
                      <a:pt x="53" y="77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73"/>
                    </a:lnTo>
                    <a:lnTo>
                      <a:pt x="56" y="84"/>
                    </a:lnTo>
                    <a:lnTo>
                      <a:pt x="56" y="103"/>
                    </a:lnTo>
                    <a:lnTo>
                      <a:pt x="56" y="121"/>
                    </a:lnTo>
                    <a:lnTo>
                      <a:pt x="56" y="143"/>
                    </a:lnTo>
                    <a:lnTo>
                      <a:pt x="56" y="165"/>
                    </a:lnTo>
                    <a:lnTo>
                      <a:pt x="56" y="183"/>
                    </a:lnTo>
                    <a:lnTo>
                      <a:pt x="56" y="202"/>
                    </a:lnTo>
                    <a:lnTo>
                      <a:pt x="56" y="216"/>
                    </a:lnTo>
                    <a:lnTo>
                      <a:pt x="53" y="216"/>
                    </a:lnTo>
                    <a:lnTo>
                      <a:pt x="50" y="216"/>
                    </a:lnTo>
                    <a:lnTo>
                      <a:pt x="46" y="220"/>
                    </a:lnTo>
                    <a:lnTo>
                      <a:pt x="43" y="220"/>
                    </a:lnTo>
                    <a:lnTo>
                      <a:pt x="40" y="220"/>
                    </a:lnTo>
                    <a:lnTo>
                      <a:pt x="37" y="220"/>
                    </a:lnTo>
                    <a:lnTo>
                      <a:pt x="37" y="209"/>
                    </a:lnTo>
                    <a:lnTo>
                      <a:pt x="37" y="198"/>
                    </a:lnTo>
                    <a:lnTo>
                      <a:pt x="37" y="187"/>
                    </a:lnTo>
                    <a:lnTo>
                      <a:pt x="34" y="176"/>
                    </a:lnTo>
                    <a:lnTo>
                      <a:pt x="34" y="165"/>
                    </a:lnTo>
                    <a:lnTo>
                      <a:pt x="34" y="154"/>
                    </a:lnTo>
                    <a:lnTo>
                      <a:pt x="31" y="143"/>
                    </a:lnTo>
                    <a:lnTo>
                      <a:pt x="31" y="128"/>
                    </a:lnTo>
                    <a:lnTo>
                      <a:pt x="28" y="132"/>
                    </a:lnTo>
                    <a:lnTo>
                      <a:pt x="25" y="136"/>
                    </a:lnTo>
                    <a:lnTo>
                      <a:pt x="22" y="136"/>
                    </a:lnTo>
                    <a:lnTo>
                      <a:pt x="19" y="136"/>
                    </a:lnTo>
                    <a:lnTo>
                      <a:pt x="16" y="139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43"/>
                    </a:lnTo>
                    <a:lnTo>
                      <a:pt x="6" y="128"/>
                    </a:lnTo>
                    <a:lnTo>
                      <a:pt x="6" y="114"/>
                    </a:lnTo>
                    <a:lnTo>
                      <a:pt x="6" y="99"/>
                    </a:lnTo>
                    <a:lnTo>
                      <a:pt x="6" y="84"/>
                    </a:lnTo>
                    <a:lnTo>
                      <a:pt x="6" y="70"/>
                    </a:lnTo>
                    <a:lnTo>
                      <a:pt x="6" y="59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326360" y="4564800"/>
                <a:ext cx="57600" cy="11160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27" y="92"/>
                    </a:moveTo>
                    <a:lnTo>
                      <a:pt x="31" y="84"/>
                    </a:lnTo>
                    <a:lnTo>
                      <a:pt x="31" y="77"/>
                    </a:lnTo>
                    <a:lnTo>
                      <a:pt x="31" y="73"/>
                    </a:lnTo>
                    <a:lnTo>
                      <a:pt x="27" y="70"/>
                    </a:lnTo>
                    <a:lnTo>
                      <a:pt x="27" y="66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9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27" y="37"/>
                    </a:lnTo>
                    <a:lnTo>
                      <a:pt x="24" y="33"/>
                    </a:lnTo>
                    <a:lnTo>
                      <a:pt x="21" y="29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15"/>
                    </a:lnTo>
                    <a:lnTo>
                      <a:pt x="40" y="26"/>
                    </a:lnTo>
                    <a:lnTo>
                      <a:pt x="46" y="33"/>
                    </a:lnTo>
                    <a:lnTo>
                      <a:pt x="49" y="37"/>
                    </a:lnTo>
                    <a:lnTo>
                      <a:pt x="52" y="44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52" y="77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0" y="88"/>
                    </a:lnTo>
                    <a:lnTo>
                      <a:pt x="37" y="88"/>
                    </a:lnTo>
                    <a:lnTo>
                      <a:pt x="34" y="92"/>
                    </a:lnTo>
                    <a:lnTo>
                      <a:pt x="27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480360" y="4315320"/>
                <a:ext cx="447120" cy="752400"/>
              </a:xfrm>
              <a:custGeom>
                <a:avLst/>
                <a:gdLst/>
                <a:ahLst/>
                <a:rect l="l" t="t" r="r" b="b"/>
                <a:pathLst>
                  <a:path w="403" h="619">
                    <a:moveTo>
                      <a:pt x="211" y="0"/>
                    </a:moveTo>
                    <a:lnTo>
                      <a:pt x="223" y="0"/>
                    </a:lnTo>
                    <a:lnTo>
                      <a:pt x="230" y="0"/>
                    </a:lnTo>
                    <a:lnTo>
                      <a:pt x="233" y="3"/>
                    </a:lnTo>
                    <a:lnTo>
                      <a:pt x="236" y="7"/>
                    </a:lnTo>
                    <a:lnTo>
                      <a:pt x="239" y="14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5" y="33"/>
                    </a:lnTo>
                    <a:lnTo>
                      <a:pt x="226" y="47"/>
                    </a:lnTo>
                    <a:lnTo>
                      <a:pt x="208" y="66"/>
                    </a:lnTo>
                    <a:lnTo>
                      <a:pt x="189" y="84"/>
                    </a:lnTo>
                    <a:lnTo>
                      <a:pt x="171" y="106"/>
                    </a:lnTo>
                    <a:lnTo>
                      <a:pt x="152" y="128"/>
                    </a:lnTo>
                    <a:lnTo>
                      <a:pt x="137" y="150"/>
                    </a:lnTo>
                    <a:lnTo>
                      <a:pt x="121" y="172"/>
                    </a:lnTo>
                    <a:lnTo>
                      <a:pt x="106" y="187"/>
                    </a:lnTo>
                    <a:lnTo>
                      <a:pt x="87" y="190"/>
                    </a:lnTo>
                    <a:lnTo>
                      <a:pt x="84" y="194"/>
                    </a:lnTo>
                    <a:lnTo>
                      <a:pt x="84" y="198"/>
                    </a:lnTo>
                    <a:lnTo>
                      <a:pt x="84" y="201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9"/>
                    </a:lnTo>
                    <a:lnTo>
                      <a:pt x="84" y="216"/>
                    </a:lnTo>
                    <a:lnTo>
                      <a:pt x="84" y="223"/>
                    </a:lnTo>
                    <a:lnTo>
                      <a:pt x="78" y="238"/>
                    </a:lnTo>
                    <a:lnTo>
                      <a:pt x="72" y="256"/>
                    </a:lnTo>
                    <a:lnTo>
                      <a:pt x="62" y="275"/>
                    </a:lnTo>
                    <a:lnTo>
                      <a:pt x="56" y="297"/>
                    </a:lnTo>
                    <a:lnTo>
                      <a:pt x="47" y="319"/>
                    </a:lnTo>
                    <a:lnTo>
                      <a:pt x="41" y="341"/>
                    </a:lnTo>
                    <a:lnTo>
                      <a:pt x="38" y="359"/>
                    </a:lnTo>
                    <a:lnTo>
                      <a:pt x="34" y="370"/>
                    </a:lnTo>
                    <a:lnTo>
                      <a:pt x="34" y="337"/>
                    </a:lnTo>
                    <a:lnTo>
                      <a:pt x="38" y="311"/>
                    </a:lnTo>
                    <a:lnTo>
                      <a:pt x="38" y="289"/>
                    </a:lnTo>
                    <a:lnTo>
                      <a:pt x="41" y="271"/>
                    </a:lnTo>
                    <a:lnTo>
                      <a:pt x="44" y="253"/>
                    </a:lnTo>
                    <a:lnTo>
                      <a:pt x="47" y="238"/>
                    </a:lnTo>
                    <a:lnTo>
                      <a:pt x="53" y="223"/>
                    </a:lnTo>
                    <a:lnTo>
                      <a:pt x="59" y="205"/>
                    </a:lnTo>
                    <a:lnTo>
                      <a:pt x="65" y="183"/>
                    </a:lnTo>
                    <a:lnTo>
                      <a:pt x="75" y="168"/>
                    </a:lnTo>
                    <a:lnTo>
                      <a:pt x="84" y="154"/>
                    </a:lnTo>
                    <a:lnTo>
                      <a:pt x="90" y="143"/>
                    </a:lnTo>
                    <a:lnTo>
                      <a:pt x="100" y="132"/>
                    </a:lnTo>
                    <a:lnTo>
                      <a:pt x="106" y="124"/>
                    </a:lnTo>
                    <a:lnTo>
                      <a:pt x="112" y="117"/>
                    </a:lnTo>
                    <a:lnTo>
                      <a:pt x="115" y="110"/>
                    </a:lnTo>
                    <a:lnTo>
                      <a:pt x="124" y="95"/>
                    </a:lnTo>
                    <a:lnTo>
                      <a:pt x="137" y="77"/>
                    </a:lnTo>
                    <a:lnTo>
                      <a:pt x="149" y="62"/>
                    </a:lnTo>
                    <a:lnTo>
                      <a:pt x="161" y="47"/>
                    </a:lnTo>
                    <a:lnTo>
                      <a:pt x="177" y="29"/>
                    </a:lnTo>
                    <a:lnTo>
                      <a:pt x="189" y="18"/>
                    </a:lnTo>
                    <a:lnTo>
                      <a:pt x="202" y="7"/>
                    </a:lnTo>
                    <a:lnTo>
                      <a:pt x="211" y="0"/>
                    </a:lnTo>
                    <a:close/>
                    <a:moveTo>
                      <a:pt x="248" y="36"/>
                    </a:moveTo>
                    <a:lnTo>
                      <a:pt x="230" y="47"/>
                    </a:lnTo>
                    <a:lnTo>
                      <a:pt x="211" y="62"/>
                    </a:lnTo>
                    <a:lnTo>
                      <a:pt x="192" y="84"/>
                    </a:lnTo>
                    <a:lnTo>
                      <a:pt x="174" y="106"/>
                    </a:lnTo>
                    <a:lnTo>
                      <a:pt x="155" y="132"/>
                    </a:lnTo>
                    <a:lnTo>
                      <a:pt x="140" y="154"/>
                    </a:lnTo>
                    <a:lnTo>
                      <a:pt x="121" y="176"/>
                    </a:lnTo>
                    <a:lnTo>
                      <a:pt x="106" y="190"/>
                    </a:lnTo>
                    <a:lnTo>
                      <a:pt x="87" y="205"/>
                    </a:lnTo>
                    <a:lnTo>
                      <a:pt x="87" y="209"/>
                    </a:lnTo>
                    <a:lnTo>
                      <a:pt x="87" y="216"/>
                    </a:lnTo>
                    <a:lnTo>
                      <a:pt x="87" y="220"/>
                    </a:lnTo>
                    <a:lnTo>
                      <a:pt x="90" y="223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90" y="238"/>
                    </a:lnTo>
                    <a:lnTo>
                      <a:pt x="90" y="242"/>
                    </a:lnTo>
                    <a:lnTo>
                      <a:pt x="90" y="245"/>
                    </a:lnTo>
                    <a:lnTo>
                      <a:pt x="87" y="245"/>
                    </a:lnTo>
                    <a:lnTo>
                      <a:pt x="87" y="249"/>
                    </a:lnTo>
                    <a:lnTo>
                      <a:pt x="84" y="253"/>
                    </a:lnTo>
                    <a:lnTo>
                      <a:pt x="81" y="256"/>
                    </a:lnTo>
                    <a:lnTo>
                      <a:pt x="81" y="260"/>
                    </a:lnTo>
                    <a:lnTo>
                      <a:pt x="78" y="260"/>
                    </a:lnTo>
                    <a:lnTo>
                      <a:pt x="78" y="264"/>
                    </a:lnTo>
                    <a:lnTo>
                      <a:pt x="124" y="267"/>
                    </a:lnTo>
                    <a:lnTo>
                      <a:pt x="75" y="271"/>
                    </a:lnTo>
                    <a:lnTo>
                      <a:pt x="75" y="271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9" y="282"/>
                    </a:lnTo>
                    <a:lnTo>
                      <a:pt x="65" y="286"/>
                    </a:lnTo>
                    <a:lnTo>
                      <a:pt x="65" y="289"/>
                    </a:lnTo>
                    <a:lnTo>
                      <a:pt x="62" y="293"/>
                    </a:lnTo>
                    <a:lnTo>
                      <a:pt x="62" y="293"/>
                    </a:lnTo>
                    <a:lnTo>
                      <a:pt x="109" y="300"/>
                    </a:lnTo>
                    <a:lnTo>
                      <a:pt x="59" y="300"/>
                    </a:lnTo>
                    <a:lnTo>
                      <a:pt x="56" y="308"/>
                    </a:lnTo>
                    <a:lnTo>
                      <a:pt x="53" y="315"/>
                    </a:lnTo>
                    <a:lnTo>
                      <a:pt x="50" y="326"/>
                    </a:lnTo>
                    <a:lnTo>
                      <a:pt x="47" y="333"/>
                    </a:lnTo>
                    <a:lnTo>
                      <a:pt x="44" y="344"/>
                    </a:lnTo>
                    <a:lnTo>
                      <a:pt x="41" y="352"/>
                    </a:lnTo>
                    <a:lnTo>
                      <a:pt x="38" y="363"/>
                    </a:lnTo>
                    <a:lnTo>
                      <a:pt x="34" y="370"/>
                    </a:lnTo>
                    <a:lnTo>
                      <a:pt x="34" y="374"/>
                    </a:lnTo>
                    <a:lnTo>
                      <a:pt x="34" y="377"/>
                    </a:lnTo>
                    <a:lnTo>
                      <a:pt x="34" y="381"/>
                    </a:lnTo>
                    <a:lnTo>
                      <a:pt x="34" y="385"/>
                    </a:lnTo>
                    <a:lnTo>
                      <a:pt x="34" y="392"/>
                    </a:lnTo>
                    <a:lnTo>
                      <a:pt x="34" y="396"/>
                    </a:lnTo>
                    <a:lnTo>
                      <a:pt x="34" y="403"/>
                    </a:lnTo>
                    <a:lnTo>
                      <a:pt x="34" y="407"/>
                    </a:lnTo>
                    <a:lnTo>
                      <a:pt x="65" y="429"/>
                    </a:lnTo>
                    <a:lnTo>
                      <a:pt x="78" y="429"/>
                    </a:lnTo>
                    <a:lnTo>
                      <a:pt x="87" y="421"/>
                    </a:lnTo>
                    <a:lnTo>
                      <a:pt x="93" y="414"/>
                    </a:lnTo>
                    <a:lnTo>
                      <a:pt x="103" y="407"/>
                    </a:lnTo>
                    <a:lnTo>
                      <a:pt x="115" y="377"/>
                    </a:lnTo>
                    <a:lnTo>
                      <a:pt x="124" y="344"/>
                    </a:lnTo>
                    <a:lnTo>
                      <a:pt x="134" y="311"/>
                    </a:lnTo>
                    <a:lnTo>
                      <a:pt x="143" y="275"/>
                    </a:lnTo>
                    <a:lnTo>
                      <a:pt x="152" y="245"/>
                    </a:lnTo>
                    <a:lnTo>
                      <a:pt x="161" y="220"/>
                    </a:lnTo>
                    <a:lnTo>
                      <a:pt x="158" y="242"/>
                    </a:lnTo>
                    <a:lnTo>
                      <a:pt x="158" y="260"/>
                    </a:lnTo>
                    <a:lnTo>
                      <a:pt x="155" y="278"/>
                    </a:lnTo>
                    <a:lnTo>
                      <a:pt x="158" y="297"/>
                    </a:lnTo>
                    <a:lnTo>
                      <a:pt x="161" y="315"/>
                    </a:lnTo>
                    <a:lnTo>
                      <a:pt x="165" y="330"/>
                    </a:lnTo>
                    <a:lnTo>
                      <a:pt x="174" y="344"/>
                    </a:lnTo>
                    <a:lnTo>
                      <a:pt x="186" y="352"/>
                    </a:lnTo>
                    <a:lnTo>
                      <a:pt x="192" y="363"/>
                    </a:lnTo>
                    <a:lnTo>
                      <a:pt x="202" y="363"/>
                    </a:lnTo>
                    <a:lnTo>
                      <a:pt x="208" y="363"/>
                    </a:lnTo>
                    <a:lnTo>
                      <a:pt x="214" y="366"/>
                    </a:lnTo>
                    <a:lnTo>
                      <a:pt x="223" y="366"/>
                    </a:lnTo>
                    <a:lnTo>
                      <a:pt x="230" y="370"/>
                    </a:lnTo>
                    <a:lnTo>
                      <a:pt x="239" y="370"/>
                    </a:lnTo>
                    <a:lnTo>
                      <a:pt x="248" y="374"/>
                    </a:lnTo>
                    <a:lnTo>
                      <a:pt x="254" y="374"/>
                    </a:lnTo>
                    <a:lnTo>
                      <a:pt x="248" y="385"/>
                    </a:lnTo>
                    <a:lnTo>
                      <a:pt x="242" y="392"/>
                    </a:lnTo>
                    <a:lnTo>
                      <a:pt x="233" y="396"/>
                    </a:lnTo>
                    <a:lnTo>
                      <a:pt x="226" y="399"/>
                    </a:lnTo>
                    <a:lnTo>
                      <a:pt x="217" y="399"/>
                    </a:lnTo>
                    <a:lnTo>
                      <a:pt x="208" y="399"/>
                    </a:lnTo>
                    <a:lnTo>
                      <a:pt x="199" y="399"/>
                    </a:lnTo>
                    <a:lnTo>
                      <a:pt x="189" y="399"/>
                    </a:lnTo>
                    <a:lnTo>
                      <a:pt x="171" y="374"/>
                    </a:lnTo>
                    <a:lnTo>
                      <a:pt x="174" y="396"/>
                    </a:lnTo>
                    <a:lnTo>
                      <a:pt x="183" y="414"/>
                    </a:lnTo>
                    <a:lnTo>
                      <a:pt x="196" y="429"/>
                    </a:lnTo>
                    <a:lnTo>
                      <a:pt x="211" y="436"/>
                    </a:lnTo>
                    <a:lnTo>
                      <a:pt x="226" y="443"/>
                    </a:lnTo>
                    <a:lnTo>
                      <a:pt x="245" y="451"/>
                    </a:lnTo>
                    <a:lnTo>
                      <a:pt x="261" y="454"/>
                    </a:lnTo>
                    <a:lnTo>
                      <a:pt x="273" y="458"/>
                    </a:lnTo>
                    <a:lnTo>
                      <a:pt x="285" y="462"/>
                    </a:lnTo>
                    <a:lnTo>
                      <a:pt x="301" y="465"/>
                    </a:lnTo>
                    <a:lnTo>
                      <a:pt x="316" y="469"/>
                    </a:lnTo>
                    <a:lnTo>
                      <a:pt x="335" y="476"/>
                    </a:lnTo>
                    <a:lnTo>
                      <a:pt x="350" y="487"/>
                    </a:lnTo>
                    <a:lnTo>
                      <a:pt x="366" y="495"/>
                    </a:lnTo>
                    <a:lnTo>
                      <a:pt x="378" y="506"/>
                    </a:lnTo>
                    <a:lnTo>
                      <a:pt x="388" y="513"/>
                    </a:lnTo>
                    <a:lnTo>
                      <a:pt x="375" y="513"/>
                    </a:lnTo>
                    <a:lnTo>
                      <a:pt x="363" y="509"/>
                    </a:lnTo>
                    <a:lnTo>
                      <a:pt x="353" y="506"/>
                    </a:lnTo>
                    <a:lnTo>
                      <a:pt x="341" y="498"/>
                    </a:lnTo>
                    <a:lnTo>
                      <a:pt x="332" y="495"/>
                    </a:lnTo>
                    <a:lnTo>
                      <a:pt x="319" y="487"/>
                    </a:lnTo>
                    <a:lnTo>
                      <a:pt x="310" y="484"/>
                    </a:lnTo>
                    <a:lnTo>
                      <a:pt x="301" y="484"/>
                    </a:lnTo>
                    <a:lnTo>
                      <a:pt x="292" y="495"/>
                    </a:lnTo>
                    <a:lnTo>
                      <a:pt x="292" y="498"/>
                    </a:lnTo>
                    <a:lnTo>
                      <a:pt x="295" y="506"/>
                    </a:lnTo>
                    <a:lnTo>
                      <a:pt x="295" y="509"/>
                    </a:lnTo>
                    <a:lnTo>
                      <a:pt x="298" y="517"/>
                    </a:lnTo>
                    <a:lnTo>
                      <a:pt x="298" y="520"/>
                    </a:lnTo>
                    <a:lnTo>
                      <a:pt x="301" y="528"/>
                    </a:lnTo>
                    <a:lnTo>
                      <a:pt x="304" y="531"/>
                    </a:lnTo>
                    <a:lnTo>
                      <a:pt x="307" y="535"/>
                    </a:lnTo>
                    <a:lnTo>
                      <a:pt x="301" y="531"/>
                    </a:lnTo>
                    <a:lnTo>
                      <a:pt x="292" y="524"/>
                    </a:lnTo>
                    <a:lnTo>
                      <a:pt x="285" y="520"/>
                    </a:lnTo>
                    <a:lnTo>
                      <a:pt x="279" y="513"/>
                    </a:lnTo>
                    <a:lnTo>
                      <a:pt x="270" y="506"/>
                    </a:lnTo>
                    <a:lnTo>
                      <a:pt x="264" y="498"/>
                    </a:lnTo>
                    <a:lnTo>
                      <a:pt x="257" y="495"/>
                    </a:lnTo>
                    <a:lnTo>
                      <a:pt x="248" y="491"/>
                    </a:lnTo>
                    <a:lnTo>
                      <a:pt x="248" y="491"/>
                    </a:lnTo>
                    <a:lnTo>
                      <a:pt x="251" y="495"/>
                    </a:lnTo>
                    <a:lnTo>
                      <a:pt x="251" y="495"/>
                    </a:lnTo>
                    <a:lnTo>
                      <a:pt x="251" y="498"/>
                    </a:lnTo>
                    <a:lnTo>
                      <a:pt x="251" y="498"/>
                    </a:lnTo>
                    <a:lnTo>
                      <a:pt x="251" y="502"/>
                    </a:lnTo>
                    <a:lnTo>
                      <a:pt x="251" y="502"/>
                    </a:lnTo>
                    <a:lnTo>
                      <a:pt x="251" y="506"/>
                    </a:lnTo>
                    <a:lnTo>
                      <a:pt x="242" y="495"/>
                    </a:lnTo>
                    <a:lnTo>
                      <a:pt x="236" y="484"/>
                    </a:lnTo>
                    <a:lnTo>
                      <a:pt x="226" y="476"/>
                    </a:lnTo>
                    <a:lnTo>
                      <a:pt x="217" y="469"/>
                    </a:lnTo>
                    <a:lnTo>
                      <a:pt x="211" y="462"/>
                    </a:lnTo>
                    <a:lnTo>
                      <a:pt x="202" y="462"/>
                    </a:lnTo>
                    <a:lnTo>
                      <a:pt x="196" y="465"/>
                    </a:lnTo>
                    <a:lnTo>
                      <a:pt x="189" y="476"/>
                    </a:lnTo>
                    <a:lnTo>
                      <a:pt x="186" y="476"/>
                    </a:lnTo>
                    <a:lnTo>
                      <a:pt x="186" y="476"/>
                    </a:lnTo>
                    <a:lnTo>
                      <a:pt x="183" y="476"/>
                    </a:lnTo>
                    <a:lnTo>
                      <a:pt x="183" y="476"/>
                    </a:lnTo>
                    <a:lnTo>
                      <a:pt x="180" y="476"/>
                    </a:lnTo>
                    <a:lnTo>
                      <a:pt x="177" y="476"/>
                    </a:lnTo>
                    <a:lnTo>
                      <a:pt x="177" y="476"/>
                    </a:lnTo>
                    <a:lnTo>
                      <a:pt x="174" y="476"/>
                    </a:lnTo>
                    <a:lnTo>
                      <a:pt x="171" y="473"/>
                    </a:lnTo>
                    <a:lnTo>
                      <a:pt x="171" y="473"/>
                    </a:lnTo>
                    <a:lnTo>
                      <a:pt x="168" y="469"/>
                    </a:lnTo>
                    <a:lnTo>
                      <a:pt x="165" y="465"/>
                    </a:lnTo>
                    <a:lnTo>
                      <a:pt x="161" y="462"/>
                    </a:lnTo>
                    <a:lnTo>
                      <a:pt x="158" y="462"/>
                    </a:lnTo>
                    <a:lnTo>
                      <a:pt x="155" y="458"/>
                    </a:lnTo>
                    <a:lnTo>
                      <a:pt x="152" y="458"/>
                    </a:lnTo>
                    <a:lnTo>
                      <a:pt x="146" y="454"/>
                    </a:lnTo>
                    <a:lnTo>
                      <a:pt x="137" y="451"/>
                    </a:lnTo>
                    <a:lnTo>
                      <a:pt x="130" y="447"/>
                    </a:lnTo>
                    <a:lnTo>
                      <a:pt x="124" y="443"/>
                    </a:lnTo>
                    <a:lnTo>
                      <a:pt x="115" y="443"/>
                    </a:lnTo>
                    <a:lnTo>
                      <a:pt x="109" y="443"/>
                    </a:lnTo>
                    <a:lnTo>
                      <a:pt x="100" y="443"/>
                    </a:lnTo>
                    <a:lnTo>
                      <a:pt x="90" y="443"/>
                    </a:lnTo>
                    <a:lnTo>
                      <a:pt x="81" y="440"/>
                    </a:lnTo>
                    <a:lnTo>
                      <a:pt x="75" y="436"/>
                    </a:lnTo>
                    <a:lnTo>
                      <a:pt x="62" y="429"/>
                    </a:lnTo>
                    <a:lnTo>
                      <a:pt x="53" y="421"/>
                    </a:lnTo>
                    <a:lnTo>
                      <a:pt x="44" y="418"/>
                    </a:lnTo>
                    <a:lnTo>
                      <a:pt x="34" y="410"/>
                    </a:lnTo>
                    <a:lnTo>
                      <a:pt x="25" y="407"/>
                    </a:lnTo>
                    <a:lnTo>
                      <a:pt x="13" y="407"/>
                    </a:lnTo>
                    <a:lnTo>
                      <a:pt x="16" y="425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13" y="465"/>
                    </a:lnTo>
                    <a:lnTo>
                      <a:pt x="10" y="473"/>
                    </a:lnTo>
                    <a:lnTo>
                      <a:pt x="7" y="484"/>
                    </a:lnTo>
                    <a:lnTo>
                      <a:pt x="4" y="491"/>
                    </a:lnTo>
                    <a:lnTo>
                      <a:pt x="0" y="502"/>
                    </a:lnTo>
                    <a:lnTo>
                      <a:pt x="4" y="506"/>
                    </a:lnTo>
                    <a:lnTo>
                      <a:pt x="4" y="506"/>
                    </a:lnTo>
                    <a:lnTo>
                      <a:pt x="7" y="509"/>
                    </a:lnTo>
                    <a:lnTo>
                      <a:pt x="7" y="513"/>
                    </a:lnTo>
                    <a:lnTo>
                      <a:pt x="7" y="517"/>
                    </a:lnTo>
                    <a:lnTo>
                      <a:pt x="4" y="520"/>
                    </a:lnTo>
                    <a:lnTo>
                      <a:pt x="4" y="524"/>
                    </a:lnTo>
                    <a:lnTo>
                      <a:pt x="4" y="528"/>
                    </a:lnTo>
                    <a:lnTo>
                      <a:pt x="4" y="528"/>
                    </a:lnTo>
                    <a:lnTo>
                      <a:pt x="7" y="528"/>
                    </a:lnTo>
                    <a:lnTo>
                      <a:pt x="10" y="528"/>
                    </a:lnTo>
                    <a:lnTo>
                      <a:pt x="13" y="524"/>
                    </a:lnTo>
                    <a:lnTo>
                      <a:pt x="16" y="524"/>
                    </a:lnTo>
                    <a:lnTo>
                      <a:pt x="16" y="520"/>
                    </a:lnTo>
                    <a:lnTo>
                      <a:pt x="19" y="517"/>
                    </a:lnTo>
                    <a:lnTo>
                      <a:pt x="19" y="517"/>
                    </a:lnTo>
                    <a:lnTo>
                      <a:pt x="25" y="517"/>
                    </a:lnTo>
                    <a:lnTo>
                      <a:pt x="34" y="517"/>
                    </a:lnTo>
                    <a:lnTo>
                      <a:pt x="44" y="520"/>
                    </a:lnTo>
                    <a:lnTo>
                      <a:pt x="53" y="524"/>
                    </a:lnTo>
                    <a:lnTo>
                      <a:pt x="65" y="528"/>
                    </a:lnTo>
                    <a:lnTo>
                      <a:pt x="72" y="531"/>
                    </a:lnTo>
                    <a:lnTo>
                      <a:pt x="78" y="531"/>
                    </a:lnTo>
                    <a:lnTo>
                      <a:pt x="81" y="528"/>
                    </a:lnTo>
                    <a:lnTo>
                      <a:pt x="78" y="524"/>
                    </a:lnTo>
                    <a:lnTo>
                      <a:pt x="72" y="524"/>
                    </a:lnTo>
                    <a:lnTo>
                      <a:pt x="65" y="520"/>
                    </a:lnTo>
                    <a:lnTo>
                      <a:pt x="53" y="517"/>
                    </a:lnTo>
                    <a:lnTo>
                      <a:pt x="44" y="513"/>
                    </a:lnTo>
                    <a:lnTo>
                      <a:pt x="31" y="509"/>
                    </a:lnTo>
                    <a:lnTo>
                      <a:pt x="22" y="506"/>
                    </a:lnTo>
                    <a:lnTo>
                      <a:pt x="19" y="498"/>
                    </a:lnTo>
                    <a:lnTo>
                      <a:pt x="22" y="498"/>
                    </a:lnTo>
                    <a:lnTo>
                      <a:pt x="31" y="498"/>
                    </a:lnTo>
                    <a:lnTo>
                      <a:pt x="41" y="502"/>
                    </a:lnTo>
                    <a:lnTo>
                      <a:pt x="50" y="506"/>
                    </a:lnTo>
                    <a:lnTo>
                      <a:pt x="62" y="509"/>
                    </a:lnTo>
                    <a:lnTo>
                      <a:pt x="72" y="513"/>
                    </a:lnTo>
                    <a:lnTo>
                      <a:pt x="81" y="517"/>
                    </a:lnTo>
                    <a:lnTo>
                      <a:pt x="87" y="520"/>
                    </a:lnTo>
                    <a:lnTo>
                      <a:pt x="96" y="524"/>
                    </a:lnTo>
                    <a:lnTo>
                      <a:pt x="109" y="535"/>
                    </a:lnTo>
                    <a:lnTo>
                      <a:pt x="118" y="542"/>
                    </a:lnTo>
                    <a:lnTo>
                      <a:pt x="130" y="553"/>
                    </a:lnTo>
                    <a:lnTo>
                      <a:pt x="140" y="561"/>
                    </a:lnTo>
                    <a:lnTo>
                      <a:pt x="152" y="568"/>
                    </a:lnTo>
                    <a:lnTo>
                      <a:pt x="161" y="575"/>
                    </a:lnTo>
                    <a:lnTo>
                      <a:pt x="174" y="575"/>
                    </a:lnTo>
                    <a:lnTo>
                      <a:pt x="165" y="561"/>
                    </a:lnTo>
                    <a:lnTo>
                      <a:pt x="152" y="546"/>
                    </a:lnTo>
                    <a:lnTo>
                      <a:pt x="140" y="531"/>
                    </a:lnTo>
                    <a:lnTo>
                      <a:pt x="130" y="517"/>
                    </a:lnTo>
                    <a:lnTo>
                      <a:pt x="118" y="502"/>
                    </a:lnTo>
                    <a:lnTo>
                      <a:pt x="106" y="487"/>
                    </a:lnTo>
                    <a:lnTo>
                      <a:pt x="93" y="473"/>
                    </a:lnTo>
                    <a:lnTo>
                      <a:pt x="84" y="458"/>
                    </a:lnTo>
                    <a:lnTo>
                      <a:pt x="87" y="454"/>
                    </a:lnTo>
                    <a:lnTo>
                      <a:pt x="90" y="454"/>
                    </a:lnTo>
                    <a:lnTo>
                      <a:pt x="96" y="458"/>
                    </a:lnTo>
                    <a:lnTo>
                      <a:pt x="100" y="458"/>
                    </a:lnTo>
                    <a:lnTo>
                      <a:pt x="103" y="462"/>
                    </a:lnTo>
                    <a:lnTo>
                      <a:pt x="106" y="462"/>
                    </a:lnTo>
                    <a:lnTo>
                      <a:pt x="112" y="465"/>
                    </a:lnTo>
                    <a:lnTo>
                      <a:pt x="115" y="473"/>
                    </a:lnTo>
                    <a:lnTo>
                      <a:pt x="124" y="484"/>
                    </a:lnTo>
                    <a:lnTo>
                      <a:pt x="134" y="495"/>
                    </a:lnTo>
                    <a:lnTo>
                      <a:pt x="146" y="506"/>
                    </a:lnTo>
                    <a:lnTo>
                      <a:pt x="155" y="517"/>
                    </a:lnTo>
                    <a:lnTo>
                      <a:pt x="165" y="528"/>
                    </a:lnTo>
                    <a:lnTo>
                      <a:pt x="174" y="542"/>
                    </a:lnTo>
                    <a:lnTo>
                      <a:pt x="180" y="557"/>
                    </a:lnTo>
                    <a:lnTo>
                      <a:pt x="186" y="572"/>
                    </a:lnTo>
                    <a:lnTo>
                      <a:pt x="189" y="579"/>
                    </a:lnTo>
                    <a:lnTo>
                      <a:pt x="192" y="583"/>
                    </a:lnTo>
                    <a:lnTo>
                      <a:pt x="199" y="586"/>
                    </a:lnTo>
                    <a:lnTo>
                      <a:pt x="202" y="590"/>
                    </a:lnTo>
                    <a:lnTo>
                      <a:pt x="208" y="594"/>
                    </a:lnTo>
                    <a:lnTo>
                      <a:pt x="214" y="597"/>
                    </a:lnTo>
                    <a:lnTo>
                      <a:pt x="220" y="597"/>
                    </a:lnTo>
                    <a:lnTo>
                      <a:pt x="223" y="597"/>
                    </a:lnTo>
                    <a:lnTo>
                      <a:pt x="214" y="590"/>
                    </a:lnTo>
                    <a:lnTo>
                      <a:pt x="205" y="579"/>
                    </a:lnTo>
                    <a:lnTo>
                      <a:pt x="199" y="568"/>
                    </a:lnTo>
                    <a:lnTo>
                      <a:pt x="192" y="557"/>
                    </a:lnTo>
                    <a:lnTo>
                      <a:pt x="186" y="542"/>
                    </a:lnTo>
                    <a:lnTo>
                      <a:pt x="180" y="531"/>
                    </a:lnTo>
                    <a:lnTo>
                      <a:pt x="174" y="520"/>
                    </a:lnTo>
                    <a:lnTo>
                      <a:pt x="168" y="509"/>
                    </a:lnTo>
                    <a:lnTo>
                      <a:pt x="165" y="506"/>
                    </a:lnTo>
                    <a:lnTo>
                      <a:pt x="161" y="498"/>
                    </a:lnTo>
                    <a:lnTo>
                      <a:pt x="155" y="491"/>
                    </a:lnTo>
                    <a:lnTo>
                      <a:pt x="149" y="484"/>
                    </a:lnTo>
                    <a:lnTo>
                      <a:pt x="146" y="476"/>
                    </a:lnTo>
                    <a:lnTo>
                      <a:pt x="143" y="469"/>
                    </a:lnTo>
                    <a:lnTo>
                      <a:pt x="140" y="465"/>
                    </a:lnTo>
                    <a:lnTo>
                      <a:pt x="140" y="458"/>
                    </a:lnTo>
                    <a:lnTo>
                      <a:pt x="155" y="480"/>
                    </a:lnTo>
                    <a:lnTo>
                      <a:pt x="171" y="506"/>
                    </a:lnTo>
                    <a:lnTo>
                      <a:pt x="189" y="531"/>
                    </a:lnTo>
                    <a:lnTo>
                      <a:pt x="208" y="557"/>
                    </a:lnTo>
                    <a:lnTo>
                      <a:pt x="226" y="579"/>
                    </a:lnTo>
                    <a:lnTo>
                      <a:pt x="245" y="597"/>
                    </a:lnTo>
                    <a:lnTo>
                      <a:pt x="264" y="612"/>
                    </a:lnTo>
                    <a:lnTo>
                      <a:pt x="285" y="619"/>
                    </a:lnTo>
                    <a:lnTo>
                      <a:pt x="254" y="586"/>
                    </a:lnTo>
                    <a:lnTo>
                      <a:pt x="230" y="564"/>
                    </a:lnTo>
                    <a:lnTo>
                      <a:pt x="214" y="542"/>
                    </a:lnTo>
                    <a:lnTo>
                      <a:pt x="205" y="528"/>
                    </a:lnTo>
                    <a:lnTo>
                      <a:pt x="202" y="517"/>
                    </a:lnTo>
                    <a:lnTo>
                      <a:pt x="199" y="506"/>
                    </a:lnTo>
                    <a:lnTo>
                      <a:pt x="199" y="498"/>
                    </a:lnTo>
                    <a:lnTo>
                      <a:pt x="202" y="487"/>
                    </a:lnTo>
                    <a:lnTo>
                      <a:pt x="202" y="498"/>
                    </a:lnTo>
                    <a:lnTo>
                      <a:pt x="205" y="509"/>
                    </a:lnTo>
                    <a:lnTo>
                      <a:pt x="208" y="520"/>
                    </a:lnTo>
                    <a:lnTo>
                      <a:pt x="211" y="528"/>
                    </a:lnTo>
                    <a:lnTo>
                      <a:pt x="217" y="535"/>
                    </a:lnTo>
                    <a:lnTo>
                      <a:pt x="226" y="542"/>
                    </a:lnTo>
                    <a:lnTo>
                      <a:pt x="233" y="546"/>
                    </a:lnTo>
                    <a:lnTo>
                      <a:pt x="242" y="546"/>
                    </a:lnTo>
                    <a:lnTo>
                      <a:pt x="248" y="531"/>
                    </a:lnTo>
                    <a:lnTo>
                      <a:pt x="245" y="528"/>
                    </a:lnTo>
                    <a:lnTo>
                      <a:pt x="239" y="520"/>
                    </a:lnTo>
                    <a:lnTo>
                      <a:pt x="236" y="513"/>
                    </a:lnTo>
                    <a:lnTo>
                      <a:pt x="230" y="509"/>
                    </a:lnTo>
                    <a:lnTo>
                      <a:pt x="223" y="502"/>
                    </a:lnTo>
                    <a:lnTo>
                      <a:pt x="220" y="495"/>
                    </a:lnTo>
                    <a:lnTo>
                      <a:pt x="214" y="487"/>
                    </a:lnTo>
                    <a:lnTo>
                      <a:pt x="211" y="476"/>
                    </a:lnTo>
                    <a:lnTo>
                      <a:pt x="220" y="491"/>
                    </a:lnTo>
                    <a:lnTo>
                      <a:pt x="230" y="506"/>
                    </a:lnTo>
                    <a:lnTo>
                      <a:pt x="242" y="517"/>
                    </a:lnTo>
                    <a:lnTo>
                      <a:pt x="254" y="531"/>
                    </a:lnTo>
                    <a:lnTo>
                      <a:pt x="267" y="542"/>
                    </a:lnTo>
                    <a:lnTo>
                      <a:pt x="279" y="553"/>
                    </a:lnTo>
                    <a:lnTo>
                      <a:pt x="292" y="561"/>
                    </a:lnTo>
                    <a:lnTo>
                      <a:pt x="304" y="561"/>
                    </a:lnTo>
                    <a:lnTo>
                      <a:pt x="304" y="557"/>
                    </a:lnTo>
                    <a:lnTo>
                      <a:pt x="304" y="553"/>
                    </a:lnTo>
                    <a:lnTo>
                      <a:pt x="307" y="550"/>
                    </a:lnTo>
                    <a:lnTo>
                      <a:pt x="310" y="550"/>
                    </a:lnTo>
                    <a:lnTo>
                      <a:pt x="313" y="546"/>
                    </a:lnTo>
                    <a:lnTo>
                      <a:pt x="313" y="542"/>
                    </a:lnTo>
                    <a:lnTo>
                      <a:pt x="313" y="539"/>
                    </a:lnTo>
                    <a:lnTo>
                      <a:pt x="313" y="535"/>
                    </a:lnTo>
                    <a:lnTo>
                      <a:pt x="310" y="524"/>
                    </a:lnTo>
                    <a:lnTo>
                      <a:pt x="310" y="517"/>
                    </a:lnTo>
                    <a:lnTo>
                      <a:pt x="310" y="509"/>
                    </a:lnTo>
                    <a:lnTo>
                      <a:pt x="313" y="506"/>
                    </a:lnTo>
                    <a:lnTo>
                      <a:pt x="316" y="506"/>
                    </a:lnTo>
                    <a:lnTo>
                      <a:pt x="319" y="502"/>
                    </a:lnTo>
                    <a:lnTo>
                      <a:pt x="322" y="502"/>
                    </a:lnTo>
                    <a:lnTo>
                      <a:pt x="326" y="498"/>
                    </a:lnTo>
                    <a:lnTo>
                      <a:pt x="332" y="509"/>
                    </a:lnTo>
                    <a:lnTo>
                      <a:pt x="341" y="513"/>
                    </a:lnTo>
                    <a:lnTo>
                      <a:pt x="347" y="520"/>
                    </a:lnTo>
                    <a:lnTo>
                      <a:pt x="357" y="524"/>
                    </a:lnTo>
                    <a:lnTo>
                      <a:pt x="366" y="528"/>
                    </a:lnTo>
                    <a:lnTo>
                      <a:pt x="375" y="528"/>
                    </a:lnTo>
                    <a:lnTo>
                      <a:pt x="384" y="531"/>
                    </a:lnTo>
                    <a:lnTo>
                      <a:pt x="394" y="531"/>
                    </a:lnTo>
                    <a:lnTo>
                      <a:pt x="403" y="520"/>
                    </a:lnTo>
                    <a:lnTo>
                      <a:pt x="403" y="509"/>
                    </a:lnTo>
                    <a:lnTo>
                      <a:pt x="397" y="498"/>
                    </a:lnTo>
                    <a:lnTo>
                      <a:pt x="388" y="487"/>
                    </a:lnTo>
                    <a:lnTo>
                      <a:pt x="372" y="480"/>
                    </a:lnTo>
                    <a:lnTo>
                      <a:pt x="353" y="473"/>
                    </a:lnTo>
                    <a:lnTo>
                      <a:pt x="338" y="465"/>
                    </a:lnTo>
                    <a:lnTo>
                      <a:pt x="322" y="462"/>
                    </a:lnTo>
                    <a:lnTo>
                      <a:pt x="307" y="454"/>
                    </a:lnTo>
                    <a:lnTo>
                      <a:pt x="301" y="451"/>
                    </a:lnTo>
                    <a:lnTo>
                      <a:pt x="292" y="447"/>
                    </a:lnTo>
                    <a:lnTo>
                      <a:pt x="282" y="440"/>
                    </a:lnTo>
                    <a:lnTo>
                      <a:pt x="273" y="436"/>
                    </a:lnTo>
                    <a:lnTo>
                      <a:pt x="264" y="432"/>
                    </a:lnTo>
                    <a:lnTo>
                      <a:pt x="254" y="429"/>
                    </a:lnTo>
                    <a:lnTo>
                      <a:pt x="245" y="429"/>
                    </a:lnTo>
                    <a:lnTo>
                      <a:pt x="236" y="425"/>
                    </a:lnTo>
                    <a:lnTo>
                      <a:pt x="226" y="425"/>
                    </a:lnTo>
                    <a:lnTo>
                      <a:pt x="239" y="403"/>
                    </a:lnTo>
                    <a:lnTo>
                      <a:pt x="254" y="392"/>
                    </a:lnTo>
                    <a:lnTo>
                      <a:pt x="273" y="381"/>
                    </a:lnTo>
                    <a:lnTo>
                      <a:pt x="292" y="377"/>
                    </a:lnTo>
                    <a:lnTo>
                      <a:pt x="310" y="374"/>
                    </a:lnTo>
                    <a:lnTo>
                      <a:pt x="332" y="366"/>
                    </a:lnTo>
                    <a:lnTo>
                      <a:pt x="350" y="355"/>
                    </a:lnTo>
                    <a:lnTo>
                      <a:pt x="366" y="337"/>
                    </a:lnTo>
                    <a:lnTo>
                      <a:pt x="363" y="322"/>
                    </a:lnTo>
                    <a:lnTo>
                      <a:pt x="353" y="308"/>
                    </a:lnTo>
                    <a:lnTo>
                      <a:pt x="344" y="297"/>
                    </a:lnTo>
                    <a:lnTo>
                      <a:pt x="329" y="286"/>
                    </a:lnTo>
                    <a:lnTo>
                      <a:pt x="316" y="275"/>
                    </a:lnTo>
                    <a:lnTo>
                      <a:pt x="301" y="267"/>
                    </a:lnTo>
                    <a:lnTo>
                      <a:pt x="292" y="256"/>
                    </a:lnTo>
                    <a:lnTo>
                      <a:pt x="282" y="249"/>
                    </a:lnTo>
                    <a:lnTo>
                      <a:pt x="295" y="249"/>
                    </a:lnTo>
                    <a:lnTo>
                      <a:pt x="304" y="253"/>
                    </a:lnTo>
                    <a:lnTo>
                      <a:pt x="316" y="256"/>
                    </a:lnTo>
                    <a:lnTo>
                      <a:pt x="329" y="264"/>
                    </a:lnTo>
                    <a:lnTo>
                      <a:pt x="338" y="271"/>
                    </a:lnTo>
                    <a:lnTo>
                      <a:pt x="347" y="278"/>
                    </a:lnTo>
                    <a:lnTo>
                      <a:pt x="357" y="289"/>
                    </a:lnTo>
                    <a:lnTo>
                      <a:pt x="366" y="300"/>
                    </a:lnTo>
                    <a:lnTo>
                      <a:pt x="363" y="289"/>
                    </a:lnTo>
                    <a:lnTo>
                      <a:pt x="360" y="278"/>
                    </a:lnTo>
                    <a:lnTo>
                      <a:pt x="357" y="267"/>
                    </a:lnTo>
                    <a:lnTo>
                      <a:pt x="350" y="260"/>
                    </a:lnTo>
                    <a:lnTo>
                      <a:pt x="344" y="253"/>
                    </a:lnTo>
                    <a:lnTo>
                      <a:pt x="335" y="245"/>
                    </a:lnTo>
                    <a:lnTo>
                      <a:pt x="329" y="242"/>
                    </a:lnTo>
                    <a:lnTo>
                      <a:pt x="322" y="238"/>
                    </a:lnTo>
                    <a:lnTo>
                      <a:pt x="313" y="234"/>
                    </a:lnTo>
                    <a:lnTo>
                      <a:pt x="304" y="223"/>
                    </a:lnTo>
                    <a:lnTo>
                      <a:pt x="292" y="216"/>
                    </a:lnTo>
                    <a:lnTo>
                      <a:pt x="279" y="205"/>
                    </a:lnTo>
                    <a:lnTo>
                      <a:pt x="270" y="194"/>
                    </a:lnTo>
                    <a:lnTo>
                      <a:pt x="257" y="183"/>
                    </a:lnTo>
                    <a:lnTo>
                      <a:pt x="245" y="176"/>
                    </a:lnTo>
                    <a:lnTo>
                      <a:pt x="236" y="168"/>
                    </a:lnTo>
                    <a:lnTo>
                      <a:pt x="223" y="161"/>
                    </a:lnTo>
                    <a:lnTo>
                      <a:pt x="217" y="150"/>
                    </a:lnTo>
                    <a:lnTo>
                      <a:pt x="211" y="143"/>
                    </a:lnTo>
                    <a:lnTo>
                      <a:pt x="211" y="135"/>
                    </a:lnTo>
                    <a:lnTo>
                      <a:pt x="211" y="132"/>
                    </a:lnTo>
                    <a:lnTo>
                      <a:pt x="217" y="128"/>
                    </a:lnTo>
                    <a:lnTo>
                      <a:pt x="226" y="128"/>
                    </a:lnTo>
                    <a:lnTo>
                      <a:pt x="242" y="132"/>
                    </a:lnTo>
                    <a:lnTo>
                      <a:pt x="254" y="139"/>
                    </a:lnTo>
                    <a:lnTo>
                      <a:pt x="270" y="146"/>
                    </a:lnTo>
                    <a:lnTo>
                      <a:pt x="288" y="157"/>
                    </a:lnTo>
                    <a:lnTo>
                      <a:pt x="304" y="172"/>
                    </a:lnTo>
                    <a:lnTo>
                      <a:pt x="319" y="187"/>
                    </a:lnTo>
                    <a:lnTo>
                      <a:pt x="338" y="201"/>
                    </a:lnTo>
                    <a:lnTo>
                      <a:pt x="350" y="216"/>
                    </a:lnTo>
                    <a:lnTo>
                      <a:pt x="363" y="231"/>
                    </a:lnTo>
                    <a:lnTo>
                      <a:pt x="360" y="220"/>
                    </a:lnTo>
                    <a:lnTo>
                      <a:pt x="357" y="209"/>
                    </a:lnTo>
                    <a:lnTo>
                      <a:pt x="350" y="198"/>
                    </a:lnTo>
                    <a:lnTo>
                      <a:pt x="344" y="190"/>
                    </a:lnTo>
                    <a:lnTo>
                      <a:pt x="338" y="179"/>
                    </a:lnTo>
                    <a:lnTo>
                      <a:pt x="329" y="172"/>
                    </a:lnTo>
                    <a:lnTo>
                      <a:pt x="322" y="165"/>
                    </a:lnTo>
                    <a:lnTo>
                      <a:pt x="316" y="157"/>
                    </a:lnTo>
                    <a:lnTo>
                      <a:pt x="316" y="157"/>
                    </a:lnTo>
                    <a:lnTo>
                      <a:pt x="313" y="150"/>
                    </a:lnTo>
                    <a:lnTo>
                      <a:pt x="310" y="139"/>
                    </a:lnTo>
                    <a:lnTo>
                      <a:pt x="304" y="128"/>
                    </a:lnTo>
                    <a:lnTo>
                      <a:pt x="298" y="117"/>
                    </a:lnTo>
                    <a:lnTo>
                      <a:pt x="292" y="106"/>
                    </a:lnTo>
                    <a:lnTo>
                      <a:pt x="285" y="99"/>
                    </a:lnTo>
                    <a:lnTo>
                      <a:pt x="282" y="91"/>
                    </a:lnTo>
                    <a:lnTo>
                      <a:pt x="282" y="91"/>
                    </a:lnTo>
                    <a:lnTo>
                      <a:pt x="285" y="95"/>
                    </a:lnTo>
                    <a:lnTo>
                      <a:pt x="295" y="106"/>
                    </a:lnTo>
                    <a:lnTo>
                      <a:pt x="304" y="117"/>
                    </a:lnTo>
                    <a:lnTo>
                      <a:pt x="313" y="128"/>
                    </a:lnTo>
                    <a:lnTo>
                      <a:pt x="326" y="143"/>
                    </a:lnTo>
                    <a:lnTo>
                      <a:pt x="335" y="150"/>
                    </a:lnTo>
                    <a:lnTo>
                      <a:pt x="344" y="154"/>
                    </a:lnTo>
                    <a:lnTo>
                      <a:pt x="350" y="154"/>
                    </a:lnTo>
                    <a:lnTo>
                      <a:pt x="338" y="139"/>
                    </a:lnTo>
                    <a:lnTo>
                      <a:pt x="329" y="124"/>
                    </a:lnTo>
                    <a:lnTo>
                      <a:pt x="316" y="110"/>
                    </a:lnTo>
                    <a:lnTo>
                      <a:pt x="304" y="95"/>
                    </a:lnTo>
                    <a:lnTo>
                      <a:pt x="292" y="84"/>
                    </a:lnTo>
                    <a:lnTo>
                      <a:pt x="276" y="77"/>
                    </a:lnTo>
                    <a:lnTo>
                      <a:pt x="264" y="73"/>
                    </a:lnTo>
                    <a:lnTo>
                      <a:pt x="248" y="69"/>
                    </a:lnTo>
                    <a:lnTo>
                      <a:pt x="261" y="69"/>
                    </a:lnTo>
                    <a:lnTo>
                      <a:pt x="270" y="73"/>
                    </a:lnTo>
                    <a:lnTo>
                      <a:pt x="282" y="77"/>
                    </a:lnTo>
                    <a:lnTo>
                      <a:pt x="295" y="80"/>
                    </a:lnTo>
                    <a:lnTo>
                      <a:pt x="304" y="88"/>
                    </a:lnTo>
                    <a:lnTo>
                      <a:pt x="313" y="95"/>
                    </a:lnTo>
                    <a:lnTo>
                      <a:pt x="322" y="102"/>
                    </a:lnTo>
                    <a:lnTo>
                      <a:pt x="329" y="113"/>
                    </a:lnTo>
                    <a:lnTo>
                      <a:pt x="322" y="91"/>
                    </a:lnTo>
                    <a:lnTo>
                      <a:pt x="310" y="73"/>
                    </a:lnTo>
                    <a:lnTo>
                      <a:pt x="298" y="58"/>
                    </a:lnTo>
                    <a:lnTo>
                      <a:pt x="282" y="51"/>
                    </a:lnTo>
                    <a:lnTo>
                      <a:pt x="270" y="44"/>
                    </a:lnTo>
                    <a:lnTo>
                      <a:pt x="257" y="36"/>
                    </a:lnTo>
                    <a:lnTo>
                      <a:pt x="251" y="36"/>
                    </a:lnTo>
                    <a:lnTo>
                      <a:pt x="248" y="36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655680" y="4315320"/>
                <a:ext cx="234000" cy="449640"/>
              </a:xfrm>
              <a:custGeom>
                <a:avLst/>
                <a:gdLst/>
                <a:ahLst/>
                <a:rect l="l" t="t" r="r" b="b"/>
                <a:pathLst>
                  <a:path w="211" h="370">
                    <a:moveTo>
                      <a:pt x="177" y="0"/>
                    </a:moveTo>
                    <a:lnTo>
                      <a:pt x="189" y="0"/>
                    </a:lnTo>
                    <a:lnTo>
                      <a:pt x="196" y="0"/>
                    </a:lnTo>
                    <a:lnTo>
                      <a:pt x="199" y="3"/>
                    </a:lnTo>
                    <a:lnTo>
                      <a:pt x="202" y="7"/>
                    </a:lnTo>
                    <a:lnTo>
                      <a:pt x="205" y="14"/>
                    </a:lnTo>
                    <a:lnTo>
                      <a:pt x="205" y="22"/>
                    </a:lnTo>
                    <a:lnTo>
                      <a:pt x="208" y="25"/>
                    </a:lnTo>
                    <a:lnTo>
                      <a:pt x="211" y="33"/>
                    </a:lnTo>
                    <a:lnTo>
                      <a:pt x="192" y="47"/>
                    </a:lnTo>
                    <a:lnTo>
                      <a:pt x="174" y="66"/>
                    </a:lnTo>
                    <a:lnTo>
                      <a:pt x="155" y="84"/>
                    </a:lnTo>
                    <a:lnTo>
                      <a:pt x="137" y="106"/>
                    </a:lnTo>
                    <a:lnTo>
                      <a:pt x="118" y="128"/>
                    </a:lnTo>
                    <a:lnTo>
                      <a:pt x="103" y="150"/>
                    </a:lnTo>
                    <a:lnTo>
                      <a:pt x="87" y="172"/>
                    </a:lnTo>
                    <a:lnTo>
                      <a:pt x="72" y="187"/>
                    </a:lnTo>
                    <a:lnTo>
                      <a:pt x="53" y="190"/>
                    </a:lnTo>
                    <a:lnTo>
                      <a:pt x="50" y="194"/>
                    </a:lnTo>
                    <a:lnTo>
                      <a:pt x="50" y="198"/>
                    </a:lnTo>
                    <a:lnTo>
                      <a:pt x="50" y="201"/>
                    </a:lnTo>
                    <a:lnTo>
                      <a:pt x="50" y="205"/>
                    </a:lnTo>
                    <a:lnTo>
                      <a:pt x="50" y="209"/>
                    </a:lnTo>
                    <a:lnTo>
                      <a:pt x="50" y="216"/>
                    </a:lnTo>
                    <a:lnTo>
                      <a:pt x="50" y="223"/>
                    </a:lnTo>
                    <a:lnTo>
                      <a:pt x="44" y="238"/>
                    </a:lnTo>
                    <a:lnTo>
                      <a:pt x="38" y="256"/>
                    </a:lnTo>
                    <a:lnTo>
                      <a:pt x="28" y="275"/>
                    </a:lnTo>
                    <a:lnTo>
                      <a:pt x="22" y="297"/>
                    </a:lnTo>
                    <a:lnTo>
                      <a:pt x="13" y="319"/>
                    </a:lnTo>
                    <a:lnTo>
                      <a:pt x="7" y="341"/>
                    </a:lnTo>
                    <a:lnTo>
                      <a:pt x="4" y="359"/>
                    </a:lnTo>
                    <a:lnTo>
                      <a:pt x="0" y="370"/>
                    </a:lnTo>
                    <a:lnTo>
                      <a:pt x="0" y="337"/>
                    </a:lnTo>
                    <a:lnTo>
                      <a:pt x="4" y="311"/>
                    </a:lnTo>
                    <a:lnTo>
                      <a:pt x="4" y="289"/>
                    </a:lnTo>
                    <a:lnTo>
                      <a:pt x="7" y="271"/>
                    </a:lnTo>
                    <a:lnTo>
                      <a:pt x="10" y="253"/>
                    </a:lnTo>
                    <a:lnTo>
                      <a:pt x="13" y="238"/>
                    </a:lnTo>
                    <a:lnTo>
                      <a:pt x="19" y="223"/>
                    </a:lnTo>
                    <a:lnTo>
                      <a:pt x="25" y="205"/>
                    </a:lnTo>
                    <a:lnTo>
                      <a:pt x="31" y="183"/>
                    </a:lnTo>
                    <a:lnTo>
                      <a:pt x="41" y="168"/>
                    </a:lnTo>
                    <a:lnTo>
                      <a:pt x="50" y="154"/>
                    </a:lnTo>
                    <a:lnTo>
                      <a:pt x="56" y="143"/>
                    </a:lnTo>
                    <a:lnTo>
                      <a:pt x="66" y="132"/>
                    </a:lnTo>
                    <a:lnTo>
                      <a:pt x="72" y="124"/>
                    </a:lnTo>
                    <a:lnTo>
                      <a:pt x="78" y="117"/>
                    </a:lnTo>
                    <a:lnTo>
                      <a:pt x="81" y="110"/>
                    </a:lnTo>
                    <a:lnTo>
                      <a:pt x="90" y="95"/>
                    </a:lnTo>
                    <a:lnTo>
                      <a:pt x="103" y="77"/>
                    </a:lnTo>
                    <a:lnTo>
                      <a:pt x="115" y="62"/>
                    </a:lnTo>
                    <a:lnTo>
                      <a:pt x="127" y="47"/>
                    </a:lnTo>
                    <a:lnTo>
                      <a:pt x="143" y="29"/>
                    </a:lnTo>
                    <a:lnTo>
                      <a:pt x="155" y="18"/>
                    </a:lnTo>
                    <a:lnTo>
                      <a:pt x="168" y="7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480360" y="4359240"/>
                <a:ext cx="447120" cy="708480"/>
              </a:xfrm>
              <a:custGeom>
                <a:avLst/>
                <a:gdLst/>
                <a:ahLst/>
                <a:rect l="l" t="t" r="r" b="b"/>
                <a:pathLst>
                  <a:path w="403" h="583">
                    <a:moveTo>
                      <a:pt x="248" y="0"/>
                    </a:moveTo>
                    <a:lnTo>
                      <a:pt x="230" y="11"/>
                    </a:lnTo>
                    <a:lnTo>
                      <a:pt x="211" y="26"/>
                    </a:lnTo>
                    <a:lnTo>
                      <a:pt x="192" y="48"/>
                    </a:lnTo>
                    <a:lnTo>
                      <a:pt x="174" y="70"/>
                    </a:lnTo>
                    <a:lnTo>
                      <a:pt x="155" y="96"/>
                    </a:lnTo>
                    <a:lnTo>
                      <a:pt x="140" y="118"/>
                    </a:lnTo>
                    <a:lnTo>
                      <a:pt x="121" y="140"/>
                    </a:lnTo>
                    <a:lnTo>
                      <a:pt x="106" y="154"/>
                    </a:lnTo>
                    <a:lnTo>
                      <a:pt x="87" y="169"/>
                    </a:lnTo>
                    <a:lnTo>
                      <a:pt x="87" y="173"/>
                    </a:lnTo>
                    <a:lnTo>
                      <a:pt x="87" y="180"/>
                    </a:lnTo>
                    <a:lnTo>
                      <a:pt x="87" y="184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0" y="198"/>
                    </a:lnTo>
                    <a:lnTo>
                      <a:pt x="90" y="202"/>
                    </a:lnTo>
                    <a:lnTo>
                      <a:pt x="90" y="206"/>
                    </a:lnTo>
                    <a:lnTo>
                      <a:pt x="90" y="209"/>
                    </a:lnTo>
                    <a:lnTo>
                      <a:pt x="87" y="209"/>
                    </a:lnTo>
                    <a:lnTo>
                      <a:pt x="87" y="213"/>
                    </a:lnTo>
                    <a:lnTo>
                      <a:pt x="84" y="217"/>
                    </a:lnTo>
                    <a:lnTo>
                      <a:pt x="81" y="220"/>
                    </a:lnTo>
                    <a:lnTo>
                      <a:pt x="81" y="224"/>
                    </a:lnTo>
                    <a:lnTo>
                      <a:pt x="78" y="224"/>
                    </a:lnTo>
                    <a:lnTo>
                      <a:pt x="78" y="228"/>
                    </a:lnTo>
                    <a:lnTo>
                      <a:pt x="124" y="231"/>
                    </a:lnTo>
                    <a:lnTo>
                      <a:pt x="75" y="235"/>
                    </a:lnTo>
                    <a:lnTo>
                      <a:pt x="72" y="239"/>
                    </a:lnTo>
                    <a:lnTo>
                      <a:pt x="69" y="242"/>
                    </a:lnTo>
                    <a:lnTo>
                      <a:pt x="69" y="246"/>
                    </a:lnTo>
                    <a:lnTo>
                      <a:pt x="65" y="250"/>
                    </a:lnTo>
                    <a:lnTo>
                      <a:pt x="65" y="253"/>
                    </a:lnTo>
                    <a:lnTo>
                      <a:pt x="62" y="257"/>
                    </a:lnTo>
                    <a:lnTo>
                      <a:pt x="109" y="264"/>
                    </a:lnTo>
                    <a:lnTo>
                      <a:pt x="59" y="264"/>
                    </a:lnTo>
                    <a:lnTo>
                      <a:pt x="56" y="272"/>
                    </a:lnTo>
                    <a:lnTo>
                      <a:pt x="53" y="279"/>
                    </a:lnTo>
                    <a:lnTo>
                      <a:pt x="50" y="290"/>
                    </a:lnTo>
                    <a:lnTo>
                      <a:pt x="47" y="297"/>
                    </a:lnTo>
                    <a:lnTo>
                      <a:pt x="44" y="308"/>
                    </a:lnTo>
                    <a:lnTo>
                      <a:pt x="41" y="316"/>
                    </a:lnTo>
                    <a:lnTo>
                      <a:pt x="38" y="327"/>
                    </a:lnTo>
                    <a:lnTo>
                      <a:pt x="34" y="334"/>
                    </a:lnTo>
                    <a:lnTo>
                      <a:pt x="34" y="338"/>
                    </a:lnTo>
                    <a:lnTo>
                      <a:pt x="34" y="341"/>
                    </a:lnTo>
                    <a:lnTo>
                      <a:pt x="34" y="345"/>
                    </a:lnTo>
                    <a:lnTo>
                      <a:pt x="34" y="349"/>
                    </a:lnTo>
                    <a:lnTo>
                      <a:pt x="34" y="356"/>
                    </a:lnTo>
                    <a:lnTo>
                      <a:pt x="34" y="360"/>
                    </a:lnTo>
                    <a:lnTo>
                      <a:pt x="34" y="367"/>
                    </a:lnTo>
                    <a:lnTo>
                      <a:pt x="34" y="371"/>
                    </a:lnTo>
                    <a:lnTo>
                      <a:pt x="65" y="393"/>
                    </a:lnTo>
                    <a:lnTo>
                      <a:pt x="78" y="393"/>
                    </a:lnTo>
                    <a:lnTo>
                      <a:pt x="87" y="385"/>
                    </a:lnTo>
                    <a:lnTo>
                      <a:pt x="93" y="378"/>
                    </a:lnTo>
                    <a:lnTo>
                      <a:pt x="103" y="371"/>
                    </a:lnTo>
                    <a:lnTo>
                      <a:pt x="115" y="341"/>
                    </a:lnTo>
                    <a:lnTo>
                      <a:pt x="124" y="308"/>
                    </a:lnTo>
                    <a:lnTo>
                      <a:pt x="134" y="275"/>
                    </a:lnTo>
                    <a:lnTo>
                      <a:pt x="143" y="239"/>
                    </a:lnTo>
                    <a:lnTo>
                      <a:pt x="152" y="209"/>
                    </a:lnTo>
                    <a:lnTo>
                      <a:pt x="161" y="184"/>
                    </a:lnTo>
                    <a:lnTo>
                      <a:pt x="158" y="206"/>
                    </a:lnTo>
                    <a:lnTo>
                      <a:pt x="158" y="224"/>
                    </a:lnTo>
                    <a:lnTo>
                      <a:pt x="155" y="242"/>
                    </a:lnTo>
                    <a:lnTo>
                      <a:pt x="158" y="261"/>
                    </a:lnTo>
                    <a:lnTo>
                      <a:pt x="161" y="279"/>
                    </a:lnTo>
                    <a:lnTo>
                      <a:pt x="165" y="294"/>
                    </a:lnTo>
                    <a:lnTo>
                      <a:pt x="174" y="308"/>
                    </a:lnTo>
                    <a:lnTo>
                      <a:pt x="186" y="316"/>
                    </a:lnTo>
                    <a:lnTo>
                      <a:pt x="192" y="327"/>
                    </a:lnTo>
                    <a:lnTo>
                      <a:pt x="202" y="327"/>
                    </a:lnTo>
                    <a:lnTo>
                      <a:pt x="208" y="327"/>
                    </a:lnTo>
                    <a:lnTo>
                      <a:pt x="214" y="330"/>
                    </a:lnTo>
                    <a:lnTo>
                      <a:pt x="223" y="330"/>
                    </a:lnTo>
                    <a:lnTo>
                      <a:pt x="230" y="334"/>
                    </a:lnTo>
                    <a:lnTo>
                      <a:pt x="239" y="334"/>
                    </a:lnTo>
                    <a:lnTo>
                      <a:pt x="248" y="338"/>
                    </a:lnTo>
                    <a:lnTo>
                      <a:pt x="254" y="338"/>
                    </a:lnTo>
                    <a:lnTo>
                      <a:pt x="248" y="349"/>
                    </a:lnTo>
                    <a:lnTo>
                      <a:pt x="242" y="356"/>
                    </a:lnTo>
                    <a:lnTo>
                      <a:pt x="233" y="360"/>
                    </a:lnTo>
                    <a:lnTo>
                      <a:pt x="226" y="363"/>
                    </a:lnTo>
                    <a:lnTo>
                      <a:pt x="217" y="363"/>
                    </a:lnTo>
                    <a:lnTo>
                      <a:pt x="208" y="363"/>
                    </a:lnTo>
                    <a:lnTo>
                      <a:pt x="199" y="363"/>
                    </a:lnTo>
                    <a:lnTo>
                      <a:pt x="189" y="363"/>
                    </a:lnTo>
                    <a:lnTo>
                      <a:pt x="171" y="338"/>
                    </a:lnTo>
                    <a:lnTo>
                      <a:pt x="174" y="360"/>
                    </a:lnTo>
                    <a:lnTo>
                      <a:pt x="183" y="378"/>
                    </a:lnTo>
                    <a:lnTo>
                      <a:pt x="196" y="393"/>
                    </a:lnTo>
                    <a:lnTo>
                      <a:pt x="211" y="400"/>
                    </a:lnTo>
                    <a:lnTo>
                      <a:pt x="226" y="407"/>
                    </a:lnTo>
                    <a:lnTo>
                      <a:pt x="245" y="415"/>
                    </a:lnTo>
                    <a:lnTo>
                      <a:pt x="261" y="418"/>
                    </a:lnTo>
                    <a:lnTo>
                      <a:pt x="273" y="422"/>
                    </a:lnTo>
                    <a:lnTo>
                      <a:pt x="285" y="426"/>
                    </a:lnTo>
                    <a:lnTo>
                      <a:pt x="301" y="429"/>
                    </a:lnTo>
                    <a:lnTo>
                      <a:pt x="316" y="433"/>
                    </a:lnTo>
                    <a:lnTo>
                      <a:pt x="335" y="440"/>
                    </a:lnTo>
                    <a:lnTo>
                      <a:pt x="350" y="451"/>
                    </a:lnTo>
                    <a:lnTo>
                      <a:pt x="366" y="459"/>
                    </a:lnTo>
                    <a:lnTo>
                      <a:pt x="378" y="470"/>
                    </a:lnTo>
                    <a:lnTo>
                      <a:pt x="388" y="477"/>
                    </a:lnTo>
                    <a:lnTo>
                      <a:pt x="375" y="477"/>
                    </a:lnTo>
                    <a:lnTo>
                      <a:pt x="363" y="473"/>
                    </a:lnTo>
                    <a:lnTo>
                      <a:pt x="353" y="470"/>
                    </a:lnTo>
                    <a:lnTo>
                      <a:pt x="341" y="462"/>
                    </a:lnTo>
                    <a:lnTo>
                      <a:pt x="332" y="459"/>
                    </a:lnTo>
                    <a:lnTo>
                      <a:pt x="319" y="451"/>
                    </a:lnTo>
                    <a:lnTo>
                      <a:pt x="310" y="448"/>
                    </a:lnTo>
                    <a:lnTo>
                      <a:pt x="301" y="448"/>
                    </a:lnTo>
                    <a:lnTo>
                      <a:pt x="292" y="459"/>
                    </a:lnTo>
                    <a:lnTo>
                      <a:pt x="292" y="462"/>
                    </a:lnTo>
                    <a:lnTo>
                      <a:pt x="295" y="470"/>
                    </a:lnTo>
                    <a:lnTo>
                      <a:pt x="295" y="473"/>
                    </a:lnTo>
                    <a:lnTo>
                      <a:pt x="298" y="481"/>
                    </a:lnTo>
                    <a:lnTo>
                      <a:pt x="298" y="484"/>
                    </a:lnTo>
                    <a:lnTo>
                      <a:pt x="301" y="492"/>
                    </a:lnTo>
                    <a:lnTo>
                      <a:pt x="304" y="495"/>
                    </a:lnTo>
                    <a:lnTo>
                      <a:pt x="307" y="499"/>
                    </a:lnTo>
                    <a:lnTo>
                      <a:pt x="301" y="495"/>
                    </a:lnTo>
                    <a:lnTo>
                      <a:pt x="292" y="488"/>
                    </a:lnTo>
                    <a:lnTo>
                      <a:pt x="285" y="484"/>
                    </a:lnTo>
                    <a:lnTo>
                      <a:pt x="279" y="477"/>
                    </a:lnTo>
                    <a:lnTo>
                      <a:pt x="270" y="470"/>
                    </a:lnTo>
                    <a:lnTo>
                      <a:pt x="264" y="462"/>
                    </a:lnTo>
                    <a:lnTo>
                      <a:pt x="257" y="459"/>
                    </a:lnTo>
                    <a:lnTo>
                      <a:pt x="248" y="455"/>
                    </a:lnTo>
                    <a:lnTo>
                      <a:pt x="251" y="459"/>
                    </a:lnTo>
                    <a:lnTo>
                      <a:pt x="251" y="462"/>
                    </a:lnTo>
                    <a:lnTo>
                      <a:pt x="251" y="466"/>
                    </a:lnTo>
                    <a:lnTo>
                      <a:pt x="251" y="470"/>
                    </a:lnTo>
                    <a:lnTo>
                      <a:pt x="242" y="459"/>
                    </a:lnTo>
                    <a:lnTo>
                      <a:pt x="236" y="448"/>
                    </a:lnTo>
                    <a:lnTo>
                      <a:pt x="226" y="440"/>
                    </a:lnTo>
                    <a:lnTo>
                      <a:pt x="217" y="433"/>
                    </a:lnTo>
                    <a:lnTo>
                      <a:pt x="211" y="426"/>
                    </a:lnTo>
                    <a:lnTo>
                      <a:pt x="202" y="426"/>
                    </a:lnTo>
                    <a:lnTo>
                      <a:pt x="196" y="429"/>
                    </a:lnTo>
                    <a:lnTo>
                      <a:pt x="189" y="440"/>
                    </a:lnTo>
                    <a:lnTo>
                      <a:pt x="186" y="440"/>
                    </a:lnTo>
                    <a:lnTo>
                      <a:pt x="183" y="440"/>
                    </a:lnTo>
                    <a:lnTo>
                      <a:pt x="180" y="440"/>
                    </a:lnTo>
                    <a:lnTo>
                      <a:pt x="177" y="440"/>
                    </a:lnTo>
                    <a:lnTo>
                      <a:pt x="174" y="440"/>
                    </a:lnTo>
                    <a:lnTo>
                      <a:pt x="171" y="437"/>
                    </a:lnTo>
                    <a:lnTo>
                      <a:pt x="168" y="433"/>
                    </a:lnTo>
                    <a:lnTo>
                      <a:pt x="165" y="429"/>
                    </a:lnTo>
                    <a:lnTo>
                      <a:pt x="161" y="426"/>
                    </a:lnTo>
                    <a:lnTo>
                      <a:pt x="158" y="426"/>
                    </a:lnTo>
                    <a:lnTo>
                      <a:pt x="155" y="422"/>
                    </a:lnTo>
                    <a:lnTo>
                      <a:pt x="152" y="422"/>
                    </a:lnTo>
                    <a:lnTo>
                      <a:pt x="146" y="418"/>
                    </a:lnTo>
                    <a:lnTo>
                      <a:pt x="137" y="415"/>
                    </a:lnTo>
                    <a:lnTo>
                      <a:pt x="130" y="411"/>
                    </a:lnTo>
                    <a:lnTo>
                      <a:pt x="124" y="407"/>
                    </a:lnTo>
                    <a:lnTo>
                      <a:pt x="115" y="407"/>
                    </a:lnTo>
                    <a:lnTo>
                      <a:pt x="109" y="407"/>
                    </a:lnTo>
                    <a:lnTo>
                      <a:pt x="100" y="407"/>
                    </a:lnTo>
                    <a:lnTo>
                      <a:pt x="90" y="407"/>
                    </a:lnTo>
                    <a:lnTo>
                      <a:pt x="81" y="404"/>
                    </a:lnTo>
                    <a:lnTo>
                      <a:pt x="75" y="400"/>
                    </a:lnTo>
                    <a:lnTo>
                      <a:pt x="62" y="393"/>
                    </a:lnTo>
                    <a:lnTo>
                      <a:pt x="53" y="385"/>
                    </a:lnTo>
                    <a:lnTo>
                      <a:pt x="44" y="382"/>
                    </a:lnTo>
                    <a:lnTo>
                      <a:pt x="34" y="374"/>
                    </a:lnTo>
                    <a:lnTo>
                      <a:pt x="25" y="371"/>
                    </a:lnTo>
                    <a:lnTo>
                      <a:pt x="13" y="371"/>
                    </a:lnTo>
                    <a:lnTo>
                      <a:pt x="16" y="389"/>
                    </a:lnTo>
                    <a:lnTo>
                      <a:pt x="16" y="404"/>
                    </a:lnTo>
                    <a:lnTo>
                      <a:pt x="13" y="418"/>
                    </a:lnTo>
                    <a:lnTo>
                      <a:pt x="13" y="429"/>
                    </a:lnTo>
                    <a:lnTo>
                      <a:pt x="10" y="437"/>
                    </a:lnTo>
                    <a:lnTo>
                      <a:pt x="7" y="448"/>
                    </a:lnTo>
                    <a:lnTo>
                      <a:pt x="4" y="455"/>
                    </a:lnTo>
                    <a:lnTo>
                      <a:pt x="0" y="466"/>
                    </a:lnTo>
                    <a:lnTo>
                      <a:pt x="4" y="470"/>
                    </a:lnTo>
                    <a:lnTo>
                      <a:pt x="7" y="473"/>
                    </a:lnTo>
                    <a:lnTo>
                      <a:pt x="7" y="477"/>
                    </a:lnTo>
                    <a:lnTo>
                      <a:pt x="7" y="481"/>
                    </a:lnTo>
                    <a:lnTo>
                      <a:pt x="4" y="484"/>
                    </a:lnTo>
                    <a:lnTo>
                      <a:pt x="4" y="488"/>
                    </a:lnTo>
                    <a:lnTo>
                      <a:pt x="4" y="492"/>
                    </a:lnTo>
                    <a:lnTo>
                      <a:pt x="7" y="492"/>
                    </a:lnTo>
                    <a:lnTo>
                      <a:pt x="10" y="492"/>
                    </a:lnTo>
                    <a:lnTo>
                      <a:pt x="13" y="488"/>
                    </a:lnTo>
                    <a:lnTo>
                      <a:pt x="16" y="488"/>
                    </a:lnTo>
                    <a:lnTo>
                      <a:pt x="16" y="484"/>
                    </a:lnTo>
                    <a:lnTo>
                      <a:pt x="19" y="481"/>
                    </a:lnTo>
                    <a:lnTo>
                      <a:pt x="25" y="481"/>
                    </a:lnTo>
                    <a:lnTo>
                      <a:pt x="34" y="481"/>
                    </a:lnTo>
                    <a:lnTo>
                      <a:pt x="44" y="484"/>
                    </a:lnTo>
                    <a:lnTo>
                      <a:pt x="53" y="488"/>
                    </a:lnTo>
                    <a:lnTo>
                      <a:pt x="65" y="492"/>
                    </a:lnTo>
                    <a:lnTo>
                      <a:pt x="72" y="495"/>
                    </a:lnTo>
                    <a:lnTo>
                      <a:pt x="78" y="495"/>
                    </a:lnTo>
                    <a:lnTo>
                      <a:pt x="81" y="492"/>
                    </a:lnTo>
                    <a:lnTo>
                      <a:pt x="78" y="488"/>
                    </a:lnTo>
                    <a:lnTo>
                      <a:pt x="72" y="488"/>
                    </a:lnTo>
                    <a:lnTo>
                      <a:pt x="65" y="484"/>
                    </a:lnTo>
                    <a:lnTo>
                      <a:pt x="53" y="481"/>
                    </a:lnTo>
                    <a:lnTo>
                      <a:pt x="44" y="477"/>
                    </a:lnTo>
                    <a:lnTo>
                      <a:pt x="31" y="473"/>
                    </a:lnTo>
                    <a:lnTo>
                      <a:pt x="22" y="470"/>
                    </a:lnTo>
                    <a:lnTo>
                      <a:pt x="19" y="462"/>
                    </a:lnTo>
                    <a:lnTo>
                      <a:pt x="22" y="462"/>
                    </a:lnTo>
                    <a:lnTo>
                      <a:pt x="31" y="462"/>
                    </a:lnTo>
                    <a:lnTo>
                      <a:pt x="41" y="466"/>
                    </a:lnTo>
                    <a:lnTo>
                      <a:pt x="50" y="470"/>
                    </a:lnTo>
                    <a:lnTo>
                      <a:pt x="62" y="473"/>
                    </a:lnTo>
                    <a:lnTo>
                      <a:pt x="72" y="477"/>
                    </a:lnTo>
                    <a:lnTo>
                      <a:pt x="81" y="481"/>
                    </a:lnTo>
                    <a:lnTo>
                      <a:pt x="87" y="484"/>
                    </a:lnTo>
                    <a:lnTo>
                      <a:pt x="96" y="488"/>
                    </a:lnTo>
                    <a:lnTo>
                      <a:pt x="109" y="499"/>
                    </a:lnTo>
                    <a:lnTo>
                      <a:pt x="118" y="506"/>
                    </a:lnTo>
                    <a:lnTo>
                      <a:pt x="130" y="517"/>
                    </a:lnTo>
                    <a:lnTo>
                      <a:pt x="140" y="525"/>
                    </a:lnTo>
                    <a:lnTo>
                      <a:pt x="152" y="532"/>
                    </a:lnTo>
                    <a:lnTo>
                      <a:pt x="161" y="539"/>
                    </a:lnTo>
                    <a:lnTo>
                      <a:pt x="174" y="539"/>
                    </a:lnTo>
                    <a:lnTo>
                      <a:pt x="165" y="525"/>
                    </a:lnTo>
                    <a:lnTo>
                      <a:pt x="152" y="510"/>
                    </a:lnTo>
                    <a:lnTo>
                      <a:pt x="140" y="495"/>
                    </a:lnTo>
                    <a:lnTo>
                      <a:pt x="130" y="481"/>
                    </a:lnTo>
                    <a:lnTo>
                      <a:pt x="118" y="466"/>
                    </a:lnTo>
                    <a:lnTo>
                      <a:pt x="106" y="451"/>
                    </a:lnTo>
                    <a:lnTo>
                      <a:pt x="93" y="437"/>
                    </a:lnTo>
                    <a:lnTo>
                      <a:pt x="84" y="422"/>
                    </a:lnTo>
                    <a:lnTo>
                      <a:pt x="87" y="418"/>
                    </a:lnTo>
                    <a:lnTo>
                      <a:pt x="90" y="418"/>
                    </a:lnTo>
                    <a:lnTo>
                      <a:pt x="96" y="422"/>
                    </a:lnTo>
                    <a:lnTo>
                      <a:pt x="100" y="422"/>
                    </a:lnTo>
                    <a:lnTo>
                      <a:pt x="103" y="426"/>
                    </a:lnTo>
                    <a:lnTo>
                      <a:pt x="106" y="426"/>
                    </a:lnTo>
                    <a:lnTo>
                      <a:pt x="112" y="429"/>
                    </a:lnTo>
                    <a:lnTo>
                      <a:pt x="115" y="437"/>
                    </a:lnTo>
                    <a:lnTo>
                      <a:pt x="124" y="448"/>
                    </a:lnTo>
                    <a:lnTo>
                      <a:pt x="134" y="459"/>
                    </a:lnTo>
                    <a:lnTo>
                      <a:pt x="146" y="470"/>
                    </a:lnTo>
                    <a:lnTo>
                      <a:pt x="155" y="481"/>
                    </a:lnTo>
                    <a:lnTo>
                      <a:pt x="165" y="492"/>
                    </a:lnTo>
                    <a:lnTo>
                      <a:pt x="174" y="506"/>
                    </a:lnTo>
                    <a:lnTo>
                      <a:pt x="180" y="521"/>
                    </a:lnTo>
                    <a:lnTo>
                      <a:pt x="186" y="536"/>
                    </a:lnTo>
                    <a:lnTo>
                      <a:pt x="189" y="543"/>
                    </a:lnTo>
                    <a:lnTo>
                      <a:pt x="192" y="547"/>
                    </a:lnTo>
                    <a:lnTo>
                      <a:pt x="199" y="550"/>
                    </a:lnTo>
                    <a:lnTo>
                      <a:pt x="202" y="554"/>
                    </a:lnTo>
                    <a:lnTo>
                      <a:pt x="208" y="558"/>
                    </a:lnTo>
                    <a:lnTo>
                      <a:pt x="214" y="561"/>
                    </a:lnTo>
                    <a:lnTo>
                      <a:pt x="220" y="561"/>
                    </a:lnTo>
                    <a:lnTo>
                      <a:pt x="223" y="561"/>
                    </a:lnTo>
                    <a:lnTo>
                      <a:pt x="214" y="554"/>
                    </a:lnTo>
                    <a:lnTo>
                      <a:pt x="205" y="543"/>
                    </a:lnTo>
                    <a:lnTo>
                      <a:pt x="199" y="532"/>
                    </a:lnTo>
                    <a:lnTo>
                      <a:pt x="192" y="521"/>
                    </a:lnTo>
                    <a:lnTo>
                      <a:pt x="186" y="506"/>
                    </a:lnTo>
                    <a:lnTo>
                      <a:pt x="180" y="495"/>
                    </a:lnTo>
                    <a:lnTo>
                      <a:pt x="174" y="484"/>
                    </a:lnTo>
                    <a:lnTo>
                      <a:pt x="168" y="473"/>
                    </a:lnTo>
                    <a:lnTo>
                      <a:pt x="165" y="470"/>
                    </a:lnTo>
                    <a:lnTo>
                      <a:pt x="161" y="462"/>
                    </a:lnTo>
                    <a:lnTo>
                      <a:pt x="155" y="455"/>
                    </a:lnTo>
                    <a:lnTo>
                      <a:pt x="149" y="448"/>
                    </a:lnTo>
                    <a:lnTo>
                      <a:pt x="146" y="440"/>
                    </a:lnTo>
                    <a:lnTo>
                      <a:pt x="143" y="433"/>
                    </a:lnTo>
                    <a:lnTo>
                      <a:pt x="140" y="429"/>
                    </a:lnTo>
                    <a:lnTo>
                      <a:pt x="140" y="422"/>
                    </a:lnTo>
                    <a:lnTo>
                      <a:pt x="155" y="444"/>
                    </a:lnTo>
                    <a:lnTo>
                      <a:pt x="171" y="470"/>
                    </a:lnTo>
                    <a:lnTo>
                      <a:pt x="189" y="495"/>
                    </a:lnTo>
                    <a:lnTo>
                      <a:pt x="208" y="521"/>
                    </a:lnTo>
                    <a:lnTo>
                      <a:pt x="226" y="543"/>
                    </a:lnTo>
                    <a:lnTo>
                      <a:pt x="245" y="561"/>
                    </a:lnTo>
                    <a:lnTo>
                      <a:pt x="264" y="576"/>
                    </a:lnTo>
                    <a:lnTo>
                      <a:pt x="285" y="583"/>
                    </a:lnTo>
                    <a:lnTo>
                      <a:pt x="254" y="550"/>
                    </a:lnTo>
                    <a:lnTo>
                      <a:pt x="230" y="528"/>
                    </a:lnTo>
                    <a:lnTo>
                      <a:pt x="214" y="506"/>
                    </a:lnTo>
                    <a:lnTo>
                      <a:pt x="205" y="492"/>
                    </a:lnTo>
                    <a:lnTo>
                      <a:pt x="202" y="481"/>
                    </a:lnTo>
                    <a:lnTo>
                      <a:pt x="199" y="470"/>
                    </a:lnTo>
                    <a:lnTo>
                      <a:pt x="199" y="462"/>
                    </a:lnTo>
                    <a:lnTo>
                      <a:pt x="202" y="451"/>
                    </a:lnTo>
                    <a:lnTo>
                      <a:pt x="202" y="462"/>
                    </a:lnTo>
                    <a:lnTo>
                      <a:pt x="205" y="473"/>
                    </a:lnTo>
                    <a:lnTo>
                      <a:pt x="208" y="484"/>
                    </a:lnTo>
                    <a:lnTo>
                      <a:pt x="211" y="492"/>
                    </a:lnTo>
                    <a:lnTo>
                      <a:pt x="217" y="499"/>
                    </a:lnTo>
                    <a:lnTo>
                      <a:pt x="226" y="506"/>
                    </a:lnTo>
                    <a:lnTo>
                      <a:pt x="233" y="510"/>
                    </a:lnTo>
                    <a:lnTo>
                      <a:pt x="242" y="510"/>
                    </a:lnTo>
                    <a:lnTo>
                      <a:pt x="248" y="495"/>
                    </a:lnTo>
                    <a:lnTo>
                      <a:pt x="245" y="492"/>
                    </a:lnTo>
                    <a:lnTo>
                      <a:pt x="239" y="484"/>
                    </a:lnTo>
                    <a:lnTo>
                      <a:pt x="236" y="477"/>
                    </a:lnTo>
                    <a:lnTo>
                      <a:pt x="230" y="473"/>
                    </a:lnTo>
                    <a:lnTo>
                      <a:pt x="223" y="466"/>
                    </a:lnTo>
                    <a:lnTo>
                      <a:pt x="220" y="459"/>
                    </a:lnTo>
                    <a:lnTo>
                      <a:pt x="214" y="451"/>
                    </a:lnTo>
                    <a:lnTo>
                      <a:pt x="211" y="440"/>
                    </a:lnTo>
                    <a:lnTo>
                      <a:pt x="220" y="455"/>
                    </a:lnTo>
                    <a:lnTo>
                      <a:pt x="230" y="470"/>
                    </a:lnTo>
                    <a:lnTo>
                      <a:pt x="242" y="481"/>
                    </a:lnTo>
                    <a:lnTo>
                      <a:pt x="254" y="495"/>
                    </a:lnTo>
                    <a:lnTo>
                      <a:pt x="267" y="506"/>
                    </a:lnTo>
                    <a:lnTo>
                      <a:pt x="279" y="517"/>
                    </a:lnTo>
                    <a:lnTo>
                      <a:pt x="292" y="525"/>
                    </a:lnTo>
                    <a:lnTo>
                      <a:pt x="304" y="525"/>
                    </a:lnTo>
                    <a:lnTo>
                      <a:pt x="304" y="521"/>
                    </a:lnTo>
                    <a:lnTo>
                      <a:pt x="304" y="517"/>
                    </a:lnTo>
                    <a:lnTo>
                      <a:pt x="307" y="514"/>
                    </a:lnTo>
                    <a:lnTo>
                      <a:pt x="310" y="514"/>
                    </a:lnTo>
                    <a:lnTo>
                      <a:pt x="313" y="510"/>
                    </a:lnTo>
                    <a:lnTo>
                      <a:pt x="313" y="506"/>
                    </a:lnTo>
                    <a:lnTo>
                      <a:pt x="313" y="503"/>
                    </a:lnTo>
                    <a:lnTo>
                      <a:pt x="313" y="499"/>
                    </a:lnTo>
                    <a:lnTo>
                      <a:pt x="310" y="488"/>
                    </a:lnTo>
                    <a:lnTo>
                      <a:pt x="310" y="481"/>
                    </a:lnTo>
                    <a:lnTo>
                      <a:pt x="310" y="473"/>
                    </a:lnTo>
                    <a:lnTo>
                      <a:pt x="313" y="470"/>
                    </a:lnTo>
                    <a:lnTo>
                      <a:pt x="316" y="470"/>
                    </a:lnTo>
                    <a:lnTo>
                      <a:pt x="319" y="466"/>
                    </a:lnTo>
                    <a:lnTo>
                      <a:pt x="322" y="466"/>
                    </a:lnTo>
                    <a:lnTo>
                      <a:pt x="326" y="462"/>
                    </a:lnTo>
                    <a:lnTo>
                      <a:pt x="332" y="473"/>
                    </a:lnTo>
                    <a:lnTo>
                      <a:pt x="341" y="477"/>
                    </a:lnTo>
                    <a:lnTo>
                      <a:pt x="347" y="484"/>
                    </a:lnTo>
                    <a:lnTo>
                      <a:pt x="357" y="488"/>
                    </a:lnTo>
                    <a:lnTo>
                      <a:pt x="366" y="492"/>
                    </a:lnTo>
                    <a:lnTo>
                      <a:pt x="375" y="492"/>
                    </a:lnTo>
                    <a:lnTo>
                      <a:pt x="384" y="495"/>
                    </a:lnTo>
                    <a:lnTo>
                      <a:pt x="394" y="495"/>
                    </a:lnTo>
                    <a:lnTo>
                      <a:pt x="403" y="484"/>
                    </a:lnTo>
                    <a:lnTo>
                      <a:pt x="403" y="473"/>
                    </a:lnTo>
                    <a:lnTo>
                      <a:pt x="397" y="462"/>
                    </a:lnTo>
                    <a:lnTo>
                      <a:pt x="388" y="451"/>
                    </a:lnTo>
                    <a:lnTo>
                      <a:pt x="372" y="444"/>
                    </a:lnTo>
                    <a:lnTo>
                      <a:pt x="353" y="437"/>
                    </a:lnTo>
                    <a:lnTo>
                      <a:pt x="338" y="429"/>
                    </a:lnTo>
                    <a:lnTo>
                      <a:pt x="322" y="426"/>
                    </a:lnTo>
                    <a:lnTo>
                      <a:pt x="307" y="418"/>
                    </a:lnTo>
                    <a:lnTo>
                      <a:pt x="301" y="415"/>
                    </a:lnTo>
                    <a:lnTo>
                      <a:pt x="292" y="411"/>
                    </a:lnTo>
                    <a:lnTo>
                      <a:pt x="282" y="404"/>
                    </a:lnTo>
                    <a:lnTo>
                      <a:pt x="273" y="400"/>
                    </a:lnTo>
                    <a:lnTo>
                      <a:pt x="264" y="396"/>
                    </a:lnTo>
                    <a:lnTo>
                      <a:pt x="254" y="393"/>
                    </a:lnTo>
                    <a:lnTo>
                      <a:pt x="245" y="393"/>
                    </a:lnTo>
                    <a:lnTo>
                      <a:pt x="236" y="389"/>
                    </a:lnTo>
                    <a:lnTo>
                      <a:pt x="226" y="389"/>
                    </a:lnTo>
                    <a:lnTo>
                      <a:pt x="239" y="367"/>
                    </a:lnTo>
                    <a:lnTo>
                      <a:pt x="254" y="356"/>
                    </a:lnTo>
                    <a:lnTo>
                      <a:pt x="273" y="345"/>
                    </a:lnTo>
                    <a:lnTo>
                      <a:pt x="292" y="341"/>
                    </a:lnTo>
                    <a:lnTo>
                      <a:pt x="310" y="338"/>
                    </a:lnTo>
                    <a:lnTo>
                      <a:pt x="332" y="330"/>
                    </a:lnTo>
                    <a:lnTo>
                      <a:pt x="350" y="319"/>
                    </a:lnTo>
                    <a:lnTo>
                      <a:pt x="366" y="301"/>
                    </a:lnTo>
                    <a:lnTo>
                      <a:pt x="363" y="286"/>
                    </a:lnTo>
                    <a:lnTo>
                      <a:pt x="353" y="272"/>
                    </a:lnTo>
                    <a:lnTo>
                      <a:pt x="344" y="261"/>
                    </a:lnTo>
                    <a:lnTo>
                      <a:pt x="329" y="250"/>
                    </a:lnTo>
                    <a:lnTo>
                      <a:pt x="316" y="239"/>
                    </a:lnTo>
                    <a:lnTo>
                      <a:pt x="301" y="231"/>
                    </a:lnTo>
                    <a:lnTo>
                      <a:pt x="292" y="220"/>
                    </a:lnTo>
                    <a:lnTo>
                      <a:pt x="282" y="213"/>
                    </a:lnTo>
                    <a:lnTo>
                      <a:pt x="295" y="213"/>
                    </a:lnTo>
                    <a:lnTo>
                      <a:pt x="304" y="217"/>
                    </a:lnTo>
                    <a:lnTo>
                      <a:pt x="316" y="220"/>
                    </a:lnTo>
                    <a:lnTo>
                      <a:pt x="329" y="228"/>
                    </a:lnTo>
                    <a:lnTo>
                      <a:pt x="338" y="235"/>
                    </a:lnTo>
                    <a:lnTo>
                      <a:pt x="347" y="242"/>
                    </a:lnTo>
                    <a:lnTo>
                      <a:pt x="357" y="253"/>
                    </a:lnTo>
                    <a:lnTo>
                      <a:pt x="366" y="264"/>
                    </a:lnTo>
                    <a:lnTo>
                      <a:pt x="363" y="253"/>
                    </a:lnTo>
                    <a:lnTo>
                      <a:pt x="360" y="242"/>
                    </a:lnTo>
                    <a:lnTo>
                      <a:pt x="357" y="231"/>
                    </a:lnTo>
                    <a:lnTo>
                      <a:pt x="350" y="224"/>
                    </a:lnTo>
                    <a:lnTo>
                      <a:pt x="344" y="217"/>
                    </a:lnTo>
                    <a:lnTo>
                      <a:pt x="335" y="209"/>
                    </a:lnTo>
                    <a:lnTo>
                      <a:pt x="329" y="206"/>
                    </a:lnTo>
                    <a:lnTo>
                      <a:pt x="322" y="202"/>
                    </a:lnTo>
                    <a:lnTo>
                      <a:pt x="313" y="198"/>
                    </a:lnTo>
                    <a:lnTo>
                      <a:pt x="304" y="187"/>
                    </a:lnTo>
                    <a:lnTo>
                      <a:pt x="292" y="180"/>
                    </a:lnTo>
                    <a:lnTo>
                      <a:pt x="279" y="169"/>
                    </a:lnTo>
                    <a:lnTo>
                      <a:pt x="270" y="158"/>
                    </a:lnTo>
                    <a:lnTo>
                      <a:pt x="257" y="147"/>
                    </a:lnTo>
                    <a:lnTo>
                      <a:pt x="245" y="140"/>
                    </a:lnTo>
                    <a:lnTo>
                      <a:pt x="236" y="132"/>
                    </a:lnTo>
                    <a:lnTo>
                      <a:pt x="223" y="125"/>
                    </a:lnTo>
                    <a:lnTo>
                      <a:pt x="217" y="114"/>
                    </a:lnTo>
                    <a:lnTo>
                      <a:pt x="211" y="107"/>
                    </a:lnTo>
                    <a:lnTo>
                      <a:pt x="211" y="99"/>
                    </a:lnTo>
                    <a:lnTo>
                      <a:pt x="211" y="96"/>
                    </a:lnTo>
                    <a:lnTo>
                      <a:pt x="217" y="92"/>
                    </a:lnTo>
                    <a:lnTo>
                      <a:pt x="226" y="92"/>
                    </a:lnTo>
                    <a:lnTo>
                      <a:pt x="242" y="96"/>
                    </a:lnTo>
                    <a:lnTo>
                      <a:pt x="254" y="103"/>
                    </a:lnTo>
                    <a:lnTo>
                      <a:pt x="270" y="110"/>
                    </a:lnTo>
                    <a:lnTo>
                      <a:pt x="288" y="121"/>
                    </a:lnTo>
                    <a:lnTo>
                      <a:pt x="304" y="136"/>
                    </a:lnTo>
                    <a:lnTo>
                      <a:pt x="319" y="151"/>
                    </a:lnTo>
                    <a:lnTo>
                      <a:pt x="338" y="165"/>
                    </a:lnTo>
                    <a:lnTo>
                      <a:pt x="350" y="180"/>
                    </a:lnTo>
                    <a:lnTo>
                      <a:pt x="363" y="195"/>
                    </a:lnTo>
                    <a:lnTo>
                      <a:pt x="360" y="184"/>
                    </a:lnTo>
                    <a:lnTo>
                      <a:pt x="357" y="173"/>
                    </a:lnTo>
                    <a:lnTo>
                      <a:pt x="350" y="162"/>
                    </a:lnTo>
                    <a:lnTo>
                      <a:pt x="344" y="154"/>
                    </a:lnTo>
                    <a:lnTo>
                      <a:pt x="338" y="143"/>
                    </a:lnTo>
                    <a:lnTo>
                      <a:pt x="329" y="136"/>
                    </a:lnTo>
                    <a:lnTo>
                      <a:pt x="322" y="129"/>
                    </a:lnTo>
                    <a:lnTo>
                      <a:pt x="316" y="121"/>
                    </a:lnTo>
                    <a:lnTo>
                      <a:pt x="313" y="114"/>
                    </a:lnTo>
                    <a:lnTo>
                      <a:pt x="310" y="103"/>
                    </a:lnTo>
                    <a:lnTo>
                      <a:pt x="304" y="92"/>
                    </a:lnTo>
                    <a:lnTo>
                      <a:pt x="298" y="81"/>
                    </a:lnTo>
                    <a:lnTo>
                      <a:pt x="292" y="70"/>
                    </a:lnTo>
                    <a:lnTo>
                      <a:pt x="285" y="63"/>
                    </a:lnTo>
                    <a:lnTo>
                      <a:pt x="282" y="55"/>
                    </a:lnTo>
                    <a:lnTo>
                      <a:pt x="285" y="59"/>
                    </a:lnTo>
                    <a:lnTo>
                      <a:pt x="295" y="70"/>
                    </a:lnTo>
                    <a:lnTo>
                      <a:pt x="304" y="81"/>
                    </a:lnTo>
                    <a:lnTo>
                      <a:pt x="313" y="92"/>
                    </a:lnTo>
                    <a:lnTo>
                      <a:pt x="326" y="107"/>
                    </a:lnTo>
                    <a:lnTo>
                      <a:pt x="335" y="114"/>
                    </a:lnTo>
                    <a:lnTo>
                      <a:pt x="344" y="118"/>
                    </a:lnTo>
                    <a:lnTo>
                      <a:pt x="350" y="118"/>
                    </a:lnTo>
                    <a:lnTo>
                      <a:pt x="338" y="103"/>
                    </a:lnTo>
                    <a:lnTo>
                      <a:pt x="329" y="88"/>
                    </a:lnTo>
                    <a:lnTo>
                      <a:pt x="316" y="74"/>
                    </a:lnTo>
                    <a:lnTo>
                      <a:pt x="304" y="59"/>
                    </a:lnTo>
                    <a:lnTo>
                      <a:pt x="292" y="48"/>
                    </a:lnTo>
                    <a:lnTo>
                      <a:pt x="276" y="41"/>
                    </a:lnTo>
                    <a:lnTo>
                      <a:pt x="264" y="37"/>
                    </a:lnTo>
                    <a:lnTo>
                      <a:pt x="248" y="33"/>
                    </a:lnTo>
                    <a:lnTo>
                      <a:pt x="261" y="33"/>
                    </a:lnTo>
                    <a:lnTo>
                      <a:pt x="270" y="37"/>
                    </a:lnTo>
                    <a:lnTo>
                      <a:pt x="282" y="41"/>
                    </a:lnTo>
                    <a:lnTo>
                      <a:pt x="295" y="44"/>
                    </a:lnTo>
                    <a:lnTo>
                      <a:pt x="304" y="52"/>
                    </a:lnTo>
                    <a:lnTo>
                      <a:pt x="313" y="59"/>
                    </a:lnTo>
                    <a:lnTo>
                      <a:pt x="322" y="66"/>
                    </a:lnTo>
                    <a:lnTo>
                      <a:pt x="329" y="77"/>
                    </a:lnTo>
                    <a:lnTo>
                      <a:pt x="322" y="55"/>
                    </a:lnTo>
                    <a:lnTo>
                      <a:pt x="310" y="37"/>
                    </a:lnTo>
                    <a:lnTo>
                      <a:pt x="298" y="22"/>
                    </a:lnTo>
                    <a:lnTo>
                      <a:pt x="282" y="15"/>
                    </a:lnTo>
                    <a:lnTo>
                      <a:pt x="270" y="8"/>
                    </a:lnTo>
                    <a:lnTo>
                      <a:pt x="257" y="0"/>
                    </a:lnTo>
                    <a:lnTo>
                      <a:pt x="251" y="0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993080" y="4195440"/>
                <a:ext cx="583920" cy="534600"/>
              </a:xfrm>
              <a:custGeom>
                <a:avLst/>
                <a:gdLst/>
                <a:ahLst/>
                <a:rect l="l" t="t" r="r" b="b"/>
                <a:pathLst>
                  <a:path w="526" h="440">
                    <a:moveTo>
                      <a:pt x="291" y="238"/>
                    </a:moveTo>
                    <a:lnTo>
                      <a:pt x="297" y="234"/>
                    </a:lnTo>
                    <a:lnTo>
                      <a:pt x="300" y="234"/>
                    </a:lnTo>
                    <a:lnTo>
                      <a:pt x="303" y="231"/>
                    </a:lnTo>
                    <a:lnTo>
                      <a:pt x="307" y="231"/>
                    </a:lnTo>
                    <a:lnTo>
                      <a:pt x="310" y="227"/>
                    </a:lnTo>
                    <a:lnTo>
                      <a:pt x="313" y="227"/>
                    </a:lnTo>
                    <a:lnTo>
                      <a:pt x="316" y="223"/>
                    </a:lnTo>
                    <a:lnTo>
                      <a:pt x="319" y="220"/>
                    </a:lnTo>
                    <a:lnTo>
                      <a:pt x="319" y="231"/>
                    </a:lnTo>
                    <a:lnTo>
                      <a:pt x="319" y="245"/>
                    </a:lnTo>
                    <a:lnTo>
                      <a:pt x="322" y="256"/>
                    </a:lnTo>
                    <a:lnTo>
                      <a:pt x="322" y="267"/>
                    </a:lnTo>
                    <a:lnTo>
                      <a:pt x="325" y="278"/>
                    </a:lnTo>
                    <a:lnTo>
                      <a:pt x="328" y="293"/>
                    </a:lnTo>
                    <a:lnTo>
                      <a:pt x="334" y="304"/>
                    </a:lnTo>
                    <a:lnTo>
                      <a:pt x="338" y="311"/>
                    </a:lnTo>
                    <a:lnTo>
                      <a:pt x="325" y="308"/>
                    </a:lnTo>
                    <a:lnTo>
                      <a:pt x="313" y="300"/>
                    </a:lnTo>
                    <a:lnTo>
                      <a:pt x="303" y="297"/>
                    </a:lnTo>
                    <a:lnTo>
                      <a:pt x="297" y="289"/>
                    </a:lnTo>
                    <a:lnTo>
                      <a:pt x="294" y="282"/>
                    </a:lnTo>
                    <a:lnTo>
                      <a:pt x="291" y="271"/>
                    </a:lnTo>
                    <a:lnTo>
                      <a:pt x="291" y="256"/>
                    </a:lnTo>
                    <a:lnTo>
                      <a:pt x="291" y="238"/>
                    </a:lnTo>
                    <a:close/>
                    <a:moveTo>
                      <a:pt x="28" y="205"/>
                    </a:moveTo>
                    <a:lnTo>
                      <a:pt x="25" y="194"/>
                    </a:lnTo>
                    <a:lnTo>
                      <a:pt x="25" y="179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22" y="143"/>
                    </a:lnTo>
                    <a:lnTo>
                      <a:pt x="22" y="132"/>
                    </a:lnTo>
                    <a:lnTo>
                      <a:pt x="19" y="121"/>
                    </a:lnTo>
                    <a:lnTo>
                      <a:pt x="19" y="113"/>
                    </a:lnTo>
                    <a:lnTo>
                      <a:pt x="22" y="110"/>
                    </a:lnTo>
                    <a:lnTo>
                      <a:pt x="25" y="102"/>
                    </a:lnTo>
                    <a:lnTo>
                      <a:pt x="31" y="99"/>
                    </a:lnTo>
                    <a:lnTo>
                      <a:pt x="37" y="91"/>
                    </a:lnTo>
                    <a:lnTo>
                      <a:pt x="43" y="88"/>
                    </a:lnTo>
                    <a:lnTo>
                      <a:pt x="50" y="84"/>
                    </a:lnTo>
                    <a:lnTo>
                      <a:pt x="56" y="80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9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3" y="84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6" y="91"/>
                    </a:lnTo>
                    <a:lnTo>
                      <a:pt x="59" y="95"/>
                    </a:lnTo>
                    <a:lnTo>
                      <a:pt x="62" y="95"/>
                    </a:lnTo>
                    <a:lnTo>
                      <a:pt x="68" y="95"/>
                    </a:lnTo>
                    <a:lnTo>
                      <a:pt x="74" y="99"/>
                    </a:lnTo>
                    <a:lnTo>
                      <a:pt x="80" y="99"/>
                    </a:lnTo>
                    <a:lnTo>
                      <a:pt x="87" y="106"/>
                    </a:lnTo>
                    <a:lnTo>
                      <a:pt x="93" y="113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5"/>
                    </a:lnTo>
                    <a:lnTo>
                      <a:pt x="99" y="102"/>
                    </a:lnTo>
                    <a:lnTo>
                      <a:pt x="105" y="110"/>
                    </a:lnTo>
                    <a:lnTo>
                      <a:pt x="111" y="117"/>
                    </a:lnTo>
                    <a:lnTo>
                      <a:pt x="118" y="121"/>
                    </a:lnTo>
                    <a:lnTo>
                      <a:pt x="121" y="128"/>
                    </a:lnTo>
                    <a:lnTo>
                      <a:pt x="124" y="135"/>
                    </a:lnTo>
                    <a:lnTo>
                      <a:pt x="130" y="143"/>
                    </a:lnTo>
                    <a:lnTo>
                      <a:pt x="133" y="157"/>
                    </a:lnTo>
                    <a:lnTo>
                      <a:pt x="139" y="172"/>
                    </a:lnTo>
                    <a:lnTo>
                      <a:pt x="146" y="190"/>
                    </a:lnTo>
                    <a:lnTo>
                      <a:pt x="152" y="205"/>
                    </a:lnTo>
                    <a:lnTo>
                      <a:pt x="155" y="223"/>
                    </a:lnTo>
                    <a:lnTo>
                      <a:pt x="161" y="238"/>
                    </a:lnTo>
                    <a:lnTo>
                      <a:pt x="164" y="256"/>
                    </a:lnTo>
                    <a:lnTo>
                      <a:pt x="164" y="271"/>
                    </a:lnTo>
                    <a:lnTo>
                      <a:pt x="164" y="289"/>
                    </a:lnTo>
                    <a:lnTo>
                      <a:pt x="158" y="271"/>
                    </a:lnTo>
                    <a:lnTo>
                      <a:pt x="152" y="249"/>
                    </a:lnTo>
                    <a:lnTo>
                      <a:pt x="142" y="223"/>
                    </a:lnTo>
                    <a:lnTo>
                      <a:pt x="133" y="198"/>
                    </a:lnTo>
                    <a:lnTo>
                      <a:pt x="124" y="172"/>
                    </a:lnTo>
                    <a:lnTo>
                      <a:pt x="115" y="146"/>
                    </a:lnTo>
                    <a:lnTo>
                      <a:pt x="105" y="128"/>
                    </a:lnTo>
                    <a:lnTo>
                      <a:pt x="93" y="117"/>
                    </a:lnTo>
                    <a:lnTo>
                      <a:pt x="90" y="110"/>
                    </a:lnTo>
                    <a:lnTo>
                      <a:pt x="87" y="106"/>
                    </a:lnTo>
                    <a:lnTo>
                      <a:pt x="80" y="102"/>
                    </a:lnTo>
                    <a:lnTo>
                      <a:pt x="77" y="99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2" y="99"/>
                    </a:lnTo>
                    <a:lnTo>
                      <a:pt x="56" y="102"/>
                    </a:lnTo>
                    <a:lnTo>
                      <a:pt x="53" y="113"/>
                    </a:lnTo>
                    <a:lnTo>
                      <a:pt x="50" y="128"/>
                    </a:lnTo>
                    <a:lnTo>
                      <a:pt x="53" y="146"/>
                    </a:lnTo>
                    <a:lnTo>
                      <a:pt x="56" y="168"/>
                    </a:lnTo>
                    <a:lnTo>
                      <a:pt x="56" y="187"/>
                    </a:lnTo>
                    <a:lnTo>
                      <a:pt x="59" y="209"/>
                    </a:lnTo>
                    <a:lnTo>
                      <a:pt x="59" y="227"/>
                    </a:lnTo>
                    <a:lnTo>
                      <a:pt x="53" y="242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3" y="220"/>
                    </a:lnTo>
                    <a:lnTo>
                      <a:pt x="53" y="201"/>
                    </a:lnTo>
                    <a:lnTo>
                      <a:pt x="53" y="179"/>
                    </a:lnTo>
                    <a:lnTo>
                      <a:pt x="50" y="161"/>
                    </a:lnTo>
                    <a:lnTo>
                      <a:pt x="50" y="143"/>
                    </a:lnTo>
                    <a:lnTo>
                      <a:pt x="46" y="124"/>
                    </a:lnTo>
                    <a:lnTo>
                      <a:pt x="46" y="110"/>
                    </a:lnTo>
                    <a:lnTo>
                      <a:pt x="50" y="99"/>
                    </a:lnTo>
                    <a:lnTo>
                      <a:pt x="46" y="99"/>
                    </a:lnTo>
                    <a:lnTo>
                      <a:pt x="43" y="99"/>
                    </a:lnTo>
                    <a:lnTo>
                      <a:pt x="40" y="102"/>
                    </a:lnTo>
                    <a:lnTo>
                      <a:pt x="37" y="106"/>
                    </a:lnTo>
                    <a:lnTo>
                      <a:pt x="34" y="106"/>
                    </a:lnTo>
                    <a:lnTo>
                      <a:pt x="34" y="113"/>
                    </a:lnTo>
                    <a:lnTo>
                      <a:pt x="31" y="117"/>
                    </a:lnTo>
                    <a:lnTo>
                      <a:pt x="31" y="121"/>
                    </a:lnTo>
                    <a:lnTo>
                      <a:pt x="28" y="124"/>
                    </a:lnTo>
                    <a:lnTo>
                      <a:pt x="28" y="132"/>
                    </a:lnTo>
                    <a:lnTo>
                      <a:pt x="28" y="139"/>
                    </a:lnTo>
                    <a:lnTo>
                      <a:pt x="28" y="150"/>
                    </a:lnTo>
                    <a:lnTo>
                      <a:pt x="31" y="161"/>
                    </a:lnTo>
                    <a:lnTo>
                      <a:pt x="31" y="176"/>
                    </a:lnTo>
                    <a:lnTo>
                      <a:pt x="31" y="190"/>
                    </a:lnTo>
                    <a:lnTo>
                      <a:pt x="28" y="205"/>
                    </a:lnTo>
                    <a:close/>
                    <a:moveTo>
                      <a:pt x="257" y="84"/>
                    </a:moveTo>
                    <a:lnTo>
                      <a:pt x="260" y="84"/>
                    </a:lnTo>
                    <a:lnTo>
                      <a:pt x="260" y="84"/>
                    </a:lnTo>
                    <a:lnTo>
                      <a:pt x="263" y="80"/>
                    </a:lnTo>
                    <a:lnTo>
                      <a:pt x="263" y="80"/>
                    </a:lnTo>
                    <a:lnTo>
                      <a:pt x="266" y="80"/>
                    </a:lnTo>
                    <a:lnTo>
                      <a:pt x="266" y="80"/>
                    </a:lnTo>
                    <a:lnTo>
                      <a:pt x="269" y="80"/>
                    </a:lnTo>
                    <a:lnTo>
                      <a:pt x="269" y="80"/>
                    </a:lnTo>
                    <a:lnTo>
                      <a:pt x="272" y="84"/>
                    </a:lnTo>
                    <a:lnTo>
                      <a:pt x="276" y="91"/>
                    </a:lnTo>
                    <a:lnTo>
                      <a:pt x="282" y="95"/>
                    </a:lnTo>
                    <a:lnTo>
                      <a:pt x="285" y="99"/>
                    </a:lnTo>
                    <a:lnTo>
                      <a:pt x="291" y="106"/>
                    </a:lnTo>
                    <a:lnTo>
                      <a:pt x="294" y="110"/>
                    </a:lnTo>
                    <a:lnTo>
                      <a:pt x="300" y="117"/>
                    </a:lnTo>
                    <a:lnTo>
                      <a:pt x="303" y="121"/>
                    </a:lnTo>
                    <a:lnTo>
                      <a:pt x="303" y="132"/>
                    </a:lnTo>
                    <a:lnTo>
                      <a:pt x="307" y="146"/>
                    </a:lnTo>
                    <a:lnTo>
                      <a:pt x="310" y="157"/>
                    </a:lnTo>
                    <a:lnTo>
                      <a:pt x="310" y="172"/>
                    </a:lnTo>
                    <a:lnTo>
                      <a:pt x="313" y="183"/>
                    </a:lnTo>
                    <a:lnTo>
                      <a:pt x="316" y="194"/>
                    </a:lnTo>
                    <a:lnTo>
                      <a:pt x="319" y="205"/>
                    </a:lnTo>
                    <a:lnTo>
                      <a:pt x="319" y="216"/>
                    </a:lnTo>
                    <a:lnTo>
                      <a:pt x="313" y="223"/>
                    </a:lnTo>
                    <a:lnTo>
                      <a:pt x="303" y="231"/>
                    </a:lnTo>
                    <a:lnTo>
                      <a:pt x="294" y="234"/>
                    </a:lnTo>
                    <a:lnTo>
                      <a:pt x="285" y="242"/>
                    </a:lnTo>
                    <a:lnTo>
                      <a:pt x="272" y="249"/>
                    </a:lnTo>
                    <a:lnTo>
                      <a:pt x="257" y="256"/>
                    </a:lnTo>
                    <a:lnTo>
                      <a:pt x="245" y="264"/>
                    </a:lnTo>
                    <a:lnTo>
                      <a:pt x="229" y="271"/>
                    </a:lnTo>
                    <a:lnTo>
                      <a:pt x="232" y="260"/>
                    </a:lnTo>
                    <a:lnTo>
                      <a:pt x="232" y="249"/>
                    </a:lnTo>
                    <a:lnTo>
                      <a:pt x="232" y="238"/>
                    </a:lnTo>
                    <a:lnTo>
                      <a:pt x="232" y="223"/>
                    </a:lnTo>
                    <a:lnTo>
                      <a:pt x="232" y="209"/>
                    </a:lnTo>
                    <a:lnTo>
                      <a:pt x="232" y="198"/>
                    </a:lnTo>
                    <a:lnTo>
                      <a:pt x="232" y="183"/>
                    </a:lnTo>
                    <a:lnTo>
                      <a:pt x="232" y="172"/>
                    </a:lnTo>
                    <a:lnTo>
                      <a:pt x="232" y="172"/>
                    </a:lnTo>
                    <a:lnTo>
                      <a:pt x="229" y="168"/>
                    </a:lnTo>
                    <a:lnTo>
                      <a:pt x="229" y="165"/>
                    </a:lnTo>
                    <a:lnTo>
                      <a:pt x="226" y="161"/>
                    </a:lnTo>
                    <a:lnTo>
                      <a:pt x="223" y="157"/>
                    </a:lnTo>
                    <a:lnTo>
                      <a:pt x="223" y="154"/>
                    </a:lnTo>
                    <a:lnTo>
                      <a:pt x="220" y="150"/>
                    </a:lnTo>
                    <a:lnTo>
                      <a:pt x="220" y="146"/>
                    </a:lnTo>
                    <a:lnTo>
                      <a:pt x="220" y="157"/>
                    </a:lnTo>
                    <a:lnTo>
                      <a:pt x="220" y="165"/>
                    </a:lnTo>
                    <a:lnTo>
                      <a:pt x="220" y="172"/>
                    </a:lnTo>
                    <a:lnTo>
                      <a:pt x="223" y="179"/>
                    </a:lnTo>
                    <a:lnTo>
                      <a:pt x="226" y="187"/>
                    </a:lnTo>
                    <a:lnTo>
                      <a:pt x="226" y="194"/>
                    </a:lnTo>
                    <a:lnTo>
                      <a:pt x="229" y="201"/>
                    </a:lnTo>
                    <a:lnTo>
                      <a:pt x="232" y="205"/>
                    </a:lnTo>
                    <a:lnTo>
                      <a:pt x="232" y="209"/>
                    </a:lnTo>
                    <a:lnTo>
                      <a:pt x="232" y="209"/>
                    </a:lnTo>
                    <a:lnTo>
                      <a:pt x="232" y="212"/>
                    </a:lnTo>
                    <a:lnTo>
                      <a:pt x="232" y="216"/>
                    </a:lnTo>
                    <a:lnTo>
                      <a:pt x="232" y="220"/>
                    </a:lnTo>
                    <a:lnTo>
                      <a:pt x="232" y="220"/>
                    </a:lnTo>
                    <a:lnTo>
                      <a:pt x="232" y="223"/>
                    </a:lnTo>
                    <a:lnTo>
                      <a:pt x="232" y="227"/>
                    </a:lnTo>
                    <a:lnTo>
                      <a:pt x="229" y="220"/>
                    </a:lnTo>
                    <a:lnTo>
                      <a:pt x="226" y="212"/>
                    </a:lnTo>
                    <a:lnTo>
                      <a:pt x="223" y="205"/>
                    </a:lnTo>
                    <a:lnTo>
                      <a:pt x="220" y="194"/>
                    </a:lnTo>
                    <a:lnTo>
                      <a:pt x="217" y="187"/>
                    </a:lnTo>
                    <a:lnTo>
                      <a:pt x="214" y="179"/>
                    </a:lnTo>
                    <a:lnTo>
                      <a:pt x="211" y="172"/>
                    </a:lnTo>
                    <a:lnTo>
                      <a:pt x="207" y="168"/>
                    </a:lnTo>
                    <a:lnTo>
                      <a:pt x="211" y="157"/>
                    </a:lnTo>
                    <a:lnTo>
                      <a:pt x="214" y="150"/>
                    </a:lnTo>
                    <a:lnTo>
                      <a:pt x="217" y="143"/>
                    </a:lnTo>
                    <a:lnTo>
                      <a:pt x="223" y="132"/>
                    </a:lnTo>
                    <a:lnTo>
                      <a:pt x="229" y="124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6"/>
                    </a:lnTo>
                    <a:lnTo>
                      <a:pt x="245" y="106"/>
                    </a:lnTo>
                    <a:lnTo>
                      <a:pt x="245" y="102"/>
                    </a:lnTo>
                    <a:lnTo>
                      <a:pt x="248" y="102"/>
                    </a:lnTo>
                    <a:lnTo>
                      <a:pt x="251" y="99"/>
                    </a:lnTo>
                    <a:lnTo>
                      <a:pt x="254" y="95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60" y="95"/>
                    </a:lnTo>
                    <a:lnTo>
                      <a:pt x="266" y="102"/>
                    </a:lnTo>
                    <a:lnTo>
                      <a:pt x="269" y="113"/>
                    </a:lnTo>
                    <a:lnTo>
                      <a:pt x="272" y="128"/>
                    </a:lnTo>
                    <a:lnTo>
                      <a:pt x="276" y="143"/>
                    </a:lnTo>
                    <a:lnTo>
                      <a:pt x="279" y="157"/>
                    </a:lnTo>
                    <a:lnTo>
                      <a:pt x="279" y="172"/>
                    </a:lnTo>
                    <a:lnTo>
                      <a:pt x="282" y="183"/>
                    </a:lnTo>
                    <a:lnTo>
                      <a:pt x="282" y="176"/>
                    </a:lnTo>
                    <a:lnTo>
                      <a:pt x="285" y="172"/>
                    </a:lnTo>
                    <a:lnTo>
                      <a:pt x="285" y="165"/>
                    </a:lnTo>
                    <a:lnTo>
                      <a:pt x="285" y="161"/>
                    </a:lnTo>
                    <a:lnTo>
                      <a:pt x="285" y="154"/>
                    </a:lnTo>
                    <a:lnTo>
                      <a:pt x="282" y="146"/>
                    </a:lnTo>
                    <a:lnTo>
                      <a:pt x="282" y="143"/>
                    </a:lnTo>
                    <a:lnTo>
                      <a:pt x="279" y="135"/>
                    </a:lnTo>
                    <a:lnTo>
                      <a:pt x="276" y="128"/>
                    </a:lnTo>
                    <a:lnTo>
                      <a:pt x="276" y="121"/>
                    </a:lnTo>
                    <a:lnTo>
                      <a:pt x="272" y="113"/>
                    </a:lnTo>
                    <a:lnTo>
                      <a:pt x="269" y="110"/>
                    </a:lnTo>
                    <a:lnTo>
                      <a:pt x="269" y="102"/>
                    </a:lnTo>
                    <a:lnTo>
                      <a:pt x="266" y="95"/>
                    </a:lnTo>
                    <a:lnTo>
                      <a:pt x="263" y="91"/>
                    </a:lnTo>
                    <a:lnTo>
                      <a:pt x="257" y="84"/>
                    </a:lnTo>
                    <a:close/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9"/>
                    </a:lnTo>
                    <a:close/>
                    <a:moveTo>
                      <a:pt x="328" y="47"/>
                    </a:moveTo>
                    <a:lnTo>
                      <a:pt x="359" y="88"/>
                    </a:lnTo>
                    <a:lnTo>
                      <a:pt x="362" y="95"/>
                    </a:lnTo>
                    <a:lnTo>
                      <a:pt x="365" y="102"/>
                    </a:lnTo>
                    <a:lnTo>
                      <a:pt x="368" y="113"/>
                    </a:lnTo>
                    <a:lnTo>
                      <a:pt x="372" y="121"/>
                    </a:lnTo>
                    <a:lnTo>
                      <a:pt x="372" y="128"/>
                    </a:lnTo>
                    <a:lnTo>
                      <a:pt x="375" y="135"/>
                    </a:lnTo>
                    <a:lnTo>
                      <a:pt x="375" y="146"/>
                    </a:lnTo>
                    <a:lnTo>
                      <a:pt x="375" y="154"/>
                    </a:lnTo>
                    <a:lnTo>
                      <a:pt x="381" y="157"/>
                    </a:lnTo>
                    <a:lnTo>
                      <a:pt x="387" y="165"/>
                    </a:lnTo>
                    <a:lnTo>
                      <a:pt x="390" y="172"/>
                    </a:lnTo>
                    <a:lnTo>
                      <a:pt x="396" y="179"/>
                    </a:lnTo>
                    <a:lnTo>
                      <a:pt x="403" y="187"/>
                    </a:lnTo>
                    <a:lnTo>
                      <a:pt x="409" y="194"/>
                    </a:lnTo>
                    <a:lnTo>
                      <a:pt x="415" y="201"/>
                    </a:lnTo>
                    <a:lnTo>
                      <a:pt x="421" y="209"/>
                    </a:lnTo>
                    <a:lnTo>
                      <a:pt x="424" y="216"/>
                    </a:lnTo>
                    <a:lnTo>
                      <a:pt x="427" y="220"/>
                    </a:lnTo>
                    <a:lnTo>
                      <a:pt x="430" y="227"/>
                    </a:lnTo>
                    <a:lnTo>
                      <a:pt x="430" y="231"/>
                    </a:lnTo>
                    <a:lnTo>
                      <a:pt x="434" y="238"/>
                    </a:lnTo>
                    <a:lnTo>
                      <a:pt x="437" y="245"/>
                    </a:lnTo>
                    <a:lnTo>
                      <a:pt x="443" y="253"/>
                    </a:lnTo>
                    <a:lnTo>
                      <a:pt x="449" y="264"/>
                    </a:lnTo>
                    <a:lnTo>
                      <a:pt x="455" y="264"/>
                    </a:lnTo>
                    <a:lnTo>
                      <a:pt x="461" y="264"/>
                    </a:lnTo>
                    <a:lnTo>
                      <a:pt x="468" y="267"/>
                    </a:lnTo>
                    <a:lnTo>
                      <a:pt x="474" y="267"/>
                    </a:lnTo>
                    <a:lnTo>
                      <a:pt x="480" y="275"/>
                    </a:lnTo>
                    <a:lnTo>
                      <a:pt x="486" y="282"/>
                    </a:lnTo>
                    <a:lnTo>
                      <a:pt x="489" y="289"/>
                    </a:lnTo>
                    <a:lnTo>
                      <a:pt x="495" y="300"/>
                    </a:lnTo>
                    <a:lnTo>
                      <a:pt x="514" y="308"/>
                    </a:lnTo>
                    <a:lnTo>
                      <a:pt x="520" y="315"/>
                    </a:lnTo>
                    <a:lnTo>
                      <a:pt x="523" y="319"/>
                    </a:lnTo>
                    <a:lnTo>
                      <a:pt x="526" y="326"/>
                    </a:lnTo>
                    <a:lnTo>
                      <a:pt x="526" y="333"/>
                    </a:lnTo>
                    <a:lnTo>
                      <a:pt x="526" y="337"/>
                    </a:lnTo>
                    <a:lnTo>
                      <a:pt x="523" y="341"/>
                    </a:lnTo>
                    <a:lnTo>
                      <a:pt x="517" y="344"/>
                    </a:lnTo>
                    <a:lnTo>
                      <a:pt x="511" y="344"/>
                    </a:lnTo>
                    <a:lnTo>
                      <a:pt x="511" y="344"/>
                    </a:lnTo>
                    <a:lnTo>
                      <a:pt x="508" y="344"/>
                    </a:lnTo>
                    <a:lnTo>
                      <a:pt x="508" y="341"/>
                    </a:lnTo>
                    <a:lnTo>
                      <a:pt x="505" y="341"/>
                    </a:lnTo>
                    <a:lnTo>
                      <a:pt x="502" y="337"/>
                    </a:lnTo>
                    <a:lnTo>
                      <a:pt x="499" y="333"/>
                    </a:lnTo>
                    <a:lnTo>
                      <a:pt x="495" y="333"/>
                    </a:lnTo>
                    <a:lnTo>
                      <a:pt x="492" y="330"/>
                    </a:lnTo>
                    <a:lnTo>
                      <a:pt x="489" y="330"/>
                    </a:lnTo>
                    <a:lnTo>
                      <a:pt x="486" y="326"/>
                    </a:lnTo>
                    <a:lnTo>
                      <a:pt x="483" y="322"/>
                    </a:lnTo>
                    <a:lnTo>
                      <a:pt x="480" y="315"/>
                    </a:lnTo>
                    <a:lnTo>
                      <a:pt x="477" y="311"/>
                    </a:lnTo>
                    <a:lnTo>
                      <a:pt x="477" y="308"/>
                    </a:lnTo>
                    <a:lnTo>
                      <a:pt x="474" y="304"/>
                    </a:lnTo>
                    <a:lnTo>
                      <a:pt x="471" y="300"/>
                    </a:lnTo>
                    <a:lnTo>
                      <a:pt x="464" y="300"/>
                    </a:lnTo>
                    <a:lnTo>
                      <a:pt x="461" y="300"/>
                    </a:lnTo>
                    <a:lnTo>
                      <a:pt x="455" y="304"/>
                    </a:lnTo>
                    <a:lnTo>
                      <a:pt x="449" y="304"/>
                    </a:lnTo>
                    <a:lnTo>
                      <a:pt x="443" y="308"/>
                    </a:lnTo>
                    <a:lnTo>
                      <a:pt x="437" y="308"/>
                    </a:lnTo>
                    <a:lnTo>
                      <a:pt x="434" y="308"/>
                    </a:lnTo>
                    <a:lnTo>
                      <a:pt x="427" y="308"/>
                    </a:lnTo>
                    <a:lnTo>
                      <a:pt x="421" y="308"/>
                    </a:lnTo>
                    <a:lnTo>
                      <a:pt x="418" y="311"/>
                    </a:lnTo>
                    <a:lnTo>
                      <a:pt x="415" y="311"/>
                    </a:lnTo>
                    <a:lnTo>
                      <a:pt x="412" y="315"/>
                    </a:lnTo>
                    <a:lnTo>
                      <a:pt x="406" y="315"/>
                    </a:lnTo>
                    <a:lnTo>
                      <a:pt x="403" y="319"/>
                    </a:lnTo>
                    <a:lnTo>
                      <a:pt x="399" y="319"/>
                    </a:lnTo>
                    <a:lnTo>
                      <a:pt x="393" y="322"/>
                    </a:lnTo>
                    <a:lnTo>
                      <a:pt x="399" y="315"/>
                    </a:lnTo>
                    <a:lnTo>
                      <a:pt x="406" y="311"/>
                    </a:lnTo>
                    <a:lnTo>
                      <a:pt x="409" y="304"/>
                    </a:lnTo>
                    <a:lnTo>
                      <a:pt x="415" y="297"/>
                    </a:lnTo>
                    <a:lnTo>
                      <a:pt x="421" y="293"/>
                    </a:lnTo>
                    <a:lnTo>
                      <a:pt x="427" y="289"/>
                    </a:lnTo>
                    <a:lnTo>
                      <a:pt x="437" y="282"/>
                    </a:lnTo>
                    <a:lnTo>
                      <a:pt x="446" y="278"/>
                    </a:lnTo>
                    <a:lnTo>
                      <a:pt x="434" y="282"/>
                    </a:lnTo>
                    <a:lnTo>
                      <a:pt x="421" y="282"/>
                    </a:lnTo>
                    <a:lnTo>
                      <a:pt x="409" y="286"/>
                    </a:lnTo>
                    <a:lnTo>
                      <a:pt x="396" y="293"/>
                    </a:lnTo>
                    <a:lnTo>
                      <a:pt x="384" y="297"/>
                    </a:lnTo>
                    <a:lnTo>
                      <a:pt x="372" y="300"/>
                    </a:lnTo>
                    <a:lnTo>
                      <a:pt x="356" y="304"/>
                    </a:lnTo>
                    <a:lnTo>
                      <a:pt x="344" y="308"/>
                    </a:lnTo>
                    <a:lnTo>
                      <a:pt x="341" y="304"/>
                    </a:lnTo>
                    <a:lnTo>
                      <a:pt x="341" y="304"/>
                    </a:lnTo>
                    <a:lnTo>
                      <a:pt x="338" y="300"/>
                    </a:lnTo>
                    <a:lnTo>
                      <a:pt x="338" y="297"/>
                    </a:lnTo>
                    <a:lnTo>
                      <a:pt x="334" y="293"/>
                    </a:lnTo>
                    <a:lnTo>
                      <a:pt x="334" y="293"/>
                    </a:lnTo>
                    <a:lnTo>
                      <a:pt x="334" y="289"/>
                    </a:lnTo>
                    <a:lnTo>
                      <a:pt x="331" y="286"/>
                    </a:lnTo>
                    <a:lnTo>
                      <a:pt x="341" y="267"/>
                    </a:lnTo>
                    <a:lnTo>
                      <a:pt x="347" y="249"/>
                    </a:lnTo>
                    <a:lnTo>
                      <a:pt x="353" y="227"/>
                    </a:lnTo>
                    <a:lnTo>
                      <a:pt x="356" y="209"/>
                    </a:lnTo>
                    <a:lnTo>
                      <a:pt x="359" y="187"/>
                    </a:lnTo>
                    <a:lnTo>
                      <a:pt x="359" y="165"/>
                    </a:lnTo>
                    <a:lnTo>
                      <a:pt x="359" y="139"/>
                    </a:lnTo>
                    <a:lnTo>
                      <a:pt x="356" y="113"/>
                    </a:lnTo>
                    <a:lnTo>
                      <a:pt x="356" y="146"/>
                    </a:lnTo>
                    <a:lnTo>
                      <a:pt x="356" y="176"/>
                    </a:lnTo>
                    <a:lnTo>
                      <a:pt x="353" y="198"/>
                    </a:lnTo>
                    <a:lnTo>
                      <a:pt x="350" y="220"/>
                    </a:lnTo>
                    <a:lnTo>
                      <a:pt x="344" y="234"/>
                    </a:lnTo>
                    <a:lnTo>
                      <a:pt x="338" y="249"/>
                    </a:lnTo>
                    <a:lnTo>
                      <a:pt x="331" y="256"/>
                    </a:lnTo>
                    <a:lnTo>
                      <a:pt x="325" y="256"/>
                    </a:lnTo>
                    <a:lnTo>
                      <a:pt x="325" y="253"/>
                    </a:lnTo>
                    <a:lnTo>
                      <a:pt x="322" y="249"/>
                    </a:lnTo>
                    <a:lnTo>
                      <a:pt x="322" y="245"/>
                    </a:lnTo>
                    <a:lnTo>
                      <a:pt x="322" y="242"/>
                    </a:lnTo>
                    <a:lnTo>
                      <a:pt x="322" y="238"/>
                    </a:lnTo>
                    <a:lnTo>
                      <a:pt x="322" y="234"/>
                    </a:lnTo>
                    <a:lnTo>
                      <a:pt x="322" y="227"/>
                    </a:lnTo>
                    <a:lnTo>
                      <a:pt x="322" y="223"/>
                    </a:lnTo>
                    <a:lnTo>
                      <a:pt x="328" y="212"/>
                    </a:lnTo>
                    <a:lnTo>
                      <a:pt x="331" y="201"/>
                    </a:lnTo>
                    <a:lnTo>
                      <a:pt x="334" y="187"/>
                    </a:lnTo>
                    <a:lnTo>
                      <a:pt x="334" y="172"/>
                    </a:lnTo>
                    <a:lnTo>
                      <a:pt x="338" y="157"/>
                    </a:lnTo>
                    <a:lnTo>
                      <a:pt x="338" y="143"/>
                    </a:lnTo>
                    <a:lnTo>
                      <a:pt x="334" y="128"/>
                    </a:lnTo>
                    <a:lnTo>
                      <a:pt x="331" y="113"/>
                    </a:lnTo>
                    <a:lnTo>
                      <a:pt x="334" y="128"/>
                    </a:lnTo>
                    <a:lnTo>
                      <a:pt x="334" y="146"/>
                    </a:lnTo>
                    <a:lnTo>
                      <a:pt x="334" y="157"/>
                    </a:lnTo>
                    <a:lnTo>
                      <a:pt x="331" y="172"/>
                    </a:lnTo>
                    <a:lnTo>
                      <a:pt x="331" y="183"/>
                    </a:lnTo>
                    <a:lnTo>
                      <a:pt x="328" y="194"/>
                    </a:lnTo>
                    <a:lnTo>
                      <a:pt x="325" y="205"/>
                    </a:lnTo>
                    <a:lnTo>
                      <a:pt x="322" y="220"/>
                    </a:lnTo>
                    <a:lnTo>
                      <a:pt x="322" y="209"/>
                    </a:lnTo>
                    <a:lnTo>
                      <a:pt x="319" y="201"/>
                    </a:lnTo>
                    <a:lnTo>
                      <a:pt x="319" y="194"/>
                    </a:lnTo>
                    <a:lnTo>
                      <a:pt x="319" y="187"/>
                    </a:lnTo>
                    <a:lnTo>
                      <a:pt x="316" y="179"/>
                    </a:lnTo>
                    <a:lnTo>
                      <a:pt x="316" y="172"/>
                    </a:lnTo>
                    <a:lnTo>
                      <a:pt x="313" y="165"/>
                    </a:lnTo>
                    <a:lnTo>
                      <a:pt x="313" y="154"/>
                    </a:lnTo>
                    <a:lnTo>
                      <a:pt x="313" y="154"/>
                    </a:lnTo>
                    <a:lnTo>
                      <a:pt x="316" y="154"/>
                    </a:lnTo>
                    <a:lnTo>
                      <a:pt x="319" y="157"/>
                    </a:lnTo>
                    <a:lnTo>
                      <a:pt x="322" y="157"/>
                    </a:lnTo>
                    <a:lnTo>
                      <a:pt x="325" y="161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1"/>
                    </a:lnTo>
                    <a:lnTo>
                      <a:pt x="325" y="161"/>
                    </a:lnTo>
                    <a:lnTo>
                      <a:pt x="325" y="157"/>
                    </a:lnTo>
                    <a:lnTo>
                      <a:pt x="322" y="157"/>
                    </a:lnTo>
                    <a:lnTo>
                      <a:pt x="322" y="154"/>
                    </a:lnTo>
                    <a:lnTo>
                      <a:pt x="319" y="154"/>
                    </a:lnTo>
                    <a:lnTo>
                      <a:pt x="316" y="150"/>
                    </a:lnTo>
                    <a:lnTo>
                      <a:pt x="313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9" y="146"/>
                    </a:lnTo>
                    <a:lnTo>
                      <a:pt x="319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5" y="146"/>
                    </a:lnTo>
                    <a:lnTo>
                      <a:pt x="325" y="143"/>
                    </a:lnTo>
                    <a:lnTo>
                      <a:pt x="325" y="139"/>
                    </a:lnTo>
                    <a:lnTo>
                      <a:pt x="325" y="135"/>
                    </a:lnTo>
                    <a:lnTo>
                      <a:pt x="325" y="132"/>
                    </a:lnTo>
                    <a:lnTo>
                      <a:pt x="325" y="128"/>
                    </a:lnTo>
                    <a:lnTo>
                      <a:pt x="325" y="124"/>
                    </a:lnTo>
                    <a:lnTo>
                      <a:pt x="325" y="121"/>
                    </a:lnTo>
                    <a:lnTo>
                      <a:pt x="325" y="117"/>
                    </a:lnTo>
                    <a:lnTo>
                      <a:pt x="322" y="113"/>
                    </a:lnTo>
                    <a:lnTo>
                      <a:pt x="319" y="110"/>
                    </a:lnTo>
                    <a:lnTo>
                      <a:pt x="313" y="106"/>
                    </a:lnTo>
                    <a:lnTo>
                      <a:pt x="310" y="102"/>
                    </a:lnTo>
                    <a:lnTo>
                      <a:pt x="303" y="102"/>
                    </a:lnTo>
                    <a:lnTo>
                      <a:pt x="297" y="99"/>
                    </a:lnTo>
                    <a:lnTo>
                      <a:pt x="294" y="99"/>
                    </a:lnTo>
                    <a:lnTo>
                      <a:pt x="288" y="102"/>
                    </a:lnTo>
                    <a:lnTo>
                      <a:pt x="288" y="99"/>
                    </a:lnTo>
                    <a:lnTo>
                      <a:pt x="288" y="95"/>
                    </a:lnTo>
                    <a:lnTo>
                      <a:pt x="285" y="95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88"/>
                    </a:lnTo>
                    <a:lnTo>
                      <a:pt x="285" y="88"/>
                    </a:lnTo>
                    <a:lnTo>
                      <a:pt x="282" y="80"/>
                    </a:lnTo>
                    <a:lnTo>
                      <a:pt x="279" y="77"/>
                    </a:lnTo>
                    <a:lnTo>
                      <a:pt x="279" y="69"/>
                    </a:lnTo>
                    <a:lnTo>
                      <a:pt x="279" y="66"/>
                    </a:lnTo>
                    <a:lnTo>
                      <a:pt x="279" y="58"/>
                    </a:lnTo>
                    <a:lnTo>
                      <a:pt x="279" y="55"/>
                    </a:lnTo>
                    <a:lnTo>
                      <a:pt x="279" y="51"/>
                    </a:lnTo>
                    <a:lnTo>
                      <a:pt x="279" y="44"/>
                    </a:lnTo>
                    <a:lnTo>
                      <a:pt x="285" y="44"/>
                    </a:lnTo>
                    <a:lnTo>
                      <a:pt x="291" y="44"/>
                    </a:lnTo>
                    <a:lnTo>
                      <a:pt x="297" y="44"/>
                    </a:lnTo>
                    <a:lnTo>
                      <a:pt x="303" y="44"/>
                    </a:lnTo>
                    <a:lnTo>
                      <a:pt x="310" y="47"/>
                    </a:lnTo>
                    <a:lnTo>
                      <a:pt x="316" y="47"/>
                    </a:lnTo>
                    <a:lnTo>
                      <a:pt x="322" y="47"/>
                    </a:lnTo>
                    <a:lnTo>
                      <a:pt x="328" y="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8201520" y="4462560"/>
                <a:ext cx="52200" cy="110520"/>
              </a:xfrm>
              <a:custGeom>
                <a:avLst/>
                <a:gdLst/>
                <a:ahLst/>
                <a:rect l="l" t="t" r="r" b="b"/>
                <a:pathLst>
                  <a:path w="47" h="91">
                    <a:moveTo>
                      <a:pt x="0" y="18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8" y="25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4" y="58"/>
                    </a:lnTo>
                    <a:lnTo>
                      <a:pt x="37" y="73"/>
                    </a:lnTo>
                    <a:lnTo>
                      <a:pt x="43" y="84"/>
                    </a:lnTo>
                    <a:lnTo>
                      <a:pt x="47" y="91"/>
                    </a:lnTo>
                    <a:lnTo>
                      <a:pt x="34" y="88"/>
                    </a:lnTo>
                    <a:lnTo>
                      <a:pt x="22" y="80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36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395200" y="4292280"/>
                <a:ext cx="160560" cy="2541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9" y="125"/>
                    </a:moveTo>
                    <a:lnTo>
                      <a:pt x="6" y="114"/>
                    </a:lnTo>
                    <a:lnTo>
                      <a:pt x="6" y="99"/>
                    </a:lnTo>
                    <a:lnTo>
                      <a:pt x="3" y="88"/>
                    </a:lnTo>
                    <a:lnTo>
                      <a:pt x="3" y="77"/>
                    </a:lnTo>
                    <a:lnTo>
                      <a:pt x="3" y="63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3" y="30"/>
                    </a:lnTo>
                    <a:lnTo>
                      <a:pt x="6" y="22"/>
                    </a:lnTo>
                    <a:lnTo>
                      <a:pt x="12" y="19"/>
                    </a:lnTo>
                    <a:lnTo>
                      <a:pt x="18" y="11"/>
                    </a:lnTo>
                    <a:lnTo>
                      <a:pt x="24" y="8"/>
                    </a:lnTo>
                    <a:lnTo>
                      <a:pt x="31" y="4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9" y="15"/>
                    </a:lnTo>
                    <a:lnTo>
                      <a:pt x="55" y="19"/>
                    </a:lnTo>
                    <a:lnTo>
                      <a:pt x="61" y="19"/>
                    </a:lnTo>
                    <a:lnTo>
                      <a:pt x="68" y="26"/>
                    </a:lnTo>
                    <a:lnTo>
                      <a:pt x="74" y="33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4" y="22"/>
                    </a:lnTo>
                    <a:lnTo>
                      <a:pt x="74" y="19"/>
                    </a:lnTo>
                    <a:lnTo>
                      <a:pt x="74" y="15"/>
                    </a:lnTo>
                    <a:lnTo>
                      <a:pt x="80" y="22"/>
                    </a:lnTo>
                    <a:lnTo>
                      <a:pt x="86" y="30"/>
                    </a:lnTo>
                    <a:lnTo>
                      <a:pt x="92" y="37"/>
                    </a:lnTo>
                    <a:lnTo>
                      <a:pt x="99" y="41"/>
                    </a:lnTo>
                    <a:lnTo>
                      <a:pt x="102" y="48"/>
                    </a:lnTo>
                    <a:lnTo>
                      <a:pt x="105" y="55"/>
                    </a:lnTo>
                    <a:lnTo>
                      <a:pt x="111" y="63"/>
                    </a:lnTo>
                    <a:lnTo>
                      <a:pt x="114" y="77"/>
                    </a:lnTo>
                    <a:lnTo>
                      <a:pt x="120" y="92"/>
                    </a:lnTo>
                    <a:lnTo>
                      <a:pt x="127" y="110"/>
                    </a:lnTo>
                    <a:lnTo>
                      <a:pt x="133" y="125"/>
                    </a:lnTo>
                    <a:lnTo>
                      <a:pt x="136" y="143"/>
                    </a:lnTo>
                    <a:lnTo>
                      <a:pt x="142" y="158"/>
                    </a:lnTo>
                    <a:lnTo>
                      <a:pt x="145" y="176"/>
                    </a:lnTo>
                    <a:lnTo>
                      <a:pt x="145" y="191"/>
                    </a:lnTo>
                    <a:lnTo>
                      <a:pt x="145" y="209"/>
                    </a:lnTo>
                    <a:lnTo>
                      <a:pt x="139" y="191"/>
                    </a:lnTo>
                    <a:lnTo>
                      <a:pt x="133" y="169"/>
                    </a:lnTo>
                    <a:lnTo>
                      <a:pt x="123" y="143"/>
                    </a:lnTo>
                    <a:lnTo>
                      <a:pt x="114" y="118"/>
                    </a:lnTo>
                    <a:lnTo>
                      <a:pt x="105" y="92"/>
                    </a:lnTo>
                    <a:lnTo>
                      <a:pt x="96" y="66"/>
                    </a:lnTo>
                    <a:lnTo>
                      <a:pt x="86" y="48"/>
                    </a:lnTo>
                    <a:lnTo>
                      <a:pt x="74" y="37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1" y="22"/>
                    </a:lnTo>
                    <a:lnTo>
                      <a:pt x="58" y="19"/>
                    </a:lnTo>
                    <a:lnTo>
                      <a:pt x="52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37" y="22"/>
                    </a:lnTo>
                    <a:lnTo>
                      <a:pt x="34" y="33"/>
                    </a:lnTo>
                    <a:lnTo>
                      <a:pt x="31" y="48"/>
                    </a:lnTo>
                    <a:lnTo>
                      <a:pt x="34" y="66"/>
                    </a:lnTo>
                    <a:lnTo>
                      <a:pt x="37" y="88"/>
                    </a:lnTo>
                    <a:lnTo>
                      <a:pt x="37" y="107"/>
                    </a:lnTo>
                    <a:lnTo>
                      <a:pt x="40" y="129"/>
                    </a:lnTo>
                    <a:lnTo>
                      <a:pt x="40" y="147"/>
                    </a:lnTo>
                    <a:lnTo>
                      <a:pt x="34" y="162"/>
                    </a:lnTo>
                    <a:lnTo>
                      <a:pt x="34" y="158"/>
                    </a:lnTo>
                    <a:lnTo>
                      <a:pt x="31" y="154"/>
                    </a:lnTo>
                    <a:lnTo>
                      <a:pt x="34" y="140"/>
                    </a:lnTo>
                    <a:lnTo>
                      <a:pt x="34" y="121"/>
                    </a:lnTo>
                    <a:lnTo>
                      <a:pt x="34" y="99"/>
                    </a:lnTo>
                    <a:lnTo>
                      <a:pt x="31" y="81"/>
                    </a:lnTo>
                    <a:lnTo>
                      <a:pt x="31" y="63"/>
                    </a:lnTo>
                    <a:lnTo>
                      <a:pt x="27" y="44"/>
                    </a:lnTo>
                    <a:lnTo>
                      <a:pt x="27" y="30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5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9" y="44"/>
                    </a:lnTo>
                    <a:lnTo>
                      <a:pt x="9" y="52"/>
                    </a:lnTo>
                    <a:lnTo>
                      <a:pt x="9" y="59"/>
                    </a:lnTo>
                    <a:lnTo>
                      <a:pt x="9" y="70"/>
                    </a:lnTo>
                    <a:lnTo>
                      <a:pt x="12" y="81"/>
                    </a:lnTo>
                    <a:lnTo>
                      <a:pt x="12" y="96"/>
                    </a:lnTo>
                    <a:lnTo>
                      <a:pt x="12" y="110"/>
                    </a:lnTo>
                    <a:lnTo>
                      <a:pt x="9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222760" y="4292280"/>
                <a:ext cx="124200" cy="23220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50" y="4"/>
                    </a:moveTo>
                    <a:lnTo>
                      <a:pt x="53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69" y="11"/>
                    </a:lnTo>
                    <a:lnTo>
                      <a:pt x="75" y="15"/>
                    </a:lnTo>
                    <a:lnTo>
                      <a:pt x="78" y="19"/>
                    </a:lnTo>
                    <a:lnTo>
                      <a:pt x="84" y="26"/>
                    </a:lnTo>
                    <a:lnTo>
                      <a:pt x="87" y="30"/>
                    </a:lnTo>
                    <a:lnTo>
                      <a:pt x="93" y="37"/>
                    </a:lnTo>
                    <a:lnTo>
                      <a:pt x="96" y="41"/>
                    </a:lnTo>
                    <a:lnTo>
                      <a:pt x="96" y="52"/>
                    </a:lnTo>
                    <a:lnTo>
                      <a:pt x="100" y="66"/>
                    </a:lnTo>
                    <a:lnTo>
                      <a:pt x="103" y="77"/>
                    </a:lnTo>
                    <a:lnTo>
                      <a:pt x="103" y="92"/>
                    </a:lnTo>
                    <a:lnTo>
                      <a:pt x="106" y="103"/>
                    </a:lnTo>
                    <a:lnTo>
                      <a:pt x="109" y="114"/>
                    </a:lnTo>
                    <a:lnTo>
                      <a:pt x="112" y="125"/>
                    </a:lnTo>
                    <a:lnTo>
                      <a:pt x="112" y="136"/>
                    </a:lnTo>
                    <a:lnTo>
                      <a:pt x="106" y="143"/>
                    </a:lnTo>
                    <a:lnTo>
                      <a:pt x="96" y="151"/>
                    </a:lnTo>
                    <a:lnTo>
                      <a:pt x="87" y="154"/>
                    </a:lnTo>
                    <a:lnTo>
                      <a:pt x="78" y="162"/>
                    </a:lnTo>
                    <a:lnTo>
                      <a:pt x="65" y="169"/>
                    </a:lnTo>
                    <a:lnTo>
                      <a:pt x="50" y="176"/>
                    </a:lnTo>
                    <a:lnTo>
                      <a:pt x="38" y="184"/>
                    </a:lnTo>
                    <a:lnTo>
                      <a:pt x="22" y="191"/>
                    </a:lnTo>
                    <a:lnTo>
                      <a:pt x="25" y="180"/>
                    </a:lnTo>
                    <a:lnTo>
                      <a:pt x="25" y="169"/>
                    </a:lnTo>
                    <a:lnTo>
                      <a:pt x="25" y="158"/>
                    </a:lnTo>
                    <a:lnTo>
                      <a:pt x="25" y="143"/>
                    </a:lnTo>
                    <a:lnTo>
                      <a:pt x="25" y="129"/>
                    </a:lnTo>
                    <a:lnTo>
                      <a:pt x="25" y="118"/>
                    </a:lnTo>
                    <a:lnTo>
                      <a:pt x="25" y="103"/>
                    </a:lnTo>
                    <a:lnTo>
                      <a:pt x="25" y="92"/>
                    </a:lnTo>
                    <a:lnTo>
                      <a:pt x="22" y="88"/>
                    </a:lnTo>
                    <a:lnTo>
                      <a:pt x="22" y="85"/>
                    </a:lnTo>
                    <a:lnTo>
                      <a:pt x="19" y="81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3" y="70"/>
                    </a:lnTo>
                    <a:lnTo>
                      <a:pt x="13" y="66"/>
                    </a:lnTo>
                    <a:lnTo>
                      <a:pt x="13" y="77"/>
                    </a:lnTo>
                    <a:lnTo>
                      <a:pt x="13" y="85"/>
                    </a:lnTo>
                    <a:lnTo>
                      <a:pt x="13" y="92"/>
                    </a:lnTo>
                    <a:lnTo>
                      <a:pt x="16" y="99"/>
                    </a:lnTo>
                    <a:lnTo>
                      <a:pt x="19" y="107"/>
                    </a:lnTo>
                    <a:lnTo>
                      <a:pt x="19" y="114"/>
                    </a:lnTo>
                    <a:lnTo>
                      <a:pt x="22" y="121"/>
                    </a:lnTo>
                    <a:lnTo>
                      <a:pt x="25" y="125"/>
                    </a:lnTo>
                    <a:lnTo>
                      <a:pt x="25" y="129"/>
                    </a:lnTo>
                    <a:lnTo>
                      <a:pt x="25" y="132"/>
                    </a:lnTo>
                    <a:lnTo>
                      <a:pt x="25" y="136"/>
                    </a:lnTo>
                    <a:lnTo>
                      <a:pt x="25" y="140"/>
                    </a:lnTo>
                    <a:lnTo>
                      <a:pt x="25" y="143"/>
                    </a:lnTo>
                    <a:lnTo>
                      <a:pt x="25" y="147"/>
                    </a:lnTo>
                    <a:lnTo>
                      <a:pt x="22" y="140"/>
                    </a:lnTo>
                    <a:lnTo>
                      <a:pt x="19" y="132"/>
                    </a:lnTo>
                    <a:lnTo>
                      <a:pt x="16" y="125"/>
                    </a:lnTo>
                    <a:lnTo>
                      <a:pt x="13" y="114"/>
                    </a:lnTo>
                    <a:lnTo>
                      <a:pt x="10" y="107"/>
                    </a:lnTo>
                    <a:lnTo>
                      <a:pt x="7" y="99"/>
                    </a:lnTo>
                    <a:lnTo>
                      <a:pt x="4" y="92"/>
                    </a:lnTo>
                    <a:lnTo>
                      <a:pt x="0" y="88"/>
                    </a:lnTo>
                    <a:lnTo>
                      <a:pt x="4" y="77"/>
                    </a:lnTo>
                    <a:lnTo>
                      <a:pt x="7" y="70"/>
                    </a:lnTo>
                    <a:lnTo>
                      <a:pt x="10" y="63"/>
                    </a:lnTo>
                    <a:lnTo>
                      <a:pt x="16" y="52"/>
                    </a:lnTo>
                    <a:lnTo>
                      <a:pt x="22" y="44"/>
                    </a:lnTo>
                    <a:lnTo>
                      <a:pt x="25" y="37"/>
                    </a:lnTo>
                    <a:lnTo>
                      <a:pt x="31" y="33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50" y="11"/>
                    </a:lnTo>
                    <a:lnTo>
                      <a:pt x="53" y="15"/>
                    </a:lnTo>
                    <a:lnTo>
                      <a:pt x="59" y="22"/>
                    </a:lnTo>
                    <a:lnTo>
                      <a:pt x="62" y="33"/>
                    </a:lnTo>
                    <a:lnTo>
                      <a:pt x="65" y="48"/>
                    </a:lnTo>
                    <a:lnTo>
                      <a:pt x="69" y="63"/>
                    </a:lnTo>
                    <a:lnTo>
                      <a:pt x="72" y="77"/>
                    </a:lnTo>
                    <a:lnTo>
                      <a:pt x="72" y="92"/>
                    </a:lnTo>
                    <a:lnTo>
                      <a:pt x="75" y="103"/>
                    </a:lnTo>
                    <a:lnTo>
                      <a:pt x="75" y="96"/>
                    </a:lnTo>
                    <a:lnTo>
                      <a:pt x="78" y="92"/>
                    </a:lnTo>
                    <a:lnTo>
                      <a:pt x="78" y="85"/>
                    </a:lnTo>
                    <a:lnTo>
                      <a:pt x="78" y="81"/>
                    </a:lnTo>
                    <a:lnTo>
                      <a:pt x="78" y="74"/>
                    </a:lnTo>
                    <a:lnTo>
                      <a:pt x="75" y="66"/>
                    </a:lnTo>
                    <a:lnTo>
                      <a:pt x="75" y="63"/>
                    </a:lnTo>
                    <a:lnTo>
                      <a:pt x="72" y="55"/>
                    </a:lnTo>
                    <a:lnTo>
                      <a:pt x="69" y="48"/>
                    </a:lnTo>
                    <a:lnTo>
                      <a:pt x="69" y="41"/>
                    </a:lnTo>
                    <a:lnTo>
                      <a:pt x="65" y="33"/>
                    </a:lnTo>
                    <a:lnTo>
                      <a:pt x="62" y="30"/>
                    </a:lnTo>
                    <a:lnTo>
                      <a:pt x="62" y="22"/>
                    </a:lnTo>
                    <a:lnTo>
                      <a:pt x="59" y="15"/>
                    </a:lnTo>
                    <a:lnTo>
                      <a:pt x="56" y="11"/>
                    </a:lnTo>
                    <a:lnTo>
                      <a:pt x="5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7800" y="4195440"/>
                <a:ext cx="439200" cy="534600"/>
              </a:xfrm>
              <a:custGeom>
                <a:avLst/>
                <a:gdLst/>
                <a:ahLst/>
                <a:rect l="l" t="t" r="r" b="b"/>
                <a:pathLst>
                  <a:path w="396" h="440"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993080" y="4248720"/>
                <a:ext cx="274320" cy="364680"/>
              </a:xfrm>
              <a:custGeom>
                <a:avLst/>
                <a:gdLst/>
                <a:ahLst/>
                <a:rect l="l" t="t" r="r" b="b"/>
                <a:pathLst>
                  <a:path w="247" h="300">
                    <a:moveTo>
                      <a:pt x="49" y="3"/>
                    </a:moveTo>
                    <a:lnTo>
                      <a:pt x="80" y="44"/>
                    </a:lnTo>
                    <a:lnTo>
                      <a:pt x="83" y="51"/>
                    </a:lnTo>
                    <a:lnTo>
                      <a:pt x="86" y="58"/>
                    </a:lnTo>
                    <a:lnTo>
                      <a:pt x="89" y="69"/>
                    </a:lnTo>
                    <a:lnTo>
                      <a:pt x="93" y="77"/>
                    </a:lnTo>
                    <a:lnTo>
                      <a:pt x="93" y="84"/>
                    </a:lnTo>
                    <a:lnTo>
                      <a:pt x="96" y="91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102" y="113"/>
                    </a:lnTo>
                    <a:lnTo>
                      <a:pt x="108" y="121"/>
                    </a:lnTo>
                    <a:lnTo>
                      <a:pt x="111" y="128"/>
                    </a:lnTo>
                    <a:lnTo>
                      <a:pt x="117" y="135"/>
                    </a:lnTo>
                    <a:lnTo>
                      <a:pt x="124" y="143"/>
                    </a:lnTo>
                    <a:lnTo>
                      <a:pt x="130" y="150"/>
                    </a:lnTo>
                    <a:lnTo>
                      <a:pt x="136" y="157"/>
                    </a:lnTo>
                    <a:lnTo>
                      <a:pt x="142" y="165"/>
                    </a:lnTo>
                    <a:lnTo>
                      <a:pt x="145" y="172"/>
                    </a:lnTo>
                    <a:lnTo>
                      <a:pt x="148" y="176"/>
                    </a:lnTo>
                    <a:lnTo>
                      <a:pt x="151" y="183"/>
                    </a:lnTo>
                    <a:lnTo>
                      <a:pt x="151" y="187"/>
                    </a:lnTo>
                    <a:lnTo>
                      <a:pt x="155" y="194"/>
                    </a:lnTo>
                    <a:lnTo>
                      <a:pt x="158" y="201"/>
                    </a:lnTo>
                    <a:lnTo>
                      <a:pt x="164" y="209"/>
                    </a:lnTo>
                    <a:lnTo>
                      <a:pt x="170" y="220"/>
                    </a:lnTo>
                    <a:lnTo>
                      <a:pt x="176" y="220"/>
                    </a:lnTo>
                    <a:lnTo>
                      <a:pt x="182" y="220"/>
                    </a:lnTo>
                    <a:lnTo>
                      <a:pt x="189" y="223"/>
                    </a:lnTo>
                    <a:lnTo>
                      <a:pt x="195" y="223"/>
                    </a:lnTo>
                    <a:lnTo>
                      <a:pt x="201" y="231"/>
                    </a:lnTo>
                    <a:lnTo>
                      <a:pt x="207" y="238"/>
                    </a:lnTo>
                    <a:lnTo>
                      <a:pt x="210" y="245"/>
                    </a:lnTo>
                    <a:lnTo>
                      <a:pt x="216" y="256"/>
                    </a:lnTo>
                    <a:lnTo>
                      <a:pt x="235" y="264"/>
                    </a:lnTo>
                    <a:lnTo>
                      <a:pt x="241" y="271"/>
                    </a:lnTo>
                    <a:lnTo>
                      <a:pt x="244" y="275"/>
                    </a:lnTo>
                    <a:lnTo>
                      <a:pt x="247" y="282"/>
                    </a:lnTo>
                    <a:lnTo>
                      <a:pt x="247" y="289"/>
                    </a:lnTo>
                    <a:lnTo>
                      <a:pt x="247" y="293"/>
                    </a:lnTo>
                    <a:lnTo>
                      <a:pt x="244" y="297"/>
                    </a:lnTo>
                    <a:lnTo>
                      <a:pt x="238" y="300"/>
                    </a:lnTo>
                    <a:lnTo>
                      <a:pt x="232" y="300"/>
                    </a:lnTo>
                    <a:lnTo>
                      <a:pt x="229" y="300"/>
                    </a:lnTo>
                    <a:lnTo>
                      <a:pt x="229" y="297"/>
                    </a:lnTo>
                    <a:lnTo>
                      <a:pt x="226" y="297"/>
                    </a:lnTo>
                    <a:lnTo>
                      <a:pt x="223" y="293"/>
                    </a:lnTo>
                    <a:lnTo>
                      <a:pt x="220" y="289"/>
                    </a:lnTo>
                    <a:lnTo>
                      <a:pt x="216" y="289"/>
                    </a:lnTo>
                    <a:lnTo>
                      <a:pt x="213" y="286"/>
                    </a:lnTo>
                    <a:lnTo>
                      <a:pt x="210" y="286"/>
                    </a:lnTo>
                    <a:lnTo>
                      <a:pt x="207" y="282"/>
                    </a:lnTo>
                    <a:lnTo>
                      <a:pt x="204" y="278"/>
                    </a:lnTo>
                    <a:lnTo>
                      <a:pt x="201" y="271"/>
                    </a:lnTo>
                    <a:lnTo>
                      <a:pt x="198" y="267"/>
                    </a:lnTo>
                    <a:lnTo>
                      <a:pt x="198" y="264"/>
                    </a:lnTo>
                    <a:lnTo>
                      <a:pt x="195" y="260"/>
                    </a:lnTo>
                    <a:lnTo>
                      <a:pt x="192" y="256"/>
                    </a:lnTo>
                    <a:lnTo>
                      <a:pt x="185" y="256"/>
                    </a:lnTo>
                    <a:lnTo>
                      <a:pt x="182" y="256"/>
                    </a:lnTo>
                    <a:lnTo>
                      <a:pt x="176" y="260"/>
                    </a:lnTo>
                    <a:lnTo>
                      <a:pt x="170" y="260"/>
                    </a:lnTo>
                    <a:lnTo>
                      <a:pt x="164" y="264"/>
                    </a:lnTo>
                    <a:lnTo>
                      <a:pt x="158" y="264"/>
                    </a:lnTo>
                    <a:lnTo>
                      <a:pt x="155" y="264"/>
                    </a:lnTo>
                    <a:lnTo>
                      <a:pt x="148" y="264"/>
                    </a:lnTo>
                    <a:lnTo>
                      <a:pt x="142" y="264"/>
                    </a:lnTo>
                    <a:lnTo>
                      <a:pt x="139" y="267"/>
                    </a:lnTo>
                    <a:lnTo>
                      <a:pt x="136" y="267"/>
                    </a:lnTo>
                    <a:lnTo>
                      <a:pt x="133" y="271"/>
                    </a:lnTo>
                    <a:lnTo>
                      <a:pt x="127" y="271"/>
                    </a:lnTo>
                    <a:lnTo>
                      <a:pt x="124" y="275"/>
                    </a:lnTo>
                    <a:lnTo>
                      <a:pt x="120" y="275"/>
                    </a:lnTo>
                    <a:lnTo>
                      <a:pt x="114" y="278"/>
                    </a:lnTo>
                    <a:lnTo>
                      <a:pt x="120" y="271"/>
                    </a:lnTo>
                    <a:lnTo>
                      <a:pt x="127" y="267"/>
                    </a:lnTo>
                    <a:lnTo>
                      <a:pt x="130" y="260"/>
                    </a:lnTo>
                    <a:lnTo>
                      <a:pt x="136" y="253"/>
                    </a:lnTo>
                    <a:lnTo>
                      <a:pt x="142" y="249"/>
                    </a:lnTo>
                    <a:lnTo>
                      <a:pt x="148" y="245"/>
                    </a:lnTo>
                    <a:lnTo>
                      <a:pt x="158" y="238"/>
                    </a:lnTo>
                    <a:lnTo>
                      <a:pt x="167" y="234"/>
                    </a:lnTo>
                    <a:lnTo>
                      <a:pt x="155" y="238"/>
                    </a:lnTo>
                    <a:lnTo>
                      <a:pt x="142" y="238"/>
                    </a:lnTo>
                    <a:lnTo>
                      <a:pt x="130" y="242"/>
                    </a:lnTo>
                    <a:lnTo>
                      <a:pt x="117" y="249"/>
                    </a:lnTo>
                    <a:lnTo>
                      <a:pt x="105" y="253"/>
                    </a:lnTo>
                    <a:lnTo>
                      <a:pt x="93" y="256"/>
                    </a:lnTo>
                    <a:lnTo>
                      <a:pt x="77" y="260"/>
                    </a:lnTo>
                    <a:lnTo>
                      <a:pt x="65" y="264"/>
                    </a:lnTo>
                    <a:lnTo>
                      <a:pt x="62" y="260"/>
                    </a:lnTo>
                    <a:lnTo>
                      <a:pt x="59" y="256"/>
                    </a:lnTo>
                    <a:lnTo>
                      <a:pt x="59" y="253"/>
                    </a:lnTo>
                    <a:lnTo>
                      <a:pt x="55" y="249"/>
                    </a:lnTo>
                    <a:lnTo>
                      <a:pt x="55" y="245"/>
                    </a:lnTo>
                    <a:lnTo>
                      <a:pt x="52" y="242"/>
                    </a:lnTo>
                    <a:lnTo>
                      <a:pt x="62" y="223"/>
                    </a:lnTo>
                    <a:lnTo>
                      <a:pt x="68" y="205"/>
                    </a:lnTo>
                    <a:lnTo>
                      <a:pt x="74" y="183"/>
                    </a:lnTo>
                    <a:lnTo>
                      <a:pt x="77" y="165"/>
                    </a:lnTo>
                    <a:lnTo>
                      <a:pt x="80" y="143"/>
                    </a:lnTo>
                    <a:lnTo>
                      <a:pt x="80" y="121"/>
                    </a:lnTo>
                    <a:lnTo>
                      <a:pt x="80" y="95"/>
                    </a:lnTo>
                    <a:lnTo>
                      <a:pt x="77" y="69"/>
                    </a:lnTo>
                    <a:lnTo>
                      <a:pt x="77" y="102"/>
                    </a:lnTo>
                    <a:lnTo>
                      <a:pt x="77" y="132"/>
                    </a:lnTo>
                    <a:lnTo>
                      <a:pt x="74" y="154"/>
                    </a:lnTo>
                    <a:lnTo>
                      <a:pt x="71" y="176"/>
                    </a:lnTo>
                    <a:lnTo>
                      <a:pt x="65" y="190"/>
                    </a:lnTo>
                    <a:lnTo>
                      <a:pt x="59" y="205"/>
                    </a:lnTo>
                    <a:lnTo>
                      <a:pt x="52" y="212"/>
                    </a:lnTo>
                    <a:lnTo>
                      <a:pt x="46" y="212"/>
                    </a:lnTo>
                    <a:lnTo>
                      <a:pt x="46" y="209"/>
                    </a:lnTo>
                    <a:lnTo>
                      <a:pt x="43" y="205"/>
                    </a:lnTo>
                    <a:lnTo>
                      <a:pt x="43" y="201"/>
                    </a:lnTo>
                    <a:lnTo>
                      <a:pt x="43" y="198"/>
                    </a:lnTo>
                    <a:lnTo>
                      <a:pt x="43" y="194"/>
                    </a:lnTo>
                    <a:lnTo>
                      <a:pt x="43" y="190"/>
                    </a:lnTo>
                    <a:lnTo>
                      <a:pt x="43" y="183"/>
                    </a:lnTo>
                    <a:lnTo>
                      <a:pt x="43" y="179"/>
                    </a:lnTo>
                    <a:lnTo>
                      <a:pt x="49" y="168"/>
                    </a:lnTo>
                    <a:lnTo>
                      <a:pt x="52" y="157"/>
                    </a:lnTo>
                    <a:lnTo>
                      <a:pt x="55" y="143"/>
                    </a:lnTo>
                    <a:lnTo>
                      <a:pt x="55" y="128"/>
                    </a:lnTo>
                    <a:lnTo>
                      <a:pt x="59" y="113"/>
                    </a:lnTo>
                    <a:lnTo>
                      <a:pt x="59" y="99"/>
                    </a:lnTo>
                    <a:lnTo>
                      <a:pt x="55" y="84"/>
                    </a:lnTo>
                    <a:lnTo>
                      <a:pt x="52" y="69"/>
                    </a:lnTo>
                    <a:lnTo>
                      <a:pt x="55" y="84"/>
                    </a:lnTo>
                    <a:lnTo>
                      <a:pt x="55" y="102"/>
                    </a:lnTo>
                    <a:lnTo>
                      <a:pt x="55" y="113"/>
                    </a:lnTo>
                    <a:lnTo>
                      <a:pt x="52" y="128"/>
                    </a:lnTo>
                    <a:lnTo>
                      <a:pt x="52" y="139"/>
                    </a:lnTo>
                    <a:lnTo>
                      <a:pt x="49" y="150"/>
                    </a:lnTo>
                    <a:lnTo>
                      <a:pt x="46" y="161"/>
                    </a:lnTo>
                    <a:lnTo>
                      <a:pt x="43" y="176"/>
                    </a:lnTo>
                    <a:lnTo>
                      <a:pt x="43" y="165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40" y="143"/>
                    </a:lnTo>
                    <a:lnTo>
                      <a:pt x="37" y="135"/>
                    </a:lnTo>
                    <a:lnTo>
                      <a:pt x="37" y="128"/>
                    </a:lnTo>
                    <a:lnTo>
                      <a:pt x="34" y="121"/>
                    </a:lnTo>
                    <a:lnTo>
                      <a:pt x="34" y="110"/>
                    </a:lnTo>
                    <a:lnTo>
                      <a:pt x="37" y="110"/>
                    </a:lnTo>
                    <a:lnTo>
                      <a:pt x="40" y="113"/>
                    </a:lnTo>
                    <a:lnTo>
                      <a:pt x="43" y="113"/>
                    </a:lnTo>
                    <a:lnTo>
                      <a:pt x="46" y="117"/>
                    </a:lnTo>
                    <a:lnTo>
                      <a:pt x="49" y="121"/>
                    </a:lnTo>
                    <a:lnTo>
                      <a:pt x="49" y="117"/>
                    </a:lnTo>
                    <a:lnTo>
                      <a:pt x="46" y="117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0"/>
                    </a:lnTo>
                    <a:lnTo>
                      <a:pt x="40" y="110"/>
                    </a:lnTo>
                    <a:lnTo>
                      <a:pt x="37" y="106"/>
                    </a:lnTo>
                    <a:lnTo>
                      <a:pt x="34" y="102"/>
                    </a:lnTo>
                    <a:lnTo>
                      <a:pt x="37" y="102"/>
                    </a:lnTo>
                    <a:lnTo>
                      <a:pt x="40" y="102"/>
                    </a:lnTo>
                    <a:lnTo>
                      <a:pt x="43" y="102"/>
                    </a:lnTo>
                    <a:lnTo>
                      <a:pt x="46" y="102"/>
                    </a:lnTo>
                    <a:lnTo>
                      <a:pt x="46" y="99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88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3" y="69"/>
                    </a:lnTo>
                    <a:lnTo>
                      <a:pt x="40" y="66"/>
                    </a:lnTo>
                    <a:lnTo>
                      <a:pt x="34" y="62"/>
                    </a:lnTo>
                    <a:lnTo>
                      <a:pt x="31" y="58"/>
                    </a:lnTo>
                    <a:lnTo>
                      <a:pt x="24" y="58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9" y="58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792840" y="4043160"/>
                <a:ext cx="1986840" cy="195480"/>
              </a:xfrm>
              <a:custGeom>
                <a:avLst/>
                <a:gdLst/>
                <a:ahLst/>
                <a:rect l="l" t="t" r="r" b="b"/>
                <a:pathLst>
                  <a:path w="1790" h="161">
                    <a:moveTo>
                      <a:pt x="44" y="44"/>
                    </a:moveTo>
                    <a:lnTo>
                      <a:pt x="41" y="48"/>
                    </a:lnTo>
                    <a:lnTo>
                      <a:pt x="41" y="55"/>
                    </a:lnTo>
                    <a:lnTo>
                      <a:pt x="41" y="59"/>
                    </a:lnTo>
                    <a:lnTo>
                      <a:pt x="44" y="6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7" y="70"/>
                    </a:lnTo>
                    <a:lnTo>
                      <a:pt x="47" y="73"/>
                    </a:lnTo>
                    <a:lnTo>
                      <a:pt x="44" y="73"/>
                    </a:lnTo>
                    <a:lnTo>
                      <a:pt x="41" y="73"/>
                    </a:lnTo>
                    <a:lnTo>
                      <a:pt x="34" y="70"/>
                    </a:lnTo>
                    <a:lnTo>
                      <a:pt x="28" y="66"/>
                    </a:lnTo>
                    <a:lnTo>
                      <a:pt x="22" y="66"/>
                    </a:lnTo>
                    <a:lnTo>
                      <a:pt x="19" y="62"/>
                    </a:lnTo>
                    <a:lnTo>
                      <a:pt x="16" y="59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19" y="37"/>
                    </a:lnTo>
                    <a:lnTo>
                      <a:pt x="19" y="33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31" y="2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33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6" y="66"/>
                    </a:lnTo>
                    <a:lnTo>
                      <a:pt x="19" y="70"/>
                    </a:lnTo>
                    <a:lnTo>
                      <a:pt x="25" y="73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5" y="77"/>
                    </a:lnTo>
                    <a:lnTo>
                      <a:pt x="22" y="77"/>
                    </a:lnTo>
                    <a:lnTo>
                      <a:pt x="19" y="73"/>
                    </a:lnTo>
                    <a:lnTo>
                      <a:pt x="16" y="70"/>
                    </a:lnTo>
                    <a:lnTo>
                      <a:pt x="10" y="66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8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4" y="11"/>
                    </a:lnTo>
                    <a:lnTo>
                      <a:pt x="44" y="15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4" y="26"/>
                    </a:lnTo>
                    <a:lnTo>
                      <a:pt x="44" y="29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4" y="44"/>
                    </a:lnTo>
                    <a:close/>
                    <a:moveTo>
                      <a:pt x="403" y="84"/>
                    </a:moveTo>
                    <a:lnTo>
                      <a:pt x="403" y="81"/>
                    </a:lnTo>
                    <a:lnTo>
                      <a:pt x="403" y="81"/>
                    </a:lnTo>
                    <a:lnTo>
                      <a:pt x="403" y="77"/>
                    </a:lnTo>
                    <a:lnTo>
                      <a:pt x="403" y="77"/>
                    </a:lnTo>
                    <a:lnTo>
                      <a:pt x="400" y="73"/>
                    </a:lnTo>
                    <a:lnTo>
                      <a:pt x="400" y="73"/>
                    </a:lnTo>
                    <a:lnTo>
                      <a:pt x="400" y="70"/>
                    </a:lnTo>
                    <a:lnTo>
                      <a:pt x="397" y="70"/>
                    </a:lnTo>
                    <a:lnTo>
                      <a:pt x="394" y="66"/>
                    </a:lnTo>
                    <a:lnTo>
                      <a:pt x="390" y="66"/>
                    </a:lnTo>
                    <a:lnTo>
                      <a:pt x="387" y="66"/>
                    </a:lnTo>
                    <a:lnTo>
                      <a:pt x="384" y="70"/>
                    </a:lnTo>
                    <a:lnTo>
                      <a:pt x="381" y="70"/>
                    </a:lnTo>
                    <a:lnTo>
                      <a:pt x="378" y="73"/>
                    </a:lnTo>
                    <a:lnTo>
                      <a:pt x="378" y="77"/>
                    </a:lnTo>
                    <a:lnTo>
                      <a:pt x="375" y="81"/>
                    </a:lnTo>
                    <a:lnTo>
                      <a:pt x="375" y="84"/>
                    </a:lnTo>
                    <a:lnTo>
                      <a:pt x="378" y="92"/>
                    </a:lnTo>
                    <a:lnTo>
                      <a:pt x="378" y="95"/>
                    </a:lnTo>
                    <a:lnTo>
                      <a:pt x="381" y="99"/>
                    </a:lnTo>
                    <a:lnTo>
                      <a:pt x="381" y="103"/>
                    </a:lnTo>
                    <a:lnTo>
                      <a:pt x="384" y="106"/>
                    </a:lnTo>
                    <a:lnTo>
                      <a:pt x="387" y="114"/>
                    </a:lnTo>
                    <a:lnTo>
                      <a:pt x="390" y="117"/>
                    </a:lnTo>
                    <a:lnTo>
                      <a:pt x="390" y="114"/>
                    </a:lnTo>
                    <a:lnTo>
                      <a:pt x="387" y="110"/>
                    </a:lnTo>
                    <a:lnTo>
                      <a:pt x="387" y="106"/>
                    </a:lnTo>
                    <a:lnTo>
                      <a:pt x="384" y="103"/>
                    </a:lnTo>
                    <a:lnTo>
                      <a:pt x="381" y="99"/>
                    </a:lnTo>
                    <a:lnTo>
                      <a:pt x="381" y="95"/>
                    </a:lnTo>
                    <a:lnTo>
                      <a:pt x="381" y="88"/>
                    </a:lnTo>
                    <a:lnTo>
                      <a:pt x="378" y="84"/>
                    </a:lnTo>
                    <a:lnTo>
                      <a:pt x="381" y="84"/>
                    </a:lnTo>
                    <a:lnTo>
                      <a:pt x="384" y="81"/>
                    </a:lnTo>
                    <a:lnTo>
                      <a:pt x="384" y="81"/>
                    </a:lnTo>
                    <a:lnTo>
                      <a:pt x="387" y="81"/>
                    </a:lnTo>
                    <a:lnTo>
                      <a:pt x="387" y="81"/>
                    </a:lnTo>
                    <a:lnTo>
                      <a:pt x="390" y="81"/>
                    </a:lnTo>
                    <a:lnTo>
                      <a:pt x="390" y="84"/>
                    </a:lnTo>
                    <a:lnTo>
                      <a:pt x="394" y="84"/>
                    </a:lnTo>
                    <a:lnTo>
                      <a:pt x="394" y="88"/>
                    </a:lnTo>
                    <a:lnTo>
                      <a:pt x="394" y="88"/>
                    </a:lnTo>
                    <a:lnTo>
                      <a:pt x="394" y="92"/>
                    </a:lnTo>
                    <a:lnTo>
                      <a:pt x="394" y="92"/>
                    </a:lnTo>
                    <a:lnTo>
                      <a:pt x="390" y="9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103"/>
                    </a:lnTo>
                    <a:lnTo>
                      <a:pt x="394" y="103"/>
                    </a:lnTo>
                    <a:lnTo>
                      <a:pt x="397" y="106"/>
                    </a:lnTo>
                    <a:lnTo>
                      <a:pt x="400" y="106"/>
                    </a:lnTo>
                    <a:lnTo>
                      <a:pt x="403" y="106"/>
                    </a:lnTo>
                    <a:lnTo>
                      <a:pt x="406" y="106"/>
                    </a:lnTo>
                    <a:lnTo>
                      <a:pt x="406" y="106"/>
                    </a:lnTo>
                    <a:lnTo>
                      <a:pt x="409" y="110"/>
                    </a:lnTo>
                    <a:lnTo>
                      <a:pt x="412" y="110"/>
                    </a:lnTo>
                    <a:lnTo>
                      <a:pt x="412" y="106"/>
                    </a:lnTo>
                    <a:lnTo>
                      <a:pt x="412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2" y="103"/>
                    </a:lnTo>
                    <a:lnTo>
                      <a:pt x="412" y="103"/>
                    </a:lnTo>
                    <a:lnTo>
                      <a:pt x="409" y="99"/>
                    </a:lnTo>
                    <a:lnTo>
                      <a:pt x="409" y="99"/>
                    </a:lnTo>
                    <a:lnTo>
                      <a:pt x="409" y="95"/>
                    </a:lnTo>
                    <a:lnTo>
                      <a:pt x="409" y="95"/>
                    </a:lnTo>
                    <a:lnTo>
                      <a:pt x="409" y="92"/>
                    </a:lnTo>
                    <a:lnTo>
                      <a:pt x="412" y="92"/>
                    </a:lnTo>
                    <a:lnTo>
                      <a:pt x="412" y="88"/>
                    </a:lnTo>
                    <a:lnTo>
                      <a:pt x="412" y="88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09" y="81"/>
                    </a:lnTo>
                    <a:lnTo>
                      <a:pt x="409" y="84"/>
                    </a:lnTo>
                    <a:lnTo>
                      <a:pt x="406" y="84"/>
                    </a:lnTo>
                    <a:lnTo>
                      <a:pt x="406" y="88"/>
                    </a:lnTo>
                    <a:lnTo>
                      <a:pt x="403" y="88"/>
                    </a:lnTo>
                    <a:lnTo>
                      <a:pt x="403" y="92"/>
                    </a:lnTo>
                    <a:lnTo>
                      <a:pt x="400" y="92"/>
                    </a:lnTo>
                    <a:lnTo>
                      <a:pt x="400" y="95"/>
                    </a:lnTo>
                    <a:lnTo>
                      <a:pt x="397" y="95"/>
                    </a:lnTo>
                    <a:lnTo>
                      <a:pt x="397" y="92"/>
                    </a:lnTo>
                    <a:lnTo>
                      <a:pt x="397" y="92"/>
                    </a:lnTo>
                    <a:lnTo>
                      <a:pt x="400" y="92"/>
                    </a:lnTo>
                    <a:lnTo>
                      <a:pt x="400" y="88"/>
                    </a:lnTo>
                    <a:lnTo>
                      <a:pt x="400" y="88"/>
                    </a:lnTo>
                    <a:lnTo>
                      <a:pt x="400" y="84"/>
                    </a:lnTo>
                    <a:lnTo>
                      <a:pt x="403" y="84"/>
                    </a:lnTo>
                    <a:close/>
                    <a:moveTo>
                      <a:pt x="1220" y="81"/>
                    </a:moveTo>
                    <a:lnTo>
                      <a:pt x="1227" y="77"/>
                    </a:lnTo>
                    <a:lnTo>
                      <a:pt x="1230" y="70"/>
                    </a:lnTo>
                    <a:lnTo>
                      <a:pt x="1233" y="66"/>
                    </a:lnTo>
                    <a:lnTo>
                      <a:pt x="1236" y="62"/>
                    </a:lnTo>
                    <a:lnTo>
                      <a:pt x="1242" y="59"/>
                    </a:lnTo>
                    <a:lnTo>
                      <a:pt x="1245" y="59"/>
                    </a:lnTo>
                    <a:lnTo>
                      <a:pt x="1248" y="59"/>
                    </a:lnTo>
                    <a:lnTo>
                      <a:pt x="1254" y="59"/>
                    </a:lnTo>
                    <a:lnTo>
                      <a:pt x="1254" y="70"/>
                    </a:lnTo>
                    <a:lnTo>
                      <a:pt x="1251" y="81"/>
                    </a:lnTo>
                    <a:lnTo>
                      <a:pt x="1248" y="88"/>
                    </a:lnTo>
                    <a:lnTo>
                      <a:pt x="1248" y="92"/>
                    </a:lnTo>
                    <a:lnTo>
                      <a:pt x="1245" y="95"/>
                    </a:lnTo>
                    <a:lnTo>
                      <a:pt x="1242" y="95"/>
                    </a:lnTo>
                    <a:lnTo>
                      <a:pt x="1239" y="95"/>
                    </a:lnTo>
                    <a:lnTo>
                      <a:pt x="1236" y="95"/>
                    </a:lnTo>
                    <a:lnTo>
                      <a:pt x="1239" y="95"/>
                    </a:lnTo>
                    <a:lnTo>
                      <a:pt x="1239" y="95"/>
                    </a:lnTo>
                    <a:lnTo>
                      <a:pt x="1242" y="95"/>
                    </a:lnTo>
                    <a:lnTo>
                      <a:pt x="1242" y="95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8" y="92"/>
                    </a:lnTo>
                    <a:lnTo>
                      <a:pt x="1248" y="84"/>
                    </a:lnTo>
                    <a:lnTo>
                      <a:pt x="1248" y="81"/>
                    </a:lnTo>
                    <a:lnTo>
                      <a:pt x="1248" y="77"/>
                    </a:lnTo>
                    <a:lnTo>
                      <a:pt x="1248" y="73"/>
                    </a:lnTo>
                    <a:lnTo>
                      <a:pt x="1251" y="70"/>
                    </a:lnTo>
                    <a:lnTo>
                      <a:pt x="1251" y="66"/>
                    </a:lnTo>
                    <a:lnTo>
                      <a:pt x="1248" y="62"/>
                    </a:lnTo>
                    <a:lnTo>
                      <a:pt x="1248" y="62"/>
                    </a:lnTo>
                    <a:lnTo>
                      <a:pt x="1245" y="66"/>
                    </a:lnTo>
                    <a:lnTo>
                      <a:pt x="1242" y="70"/>
                    </a:lnTo>
                    <a:lnTo>
                      <a:pt x="1242" y="73"/>
                    </a:lnTo>
                    <a:lnTo>
                      <a:pt x="1239" y="73"/>
                    </a:lnTo>
                    <a:lnTo>
                      <a:pt x="1239" y="77"/>
                    </a:lnTo>
                    <a:lnTo>
                      <a:pt x="1239" y="77"/>
                    </a:lnTo>
                    <a:lnTo>
                      <a:pt x="1242" y="81"/>
                    </a:lnTo>
                    <a:lnTo>
                      <a:pt x="1242" y="84"/>
                    </a:lnTo>
                    <a:lnTo>
                      <a:pt x="1242" y="88"/>
                    </a:lnTo>
                    <a:lnTo>
                      <a:pt x="1239" y="88"/>
                    </a:lnTo>
                    <a:lnTo>
                      <a:pt x="1239" y="92"/>
                    </a:lnTo>
                    <a:lnTo>
                      <a:pt x="1236" y="92"/>
                    </a:lnTo>
                    <a:lnTo>
                      <a:pt x="1233" y="95"/>
                    </a:lnTo>
                    <a:lnTo>
                      <a:pt x="1230" y="95"/>
                    </a:lnTo>
                    <a:lnTo>
                      <a:pt x="1227" y="99"/>
                    </a:lnTo>
                    <a:lnTo>
                      <a:pt x="1227" y="99"/>
                    </a:lnTo>
                    <a:lnTo>
                      <a:pt x="1227" y="95"/>
                    </a:lnTo>
                    <a:lnTo>
                      <a:pt x="1227" y="92"/>
                    </a:lnTo>
                    <a:lnTo>
                      <a:pt x="1227" y="92"/>
                    </a:lnTo>
                    <a:lnTo>
                      <a:pt x="1223" y="88"/>
                    </a:lnTo>
                    <a:lnTo>
                      <a:pt x="1223" y="88"/>
                    </a:lnTo>
                    <a:lnTo>
                      <a:pt x="1223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close/>
                    <a:moveTo>
                      <a:pt x="1759" y="110"/>
                    </a:moveTo>
                    <a:lnTo>
                      <a:pt x="1762" y="106"/>
                    </a:lnTo>
                    <a:lnTo>
                      <a:pt x="1765" y="103"/>
                    </a:lnTo>
                    <a:lnTo>
                      <a:pt x="1769" y="103"/>
                    </a:lnTo>
                    <a:lnTo>
                      <a:pt x="1772" y="106"/>
                    </a:lnTo>
                    <a:lnTo>
                      <a:pt x="1778" y="106"/>
                    </a:lnTo>
                    <a:lnTo>
                      <a:pt x="1781" y="110"/>
                    </a:lnTo>
                    <a:lnTo>
                      <a:pt x="1784" y="117"/>
                    </a:lnTo>
                    <a:lnTo>
                      <a:pt x="1787" y="121"/>
                    </a:lnTo>
                    <a:lnTo>
                      <a:pt x="1790" y="136"/>
                    </a:lnTo>
                    <a:lnTo>
                      <a:pt x="1787" y="139"/>
                    </a:lnTo>
                    <a:lnTo>
                      <a:pt x="1787" y="143"/>
                    </a:lnTo>
                    <a:lnTo>
                      <a:pt x="1784" y="147"/>
                    </a:lnTo>
                    <a:lnTo>
                      <a:pt x="1781" y="150"/>
                    </a:lnTo>
                    <a:lnTo>
                      <a:pt x="1781" y="154"/>
                    </a:lnTo>
                    <a:lnTo>
                      <a:pt x="1778" y="158"/>
                    </a:lnTo>
                    <a:lnTo>
                      <a:pt x="1775" y="161"/>
                    </a:lnTo>
                    <a:lnTo>
                      <a:pt x="1772" y="161"/>
                    </a:lnTo>
                    <a:lnTo>
                      <a:pt x="1781" y="147"/>
                    </a:lnTo>
                    <a:lnTo>
                      <a:pt x="1781" y="143"/>
                    </a:lnTo>
                    <a:lnTo>
                      <a:pt x="1781" y="136"/>
                    </a:lnTo>
                    <a:lnTo>
                      <a:pt x="1781" y="132"/>
                    </a:lnTo>
                    <a:lnTo>
                      <a:pt x="1778" y="128"/>
                    </a:lnTo>
                    <a:lnTo>
                      <a:pt x="1778" y="125"/>
                    </a:lnTo>
                    <a:lnTo>
                      <a:pt x="1778" y="121"/>
                    </a:lnTo>
                    <a:lnTo>
                      <a:pt x="1775" y="117"/>
                    </a:lnTo>
                    <a:lnTo>
                      <a:pt x="1772" y="117"/>
                    </a:lnTo>
                    <a:lnTo>
                      <a:pt x="1772" y="121"/>
                    </a:lnTo>
                    <a:lnTo>
                      <a:pt x="1772" y="125"/>
                    </a:lnTo>
                    <a:lnTo>
                      <a:pt x="1772" y="125"/>
                    </a:lnTo>
                    <a:lnTo>
                      <a:pt x="1772" y="128"/>
                    </a:lnTo>
                    <a:lnTo>
                      <a:pt x="1775" y="132"/>
                    </a:lnTo>
                    <a:lnTo>
                      <a:pt x="1775" y="136"/>
                    </a:lnTo>
                    <a:lnTo>
                      <a:pt x="1775" y="139"/>
                    </a:lnTo>
                    <a:lnTo>
                      <a:pt x="1775" y="143"/>
                    </a:lnTo>
                    <a:lnTo>
                      <a:pt x="1772" y="143"/>
                    </a:lnTo>
                    <a:lnTo>
                      <a:pt x="1772" y="147"/>
                    </a:lnTo>
                    <a:lnTo>
                      <a:pt x="1769" y="147"/>
                    </a:lnTo>
                    <a:lnTo>
                      <a:pt x="1765" y="150"/>
                    </a:lnTo>
                    <a:lnTo>
                      <a:pt x="1762" y="154"/>
                    </a:lnTo>
                    <a:lnTo>
                      <a:pt x="1759" y="158"/>
                    </a:lnTo>
                    <a:lnTo>
                      <a:pt x="1756" y="158"/>
                    </a:lnTo>
                    <a:lnTo>
                      <a:pt x="1753" y="158"/>
                    </a:lnTo>
                    <a:lnTo>
                      <a:pt x="1756" y="154"/>
                    </a:lnTo>
                    <a:lnTo>
                      <a:pt x="1759" y="150"/>
                    </a:lnTo>
                    <a:lnTo>
                      <a:pt x="1759" y="150"/>
                    </a:lnTo>
                    <a:lnTo>
                      <a:pt x="1759" y="147"/>
                    </a:lnTo>
                    <a:lnTo>
                      <a:pt x="1756" y="143"/>
                    </a:lnTo>
                    <a:lnTo>
                      <a:pt x="1756" y="143"/>
                    </a:lnTo>
                    <a:lnTo>
                      <a:pt x="1756" y="139"/>
                    </a:lnTo>
                    <a:lnTo>
                      <a:pt x="1756" y="139"/>
                    </a:lnTo>
                    <a:lnTo>
                      <a:pt x="1759" y="139"/>
                    </a:lnTo>
                    <a:lnTo>
                      <a:pt x="1759" y="139"/>
                    </a:lnTo>
                    <a:lnTo>
                      <a:pt x="1762" y="136"/>
                    </a:lnTo>
                    <a:lnTo>
                      <a:pt x="1762" y="136"/>
                    </a:lnTo>
                    <a:lnTo>
                      <a:pt x="1765" y="136"/>
                    </a:lnTo>
                    <a:lnTo>
                      <a:pt x="1769" y="136"/>
                    </a:lnTo>
                    <a:lnTo>
                      <a:pt x="1769" y="136"/>
                    </a:lnTo>
                    <a:lnTo>
                      <a:pt x="1772" y="136"/>
                    </a:lnTo>
                    <a:lnTo>
                      <a:pt x="1769" y="136"/>
                    </a:lnTo>
                    <a:lnTo>
                      <a:pt x="1769" y="132"/>
                    </a:lnTo>
                    <a:lnTo>
                      <a:pt x="1765" y="128"/>
                    </a:lnTo>
                    <a:lnTo>
                      <a:pt x="1765" y="125"/>
                    </a:lnTo>
                    <a:lnTo>
                      <a:pt x="1762" y="121"/>
                    </a:lnTo>
                    <a:lnTo>
                      <a:pt x="1762" y="117"/>
                    </a:lnTo>
                    <a:lnTo>
                      <a:pt x="1759" y="114"/>
                    </a:lnTo>
                    <a:lnTo>
                      <a:pt x="1759" y="110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916680" y="4034520"/>
                <a:ext cx="1711440" cy="150480"/>
              </a:xfrm>
              <a:custGeom>
                <a:avLst/>
                <a:gdLst/>
                <a:ahLst/>
                <a:rect l="l" t="t" r="r" b="b"/>
                <a:pathLst>
                  <a:path w="1542" h="124">
                    <a:moveTo>
                      <a:pt x="43" y="102"/>
                    </a:moveTo>
                    <a:lnTo>
                      <a:pt x="43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49" y="102"/>
                    </a:lnTo>
                    <a:lnTo>
                      <a:pt x="49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3" y="102"/>
                    </a:lnTo>
                    <a:close/>
                    <a:moveTo>
                      <a:pt x="37" y="22"/>
                    </a:moveTo>
                    <a:lnTo>
                      <a:pt x="6" y="33"/>
                    </a:lnTo>
                    <a:lnTo>
                      <a:pt x="27" y="40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37" y="22"/>
                    </a:lnTo>
                    <a:close/>
                    <a:moveTo>
                      <a:pt x="21" y="7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46" y="7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21" y="7"/>
                    </a:lnTo>
                    <a:close/>
                    <a:moveTo>
                      <a:pt x="353" y="69"/>
                    </a:moveTo>
                    <a:lnTo>
                      <a:pt x="359" y="69"/>
                    </a:lnTo>
                    <a:lnTo>
                      <a:pt x="365" y="69"/>
                    </a:lnTo>
                    <a:lnTo>
                      <a:pt x="368" y="69"/>
                    </a:lnTo>
                    <a:lnTo>
                      <a:pt x="374" y="66"/>
                    </a:lnTo>
                    <a:lnTo>
                      <a:pt x="377" y="62"/>
                    </a:lnTo>
                    <a:lnTo>
                      <a:pt x="380" y="58"/>
                    </a:lnTo>
                    <a:lnTo>
                      <a:pt x="380" y="58"/>
                    </a:lnTo>
                    <a:lnTo>
                      <a:pt x="377" y="55"/>
                    </a:lnTo>
                    <a:lnTo>
                      <a:pt x="377" y="58"/>
                    </a:lnTo>
                    <a:lnTo>
                      <a:pt x="374" y="58"/>
                    </a:lnTo>
                    <a:lnTo>
                      <a:pt x="371" y="62"/>
                    </a:lnTo>
                    <a:lnTo>
                      <a:pt x="365" y="66"/>
                    </a:lnTo>
                    <a:lnTo>
                      <a:pt x="362" y="66"/>
                    </a:lnTo>
                    <a:lnTo>
                      <a:pt x="359" y="69"/>
                    </a:lnTo>
                    <a:lnTo>
                      <a:pt x="356" y="69"/>
                    </a:lnTo>
                    <a:lnTo>
                      <a:pt x="353" y="69"/>
                    </a:lnTo>
                    <a:close/>
                    <a:moveTo>
                      <a:pt x="343" y="66"/>
                    </a:moveTo>
                    <a:lnTo>
                      <a:pt x="346" y="62"/>
                    </a:lnTo>
                    <a:lnTo>
                      <a:pt x="349" y="58"/>
                    </a:lnTo>
                    <a:lnTo>
                      <a:pt x="353" y="51"/>
                    </a:lnTo>
                    <a:lnTo>
                      <a:pt x="356" y="47"/>
                    </a:lnTo>
                    <a:lnTo>
                      <a:pt x="356" y="44"/>
                    </a:lnTo>
                    <a:lnTo>
                      <a:pt x="359" y="40"/>
                    </a:lnTo>
                    <a:lnTo>
                      <a:pt x="362" y="36"/>
                    </a:lnTo>
                    <a:lnTo>
                      <a:pt x="365" y="36"/>
                    </a:lnTo>
                    <a:lnTo>
                      <a:pt x="371" y="33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84" y="33"/>
                    </a:lnTo>
                    <a:lnTo>
                      <a:pt x="387" y="33"/>
                    </a:lnTo>
                    <a:lnTo>
                      <a:pt x="390" y="33"/>
                    </a:lnTo>
                    <a:lnTo>
                      <a:pt x="390" y="36"/>
                    </a:lnTo>
                    <a:lnTo>
                      <a:pt x="393" y="40"/>
                    </a:lnTo>
                    <a:lnTo>
                      <a:pt x="387" y="36"/>
                    </a:lnTo>
                    <a:lnTo>
                      <a:pt x="384" y="36"/>
                    </a:lnTo>
                    <a:lnTo>
                      <a:pt x="377" y="36"/>
                    </a:lnTo>
                    <a:lnTo>
                      <a:pt x="371" y="40"/>
                    </a:lnTo>
                    <a:lnTo>
                      <a:pt x="365" y="44"/>
                    </a:lnTo>
                    <a:lnTo>
                      <a:pt x="359" y="47"/>
                    </a:lnTo>
                    <a:lnTo>
                      <a:pt x="353" y="55"/>
                    </a:lnTo>
                    <a:lnTo>
                      <a:pt x="343" y="66"/>
                    </a:lnTo>
                    <a:close/>
                    <a:moveTo>
                      <a:pt x="929" y="62"/>
                    </a:moveTo>
                    <a:lnTo>
                      <a:pt x="935" y="66"/>
                    </a:lnTo>
                    <a:lnTo>
                      <a:pt x="938" y="69"/>
                    </a:lnTo>
                    <a:lnTo>
                      <a:pt x="941" y="69"/>
                    </a:lnTo>
                    <a:lnTo>
                      <a:pt x="944" y="73"/>
                    </a:lnTo>
                    <a:lnTo>
                      <a:pt x="947" y="77"/>
                    </a:lnTo>
                    <a:lnTo>
                      <a:pt x="950" y="77"/>
                    </a:lnTo>
                    <a:lnTo>
                      <a:pt x="953" y="80"/>
                    </a:lnTo>
                    <a:lnTo>
                      <a:pt x="956" y="80"/>
                    </a:lnTo>
                    <a:lnTo>
                      <a:pt x="953" y="77"/>
                    </a:lnTo>
                    <a:lnTo>
                      <a:pt x="950" y="69"/>
                    </a:lnTo>
                    <a:lnTo>
                      <a:pt x="947" y="66"/>
                    </a:lnTo>
                    <a:lnTo>
                      <a:pt x="944" y="62"/>
                    </a:lnTo>
                    <a:lnTo>
                      <a:pt x="941" y="58"/>
                    </a:lnTo>
                    <a:lnTo>
                      <a:pt x="938" y="55"/>
                    </a:lnTo>
                    <a:lnTo>
                      <a:pt x="935" y="51"/>
                    </a:lnTo>
                    <a:lnTo>
                      <a:pt x="932" y="47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5"/>
                    </a:lnTo>
                    <a:lnTo>
                      <a:pt x="922" y="55"/>
                    </a:lnTo>
                    <a:lnTo>
                      <a:pt x="922" y="55"/>
                    </a:lnTo>
                    <a:lnTo>
                      <a:pt x="922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62"/>
                    </a:lnTo>
                    <a:lnTo>
                      <a:pt x="929" y="62"/>
                    </a:lnTo>
                    <a:lnTo>
                      <a:pt x="929" y="62"/>
                    </a:lnTo>
                    <a:close/>
                    <a:moveTo>
                      <a:pt x="935" y="77"/>
                    </a:moveTo>
                    <a:lnTo>
                      <a:pt x="938" y="77"/>
                    </a:lnTo>
                    <a:lnTo>
                      <a:pt x="941" y="80"/>
                    </a:lnTo>
                    <a:lnTo>
                      <a:pt x="944" y="80"/>
                    </a:lnTo>
                    <a:lnTo>
                      <a:pt x="947" y="80"/>
                    </a:lnTo>
                    <a:lnTo>
                      <a:pt x="950" y="80"/>
                    </a:lnTo>
                    <a:lnTo>
                      <a:pt x="950" y="80"/>
                    </a:lnTo>
                    <a:lnTo>
                      <a:pt x="953" y="80"/>
                    </a:lnTo>
                    <a:lnTo>
                      <a:pt x="953" y="80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47" y="84"/>
                    </a:lnTo>
                    <a:lnTo>
                      <a:pt x="944" y="84"/>
                    </a:lnTo>
                    <a:lnTo>
                      <a:pt x="941" y="80"/>
                    </a:lnTo>
                    <a:lnTo>
                      <a:pt x="938" y="80"/>
                    </a:lnTo>
                    <a:lnTo>
                      <a:pt x="935" y="77"/>
                    </a:lnTo>
                    <a:lnTo>
                      <a:pt x="935" y="77"/>
                    </a:lnTo>
                    <a:close/>
                    <a:moveTo>
                      <a:pt x="966" y="80"/>
                    </a:moveTo>
                    <a:lnTo>
                      <a:pt x="969" y="80"/>
                    </a:lnTo>
                    <a:lnTo>
                      <a:pt x="975" y="77"/>
                    </a:lnTo>
                    <a:lnTo>
                      <a:pt x="981" y="77"/>
                    </a:lnTo>
                    <a:lnTo>
                      <a:pt x="987" y="77"/>
                    </a:lnTo>
                    <a:lnTo>
                      <a:pt x="994" y="77"/>
                    </a:lnTo>
                    <a:lnTo>
                      <a:pt x="1000" y="77"/>
                    </a:lnTo>
                    <a:lnTo>
                      <a:pt x="1003" y="77"/>
                    </a:lnTo>
                    <a:lnTo>
                      <a:pt x="1006" y="77"/>
                    </a:lnTo>
                    <a:lnTo>
                      <a:pt x="1009" y="77"/>
                    </a:lnTo>
                    <a:lnTo>
                      <a:pt x="1012" y="77"/>
                    </a:lnTo>
                    <a:lnTo>
                      <a:pt x="1015" y="77"/>
                    </a:lnTo>
                    <a:lnTo>
                      <a:pt x="1018" y="80"/>
                    </a:lnTo>
                    <a:lnTo>
                      <a:pt x="1021" y="84"/>
                    </a:lnTo>
                    <a:lnTo>
                      <a:pt x="1025" y="88"/>
                    </a:lnTo>
                    <a:lnTo>
                      <a:pt x="1031" y="91"/>
                    </a:lnTo>
                    <a:lnTo>
                      <a:pt x="1037" y="95"/>
                    </a:lnTo>
                    <a:lnTo>
                      <a:pt x="1034" y="99"/>
                    </a:lnTo>
                    <a:lnTo>
                      <a:pt x="1031" y="95"/>
                    </a:lnTo>
                    <a:lnTo>
                      <a:pt x="1025" y="95"/>
                    </a:lnTo>
                    <a:lnTo>
                      <a:pt x="1021" y="91"/>
                    </a:lnTo>
                    <a:lnTo>
                      <a:pt x="1015" y="88"/>
                    </a:lnTo>
                    <a:lnTo>
                      <a:pt x="1012" y="88"/>
                    </a:lnTo>
                    <a:lnTo>
                      <a:pt x="1009" y="84"/>
                    </a:lnTo>
                    <a:lnTo>
                      <a:pt x="1006" y="88"/>
                    </a:lnTo>
                    <a:lnTo>
                      <a:pt x="997" y="84"/>
                    </a:lnTo>
                    <a:lnTo>
                      <a:pt x="990" y="84"/>
                    </a:lnTo>
                    <a:lnTo>
                      <a:pt x="981" y="84"/>
                    </a:lnTo>
                    <a:lnTo>
                      <a:pt x="975" y="84"/>
                    </a:lnTo>
                    <a:lnTo>
                      <a:pt x="972" y="84"/>
                    </a:lnTo>
                    <a:lnTo>
                      <a:pt x="969" y="84"/>
                    </a:lnTo>
                    <a:lnTo>
                      <a:pt x="966" y="84"/>
                    </a:lnTo>
                    <a:lnTo>
                      <a:pt x="966" y="80"/>
                    </a:lnTo>
                    <a:close/>
                    <a:moveTo>
                      <a:pt x="984" y="84"/>
                    </a:moveTo>
                    <a:lnTo>
                      <a:pt x="984" y="88"/>
                    </a:lnTo>
                    <a:lnTo>
                      <a:pt x="984" y="88"/>
                    </a:lnTo>
                    <a:lnTo>
                      <a:pt x="987" y="91"/>
                    </a:lnTo>
                    <a:lnTo>
                      <a:pt x="990" y="91"/>
                    </a:lnTo>
                    <a:lnTo>
                      <a:pt x="997" y="95"/>
                    </a:lnTo>
                    <a:lnTo>
                      <a:pt x="1003" y="95"/>
                    </a:lnTo>
                    <a:lnTo>
                      <a:pt x="1006" y="91"/>
                    </a:lnTo>
                    <a:lnTo>
                      <a:pt x="1012" y="91"/>
                    </a:lnTo>
                    <a:lnTo>
                      <a:pt x="1009" y="91"/>
                    </a:lnTo>
                    <a:lnTo>
                      <a:pt x="1003" y="91"/>
                    </a:lnTo>
                    <a:lnTo>
                      <a:pt x="1000" y="91"/>
                    </a:lnTo>
                    <a:lnTo>
                      <a:pt x="997" y="91"/>
                    </a:lnTo>
                    <a:lnTo>
                      <a:pt x="994" y="91"/>
                    </a:lnTo>
                    <a:lnTo>
                      <a:pt x="990" y="88"/>
                    </a:lnTo>
                    <a:lnTo>
                      <a:pt x="987" y="88"/>
                    </a:lnTo>
                    <a:lnTo>
                      <a:pt x="984" y="84"/>
                    </a:lnTo>
                    <a:close/>
                    <a:moveTo>
                      <a:pt x="1529" y="106"/>
                    </a:moveTo>
                    <a:lnTo>
                      <a:pt x="1529" y="110"/>
                    </a:lnTo>
                    <a:lnTo>
                      <a:pt x="1532" y="110"/>
                    </a:lnTo>
                    <a:lnTo>
                      <a:pt x="1532" y="113"/>
                    </a:lnTo>
                    <a:lnTo>
                      <a:pt x="1536" y="117"/>
                    </a:lnTo>
                    <a:lnTo>
                      <a:pt x="1536" y="117"/>
                    </a:lnTo>
                    <a:lnTo>
                      <a:pt x="1539" y="121"/>
                    </a:lnTo>
                    <a:lnTo>
                      <a:pt x="1542" y="121"/>
                    </a:lnTo>
                    <a:lnTo>
                      <a:pt x="1542" y="124"/>
                    </a:lnTo>
                    <a:lnTo>
                      <a:pt x="1542" y="124"/>
                    </a:lnTo>
                    <a:lnTo>
                      <a:pt x="1539" y="124"/>
                    </a:lnTo>
                    <a:lnTo>
                      <a:pt x="1539" y="124"/>
                    </a:lnTo>
                    <a:lnTo>
                      <a:pt x="1536" y="124"/>
                    </a:lnTo>
                    <a:lnTo>
                      <a:pt x="1536" y="124"/>
                    </a:lnTo>
                    <a:lnTo>
                      <a:pt x="1532" y="124"/>
                    </a:lnTo>
                    <a:lnTo>
                      <a:pt x="1532" y="124"/>
                    </a:lnTo>
                    <a:lnTo>
                      <a:pt x="1529" y="121"/>
                    </a:lnTo>
                    <a:lnTo>
                      <a:pt x="1529" y="121"/>
                    </a:lnTo>
                    <a:lnTo>
                      <a:pt x="1526" y="121"/>
                    </a:lnTo>
                    <a:lnTo>
                      <a:pt x="1526" y="121"/>
                    </a:lnTo>
                    <a:lnTo>
                      <a:pt x="1526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6" y="113"/>
                    </a:lnTo>
                    <a:lnTo>
                      <a:pt x="1526" y="110"/>
                    </a:lnTo>
                    <a:lnTo>
                      <a:pt x="1526" y="110"/>
                    </a:lnTo>
                    <a:lnTo>
                      <a:pt x="15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8084880" y="4917240"/>
                <a:ext cx="216360" cy="11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65280" y="4823640"/>
                <a:ext cx="191880" cy="262440"/>
              </a:xfrm>
              <a:custGeom>
                <a:avLst/>
                <a:gdLst/>
                <a:ahLst/>
                <a:rect l="l" t="t" r="r" b="b"/>
                <a:pathLst>
                  <a:path w="173" h="216">
                    <a:moveTo>
                      <a:pt x="158" y="117"/>
                    </a:moveTo>
                    <a:lnTo>
                      <a:pt x="161" y="124"/>
                    </a:lnTo>
                    <a:lnTo>
                      <a:pt x="161" y="132"/>
                    </a:lnTo>
                    <a:lnTo>
                      <a:pt x="161" y="143"/>
                    </a:lnTo>
                    <a:lnTo>
                      <a:pt x="164" y="154"/>
                    </a:lnTo>
                    <a:lnTo>
                      <a:pt x="167" y="168"/>
                    </a:lnTo>
                    <a:lnTo>
                      <a:pt x="167" y="179"/>
                    </a:lnTo>
                    <a:lnTo>
                      <a:pt x="170" y="190"/>
                    </a:lnTo>
                    <a:lnTo>
                      <a:pt x="173" y="198"/>
                    </a:lnTo>
                    <a:lnTo>
                      <a:pt x="158" y="201"/>
                    </a:lnTo>
                    <a:lnTo>
                      <a:pt x="148" y="205"/>
                    </a:lnTo>
                    <a:lnTo>
                      <a:pt x="136" y="209"/>
                    </a:lnTo>
                    <a:lnTo>
                      <a:pt x="130" y="212"/>
                    </a:lnTo>
                    <a:lnTo>
                      <a:pt x="123" y="216"/>
                    </a:lnTo>
                    <a:lnTo>
                      <a:pt x="117" y="216"/>
                    </a:lnTo>
                    <a:lnTo>
                      <a:pt x="114" y="216"/>
                    </a:lnTo>
                    <a:lnTo>
                      <a:pt x="111" y="212"/>
                    </a:lnTo>
                    <a:lnTo>
                      <a:pt x="108" y="205"/>
                    </a:lnTo>
                    <a:lnTo>
                      <a:pt x="105" y="198"/>
                    </a:lnTo>
                    <a:lnTo>
                      <a:pt x="105" y="187"/>
                    </a:lnTo>
                    <a:lnTo>
                      <a:pt x="105" y="179"/>
                    </a:lnTo>
                    <a:lnTo>
                      <a:pt x="105" y="168"/>
                    </a:lnTo>
                    <a:lnTo>
                      <a:pt x="102" y="161"/>
                    </a:lnTo>
                    <a:lnTo>
                      <a:pt x="102" y="150"/>
                    </a:lnTo>
                    <a:lnTo>
                      <a:pt x="99" y="143"/>
                    </a:lnTo>
                    <a:lnTo>
                      <a:pt x="99" y="143"/>
                    </a:lnTo>
                    <a:lnTo>
                      <a:pt x="99" y="139"/>
                    </a:lnTo>
                    <a:lnTo>
                      <a:pt x="99" y="135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99" y="128"/>
                    </a:lnTo>
                    <a:lnTo>
                      <a:pt x="102" y="128"/>
                    </a:lnTo>
                    <a:lnTo>
                      <a:pt x="102" y="124"/>
                    </a:lnTo>
                    <a:lnTo>
                      <a:pt x="105" y="124"/>
                    </a:lnTo>
                    <a:lnTo>
                      <a:pt x="105" y="124"/>
                    </a:lnTo>
                    <a:lnTo>
                      <a:pt x="108" y="124"/>
                    </a:lnTo>
                    <a:lnTo>
                      <a:pt x="111" y="124"/>
                    </a:lnTo>
                    <a:lnTo>
                      <a:pt x="117" y="121"/>
                    </a:lnTo>
                    <a:lnTo>
                      <a:pt x="127" y="121"/>
                    </a:lnTo>
                    <a:lnTo>
                      <a:pt x="139" y="121"/>
                    </a:lnTo>
                    <a:lnTo>
                      <a:pt x="158" y="117"/>
                    </a:lnTo>
                    <a:close/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865640" y="496584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59" y="0"/>
                    </a:moveTo>
                    <a:lnTo>
                      <a:pt x="62" y="7"/>
                    </a:lnTo>
                    <a:lnTo>
                      <a:pt x="62" y="15"/>
                    </a:lnTo>
                    <a:lnTo>
                      <a:pt x="62" y="26"/>
                    </a:lnTo>
                    <a:lnTo>
                      <a:pt x="65" y="37"/>
                    </a:lnTo>
                    <a:lnTo>
                      <a:pt x="68" y="51"/>
                    </a:lnTo>
                    <a:lnTo>
                      <a:pt x="68" y="62"/>
                    </a:lnTo>
                    <a:lnTo>
                      <a:pt x="71" y="73"/>
                    </a:lnTo>
                    <a:lnTo>
                      <a:pt x="74" y="81"/>
                    </a:lnTo>
                    <a:lnTo>
                      <a:pt x="59" y="84"/>
                    </a:lnTo>
                    <a:lnTo>
                      <a:pt x="49" y="88"/>
                    </a:lnTo>
                    <a:lnTo>
                      <a:pt x="37" y="92"/>
                    </a:lnTo>
                    <a:lnTo>
                      <a:pt x="31" y="95"/>
                    </a:lnTo>
                    <a:lnTo>
                      <a:pt x="24" y="99"/>
                    </a:lnTo>
                    <a:lnTo>
                      <a:pt x="18" y="99"/>
                    </a:lnTo>
                    <a:lnTo>
                      <a:pt x="15" y="99"/>
                    </a:lnTo>
                    <a:lnTo>
                      <a:pt x="12" y="95"/>
                    </a:lnTo>
                    <a:lnTo>
                      <a:pt x="9" y="88"/>
                    </a:lnTo>
                    <a:lnTo>
                      <a:pt x="6" y="81"/>
                    </a:lnTo>
                    <a:lnTo>
                      <a:pt x="6" y="70"/>
                    </a:lnTo>
                    <a:lnTo>
                      <a:pt x="6" y="62"/>
                    </a:lnTo>
                    <a:lnTo>
                      <a:pt x="6" y="51"/>
                    </a:lnTo>
                    <a:lnTo>
                      <a:pt x="3" y="44"/>
                    </a:lnTo>
                    <a:lnTo>
                      <a:pt x="3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8" y="4"/>
                    </a:lnTo>
                    <a:lnTo>
                      <a:pt x="40" y="4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975440" y="4823640"/>
                <a:ext cx="81720" cy="669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958880" y="4707000"/>
                <a:ext cx="122760" cy="982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11" y="81"/>
                    </a:moveTo>
                    <a:lnTo>
                      <a:pt x="102" y="81"/>
                    </a:lnTo>
                    <a:lnTo>
                      <a:pt x="96" y="81"/>
                    </a:lnTo>
                    <a:lnTo>
                      <a:pt x="87" y="81"/>
                    </a:lnTo>
                    <a:lnTo>
                      <a:pt x="80" y="81"/>
                    </a:lnTo>
                    <a:lnTo>
                      <a:pt x="74" y="81"/>
                    </a:lnTo>
                    <a:lnTo>
                      <a:pt x="65" y="81"/>
                    </a:lnTo>
                    <a:lnTo>
                      <a:pt x="59" y="81"/>
                    </a:lnTo>
                    <a:lnTo>
                      <a:pt x="49" y="81"/>
                    </a:lnTo>
                    <a:lnTo>
                      <a:pt x="46" y="77"/>
                    </a:lnTo>
                    <a:lnTo>
                      <a:pt x="46" y="74"/>
                    </a:lnTo>
                    <a:lnTo>
                      <a:pt x="46" y="66"/>
                    </a:lnTo>
                    <a:lnTo>
                      <a:pt x="46" y="59"/>
                    </a:lnTo>
                    <a:lnTo>
                      <a:pt x="43" y="52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3" y="37"/>
                    </a:lnTo>
                    <a:lnTo>
                      <a:pt x="53" y="37"/>
                    </a:lnTo>
                    <a:lnTo>
                      <a:pt x="59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0" y="37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02" y="41"/>
                    </a:lnTo>
                    <a:lnTo>
                      <a:pt x="108" y="41"/>
                    </a:lnTo>
                    <a:lnTo>
                      <a:pt x="108" y="44"/>
                    </a:lnTo>
                    <a:lnTo>
                      <a:pt x="108" y="48"/>
                    </a:lnTo>
                    <a:lnTo>
                      <a:pt x="108" y="55"/>
                    </a:lnTo>
                    <a:lnTo>
                      <a:pt x="108" y="63"/>
                    </a:lnTo>
                    <a:lnTo>
                      <a:pt x="108" y="70"/>
                    </a:lnTo>
                    <a:lnTo>
                      <a:pt x="108" y="74"/>
                    </a:lnTo>
                    <a:lnTo>
                      <a:pt x="111" y="81"/>
                    </a:lnTo>
                    <a:lnTo>
                      <a:pt x="111" y="81"/>
                    </a:lnTo>
                    <a:close/>
                    <a:moveTo>
                      <a:pt x="68" y="8"/>
                    </a:moveTo>
                    <a:lnTo>
                      <a:pt x="68" y="8"/>
                    </a:ln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958520" y="4752000"/>
                <a:ext cx="75240" cy="5328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8" y="44"/>
                    </a:moveTo>
                    <a:lnTo>
                      <a:pt x="59" y="44"/>
                    </a:lnTo>
                    <a:lnTo>
                      <a:pt x="53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29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5" y="4"/>
                    </a:lnTo>
                    <a:lnTo>
                      <a:pt x="65" y="7"/>
                    </a:lnTo>
                    <a:lnTo>
                      <a:pt x="65" y="11"/>
                    </a:lnTo>
                    <a:lnTo>
                      <a:pt x="65" y="18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003520" y="470700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8" y="8"/>
                    </a:move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a6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13520" y="4658400"/>
                <a:ext cx="96480" cy="307080"/>
              </a:xfrm>
              <a:custGeom>
                <a:avLst/>
                <a:gdLst/>
                <a:ahLst/>
                <a:rect l="l" t="t" r="r" b="b"/>
                <a:pathLst>
                  <a:path w="87" h="253"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  <a:close/>
                    <a:moveTo>
                      <a:pt x="84" y="180"/>
                    </a:moveTo>
                    <a:lnTo>
                      <a:pt x="84" y="183"/>
                    </a:lnTo>
                    <a:lnTo>
                      <a:pt x="84" y="183"/>
                    </a:lnTo>
                    <a:lnTo>
                      <a:pt x="80" y="183"/>
                    </a:lnTo>
                    <a:lnTo>
                      <a:pt x="80" y="183"/>
                    </a:lnTo>
                    <a:lnTo>
                      <a:pt x="77" y="183"/>
                    </a:lnTo>
                    <a:lnTo>
                      <a:pt x="77" y="183"/>
                    </a:lnTo>
                    <a:lnTo>
                      <a:pt x="74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7"/>
                    </a:lnTo>
                    <a:lnTo>
                      <a:pt x="71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2" y="187"/>
                    </a:lnTo>
                    <a:lnTo>
                      <a:pt x="59" y="187"/>
                    </a:lnTo>
                    <a:lnTo>
                      <a:pt x="53" y="191"/>
                    </a:lnTo>
                    <a:lnTo>
                      <a:pt x="49" y="191"/>
                    </a:lnTo>
                    <a:lnTo>
                      <a:pt x="43" y="191"/>
                    </a:lnTo>
                    <a:lnTo>
                      <a:pt x="40" y="191"/>
                    </a:lnTo>
                    <a:lnTo>
                      <a:pt x="34" y="191"/>
                    </a:lnTo>
                    <a:lnTo>
                      <a:pt x="31" y="191"/>
                    </a:lnTo>
                    <a:lnTo>
                      <a:pt x="31" y="191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8"/>
                    </a:lnTo>
                    <a:lnTo>
                      <a:pt x="28" y="198"/>
                    </a:lnTo>
                    <a:lnTo>
                      <a:pt x="28" y="202"/>
                    </a:lnTo>
                    <a:lnTo>
                      <a:pt x="28" y="209"/>
                    </a:lnTo>
                    <a:lnTo>
                      <a:pt x="28" y="216"/>
                    </a:lnTo>
                    <a:lnTo>
                      <a:pt x="28" y="227"/>
                    </a:lnTo>
                    <a:lnTo>
                      <a:pt x="31" y="235"/>
                    </a:lnTo>
                    <a:lnTo>
                      <a:pt x="31" y="246"/>
                    </a:lnTo>
                    <a:lnTo>
                      <a:pt x="34" y="249"/>
                    </a:lnTo>
                    <a:lnTo>
                      <a:pt x="34" y="253"/>
                    </a:lnTo>
                    <a:lnTo>
                      <a:pt x="40" y="253"/>
                    </a:lnTo>
                    <a:lnTo>
                      <a:pt x="46" y="253"/>
                    </a:lnTo>
                    <a:lnTo>
                      <a:pt x="53" y="249"/>
                    </a:lnTo>
                    <a:lnTo>
                      <a:pt x="56" y="249"/>
                    </a:lnTo>
                    <a:lnTo>
                      <a:pt x="62" y="249"/>
                    </a:lnTo>
                    <a:lnTo>
                      <a:pt x="68" y="249"/>
                    </a:lnTo>
                    <a:lnTo>
                      <a:pt x="74" y="246"/>
                    </a:lnTo>
                    <a:lnTo>
                      <a:pt x="77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7" y="246"/>
                    </a:lnTo>
                    <a:lnTo>
                      <a:pt x="87" y="242"/>
                    </a:lnTo>
                    <a:lnTo>
                      <a:pt x="84" y="238"/>
                    </a:lnTo>
                    <a:lnTo>
                      <a:pt x="84" y="235"/>
                    </a:lnTo>
                    <a:lnTo>
                      <a:pt x="84" y="227"/>
                    </a:lnTo>
                    <a:lnTo>
                      <a:pt x="84" y="224"/>
                    </a:lnTo>
                    <a:lnTo>
                      <a:pt x="84" y="216"/>
                    </a:lnTo>
                    <a:lnTo>
                      <a:pt x="84" y="213"/>
                    </a:lnTo>
                    <a:lnTo>
                      <a:pt x="84" y="209"/>
                    </a:lnTo>
                    <a:lnTo>
                      <a:pt x="87" y="205"/>
                    </a:lnTo>
                    <a:lnTo>
                      <a:pt x="87" y="198"/>
                    </a:lnTo>
                    <a:lnTo>
                      <a:pt x="87" y="194"/>
                    </a:lnTo>
                    <a:lnTo>
                      <a:pt x="87" y="191"/>
                    </a:lnTo>
                    <a:lnTo>
                      <a:pt x="87" y="187"/>
                    </a:lnTo>
                    <a:lnTo>
                      <a:pt x="87" y="183"/>
                    </a:lnTo>
                    <a:lnTo>
                      <a:pt x="87" y="180"/>
                    </a:lnTo>
                    <a:lnTo>
                      <a:pt x="84" y="18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975440" y="465840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1" y="11"/>
                    </a:move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13160" y="4876920"/>
                <a:ext cx="65160" cy="88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56" y="0"/>
                    </a:moveTo>
                    <a:lnTo>
                      <a:pt x="56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3" y="55"/>
                    </a:lnTo>
                    <a:lnTo>
                      <a:pt x="3" y="66"/>
                    </a:lnTo>
                    <a:lnTo>
                      <a:pt x="6" y="69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25" y="69"/>
                    </a:lnTo>
                    <a:lnTo>
                      <a:pt x="28" y="69"/>
                    </a:lnTo>
                    <a:lnTo>
                      <a:pt x="34" y="69"/>
                    </a:lnTo>
                    <a:lnTo>
                      <a:pt x="40" y="69"/>
                    </a:lnTo>
                    <a:lnTo>
                      <a:pt x="46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6" y="66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56" y="58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9" y="25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9" y="7"/>
                    </a:lnTo>
                    <a:lnTo>
                      <a:pt x="59" y="3"/>
                    </a:lnTo>
                    <a:lnTo>
                      <a:pt x="59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971840" y="4653360"/>
                <a:ext cx="237240" cy="58320"/>
              </a:xfrm>
              <a:custGeom>
                <a:avLst/>
                <a:gdLst/>
                <a:ahLst/>
                <a:rect l="l" t="t" r="r" b="b"/>
                <a:pathLst>
                  <a:path w="214" h="48">
                    <a:moveTo>
                      <a:pt x="124" y="37"/>
                    </a:moveTo>
                    <a:lnTo>
                      <a:pt x="130" y="37"/>
                    </a:lnTo>
                    <a:lnTo>
                      <a:pt x="140" y="37"/>
                    </a:lnTo>
                    <a:lnTo>
                      <a:pt x="149" y="37"/>
                    </a:lnTo>
                    <a:lnTo>
                      <a:pt x="155" y="37"/>
                    </a:lnTo>
                    <a:lnTo>
                      <a:pt x="164" y="37"/>
                    </a:lnTo>
                    <a:lnTo>
                      <a:pt x="171" y="37"/>
                    </a:lnTo>
                    <a:lnTo>
                      <a:pt x="177" y="33"/>
                    </a:lnTo>
                    <a:lnTo>
                      <a:pt x="180" y="33"/>
                    </a:lnTo>
                    <a:lnTo>
                      <a:pt x="177" y="33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5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80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2" y="4"/>
                    </a:lnTo>
                    <a:lnTo>
                      <a:pt x="195" y="4"/>
                    </a:lnTo>
                    <a:lnTo>
                      <a:pt x="199" y="4"/>
                    </a:lnTo>
                    <a:lnTo>
                      <a:pt x="202" y="8"/>
                    </a:lnTo>
                    <a:lnTo>
                      <a:pt x="205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08" y="11"/>
                    </a:lnTo>
                    <a:lnTo>
                      <a:pt x="205" y="8"/>
                    </a:lnTo>
                    <a:lnTo>
                      <a:pt x="202" y="8"/>
                    </a:lnTo>
                    <a:lnTo>
                      <a:pt x="195" y="8"/>
                    </a:lnTo>
                    <a:lnTo>
                      <a:pt x="192" y="8"/>
                    </a:lnTo>
                    <a:lnTo>
                      <a:pt x="189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9"/>
                    </a:lnTo>
                    <a:lnTo>
                      <a:pt x="180" y="22"/>
                    </a:lnTo>
                    <a:lnTo>
                      <a:pt x="180" y="22"/>
                    </a:lnTo>
                    <a:lnTo>
                      <a:pt x="180" y="26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80" y="33"/>
                    </a:lnTo>
                    <a:lnTo>
                      <a:pt x="183" y="33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6" y="37"/>
                    </a:lnTo>
                    <a:lnTo>
                      <a:pt x="189" y="37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202" y="41"/>
                    </a:lnTo>
                    <a:lnTo>
                      <a:pt x="205" y="41"/>
                    </a:lnTo>
                    <a:lnTo>
                      <a:pt x="208" y="41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1" y="44"/>
                    </a:lnTo>
                    <a:lnTo>
                      <a:pt x="211" y="48"/>
                    </a:lnTo>
                    <a:lnTo>
                      <a:pt x="211" y="48"/>
                    </a:lnTo>
                    <a:lnTo>
                      <a:pt x="208" y="48"/>
                    </a:lnTo>
                    <a:lnTo>
                      <a:pt x="205" y="48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9" y="44"/>
                    </a:lnTo>
                    <a:lnTo>
                      <a:pt x="186" y="44"/>
                    </a:lnTo>
                    <a:lnTo>
                      <a:pt x="177" y="44"/>
                    </a:lnTo>
                    <a:lnTo>
                      <a:pt x="171" y="44"/>
                    </a:lnTo>
                    <a:lnTo>
                      <a:pt x="161" y="44"/>
                    </a:lnTo>
                    <a:lnTo>
                      <a:pt x="155" y="41"/>
                    </a:lnTo>
                    <a:lnTo>
                      <a:pt x="146" y="41"/>
                    </a:lnTo>
                    <a:lnTo>
                      <a:pt x="140" y="41"/>
                    </a:lnTo>
                    <a:lnTo>
                      <a:pt x="130" y="37"/>
                    </a:lnTo>
                    <a:lnTo>
                      <a:pt x="124" y="37"/>
                    </a:lnTo>
                    <a:close/>
                    <a:moveTo>
                      <a:pt x="87" y="37"/>
                    </a:moveTo>
                    <a:lnTo>
                      <a:pt x="78" y="37"/>
                    </a:lnTo>
                    <a:lnTo>
                      <a:pt x="65" y="37"/>
                    </a:lnTo>
                    <a:lnTo>
                      <a:pt x="50" y="37"/>
                    </a:lnTo>
                    <a:lnTo>
                      <a:pt x="37" y="37"/>
                    </a:lnTo>
                    <a:lnTo>
                      <a:pt x="22" y="37"/>
                    </a:lnTo>
                    <a:lnTo>
                      <a:pt x="13" y="37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7" y="41"/>
                    </a:lnTo>
                    <a:lnTo>
                      <a:pt x="16" y="41"/>
                    </a:lnTo>
                    <a:lnTo>
                      <a:pt x="25" y="41"/>
                    </a:lnTo>
                    <a:lnTo>
                      <a:pt x="34" y="41"/>
                    </a:lnTo>
                    <a:lnTo>
                      <a:pt x="47" y="41"/>
                    </a:lnTo>
                    <a:lnTo>
                      <a:pt x="56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87" y="37"/>
                    </a:lnTo>
                    <a:close/>
                  </a:path>
                </a:pathLst>
              </a:custGeom>
              <a:solidFill>
                <a:srgbClr val="7f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996680" y="4698360"/>
                <a:ext cx="278640" cy="53280"/>
              </a:xfrm>
              <a:custGeom>
                <a:avLst/>
                <a:gdLst/>
                <a:ahLst/>
                <a:rect l="l" t="t" r="r" b="b"/>
                <a:pathLst>
                  <a:path w="251" h="44">
                    <a:moveTo>
                      <a:pt x="56" y="40"/>
                    </a:moveTo>
                    <a:lnTo>
                      <a:pt x="66" y="40"/>
                    </a:lnTo>
                    <a:lnTo>
                      <a:pt x="75" y="40"/>
                    </a:lnTo>
                    <a:lnTo>
                      <a:pt x="84" y="40"/>
                    </a:lnTo>
                    <a:lnTo>
                      <a:pt x="9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4" y="40"/>
                    </a:lnTo>
                    <a:lnTo>
                      <a:pt x="143" y="40"/>
                    </a:lnTo>
                    <a:lnTo>
                      <a:pt x="152" y="40"/>
                    </a:lnTo>
                    <a:lnTo>
                      <a:pt x="162" y="40"/>
                    </a:lnTo>
                    <a:lnTo>
                      <a:pt x="171" y="40"/>
                    </a:lnTo>
                    <a:lnTo>
                      <a:pt x="180" y="40"/>
                    </a:lnTo>
                    <a:lnTo>
                      <a:pt x="189" y="40"/>
                    </a:lnTo>
                    <a:lnTo>
                      <a:pt x="202" y="40"/>
                    </a:lnTo>
                    <a:lnTo>
                      <a:pt x="211" y="40"/>
                    </a:lnTo>
                    <a:lnTo>
                      <a:pt x="211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17" y="40"/>
                    </a:lnTo>
                    <a:lnTo>
                      <a:pt x="220" y="37"/>
                    </a:lnTo>
                    <a:lnTo>
                      <a:pt x="223" y="37"/>
                    </a:lnTo>
                    <a:lnTo>
                      <a:pt x="223" y="37"/>
                    </a:lnTo>
                    <a:lnTo>
                      <a:pt x="227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5" y="37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05" y="33"/>
                    </a:lnTo>
                    <a:lnTo>
                      <a:pt x="196" y="33"/>
                    </a:lnTo>
                    <a:lnTo>
                      <a:pt x="189" y="33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4" y="22"/>
                    </a:lnTo>
                    <a:lnTo>
                      <a:pt x="174" y="18"/>
                    </a:lnTo>
                    <a:lnTo>
                      <a:pt x="174" y="18"/>
                    </a:lnTo>
                    <a:lnTo>
                      <a:pt x="174" y="15"/>
                    </a:lnTo>
                    <a:lnTo>
                      <a:pt x="174" y="15"/>
                    </a:lnTo>
                    <a:lnTo>
                      <a:pt x="174" y="11"/>
                    </a:lnTo>
                    <a:lnTo>
                      <a:pt x="177" y="11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6" y="7"/>
                    </a:lnTo>
                    <a:lnTo>
                      <a:pt x="196" y="7"/>
                    </a:lnTo>
                    <a:lnTo>
                      <a:pt x="202" y="11"/>
                    </a:lnTo>
                    <a:lnTo>
                      <a:pt x="211" y="11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36" y="15"/>
                    </a:lnTo>
                    <a:lnTo>
                      <a:pt x="242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30" y="7"/>
                    </a:lnTo>
                    <a:lnTo>
                      <a:pt x="220" y="7"/>
                    </a:lnTo>
                    <a:lnTo>
                      <a:pt x="214" y="4"/>
                    </a:lnTo>
                    <a:lnTo>
                      <a:pt x="205" y="4"/>
                    </a:lnTo>
                    <a:lnTo>
                      <a:pt x="199" y="4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4" y="4"/>
                    </a:lnTo>
                    <a:lnTo>
                      <a:pt x="174" y="4"/>
                    </a:lnTo>
                    <a:lnTo>
                      <a:pt x="171" y="7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71" y="22"/>
                    </a:lnTo>
                    <a:lnTo>
                      <a:pt x="171" y="22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33"/>
                    </a:lnTo>
                    <a:lnTo>
                      <a:pt x="168" y="33"/>
                    </a:lnTo>
                    <a:lnTo>
                      <a:pt x="162" y="33"/>
                    </a:lnTo>
                    <a:lnTo>
                      <a:pt x="158" y="33"/>
                    </a:lnTo>
                    <a:lnTo>
                      <a:pt x="149" y="33"/>
                    </a:lnTo>
                    <a:lnTo>
                      <a:pt x="143" y="33"/>
                    </a:lnTo>
                    <a:lnTo>
                      <a:pt x="134" y="37"/>
                    </a:lnTo>
                    <a:lnTo>
                      <a:pt x="127" y="37"/>
                    </a:lnTo>
                    <a:lnTo>
                      <a:pt x="118" y="37"/>
                    </a:lnTo>
                    <a:lnTo>
                      <a:pt x="109" y="37"/>
                    </a:lnTo>
                    <a:lnTo>
                      <a:pt x="100" y="37"/>
                    </a:lnTo>
                    <a:lnTo>
                      <a:pt x="90" y="37"/>
                    </a:lnTo>
                    <a:lnTo>
                      <a:pt x="81" y="37"/>
                    </a:lnTo>
                    <a:lnTo>
                      <a:pt x="72" y="37"/>
                    </a:lnTo>
                    <a:lnTo>
                      <a:pt x="66" y="40"/>
                    </a:lnTo>
                    <a:lnTo>
                      <a:pt x="56" y="40"/>
                    </a:lnTo>
                    <a:close/>
                    <a:moveTo>
                      <a:pt x="0" y="22"/>
                    </a:move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close/>
                    <a:moveTo>
                      <a:pt x="59" y="4"/>
                    </a:moveTo>
                    <a:lnTo>
                      <a:pt x="59" y="7"/>
                    </a:lnTo>
                    <a:lnTo>
                      <a:pt x="59" y="7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6" y="15"/>
                    </a:lnTo>
                    <a:lnTo>
                      <a:pt x="72" y="15"/>
                    </a:lnTo>
                    <a:lnTo>
                      <a:pt x="81" y="11"/>
                    </a:lnTo>
                    <a:lnTo>
                      <a:pt x="90" y="11"/>
                    </a:lnTo>
                    <a:lnTo>
                      <a:pt x="100" y="7"/>
                    </a:lnTo>
                    <a:lnTo>
                      <a:pt x="112" y="7"/>
                    </a:lnTo>
                    <a:lnTo>
                      <a:pt x="124" y="4"/>
                    </a:lnTo>
                    <a:lnTo>
                      <a:pt x="137" y="4"/>
                    </a:lnTo>
                    <a:lnTo>
                      <a:pt x="124" y="4"/>
                    </a:lnTo>
                    <a:lnTo>
                      <a:pt x="115" y="4"/>
                    </a:lnTo>
                    <a:lnTo>
                      <a:pt x="106" y="4"/>
                    </a:lnTo>
                    <a:lnTo>
                      <a:pt x="96" y="4"/>
                    </a:lnTo>
                    <a:lnTo>
                      <a:pt x="87" y="4"/>
                    </a:lnTo>
                    <a:lnTo>
                      <a:pt x="78" y="4"/>
                    </a:lnTo>
                    <a:lnTo>
                      <a:pt x="6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951320" y="4743360"/>
                <a:ext cx="86400" cy="6696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71" y="7"/>
                    </a:move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7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28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4" y="51"/>
                    </a:lnTo>
                    <a:lnTo>
                      <a:pt x="44" y="51"/>
                    </a:lnTo>
                    <a:lnTo>
                      <a:pt x="50" y="51"/>
                    </a:lnTo>
                    <a:lnTo>
                      <a:pt x="59" y="51"/>
                    </a:lnTo>
                    <a:lnTo>
                      <a:pt x="68" y="51"/>
                    </a:lnTo>
                    <a:lnTo>
                      <a:pt x="74" y="51"/>
                    </a:lnTo>
                    <a:lnTo>
                      <a:pt x="78" y="51"/>
                    </a:lnTo>
                    <a:lnTo>
                      <a:pt x="78" y="51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4" y="55"/>
                    </a:lnTo>
                    <a:lnTo>
                      <a:pt x="68" y="55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5"/>
                    </a:lnTo>
                    <a:lnTo>
                      <a:pt x="47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9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7"/>
                    </a:lnTo>
                    <a:lnTo>
                      <a:pt x="3" y="40"/>
                    </a:lnTo>
                    <a:lnTo>
                      <a:pt x="3" y="33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047800" y="4773960"/>
                <a:ext cx="227520" cy="36360"/>
              </a:xfrm>
              <a:custGeom>
                <a:avLst/>
                <a:gdLst/>
                <a:ahLst/>
                <a:rect l="l" t="t" r="r" b="b"/>
                <a:pathLst>
                  <a:path w="205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6" y="26"/>
                    </a:lnTo>
                    <a:lnTo>
                      <a:pt x="28" y="30"/>
                    </a:lnTo>
                    <a:lnTo>
                      <a:pt x="41" y="30"/>
                    </a:lnTo>
                    <a:lnTo>
                      <a:pt x="53" y="30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3" y="30"/>
                    </a:lnTo>
                    <a:lnTo>
                      <a:pt x="115" y="30"/>
                    </a:lnTo>
                    <a:lnTo>
                      <a:pt x="127" y="30"/>
                    </a:lnTo>
                    <a:lnTo>
                      <a:pt x="140" y="30"/>
                    </a:lnTo>
                    <a:lnTo>
                      <a:pt x="152" y="30"/>
                    </a:lnTo>
                    <a:lnTo>
                      <a:pt x="165" y="30"/>
                    </a:lnTo>
                    <a:lnTo>
                      <a:pt x="180" y="30"/>
                    </a:lnTo>
                    <a:lnTo>
                      <a:pt x="192" y="30"/>
                    </a:lnTo>
                    <a:lnTo>
                      <a:pt x="205" y="30"/>
                    </a:lnTo>
                    <a:lnTo>
                      <a:pt x="196" y="30"/>
                    </a:lnTo>
                    <a:lnTo>
                      <a:pt x="183" y="30"/>
                    </a:lnTo>
                    <a:lnTo>
                      <a:pt x="174" y="26"/>
                    </a:lnTo>
                    <a:lnTo>
                      <a:pt x="162" y="26"/>
                    </a:lnTo>
                    <a:lnTo>
                      <a:pt x="149" y="26"/>
                    </a:lnTo>
                    <a:lnTo>
                      <a:pt x="137" y="22"/>
                    </a:lnTo>
                    <a:lnTo>
                      <a:pt x="121" y="22"/>
                    </a:lnTo>
                    <a:lnTo>
                      <a:pt x="109" y="22"/>
                    </a:lnTo>
                    <a:lnTo>
                      <a:pt x="96" y="22"/>
                    </a:lnTo>
                    <a:lnTo>
                      <a:pt x="84" y="19"/>
                    </a:lnTo>
                    <a:lnTo>
                      <a:pt x="75" y="19"/>
                    </a:lnTo>
                    <a:lnTo>
                      <a:pt x="62" y="19"/>
                    </a:lnTo>
                    <a:lnTo>
                      <a:pt x="53" y="19"/>
                    </a:lnTo>
                    <a:lnTo>
                      <a:pt x="47" y="15"/>
                    </a:lnTo>
                    <a:lnTo>
                      <a:pt x="41" y="15"/>
                    </a:lnTo>
                    <a:lnTo>
                      <a:pt x="35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174880" y="4747320"/>
                <a:ext cx="60840" cy="630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"/>
                    </a:lnTo>
                    <a:lnTo>
                      <a:pt x="52" y="8"/>
                    </a:lnTo>
                    <a:lnTo>
                      <a:pt x="52" y="15"/>
                    </a:lnTo>
                    <a:lnTo>
                      <a:pt x="52" y="26"/>
                    </a:lnTo>
                    <a:lnTo>
                      <a:pt x="52" y="37"/>
                    </a:lnTo>
                    <a:lnTo>
                      <a:pt x="52" y="44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7" y="52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3" y="52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178120" y="474732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3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6" y="26"/>
                    </a:lnTo>
                    <a:lnTo>
                      <a:pt x="46" y="33"/>
                    </a:lnTo>
                    <a:lnTo>
                      <a:pt x="49" y="41"/>
                    </a:lnTo>
                    <a:lnTo>
                      <a:pt x="49" y="48"/>
                    </a:lnTo>
                    <a:lnTo>
                      <a:pt x="49" y="48"/>
                    </a:lnTo>
                    <a:lnTo>
                      <a:pt x="43" y="48"/>
                    </a:lnTo>
                    <a:lnTo>
                      <a:pt x="37" y="48"/>
                    </a:lnTo>
                    <a:lnTo>
                      <a:pt x="31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174880" y="4787280"/>
                <a:ext cx="60840" cy="23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3" y="19"/>
                    </a:moveTo>
                    <a:lnTo>
                      <a:pt x="9" y="19"/>
                    </a:lnTo>
                    <a:lnTo>
                      <a:pt x="15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8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d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178120" y="4792320"/>
                <a:ext cx="54360" cy="129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40960" y="4747320"/>
                <a:ext cx="229680" cy="39960"/>
              </a:xfrm>
              <a:custGeom>
                <a:avLst/>
                <a:gdLst/>
                <a:ahLst/>
                <a:rect l="l" t="t" r="r" b="b"/>
                <a:pathLst>
                  <a:path w="207" h="33">
                    <a:moveTo>
                      <a:pt x="3" y="0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04" y="4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4" y="22"/>
                    </a:lnTo>
                    <a:lnTo>
                      <a:pt x="207" y="26"/>
                    </a:lnTo>
                    <a:lnTo>
                      <a:pt x="207" y="30"/>
                    </a:lnTo>
                    <a:lnTo>
                      <a:pt x="207" y="33"/>
                    </a:lnTo>
                    <a:lnTo>
                      <a:pt x="207" y="33"/>
                    </a:lnTo>
                    <a:lnTo>
                      <a:pt x="204" y="30"/>
                    </a:lnTo>
                    <a:lnTo>
                      <a:pt x="204" y="26"/>
                    </a:lnTo>
                    <a:lnTo>
                      <a:pt x="204" y="22"/>
                    </a:lnTo>
                    <a:lnTo>
                      <a:pt x="204" y="19"/>
                    </a:lnTo>
                    <a:lnTo>
                      <a:pt x="204" y="15"/>
                    </a:lnTo>
                    <a:lnTo>
                      <a:pt x="204" y="11"/>
                    </a:lnTo>
                    <a:lnTo>
                      <a:pt x="201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70" y="8"/>
                    </a:lnTo>
                    <a:lnTo>
                      <a:pt x="158" y="8"/>
                    </a:lnTo>
                    <a:lnTo>
                      <a:pt x="145" y="8"/>
                    </a:lnTo>
                    <a:lnTo>
                      <a:pt x="136" y="8"/>
                    </a:lnTo>
                    <a:lnTo>
                      <a:pt x="123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0" y="8"/>
                    </a:lnTo>
                    <a:lnTo>
                      <a:pt x="71" y="8"/>
                    </a:lnTo>
                    <a:lnTo>
                      <a:pt x="58" y="8"/>
                    </a:lnTo>
                    <a:lnTo>
                      <a:pt x="49" y="8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175240" y="474732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8120" y="4747320"/>
                <a:ext cx="54360" cy="936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075520" y="4698360"/>
                <a:ext cx="178560" cy="48600"/>
              </a:xfrm>
              <a:custGeom>
                <a:avLst/>
                <a:gdLst/>
                <a:ahLst/>
                <a:rect l="l" t="t" r="r" b="b"/>
                <a:pathLst>
                  <a:path w="161" h="40">
                    <a:moveTo>
                      <a:pt x="161" y="0"/>
                    </a:moveTo>
                    <a:lnTo>
                      <a:pt x="158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11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3" y="18"/>
                    </a:lnTo>
                    <a:lnTo>
                      <a:pt x="139" y="18"/>
                    </a:lnTo>
                    <a:lnTo>
                      <a:pt x="139" y="18"/>
                    </a:lnTo>
                    <a:lnTo>
                      <a:pt x="136" y="18"/>
                    </a:lnTo>
                    <a:lnTo>
                      <a:pt x="133" y="18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2" y="22"/>
                    </a:lnTo>
                    <a:lnTo>
                      <a:pt x="105" y="22"/>
                    </a:lnTo>
                    <a:lnTo>
                      <a:pt x="99" y="22"/>
                    </a:lnTo>
                    <a:lnTo>
                      <a:pt x="93" y="22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2" y="26"/>
                    </a:lnTo>
                    <a:lnTo>
                      <a:pt x="59" y="26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9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43" y="40"/>
                    </a:lnTo>
                    <a:lnTo>
                      <a:pt x="50" y="37"/>
                    </a:lnTo>
                    <a:lnTo>
                      <a:pt x="59" y="37"/>
                    </a:lnTo>
                    <a:lnTo>
                      <a:pt x="68" y="37"/>
                    </a:lnTo>
                    <a:lnTo>
                      <a:pt x="74" y="37"/>
                    </a:lnTo>
                    <a:lnTo>
                      <a:pt x="84" y="37"/>
                    </a:lnTo>
                    <a:lnTo>
                      <a:pt x="93" y="37"/>
                    </a:lnTo>
                    <a:lnTo>
                      <a:pt x="102" y="37"/>
                    </a:lnTo>
                    <a:lnTo>
                      <a:pt x="108" y="37"/>
                    </a:lnTo>
                    <a:lnTo>
                      <a:pt x="118" y="37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5" y="29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2"/>
                    </a:lnTo>
                    <a:lnTo>
                      <a:pt x="152" y="18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52" y="11"/>
                    </a:lnTo>
                    <a:lnTo>
                      <a:pt x="152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44120" y="4970880"/>
                <a:ext cx="48600" cy="120240"/>
              </a:xfrm>
              <a:custGeom>
                <a:avLst/>
                <a:gdLst/>
                <a:ahLst/>
                <a:rect l="l" t="t" r="r" b="b"/>
                <a:pathLst>
                  <a:path w="44" h="99">
                    <a:moveTo>
                      <a:pt x="22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1" y="7"/>
                    </a:lnTo>
                    <a:lnTo>
                      <a:pt x="28" y="18"/>
                    </a:lnTo>
                    <a:lnTo>
                      <a:pt x="28" y="33"/>
                    </a:lnTo>
                    <a:lnTo>
                      <a:pt x="31" y="47"/>
                    </a:lnTo>
                    <a:lnTo>
                      <a:pt x="31" y="62"/>
                    </a:lnTo>
                    <a:lnTo>
                      <a:pt x="34" y="77"/>
                    </a:lnTo>
                    <a:lnTo>
                      <a:pt x="41" y="91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1" y="91"/>
                    </a:lnTo>
                    <a:lnTo>
                      <a:pt x="28" y="84"/>
                    </a:lnTo>
                    <a:lnTo>
                      <a:pt x="25" y="73"/>
                    </a:lnTo>
                    <a:lnTo>
                      <a:pt x="22" y="58"/>
                    </a:lnTo>
                    <a:lnTo>
                      <a:pt x="22" y="44"/>
                    </a:lnTo>
                    <a:lnTo>
                      <a:pt x="22" y="25"/>
                    </a:lnTo>
                    <a:lnTo>
                      <a:pt x="22" y="14"/>
                    </a:lnTo>
                    <a:lnTo>
                      <a:pt x="22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0" y="7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47"/>
                    </a:lnTo>
                    <a:lnTo>
                      <a:pt x="13" y="62"/>
                    </a:lnTo>
                    <a:lnTo>
                      <a:pt x="16" y="77"/>
                    </a:lnTo>
                    <a:lnTo>
                      <a:pt x="19" y="8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6" y="95"/>
                    </a:lnTo>
                    <a:lnTo>
                      <a:pt x="16" y="95"/>
                    </a:lnTo>
                    <a:lnTo>
                      <a:pt x="13" y="91"/>
                    </a:lnTo>
                    <a:lnTo>
                      <a:pt x="10" y="80"/>
                    </a:lnTo>
                    <a:lnTo>
                      <a:pt x="7" y="69"/>
                    </a:lnTo>
                    <a:lnTo>
                      <a:pt x="4" y="55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1"/>
                    </a:lnTo>
                    <a:lnTo>
                      <a:pt x="260" y="11"/>
                    </a:lnTo>
                    <a:lnTo>
                      <a:pt x="260" y="11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72200" y="4810320"/>
                <a:ext cx="309600" cy="88560"/>
              </a:xfrm>
              <a:custGeom>
                <a:avLst/>
                <a:gdLst/>
                <a:ahLst/>
                <a:rect l="l" t="t" r="r" b="b"/>
                <a:pathLst>
                  <a:path w="279" h="73">
                    <a:moveTo>
                      <a:pt x="183" y="0"/>
                    </a:moveTo>
                    <a:lnTo>
                      <a:pt x="186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92" y="3"/>
                    </a:lnTo>
                    <a:lnTo>
                      <a:pt x="192" y="3"/>
                    </a:lnTo>
                    <a:lnTo>
                      <a:pt x="195" y="3"/>
                    </a:lnTo>
                    <a:lnTo>
                      <a:pt x="198" y="3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29" y="7"/>
                    </a:lnTo>
                    <a:lnTo>
                      <a:pt x="239" y="11"/>
                    </a:lnTo>
                    <a:lnTo>
                      <a:pt x="248" y="11"/>
                    </a:lnTo>
                    <a:lnTo>
                      <a:pt x="257" y="11"/>
                    </a:lnTo>
                    <a:lnTo>
                      <a:pt x="267" y="11"/>
                    </a:lnTo>
                    <a:lnTo>
                      <a:pt x="273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7" y="7"/>
                    </a:lnTo>
                    <a:lnTo>
                      <a:pt x="260" y="7"/>
                    </a:lnTo>
                    <a:lnTo>
                      <a:pt x="257" y="3"/>
                    </a:lnTo>
                    <a:lnTo>
                      <a:pt x="251" y="3"/>
                    </a:lnTo>
                    <a:lnTo>
                      <a:pt x="248" y="3"/>
                    </a:lnTo>
                    <a:lnTo>
                      <a:pt x="245" y="3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33" y="3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20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3" y="0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4" y="40"/>
                    </a:lnTo>
                    <a:lnTo>
                      <a:pt x="41" y="40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9" y="40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44" y="58"/>
                    </a:lnTo>
                    <a:lnTo>
                      <a:pt x="53" y="58"/>
                    </a:lnTo>
                    <a:lnTo>
                      <a:pt x="65" y="58"/>
                    </a:lnTo>
                    <a:lnTo>
                      <a:pt x="75" y="62"/>
                    </a:lnTo>
                    <a:lnTo>
                      <a:pt x="87" y="62"/>
                    </a:lnTo>
                    <a:lnTo>
                      <a:pt x="99" y="62"/>
                    </a:lnTo>
                    <a:lnTo>
                      <a:pt x="115" y="62"/>
                    </a:lnTo>
                    <a:lnTo>
                      <a:pt x="127" y="62"/>
                    </a:lnTo>
                    <a:lnTo>
                      <a:pt x="140" y="66"/>
                    </a:lnTo>
                    <a:lnTo>
                      <a:pt x="152" y="66"/>
                    </a:lnTo>
                    <a:lnTo>
                      <a:pt x="164" y="66"/>
                    </a:lnTo>
                    <a:lnTo>
                      <a:pt x="177" y="66"/>
                    </a:lnTo>
                    <a:lnTo>
                      <a:pt x="189" y="69"/>
                    </a:lnTo>
                    <a:lnTo>
                      <a:pt x="198" y="69"/>
                    </a:lnTo>
                    <a:lnTo>
                      <a:pt x="211" y="69"/>
                    </a:lnTo>
                    <a:lnTo>
                      <a:pt x="211" y="69"/>
                    </a:lnTo>
                    <a:lnTo>
                      <a:pt x="214" y="73"/>
                    </a:lnTo>
                    <a:lnTo>
                      <a:pt x="214" y="73"/>
                    </a:lnTo>
                    <a:lnTo>
                      <a:pt x="217" y="73"/>
                    </a:lnTo>
                    <a:lnTo>
                      <a:pt x="217" y="73"/>
                    </a:lnTo>
                    <a:lnTo>
                      <a:pt x="220" y="73"/>
                    </a:lnTo>
                    <a:lnTo>
                      <a:pt x="223" y="69"/>
                    </a:lnTo>
                    <a:lnTo>
                      <a:pt x="223" y="69"/>
                    </a:lnTo>
                    <a:lnTo>
                      <a:pt x="229" y="69"/>
                    </a:lnTo>
                    <a:lnTo>
                      <a:pt x="233" y="69"/>
                    </a:lnTo>
                    <a:lnTo>
                      <a:pt x="236" y="69"/>
                    </a:lnTo>
                    <a:lnTo>
                      <a:pt x="242" y="69"/>
                    </a:lnTo>
                    <a:lnTo>
                      <a:pt x="245" y="66"/>
                    </a:lnTo>
                    <a:lnTo>
                      <a:pt x="248" y="66"/>
                    </a:lnTo>
                    <a:lnTo>
                      <a:pt x="254" y="66"/>
                    </a:lnTo>
                    <a:lnTo>
                      <a:pt x="257" y="66"/>
                    </a:lnTo>
                    <a:lnTo>
                      <a:pt x="260" y="66"/>
                    </a:lnTo>
                    <a:lnTo>
                      <a:pt x="264" y="66"/>
                    </a:lnTo>
                    <a:lnTo>
                      <a:pt x="264" y="66"/>
                    </a:lnTo>
                    <a:lnTo>
                      <a:pt x="267" y="66"/>
                    </a:lnTo>
                    <a:lnTo>
                      <a:pt x="270" y="66"/>
                    </a:lnTo>
                    <a:lnTo>
                      <a:pt x="270" y="66"/>
                    </a:lnTo>
                    <a:lnTo>
                      <a:pt x="273" y="66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9" y="62"/>
                    </a:lnTo>
                    <a:lnTo>
                      <a:pt x="279" y="62"/>
                    </a:lnTo>
                    <a:lnTo>
                      <a:pt x="279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4" y="58"/>
                    </a:lnTo>
                    <a:lnTo>
                      <a:pt x="254" y="58"/>
                    </a:lnTo>
                    <a:lnTo>
                      <a:pt x="245" y="62"/>
                    </a:lnTo>
                    <a:lnTo>
                      <a:pt x="236" y="62"/>
                    </a:lnTo>
                    <a:lnTo>
                      <a:pt x="229" y="62"/>
                    </a:lnTo>
                    <a:lnTo>
                      <a:pt x="223" y="66"/>
                    </a:lnTo>
                    <a:lnTo>
                      <a:pt x="217" y="66"/>
                    </a:lnTo>
                    <a:lnTo>
                      <a:pt x="211" y="66"/>
                    </a:lnTo>
                    <a:lnTo>
                      <a:pt x="211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5" y="62"/>
                    </a:lnTo>
                    <a:lnTo>
                      <a:pt x="205" y="58"/>
                    </a:lnTo>
                    <a:lnTo>
                      <a:pt x="205" y="58"/>
                    </a:lnTo>
                    <a:lnTo>
                      <a:pt x="202" y="55"/>
                    </a:lnTo>
                    <a:lnTo>
                      <a:pt x="202" y="51"/>
                    </a:lnTo>
                    <a:lnTo>
                      <a:pt x="202" y="47"/>
                    </a:lnTo>
                    <a:lnTo>
                      <a:pt x="202" y="44"/>
                    </a:lnTo>
                    <a:lnTo>
                      <a:pt x="198" y="40"/>
                    </a:lnTo>
                    <a:lnTo>
                      <a:pt x="198" y="36"/>
                    </a:lnTo>
                    <a:lnTo>
                      <a:pt x="198" y="33"/>
                    </a:lnTo>
                    <a:lnTo>
                      <a:pt x="198" y="29"/>
                    </a:lnTo>
                    <a:lnTo>
                      <a:pt x="198" y="22"/>
                    </a:lnTo>
                    <a:lnTo>
                      <a:pt x="195" y="25"/>
                    </a:lnTo>
                    <a:lnTo>
                      <a:pt x="195" y="25"/>
                    </a:lnTo>
                    <a:lnTo>
                      <a:pt x="195" y="29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6"/>
                    </a:lnTo>
                    <a:lnTo>
                      <a:pt x="195" y="40"/>
                    </a:lnTo>
                    <a:lnTo>
                      <a:pt x="195" y="40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7"/>
                    </a:lnTo>
                    <a:lnTo>
                      <a:pt x="195" y="47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6" y="55"/>
                    </a:lnTo>
                    <a:lnTo>
                      <a:pt x="180" y="55"/>
                    </a:lnTo>
                    <a:lnTo>
                      <a:pt x="171" y="55"/>
                    </a:lnTo>
                    <a:lnTo>
                      <a:pt x="164" y="55"/>
                    </a:lnTo>
                    <a:lnTo>
                      <a:pt x="155" y="55"/>
                    </a:lnTo>
                    <a:lnTo>
                      <a:pt x="146" y="55"/>
                    </a:lnTo>
                    <a:lnTo>
                      <a:pt x="137" y="51"/>
                    </a:lnTo>
                    <a:lnTo>
                      <a:pt x="127" y="51"/>
                    </a:lnTo>
                    <a:lnTo>
                      <a:pt x="118" y="51"/>
                    </a:lnTo>
                    <a:lnTo>
                      <a:pt x="109" y="5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8" y="36"/>
                    </a:lnTo>
                    <a:lnTo>
                      <a:pt x="81" y="33"/>
                    </a:lnTo>
                    <a:lnTo>
                      <a:pt x="84" y="25"/>
                    </a:lnTo>
                    <a:lnTo>
                      <a:pt x="87" y="22"/>
                    </a:lnTo>
                    <a:lnTo>
                      <a:pt x="90" y="18"/>
                    </a:lnTo>
                    <a:lnTo>
                      <a:pt x="96" y="14"/>
                    </a:lnTo>
                    <a:lnTo>
                      <a:pt x="102" y="11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8" y="7"/>
                    </a:lnTo>
                    <a:lnTo>
                      <a:pt x="124" y="7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21080" y="4858920"/>
                <a:ext cx="342720" cy="53280"/>
              </a:xfrm>
              <a:custGeom>
                <a:avLst/>
                <a:gdLst/>
                <a:ahLst/>
                <a:rect l="l" t="t" r="r" b="b"/>
                <a:pathLst>
                  <a:path w="309" h="44">
                    <a:moveTo>
                      <a:pt x="226" y="29"/>
                    </a:moveTo>
                    <a:lnTo>
                      <a:pt x="235" y="29"/>
                    </a:lnTo>
                    <a:lnTo>
                      <a:pt x="241" y="26"/>
                    </a:lnTo>
                    <a:lnTo>
                      <a:pt x="248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57" y="26"/>
                    </a:lnTo>
                    <a:lnTo>
                      <a:pt x="257" y="26"/>
                    </a:lnTo>
                    <a:lnTo>
                      <a:pt x="260" y="26"/>
                    </a:lnTo>
                    <a:lnTo>
                      <a:pt x="266" y="26"/>
                    </a:lnTo>
                    <a:lnTo>
                      <a:pt x="269" y="26"/>
                    </a:lnTo>
                    <a:lnTo>
                      <a:pt x="275" y="26"/>
                    </a:lnTo>
                    <a:lnTo>
                      <a:pt x="278" y="26"/>
                    </a:lnTo>
                    <a:lnTo>
                      <a:pt x="282" y="26"/>
                    </a:lnTo>
                    <a:lnTo>
                      <a:pt x="288" y="22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297" y="22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6" y="15"/>
                    </a:lnTo>
                    <a:lnTo>
                      <a:pt x="306" y="11"/>
                    </a:lnTo>
                    <a:lnTo>
                      <a:pt x="309" y="7"/>
                    </a:lnTo>
                    <a:lnTo>
                      <a:pt x="309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297" y="7"/>
                    </a:lnTo>
                    <a:lnTo>
                      <a:pt x="294" y="7"/>
                    </a:lnTo>
                    <a:lnTo>
                      <a:pt x="291" y="7"/>
                    </a:lnTo>
                    <a:lnTo>
                      <a:pt x="285" y="7"/>
                    </a:lnTo>
                    <a:lnTo>
                      <a:pt x="278" y="7"/>
                    </a:lnTo>
                    <a:lnTo>
                      <a:pt x="272" y="11"/>
                    </a:lnTo>
                    <a:lnTo>
                      <a:pt x="266" y="11"/>
                    </a:lnTo>
                    <a:lnTo>
                      <a:pt x="260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3" y="18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4" y="26"/>
                    </a:lnTo>
                    <a:lnTo>
                      <a:pt x="251" y="26"/>
                    </a:lnTo>
                    <a:lnTo>
                      <a:pt x="244" y="26"/>
                    </a:lnTo>
                    <a:lnTo>
                      <a:pt x="238" y="26"/>
                    </a:lnTo>
                    <a:lnTo>
                      <a:pt x="235" y="26"/>
                    </a:lnTo>
                    <a:lnTo>
                      <a:pt x="232" y="26"/>
                    </a:lnTo>
                    <a:lnTo>
                      <a:pt x="226" y="26"/>
                    </a:lnTo>
                    <a:lnTo>
                      <a:pt x="226" y="29"/>
                    </a:lnTo>
                    <a:close/>
                    <a:moveTo>
                      <a:pt x="3" y="18"/>
                    </a:move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6" y="26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6"/>
                    </a:lnTo>
                    <a:lnTo>
                      <a:pt x="31" y="26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62" y="29"/>
                    </a:lnTo>
                    <a:lnTo>
                      <a:pt x="74" y="29"/>
                    </a:lnTo>
                    <a:lnTo>
                      <a:pt x="86" y="29"/>
                    </a:lnTo>
                    <a:lnTo>
                      <a:pt x="96" y="29"/>
                    </a:lnTo>
                    <a:lnTo>
                      <a:pt x="105" y="33"/>
                    </a:lnTo>
                    <a:lnTo>
                      <a:pt x="114" y="33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55" y="37"/>
                    </a:lnTo>
                    <a:lnTo>
                      <a:pt x="164" y="40"/>
                    </a:lnTo>
                    <a:lnTo>
                      <a:pt x="170" y="40"/>
                    </a:lnTo>
                    <a:lnTo>
                      <a:pt x="176" y="40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95" y="44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201" y="40"/>
                    </a:lnTo>
                    <a:lnTo>
                      <a:pt x="201" y="37"/>
                    </a:lnTo>
                    <a:lnTo>
                      <a:pt x="201" y="37"/>
                    </a:lnTo>
                    <a:lnTo>
                      <a:pt x="204" y="33"/>
                    </a:lnTo>
                    <a:lnTo>
                      <a:pt x="207" y="29"/>
                    </a:lnTo>
                    <a:lnTo>
                      <a:pt x="207" y="29"/>
                    </a:lnTo>
                    <a:lnTo>
                      <a:pt x="204" y="33"/>
                    </a:lnTo>
                    <a:lnTo>
                      <a:pt x="204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198" y="33"/>
                    </a:lnTo>
                    <a:lnTo>
                      <a:pt x="198" y="33"/>
                    </a:lnTo>
                    <a:lnTo>
                      <a:pt x="189" y="29"/>
                    </a:lnTo>
                    <a:lnTo>
                      <a:pt x="179" y="29"/>
                    </a:lnTo>
                    <a:lnTo>
                      <a:pt x="167" y="26"/>
                    </a:lnTo>
                    <a:lnTo>
                      <a:pt x="155" y="26"/>
                    </a:lnTo>
                    <a:lnTo>
                      <a:pt x="142" y="26"/>
                    </a:lnTo>
                    <a:lnTo>
                      <a:pt x="130" y="26"/>
                    </a:lnTo>
                    <a:lnTo>
                      <a:pt x="114" y="22"/>
                    </a:lnTo>
                    <a:lnTo>
                      <a:pt x="105" y="22"/>
                    </a:lnTo>
                    <a:lnTo>
                      <a:pt x="93" y="22"/>
                    </a:lnTo>
                    <a:lnTo>
                      <a:pt x="80" y="22"/>
                    </a:lnTo>
                    <a:lnTo>
                      <a:pt x="71" y="22"/>
                    </a:lnTo>
                    <a:lnTo>
                      <a:pt x="59" y="22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8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8c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06400" y="4961160"/>
                <a:ext cx="288720" cy="119880"/>
              </a:xfrm>
              <a:custGeom>
                <a:avLst/>
                <a:gdLst/>
                <a:ahLst/>
                <a:rect l="l" t="t" r="r" b="b"/>
                <a:pathLst>
                  <a:path w="260" h="99">
                    <a:moveTo>
                      <a:pt x="0" y="30"/>
                    </a:move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9" y="63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4" y="70"/>
                    </a:lnTo>
                    <a:lnTo>
                      <a:pt x="43" y="70"/>
                    </a:lnTo>
                    <a:lnTo>
                      <a:pt x="49" y="74"/>
                    </a:lnTo>
                    <a:lnTo>
                      <a:pt x="56" y="74"/>
                    </a:lnTo>
                    <a:lnTo>
                      <a:pt x="62" y="74"/>
                    </a:lnTo>
                    <a:lnTo>
                      <a:pt x="71" y="77"/>
                    </a:lnTo>
                    <a:lnTo>
                      <a:pt x="77" y="77"/>
                    </a:lnTo>
                    <a:lnTo>
                      <a:pt x="87" y="77"/>
                    </a:lnTo>
                    <a:lnTo>
                      <a:pt x="93" y="77"/>
                    </a:lnTo>
                    <a:lnTo>
                      <a:pt x="102" y="81"/>
                    </a:lnTo>
                    <a:lnTo>
                      <a:pt x="111" y="81"/>
                    </a:lnTo>
                    <a:lnTo>
                      <a:pt x="121" y="81"/>
                    </a:lnTo>
                    <a:lnTo>
                      <a:pt x="130" y="85"/>
                    </a:lnTo>
                    <a:lnTo>
                      <a:pt x="136" y="85"/>
                    </a:lnTo>
                    <a:lnTo>
                      <a:pt x="142" y="85"/>
                    </a:lnTo>
                    <a:lnTo>
                      <a:pt x="152" y="85"/>
                    </a:lnTo>
                    <a:lnTo>
                      <a:pt x="158" y="88"/>
                    </a:lnTo>
                    <a:lnTo>
                      <a:pt x="167" y="88"/>
                    </a:lnTo>
                    <a:lnTo>
                      <a:pt x="176" y="88"/>
                    </a:lnTo>
                    <a:lnTo>
                      <a:pt x="186" y="88"/>
                    </a:lnTo>
                    <a:lnTo>
                      <a:pt x="195" y="92"/>
                    </a:lnTo>
                    <a:lnTo>
                      <a:pt x="204" y="92"/>
                    </a:lnTo>
                    <a:lnTo>
                      <a:pt x="214" y="92"/>
                    </a:lnTo>
                    <a:lnTo>
                      <a:pt x="223" y="92"/>
                    </a:lnTo>
                    <a:lnTo>
                      <a:pt x="232" y="96"/>
                    </a:lnTo>
                    <a:lnTo>
                      <a:pt x="238" y="96"/>
                    </a:lnTo>
                    <a:lnTo>
                      <a:pt x="248" y="96"/>
                    </a:lnTo>
                    <a:lnTo>
                      <a:pt x="254" y="96"/>
                    </a:lnTo>
                    <a:lnTo>
                      <a:pt x="260" y="99"/>
                    </a:lnTo>
                    <a:lnTo>
                      <a:pt x="251" y="96"/>
                    </a:lnTo>
                    <a:lnTo>
                      <a:pt x="241" y="92"/>
                    </a:lnTo>
                    <a:lnTo>
                      <a:pt x="232" y="92"/>
                    </a:lnTo>
                    <a:lnTo>
                      <a:pt x="223" y="88"/>
                    </a:lnTo>
                    <a:lnTo>
                      <a:pt x="214" y="85"/>
                    </a:lnTo>
                    <a:lnTo>
                      <a:pt x="204" y="85"/>
                    </a:lnTo>
                    <a:lnTo>
                      <a:pt x="195" y="81"/>
                    </a:lnTo>
                    <a:lnTo>
                      <a:pt x="189" y="77"/>
                    </a:lnTo>
                    <a:lnTo>
                      <a:pt x="180" y="74"/>
                    </a:lnTo>
                    <a:lnTo>
                      <a:pt x="173" y="74"/>
                    </a:lnTo>
                    <a:lnTo>
                      <a:pt x="167" y="70"/>
                    </a:lnTo>
                    <a:lnTo>
                      <a:pt x="161" y="70"/>
                    </a:lnTo>
                    <a:lnTo>
                      <a:pt x="155" y="66"/>
                    </a:lnTo>
                    <a:lnTo>
                      <a:pt x="152" y="66"/>
                    </a:lnTo>
                    <a:lnTo>
                      <a:pt x="145" y="63"/>
                    </a:lnTo>
                    <a:lnTo>
                      <a:pt x="142" y="63"/>
                    </a:lnTo>
                    <a:lnTo>
                      <a:pt x="133" y="59"/>
                    </a:lnTo>
                    <a:lnTo>
                      <a:pt x="121" y="59"/>
                    </a:lnTo>
                    <a:lnTo>
                      <a:pt x="111" y="55"/>
                    </a:lnTo>
                    <a:lnTo>
                      <a:pt x="99" y="55"/>
                    </a:lnTo>
                    <a:lnTo>
                      <a:pt x="90" y="52"/>
                    </a:lnTo>
                    <a:lnTo>
                      <a:pt x="80" y="44"/>
                    </a:lnTo>
                    <a:lnTo>
                      <a:pt x="71" y="37"/>
                    </a:lnTo>
                    <a:lnTo>
                      <a:pt x="68" y="22"/>
                    </a:lnTo>
                    <a:lnTo>
                      <a:pt x="71" y="19"/>
                    </a:lnTo>
                    <a:lnTo>
                      <a:pt x="77" y="15"/>
                    </a:lnTo>
                    <a:lnTo>
                      <a:pt x="90" y="11"/>
                    </a:lnTo>
                    <a:lnTo>
                      <a:pt x="102" y="11"/>
                    </a:lnTo>
                    <a:lnTo>
                      <a:pt x="118" y="8"/>
                    </a:lnTo>
                    <a:lnTo>
                      <a:pt x="133" y="8"/>
                    </a:lnTo>
                    <a:lnTo>
                      <a:pt x="149" y="4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6" y="4"/>
                    </a:lnTo>
                    <a:lnTo>
                      <a:pt x="84" y="4"/>
                    </a:lnTo>
                    <a:lnTo>
                      <a:pt x="74" y="4"/>
                    </a:lnTo>
                    <a:lnTo>
                      <a:pt x="59" y="8"/>
                    </a:lnTo>
                    <a:lnTo>
                      <a:pt x="43" y="8"/>
                    </a:lnTo>
                    <a:lnTo>
                      <a:pt x="34" y="11"/>
                    </a:lnTo>
                    <a:lnTo>
                      <a:pt x="22" y="15"/>
                    </a:lnTo>
                    <a:lnTo>
                      <a:pt x="15" y="19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201" y="14"/>
                    </a:moveTo>
                    <a:lnTo>
                      <a:pt x="192" y="14"/>
                    </a:lnTo>
                    <a:lnTo>
                      <a:pt x="180" y="11"/>
                    </a:lnTo>
                    <a:lnTo>
                      <a:pt x="167" y="11"/>
                    </a:lnTo>
                    <a:lnTo>
                      <a:pt x="158" y="11"/>
                    </a:lnTo>
                    <a:lnTo>
                      <a:pt x="145" y="11"/>
                    </a:lnTo>
                    <a:lnTo>
                      <a:pt x="136" y="11"/>
                    </a:lnTo>
                    <a:lnTo>
                      <a:pt x="124" y="11"/>
                    </a:lnTo>
                    <a:lnTo>
                      <a:pt x="114" y="7"/>
                    </a:lnTo>
                    <a:lnTo>
                      <a:pt x="102" y="7"/>
                    </a:lnTo>
                    <a:lnTo>
                      <a:pt x="93" y="7"/>
                    </a:lnTo>
                    <a:lnTo>
                      <a:pt x="80" y="7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49" y="3"/>
                    </a:lnTo>
                    <a:lnTo>
                      <a:pt x="37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22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11" y="18"/>
                    </a:lnTo>
                    <a:lnTo>
                      <a:pt x="124" y="18"/>
                    </a:lnTo>
                    <a:lnTo>
                      <a:pt x="133" y="14"/>
                    </a:lnTo>
                    <a:lnTo>
                      <a:pt x="145" y="14"/>
                    </a:lnTo>
                    <a:lnTo>
                      <a:pt x="158" y="14"/>
                    </a:lnTo>
                    <a:lnTo>
                      <a:pt x="167" y="14"/>
                    </a:lnTo>
                    <a:lnTo>
                      <a:pt x="180" y="14"/>
                    </a:lnTo>
                    <a:lnTo>
                      <a:pt x="192" y="14"/>
                    </a:lnTo>
                    <a:lnTo>
                      <a:pt x="201" y="14"/>
                    </a:lnTo>
                    <a:close/>
                    <a:moveTo>
                      <a:pt x="0" y="73"/>
                    </a:moveTo>
                    <a:lnTo>
                      <a:pt x="3" y="77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34" y="95"/>
                    </a:lnTo>
                    <a:lnTo>
                      <a:pt x="43" y="95"/>
                    </a:lnTo>
                    <a:lnTo>
                      <a:pt x="53" y="95"/>
                    </a:lnTo>
                    <a:lnTo>
                      <a:pt x="62" y="95"/>
                    </a:lnTo>
                    <a:lnTo>
                      <a:pt x="74" y="99"/>
                    </a:lnTo>
                    <a:lnTo>
                      <a:pt x="87" y="99"/>
                    </a:lnTo>
                    <a:lnTo>
                      <a:pt x="99" y="99"/>
                    </a:lnTo>
                    <a:lnTo>
                      <a:pt x="111" y="102"/>
                    </a:lnTo>
                    <a:lnTo>
                      <a:pt x="124" y="102"/>
                    </a:lnTo>
                    <a:lnTo>
                      <a:pt x="136" y="102"/>
                    </a:lnTo>
                    <a:lnTo>
                      <a:pt x="149" y="106"/>
                    </a:lnTo>
                    <a:lnTo>
                      <a:pt x="161" y="106"/>
                    </a:lnTo>
                    <a:lnTo>
                      <a:pt x="170" y="106"/>
                    </a:lnTo>
                    <a:lnTo>
                      <a:pt x="183" y="106"/>
                    </a:lnTo>
                    <a:lnTo>
                      <a:pt x="192" y="110"/>
                    </a:lnTo>
                    <a:lnTo>
                      <a:pt x="201" y="110"/>
                    </a:lnTo>
                    <a:lnTo>
                      <a:pt x="214" y="110"/>
                    </a:lnTo>
                    <a:lnTo>
                      <a:pt x="223" y="113"/>
                    </a:lnTo>
                    <a:lnTo>
                      <a:pt x="235" y="113"/>
                    </a:lnTo>
                    <a:lnTo>
                      <a:pt x="245" y="113"/>
                    </a:lnTo>
                    <a:lnTo>
                      <a:pt x="257" y="113"/>
                    </a:lnTo>
                    <a:lnTo>
                      <a:pt x="266" y="117"/>
                    </a:lnTo>
                    <a:lnTo>
                      <a:pt x="279" y="117"/>
                    </a:lnTo>
                    <a:lnTo>
                      <a:pt x="288" y="117"/>
                    </a:lnTo>
                    <a:lnTo>
                      <a:pt x="300" y="117"/>
                    </a:lnTo>
                    <a:lnTo>
                      <a:pt x="310" y="121"/>
                    </a:lnTo>
                    <a:lnTo>
                      <a:pt x="322" y="121"/>
                    </a:lnTo>
                    <a:lnTo>
                      <a:pt x="331" y="121"/>
                    </a:lnTo>
                    <a:lnTo>
                      <a:pt x="334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62" y="113"/>
                    </a:lnTo>
                    <a:lnTo>
                      <a:pt x="372" y="110"/>
                    </a:lnTo>
                    <a:lnTo>
                      <a:pt x="381" y="106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87" y="102"/>
                    </a:lnTo>
                    <a:lnTo>
                      <a:pt x="387" y="102"/>
                    </a:lnTo>
                    <a:lnTo>
                      <a:pt x="384" y="102"/>
                    </a:lnTo>
                    <a:lnTo>
                      <a:pt x="368" y="106"/>
                    </a:lnTo>
                    <a:lnTo>
                      <a:pt x="356" y="110"/>
                    </a:lnTo>
                    <a:lnTo>
                      <a:pt x="347" y="113"/>
                    </a:lnTo>
                    <a:lnTo>
                      <a:pt x="341" y="117"/>
                    </a:lnTo>
                    <a:lnTo>
                      <a:pt x="334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2" y="117"/>
                    </a:lnTo>
                    <a:lnTo>
                      <a:pt x="313" y="117"/>
                    </a:lnTo>
                    <a:lnTo>
                      <a:pt x="303" y="117"/>
                    </a:lnTo>
                    <a:lnTo>
                      <a:pt x="294" y="113"/>
                    </a:lnTo>
                    <a:lnTo>
                      <a:pt x="282" y="113"/>
                    </a:lnTo>
                    <a:lnTo>
                      <a:pt x="272" y="113"/>
                    </a:lnTo>
                    <a:lnTo>
                      <a:pt x="263" y="113"/>
                    </a:lnTo>
                    <a:lnTo>
                      <a:pt x="254" y="110"/>
                    </a:lnTo>
                    <a:lnTo>
                      <a:pt x="241" y="110"/>
                    </a:lnTo>
                    <a:lnTo>
                      <a:pt x="232" y="110"/>
                    </a:lnTo>
                    <a:lnTo>
                      <a:pt x="223" y="106"/>
                    </a:lnTo>
                    <a:lnTo>
                      <a:pt x="214" y="106"/>
                    </a:lnTo>
                    <a:lnTo>
                      <a:pt x="204" y="106"/>
                    </a:lnTo>
                    <a:lnTo>
                      <a:pt x="195" y="106"/>
                    </a:lnTo>
                    <a:lnTo>
                      <a:pt x="183" y="102"/>
                    </a:lnTo>
                    <a:lnTo>
                      <a:pt x="173" y="102"/>
                    </a:lnTo>
                    <a:lnTo>
                      <a:pt x="164" y="102"/>
                    </a:lnTo>
                    <a:lnTo>
                      <a:pt x="155" y="102"/>
                    </a:lnTo>
                    <a:lnTo>
                      <a:pt x="142" y="99"/>
                    </a:lnTo>
                    <a:lnTo>
                      <a:pt x="133" y="99"/>
                    </a:lnTo>
                    <a:lnTo>
                      <a:pt x="121" y="95"/>
                    </a:lnTo>
                    <a:lnTo>
                      <a:pt x="111" y="95"/>
                    </a:lnTo>
                    <a:lnTo>
                      <a:pt x="99" y="95"/>
                    </a:lnTo>
                    <a:lnTo>
                      <a:pt x="90" y="91"/>
                    </a:lnTo>
                    <a:lnTo>
                      <a:pt x="80" y="91"/>
                    </a:lnTo>
                    <a:lnTo>
                      <a:pt x="68" y="91"/>
                    </a:lnTo>
                    <a:lnTo>
                      <a:pt x="59" y="88"/>
                    </a:lnTo>
                    <a:lnTo>
                      <a:pt x="49" y="88"/>
                    </a:lnTo>
                    <a:lnTo>
                      <a:pt x="40" y="84"/>
                    </a:lnTo>
                    <a:lnTo>
                      <a:pt x="28" y="80"/>
                    </a:lnTo>
                    <a:lnTo>
                      <a:pt x="18" y="80"/>
                    </a:lnTo>
                    <a:lnTo>
                      <a:pt x="9" y="7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072280" y="4944240"/>
                <a:ext cx="216000" cy="26640"/>
              </a:xfrm>
              <a:custGeom>
                <a:avLst/>
                <a:gdLst/>
                <a:ahLst/>
                <a:rect l="l" t="t" r="r" b="b"/>
                <a:pathLst>
                  <a:path w="195" h="22">
                    <a:moveTo>
                      <a:pt x="195" y="14"/>
                    </a:moveTo>
                    <a:lnTo>
                      <a:pt x="186" y="14"/>
                    </a:lnTo>
                    <a:lnTo>
                      <a:pt x="174" y="11"/>
                    </a:lnTo>
                    <a:lnTo>
                      <a:pt x="161" y="11"/>
                    </a:lnTo>
                    <a:lnTo>
                      <a:pt x="152" y="11"/>
                    </a:lnTo>
                    <a:lnTo>
                      <a:pt x="139" y="11"/>
                    </a:lnTo>
                    <a:lnTo>
                      <a:pt x="130" y="11"/>
                    </a:lnTo>
                    <a:lnTo>
                      <a:pt x="118" y="11"/>
                    </a:lnTo>
                    <a:lnTo>
                      <a:pt x="108" y="7"/>
                    </a:lnTo>
                    <a:lnTo>
                      <a:pt x="96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5" y="7"/>
                    </a:lnTo>
                    <a:lnTo>
                      <a:pt x="53" y="7"/>
                    </a:lnTo>
                    <a:lnTo>
                      <a:pt x="43" y="3"/>
                    </a:lnTo>
                    <a:lnTo>
                      <a:pt x="31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74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105" y="18"/>
                    </a:lnTo>
                    <a:lnTo>
                      <a:pt x="118" y="18"/>
                    </a:lnTo>
                    <a:lnTo>
                      <a:pt x="127" y="14"/>
                    </a:lnTo>
                    <a:lnTo>
                      <a:pt x="139" y="14"/>
                    </a:lnTo>
                    <a:lnTo>
                      <a:pt x="152" y="14"/>
                    </a:lnTo>
                    <a:lnTo>
                      <a:pt x="161" y="14"/>
                    </a:lnTo>
                    <a:lnTo>
                      <a:pt x="174" y="14"/>
                    </a:lnTo>
                    <a:lnTo>
                      <a:pt x="186" y="14"/>
                    </a:lnTo>
                    <a:lnTo>
                      <a:pt x="19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62400" y="5032800"/>
                <a:ext cx="432720" cy="58320"/>
              </a:xfrm>
              <a:custGeom>
                <a:avLst/>
                <a:gdLst/>
                <a:ahLst/>
                <a:rect l="l" t="t" r="r" b="b"/>
                <a:pathLst>
                  <a:path w="390" h="48">
                    <a:moveTo>
                      <a:pt x="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22"/>
                    </a:lnTo>
                    <a:lnTo>
                      <a:pt x="62" y="22"/>
                    </a:lnTo>
                    <a:lnTo>
                      <a:pt x="74" y="26"/>
                    </a:lnTo>
                    <a:lnTo>
                      <a:pt x="87" y="26"/>
                    </a:lnTo>
                    <a:lnTo>
                      <a:pt x="99" y="26"/>
                    </a:lnTo>
                    <a:lnTo>
                      <a:pt x="111" y="29"/>
                    </a:lnTo>
                    <a:lnTo>
                      <a:pt x="124" y="29"/>
                    </a:lnTo>
                    <a:lnTo>
                      <a:pt x="136" y="29"/>
                    </a:lnTo>
                    <a:lnTo>
                      <a:pt x="149" y="33"/>
                    </a:lnTo>
                    <a:lnTo>
                      <a:pt x="161" y="33"/>
                    </a:lnTo>
                    <a:lnTo>
                      <a:pt x="170" y="33"/>
                    </a:lnTo>
                    <a:lnTo>
                      <a:pt x="183" y="33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4" y="37"/>
                    </a:lnTo>
                    <a:lnTo>
                      <a:pt x="223" y="40"/>
                    </a:lnTo>
                    <a:lnTo>
                      <a:pt x="235" y="40"/>
                    </a:lnTo>
                    <a:lnTo>
                      <a:pt x="245" y="40"/>
                    </a:lnTo>
                    <a:lnTo>
                      <a:pt x="257" y="40"/>
                    </a:lnTo>
                    <a:lnTo>
                      <a:pt x="266" y="44"/>
                    </a:lnTo>
                    <a:lnTo>
                      <a:pt x="279" y="44"/>
                    </a:lnTo>
                    <a:lnTo>
                      <a:pt x="288" y="44"/>
                    </a:lnTo>
                    <a:lnTo>
                      <a:pt x="300" y="44"/>
                    </a:lnTo>
                    <a:lnTo>
                      <a:pt x="310" y="48"/>
                    </a:lnTo>
                    <a:lnTo>
                      <a:pt x="322" y="48"/>
                    </a:lnTo>
                    <a:lnTo>
                      <a:pt x="331" y="48"/>
                    </a:lnTo>
                    <a:lnTo>
                      <a:pt x="334" y="48"/>
                    </a:lnTo>
                    <a:lnTo>
                      <a:pt x="341" y="48"/>
                    </a:lnTo>
                    <a:lnTo>
                      <a:pt x="347" y="44"/>
                    </a:lnTo>
                    <a:lnTo>
                      <a:pt x="356" y="40"/>
                    </a:lnTo>
                    <a:lnTo>
                      <a:pt x="362" y="40"/>
                    </a:lnTo>
                    <a:lnTo>
                      <a:pt x="372" y="37"/>
                    </a:lnTo>
                    <a:lnTo>
                      <a:pt x="381" y="33"/>
                    </a:lnTo>
                    <a:lnTo>
                      <a:pt x="390" y="29"/>
                    </a:lnTo>
                    <a:lnTo>
                      <a:pt x="387" y="29"/>
                    </a:lnTo>
                    <a:lnTo>
                      <a:pt x="384" y="29"/>
                    </a:lnTo>
                    <a:lnTo>
                      <a:pt x="368" y="33"/>
                    </a:lnTo>
                    <a:lnTo>
                      <a:pt x="356" y="37"/>
                    </a:lnTo>
                    <a:lnTo>
                      <a:pt x="347" y="40"/>
                    </a:lnTo>
                    <a:lnTo>
                      <a:pt x="341" y="44"/>
                    </a:lnTo>
                    <a:lnTo>
                      <a:pt x="334" y="44"/>
                    </a:lnTo>
                    <a:lnTo>
                      <a:pt x="331" y="44"/>
                    </a:lnTo>
                    <a:lnTo>
                      <a:pt x="328" y="44"/>
                    </a:lnTo>
                    <a:lnTo>
                      <a:pt x="322" y="44"/>
                    </a:lnTo>
                    <a:lnTo>
                      <a:pt x="313" y="44"/>
                    </a:lnTo>
                    <a:lnTo>
                      <a:pt x="303" y="44"/>
                    </a:lnTo>
                    <a:lnTo>
                      <a:pt x="294" y="40"/>
                    </a:lnTo>
                    <a:lnTo>
                      <a:pt x="282" y="40"/>
                    </a:lnTo>
                    <a:lnTo>
                      <a:pt x="272" y="40"/>
                    </a:lnTo>
                    <a:lnTo>
                      <a:pt x="263" y="40"/>
                    </a:lnTo>
                    <a:lnTo>
                      <a:pt x="254" y="37"/>
                    </a:lnTo>
                    <a:lnTo>
                      <a:pt x="241" y="37"/>
                    </a:lnTo>
                    <a:lnTo>
                      <a:pt x="232" y="37"/>
                    </a:lnTo>
                    <a:lnTo>
                      <a:pt x="223" y="33"/>
                    </a:lnTo>
                    <a:lnTo>
                      <a:pt x="214" y="33"/>
                    </a:lnTo>
                    <a:lnTo>
                      <a:pt x="204" y="33"/>
                    </a:lnTo>
                    <a:lnTo>
                      <a:pt x="195" y="33"/>
                    </a:lnTo>
                    <a:lnTo>
                      <a:pt x="183" y="29"/>
                    </a:lnTo>
                    <a:lnTo>
                      <a:pt x="173" y="29"/>
                    </a:lnTo>
                    <a:lnTo>
                      <a:pt x="164" y="29"/>
                    </a:lnTo>
                    <a:lnTo>
                      <a:pt x="155" y="29"/>
                    </a:lnTo>
                    <a:lnTo>
                      <a:pt x="142" y="26"/>
                    </a:lnTo>
                    <a:lnTo>
                      <a:pt x="133" y="26"/>
                    </a:lnTo>
                    <a:lnTo>
                      <a:pt x="121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8" y="18"/>
                    </a:lnTo>
                    <a:lnTo>
                      <a:pt x="59" y="15"/>
                    </a:lnTo>
                    <a:lnTo>
                      <a:pt x="49" y="15"/>
                    </a:lnTo>
                    <a:lnTo>
                      <a:pt x="40" y="11"/>
                    </a:lnTo>
                    <a:lnTo>
                      <a:pt x="28" y="7"/>
                    </a:lnTo>
                    <a:lnTo>
                      <a:pt x="18" y="7"/>
                    </a:ln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6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9" y="19"/>
                    </a:lnTo>
                    <a:lnTo>
                      <a:pt x="9" y="30"/>
                    </a:lnTo>
                    <a:lnTo>
                      <a:pt x="6" y="44"/>
                    </a:lnTo>
                    <a:lnTo>
                      <a:pt x="6" y="59"/>
                    </a:lnTo>
                    <a:lnTo>
                      <a:pt x="6" y="70"/>
                    </a:lnTo>
                    <a:lnTo>
                      <a:pt x="9" y="81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5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11"/>
                    </a:lnTo>
                    <a:lnTo>
                      <a:pt x="50" y="22"/>
                    </a:lnTo>
                    <a:lnTo>
                      <a:pt x="47" y="33"/>
                    </a:lnTo>
                    <a:lnTo>
                      <a:pt x="47" y="48"/>
                    </a:lnTo>
                    <a:lnTo>
                      <a:pt x="47" y="63"/>
                    </a:lnTo>
                    <a:lnTo>
                      <a:pt x="47" y="74"/>
                    </a:lnTo>
                    <a:lnTo>
                      <a:pt x="50" y="85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88"/>
                    </a:lnTo>
                    <a:lnTo>
                      <a:pt x="40" y="81"/>
                    </a:lnTo>
                    <a:lnTo>
                      <a:pt x="40" y="70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0"/>
                    </a:lnTo>
                    <a:lnTo>
                      <a:pt x="44" y="15"/>
                    </a:lnTo>
                    <a:lnTo>
                      <a:pt x="47" y="4"/>
                    </a:lnTo>
                    <a:close/>
                    <a:moveTo>
                      <a:pt x="127" y="8"/>
                    </a:moveTo>
                    <a:lnTo>
                      <a:pt x="127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15"/>
                    </a:lnTo>
                    <a:lnTo>
                      <a:pt x="130" y="26"/>
                    </a:lnTo>
                    <a:lnTo>
                      <a:pt x="130" y="37"/>
                    </a:lnTo>
                    <a:lnTo>
                      <a:pt x="130" y="52"/>
                    </a:lnTo>
                    <a:lnTo>
                      <a:pt x="130" y="66"/>
                    </a:lnTo>
                    <a:lnTo>
                      <a:pt x="133" y="81"/>
                    </a:lnTo>
                    <a:lnTo>
                      <a:pt x="136" y="92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6"/>
                    </a:lnTo>
                    <a:lnTo>
                      <a:pt x="127" y="88"/>
                    </a:lnTo>
                    <a:lnTo>
                      <a:pt x="124" y="77"/>
                    </a:lnTo>
                    <a:lnTo>
                      <a:pt x="124" y="63"/>
                    </a:lnTo>
                    <a:lnTo>
                      <a:pt x="121" y="48"/>
                    </a:lnTo>
                    <a:lnTo>
                      <a:pt x="124" y="33"/>
                    </a:lnTo>
                    <a:lnTo>
                      <a:pt x="124" y="19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133840" y="4970880"/>
                <a:ext cx="150840" cy="9360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9" y="7"/>
                    </a:moveTo>
                    <a:lnTo>
                      <a:pt x="9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9" y="18"/>
                    </a:lnTo>
                    <a:lnTo>
                      <a:pt x="9" y="7"/>
                    </a:lnTo>
                    <a:close/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36"/>
                    </a:lnTo>
                    <a:lnTo>
                      <a:pt x="47" y="44"/>
                    </a:lnTo>
                    <a:lnTo>
                      <a:pt x="47" y="55"/>
                    </a:lnTo>
                    <a:lnTo>
                      <a:pt x="47" y="58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0" y="66"/>
                    </a:lnTo>
                    <a:lnTo>
                      <a:pt x="40" y="58"/>
                    </a:lnTo>
                    <a:lnTo>
                      <a:pt x="40" y="51"/>
                    </a:lnTo>
                    <a:lnTo>
                      <a:pt x="40" y="44"/>
                    </a:lnTo>
                    <a:lnTo>
                      <a:pt x="40" y="36"/>
                    </a:lnTo>
                    <a:lnTo>
                      <a:pt x="40" y="29"/>
                    </a:lnTo>
                    <a:lnTo>
                      <a:pt x="40" y="18"/>
                    </a:lnTo>
                    <a:lnTo>
                      <a:pt x="40" y="11"/>
                    </a:lnTo>
                    <a:lnTo>
                      <a:pt x="44" y="0"/>
                    </a:lnTo>
                    <a:close/>
                    <a:moveTo>
                      <a:pt x="133" y="55"/>
                    </a:moveTo>
                    <a:lnTo>
                      <a:pt x="130" y="55"/>
                    </a:lnTo>
                    <a:lnTo>
                      <a:pt x="130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4" y="58"/>
                    </a:lnTo>
                    <a:lnTo>
                      <a:pt x="124" y="62"/>
                    </a:lnTo>
                    <a:lnTo>
                      <a:pt x="127" y="66"/>
                    </a:lnTo>
                    <a:lnTo>
                      <a:pt x="127" y="69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3"/>
                    </a:lnTo>
                    <a:lnTo>
                      <a:pt x="133" y="69"/>
                    </a:lnTo>
                    <a:lnTo>
                      <a:pt x="133" y="69"/>
                    </a:lnTo>
                    <a:lnTo>
                      <a:pt x="133" y="66"/>
                    </a:lnTo>
                    <a:lnTo>
                      <a:pt x="133" y="62"/>
                    </a:lnTo>
                    <a:lnTo>
                      <a:pt x="133" y="58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e5a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51040" y="4810320"/>
                <a:ext cx="219600" cy="8352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185" y="3"/>
                    </a:moveTo>
                    <a:lnTo>
                      <a:pt x="185" y="3"/>
                    </a:lnTo>
                    <a:lnTo>
                      <a:pt x="185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88" y="7"/>
                    </a:lnTo>
                    <a:lnTo>
                      <a:pt x="188" y="14"/>
                    </a:lnTo>
                    <a:lnTo>
                      <a:pt x="188" y="25"/>
                    </a:lnTo>
                    <a:lnTo>
                      <a:pt x="188" y="36"/>
                    </a:lnTo>
                    <a:lnTo>
                      <a:pt x="188" y="47"/>
                    </a:lnTo>
                    <a:lnTo>
                      <a:pt x="192" y="58"/>
                    </a:lnTo>
                    <a:lnTo>
                      <a:pt x="195" y="66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2" y="69"/>
                    </a:lnTo>
                    <a:lnTo>
                      <a:pt x="188" y="66"/>
                    </a:lnTo>
                    <a:lnTo>
                      <a:pt x="185" y="58"/>
                    </a:lnTo>
                    <a:lnTo>
                      <a:pt x="185" y="47"/>
                    </a:lnTo>
                    <a:lnTo>
                      <a:pt x="182" y="36"/>
                    </a:lnTo>
                    <a:lnTo>
                      <a:pt x="182" y="25"/>
                    </a:lnTo>
                    <a:lnTo>
                      <a:pt x="182" y="14"/>
                    </a:lnTo>
                    <a:lnTo>
                      <a:pt x="185" y="7"/>
                    </a:lnTo>
                    <a:lnTo>
                      <a:pt x="185" y="3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7"/>
                    </a:lnTo>
                    <a:lnTo>
                      <a:pt x="6" y="18"/>
                    </a:lnTo>
                    <a:lnTo>
                      <a:pt x="6" y="29"/>
                    </a:lnTo>
                    <a:lnTo>
                      <a:pt x="6" y="40"/>
                    </a:lnTo>
                    <a:lnTo>
                      <a:pt x="6" y="47"/>
                    </a:lnTo>
                    <a:lnTo>
                      <a:pt x="6" y="55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b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051040" y="4836960"/>
                <a:ext cx="219600" cy="56880"/>
              </a:xfrm>
              <a:custGeom>
                <a:avLst/>
                <a:gdLst/>
                <a:ahLst/>
                <a:rect l="l" t="t" r="r" b="b"/>
                <a:pathLst>
                  <a:path w="198" h="47">
                    <a:moveTo>
                      <a:pt x="188" y="0"/>
                    </a:moveTo>
                    <a:lnTo>
                      <a:pt x="188" y="3"/>
                    </a:lnTo>
                    <a:lnTo>
                      <a:pt x="188" y="11"/>
                    </a:lnTo>
                    <a:lnTo>
                      <a:pt x="188" y="22"/>
                    </a:lnTo>
                    <a:lnTo>
                      <a:pt x="188" y="29"/>
                    </a:lnTo>
                    <a:lnTo>
                      <a:pt x="192" y="36"/>
                    </a:lnTo>
                    <a:lnTo>
                      <a:pt x="192" y="40"/>
                    </a:lnTo>
                    <a:lnTo>
                      <a:pt x="195" y="47"/>
                    </a:lnTo>
                    <a:lnTo>
                      <a:pt x="198" y="47"/>
                    </a:lnTo>
                    <a:lnTo>
                      <a:pt x="198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88" y="44"/>
                    </a:lnTo>
                    <a:lnTo>
                      <a:pt x="188" y="40"/>
                    </a:lnTo>
                    <a:lnTo>
                      <a:pt x="185" y="36"/>
                    </a:lnTo>
                    <a:lnTo>
                      <a:pt x="185" y="33"/>
                    </a:lnTo>
                    <a:lnTo>
                      <a:pt x="185" y="25"/>
                    </a:lnTo>
                    <a:lnTo>
                      <a:pt x="185" y="18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2" y="7"/>
                    </a:lnTo>
                    <a:lnTo>
                      <a:pt x="185" y="7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8" y="0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5a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30" y="96"/>
                    </a:moveTo>
                    <a:lnTo>
                      <a:pt x="130" y="96"/>
                    </a:lnTo>
                    <a:lnTo>
                      <a:pt x="130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6"/>
                    </a:lnTo>
                    <a:lnTo>
                      <a:pt x="130" y="96"/>
                    </a:lnTo>
                    <a:close/>
                    <a:moveTo>
                      <a:pt x="0" y="74"/>
                    </a:moveTo>
                    <a:lnTo>
                      <a:pt x="0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5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close/>
                    <a:moveTo>
                      <a:pt x="40" y="85"/>
                    </a:moveTo>
                    <a:lnTo>
                      <a:pt x="44" y="85"/>
                    </a:lnTo>
                    <a:lnTo>
                      <a:pt x="44" y="85"/>
                    </a:lnTo>
                    <a:lnTo>
                      <a:pt x="44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5"/>
                    </a:lnTo>
                    <a:lnTo>
                      <a:pt x="40" y="85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0" y="11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d9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0960" y="4810320"/>
                <a:ext cx="99720" cy="8280"/>
              </a:xfrm>
              <a:custGeom>
                <a:avLst/>
                <a:gdLst/>
                <a:ahLst/>
                <a:rect l="l" t="t" r="r" b="b"/>
                <a:pathLst>
                  <a:path w="90" h="7">
                    <a:moveTo>
                      <a:pt x="90" y="0"/>
                    </a:moveTo>
                    <a:lnTo>
                      <a:pt x="86" y="3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56" y="7"/>
                    </a:lnTo>
                    <a:lnTo>
                      <a:pt x="49" y="3"/>
                    </a:lnTo>
                    <a:lnTo>
                      <a:pt x="40" y="3"/>
                    </a:lnTo>
                    <a:lnTo>
                      <a:pt x="31" y="3"/>
                    </a:lnTo>
                    <a:lnTo>
                      <a:pt x="21" y="3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2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785640" y="5081760"/>
              <a:ext cx="1482480" cy="1011960"/>
              <a:chOff x="6785640" y="5081760"/>
              <a:chExt cx="1482480" cy="1011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91840" y="5220360"/>
                <a:ext cx="1181520" cy="497520"/>
              </a:xfrm>
              <a:custGeom>
                <a:avLst/>
                <a:gdLst/>
                <a:ahLst/>
                <a:rect l="l" t="t" r="r" b="b"/>
                <a:pathLst>
                  <a:path w="12987" h="4993">
                    <a:moveTo>
                      <a:pt x="6183" y="147"/>
                    </a:moveTo>
                    <a:lnTo>
                      <a:pt x="6231" y="138"/>
                    </a:lnTo>
                    <a:lnTo>
                      <a:pt x="6369" y="113"/>
                    </a:lnTo>
                    <a:lnTo>
                      <a:pt x="6469" y="97"/>
                    </a:lnTo>
                    <a:lnTo>
                      <a:pt x="6588" y="79"/>
                    </a:lnTo>
                    <a:lnTo>
                      <a:pt x="6726" y="62"/>
                    </a:lnTo>
                    <a:lnTo>
                      <a:pt x="6881" y="46"/>
                    </a:lnTo>
                    <a:lnTo>
                      <a:pt x="7052" y="30"/>
                    </a:lnTo>
                    <a:lnTo>
                      <a:pt x="7238" y="17"/>
                    </a:lnTo>
                    <a:lnTo>
                      <a:pt x="7438" y="8"/>
                    </a:lnTo>
                    <a:lnTo>
                      <a:pt x="7651" y="1"/>
                    </a:lnTo>
                    <a:lnTo>
                      <a:pt x="7876" y="0"/>
                    </a:lnTo>
                    <a:lnTo>
                      <a:pt x="8111" y="4"/>
                    </a:lnTo>
                    <a:lnTo>
                      <a:pt x="8357" y="15"/>
                    </a:lnTo>
                    <a:lnTo>
                      <a:pt x="8611" y="32"/>
                    </a:lnTo>
                    <a:lnTo>
                      <a:pt x="8872" y="59"/>
                    </a:lnTo>
                    <a:lnTo>
                      <a:pt x="9140" y="95"/>
                    </a:lnTo>
                    <a:lnTo>
                      <a:pt x="9415" y="140"/>
                    </a:lnTo>
                    <a:lnTo>
                      <a:pt x="9692" y="196"/>
                    </a:lnTo>
                    <a:lnTo>
                      <a:pt x="9974" y="263"/>
                    </a:lnTo>
                    <a:lnTo>
                      <a:pt x="10258" y="344"/>
                    </a:lnTo>
                    <a:lnTo>
                      <a:pt x="10543" y="437"/>
                    </a:lnTo>
                    <a:lnTo>
                      <a:pt x="10829" y="545"/>
                    </a:lnTo>
                    <a:lnTo>
                      <a:pt x="11112" y="667"/>
                    </a:lnTo>
                    <a:lnTo>
                      <a:pt x="11395" y="806"/>
                    </a:lnTo>
                    <a:lnTo>
                      <a:pt x="11674" y="962"/>
                    </a:lnTo>
                    <a:lnTo>
                      <a:pt x="11948" y="1135"/>
                    </a:lnTo>
                    <a:lnTo>
                      <a:pt x="12219" y="1326"/>
                    </a:lnTo>
                    <a:lnTo>
                      <a:pt x="12483" y="1536"/>
                    </a:lnTo>
                    <a:lnTo>
                      <a:pt x="12739" y="1767"/>
                    </a:lnTo>
                    <a:lnTo>
                      <a:pt x="12987" y="2019"/>
                    </a:lnTo>
                    <a:lnTo>
                      <a:pt x="12888" y="2157"/>
                    </a:lnTo>
                    <a:lnTo>
                      <a:pt x="12778" y="2295"/>
                    </a:lnTo>
                    <a:lnTo>
                      <a:pt x="12655" y="2429"/>
                    </a:lnTo>
                    <a:lnTo>
                      <a:pt x="12525" y="2560"/>
                    </a:lnTo>
                    <a:lnTo>
                      <a:pt x="12384" y="2689"/>
                    </a:lnTo>
                    <a:lnTo>
                      <a:pt x="12236" y="2815"/>
                    </a:lnTo>
                    <a:lnTo>
                      <a:pt x="12081" y="2937"/>
                    </a:lnTo>
                    <a:lnTo>
                      <a:pt x="11921" y="3058"/>
                    </a:lnTo>
                    <a:lnTo>
                      <a:pt x="11755" y="3174"/>
                    </a:lnTo>
                    <a:lnTo>
                      <a:pt x="11585" y="3288"/>
                    </a:lnTo>
                    <a:lnTo>
                      <a:pt x="11413" y="3396"/>
                    </a:lnTo>
                    <a:lnTo>
                      <a:pt x="11239" y="3502"/>
                    </a:lnTo>
                    <a:lnTo>
                      <a:pt x="11063" y="3605"/>
                    </a:lnTo>
                    <a:lnTo>
                      <a:pt x="10887" y="3702"/>
                    </a:lnTo>
                    <a:lnTo>
                      <a:pt x="10712" y="3796"/>
                    </a:lnTo>
                    <a:lnTo>
                      <a:pt x="10540" y="3886"/>
                    </a:lnTo>
                    <a:lnTo>
                      <a:pt x="10371" y="3971"/>
                    </a:lnTo>
                    <a:lnTo>
                      <a:pt x="10204" y="4051"/>
                    </a:lnTo>
                    <a:lnTo>
                      <a:pt x="10043" y="4128"/>
                    </a:lnTo>
                    <a:lnTo>
                      <a:pt x="9888" y="4199"/>
                    </a:lnTo>
                    <a:lnTo>
                      <a:pt x="9739" y="4265"/>
                    </a:lnTo>
                    <a:lnTo>
                      <a:pt x="9599" y="4327"/>
                    </a:lnTo>
                    <a:lnTo>
                      <a:pt x="9467" y="4382"/>
                    </a:lnTo>
                    <a:lnTo>
                      <a:pt x="9345" y="4433"/>
                    </a:lnTo>
                    <a:lnTo>
                      <a:pt x="9233" y="4478"/>
                    </a:lnTo>
                    <a:lnTo>
                      <a:pt x="9134" y="4518"/>
                    </a:lnTo>
                    <a:lnTo>
                      <a:pt x="9047" y="4552"/>
                    </a:lnTo>
                    <a:lnTo>
                      <a:pt x="8973" y="4580"/>
                    </a:lnTo>
                    <a:lnTo>
                      <a:pt x="8871" y="4619"/>
                    </a:lnTo>
                    <a:lnTo>
                      <a:pt x="8835" y="4632"/>
                    </a:lnTo>
                    <a:lnTo>
                      <a:pt x="8616" y="4720"/>
                    </a:lnTo>
                    <a:lnTo>
                      <a:pt x="8396" y="4795"/>
                    </a:lnTo>
                    <a:lnTo>
                      <a:pt x="8174" y="4857"/>
                    </a:lnTo>
                    <a:lnTo>
                      <a:pt x="7953" y="4906"/>
                    </a:lnTo>
                    <a:lnTo>
                      <a:pt x="7732" y="4943"/>
                    </a:lnTo>
                    <a:lnTo>
                      <a:pt x="7510" y="4970"/>
                    </a:lnTo>
                    <a:lnTo>
                      <a:pt x="7292" y="4986"/>
                    </a:lnTo>
                    <a:lnTo>
                      <a:pt x="7075" y="4993"/>
                    </a:lnTo>
                    <a:lnTo>
                      <a:pt x="6860" y="4990"/>
                    </a:lnTo>
                    <a:lnTo>
                      <a:pt x="6648" y="4980"/>
                    </a:lnTo>
                    <a:lnTo>
                      <a:pt x="6439" y="4963"/>
                    </a:lnTo>
                    <a:lnTo>
                      <a:pt x="6235" y="4938"/>
                    </a:lnTo>
                    <a:lnTo>
                      <a:pt x="6036" y="4908"/>
                    </a:lnTo>
                    <a:lnTo>
                      <a:pt x="5842" y="4871"/>
                    </a:lnTo>
                    <a:lnTo>
                      <a:pt x="5653" y="4831"/>
                    </a:lnTo>
                    <a:lnTo>
                      <a:pt x="5470" y="4787"/>
                    </a:lnTo>
                    <a:lnTo>
                      <a:pt x="5295" y="4741"/>
                    </a:lnTo>
                    <a:lnTo>
                      <a:pt x="5127" y="4692"/>
                    </a:lnTo>
                    <a:lnTo>
                      <a:pt x="4967" y="4641"/>
                    </a:lnTo>
                    <a:lnTo>
                      <a:pt x="4815" y="4590"/>
                    </a:lnTo>
                    <a:lnTo>
                      <a:pt x="4672" y="4538"/>
                    </a:lnTo>
                    <a:lnTo>
                      <a:pt x="4538" y="4488"/>
                    </a:lnTo>
                    <a:lnTo>
                      <a:pt x="4416" y="4438"/>
                    </a:lnTo>
                    <a:lnTo>
                      <a:pt x="4303" y="4391"/>
                    </a:lnTo>
                    <a:lnTo>
                      <a:pt x="4202" y="4346"/>
                    </a:lnTo>
                    <a:lnTo>
                      <a:pt x="4112" y="4305"/>
                    </a:lnTo>
                    <a:lnTo>
                      <a:pt x="4034" y="4268"/>
                    </a:lnTo>
                    <a:lnTo>
                      <a:pt x="3970" y="4237"/>
                    </a:lnTo>
                    <a:lnTo>
                      <a:pt x="3882" y="4191"/>
                    </a:lnTo>
                    <a:lnTo>
                      <a:pt x="3852" y="4175"/>
                    </a:lnTo>
                    <a:lnTo>
                      <a:pt x="3722" y="4143"/>
                    </a:lnTo>
                    <a:lnTo>
                      <a:pt x="3588" y="4116"/>
                    </a:lnTo>
                    <a:lnTo>
                      <a:pt x="3447" y="4097"/>
                    </a:lnTo>
                    <a:lnTo>
                      <a:pt x="3301" y="4083"/>
                    </a:lnTo>
                    <a:lnTo>
                      <a:pt x="3151" y="4075"/>
                    </a:lnTo>
                    <a:lnTo>
                      <a:pt x="2998" y="4072"/>
                    </a:lnTo>
                    <a:lnTo>
                      <a:pt x="2842" y="4074"/>
                    </a:lnTo>
                    <a:lnTo>
                      <a:pt x="2684" y="4082"/>
                    </a:lnTo>
                    <a:lnTo>
                      <a:pt x="2525" y="4092"/>
                    </a:lnTo>
                    <a:lnTo>
                      <a:pt x="2364" y="4107"/>
                    </a:lnTo>
                    <a:lnTo>
                      <a:pt x="2203" y="4126"/>
                    </a:lnTo>
                    <a:lnTo>
                      <a:pt x="2043" y="4147"/>
                    </a:lnTo>
                    <a:lnTo>
                      <a:pt x="1885" y="4171"/>
                    </a:lnTo>
                    <a:lnTo>
                      <a:pt x="1728" y="4197"/>
                    </a:lnTo>
                    <a:lnTo>
                      <a:pt x="1574" y="4226"/>
                    </a:lnTo>
                    <a:lnTo>
                      <a:pt x="1423" y="4255"/>
                    </a:lnTo>
                    <a:lnTo>
                      <a:pt x="1276" y="4286"/>
                    </a:lnTo>
                    <a:lnTo>
                      <a:pt x="1133" y="4317"/>
                    </a:lnTo>
                    <a:lnTo>
                      <a:pt x="996" y="4349"/>
                    </a:lnTo>
                    <a:lnTo>
                      <a:pt x="865" y="4381"/>
                    </a:lnTo>
                    <a:lnTo>
                      <a:pt x="741" y="4412"/>
                    </a:lnTo>
                    <a:lnTo>
                      <a:pt x="623" y="4444"/>
                    </a:lnTo>
                    <a:lnTo>
                      <a:pt x="513" y="4474"/>
                    </a:lnTo>
                    <a:lnTo>
                      <a:pt x="413" y="4502"/>
                    </a:lnTo>
                    <a:lnTo>
                      <a:pt x="240" y="4552"/>
                    </a:lnTo>
                    <a:lnTo>
                      <a:pt x="110" y="4592"/>
                    </a:lnTo>
                    <a:lnTo>
                      <a:pt x="29" y="4618"/>
                    </a:lnTo>
                    <a:lnTo>
                      <a:pt x="0" y="4626"/>
                    </a:lnTo>
                    <a:lnTo>
                      <a:pt x="24" y="4583"/>
                    </a:lnTo>
                    <a:lnTo>
                      <a:pt x="94" y="4459"/>
                    </a:lnTo>
                    <a:lnTo>
                      <a:pt x="147" y="4369"/>
                    </a:lnTo>
                    <a:lnTo>
                      <a:pt x="212" y="4265"/>
                    </a:lnTo>
                    <a:lnTo>
                      <a:pt x="290" y="4145"/>
                    </a:lnTo>
                    <a:lnTo>
                      <a:pt x="379" y="4012"/>
                    </a:lnTo>
                    <a:lnTo>
                      <a:pt x="480" y="3866"/>
                    </a:lnTo>
                    <a:lnTo>
                      <a:pt x="593" y="3709"/>
                    </a:lnTo>
                    <a:lnTo>
                      <a:pt x="717" y="3542"/>
                    </a:lnTo>
                    <a:lnTo>
                      <a:pt x="855" y="3368"/>
                    </a:lnTo>
                    <a:lnTo>
                      <a:pt x="1004" y="3187"/>
                    </a:lnTo>
                    <a:lnTo>
                      <a:pt x="1165" y="2999"/>
                    </a:lnTo>
                    <a:lnTo>
                      <a:pt x="1338" y="2807"/>
                    </a:lnTo>
                    <a:lnTo>
                      <a:pt x="1525" y="2612"/>
                    </a:lnTo>
                    <a:lnTo>
                      <a:pt x="1723" y="2415"/>
                    </a:lnTo>
                    <a:lnTo>
                      <a:pt x="1933" y="2219"/>
                    </a:lnTo>
                    <a:lnTo>
                      <a:pt x="2155" y="2023"/>
                    </a:lnTo>
                    <a:lnTo>
                      <a:pt x="2391" y="1829"/>
                    </a:lnTo>
                    <a:lnTo>
                      <a:pt x="2638" y="1638"/>
                    </a:lnTo>
                    <a:lnTo>
                      <a:pt x="2898" y="1453"/>
                    </a:lnTo>
                    <a:lnTo>
                      <a:pt x="3169" y="1273"/>
                    </a:lnTo>
                    <a:lnTo>
                      <a:pt x="3455" y="1100"/>
                    </a:lnTo>
                    <a:lnTo>
                      <a:pt x="3752" y="937"/>
                    </a:lnTo>
                    <a:lnTo>
                      <a:pt x="4061" y="783"/>
                    </a:lnTo>
                    <a:lnTo>
                      <a:pt x="4383" y="641"/>
                    </a:lnTo>
                    <a:lnTo>
                      <a:pt x="4718" y="512"/>
                    </a:lnTo>
                    <a:lnTo>
                      <a:pt x="5066" y="396"/>
                    </a:lnTo>
                    <a:lnTo>
                      <a:pt x="5426" y="297"/>
                    </a:lnTo>
                    <a:lnTo>
                      <a:pt x="5798" y="213"/>
                    </a:lnTo>
                    <a:lnTo>
                      <a:pt x="6183" y="14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92920" y="5183280"/>
                <a:ext cx="1184400" cy="498600"/>
              </a:xfrm>
              <a:custGeom>
                <a:avLst/>
                <a:gdLst/>
                <a:ahLst/>
                <a:rect l="l" t="t" r="r" b="b"/>
                <a:pathLst>
                  <a:path w="13025" h="5002">
                    <a:moveTo>
                      <a:pt x="13025" y="2389"/>
                    </a:moveTo>
                    <a:lnTo>
                      <a:pt x="12897" y="2218"/>
                    </a:lnTo>
                    <a:lnTo>
                      <a:pt x="12763" y="2052"/>
                    </a:lnTo>
                    <a:lnTo>
                      <a:pt x="12620" y="1892"/>
                    </a:lnTo>
                    <a:lnTo>
                      <a:pt x="12469" y="1739"/>
                    </a:lnTo>
                    <a:lnTo>
                      <a:pt x="12312" y="1590"/>
                    </a:lnTo>
                    <a:lnTo>
                      <a:pt x="12148" y="1448"/>
                    </a:lnTo>
                    <a:lnTo>
                      <a:pt x="11976" y="1311"/>
                    </a:lnTo>
                    <a:lnTo>
                      <a:pt x="11799" y="1180"/>
                    </a:lnTo>
                    <a:lnTo>
                      <a:pt x="11614" y="1055"/>
                    </a:lnTo>
                    <a:lnTo>
                      <a:pt x="11424" y="937"/>
                    </a:lnTo>
                    <a:lnTo>
                      <a:pt x="11228" y="826"/>
                    </a:lnTo>
                    <a:lnTo>
                      <a:pt x="11027" y="720"/>
                    </a:lnTo>
                    <a:lnTo>
                      <a:pt x="10818" y="622"/>
                    </a:lnTo>
                    <a:lnTo>
                      <a:pt x="10606" y="530"/>
                    </a:lnTo>
                    <a:lnTo>
                      <a:pt x="10388" y="445"/>
                    </a:lnTo>
                    <a:lnTo>
                      <a:pt x="10166" y="368"/>
                    </a:lnTo>
                    <a:lnTo>
                      <a:pt x="9938" y="297"/>
                    </a:lnTo>
                    <a:lnTo>
                      <a:pt x="9707" y="234"/>
                    </a:lnTo>
                    <a:lnTo>
                      <a:pt x="9470" y="178"/>
                    </a:lnTo>
                    <a:lnTo>
                      <a:pt x="9230" y="129"/>
                    </a:lnTo>
                    <a:lnTo>
                      <a:pt x="8986" y="87"/>
                    </a:lnTo>
                    <a:lnTo>
                      <a:pt x="8738" y="54"/>
                    </a:lnTo>
                    <a:lnTo>
                      <a:pt x="8487" y="29"/>
                    </a:lnTo>
                    <a:lnTo>
                      <a:pt x="8232" y="11"/>
                    </a:lnTo>
                    <a:lnTo>
                      <a:pt x="7975" y="3"/>
                    </a:lnTo>
                    <a:lnTo>
                      <a:pt x="7715" y="0"/>
                    </a:lnTo>
                    <a:lnTo>
                      <a:pt x="7451" y="8"/>
                    </a:lnTo>
                    <a:lnTo>
                      <a:pt x="7185" y="23"/>
                    </a:lnTo>
                    <a:lnTo>
                      <a:pt x="6918" y="47"/>
                    </a:lnTo>
                    <a:lnTo>
                      <a:pt x="6648" y="80"/>
                    </a:lnTo>
                    <a:lnTo>
                      <a:pt x="6376" y="121"/>
                    </a:lnTo>
                    <a:lnTo>
                      <a:pt x="6103" y="171"/>
                    </a:lnTo>
                    <a:lnTo>
                      <a:pt x="5830" y="230"/>
                    </a:lnTo>
                    <a:lnTo>
                      <a:pt x="5560" y="297"/>
                    </a:lnTo>
                    <a:lnTo>
                      <a:pt x="5294" y="371"/>
                    </a:lnTo>
                    <a:lnTo>
                      <a:pt x="5032" y="454"/>
                    </a:lnTo>
                    <a:lnTo>
                      <a:pt x="4774" y="543"/>
                    </a:lnTo>
                    <a:lnTo>
                      <a:pt x="4521" y="639"/>
                    </a:lnTo>
                    <a:lnTo>
                      <a:pt x="4272" y="742"/>
                    </a:lnTo>
                    <a:lnTo>
                      <a:pt x="4027" y="851"/>
                    </a:lnTo>
                    <a:lnTo>
                      <a:pt x="3788" y="968"/>
                    </a:lnTo>
                    <a:lnTo>
                      <a:pt x="3553" y="1091"/>
                    </a:lnTo>
                    <a:lnTo>
                      <a:pt x="3323" y="1220"/>
                    </a:lnTo>
                    <a:lnTo>
                      <a:pt x="3099" y="1354"/>
                    </a:lnTo>
                    <a:lnTo>
                      <a:pt x="2881" y="1495"/>
                    </a:lnTo>
                    <a:lnTo>
                      <a:pt x="2668" y="1641"/>
                    </a:lnTo>
                    <a:lnTo>
                      <a:pt x="2461" y="1791"/>
                    </a:lnTo>
                    <a:lnTo>
                      <a:pt x="2260" y="1948"/>
                    </a:lnTo>
                    <a:lnTo>
                      <a:pt x="2065" y="2109"/>
                    </a:lnTo>
                    <a:lnTo>
                      <a:pt x="1876" y="2276"/>
                    </a:lnTo>
                    <a:lnTo>
                      <a:pt x="1695" y="2447"/>
                    </a:lnTo>
                    <a:lnTo>
                      <a:pt x="1519" y="2622"/>
                    </a:lnTo>
                    <a:lnTo>
                      <a:pt x="1351" y="2802"/>
                    </a:lnTo>
                    <a:lnTo>
                      <a:pt x="1190" y="2985"/>
                    </a:lnTo>
                    <a:lnTo>
                      <a:pt x="1035" y="3173"/>
                    </a:lnTo>
                    <a:lnTo>
                      <a:pt x="889" y="3364"/>
                    </a:lnTo>
                    <a:lnTo>
                      <a:pt x="749" y="3559"/>
                    </a:lnTo>
                    <a:lnTo>
                      <a:pt x="617" y="3756"/>
                    </a:lnTo>
                    <a:lnTo>
                      <a:pt x="494" y="3957"/>
                    </a:lnTo>
                    <a:lnTo>
                      <a:pt x="379" y="4160"/>
                    </a:lnTo>
                    <a:lnTo>
                      <a:pt x="272" y="4368"/>
                    </a:lnTo>
                    <a:lnTo>
                      <a:pt x="173" y="4576"/>
                    </a:lnTo>
                    <a:lnTo>
                      <a:pt x="82" y="4788"/>
                    </a:lnTo>
                    <a:lnTo>
                      <a:pt x="0" y="5002"/>
                    </a:lnTo>
                    <a:lnTo>
                      <a:pt x="24" y="4958"/>
                    </a:lnTo>
                    <a:lnTo>
                      <a:pt x="95" y="4833"/>
                    </a:lnTo>
                    <a:lnTo>
                      <a:pt x="148" y="4745"/>
                    </a:lnTo>
                    <a:lnTo>
                      <a:pt x="212" y="4640"/>
                    </a:lnTo>
                    <a:lnTo>
                      <a:pt x="290" y="4519"/>
                    </a:lnTo>
                    <a:lnTo>
                      <a:pt x="379" y="4386"/>
                    </a:lnTo>
                    <a:lnTo>
                      <a:pt x="480" y="4240"/>
                    </a:lnTo>
                    <a:lnTo>
                      <a:pt x="592" y="4083"/>
                    </a:lnTo>
                    <a:lnTo>
                      <a:pt x="717" y="3917"/>
                    </a:lnTo>
                    <a:lnTo>
                      <a:pt x="854" y="3742"/>
                    </a:lnTo>
                    <a:lnTo>
                      <a:pt x="1003" y="3561"/>
                    </a:lnTo>
                    <a:lnTo>
                      <a:pt x="1165" y="3374"/>
                    </a:lnTo>
                    <a:lnTo>
                      <a:pt x="1339" y="3182"/>
                    </a:lnTo>
                    <a:lnTo>
                      <a:pt x="1524" y="2987"/>
                    </a:lnTo>
                    <a:lnTo>
                      <a:pt x="1722" y="2791"/>
                    </a:lnTo>
                    <a:lnTo>
                      <a:pt x="1932" y="2594"/>
                    </a:lnTo>
                    <a:lnTo>
                      <a:pt x="2155" y="2397"/>
                    </a:lnTo>
                    <a:lnTo>
                      <a:pt x="2389" y="2204"/>
                    </a:lnTo>
                    <a:lnTo>
                      <a:pt x="2636" y="2014"/>
                    </a:lnTo>
                    <a:lnTo>
                      <a:pt x="2896" y="1828"/>
                    </a:lnTo>
                    <a:lnTo>
                      <a:pt x="3167" y="1648"/>
                    </a:lnTo>
                    <a:lnTo>
                      <a:pt x="3452" y="1477"/>
                    </a:lnTo>
                    <a:lnTo>
                      <a:pt x="3749" y="1313"/>
                    </a:lnTo>
                    <a:lnTo>
                      <a:pt x="4059" y="1161"/>
                    </a:lnTo>
                    <a:lnTo>
                      <a:pt x="4381" y="1019"/>
                    </a:lnTo>
                    <a:lnTo>
                      <a:pt x="4716" y="889"/>
                    </a:lnTo>
                    <a:lnTo>
                      <a:pt x="5063" y="774"/>
                    </a:lnTo>
                    <a:lnTo>
                      <a:pt x="5423" y="674"/>
                    </a:lnTo>
                    <a:lnTo>
                      <a:pt x="5796" y="591"/>
                    </a:lnTo>
                    <a:lnTo>
                      <a:pt x="6181" y="526"/>
                    </a:lnTo>
                    <a:lnTo>
                      <a:pt x="6228" y="516"/>
                    </a:lnTo>
                    <a:lnTo>
                      <a:pt x="6367" y="491"/>
                    </a:lnTo>
                    <a:lnTo>
                      <a:pt x="6467" y="475"/>
                    </a:lnTo>
                    <a:lnTo>
                      <a:pt x="6586" y="458"/>
                    </a:lnTo>
                    <a:lnTo>
                      <a:pt x="6724" y="441"/>
                    </a:lnTo>
                    <a:lnTo>
                      <a:pt x="6879" y="424"/>
                    </a:lnTo>
                    <a:lnTo>
                      <a:pt x="7051" y="409"/>
                    </a:lnTo>
                    <a:lnTo>
                      <a:pt x="7236" y="395"/>
                    </a:lnTo>
                    <a:lnTo>
                      <a:pt x="7436" y="385"/>
                    </a:lnTo>
                    <a:lnTo>
                      <a:pt x="7649" y="379"/>
                    </a:lnTo>
                    <a:lnTo>
                      <a:pt x="7875" y="378"/>
                    </a:lnTo>
                    <a:lnTo>
                      <a:pt x="8110" y="381"/>
                    </a:lnTo>
                    <a:lnTo>
                      <a:pt x="8356" y="391"/>
                    </a:lnTo>
                    <a:lnTo>
                      <a:pt x="8610" y="410"/>
                    </a:lnTo>
                    <a:lnTo>
                      <a:pt x="8872" y="437"/>
                    </a:lnTo>
                    <a:lnTo>
                      <a:pt x="9141" y="471"/>
                    </a:lnTo>
                    <a:lnTo>
                      <a:pt x="9414" y="517"/>
                    </a:lnTo>
                    <a:lnTo>
                      <a:pt x="9692" y="573"/>
                    </a:lnTo>
                    <a:lnTo>
                      <a:pt x="9974" y="641"/>
                    </a:lnTo>
                    <a:lnTo>
                      <a:pt x="10257" y="720"/>
                    </a:lnTo>
                    <a:lnTo>
                      <a:pt x="10543" y="814"/>
                    </a:lnTo>
                    <a:lnTo>
                      <a:pt x="10829" y="922"/>
                    </a:lnTo>
                    <a:lnTo>
                      <a:pt x="11112" y="1045"/>
                    </a:lnTo>
                    <a:lnTo>
                      <a:pt x="11395" y="1183"/>
                    </a:lnTo>
                    <a:lnTo>
                      <a:pt x="11674" y="1339"/>
                    </a:lnTo>
                    <a:lnTo>
                      <a:pt x="11950" y="1512"/>
                    </a:lnTo>
                    <a:lnTo>
                      <a:pt x="12220" y="1703"/>
                    </a:lnTo>
                    <a:lnTo>
                      <a:pt x="12483" y="1914"/>
                    </a:lnTo>
                    <a:lnTo>
                      <a:pt x="12740" y="2146"/>
                    </a:lnTo>
                    <a:lnTo>
                      <a:pt x="12988" y="2397"/>
                    </a:lnTo>
                    <a:lnTo>
                      <a:pt x="13025" y="238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41440" y="5778000"/>
                <a:ext cx="504720" cy="134280"/>
              </a:xfrm>
              <a:custGeom>
                <a:avLst/>
                <a:gdLst/>
                <a:ahLst/>
                <a:rect l="l" t="t" r="r" b="b"/>
                <a:pathLst>
                  <a:path w="5544" h="1347">
                    <a:moveTo>
                      <a:pt x="2804" y="870"/>
                    </a:moveTo>
                    <a:lnTo>
                      <a:pt x="3184" y="571"/>
                    </a:lnTo>
                    <a:lnTo>
                      <a:pt x="3187" y="571"/>
                    </a:lnTo>
                    <a:lnTo>
                      <a:pt x="3199" y="568"/>
                    </a:lnTo>
                    <a:lnTo>
                      <a:pt x="3216" y="565"/>
                    </a:lnTo>
                    <a:lnTo>
                      <a:pt x="3242" y="559"/>
                    </a:lnTo>
                    <a:lnTo>
                      <a:pt x="3275" y="555"/>
                    </a:lnTo>
                    <a:lnTo>
                      <a:pt x="3315" y="550"/>
                    </a:lnTo>
                    <a:lnTo>
                      <a:pt x="3361" y="547"/>
                    </a:lnTo>
                    <a:lnTo>
                      <a:pt x="3416" y="544"/>
                    </a:lnTo>
                    <a:lnTo>
                      <a:pt x="3481" y="540"/>
                    </a:lnTo>
                    <a:lnTo>
                      <a:pt x="3550" y="540"/>
                    </a:lnTo>
                    <a:lnTo>
                      <a:pt x="3628" y="540"/>
                    </a:lnTo>
                    <a:lnTo>
                      <a:pt x="3712" y="547"/>
                    </a:lnTo>
                    <a:lnTo>
                      <a:pt x="3805" y="552"/>
                    </a:lnTo>
                    <a:lnTo>
                      <a:pt x="3907" y="562"/>
                    </a:lnTo>
                    <a:lnTo>
                      <a:pt x="4017" y="574"/>
                    </a:lnTo>
                    <a:lnTo>
                      <a:pt x="4133" y="592"/>
                    </a:lnTo>
                    <a:lnTo>
                      <a:pt x="4253" y="613"/>
                    </a:lnTo>
                    <a:lnTo>
                      <a:pt x="4365" y="641"/>
                    </a:lnTo>
                    <a:lnTo>
                      <a:pt x="4473" y="669"/>
                    </a:lnTo>
                    <a:lnTo>
                      <a:pt x="4577" y="703"/>
                    </a:lnTo>
                    <a:lnTo>
                      <a:pt x="4676" y="736"/>
                    </a:lnTo>
                    <a:lnTo>
                      <a:pt x="4772" y="776"/>
                    </a:lnTo>
                    <a:lnTo>
                      <a:pt x="4859" y="819"/>
                    </a:lnTo>
                    <a:lnTo>
                      <a:pt x="4943" y="862"/>
                    </a:lnTo>
                    <a:lnTo>
                      <a:pt x="5021" y="908"/>
                    </a:lnTo>
                    <a:lnTo>
                      <a:pt x="5096" y="956"/>
                    </a:lnTo>
                    <a:lnTo>
                      <a:pt x="5164" y="1006"/>
                    </a:lnTo>
                    <a:lnTo>
                      <a:pt x="5228" y="1057"/>
                    </a:lnTo>
                    <a:lnTo>
                      <a:pt x="5283" y="1109"/>
                    </a:lnTo>
                    <a:lnTo>
                      <a:pt x="5335" y="1163"/>
                    </a:lnTo>
                    <a:lnTo>
                      <a:pt x="5381" y="1219"/>
                    </a:lnTo>
                    <a:lnTo>
                      <a:pt x="5422" y="1274"/>
                    </a:lnTo>
                    <a:lnTo>
                      <a:pt x="5453" y="1320"/>
                    </a:lnTo>
                    <a:lnTo>
                      <a:pt x="5477" y="1342"/>
                    </a:lnTo>
                    <a:lnTo>
                      <a:pt x="5491" y="1347"/>
                    </a:lnTo>
                    <a:lnTo>
                      <a:pt x="5494" y="1335"/>
                    </a:lnTo>
                    <a:lnTo>
                      <a:pt x="5494" y="1311"/>
                    </a:lnTo>
                    <a:lnTo>
                      <a:pt x="5486" y="1277"/>
                    </a:lnTo>
                    <a:lnTo>
                      <a:pt x="5474" y="1234"/>
                    </a:lnTo>
                    <a:lnTo>
                      <a:pt x="5459" y="1183"/>
                    </a:lnTo>
                    <a:lnTo>
                      <a:pt x="5442" y="1130"/>
                    </a:lnTo>
                    <a:lnTo>
                      <a:pt x="5422" y="1075"/>
                    </a:lnTo>
                    <a:lnTo>
                      <a:pt x="5401" y="1024"/>
                    </a:lnTo>
                    <a:lnTo>
                      <a:pt x="5384" y="974"/>
                    </a:lnTo>
                    <a:lnTo>
                      <a:pt x="5367" y="931"/>
                    </a:lnTo>
                    <a:lnTo>
                      <a:pt x="5355" y="901"/>
                    </a:lnTo>
                    <a:lnTo>
                      <a:pt x="5346" y="880"/>
                    </a:lnTo>
                    <a:lnTo>
                      <a:pt x="5343" y="870"/>
                    </a:lnTo>
                    <a:lnTo>
                      <a:pt x="5483" y="1017"/>
                    </a:lnTo>
                    <a:lnTo>
                      <a:pt x="5483" y="785"/>
                    </a:lnTo>
                    <a:lnTo>
                      <a:pt x="5544" y="550"/>
                    </a:lnTo>
                    <a:lnTo>
                      <a:pt x="5544" y="547"/>
                    </a:lnTo>
                    <a:lnTo>
                      <a:pt x="5538" y="534"/>
                    </a:lnTo>
                    <a:lnTo>
                      <a:pt x="5529" y="513"/>
                    </a:lnTo>
                    <a:lnTo>
                      <a:pt x="5517" y="489"/>
                    </a:lnTo>
                    <a:lnTo>
                      <a:pt x="5497" y="458"/>
                    </a:lnTo>
                    <a:lnTo>
                      <a:pt x="5471" y="424"/>
                    </a:lnTo>
                    <a:lnTo>
                      <a:pt x="5434" y="388"/>
                    </a:lnTo>
                    <a:lnTo>
                      <a:pt x="5390" y="351"/>
                    </a:lnTo>
                    <a:lnTo>
                      <a:pt x="5335" y="311"/>
                    </a:lnTo>
                    <a:lnTo>
                      <a:pt x="5268" y="275"/>
                    </a:lnTo>
                    <a:lnTo>
                      <a:pt x="5187" y="235"/>
                    </a:lnTo>
                    <a:lnTo>
                      <a:pt x="5094" y="201"/>
                    </a:lnTo>
                    <a:lnTo>
                      <a:pt x="4984" y="171"/>
                    </a:lnTo>
                    <a:lnTo>
                      <a:pt x="4859" y="143"/>
                    </a:lnTo>
                    <a:lnTo>
                      <a:pt x="4717" y="121"/>
                    </a:lnTo>
                    <a:lnTo>
                      <a:pt x="4557" y="106"/>
                    </a:lnTo>
                    <a:lnTo>
                      <a:pt x="4391" y="100"/>
                    </a:lnTo>
                    <a:lnTo>
                      <a:pt x="4234" y="103"/>
                    </a:lnTo>
                    <a:lnTo>
                      <a:pt x="4084" y="116"/>
                    </a:lnTo>
                    <a:lnTo>
                      <a:pt x="3945" y="134"/>
                    </a:lnTo>
                    <a:lnTo>
                      <a:pt x="3811" y="158"/>
                    </a:lnTo>
                    <a:lnTo>
                      <a:pt x="3687" y="189"/>
                    </a:lnTo>
                    <a:lnTo>
                      <a:pt x="3570" y="222"/>
                    </a:lnTo>
                    <a:lnTo>
                      <a:pt x="3463" y="256"/>
                    </a:lnTo>
                    <a:lnTo>
                      <a:pt x="3364" y="295"/>
                    </a:lnTo>
                    <a:lnTo>
                      <a:pt x="3271" y="333"/>
                    </a:lnTo>
                    <a:lnTo>
                      <a:pt x="3187" y="369"/>
                    </a:lnTo>
                    <a:lnTo>
                      <a:pt x="3111" y="403"/>
                    </a:lnTo>
                    <a:lnTo>
                      <a:pt x="3042" y="431"/>
                    </a:lnTo>
                    <a:lnTo>
                      <a:pt x="2981" y="458"/>
                    </a:lnTo>
                    <a:lnTo>
                      <a:pt x="2929" y="476"/>
                    </a:lnTo>
                    <a:lnTo>
                      <a:pt x="2883" y="489"/>
                    </a:lnTo>
                    <a:lnTo>
                      <a:pt x="2836" y="489"/>
                    </a:lnTo>
                    <a:lnTo>
                      <a:pt x="2781" y="479"/>
                    </a:lnTo>
                    <a:lnTo>
                      <a:pt x="2717" y="454"/>
                    </a:lnTo>
                    <a:lnTo>
                      <a:pt x="2644" y="424"/>
                    </a:lnTo>
                    <a:lnTo>
                      <a:pt x="2566" y="385"/>
                    </a:lnTo>
                    <a:lnTo>
                      <a:pt x="2479" y="342"/>
                    </a:lnTo>
                    <a:lnTo>
                      <a:pt x="2386" y="293"/>
                    </a:lnTo>
                    <a:lnTo>
                      <a:pt x="2284" y="244"/>
                    </a:lnTo>
                    <a:lnTo>
                      <a:pt x="2177" y="195"/>
                    </a:lnTo>
                    <a:lnTo>
                      <a:pt x="2064" y="146"/>
                    </a:lnTo>
                    <a:lnTo>
                      <a:pt x="1947" y="103"/>
                    </a:lnTo>
                    <a:lnTo>
                      <a:pt x="1823" y="63"/>
                    </a:lnTo>
                    <a:lnTo>
                      <a:pt x="1696" y="33"/>
                    </a:lnTo>
                    <a:lnTo>
                      <a:pt x="1565" y="9"/>
                    </a:lnTo>
                    <a:lnTo>
                      <a:pt x="1431" y="0"/>
                    </a:lnTo>
                    <a:lnTo>
                      <a:pt x="1292" y="0"/>
                    </a:lnTo>
                    <a:lnTo>
                      <a:pt x="1156" y="12"/>
                    </a:lnTo>
                    <a:lnTo>
                      <a:pt x="1022" y="33"/>
                    </a:lnTo>
                    <a:lnTo>
                      <a:pt x="898" y="58"/>
                    </a:lnTo>
                    <a:lnTo>
                      <a:pt x="779" y="88"/>
                    </a:lnTo>
                    <a:lnTo>
                      <a:pt x="665" y="125"/>
                    </a:lnTo>
                    <a:lnTo>
                      <a:pt x="560" y="161"/>
                    </a:lnTo>
                    <a:lnTo>
                      <a:pt x="467" y="201"/>
                    </a:lnTo>
                    <a:lnTo>
                      <a:pt x="381" y="241"/>
                    </a:lnTo>
                    <a:lnTo>
                      <a:pt x="305" y="280"/>
                    </a:lnTo>
                    <a:lnTo>
                      <a:pt x="242" y="315"/>
                    </a:lnTo>
                    <a:lnTo>
                      <a:pt x="189" y="348"/>
                    </a:lnTo>
                    <a:lnTo>
                      <a:pt x="148" y="373"/>
                    </a:lnTo>
                    <a:lnTo>
                      <a:pt x="123" y="394"/>
                    </a:lnTo>
                    <a:lnTo>
                      <a:pt x="108" y="406"/>
                    </a:lnTo>
                    <a:lnTo>
                      <a:pt x="108" y="409"/>
                    </a:lnTo>
                    <a:lnTo>
                      <a:pt x="123" y="403"/>
                    </a:lnTo>
                    <a:lnTo>
                      <a:pt x="151" y="400"/>
                    </a:lnTo>
                    <a:lnTo>
                      <a:pt x="154" y="428"/>
                    </a:lnTo>
                    <a:lnTo>
                      <a:pt x="137" y="482"/>
                    </a:lnTo>
                    <a:lnTo>
                      <a:pt x="108" y="550"/>
                    </a:lnTo>
                    <a:lnTo>
                      <a:pt x="71" y="617"/>
                    </a:lnTo>
                    <a:lnTo>
                      <a:pt x="35" y="681"/>
                    </a:lnTo>
                    <a:lnTo>
                      <a:pt x="13" y="724"/>
                    </a:lnTo>
                    <a:lnTo>
                      <a:pt x="0" y="742"/>
                    </a:lnTo>
                    <a:lnTo>
                      <a:pt x="123" y="656"/>
                    </a:lnTo>
                    <a:lnTo>
                      <a:pt x="82" y="931"/>
                    </a:lnTo>
                    <a:lnTo>
                      <a:pt x="244" y="849"/>
                    </a:lnTo>
                    <a:lnTo>
                      <a:pt x="203" y="1125"/>
                    </a:lnTo>
                    <a:lnTo>
                      <a:pt x="206" y="1122"/>
                    </a:lnTo>
                    <a:lnTo>
                      <a:pt x="212" y="1112"/>
                    </a:lnTo>
                    <a:lnTo>
                      <a:pt x="222" y="1100"/>
                    </a:lnTo>
                    <a:lnTo>
                      <a:pt x="239" y="1082"/>
                    </a:lnTo>
                    <a:lnTo>
                      <a:pt x="259" y="1057"/>
                    </a:lnTo>
                    <a:lnTo>
                      <a:pt x="285" y="1029"/>
                    </a:lnTo>
                    <a:lnTo>
                      <a:pt x="317" y="999"/>
                    </a:lnTo>
                    <a:lnTo>
                      <a:pt x="354" y="963"/>
                    </a:lnTo>
                    <a:lnTo>
                      <a:pt x="398" y="926"/>
                    </a:lnTo>
                    <a:lnTo>
                      <a:pt x="450" y="883"/>
                    </a:lnTo>
                    <a:lnTo>
                      <a:pt x="511" y="840"/>
                    </a:lnTo>
                    <a:lnTo>
                      <a:pt x="579" y="794"/>
                    </a:lnTo>
                    <a:lnTo>
                      <a:pt x="653" y="746"/>
                    </a:lnTo>
                    <a:lnTo>
                      <a:pt x="735" y="696"/>
                    </a:lnTo>
                    <a:lnTo>
                      <a:pt x="828" y="645"/>
                    </a:lnTo>
                    <a:lnTo>
                      <a:pt x="930" y="592"/>
                    </a:lnTo>
                    <a:lnTo>
                      <a:pt x="1031" y="547"/>
                    </a:lnTo>
                    <a:lnTo>
                      <a:pt x="1126" y="507"/>
                    </a:lnTo>
                    <a:lnTo>
                      <a:pt x="1216" y="479"/>
                    </a:lnTo>
                    <a:lnTo>
                      <a:pt x="1304" y="458"/>
                    </a:lnTo>
                    <a:lnTo>
                      <a:pt x="1384" y="446"/>
                    </a:lnTo>
                    <a:lnTo>
                      <a:pt x="1466" y="439"/>
                    </a:lnTo>
                    <a:lnTo>
                      <a:pt x="1545" y="439"/>
                    </a:lnTo>
                    <a:lnTo>
                      <a:pt x="1623" y="446"/>
                    </a:lnTo>
                    <a:lnTo>
                      <a:pt x="1704" y="454"/>
                    </a:lnTo>
                    <a:lnTo>
                      <a:pt x="1785" y="470"/>
                    </a:lnTo>
                    <a:lnTo>
                      <a:pt x="1870" y="489"/>
                    </a:lnTo>
                    <a:lnTo>
                      <a:pt x="1960" y="510"/>
                    </a:lnTo>
                    <a:lnTo>
                      <a:pt x="2056" y="534"/>
                    </a:lnTo>
                    <a:lnTo>
                      <a:pt x="2154" y="559"/>
                    </a:lnTo>
                    <a:lnTo>
                      <a:pt x="2265" y="587"/>
                    </a:lnTo>
                    <a:lnTo>
                      <a:pt x="2380" y="613"/>
                    </a:lnTo>
                    <a:lnTo>
                      <a:pt x="2491" y="641"/>
                    </a:lnTo>
                    <a:lnTo>
                      <a:pt x="2584" y="669"/>
                    </a:lnTo>
                    <a:lnTo>
                      <a:pt x="2659" y="693"/>
                    </a:lnTo>
                    <a:lnTo>
                      <a:pt x="2717" y="718"/>
                    </a:lnTo>
                    <a:lnTo>
                      <a:pt x="2763" y="739"/>
                    </a:lnTo>
                    <a:lnTo>
                      <a:pt x="2798" y="761"/>
                    </a:lnTo>
                    <a:lnTo>
                      <a:pt x="2822" y="782"/>
                    </a:lnTo>
                    <a:lnTo>
                      <a:pt x="2833" y="797"/>
                    </a:lnTo>
                    <a:lnTo>
                      <a:pt x="2839" y="815"/>
                    </a:lnTo>
                    <a:lnTo>
                      <a:pt x="2839" y="828"/>
                    </a:lnTo>
                    <a:lnTo>
                      <a:pt x="2836" y="840"/>
                    </a:lnTo>
                    <a:lnTo>
                      <a:pt x="2828" y="852"/>
                    </a:lnTo>
                    <a:lnTo>
                      <a:pt x="2822" y="858"/>
                    </a:lnTo>
                    <a:lnTo>
                      <a:pt x="2812" y="865"/>
                    </a:lnTo>
                    <a:lnTo>
                      <a:pt x="2807" y="870"/>
                    </a:lnTo>
                    <a:lnTo>
                      <a:pt x="2804" y="870"/>
                    </a:lnTo>
                    <a:close/>
                  </a:path>
                </a:pathLst>
              </a:custGeom>
              <a:solidFill>
                <a:srgbClr val="f2b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4720" y="583488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58" h="367">
                    <a:moveTo>
                      <a:pt x="3" y="266"/>
                    </a:moveTo>
                    <a:lnTo>
                      <a:pt x="58" y="2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51"/>
                    </a:lnTo>
                    <a:lnTo>
                      <a:pt x="55" y="235"/>
                    </a:lnTo>
                    <a:lnTo>
                      <a:pt x="3" y="266"/>
                    </a:lnTo>
                    <a:lnTo>
                      <a:pt x="58" y="367"/>
                    </a:lnTo>
                    <a:lnTo>
                      <a:pt x="58" y="251"/>
                    </a:lnTo>
                    <a:lnTo>
                      <a:pt x="3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18360" y="579996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1445" h="623">
                    <a:moveTo>
                      <a:pt x="0" y="63"/>
                    </a:moveTo>
                    <a:lnTo>
                      <a:pt x="122" y="67"/>
                    </a:lnTo>
                    <a:lnTo>
                      <a:pt x="241" y="67"/>
                    </a:lnTo>
                    <a:lnTo>
                      <a:pt x="354" y="76"/>
                    </a:lnTo>
                    <a:lnTo>
                      <a:pt x="465" y="94"/>
                    </a:lnTo>
                    <a:lnTo>
                      <a:pt x="575" y="113"/>
                    </a:lnTo>
                    <a:lnTo>
                      <a:pt x="676" y="140"/>
                    </a:lnTo>
                    <a:lnTo>
                      <a:pt x="775" y="171"/>
                    </a:lnTo>
                    <a:lnTo>
                      <a:pt x="867" y="207"/>
                    </a:lnTo>
                    <a:lnTo>
                      <a:pt x="957" y="247"/>
                    </a:lnTo>
                    <a:lnTo>
                      <a:pt x="1042" y="290"/>
                    </a:lnTo>
                    <a:lnTo>
                      <a:pt x="1117" y="338"/>
                    </a:lnTo>
                    <a:lnTo>
                      <a:pt x="1187" y="388"/>
                    </a:lnTo>
                    <a:lnTo>
                      <a:pt x="1251" y="446"/>
                    </a:lnTo>
                    <a:lnTo>
                      <a:pt x="1303" y="501"/>
                    </a:lnTo>
                    <a:lnTo>
                      <a:pt x="1355" y="562"/>
                    </a:lnTo>
                    <a:lnTo>
                      <a:pt x="1393" y="623"/>
                    </a:lnTo>
                    <a:lnTo>
                      <a:pt x="1445" y="592"/>
                    </a:lnTo>
                    <a:lnTo>
                      <a:pt x="1402" y="525"/>
                    </a:lnTo>
                    <a:lnTo>
                      <a:pt x="1350" y="458"/>
                    </a:lnTo>
                    <a:lnTo>
                      <a:pt x="1292" y="396"/>
                    </a:lnTo>
                    <a:lnTo>
                      <a:pt x="1221" y="338"/>
                    </a:lnTo>
                    <a:lnTo>
                      <a:pt x="1152" y="284"/>
                    </a:lnTo>
                    <a:lnTo>
                      <a:pt x="1070" y="235"/>
                    </a:lnTo>
                    <a:lnTo>
                      <a:pt x="981" y="186"/>
                    </a:lnTo>
                    <a:lnTo>
                      <a:pt x="891" y="146"/>
                    </a:lnTo>
                    <a:lnTo>
                      <a:pt x="792" y="110"/>
                    </a:lnTo>
                    <a:lnTo>
                      <a:pt x="694" y="78"/>
                    </a:lnTo>
                    <a:lnTo>
                      <a:pt x="586" y="52"/>
                    </a:lnTo>
                    <a:lnTo>
                      <a:pt x="476" y="33"/>
                    </a:lnTo>
                    <a:lnTo>
                      <a:pt x="360" y="15"/>
                    </a:lnTo>
                    <a:lnTo>
                      <a:pt x="241" y="5"/>
                    </a:lnTo>
                    <a:lnTo>
                      <a:pt x="122" y="0"/>
                    </a:lnTo>
                    <a:lnTo>
                      <a:pt x="0" y="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95600" y="5799960"/>
                <a:ext cx="122400" cy="62640"/>
              </a:xfrm>
              <a:custGeom>
                <a:avLst/>
                <a:gdLst/>
                <a:ahLst/>
                <a:rect l="l" t="t" r="r" b="b"/>
                <a:pathLst>
                  <a:path w="1349" h="630">
                    <a:moveTo>
                      <a:pt x="52" y="630"/>
                    </a:moveTo>
                    <a:lnTo>
                      <a:pt x="93" y="572"/>
                    </a:lnTo>
                    <a:lnTo>
                      <a:pt x="142" y="520"/>
                    </a:lnTo>
                    <a:lnTo>
                      <a:pt x="197" y="465"/>
                    </a:lnTo>
                    <a:lnTo>
                      <a:pt x="258" y="413"/>
                    </a:lnTo>
                    <a:lnTo>
                      <a:pt x="327" y="364"/>
                    </a:lnTo>
                    <a:lnTo>
                      <a:pt x="397" y="318"/>
                    </a:lnTo>
                    <a:lnTo>
                      <a:pt x="475" y="275"/>
                    </a:lnTo>
                    <a:lnTo>
                      <a:pt x="557" y="239"/>
                    </a:lnTo>
                    <a:lnTo>
                      <a:pt x="644" y="202"/>
                    </a:lnTo>
                    <a:lnTo>
                      <a:pt x="733" y="169"/>
                    </a:lnTo>
                    <a:lnTo>
                      <a:pt x="829" y="141"/>
                    </a:lnTo>
                    <a:lnTo>
                      <a:pt x="925" y="116"/>
                    </a:lnTo>
                    <a:lnTo>
                      <a:pt x="1030" y="96"/>
                    </a:lnTo>
                    <a:lnTo>
                      <a:pt x="1131" y="80"/>
                    </a:lnTo>
                    <a:lnTo>
                      <a:pt x="1241" y="68"/>
                    </a:lnTo>
                    <a:lnTo>
                      <a:pt x="1349" y="61"/>
                    </a:lnTo>
                    <a:lnTo>
                      <a:pt x="1349" y="0"/>
                    </a:lnTo>
                    <a:lnTo>
                      <a:pt x="1236" y="7"/>
                    </a:lnTo>
                    <a:lnTo>
                      <a:pt x="1125" y="18"/>
                    </a:lnTo>
                    <a:lnTo>
                      <a:pt x="1018" y="34"/>
                    </a:lnTo>
                    <a:lnTo>
                      <a:pt x="914" y="56"/>
                    </a:lnTo>
                    <a:lnTo>
                      <a:pt x="812" y="80"/>
                    </a:lnTo>
                    <a:lnTo>
                      <a:pt x="716" y="108"/>
                    </a:lnTo>
                    <a:lnTo>
                      <a:pt x="620" y="141"/>
                    </a:lnTo>
                    <a:lnTo>
                      <a:pt x="533" y="177"/>
                    </a:lnTo>
                    <a:lnTo>
                      <a:pt x="447" y="220"/>
                    </a:lnTo>
                    <a:lnTo>
                      <a:pt x="368" y="263"/>
                    </a:lnTo>
                    <a:lnTo>
                      <a:pt x="293" y="310"/>
                    </a:lnTo>
                    <a:lnTo>
                      <a:pt x="223" y="364"/>
                    </a:lnTo>
                    <a:lnTo>
                      <a:pt x="156" y="416"/>
                    </a:lnTo>
                    <a:lnTo>
                      <a:pt x="101" y="472"/>
                    </a:lnTo>
                    <a:lnTo>
                      <a:pt x="46" y="530"/>
                    </a:lnTo>
                    <a:lnTo>
                      <a:pt x="0" y="593"/>
                    </a:lnTo>
                    <a:lnTo>
                      <a:pt x="52" y="63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0920" y="583056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1378" h="340">
                    <a:moveTo>
                      <a:pt x="1378" y="27"/>
                    </a:moveTo>
                    <a:lnTo>
                      <a:pt x="1268" y="15"/>
                    </a:lnTo>
                    <a:lnTo>
                      <a:pt x="1161" y="9"/>
                    </a:lnTo>
                    <a:lnTo>
                      <a:pt x="1054" y="4"/>
                    </a:lnTo>
                    <a:lnTo>
                      <a:pt x="949" y="0"/>
                    </a:lnTo>
                    <a:lnTo>
                      <a:pt x="851" y="0"/>
                    </a:lnTo>
                    <a:lnTo>
                      <a:pt x="752" y="7"/>
                    </a:lnTo>
                    <a:lnTo>
                      <a:pt x="659" y="12"/>
                    </a:lnTo>
                    <a:lnTo>
                      <a:pt x="569" y="25"/>
                    </a:lnTo>
                    <a:lnTo>
                      <a:pt x="485" y="43"/>
                    </a:lnTo>
                    <a:lnTo>
                      <a:pt x="401" y="62"/>
                    </a:lnTo>
                    <a:lnTo>
                      <a:pt x="325" y="86"/>
                    </a:lnTo>
                    <a:lnTo>
                      <a:pt x="250" y="116"/>
                    </a:lnTo>
                    <a:lnTo>
                      <a:pt x="180" y="153"/>
                    </a:lnTo>
                    <a:lnTo>
                      <a:pt x="113" y="193"/>
                    </a:lnTo>
                    <a:lnTo>
                      <a:pt x="55" y="242"/>
                    </a:lnTo>
                    <a:lnTo>
                      <a:pt x="0" y="297"/>
                    </a:lnTo>
                    <a:lnTo>
                      <a:pt x="47" y="340"/>
                    </a:lnTo>
                    <a:lnTo>
                      <a:pt x="96" y="290"/>
                    </a:lnTo>
                    <a:lnTo>
                      <a:pt x="148" y="247"/>
                    </a:lnTo>
                    <a:lnTo>
                      <a:pt x="209" y="208"/>
                    </a:lnTo>
                    <a:lnTo>
                      <a:pt x="272" y="178"/>
                    </a:lnTo>
                    <a:lnTo>
                      <a:pt x="343" y="146"/>
                    </a:lnTo>
                    <a:lnTo>
                      <a:pt x="418" y="123"/>
                    </a:lnTo>
                    <a:lnTo>
                      <a:pt x="497" y="104"/>
                    </a:lnTo>
                    <a:lnTo>
                      <a:pt x="580" y="86"/>
                    </a:lnTo>
                    <a:lnTo>
                      <a:pt x="665" y="73"/>
                    </a:lnTo>
                    <a:lnTo>
                      <a:pt x="758" y="67"/>
                    </a:lnTo>
                    <a:lnTo>
                      <a:pt x="851" y="62"/>
                    </a:lnTo>
                    <a:lnTo>
                      <a:pt x="949" y="62"/>
                    </a:lnTo>
                    <a:lnTo>
                      <a:pt x="1054" y="65"/>
                    </a:lnTo>
                    <a:lnTo>
                      <a:pt x="1155" y="70"/>
                    </a:lnTo>
                    <a:lnTo>
                      <a:pt x="1263" y="77"/>
                    </a:lnTo>
                    <a:lnTo>
                      <a:pt x="1373" y="88"/>
                    </a:lnTo>
                    <a:lnTo>
                      <a:pt x="1378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16560" y="5832720"/>
                <a:ext cx="127440" cy="104400"/>
              </a:xfrm>
              <a:custGeom>
                <a:avLst/>
                <a:gdLst/>
                <a:ahLst/>
                <a:rect l="l" t="t" r="r" b="b"/>
                <a:pathLst>
                  <a:path w="1408" h="1052">
                    <a:moveTo>
                      <a:pt x="1306" y="817"/>
                    </a:moveTo>
                    <a:lnTo>
                      <a:pt x="1364" y="798"/>
                    </a:lnTo>
                    <a:lnTo>
                      <a:pt x="1329" y="725"/>
                    </a:lnTo>
                    <a:lnTo>
                      <a:pt x="1285" y="651"/>
                    </a:lnTo>
                    <a:lnTo>
                      <a:pt x="1233" y="581"/>
                    </a:lnTo>
                    <a:lnTo>
                      <a:pt x="1175" y="517"/>
                    </a:lnTo>
                    <a:lnTo>
                      <a:pt x="1109" y="450"/>
                    </a:lnTo>
                    <a:lnTo>
                      <a:pt x="1036" y="392"/>
                    </a:lnTo>
                    <a:lnTo>
                      <a:pt x="958" y="331"/>
                    </a:lnTo>
                    <a:lnTo>
                      <a:pt x="870" y="278"/>
                    </a:lnTo>
                    <a:lnTo>
                      <a:pt x="780" y="227"/>
                    </a:lnTo>
                    <a:lnTo>
                      <a:pt x="681" y="178"/>
                    </a:lnTo>
                    <a:lnTo>
                      <a:pt x="580" y="139"/>
                    </a:lnTo>
                    <a:lnTo>
                      <a:pt x="473" y="99"/>
                    </a:lnTo>
                    <a:lnTo>
                      <a:pt x="362" y="68"/>
                    </a:lnTo>
                    <a:lnTo>
                      <a:pt x="247" y="40"/>
                    </a:lnTo>
                    <a:lnTo>
                      <a:pt x="131" y="16"/>
                    </a:lnTo>
                    <a:lnTo>
                      <a:pt x="5" y="0"/>
                    </a:lnTo>
                    <a:lnTo>
                      <a:pt x="0" y="61"/>
                    </a:lnTo>
                    <a:lnTo>
                      <a:pt x="118" y="77"/>
                    </a:lnTo>
                    <a:lnTo>
                      <a:pt x="235" y="101"/>
                    </a:lnTo>
                    <a:lnTo>
                      <a:pt x="345" y="129"/>
                    </a:lnTo>
                    <a:lnTo>
                      <a:pt x="455" y="159"/>
                    </a:lnTo>
                    <a:lnTo>
                      <a:pt x="557" y="199"/>
                    </a:lnTo>
                    <a:lnTo>
                      <a:pt x="659" y="239"/>
                    </a:lnTo>
                    <a:lnTo>
                      <a:pt x="752" y="282"/>
                    </a:lnTo>
                    <a:lnTo>
                      <a:pt x="842" y="334"/>
                    </a:lnTo>
                    <a:lnTo>
                      <a:pt x="923" y="386"/>
                    </a:lnTo>
                    <a:lnTo>
                      <a:pt x="1001" y="441"/>
                    </a:lnTo>
                    <a:lnTo>
                      <a:pt x="1068" y="499"/>
                    </a:lnTo>
                    <a:lnTo>
                      <a:pt x="1134" y="560"/>
                    </a:lnTo>
                    <a:lnTo>
                      <a:pt x="1186" y="624"/>
                    </a:lnTo>
                    <a:lnTo>
                      <a:pt x="1233" y="689"/>
                    </a:lnTo>
                    <a:lnTo>
                      <a:pt x="1277" y="755"/>
                    </a:lnTo>
                    <a:lnTo>
                      <a:pt x="1306" y="823"/>
                    </a:lnTo>
                    <a:lnTo>
                      <a:pt x="1364" y="805"/>
                    </a:lnTo>
                    <a:lnTo>
                      <a:pt x="1306" y="823"/>
                    </a:lnTo>
                    <a:lnTo>
                      <a:pt x="1408" y="1052"/>
                    </a:lnTo>
                    <a:lnTo>
                      <a:pt x="1364" y="805"/>
                    </a:lnTo>
                    <a:lnTo>
                      <a:pt x="1306" y="8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5640" y="5858640"/>
                <a:ext cx="14400" cy="55800"/>
              </a:xfrm>
              <a:custGeom>
                <a:avLst/>
                <a:gdLst/>
                <a:ahLst/>
                <a:rect l="l" t="t" r="r" b="b"/>
                <a:pathLst>
                  <a:path w="162" h="562">
                    <a:moveTo>
                      <a:pt x="60" y="48"/>
                    </a:moveTo>
                    <a:lnTo>
                      <a:pt x="14" y="79"/>
                    </a:lnTo>
                    <a:lnTo>
                      <a:pt x="104" y="562"/>
                    </a:lnTo>
                    <a:lnTo>
                      <a:pt x="162" y="550"/>
                    </a:lnTo>
                    <a:lnTo>
                      <a:pt x="72" y="66"/>
                    </a:lnTo>
                    <a:lnTo>
                      <a:pt x="25" y="98"/>
                    </a:lnTo>
                    <a:lnTo>
                      <a:pt x="60" y="48"/>
                    </a:lnTo>
                    <a:lnTo>
                      <a:pt x="0" y="0"/>
                    </a:lnTo>
                    <a:lnTo>
                      <a:pt x="14" y="79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27440" y="5863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10" y="119"/>
                    </a:moveTo>
                    <a:lnTo>
                      <a:pt x="157" y="95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22" y="144"/>
                    </a:lnTo>
                    <a:lnTo>
                      <a:pt x="168" y="119"/>
                    </a:lnTo>
                    <a:lnTo>
                      <a:pt x="122" y="144"/>
                    </a:lnTo>
                    <a:lnTo>
                      <a:pt x="168" y="181"/>
                    </a:lnTo>
                    <a:lnTo>
                      <a:pt x="171" y="119"/>
                    </a:lnTo>
                    <a:lnTo>
                      <a:pt x="110" y="1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37520" y="585072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64" h="244">
                    <a:moveTo>
                      <a:pt x="64" y="0"/>
                    </a:moveTo>
                    <a:lnTo>
                      <a:pt x="6" y="3"/>
                    </a:lnTo>
                    <a:lnTo>
                      <a:pt x="0" y="244"/>
                    </a:lnTo>
                    <a:lnTo>
                      <a:pt x="58" y="244"/>
                    </a:lnTo>
                    <a:lnTo>
                      <a:pt x="64" y="3"/>
                    </a:lnTo>
                    <a:lnTo>
                      <a:pt x="6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38240" y="5850720"/>
                <a:ext cx="10080" cy="50400"/>
              </a:xfrm>
              <a:custGeom>
                <a:avLst/>
                <a:gdLst/>
                <a:ahLst/>
                <a:rect l="l" t="t" r="r" b="b"/>
                <a:pathLst>
                  <a:path w="114" h="508">
                    <a:moveTo>
                      <a:pt x="41" y="357"/>
                    </a:moveTo>
                    <a:lnTo>
                      <a:pt x="96" y="339"/>
                    </a:lnTo>
                    <a:lnTo>
                      <a:pt x="58" y="0"/>
                    </a:lnTo>
                    <a:lnTo>
                      <a:pt x="0" y="6"/>
                    </a:lnTo>
                    <a:lnTo>
                      <a:pt x="38" y="345"/>
                    </a:lnTo>
                    <a:lnTo>
                      <a:pt x="93" y="327"/>
                    </a:lnTo>
                    <a:lnTo>
                      <a:pt x="41" y="357"/>
                    </a:lnTo>
                    <a:lnTo>
                      <a:pt x="114" y="508"/>
                    </a:lnTo>
                    <a:lnTo>
                      <a:pt x="96" y="339"/>
                    </a:lnTo>
                    <a:lnTo>
                      <a:pt x="41" y="3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19080" y="5813640"/>
                <a:ext cx="127440" cy="72720"/>
              </a:xfrm>
              <a:custGeom>
                <a:avLst/>
                <a:gdLst/>
                <a:ahLst/>
                <a:rect l="l" t="t" r="r" b="b"/>
                <a:pathLst>
                  <a:path w="1404" h="724">
                    <a:moveTo>
                      <a:pt x="0" y="61"/>
                    </a:moveTo>
                    <a:lnTo>
                      <a:pt x="119" y="68"/>
                    </a:lnTo>
                    <a:lnTo>
                      <a:pt x="237" y="83"/>
                    </a:lnTo>
                    <a:lnTo>
                      <a:pt x="348" y="101"/>
                    </a:lnTo>
                    <a:lnTo>
                      <a:pt x="461" y="126"/>
                    </a:lnTo>
                    <a:lnTo>
                      <a:pt x="566" y="156"/>
                    </a:lnTo>
                    <a:lnTo>
                      <a:pt x="667" y="189"/>
                    </a:lnTo>
                    <a:lnTo>
                      <a:pt x="763" y="229"/>
                    </a:lnTo>
                    <a:lnTo>
                      <a:pt x="855" y="269"/>
                    </a:lnTo>
                    <a:lnTo>
                      <a:pt x="940" y="315"/>
                    </a:lnTo>
                    <a:lnTo>
                      <a:pt x="1019" y="367"/>
                    </a:lnTo>
                    <a:lnTo>
                      <a:pt x="1094" y="419"/>
                    </a:lnTo>
                    <a:lnTo>
                      <a:pt x="1160" y="474"/>
                    </a:lnTo>
                    <a:lnTo>
                      <a:pt x="1219" y="532"/>
                    </a:lnTo>
                    <a:lnTo>
                      <a:pt x="1271" y="593"/>
                    </a:lnTo>
                    <a:lnTo>
                      <a:pt x="1314" y="661"/>
                    </a:lnTo>
                    <a:lnTo>
                      <a:pt x="1352" y="724"/>
                    </a:lnTo>
                    <a:lnTo>
                      <a:pt x="1404" y="694"/>
                    </a:lnTo>
                    <a:lnTo>
                      <a:pt x="1366" y="623"/>
                    </a:lnTo>
                    <a:lnTo>
                      <a:pt x="1317" y="557"/>
                    </a:lnTo>
                    <a:lnTo>
                      <a:pt x="1265" y="489"/>
                    </a:lnTo>
                    <a:lnTo>
                      <a:pt x="1201" y="426"/>
                    </a:lnTo>
                    <a:lnTo>
                      <a:pt x="1129" y="370"/>
                    </a:lnTo>
                    <a:lnTo>
                      <a:pt x="1053" y="312"/>
                    </a:lnTo>
                    <a:lnTo>
                      <a:pt x="969" y="260"/>
                    </a:lnTo>
                    <a:lnTo>
                      <a:pt x="879" y="214"/>
                    </a:lnTo>
                    <a:lnTo>
                      <a:pt x="786" y="169"/>
                    </a:lnTo>
                    <a:lnTo>
                      <a:pt x="685" y="129"/>
                    </a:lnTo>
                    <a:lnTo>
                      <a:pt x="583" y="95"/>
                    </a:lnTo>
                    <a:lnTo>
                      <a:pt x="473" y="65"/>
                    </a:lnTo>
                    <a:lnTo>
                      <a:pt x="360" y="40"/>
                    </a:lnTo>
                    <a:lnTo>
                      <a:pt x="243" y="22"/>
                    </a:lnTo>
                    <a:lnTo>
                      <a:pt x="124" y="6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92720" y="5813640"/>
                <a:ext cx="126360" cy="53640"/>
              </a:xfrm>
              <a:custGeom>
                <a:avLst/>
                <a:gdLst/>
                <a:ahLst/>
                <a:rect l="l" t="t" r="r" b="b"/>
                <a:pathLst>
                  <a:path w="1385" h="538">
                    <a:moveTo>
                      <a:pt x="46" y="538"/>
                    </a:moveTo>
                    <a:lnTo>
                      <a:pt x="93" y="483"/>
                    </a:lnTo>
                    <a:lnTo>
                      <a:pt x="148" y="431"/>
                    </a:lnTo>
                    <a:lnTo>
                      <a:pt x="203" y="382"/>
                    </a:lnTo>
                    <a:lnTo>
                      <a:pt x="271" y="336"/>
                    </a:lnTo>
                    <a:lnTo>
                      <a:pt x="340" y="293"/>
                    </a:lnTo>
                    <a:lnTo>
                      <a:pt x="416" y="251"/>
                    </a:lnTo>
                    <a:lnTo>
                      <a:pt x="497" y="217"/>
                    </a:lnTo>
                    <a:lnTo>
                      <a:pt x="578" y="184"/>
                    </a:lnTo>
                    <a:lnTo>
                      <a:pt x="671" y="153"/>
                    </a:lnTo>
                    <a:lnTo>
                      <a:pt x="760" y="129"/>
                    </a:lnTo>
                    <a:lnTo>
                      <a:pt x="859" y="104"/>
                    </a:lnTo>
                    <a:lnTo>
                      <a:pt x="955" y="89"/>
                    </a:lnTo>
                    <a:lnTo>
                      <a:pt x="1059" y="74"/>
                    </a:lnTo>
                    <a:lnTo>
                      <a:pt x="1164" y="68"/>
                    </a:lnTo>
                    <a:lnTo>
                      <a:pt x="1274" y="68"/>
                    </a:lnTo>
                    <a:lnTo>
                      <a:pt x="1385" y="64"/>
                    </a:lnTo>
                    <a:lnTo>
                      <a:pt x="1385" y="3"/>
                    </a:lnTo>
                    <a:lnTo>
                      <a:pt x="1274" y="0"/>
                    </a:lnTo>
                    <a:lnTo>
                      <a:pt x="1164" y="6"/>
                    </a:lnTo>
                    <a:lnTo>
                      <a:pt x="1054" y="13"/>
                    </a:lnTo>
                    <a:lnTo>
                      <a:pt x="949" y="28"/>
                    </a:lnTo>
                    <a:lnTo>
                      <a:pt x="848" y="43"/>
                    </a:lnTo>
                    <a:lnTo>
                      <a:pt x="749" y="68"/>
                    </a:lnTo>
                    <a:lnTo>
                      <a:pt x="653" y="92"/>
                    </a:lnTo>
                    <a:lnTo>
                      <a:pt x="560" y="122"/>
                    </a:lnTo>
                    <a:lnTo>
                      <a:pt x="474" y="156"/>
                    </a:lnTo>
                    <a:lnTo>
                      <a:pt x="392" y="195"/>
                    </a:lnTo>
                    <a:lnTo>
                      <a:pt x="311" y="238"/>
                    </a:lnTo>
                    <a:lnTo>
                      <a:pt x="235" y="281"/>
                    </a:lnTo>
                    <a:lnTo>
                      <a:pt x="169" y="333"/>
                    </a:lnTo>
                    <a:lnTo>
                      <a:pt x="108" y="382"/>
                    </a:lnTo>
                    <a:lnTo>
                      <a:pt x="53" y="440"/>
                    </a:lnTo>
                    <a:lnTo>
                      <a:pt x="0" y="495"/>
                    </a:lnTo>
                    <a:lnTo>
                      <a:pt x="46" y="5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40000" y="58208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71" h="421">
                    <a:moveTo>
                      <a:pt x="34" y="305"/>
                    </a:moveTo>
                    <a:lnTo>
                      <a:pt x="83" y="338"/>
                    </a:lnTo>
                    <a:lnTo>
                      <a:pt x="171" y="18"/>
                    </a:lnTo>
                    <a:lnTo>
                      <a:pt x="113" y="0"/>
                    </a:lnTo>
                    <a:lnTo>
                      <a:pt x="25" y="320"/>
                    </a:lnTo>
                    <a:lnTo>
                      <a:pt x="75" y="354"/>
                    </a:lnTo>
                    <a:lnTo>
                      <a:pt x="25" y="320"/>
                    </a:lnTo>
                    <a:lnTo>
                      <a:pt x="0" y="421"/>
                    </a:lnTo>
                    <a:lnTo>
                      <a:pt x="75" y="354"/>
                    </a:lnTo>
                    <a:lnTo>
                      <a:pt x="34" y="3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2520" y="5796720"/>
                <a:ext cx="132840" cy="59760"/>
              </a:xfrm>
              <a:custGeom>
                <a:avLst/>
                <a:gdLst/>
                <a:ahLst/>
                <a:rect l="l" t="t" r="r" b="b"/>
                <a:pathLst>
                  <a:path w="1463" h="593">
                    <a:moveTo>
                      <a:pt x="1460" y="3"/>
                    </a:moveTo>
                    <a:lnTo>
                      <a:pt x="1463" y="3"/>
                    </a:lnTo>
                    <a:lnTo>
                      <a:pt x="1364" y="0"/>
                    </a:lnTo>
                    <a:lnTo>
                      <a:pt x="1263" y="6"/>
                    </a:lnTo>
                    <a:lnTo>
                      <a:pt x="1164" y="18"/>
                    </a:lnTo>
                    <a:lnTo>
                      <a:pt x="1059" y="34"/>
                    </a:lnTo>
                    <a:lnTo>
                      <a:pt x="955" y="58"/>
                    </a:lnTo>
                    <a:lnTo>
                      <a:pt x="856" y="85"/>
                    </a:lnTo>
                    <a:lnTo>
                      <a:pt x="755" y="119"/>
                    </a:lnTo>
                    <a:lnTo>
                      <a:pt x="656" y="156"/>
                    </a:lnTo>
                    <a:lnTo>
                      <a:pt x="557" y="196"/>
                    </a:lnTo>
                    <a:lnTo>
                      <a:pt x="465" y="242"/>
                    </a:lnTo>
                    <a:lnTo>
                      <a:pt x="375" y="287"/>
                    </a:lnTo>
                    <a:lnTo>
                      <a:pt x="288" y="337"/>
                    </a:lnTo>
                    <a:lnTo>
                      <a:pt x="207" y="385"/>
                    </a:lnTo>
                    <a:lnTo>
                      <a:pt x="131" y="437"/>
                    </a:lnTo>
                    <a:lnTo>
                      <a:pt x="64" y="492"/>
                    </a:lnTo>
                    <a:lnTo>
                      <a:pt x="0" y="544"/>
                    </a:lnTo>
                    <a:lnTo>
                      <a:pt x="41" y="593"/>
                    </a:lnTo>
                    <a:lnTo>
                      <a:pt x="99" y="541"/>
                    </a:lnTo>
                    <a:lnTo>
                      <a:pt x="166" y="492"/>
                    </a:lnTo>
                    <a:lnTo>
                      <a:pt x="241" y="440"/>
                    </a:lnTo>
                    <a:lnTo>
                      <a:pt x="317" y="391"/>
                    </a:lnTo>
                    <a:lnTo>
                      <a:pt x="403" y="342"/>
                    </a:lnTo>
                    <a:lnTo>
                      <a:pt x="488" y="297"/>
                    </a:lnTo>
                    <a:lnTo>
                      <a:pt x="581" y="257"/>
                    </a:lnTo>
                    <a:lnTo>
                      <a:pt x="680" y="217"/>
                    </a:lnTo>
                    <a:lnTo>
                      <a:pt x="773" y="181"/>
                    </a:lnTo>
                    <a:lnTo>
                      <a:pt x="874" y="146"/>
                    </a:lnTo>
                    <a:lnTo>
                      <a:pt x="973" y="119"/>
                    </a:lnTo>
                    <a:lnTo>
                      <a:pt x="1071" y="95"/>
                    </a:lnTo>
                    <a:lnTo>
                      <a:pt x="1170" y="80"/>
                    </a:lnTo>
                    <a:lnTo>
                      <a:pt x="1268" y="67"/>
                    </a:lnTo>
                    <a:lnTo>
                      <a:pt x="1364" y="61"/>
                    </a:lnTo>
                    <a:lnTo>
                      <a:pt x="1457" y="64"/>
                    </a:lnTo>
                    <a:lnTo>
                      <a:pt x="1460" y="64"/>
                    </a:lnTo>
                    <a:lnTo>
                      <a:pt x="146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75360" y="5797800"/>
                <a:ext cx="116280" cy="56520"/>
              </a:xfrm>
              <a:custGeom>
                <a:avLst/>
                <a:gdLst/>
                <a:ahLst/>
                <a:rect l="l" t="t" r="r" b="b"/>
                <a:pathLst>
                  <a:path w="1280" h="574">
                    <a:moveTo>
                      <a:pt x="1280" y="526"/>
                    </a:moveTo>
                    <a:lnTo>
                      <a:pt x="1228" y="480"/>
                    </a:lnTo>
                    <a:lnTo>
                      <a:pt x="1170" y="434"/>
                    </a:lnTo>
                    <a:lnTo>
                      <a:pt x="1109" y="385"/>
                    </a:lnTo>
                    <a:lnTo>
                      <a:pt x="1039" y="342"/>
                    </a:lnTo>
                    <a:lnTo>
                      <a:pt x="969" y="299"/>
                    </a:lnTo>
                    <a:lnTo>
                      <a:pt x="894" y="257"/>
                    </a:lnTo>
                    <a:lnTo>
                      <a:pt x="813" y="214"/>
                    </a:lnTo>
                    <a:lnTo>
                      <a:pt x="731" y="178"/>
                    </a:lnTo>
                    <a:lnTo>
                      <a:pt x="647" y="143"/>
                    </a:lnTo>
                    <a:lnTo>
                      <a:pt x="557" y="110"/>
                    </a:lnTo>
                    <a:lnTo>
                      <a:pt x="467" y="82"/>
                    </a:lnTo>
                    <a:lnTo>
                      <a:pt x="374" y="58"/>
                    </a:lnTo>
                    <a:lnTo>
                      <a:pt x="285" y="37"/>
                    </a:lnTo>
                    <a:lnTo>
                      <a:pt x="192" y="19"/>
                    </a:lnTo>
                    <a:lnTo>
                      <a:pt x="96" y="6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90" y="67"/>
                    </a:lnTo>
                    <a:lnTo>
                      <a:pt x="180" y="80"/>
                    </a:lnTo>
                    <a:lnTo>
                      <a:pt x="272" y="98"/>
                    </a:lnTo>
                    <a:lnTo>
                      <a:pt x="363" y="120"/>
                    </a:lnTo>
                    <a:lnTo>
                      <a:pt x="450" y="143"/>
                    </a:lnTo>
                    <a:lnTo>
                      <a:pt x="540" y="171"/>
                    </a:lnTo>
                    <a:lnTo>
                      <a:pt x="624" y="205"/>
                    </a:lnTo>
                    <a:lnTo>
                      <a:pt x="708" y="239"/>
                    </a:lnTo>
                    <a:lnTo>
                      <a:pt x="790" y="275"/>
                    </a:lnTo>
                    <a:lnTo>
                      <a:pt x="865" y="312"/>
                    </a:lnTo>
                    <a:lnTo>
                      <a:pt x="941" y="355"/>
                    </a:lnTo>
                    <a:lnTo>
                      <a:pt x="1010" y="397"/>
                    </a:lnTo>
                    <a:lnTo>
                      <a:pt x="1074" y="440"/>
                    </a:lnTo>
                    <a:lnTo>
                      <a:pt x="1134" y="483"/>
                    </a:lnTo>
                    <a:lnTo>
                      <a:pt x="1187" y="529"/>
                    </a:lnTo>
                    <a:lnTo>
                      <a:pt x="1239" y="574"/>
                    </a:lnTo>
                    <a:lnTo>
                      <a:pt x="1280" y="5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1440" y="58438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195" h="492">
                    <a:moveTo>
                      <a:pt x="41" y="350"/>
                    </a:moveTo>
                    <a:lnTo>
                      <a:pt x="93" y="380"/>
                    </a:lnTo>
                    <a:lnTo>
                      <a:pt x="195" y="19"/>
                    </a:lnTo>
                    <a:lnTo>
                      <a:pt x="137" y="0"/>
                    </a:lnTo>
                    <a:lnTo>
                      <a:pt x="35" y="361"/>
                    </a:lnTo>
                    <a:lnTo>
                      <a:pt x="88" y="391"/>
                    </a:lnTo>
                    <a:lnTo>
                      <a:pt x="35" y="361"/>
                    </a:lnTo>
                    <a:lnTo>
                      <a:pt x="0" y="492"/>
                    </a:lnTo>
                    <a:lnTo>
                      <a:pt x="88" y="391"/>
                    </a:lnTo>
                    <a:lnTo>
                      <a:pt x="41" y="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6120" y="581004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1425" h="724">
                    <a:moveTo>
                      <a:pt x="1425" y="0"/>
                    </a:moveTo>
                    <a:lnTo>
                      <a:pt x="1326" y="4"/>
                    </a:lnTo>
                    <a:lnTo>
                      <a:pt x="1225" y="15"/>
                    </a:lnTo>
                    <a:lnTo>
                      <a:pt x="1126" y="34"/>
                    </a:lnTo>
                    <a:lnTo>
                      <a:pt x="1022" y="62"/>
                    </a:lnTo>
                    <a:lnTo>
                      <a:pt x="920" y="92"/>
                    </a:lnTo>
                    <a:lnTo>
                      <a:pt x="818" y="129"/>
                    </a:lnTo>
                    <a:lnTo>
                      <a:pt x="720" y="171"/>
                    </a:lnTo>
                    <a:lnTo>
                      <a:pt x="624" y="221"/>
                    </a:lnTo>
                    <a:lnTo>
                      <a:pt x="525" y="269"/>
                    </a:lnTo>
                    <a:lnTo>
                      <a:pt x="436" y="322"/>
                    </a:lnTo>
                    <a:lnTo>
                      <a:pt x="348" y="376"/>
                    </a:lnTo>
                    <a:lnTo>
                      <a:pt x="267" y="438"/>
                    </a:lnTo>
                    <a:lnTo>
                      <a:pt x="192" y="499"/>
                    </a:lnTo>
                    <a:lnTo>
                      <a:pt x="120" y="557"/>
                    </a:lnTo>
                    <a:lnTo>
                      <a:pt x="58" y="621"/>
                    </a:lnTo>
                    <a:lnTo>
                      <a:pt x="0" y="683"/>
                    </a:lnTo>
                    <a:lnTo>
                      <a:pt x="47" y="724"/>
                    </a:lnTo>
                    <a:lnTo>
                      <a:pt x="99" y="663"/>
                    </a:lnTo>
                    <a:lnTo>
                      <a:pt x="159" y="605"/>
                    </a:lnTo>
                    <a:lnTo>
                      <a:pt x="227" y="547"/>
                    </a:lnTo>
                    <a:lnTo>
                      <a:pt x="302" y="486"/>
                    </a:lnTo>
                    <a:lnTo>
                      <a:pt x="384" y="431"/>
                    </a:lnTo>
                    <a:lnTo>
                      <a:pt x="464" y="376"/>
                    </a:lnTo>
                    <a:lnTo>
                      <a:pt x="554" y="325"/>
                    </a:lnTo>
                    <a:lnTo>
                      <a:pt x="648" y="275"/>
                    </a:lnTo>
                    <a:lnTo>
                      <a:pt x="743" y="232"/>
                    </a:lnTo>
                    <a:lnTo>
                      <a:pt x="842" y="190"/>
                    </a:lnTo>
                    <a:lnTo>
                      <a:pt x="938" y="153"/>
                    </a:lnTo>
                    <a:lnTo>
                      <a:pt x="1040" y="123"/>
                    </a:lnTo>
                    <a:lnTo>
                      <a:pt x="1137" y="95"/>
                    </a:lnTo>
                    <a:lnTo>
                      <a:pt x="1236" y="77"/>
                    </a:lnTo>
                    <a:lnTo>
                      <a:pt x="1332" y="65"/>
                    </a:lnTo>
                    <a:lnTo>
                      <a:pt x="1425" y="62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75360" y="5810040"/>
                <a:ext cx="118080" cy="50760"/>
              </a:xfrm>
              <a:custGeom>
                <a:avLst/>
                <a:gdLst/>
                <a:ahLst/>
                <a:rect l="l" t="t" r="r" b="b"/>
                <a:pathLst>
                  <a:path w="1303" h="505">
                    <a:moveTo>
                      <a:pt x="1303" y="456"/>
                    </a:moveTo>
                    <a:lnTo>
                      <a:pt x="1248" y="413"/>
                    </a:lnTo>
                    <a:lnTo>
                      <a:pt x="1190" y="368"/>
                    </a:lnTo>
                    <a:lnTo>
                      <a:pt x="1123" y="328"/>
                    </a:lnTo>
                    <a:lnTo>
                      <a:pt x="1054" y="285"/>
                    </a:lnTo>
                    <a:lnTo>
                      <a:pt x="978" y="248"/>
                    </a:lnTo>
                    <a:lnTo>
                      <a:pt x="903" y="209"/>
                    </a:lnTo>
                    <a:lnTo>
                      <a:pt x="821" y="171"/>
                    </a:lnTo>
                    <a:lnTo>
                      <a:pt x="735" y="138"/>
                    </a:lnTo>
                    <a:lnTo>
                      <a:pt x="650" y="111"/>
                    </a:lnTo>
                    <a:lnTo>
                      <a:pt x="560" y="83"/>
                    </a:lnTo>
                    <a:lnTo>
                      <a:pt x="467" y="58"/>
                    </a:lnTo>
                    <a:lnTo>
                      <a:pt x="378" y="37"/>
                    </a:lnTo>
                    <a:lnTo>
                      <a:pt x="282" y="22"/>
                    </a:lnTo>
                    <a:lnTo>
                      <a:pt x="189" y="10"/>
                    </a:lnTo>
                    <a:lnTo>
                      <a:pt x="93" y="4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93" y="65"/>
                    </a:lnTo>
                    <a:lnTo>
                      <a:pt x="183" y="71"/>
                    </a:lnTo>
                    <a:lnTo>
                      <a:pt x="276" y="83"/>
                    </a:lnTo>
                    <a:lnTo>
                      <a:pt x="365" y="98"/>
                    </a:lnTo>
                    <a:lnTo>
                      <a:pt x="456" y="120"/>
                    </a:lnTo>
                    <a:lnTo>
                      <a:pt x="543" y="144"/>
                    </a:lnTo>
                    <a:lnTo>
                      <a:pt x="633" y="171"/>
                    </a:lnTo>
                    <a:lnTo>
                      <a:pt x="717" y="199"/>
                    </a:lnTo>
                    <a:lnTo>
                      <a:pt x="798" y="232"/>
                    </a:lnTo>
                    <a:lnTo>
                      <a:pt x="879" y="269"/>
                    </a:lnTo>
                    <a:lnTo>
                      <a:pt x="955" y="303"/>
                    </a:lnTo>
                    <a:lnTo>
                      <a:pt x="1024" y="340"/>
                    </a:lnTo>
                    <a:lnTo>
                      <a:pt x="1095" y="383"/>
                    </a:lnTo>
                    <a:lnTo>
                      <a:pt x="1155" y="423"/>
                    </a:lnTo>
                    <a:lnTo>
                      <a:pt x="1213" y="462"/>
                    </a:lnTo>
                    <a:lnTo>
                      <a:pt x="1263" y="505"/>
                    </a:lnTo>
                    <a:lnTo>
                      <a:pt x="1303" y="4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51520" y="5864760"/>
                <a:ext cx="16200" cy="43560"/>
              </a:xfrm>
              <a:custGeom>
                <a:avLst/>
                <a:gdLst/>
                <a:ahLst/>
                <a:rect l="l" t="t" r="r" b="b"/>
                <a:pathLst>
                  <a:path w="177" h="444">
                    <a:moveTo>
                      <a:pt x="38" y="310"/>
                    </a:moveTo>
                    <a:lnTo>
                      <a:pt x="90" y="340"/>
                    </a:lnTo>
                    <a:lnTo>
                      <a:pt x="177" y="18"/>
                    </a:lnTo>
                    <a:lnTo>
                      <a:pt x="119" y="0"/>
                    </a:lnTo>
                    <a:lnTo>
                      <a:pt x="32" y="321"/>
                    </a:lnTo>
                    <a:lnTo>
                      <a:pt x="84" y="353"/>
                    </a:lnTo>
                    <a:lnTo>
                      <a:pt x="32" y="321"/>
                    </a:lnTo>
                    <a:lnTo>
                      <a:pt x="0" y="444"/>
                    </a:lnTo>
                    <a:lnTo>
                      <a:pt x="84" y="353"/>
                    </a:lnTo>
                    <a:lnTo>
                      <a:pt x="38" y="3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55480" y="5821920"/>
                <a:ext cx="119880" cy="77760"/>
              </a:xfrm>
              <a:custGeom>
                <a:avLst/>
                <a:gdLst/>
                <a:ahLst/>
                <a:rect l="l" t="t" r="r" b="b"/>
                <a:pathLst>
                  <a:path w="1320" h="787">
                    <a:moveTo>
                      <a:pt x="1314" y="0"/>
                    </a:moveTo>
                    <a:lnTo>
                      <a:pt x="1219" y="10"/>
                    </a:lnTo>
                    <a:lnTo>
                      <a:pt x="1123" y="28"/>
                    </a:lnTo>
                    <a:lnTo>
                      <a:pt x="1024" y="53"/>
                    </a:lnTo>
                    <a:lnTo>
                      <a:pt x="931" y="83"/>
                    </a:lnTo>
                    <a:lnTo>
                      <a:pt x="839" y="119"/>
                    </a:lnTo>
                    <a:lnTo>
                      <a:pt x="743" y="166"/>
                    </a:lnTo>
                    <a:lnTo>
                      <a:pt x="656" y="215"/>
                    </a:lnTo>
                    <a:lnTo>
                      <a:pt x="568" y="263"/>
                    </a:lnTo>
                    <a:lnTo>
                      <a:pt x="485" y="318"/>
                    </a:lnTo>
                    <a:lnTo>
                      <a:pt x="403" y="376"/>
                    </a:lnTo>
                    <a:lnTo>
                      <a:pt x="325" y="437"/>
                    </a:lnTo>
                    <a:lnTo>
                      <a:pt x="249" y="499"/>
                    </a:lnTo>
                    <a:lnTo>
                      <a:pt x="183" y="560"/>
                    </a:lnTo>
                    <a:lnTo>
                      <a:pt x="115" y="621"/>
                    </a:lnTo>
                    <a:lnTo>
                      <a:pt x="57" y="686"/>
                    </a:lnTo>
                    <a:lnTo>
                      <a:pt x="0" y="744"/>
                    </a:lnTo>
                    <a:lnTo>
                      <a:pt x="46" y="787"/>
                    </a:lnTo>
                    <a:lnTo>
                      <a:pt x="98" y="727"/>
                    </a:lnTo>
                    <a:lnTo>
                      <a:pt x="156" y="669"/>
                    </a:lnTo>
                    <a:lnTo>
                      <a:pt x="224" y="609"/>
                    </a:lnTo>
                    <a:lnTo>
                      <a:pt x="290" y="548"/>
                    </a:lnTo>
                    <a:lnTo>
                      <a:pt x="359" y="487"/>
                    </a:lnTo>
                    <a:lnTo>
                      <a:pt x="438" y="432"/>
                    </a:lnTo>
                    <a:lnTo>
                      <a:pt x="519" y="373"/>
                    </a:lnTo>
                    <a:lnTo>
                      <a:pt x="598" y="318"/>
                    </a:lnTo>
                    <a:lnTo>
                      <a:pt x="685" y="270"/>
                    </a:lnTo>
                    <a:lnTo>
                      <a:pt x="771" y="220"/>
                    </a:lnTo>
                    <a:lnTo>
                      <a:pt x="862" y="181"/>
                    </a:lnTo>
                    <a:lnTo>
                      <a:pt x="949" y="144"/>
                    </a:lnTo>
                    <a:lnTo>
                      <a:pt x="1042" y="114"/>
                    </a:lnTo>
                    <a:lnTo>
                      <a:pt x="1134" y="89"/>
                    </a:lnTo>
                    <a:lnTo>
                      <a:pt x="1224" y="71"/>
                    </a:lnTo>
                    <a:lnTo>
                      <a:pt x="1320" y="61"/>
                    </a:lnTo>
                    <a:lnTo>
                      <a:pt x="131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74280" y="5820840"/>
                <a:ext cx="119880" cy="43560"/>
              </a:xfrm>
              <a:custGeom>
                <a:avLst/>
                <a:gdLst/>
                <a:ahLst/>
                <a:rect l="l" t="t" r="r" b="b"/>
                <a:pathLst>
                  <a:path w="1324" h="434">
                    <a:moveTo>
                      <a:pt x="1324" y="385"/>
                    </a:moveTo>
                    <a:lnTo>
                      <a:pt x="1269" y="342"/>
                    </a:lnTo>
                    <a:lnTo>
                      <a:pt x="1205" y="302"/>
                    </a:lnTo>
                    <a:lnTo>
                      <a:pt x="1138" y="265"/>
                    </a:lnTo>
                    <a:lnTo>
                      <a:pt x="1066" y="229"/>
                    </a:lnTo>
                    <a:lnTo>
                      <a:pt x="993" y="192"/>
                    </a:lnTo>
                    <a:lnTo>
                      <a:pt x="915" y="158"/>
                    </a:lnTo>
                    <a:lnTo>
                      <a:pt x="827" y="128"/>
                    </a:lnTo>
                    <a:lnTo>
                      <a:pt x="744" y="100"/>
                    </a:lnTo>
                    <a:lnTo>
                      <a:pt x="656" y="76"/>
                    </a:lnTo>
                    <a:lnTo>
                      <a:pt x="563" y="55"/>
                    </a:lnTo>
                    <a:lnTo>
                      <a:pt x="473" y="33"/>
                    </a:lnTo>
                    <a:lnTo>
                      <a:pt x="377" y="20"/>
                    </a:lnTo>
                    <a:lnTo>
                      <a:pt x="285" y="9"/>
                    </a:lnTo>
                    <a:lnTo>
                      <a:pt x="189" y="2"/>
                    </a:lnTo>
                    <a:lnTo>
                      <a:pt x="96" y="0"/>
                    </a:lnTo>
                    <a:lnTo>
                      <a:pt x="0" y="2"/>
                    </a:lnTo>
                    <a:lnTo>
                      <a:pt x="6" y="63"/>
                    </a:lnTo>
                    <a:lnTo>
                      <a:pt x="96" y="60"/>
                    </a:lnTo>
                    <a:lnTo>
                      <a:pt x="189" y="63"/>
                    </a:lnTo>
                    <a:lnTo>
                      <a:pt x="279" y="70"/>
                    </a:lnTo>
                    <a:lnTo>
                      <a:pt x="372" y="82"/>
                    </a:lnTo>
                    <a:lnTo>
                      <a:pt x="462" y="95"/>
                    </a:lnTo>
                    <a:lnTo>
                      <a:pt x="552" y="116"/>
                    </a:lnTo>
                    <a:lnTo>
                      <a:pt x="638" y="137"/>
                    </a:lnTo>
                    <a:lnTo>
                      <a:pt x="726" y="161"/>
                    </a:lnTo>
                    <a:lnTo>
                      <a:pt x="810" y="189"/>
                    </a:lnTo>
                    <a:lnTo>
                      <a:pt x="891" y="219"/>
                    </a:lnTo>
                    <a:lnTo>
                      <a:pt x="970" y="254"/>
                    </a:lnTo>
                    <a:lnTo>
                      <a:pt x="1042" y="284"/>
                    </a:lnTo>
                    <a:lnTo>
                      <a:pt x="1109" y="320"/>
                    </a:lnTo>
                    <a:lnTo>
                      <a:pt x="1176" y="357"/>
                    </a:lnTo>
                    <a:lnTo>
                      <a:pt x="1234" y="396"/>
                    </a:lnTo>
                    <a:lnTo>
                      <a:pt x="1289" y="434"/>
                    </a:lnTo>
                    <a:lnTo>
                      <a:pt x="1324" y="3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2720" y="5398920"/>
                <a:ext cx="271080" cy="463680"/>
              </a:xfrm>
              <a:custGeom>
                <a:avLst/>
                <a:gdLst/>
                <a:ahLst/>
                <a:rect l="l" t="t" r="r" b="b"/>
                <a:pathLst>
                  <a:path w="2975" h="4647">
                    <a:moveTo>
                      <a:pt x="0" y="4647"/>
                    </a:moveTo>
                    <a:lnTo>
                      <a:pt x="29" y="4567"/>
                    </a:lnTo>
                    <a:lnTo>
                      <a:pt x="73" y="4491"/>
                    </a:lnTo>
                    <a:lnTo>
                      <a:pt x="122" y="4417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9" y="4017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5"/>
                    </a:lnTo>
                    <a:lnTo>
                      <a:pt x="1218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9" y="3906"/>
                    </a:lnTo>
                    <a:lnTo>
                      <a:pt x="1886" y="3925"/>
                    </a:lnTo>
                    <a:lnTo>
                      <a:pt x="2011" y="3949"/>
                    </a:lnTo>
                    <a:lnTo>
                      <a:pt x="2130" y="3983"/>
                    </a:lnTo>
                    <a:lnTo>
                      <a:pt x="2243" y="4019"/>
                    </a:lnTo>
                    <a:lnTo>
                      <a:pt x="2350" y="4062"/>
                    </a:lnTo>
                    <a:lnTo>
                      <a:pt x="2452" y="4111"/>
                    </a:lnTo>
                    <a:lnTo>
                      <a:pt x="2548" y="4163"/>
                    </a:lnTo>
                    <a:lnTo>
                      <a:pt x="2635" y="4221"/>
                    </a:lnTo>
                    <a:lnTo>
                      <a:pt x="2713" y="4286"/>
                    </a:lnTo>
                    <a:lnTo>
                      <a:pt x="2786" y="4350"/>
                    </a:lnTo>
                    <a:lnTo>
                      <a:pt x="2847" y="4420"/>
                    </a:lnTo>
                    <a:lnTo>
                      <a:pt x="2899" y="4491"/>
                    </a:lnTo>
                    <a:lnTo>
                      <a:pt x="2942" y="4567"/>
                    </a:lnTo>
                    <a:lnTo>
                      <a:pt x="2975" y="4643"/>
                    </a:lnTo>
                    <a:lnTo>
                      <a:pt x="2975" y="752"/>
                    </a:lnTo>
                    <a:lnTo>
                      <a:pt x="2942" y="676"/>
                    </a:lnTo>
                    <a:lnTo>
                      <a:pt x="2899" y="599"/>
                    </a:lnTo>
                    <a:lnTo>
                      <a:pt x="2847" y="528"/>
                    </a:lnTo>
                    <a:lnTo>
                      <a:pt x="2786" y="459"/>
                    </a:lnTo>
                    <a:lnTo>
                      <a:pt x="2713" y="394"/>
                    </a:lnTo>
                    <a:lnTo>
                      <a:pt x="2635" y="330"/>
                    </a:lnTo>
                    <a:lnTo>
                      <a:pt x="2548" y="272"/>
                    </a:lnTo>
                    <a:lnTo>
                      <a:pt x="2452" y="220"/>
                    </a:lnTo>
                    <a:lnTo>
                      <a:pt x="2350" y="171"/>
                    </a:lnTo>
                    <a:lnTo>
                      <a:pt x="2243" y="129"/>
                    </a:lnTo>
                    <a:lnTo>
                      <a:pt x="2130" y="91"/>
                    </a:lnTo>
                    <a:lnTo>
                      <a:pt x="2011" y="58"/>
                    </a:lnTo>
                    <a:lnTo>
                      <a:pt x="1886" y="33"/>
                    </a:lnTo>
                    <a:lnTo>
                      <a:pt x="1759" y="15"/>
                    </a:lnTo>
                    <a:lnTo>
                      <a:pt x="1628" y="3"/>
                    </a:lnTo>
                    <a:lnTo>
                      <a:pt x="1491" y="0"/>
                    </a:lnTo>
                    <a:lnTo>
                      <a:pt x="1410" y="6"/>
                    </a:lnTo>
                    <a:lnTo>
                      <a:pt x="1320" y="18"/>
                    </a:lnTo>
                    <a:lnTo>
                      <a:pt x="1227" y="36"/>
                    </a:lnTo>
                    <a:lnTo>
                      <a:pt x="1131" y="58"/>
                    </a:lnTo>
                    <a:lnTo>
                      <a:pt x="1032" y="83"/>
                    </a:lnTo>
                    <a:lnTo>
                      <a:pt x="935" y="113"/>
                    </a:lnTo>
                    <a:lnTo>
                      <a:pt x="833" y="149"/>
                    </a:lnTo>
                    <a:lnTo>
                      <a:pt x="737" y="189"/>
                    </a:lnTo>
                    <a:lnTo>
                      <a:pt x="644" y="235"/>
                    </a:lnTo>
                    <a:lnTo>
                      <a:pt x="554" y="285"/>
                    </a:lnTo>
                    <a:lnTo>
                      <a:pt x="472" y="339"/>
                    </a:lnTo>
                    <a:lnTo>
                      <a:pt x="397" y="397"/>
                    </a:lnTo>
                    <a:lnTo>
                      <a:pt x="331" y="462"/>
                    </a:lnTo>
                    <a:lnTo>
                      <a:pt x="276" y="528"/>
                    </a:lnTo>
                    <a:lnTo>
                      <a:pt x="232" y="603"/>
                    </a:lnTo>
                    <a:lnTo>
                      <a:pt x="200" y="682"/>
                    </a:lnTo>
                    <a:lnTo>
                      <a:pt x="0" y="464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19840" y="5783760"/>
                <a:ext cx="137880" cy="79560"/>
              </a:xfrm>
              <a:custGeom>
                <a:avLst/>
                <a:gdLst/>
                <a:ahLst/>
                <a:rect l="l" t="t" r="r" b="b"/>
                <a:pathLst>
                  <a:path w="1520" h="795">
                    <a:moveTo>
                      <a:pt x="1520" y="0"/>
                    </a:moveTo>
                    <a:lnTo>
                      <a:pt x="1381" y="3"/>
                    </a:lnTo>
                    <a:lnTo>
                      <a:pt x="1245" y="16"/>
                    </a:lnTo>
                    <a:lnTo>
                      <a:pt x="1111" y="34"/>
                    </a:lnTo>
                    <a:lnTo>
                      <a:pt x="986" y="58"/>
                    </a:lnTo>
                    <a:lnTo>
                      <a:pt x="862" y="89"/>
                    </a:lnTo>
                    <a:lnTo>
                      <a:pt x="748" y="126"/>
                    </a:lnTo>
                    <a:lnTo>
                      <a:pt x="635" y="169"/>
                    </a:lnTo>
                    <a:lnTo>
                      <a:pt x="531" y="220"/>
                    </a:lnTo>
                    <a:lnTo>
                      <a:pt x="435" y="273"/>
                    </a:lnTo>
                    <a:lnTo>
                      <a:pt x="345" y="331"/>
                    </a:lnTo>
                    <a:lnTo>
                      <a:pt x="264" y="394"/>
                    </a:lnTo>
                    <a:lnTo>
                      <a:pt x="191" y="465"/>
                    </a:lnTo>
                    <a:lnTo>
                      <a:pt x="127" y="535"/>
                    </a:lnTo>
                    <a:lnTo>
                      <a:pt x="75" y="611"/>
                    </a:lnTo>
                    <a:lnTo>
                      <a:pt x="31" y="691"/>
                    </a:lnTo>
                    <a:lnTo>
                      <a:pt x="0" y="777"/>
                    </a:lnTo>
                    <a:lnTo>
                      <a:pt x="58" y="795"/>
                    </a:lnTo>
                    <a:lnTo>
                      <a:pt x="84" y="722"/>
                    </a:lnTo>
                    <a:lnTo>
                      <a:pt x="127" y="649"/>
                    </a:lnTo>
                    <a:lnTo>
                      <a:pt x="174" y="578"/>
                    </a:lnTo>
                    <a:lnTo>
                      <a:pt x="232" y="508"/>
                    </a:lnTo>
                    <a:lnTo>
                      <a:pt x="305" y="444"/>
                    </a:lnTo>
                    <a:lnTo>
                      <a:pt x="380" y="386"/>
                    </a:lnTo>
                    <a:lnTo>
                      <a:pt x="464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79" y="150"/>
                    </a:lnTo>
                    <a:lnTo>
                      <a:pt x="998" y="119"/>
                    </a:lnTo>
                    <a:lnTo>
                      <a:pt x="1123" y="96"/>
                    </a:lnTo>
                    <a:lnTo>
                      <a:pt x="1250" y="77"/>
                    </a:lnTo>
                    <a:lnTo>
                      <a:pt x="1387" y="65"/>
                    </a:lnTo>
                    <a:lnTo>
                      <a:pt x="1520" y="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58080" y="578376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1515" h="961">
                    <a:moveTo>
                      <a:pt x="1451" y="783"/>
                    </a:moveTo>
                    <a:lnTo>
                      <a:pt x="1512" y="770"/>
                    </a:lnTo>
                    <a:lnTo>
                      <a:pt x="1477" y="691"/>
                    </a:lnTo>
                    <a:lnTo>
                      <a:pt x="1434" y="611"/>
                    </a:lnTo>
                    <a:lnTo>
                      <a:pt x="1378" y="538"/>
                    </a:lnTo>
                    <a:lnTo>
                      <a:pt x="1315" y="465"/>
                    </a:lnTo>
                    <a:lnTo>
                      <a:pt x="1243" y="401"/>
                    </a:lnTo>
                    <a:lnTo>
                      <a:pt x="1161" y="334"/>
                    </a:lnTo>
                    <a:lnTo>
                      <a:pt x="1071" y="275"/>
                    </a:lnTo>
                    <a:lnTo>
                      <a:pt x="976" y="224"/>
                    </a:lnTo>
                    <a:lnTo>
                      <a:pt x="871" y="172"/>
                    </a:lnTo>
                    <a:lnTo>
                      <a:pt x="760" y="129"/>
                    </a:lnTo>
                    <a:lnTo>
                      <a:pt x="647" y="92"/>
                    </a:lnTo>
                    <a:lnTo>
                      <a:pt x="526" y="58"/>
                    </a:lnTo>
                    <a:lnTo>
                      <a:pt x="401" y="34"/>
                    </a:lnTo>
                    <a:lnTo>
                      <a:pt x="271" y="16"/>
                    </a:lnTo>
                    <a:lnTo>
                      <a:pt x="139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34" y="65"/>
                    </a:lnTo>
                    <a:lnTo>
                      <a:pt x="265" y="77"/>
                    </a:lnTo>
                    <a:lnTo>
                      <a:pt x="389" y="96"/>
                    </a:lnTo>
                    <a:lnTo>
                      <a:pt x="515" y="119"/>
                    </a:lnTo>
                    <a:lnTo>
                      <a:pt x="630" y="154"/>
                    </a:lnTo>
                    <a:lnTo>
                      <a:pt x="743" y="190"/>
                    </a:lnTo>
                    <a:lnTo>
                      <a:pt x="848" y="233"/>
                    </a:lnTo>
                    <a:lnTo>
                      <a:pt x="946" y="278"/>
                    </a:lnTo>
                    <a:lnTo>
                      <a:pt x="1042" y="331"/>
                    </a:lnTo>
                    <a:lnTo>
                      <a:pt x="1127" y="389"/>
                    </a:lnTo>
                    <a:lnTo>
                      <a:pt x="1202" y="450"/>
                    </a:lnTo>
                    <a:lnTo>
                      <a:pt x="1274" y="514"/>
                    </a:lnTo>
                    <a:lnTo>
                      <a:pt x="1333" y="581"/>
                    </a:lnTo>
                    <a:lnTo>
                      <a:pt x="1382" y="649"/>
                    </a:lnTo>
                    <a:lnTo>
                      <a:pt x="1425" y="722"/>
                    </a:lnTo>
                    <a:lnTo>
                      <a:pt x="1454" y="795"/>
                    </a:lnTo>
                    <a:lnTo>
                      <a:pt x="1515" y="783"/>
                    </a:lnTo>
                    <a:lnTo>
                      <a:pt x="1454" y="795"/>
                    </a:lnTo>
                    <a:lnTo>
                      <a:pt x="1515" y="961"/>
                    </a:lnTo>
                    <a:lnTo>
                      <a:pt x="1515" y="783"/>
                    </a:lnTo>
                    <a:lnTo>
                      <a:pt x="1451" y="7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89840" y="5472360"/>
                <a:ext cx="6120" cy="388800"/>
              </a:xfrm>
              <a:custGeom>
                <a:avLst/>
                <a:gdLst/>
                <a:ahLst/>
                <a:rect l="l" t="t" r="r" b="b"/>
                <a:pathLst>
                  <a:path w="64" h="3903">
                    <a:moveTo>
                      <a:pt x="3" y="24"/>
                    </a:moveTo>
                    <a:lnTo>
                      <a:pt x="0" y="12"/>
                    </a:lnTo>
                    <a:lnTo>
                      <a:pt x="0" y="3903"/>
                    </a:lnTo>
                    <a:lnTo>
                      <a:pt x="64" y="3903"/>
                    </a:lnTo>
                    <a:lnTo>
                      <a:pt x="64" y="12"/>
                    </a:lnTo>
                    <a:lnTo>
                      <a:pt x="61" y="0"/>
                    </a:lnTo>
                    <a:lnTo>
                      <a:pt x="64" y="12"/>
                    </a:lnTo>
                    <a:lnTo>
                      <a:pt x="64" y="5"/>
                    </a:lnTo>
                    <a:lnTo>
                      <a:pt x="61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080" y="5395680"/>
                <a:ext cx="137880" cy="78480"/>
              </a:xfrm>
              <a:custGeom>
                <a:avLst/>
                <a:gdLst/>
                <a:ahLst/>
                <a:rect l="l" t="t" r="r" b="b"/>
                <a:pathLst>
                  <a:path w="1515" h="797">
                    <a:moveTo>
                      <a:pt x="7" y="64"/>
                    </a:moveTo>
                    <a:lnTo>
                      <a:pt x="3" y="66"/>
                    </a:lnTo>
                    <a:lnTo>
                      <a:pt x="137" y="66"/>
                    </a:lnTo>
                    <a:lnTo>
                      <a:pt x="268" y="79"/>
                    </a:lnTo>
                    <a:lnTo>
                      <a:pt x="392" y="97"/>
                    </a:lnTo>
                    <a:lnTo>
                      <a:pt x="518" y="122"/>
                    </a:lnTo>
                    <a:lnTo>
                      <a:pt x="633" y="155"/>
                    </a:lnTo>
                    <a:lnTo>
                      <a:pt x="746" y="192"/>
                    </a:lnTo>
                    <a:lnTo>
                      <a:pt x="851" y="235"/>
                    </a:lnTo>
                    <a:lnTo>
                      <a:pt x="949" y="281"/>
                    </a:lnTo>
                    <a:lnTo>
                      <a:pt x="1045" y="333"/>
                    </a:lnTo>
                    <a:lnTo>
                      <a:pt x="1130" y="391"/>
                    </a:lnTo>
                    <a:lnTo>
                      <a:pt x="1205" y="452"/>
                    </a:lnTo>
                    <a:lnTo>
                      <a:pt x="1277" y="516"/>
                    </a:lnTo>
                    <a:lnTo>
                      <a:pt x="1336" y="583"/>
                    </a:lnTo>
                    <a:lnTo>
                      <a:pt x="1385" y="651"/>
                    </a:lnTo>
                    <a:lnTo>
                      <a:pt x="1428" y="724"/>
                    </a:lnTo>
                    <a:lnTo>
                      <a:pt x="1457" y="797"/>
                    </a:lnTo>
                    <a:lnTo>
                      <a:pt x="1515" y="773"/>
                    </a:lnTo>
                    <a:lnTo>
                      <a:pt x="1480" y="694"/>
                    </a:lnTo>
                    <a:lnTo>
                      <a:pt x="1437" y="614"/>
                    </a:lnTo>
                    <a:lnTo>
                      <a:pt x="1381" y="540"/>
                    </a:lnTo>
                    <a:lnTo>
                      <a:pt x="1318" y="467"/>
                    </a:lnTo>
                    <a:lnTo>
                      <a:pt x="1246" y="402"/>
                    </a:lnTo>
                    <a:lnTo>
                      <a:pt x="1164" y="336"/>
                    </a:lnTo>
                    <a:lnTo>
                      <a:pt x="1074" y="278"/>
                    </a:lnTo>
                    <a:lnTo>
                      <a:pt x="979" y="225"/>
                    </a:lnTo>
                    <a:lnTo>
                      <a:pt x="874" y="174"/>
                    </a:lnTo>
                    <a:lnTo>
                      <a:pt x="763" y="131"/>
                    </a:lnTo>
                    <a:lnTo>
                      <a:pt x="650" y="94"/>
                    </a:lnTo>
                    <a:lnTo>
                      <a:pt x="529" y="61"/>
                    </a:lnTo>
                    <a:lnTo>
                      <a:pt x="404" y="36"/>
                    </a:lnTo>
                    <a:lnTo>
                      <a:pt x="274" y="18"/>
                    </a:lnTo>
                    <a:lnTo>
                      <a:pt x="142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37840" y="539568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1324" h="721">
                    <a:moveTo>
                      <a:pt x="58" y="714"/>
                    </a:moveTo>
                    <a:lnTo>
                      <a:pt x="58" y="721"/>
                    </a:lnTo>
                    <a:lnTo>
                      <a:pt x="87" y="648"/>
                    </a:lnTo>
                    <a:lnTo>
                      <a:pt x="128" y="577"/>
                    </a:lnTo>
                    <a:lnTo>
                      <a:pt x="183" y="513"/>
                    </a:lnTo>
                    <a:lnTo>
                      <a:pt x="246" y="452"/>
                    </a:lnTo>
                    <a:lnTo>
                      <a:pt x="319" y="396"/>
                    </a:lnTo>
                    <a:lnTo>
                      <a:pt x="397" y="341"/>
                    </a:lnTo>
                    <a:lnTo>
                      <a:pt x="487" y="293"/>
                    </a:lnTo>
                    <a:lnTo>
                      <a:pt x="578" y="250"/>
                    </a:lnTo>
                    <a:lnTo>
                      <a:pt x="673" y="210"/>
                    </a:lnTo>
                    <a:lnTo>
                      <a:pt x="772" y="174"/>
                    </a:lnTo>
                    <a:lnTo>
                      <a:pt x="871" y="143"/>
                    </a:lnTo>
                    <a:lnTo>
                      <a:pt x="967" y="119"/>
                    </a:lnTo>
                    <a:lnTo>
                      <a:pt x="1062" y="98"/>
                    </a:lnTo>
                    <a:lnTo>
                      <a:pt x="1155" y="79"/>
                    </a:lnTo>
                    <a:lnTo>
                      <a:pt x="1242" y="66"/>
                    </a:lnTo>
                    <a:lnTo>
                      <a:pt x="1324" y="61"/>
                    </a:lnTo>
                    <a:lnTo>
                      <a:pt x="1317" y="0"/>
                    </a:lnTo>
                    <a:lnTo>
                      <a:pt x="1236" y="5"/>
                    </a:lnTo>
                    <a:lnTo>
                      <a:pt x="1143" y="18"/>
                    </a:lnTo>
                    <a:lnTo>
                      <a:pt x="1050" y="36"/>
                    </a:lnTo>
                    <a:lnTo>
                      <a:pt x="954" y="58"/>
                    </a:lnTo>
                    <a:lnTo>
                      <a:pt x="853" y="81"/>
                    </a:lnTo>
                    <a:lnTo>
                      <a:pt x="754" y="113"/>
                    </a:lnTo>
                    <a:lnTo>
                      <a:pt x="650" y="149"/>
                    </a:lnTo>
                    <a:lnTo>
                      <a:pt x="554" y="189"/>
                    </a:lnTo>
                    <a:lnTo>
                      <a:pt x="459" y="238"/>
                    </a:lnTo>
                    <a:lnTo>
                      <a:pt x="369" y="287"/>
                    </a:lnTo>
                    <a:lnTo>
                      <a:pt x="284" y="341"/>
                    </a:lnTo>
                    <a:lnTo>
                      <a:pt x="206" y="403"/>
                    </a:lnTo>
                    <a:lnTo>
                      <a:pt x="136" y="470"/>
                    </a:lnTo>
                    <a:lnTo>
                      <a:pt x="81" y="540"/>
                    </a:lnTo>
                    <a:lnTo>
                      <a:pt x="35" y="616"/>
                    </a:lnTo>
                    <a:lnTo>
                      <a:pt x="0" y="702"/>
                    </a:lnTo>
                    <a:lnTo>
                      <a:pt x="0" y="709"/>
                    </a:lnTo>
                    <a:lnTo>
                      <a:pt x="0" y="702"/>
                    </a:lnTo>
                    <a:lnTo>
                      <a:pt x="0" y="706"/>
                    </a:lnTo>
                    <a:lnTo>
                      <a:pt x="0" y="709"/>
                    </a:lnTo>
                    <a:lnTo>
                      <a:pt x="58" y="71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18760" y="5466600"/>
                <a:ext cx="24480" cy="415800"/>
              </a:xfrm>
              <a:custGeom>
                <a:avLst/>
                <a:gdLst/>
                <a:ahLst/>
                <a:rect l="l" t="t" r="r" b="b"/>
                <a:pathLst>
                  <a:path w="268" h="4172">
                    <a:moveTo>
                      <a:pt x="10" y="3958"/>
                    </a:moveTo>
                    <a:lnTo>
                      <a:pt x="68" y="3970"/>
                    </a:lnTo>
                    <a:lnTo>
                      <a:pt x="268" y="5"/>
                    </a:lnTo>
                    <a:lnTo>
                      <a:pt x="210" y="0"/>
                    </a:lnTo>
                    <a:lnTo>
                      <a:pt x="10" y="3964"/>
                    </a:lnTo>
                    <a:lnTo>
                      <a:pt x="68" y="3976"/>
                    </a:lnTo>
                    <a:lnTo>
                      <a:pt x="10" y="3964"/>
                    </a:lnTo>
                    <a:lnTo>
                      <a:pt x="0" y="4172"/>
                    </a:lnTo>
                    <a:lnTo>
                      <a:pt x="68" y="3976"/>
                    </a:lnTo>
                    <a:lnTo>
                      <a:pt x="10" y="39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95600" y="5402880"/>
                <a:ext cx="270000" cy="463680"/>
              </a:xfrm>
              <a:custGeom>
                <a:avLst/>
                <a:gdLst/>
                <a:ahLst/>
                <a:rect l="l" t="t" r="r" b="b"/>
                <a:pathLst>
                  <a:path w="2971" h="4646">
                    <a:moveTo>
                      <a:pt x="0" y="4646"/>
                    </a:moveTo>
                    <a:lnTo>
                      <a:pt x="29" y="4567"/>
                    </a:lnTo>
                    <a:lnTo>
                      <a:pt x="72" y="4490"/>
                    </a:lnTo>
                    <a:lnTo>
                      <a:pt x="121" y="4416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8" y="4016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4"/>
                    </a:lnTo>
                    <a:lnTo>
                      <a:pt x="1219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8" y="3906"/>
                    </a:lnTo>
                    <a:lnTo>
                      <a:pt x="1886" y="3924"/>
                    </a:lnTo>
                    <a:lnTo>
                      <a:pt x="2010" y="3949"/>
                    </a:lnTo>
                    <a:lnTo>
                      <a:pt x="2127" y="3982"/>
                    </a:lnTo>
                    <a:lnTo>
                      <a:pt x="2240" y="4019"/>
                    </a:lnTo>
                    <a:lnTo>
                      <a:pt x="2350" y="4062"/>
                    </a:lnTo>
                    <a:lnTo>
                      <a:pt x="2449" y="4111"/>
                    </a:lnTo>
                    <a:lnTo>
                      <a:pt x="2545" y="4163"/>
                    </a:lnTo>
                    <a:lnTo>
                      <a:pt x="2632" y="4221"/>
                    </a:lnTo>
                    <a:lnTo>
                      <a:pt x="2710" y="4285"/>
                    </a:lnTo>
                    <a:lnTo>
                      <a:pt x="2783" y="4350"/>
                    </a:lnTo>
                    <a:lnTo>
                      <a:pt x="2844" y="4420"/>
                    </a:lnTo>
                    <a:lnTo>
                      <a:pt x="2896" y="4490"/>
                    </a:lnTo>
                    <a:lnTo>
                      <a:pt x="2940" y="4567"/>
                    </a:lnTo>
                    <a:lnTo>
                      <a:pt x="2971" y="4643"/>
                    </a:lnTo>
                    <a:lnTo>
                      <a:pt x="2774" y="679"/>
                    </a:lnTo>
                    <a:lnTo>
                      <a:pt x="2742" y="602"/>
                    </a:lnTo>
                    <a:lnTo>
                      <a:pt x="2696" y="531"/>
                    </a:lnTo>
                    <a:lnTo>
                      <a:pt x="2644" y="462"/>
                    </a:lnTo>
                    <a:lnTo>
                      <a:pt x="2580" y="400"/>
                    </a:lnTo>
                    <a:lnTo>
                      <a:pt x="2510" y="339"/>
                    </a:lnTo>
                    <a:lnTo>
                      <a:pt x="2432" y="284"/>
                    </a:lnTo>
                    <a:lnTo>
                      <a:pt x="2347" y="235"/>
                    </a:lnTo>
                    <a:lnTo>
                      <a:pt x="2260" y="189"/>
                    </a:lnTo>
                    <a:lnTo>
                      <a:pt x="2168" y="147"/>
                    </a:lnTo>
                    <a:lnTo>
                      <a:pt x="2072" y="112"/>
                    </a:lnTo>
                    <a:lnTo>
                      <a:pt x="1973" y="79"/>
                    </a:lnTo>
                    <a:lnTo>
                      <a:pt x="1875" y="54"/>
                    </a:lnTo>
                    <a:lnTo>
                      <a:pt x="1776" y="33"/>
                    </a:lnTo>
                    <a:lnTo>
                      <a:pt x="1680" y="15"/>
                    </a:lnTo>
                    <a:lnTo>
                      <a:pt x="1584" y="6"/>
                    </a:lnTo>
                    <a:lnTo>
                      <a:pt x="1491" y="0"/>
                    </a:lnTo>
                    <a:lnTo>
                      <a:pt x="1355" y="3"/>
                    </a:lnTo>
                    <a:lnTo>
                      <a:pt x="1219" y="15"/>
                    </a:lnTo>
                    <a:lnTo>
                      <a:pt x="1088" y="33"/>
                    </a:lnTo>
                    <a:lnTo>
                      <a:pt x="963" y="58"/>
                    </a:lnTo>
                    <a:lnTo>
                      <a:pt x="842" y="89"/>
                    </a:lnTo>
                    <a:lnTo>
                      <a:pt x="728" y="125"/>
                    </a:lnTo>
                    <a:lnTo>
                      <a:pt x="618" y="168"/>
                    </a:lnTo>
                    <a:lnTo>
                      <a:pt x="516" y="217"/>
                    </a:lnTo>
                    <a:lnTo>
                      <a:pt x="420" y="268"/>
                    </a:lnTo>
                    <a:lnTo>
                      <a:pt x="334" y="326"/>
                    </a:lnTo>
                    <a:lnTo>
                      <a:pt x="255" y="391"/>
                    </a:lnTo>
                    <a:lnTo>
                      <a:pt x="183" y="455"/>
                    </a:lnTo>
                    <a:lnTo>
                      <a:pt x="121" y="525"/>
                    </a:lnTo>
                    <a:lnTo>
                      <a:pt x="72" y="599"/>
                    </a:lnTo>
                    <a:lnTo>
                      <a:pt x="29" y="675"/>
                    </a:lnTo>
                    <a:lnTo>
                      <a:pt x="0" y="755"/>
                    </a:lnTo>
                    <a:lnTo>
                      <a:pt x="0" y="46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2720" y="5788080"/>
                <a:ext cx="138240" cy="79560"/>
              </a:xfrm>
              <a:custGeom>
                <a:avLst/>
                <a:gdLst/>
                <a:ahLst/>
                <a:rect l="l" t="t" r="r" b="b"/>
                <a:pathLst>
                  <a:path w="1521" h="795">
                    <a:moveTo>
                      <a:pt x="1521" y="0"/>
                    </a:moveTo>
                    <a:lnTo>
                      <a:pt x="1382" y="3"/>
                    </a:lnTo>
                    <a:lnTo>
                      <a:pt x="1246" y="16"/>
                    </a:lnTo>
                    <a:lnTo>
                      <a:pt x="1112" y="34"/>
                    </a:lnTo>
                    <a:lnTo>
                      <a:pt x="987" y="58"/>
                    </a:lnTo>
                    <a:lnTo>
                      <a:pt x="862" y="89"/>
                    </a:lnTo>
                    <a:lnTo>
                      <a:pt x="749" y="126"/>
                    </a:lnTo>
                    <a:lnTo>
                      <a:pt x="636" y="169"/>
                    </a:lnTo>
                    <a:lnTo>
                      <a:pt x="532" y="220"/>
                    </a:lnTo>
                    <a:lnTo>
                      <a:pt x="436" y="273"/>
                    </a:lnTo>
                    <a:lnTo>
                      <a:pt x="346" y="331"/>
                    </a:lnTo>
                    <a:lnTo>
                      <a:pt x="265" y="394"/>
                    </a:lnTo>
                    <a:lnTo>
                      <a:pt x="192" y="465"/>
                    </a:lnTo>
                    <a:lnTo>
                      <a:pt x="128" y="535"/>
                    </a:lnTo>
                    <a:lnTo>
                      <a:pt x="76" y="611"/>
                    </a:lnTo>
                    <a:lnTo>
                      <a:pt x="32" y="691"/>
                    </a:lnTo>
                    <a:lnTo>
                      <a:pt x="0" y="777"/>
                    </a:lnTo>
                    <a:lnTo>
                      <a:pt x="59" y="795"/>
                    </a:lnTo>
                    <a:lnTo>
                      <a:pt x="85" y="722"/>
                    </a:lnTo>
                    <a:lnTo>
                      <a:pt x="128" y="649"/>
                    </a:lnTo>
                    <a:lnTo>
                      <a:pt x="175" y="578"/>
                    </a:lnTo>
                    <a:lnTo>
                      <a:pt x="233" y="508"/>
                    </a:lnTo>
                    <a:lnTo>
                      <a:pt x="305" y="444"/>
                    </a:lnTo>
                    <a:lnTo>
                      <a:pt x="381" y="386"/>
                    </a:lnTo>
                    <a:lnTo>
                      <a:pt x="465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80" y="150"/>
                    </a:lnTo>
                    <a:lnTo>
                      <a:pt x="999" y="119"/>
                    </a:lnTo>
                    <a:lnTo>
                      <a:pt x="1123" y="95"/>
                    </a:lnTo>
                    <a:lnTo>
                      <a:pt x="1251" y="77"/>
                    </a:lnTo>
                    <a:lnTo>
                      <a:pt x="1388" y="64"/>
                    </a:lnTo>
                    <a:lnTo>
                      <a:pt x="1521" y="61"/>
                    </a:lnTo>
                    <a:lnTo>
                      <a:pt x="152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45440" y="5469480"/>
                <a:ext cx="22680" cy="396720"/>
              </a:xfrm>
              <a:custGeom>
                <a:avLst/>
                <a:gdLst/>
                <a:ahLst/>
                <a:rect l="l" t="t" r="r" b="b"/>
                <a:pathLst>
                  <a:path w="255" h="3980">
                    <a:moveTo>
                      <a:pt x="0" y="24"/>
                    </a:moveTo>
                    <a:lnTo>
                      <a:pt x="0" y="16"/>
                    </a:lnTo>
                    <a:lnTo>
                      <a:pt x="198" y="3980"/>
                    </a:lnTo>
                    <a:lnTo>
                      <a:pt x="255" y="3974"/>
                    </a:lnTo>
                    <a:lnTo>
                      <a:pt x="58" y="9"/>
                    </a:lnTo>
                    <a:lnTo>
                      <a:pt x="58" y="0"/>
                    </a:lnTo>
                    <a:lnTo>
                      <a:pt x="58" y="9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0960" y="539964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1312" h="724">
                    <a:moveTo>
                      <a:pt x="0" y="67"/>
                    </a:moveTo>
                    <a:lnTo>
                      <a:pt x="0" y="65"/>
                    </a:lnTo>
                    <a:lnTo>
                      <a:pt x="90" y="70"/>
                    </a:lnTo>
                    <a:lnTo>
                      <a:pt x="186" y="80"/>
                    </a:lnTo>
                    <a:lnTo>
                      <a:pt x="279" y="98"/>
                    </a:lnTo>
                    <a:lnTo>
                      <a:pt x="378" y="120"/>
                    </a:lnTo>
                    <a:lnTo>
                      <a:pt x="474" y="143"/>
                    </a:lnTo>
                    <a:lnTo>
                      <a:pt x="571" y="178"/>
                    </a:lnTo>
                    <a:lnTo>
                      <a:pt x="665" y="211"/>
                    </a:lnTo>
                    <a:lnTo>
                      <a:pt x="758" y="251"/>
                    </a:lnTo>
                    <a:lnTo>
                      <a:pt x="842" y="297"/>
                    </a:lnTo>
                    <a:lnTo>
                      <a:pt x="926" y="345"/>
                    </a:lnTo>
                    <a:lnTo>
                      <a:pt x="1002" y="398"/>
                    </a:lnTo>
                    <a:lnTo>
                      <a:pt x="1068" y="459"/>
                    </a:lnTo>
                    <a:lnTo>
                      <a:pt x="1129" y="517"/>
                    </a:lnTo>
                    <a:lnTo>
                      <a:pt x="1181" y="584"/>
                    </a:lnTo>
                    <a:lnTo>
                      <a:pt x="1225" y="651"/>
                    </a:lnTo>
                    <a:lnTo>
                      <a:pt x="1254" y="724"/>
                    </a:lnTo>
                    <a:lnTo>
                      <a:pt x="1312" y="700"/>
                    </a:lnTo>
                    <a:lnTo>
                      <a:pt x="1277" y="620"/>
                    </a:lnTo>
                    <a:lnTo>
                      <a:pt x="1227" y="547"/>
                    </a:lnTo>
                    <a:lnTo>
                      <a:pt x="1175" y="474"/>
                    </a:lnTo>
                    <a:lnTo>
                      <a:pt x="1109" y="410"/>
                    </a:lnTo>
                    <a:lnTo>
                      <a:pt x="1037" y="348"/>
                    </a:lnTo>
                    <a:lnTo>
                      <a:pt x="955" y="290"/>
                    </a:lnTo>
                    <a:lnTo>
                      <a:pt x="871" y="242"/>
                    </a:lnTo>
                    <a:lnTo>
                      <a:pt x="781" y="196"/>
                    </a:lnTo>
                    <a:lnTo>
                      <a:pt x="688" y="150"/>
                    </a:lnTo>
                    <a:lnTo>
                      <a:pt x="590" y="116"/>
                    </a:lnTo>
                    <a:lnTo>
                      <a:pt x="491" y="83"/>
                    </a:lnTo>
                    <a:lnTo>
                      <a:pt x="389" y="58"/>
                    </a:lnTo>
                    <a:lnTo>
                      <a:pt x="290" y="37"/>
                    </a:lnTo>
                    <a:lnTo>
                      <a:pt x="192" y="19"/>
                    </a:lnTo>
                    <a:lnTo>
                      <a:pt x="96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2720" y="5399640"/>
                <a:ext cx="138240" cy="78840"/>
              </a:xfrm>
              <a:custGeom>
                <a:avLst/>
                <a:gdLst/>
                <a:ahLst/>
                <a:rect l="l" t="t" r="r" b="b"/>
                <a:pathLst>
                  <a:path w="1521" h="797">
                    <a:moveTo>
                      <a:pt x="59" y="789"/>
                    </a:moveTo>
                    <a:lnTo>
                      <a:pt x="59" y="797"/>
                    </a:lnTo>
                    <a:lnTo>
                      <a:pt x="85" y="724"/>
                    </a:lnTo>
                    <a:lnTo>
                      <a:pt x="128" y="651"/>
                    </a:lnTo>
                    <a:lnTo>
                      <a:pt x="175" y="580"/>
                    </a:lnTo>
                    <a:lnTo>
                      <a:pt x="233" y="514"/>
                    </a:lnTo>
                    <a:lnTo>
                      <a:pt x="305" y="449"/>
                    </a:lnTo>
                    <a:lnTo>
                      <a:pt x="381" y="388"/>
                    </a:lnTo>
                    <a:lnTo>
                      <a:pt x="465" y="330"/>
                    </a:lnTo>
                    <a:lnTo>
                      <a:pt x="560" y="279"/>
                    </a:lnTo>
                    <a:lnTo>
                      <a:pt x="659" y="232"/>
                    </a:lnTo>
                    <a:lnTo>
                      <a:pt x="766" y="189"/>
                    </a:lnTo>
                    <a:lnTo>
                      <a:pt x="880" y="153"/>
                    </a:lnTo>
                    <a:lnTo>
                      <a:pt x="999" y="123"/>
                    </a:lnTo>
                    <a:lnTo>
                      <a:pt x="1123" y="98"/>
                    </a:lnTo>
                    <a:lnTo>
                      <a:pt x="1251" y="80"/>
                    </a:lnTo>
                    <a:lnTo>
                      <a:pt x="1388" y="67"/>
                    </a:lnTo>
                    <a:lnTo>
                      <a:pt x="1521" y="67"/>
                    </a:lnTo>
                    <a:lnTo>
                      <a:pt x="1521" y="0"/>
                    </a:lnTo>
                    <a:lnTo>
                      <a:pt x="1382" y="6"/>
                    </a:lnTo>
                    <a:lnTo>
                      <a:pt x="1246" y="19"/>
                    </a:lnTo>
                    <a:lnTo>
                      <a:pt x="1112" y="37"/>
                    </a:lnTo>
                    <a:lnTo>
                      <a:pt x="987" y="62"/>
                    </a:lnTo>
                    <a:lnTo>
                      <a:pt x="862" y="92"/>
                    </a:lnTo>
                    <a:lnTo>
                      <a:pt x="749" y="128"/>
                    </a:lnTo>
                    <a:lnTo>
                      <a:pt x="636" y="171"/>
                    </a:lnTo>
                    <a:lnTo>
                      <a:pt x="532" y="223"/>
                    </a:lnTo>
                    <a:lnTo>
                      <a:pt x="436" y="275"/>
                    </a:lnTo>
                    <a:lnTo>
                      <a:pt x="346" y="333"/>
                    </a:lnTo>
                    <a:lnTo>
                      <a:pt x="265" y="400"/>
                    </a:lnTo>
                    <a:lnTo>
                      <a:pt x="192" y="464"/>
                    </a:lnTo>
                    <a:lnTo>
                      <a:pt x="128" y="539"/>
                    </a:lnTo>
                    <a:lnTo>
                      <a:pt x="76" y="615"/>
                    </a:lnTo>
                    <a:lnTo>
                      <a:pt x="32" y="694"/>
                    </a:lnTo>
                    <a:lnTo>
                      <a:pt x="0" y="779"/>
                    </a:lnTo>
                    <a:lnTo>
                      <a:pt x="0" y="789"/>
                    </a:lnTo>
                    <a:lnTo>
                      <a:pt x="0" y="779"/>
                    </a:lnTo>
                    <a:lnTo>
                      <a:pt x="0" y="782"/>
                    </a:lnTo>
                    <a:lnTo>
                      <a:pt x="0" y="789"/>
                    </a:lnTo>
                    <a:lnTo>
                      <a:pt x="59" y="78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92720" y="5478480"/>
                <a:ext cx="5400" cy="406800"/>
              </a:xfrm>
              <a:custGeom>
                <a:avLst/>
                <a:gdLst/>
                <a:ahLst/>
                <a:rect l="l" t="t" r="r" b="b"/>
                <a:pathLst>
                  <a:path w="59" h="4080">
                    <a:moveTo>
                      <a:pt x="0" y="3882"/>
                    </a:moveTo>
                    <a:lnTo>
                      <a:pt x="59" y="3891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3891"/>
                    </a:lnTo>
                    <a:lnTo>
                      <a:pt x="59" y="3900"/>
                    </a:lnTo>
                    <a:lnTo>
                      <a:pt x="0" y="3891"/>
                    </a:lnTo>
                    <a:lnTo>
                      <a:pt x="0" y="4080"/>
                    </a:lnTo>
                    <a:lnTo>
                      <a:pt x="59" y="3900"/>
                    </a:lnTo>
                    <a:lnTo>
                      <a:pt x="0" y="38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5332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2" y="27"/>
                    </a:lnTo>
                    <a:lnTo>
                      <a:pt x="766" y="42"/>
                    </a:lnTo>
                    <a:lnTo>
                      <a:pt x="678" y="60"/>
                    </a:lnTo>
                    <a:lnTo>
                      <a:pt x="597" y="82"/>
                    </a:lnTo>
                    <a:lnTo>
                      <a:pt x="519" y="103"/>
                    </a:lnTo>
                    <a:lnTo>
                      <a:pt x="443" y="131"/>
                    </a:lnTo>
                    <a:lnTo>
                      <a:pt x="368" y="164"/>
                    </a:lnTo>
                    <a:lnTo>
                      <a:pt x="299" y="196"/>
                    </a:lnTo>
                    <a:lnTo>
                      <a:pt x="231" y="229"/>
                    </a:lnTo>
                    <a:lnTo>
                      <a:pt x="165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2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49" y="265"/>
                    </a:lnTo>
                    <a:lnTo>
                      <a:pt x="316" y="232"/>
                    </a:lnTo>
                    <a:lnTo>
                      <a:pt x="385" y="201"/>
                    </a:lnTo>
                    <a:lnTo>
                      <a:pt x="455" y="174"/>
                    </a:lnTo>
                    <a:lnTo>
                      <a:pt x="530" y="146"/>
                    </a:lnTo>
                    <a:lnTo>
                      <a:pt x="609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5" y="58"/>
                    </a:lnTo>
                    <a:lnTo>
                      <a:pt x="1033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64560" y="5450760"/>
                <a:ext cx="101880" cy="35640"/>
              </a:xfrm>
              <a:custGeom>
                <a:avLst/>
                <a:gdLst/>
                <a:ahLst/>
                <a:rect l="l" t="t" r="r" b="b"/>
                <a:pathLst>
                  <a:path w="1120" h="351">
                    <a:moveTo>
                      <a:pt x="1120" y="315"/>
                    </a:moveTo>
                    <a:lnTo>
                      <a:pt x="1068" y="277"/>
                    </a:lnTo>
                    <a:lnTo>
                      <a:pt x="1009" y="247"/>
                    </a:lnTo>
                    <a:lnTo>
                      <a:pt x="954" y="214"/>
                    </a:lnTo>
                    <a:lnTo>
                      <a:pt x="893" y="183"/>
                    </a:lnTo>
                    <a:lnTo>
                      <a:pt x="829" y="153"/>
                    </a:lnTo>
                    <a:lnTo>
                      <a:pt x="763" y="128"/>
                    </a:lnTo>
                    <a:lnTo>
                      <a:pt x="696" y="103"/>
                    </a:lnTo>
                    <a:lnTo>
                      <a:pt x="626" y="82"/>
                    </a:lnTo>
                    <a:lnTo>
                      <a:pt x="550" y="63"/>
                    </a:lnTo>
                    <a:lnTo>
                      <a:pt x="475" y="48"/>
                    </a:lnTo>
                    <a:lnTo>
                      <a:pt x="400" y="33"/>
                    </a:lnTo>
                    <a:lnTo>
                      <a:pt x="324" y="22"/>
                    </a:lnTo>
                    <a:lnTo>
                      <a:pt x="247" y="12"/>
                    </a:lnTo>
                    <a:lnTo>
                      <a:pt x="162" y="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0" y="42"/>
                    </a:lnTo>
                    <a:lnTo>
                      <a:pt x="162" y="48"/>
                    </a:lnTo>
                    <a:lnTo>
                      <a:pt x="240" y="55"/>
                    </a:lnTo>
                    <a:lnTo>
                      <a:pt x="319" y="63"/>
                    </a:lnTo>
                    <a:lnTo>
                      <a:pt x="394" y="76"/>
                    </a:lnTo>
                    <a:lnTo>
                      <a:pt x="470" y="91"/>
                    </a:lnTo>
                    <a:lnTo>
                      <a:pt x="545" y="106"/>
                    </a:lnTo>
                    <a:lnTo>
                      <a:pt x="615" y="125"/>
                    </a:lnTo>
                    <a:lnTo>
                      <a:pt x="684" y="146"/>
                    </a:lnTo>
                    <a:lnTo>
                      <a:pt x="751" y="171"/>
                    </a:lnTo>
                    <a:lnTo>
                      <a:pt x="812" y="196"/>
                    </a:lnTo>
                    <a:lnTo>
                      <a:pt x="876" y="219"/>
                    </a:lnTo>
                    <a:lnTo>
                      <a:pt x="937" y="250"/>
                    </a:lnTo>
                    <a:lnTo>
                      <a:pt x="992" y="284"/>
                    </a:lnTo>
                    <a:lnTo>
                      <a:pt x="1044" y="315"/>
                    </a:lnTo>
                    <a:lnTo>
                      <a:pt x="1096" y="351"/>
                    </a:lnTo>
                    <a:lnTo>
                      <a:pt x="1120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5152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7" y="3"/>
                    </a:lnTo>
                    <a:lnTo>
                      <a:pt x="1037" y="7"/>
                    </a:lnTo>
                    <a:lnTo>
                      <a:pt x="944" y="16"/>
                    </a:lnTo>
                    <a:lnTo>
                      <a:pt x="854" y="28"/>
                    </a:lnTo>
                    <a:lnTo>
                      <a:pt x="770" y="43"/>
                    </a:lnTo>
                    <a:lnTo>
                      <a:pt x="683" y="61"/>
                    </a:lnTo>
                    <a:lnTo>
                      <a:pt x="601" y="83"/>
                    </a:lnTo>
                    <a:lnTo>
                      <a:pt x="524" y="104"/>
                    </a:lnTo>
                    <a:lnTo>
                      <a:pt x="448" y="132"/>
                    </a:lnTo>
                    <a:lnTo>
                      <a:pt x="373" y="166"/>
                    </a:lnTo>
                    <a:lnTo>
                      <a:pt x="302" y="196"/>
                    </a:lnTo>
                    <a:lnTo>
                      <a:pt x="236" y="230"/>
                    </a:lnTo>
                    <a:lnTo>
                      <a:pt x="170" y="267"/>
                    </a:lnTo>
                    <a:lnTo>
                      <a:pt x="109" y="306"/>
                    </a:lnTo>
                    <a:lnTo>
                      <a:pt x="54" y="346"/>
                    </a:lnTo>
                    <a:lnTo>
                      <a:pt x="0" y="391"/>
                    </a:lnTo>
                    <a:lnTo>
                      <a:pt x="24" y="422"/>
                    </a:lnTo>
                    <a:lnTo>
                      <a:pt x="76" y="383"/>
                    </a:lnTo>
                    <a:lnTo>
                      <a:pt x="132" y="343"/>
                    </a:lnTo>
                    <a:lnTo>
                      <a:pt x="192" y="303"/>
                    </a:lnTo>
                    <a:lnTo>
                      <a:pt x="253" y="267"/>
                    </a:lnTo>
                    <a:lnTo>
                      <a:pt x="320" y="233"/>
                    </a:lnTo>
                    <a:lnTo>
                      <a:pt x="390" y="202"/>
                    </a:lnTo>
                    <a:lnTo>
                      <a:pt x="459" y="174"/>
                    </a:lnTo>
                    <a:lnTo>
                      <a:pt x="535" y="147"/>
                    </a:lnTo>
                    <a:lnTo>
                      <a:pt x="613" y="126"/>
                    </a:lnTo>
                    <a:lnTo>
                      <a:pt x="694" y="104"/>
                    </a:lnTo>
                    <a:lnTo>
                      <a:pt x="776" y="86"/>
                    </a:lnTo>
                    <a:lnTo>
                      <a:pt x="860" y="71"/>
                    </a:lnTo>
                    <a:lnTo>
                      <a:pt x="950" y="58"/>
                    </a:lnTo>
                    <a:lnTo>
                      <a:pt x="1037" y="50"/>
                    </a:lnTo>
                    <a:lnTo>
                      <a:pt x="1127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2760" y="5482440"/>
                <a:ext cx="113400" cy="45720"/>
              </a:xfrm>
              <a:custGeom>
                <a:avLst/>
                <a:gdLst/>
                <a:ahLst/>
                <a:rect l="l" t="t" r="r" b="b"/>
                <a:pathLst>
                  <a:path w="1255" h="453">
                    <a:moveTo>
                      <a:pt x="1255" y="422"/>
                    </a:moveTo>
                    <a:lnTo>
                      <a:pt x="1200" y="376"/>
                    </a:lnTo>
                    <a:lnTo>
                      <a:pt x="1144" y="331"/>
                    </a:lnTo>
                    <a:lnTo>
                      <a:pt x="1087" y="288"/>
                    </a:lnTo>
                    <a:lnTo>
                      <a:pt x="1019" y="248"/>
                    </a:lnTo>
                    <a:lnTo>
                      <a:pt x="950" y="212"/>
                    </a:lnTo>
                    <a:lnTo>
                      <a:pt x="881" y="177"/>
                    </a:lnTo>
                    <a:lnTo>
                      <a:pt x="802" y="144"/>
                    </a:lnTo>
                    <a:lnTo>
                      <a:pt x="724" y="114"/>
                    </a:lnTo>
                    <a:lnTo>
                      <a:pt x="642" y="89"/>
                    </a:lnTo>
                    <a:lnTo>
                      <a:pt x="558" y="65"/>
                    </a:lnTo>
                    <a:lnTo>
                      <a:pt x="471" y="46"/>
                    </a:lnTo>
                    <a:lnTo>
                      <a:pt x="381" y="31"/>
                    </a:lnTo>
                    <a:lnTo>
                      <a:pt x="291" y="18"/>
                    </a:lnTo>
                    <a:lnTo>
                      <a:pt x="195" y="7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6"/>
                    </a:lnTo>
                    <a:lnTo>
                      <a:pt x="189" y="50"/>
                    </a:lnTo>
                    <a:lnTo>
                      <a:pt x="285" y="61"/>
                    </a:lnTo>
                    <a:lnTo>
                      <a:pt x="375" y="74"/>
                    </a:lnTo>
                    <a:lnTo>
                      <a:pt x="465" y="89"/>
                    </a:lnTo>
                    <a:lnTo>
                      <a:pt x="546" y="108"/>
                    </a:lnTo>
                    <a:lnTo>
                      <a:pt x="631" y="132"/>
                    </a:lnTo>
                    <a:lnTo>
                      <a:pt x="712" y="156"/>
                    </a:lnTo>
                    <a:lnTo>
                      <a:pt x="790" y="187"/>
                    </a:lnTo>
                    <a:lnTo>
                      <a:pt x="862" y="214"/>
                    </a:lnTo>
                    <a:lnTo>
                      <a:pt x="933" y="248"/>
                    </a:lnTo>
                    <a:lnTo>
                      <a:pt x="1002" y="285"/>
                    </a:lnTo>
                    <a:lnTo>
                      <a:pt x="1063" y="325"/>
                    </a:lnTo>
                    <a:lnTo>
                      <a:pt x="1121" y="368"/>
                    </a:lnTo>
                    <a:lnTo>
                      <a:pt x="1176" y="407"/>
                    </a:lnTo>
                    <a:lnTo>
                      <a:pt x="1225" y="453"/>
                    </a:lnTo>
                    <a:lnTo>
                      <a:pt x="1255" y="4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4972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8">
                    <a:moveTo>
                      <a:pt x="1227" y="0"/>
                    </a:moveTo>
                    <a:lnTo>
                      <a:pt x="1134" y="4"/>
                    </a:lnTo>
                    <a:lnTo>
                      <a:pt x="1042" y="7"/>
                    </a:lnTo>
                    <a:lnTo>
                      <a:pt x="949" y="15"/>
                    </a:lnTo>
                    <a:lnTo>
                      <a:pt x="859" y="28"/>
                    </a:lnTo>
                    <a:lnTo>
                      <a:pt x="771" y="43"/>
                    </a:lnTo>
                    <a:lnTo>
                      <a:pt x="685" y="62"/>
                    </a:lnTo>
                    <a:lnTo>
                      <a:pt x="603" y="83"/>
                    </a:lnTo>
                    <a:lnTo>
                      <a:pt x="525" y="108"/>
                    </a:lnTo>
                    <a:lnTo>
                      <a:pt x="450" y="135"/>
                    </a:lnTo>
                    <a:lnTo>
                      <a:pt x="371" y="169"/>
                    </a:lnTo>
                    <a:lnTo>
                      <a:pt x="301" y="199"/>
                    </a:lnTo>
                    <a:lnTo>
                      <a:pt x="235" y="236"/>
                    </a:lnTo>
                    <a:lnTo>
                      <a:pt x="170" y="272"/>
                    </a:lnTo>
                    <a:lnTo>
                      <a:pt x="110" y="309"/>
                    </a:lnTo>
                    <a:lnTo>
                      <a:pt x="55" y="352"/>
                    </a:lnTo>
                    <a:lnTo>
                      <a:pt x="0" y="398"/>
                    </a:lnTo>
                    <a:lnTo>
                      <a:pt x="29" y="428"/>
                    </a:lnTo>
                    <a:lnTo>
                      <a:pt x="78" y="388"/>
                    </a:lnTo>
                    <a:lnTo>
                      <a:pt x="133" y="346"/>
                    </a:lnTo>
                    <a:lnTo>
                      <a:pt x="189" y="309"/>
                    </a:lnTo>
                    <a:lnTo>
                      <a:pt x="252" y="272"/>
                    </a:lnTo>
                    <a:lnTo>
                      <a:pt x="319" y="236"/>
                    </a:lnTo>
                    <a:lnTo>
                      <a:pt x="389" y="206"/>
                    </a:lnTo>
                    <a:lnTo>
                      <a:pt x="461" y="178"/>
                    </a:lnTo>
                    <a:lnTo>
                      <a:pt x="537" y="150"/>
                    </a:lnTo>
                    <a:lnTo>
                      <a:pt x="615" y="126"/>
                    </a:lnTo>
                    <a:lnTo>
                      <a:pt x="696" y="105"/>
                    </a:lnTo>
                    <a:lnTo>
                      <a:pt x="777" y="86"/>
                    </a:lnTo>
                    <a:lnTo>
                      <a:pt x="864" y="70"/>
                    </a:lnTo>
                    <a:lnTo>
                      <a:pt x="955" y="58"/>
                    </a:lnTo>
                    <a:lnTo>
                      <a:pt x="1042" y="50"/>
                    </a:lnTo>
                    <a:lnTo>
                      <a:pt x="1134" y="47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16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3" h="272">
                    <a:moveTo>
                      <a:pt x="993" y="236"/>
                    </a:moveTo>
                    <a:lnTo>
                      <a:pt x="944" y="208"/>
                    </a:lnTo>
                    <a:lnTo>
                      <a:pt x="892" y="184"/>
                    </a:lnTo>
                    <a:lnTo>
                      <a:pt x="836" y="163"/>
                    </a:lnTo>
                    <a:lnTo>
                      <a:pt x="778" y="135"/>
                    </a:lnTo>
                    <a:lnTo>
                      <a:pt x="723" y="116"/>
                    </a:lnTo>
                    <a:lnTo>
                      <a:pt x="662" y="95"/>
                    </a:lnTo>
                    <a:lnTo>
                      <a:pt x="604" y="80"/>
                    </a:lnTo>
                    <a:lnTo>
                      <a:pt x="543" y="62"/>
                    </a:lnTo>
                    <a:lnTo>
                      <a:pt x="476" y="50"/>
                    </a:lnTo>
                    <a:lnTo>
                      <a:pt x="412" y="37"/>
                    </a:lnTo>
                    <a:lnTo>
                      <a:pt x="346" y="25"/>
                    </a:lnTo>
                    <a:lnTo>
                      <a:pt x="279" y="15"/>
                    </a:lnTo>
                    <a:lnTo>
                      <a:pt x="212" y="10"/>
                    </a:lnTo>
                    <a:lnTo>
                      <a:pt x="140" y="4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0" y="43"/>
                    </a:lnTo>
                    <a:lnTo>
                      <a:pt x="140" y="47"/>
                    </a:lnTo>
                    <a:lnTo>
                      <a:pt x="206" y="52"/>
                    </a:lnTo>
                    <a:lnTo>
                      <a:pt x="274" y="58"/>
                    </a:lnTo>
                    <a:lnTo>
                      <a:pt x="340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2" y="105"/>
                    </a:lnTo>
                    <a:lnTo>
                      <a:pt x="592" y="123"/>
                    </a:lnTo>
                    <a:lnTo>
                      <a:pt x="650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6" y="245"/>
                    </a:lnTo>
                    <a:lnTo>
                      <a:pt x="975" y="272"/>
                    </a:lnTo>
                    <a:lnTo>
                      <a:pt x="993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9000" y="5547600"/>
                <a:ext cx="110880" cy="41760"/>
              </a:xfrm>
              <a:custGeom>
                <a:avLst/>
                <a:gdLst/>
                <a:ahLst/>
                <a:rect l="l" t="t" r="r" b="b"/>
                <a:pathLst>
                  <a:path w="1225" h="427">
                    <a:moveTo>
                      <a:pt x="1225" y="0"/>
                    </a:moveTo>
                    <a:lnTo>
                      <a:pt x="1132" y="3"/>
                    </a:lnTo>
                    <a:lnTo>
                      <a:pt x="1039" y="5"/>
                    </a:lnTo>
                    <a:lnTo>
                      <a:pt x="946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5" y="106"/>
                    </a:lnTo>
                    <a:lnTo>
                      <a:pt x="450" y="134"/>
                    </a:lnTo>
                    <a:lnTo>
                      <a:pt x="371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1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8" y="388"/>
                    </a:lnTo>
                    <a:lnTo>
                      <a:pt x="133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19" y="235"/>
                    </a:lnTo>
                    <a:lnTo>
                      <a:pt x="388" y="204"/>
                    </a:lnTo>
                    <a:lnTo>
                      <a:pt x="462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2" y="58"/>
                    </a:lnTo>
                    <a:lnTo>
                      <a:pt x="1039" y="48"/>
                    </a:lnTo>
                    <a:lnTo>
                      <a:pt x="1132" y="45"/>
                    </a:lnTo>
                    <a:lnTo>
                      <a:pt x="1225" y="43"/>
                    </a:lnTo>
                    <a:lnTo>
                      <a:pt x="12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9880" y="5547600"/>
                <a:ext cx="110880" cy="40680"/>
              </a:xfrm>
              <a:custGeom>
                <a:avLst/>
                <a:gdLst/>
                <a:ahLst/>
                <a:rect l="l" t="t" r="r" b="b"/>
                <a:pathLst>
                  <a:path w="1213" h="415">
                    <a:moveTo>
                      <a:pt x="1213" y="384"/>
                    </a:moveTo>
                    <a:lnTo>
                      <a:pt x="1161" y="339"/>
                    </a:lnTo>
                    <a:lnTo>
                      <a:pt x="1106" y="299"/>
                    </a:lnTo>
                    <a:lnTo>
                      <a:pt x="1041" y="262"/>
                    </a:lnTo>
                    <a:lnTo>
                      <a:pt x="980" y="225"/>
                    </a:lnTo>
                    <a:lnTo>
                      <a:pt x="914" y="192"/>
                    </a:lnTo>
                    <a:lnTo>
                      <a:pt x="844" y="162"/>
                    </a:lnTo>
                    <a:lnTo>
                      <a:pt x="769" y="128"/>
                    </a:lnTo>
                    <a:lnTo>
                      <a:pt x="693" y="104"/>
                    </a:lnTo>
                    <a:lnTo>
                      <a:pt x="615" y="79"/>
                    </a:lnTo>
                    <a:lnTo>
                      <a:pt x="530" y="58"/>
                    </a:lnTo>
                    <a:lnTo>
                      <a:pt x="447" y="43"/>
                    </a:lnTo>
                    <a:lnTo>
                      <a:pt x="362" y="27"/>
                    </a:lnTo>
                    <a:lnTo>
                      <a:pt x="275" y="15"/>
                    </a:lnTo>
                    <a:lnTo>
                      <a:pt x="182" y="5"/>
                    </a:lnTo>
                    <a:lnTo>
                      <a:pt x="93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3" y="45"/>
                    </a:lnTo>
                    <a:lnTo>
                      <a:pt x="182" y="48"/>
                    </a:lnTo>
                    <a:lnTo>
                      <a:pt x="269" y="58"/>
                    </a:lnTo>
                    <a:lnTo>
                      <a:pt x="357" y="70"/>
                    </a:lnTo>
                    <a:lnTo>
                      <a:pt x="441" y="85"/>
                    </a:lnTo>
                    <a:lnTo>
                      <a:pt x="525" y="101"/>
                    </a:lnTo>
                    <a:lnTo>
                      <a:pt x="604" y="122"/>
                    </a:lnTo>
                    <a:lnTo>
                      <a:pt x="681" y="146"/>
                    </a:lnTo>
                    <a:lnTo>
                      <a:pt x="757" y="171"/>
                    </a:lnTo>
                    <a:lnTo>
                      <a:pt x="827" y="198"/>
                    </a:lnTo>
                    <a:lnTo>
                      <a:pt x="896" y="229"/>
                    </a:lnTo>
                    <a:lnTo>
                      <a:pt x="963" y="262"/>
                    </a:lnTo>
                    <a:lnTo>
                      <a:pt x="1024" y="299"/>
                    </a:lnTo>
                    <a:lnTo>
                      <a:pt x="1082" y="336"/>
                    </a:lnTo>
                    <a:lnTo>
                      <a:pt x="1137" y="376"/>
                    </a:lnTo>
                    <a:lnTo>
                      <a:pt x="1189" y="415"/>
                    </a:lnTo>
                    <a:lnTo>
                      <a:pt x="1213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490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0" y="27"/>
                    </a:lnTo>
                    <a:lnTo>
                      <a:pt x="766" y="42"/>
                    </a:lnTo>
                    <a:lnTo>
                      <a:pt x="679" y="60"/>
                    </a:lnTo>
                    <a:lnTo>
                      <a:pt x="598" y="82"/>
                    </a:lnTo>
                    <a:lnTo>
                      <a:pt x="520" y="103"/>
                    </a:lnTo>
                    <a:lnTo>
                      <a:pt x="445" y="131"/>
                    </a:lnTo>
                    <a:lnTo>
                      <a:pt x="369" y="164"/>
                    </a:lnTo>
                    <a:lnTo>
                      <a:pt x="299" y="195"/>
                    </a:lnTo>
                    <a:lnTo>
                      <a:pt x="232" y="229"/>
                    </a:lnTo>
                    <a:lnTo>
                      <a:pt x="166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3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6" y="201"/>
                    </a:lnTo>
                    <a:lnTo>
                      <a:pt x="456" y="174"/>
                    </a:lnTo>
                    <a:lnTo>
                      <a:pt x="531" y="146"/>
                    </a:lnTo>
                    <a:lnTo>
                      <a:pt x="610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7" y="70"/>
                    </a:lnTo>
                    <a:lnTo>
                      <a:pt x="946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5880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68" h="211">
                    <a:moveTo>
                      <a:pt x="868" y="174"/>
                    </a:moveTo>
                    <a:lnTo>
                      <a:pt x="819" y="152"/>
                    </a:lnTo>
                    <a:lnTo>
                      <a:pt x="772" y="134"/>
                    </a:lnTo>
                    <a:lnTo>
                      <a:pt x="723" y="116"/>
                    </a:lnTo>
                    <a:lnTo>
                      <a:pt x="674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5" y="45"/>
                    </a:lnTo>
                    <a:lnTo>
                      <a:pt x="410" y="33"/>
                    </a:lnTo>
                    <a:lnTo>
                      <a:pt x="355" y="24"/>
                    </a:lnTo>
                    <a:lnTo>
                      <a:pt x="296" y="18"/>
                    </a:lnTo>
                    <a:lnTo>
                      <a:pt x="238" y="12"/>
                    </a:lnTo>
                    <a:lnTo>
                      <a:pt x="180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2" y="55"/>
                    </a:lnTo>
                    <a:lnTo>
                      <a:pt x="290" y="60"/>
                    </a:lnTo>
                    <a:lnTo>
                      <a:pt x="348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1" y="113"/>
                    </a:lnTo>
                    <a:lnTo>
                      <a:pt x="613" y="128"/>
                    </a:lnTo>
                    <a:lnTo>
                      <a:pt x="662" y="140"/>
                    </a:lnTo>
                    <a:lnTo>
                      <a:pt x="711" y="158"/>
                    </a:lnTo>
                    <a:lnTo>
                      <a:pt x="761" y="177"/>
                    </a:lnTo>
                    <a:lnTo>
                      <a:pt x="806" y="195"/>
                    </a:lnTo>
                    <a:lnTo>
                      <a:pt x="850" y="211"/>
                    </a:lnTo>
                    <a:lnTo>
                      <a:pt x="868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6120" y="561132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1" y="3"/>
                    </a:lnTo>
                    <a:lnTo>
                      <a:pt x="1048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8" y="43"/>
                    </a:lnTo>
                    <a:lnTo>
                      <a:pt x="691" y="65"/>
                    </a:lnTo>
                    <a:lnTo>
                      <a:pt x="607" y="86"/>
                    </a:lnTo>
                    <a:lnTo>
                      <a:pt x="529" y="111"/>
                    </a:lnTo>
                    <a:lnTo>
                      <a:pt x="453" y="138"/>
                    </a:lnTo>
                    <a:lnTo>
                      <a:pt x="375" y="172"/>
                    </a:lnTo>
                    <a:lnTo>
                      <a:pt x="305" y="202"/>
                    </a:lnTo>
                    <a:lnTo>
                      <a:pt x="238" y="239"/>
                    </a:lnTo>
                    <a:lnTo>
                      <a:pt x="172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2" y="209"/>
                    </a:lnTo>
                    <a:lnTo>
                      <a:pt x="464" y="181"/>
                    </a:lnTo>
                    <a:lnTo>
                      <a:pt x="540" y="154"/>
                    </a:lnTo>
                    <a:lnTo>
                      <a:pt x="618" y="129"/>
                    </a:lnTo>
                    <a:lnTo>
                      <a:pt x="703" y="108"/>
                    </a:lnTo>
                    <a:lnTo>
                      <a:pt x="784" y="86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48" y="50"/>
                    </a:lnTo>
                    <a:lnTo>
                      <a:pt x="1141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580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7" h="368">
                    <a:moveTo>
                      <a:pt x="1147" y="331"/>
                    </a:moveTo>
                    <a:lnTo>
                      <a:pt x="1095" y="293"/>
                    </a:lnTo>
                    <a:lnTo>
                      <a:pt x="1037" y="260"/>
                    </a:lnTo>
                    <a:lnTo>
                      <a:pt x="979" y="227"/>
                    </a:lnTo>
                    <a:lnTo>
                      <a:pt x="917" y="196"/>
                    </a:lnTo>
                    <a:lnTo>
                      <a:pt x="854" y="166"/>
                    </a:lnTo>
                    <a:lnTo>
                      <a:pt x="784" y="138"/>
                    </a:lnTo>
                    <a:lnTo>
                      <a:pt x="714" y="111"/>
                    </a:lnTo>
                    <a:lnTo>
                      <a:pt x="645" y="89"/>
                    </a:lnTo>
                    <a:lnTo>
                      <a:pt x="570" y="71"/>
                    </a:lnTo>
                    <a:lnTo>
                      <a:pt x="491" y="53"/>
                    </a:lnTo>
                    <a:lnTo>
                      <a:pt x="416" y="37"/>
                    </a:lnTo>
                    <a:lnTo>
                      <a:pt x="334" y="25"/>
                    </a:lnTo>
                    <a:lnTo>
                      <a:pt x="253" y="13"/>
                    </a:lnTo>
                    <a:lnTo>
                      <a:pt x="169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5" y="43"/>
                    </a:lnTo>
                    <a:lnTo>
                      <a:pt x="169" y="50"/>
                    </a:lnTo>
                    <a:lnTo>
                      <a:pt x="247" y="55"/>
                    </a:lnTo>
                    <a:lnTo>
                      <a:pt x="329" y="68"/>
                    </a:lnTo>
                    <a:lnTo>
                      <a:pt x="409" y="80"/>
                    </a:lnTo>
                    <a:lnTo>
                      <a:pt x="485" y="95"/>
                    </a:lnTo>
                    <a:lnTo>
                      <a:pt x="557" y="114"/>
                    </a:lnTo>
                    <a:lnTo>
                      <a:pt x="633" y="132"/>
                    </a:lnTo>
                    <a:lnTo>
                      <a:pt x="703" y="154"/>
                    </a:lnTo>
                    <a:lnTo>
                      <a:pt x="773" y="181"/>
                    </a:lnTo>
                    <a:lnTo>
                      <a:pt x="836" y="202"/>
                    </a:lnTo>
                    <a:lnTo>
                      <a:pt x="900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7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432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4"/>
                    </a:lnTo>
                    <a:lnTo>
                      <a:pt x="1044" y="7"/>
                    </a:lnTo>
                    <a:lnTo>
                      <a:pt x="952" y="15"/>
                    </a:lnTo>
                    <a:lnTo>
                      <a:pt x="862" y="28"/>
                    </a:lnTo>
                    <a:lnTo>
                      <a:pt x="774" y="43"/>
                    </a:lnTo>
                    <a:lnTo>
                      <a:pt x="687" y="62"/>
                    </a:lnTo>
                    <a:lnTo>
                      <a:pt x="606" y="83"/>
                    </a:lnTo>
                    <a:lnTo>
                      <a:pt x="527" y="108"/>
                    </a:lnTo>
                    <a:lnTo>
                      <a:pt x="450" y="135"/>
                    </a:lnTo>
                    <a:lnTo>
                      <a:pt x="374" y="168"/>
                    </a:lnTo>
                    <a:lnTo>
                      <a:pt x="302" y="202"/>
                    </a:lnTo>
                    <a:lnTo>
                      <a:pt x="235" y="236"/>
                    </a:lnTo>
                    <a:lnTo>
                      <a:pt x="170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7" y="395"/>
                    </a:lnTo>
                    <a:lnTo>
                      <a:pt x="134" y="352"/>
                    </a:lnTo>
                    <a:lnTo>
                      <a:pt x="194" y="312"/>
                    </a:lnTo>
                    <a:lnTo>
                      <a:pt x="252" y="272"/>
                    </a:lnTo>
                    <a:lnTo>
                      <a:pt x="319" y="239"/>
                    </a:lnTo>
                    <a:lnTo>
                      <a:pt x="392" y="206"/>
                    </a:lnTo>
                    <a:lnTo>
                      <a:pt x="461" y="178"/>
                    </a:lnTo>
                    <a:lnTo>
                      <a:pt x="540" y="150"/>
                    </a:lnTo>
                    <a:lnTo>
                      <a:pt x="618" y="126"/>
                    </a:lnTo>
                    <a:lnTo>
                      <a:pt x="699" y="105"/>
                    </a:lnTo>
                    <a:lnTo>
                      <a:pt x="780" y="86"/>
                    </a:lnTo>
                    <a:lnTo>
                      <a:pt x="867" y="70"/>
                    </a:lnTo>
                    <a:lnTo>
                      <a:pt x="958" y="58"/>
                    </a:lnTo>
                    <a:lnTo>
                      <a:pt x="1044" y="50"/>
                    </a:lnTo>
                    <a:lnTo>
                      <a:pt x="1137" y="47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5700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8">
                    <a:moveTo>
                      <a:pt x="1175" y="352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79" y="178"/>
                    </a:lnTo>
                    <a:lnTo>
                      <a:pt x="807" y="148"/>
                    </a:lnTo>
                    <a:lnTo>
                      <a:pt x="737" y="120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5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5" y="50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3" y="83"/>
                    </a:lnTo>
                    <a:lnTo>
                      <a:pt x="502" y="98"/>
                    </a:lnTo>
                    <a:lnTo>
                      <a:pt x="577" y="116"/>
                    </a:lnTo>
                    <a:lnTo>
                      <a:pt x="653" y="138"/>
                    </a:lnTo>
                    <a:lnTo>
                      <a:pt x="725" y="163"/>
                    </a:lnTo>
                    <a:lnTo>
                      <a:pt x="795" y="189"/>
                    </a:lnTo>
                    <a:lnTo>
                      <a:pt x="862" y="214"/>
                    </a:lnTo>
                    <a:lnTo>
                      <a:pt x="925" y="245"/>
                    </a:lnTo>
                    <a:lnTo>
                      <a:pt x="986" y="279"/>
                    </a:lnTo>
                    <a:lnTo>
                      <a:pt x="1048" y="312"/>
                    </a:lnTo>
                    <a:lnTo>
                      <a:pt x="1100" y="348"/>
                    </a:lnTo>
                    <a:lnTo>
                      <a:pt x="1152" y="388"/>
                    </a:lnTo>
                    <a:lnTo>
                      <a:pt x="1175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4324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8" y="3"/>
                    </a:lnTo>
                    <a:lnTo>
                      <a:pt x="1045" y="5"/>
                    </a:lnTo>
                    <a:lnTo>
                      <a:pt x="951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29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1" y="204"/>
                    </a:lnTo>
                    <a:lnTo>
                      <a:pt x="462" y="177"/>
                    </a:lnTo>
                    <a:lnTo>
                      <a:pt x="539" y="149"/>
                    </a:lnTo>
                    <a:lnTo>
                      <a:pt x="618" y="124"/>
                    </a:lnTo>
                    <a:lnTo>
                      <a:pt x="699" y="103"/>
                    </a:lnTo>
                    <a:lnTo>
                      <a:pt x="781" y="84"/>
                    </a:lnTo>
                    <a:lnTo>
                      <a:pt x="868" y="69"/>
                    </a:lnTo>
                    <a:lnTo>
                      <a:pt x="957" y="58"/>
                    </a:lnTo>
                    <a:lnTo>
                      <a:pt x="1045" y="48"/>
                    </a:lnTo>
                    <a:lnTo>
                      <a:pt x="1138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55560" y="5675040"/>
                <a:ext cx="109080" cy="39960"/>
              </a:xfrm>
              <a:custGeom>
                <a:avLst/>
                <a:gdLst/>
                <a:ahLst/>
                <a:rect l="l" t="t" r="r" b="b"/>
                <a:pathLst>
                  <a:path w="1190" h="399">
                    <a:moveTo>
                      <a:pt x="1190" y="363"/>
                    </a:moveTo>
                    <a:lnTo>
                      <a:pt x="1138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1" y="182"/>
                    </a:lnTo>
                    <a:lnTo>
                      <a:pt x="822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9" y="76"/>
                    </a:lnTo>
                    <a:lnTo>
                      <a:pt x="517" y="54"/>
                    </a:lnTo>
                    <a:lnTo>
                      <a:pt x="435" y="39"/>
                    </a:lnTo>
                    <a:lnTo>
                      <a:pt x="352" y="23"/>
                    </a:lnTo>
                    <a:lnTo>
                      <a:pt x="267" y="15"/>
                    </a:lnTo>
                    <a:lnTo>
                      <a:pt x="177" y="5"/>
                    </a:lnTo>
                    <a:lnTo>
                      <a:pt x="91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1" y="45"/>
                    </a:lnTo>
                    <a:lnTo>
                      <a:pt x="177" y="48"/>
                    </a:lnTo>
                    <a:lnTo>
                      <a:pt x="262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6" y="119"/>
                    </a:lnTo>
                    <a:lnTo>
                      <a:pt x="662" y="140"/>
                    </a:lnTo>
                    <a:lnTo>
                      <a:pt x="737" y="164"/>
                    </a:lnTo>
                    <a:lnTo>
                      <a:pt x="805" y="192"/>
                    </a:lnTo>
                    <a:lnTo>
                      <a:pt x="874" y="220"/>
                    </a:lnTo>
                    <a:lnTo>
                      <a:pt x="940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0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4144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3" h="440">
                    <a:moveTo>
                      <a:pt x="1243" y="0"/>
                    </a:moveTo>
                    <a:lnTo>
                      <a:pt x="1147" y="3"/>
                    </a:lnTo>
                    <a:lnTo>
                      <a:pt x="1054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2" y="46"/>
                    </a:lnTo>
                    <a:lnTo>
                      <a:pt x="692" y="64"/>
                    </a:lnTo>
                    <a:lnTo>
                      <a:pt x="610" y="86"/>
                    </a:lnTo>
                    <a:lnTo>
                      <a:pt x="529" y="110"/>
                    </a:lnTo>
                    <a:lnTo>
                      <a:pt x="453" y="137"/>
                    </a:lnTo>
                    <a:lnTo>
                      <a:pt x="375" y="172"/>
                    </a:lnTo>
                    <a:lnTo>
                      <a:pt x="305" y="205"/>
                    </a:lnTo>
                    <a:lnTo>
                      <a:pt x="239" y="241"/>
                    </a:lnTo>
                    <a:lnTo>
                      <a:pt x="172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30" y="440"/>
                    </a:lnTo>
                    <a:lnTo>
                      <a:pt x="79" y="394"/>
                    </a:lnTo>
                    <a:lnTo>
                      <a:pt x="134" y="354"/>
                    </a:lnTo>
                    <a:lnTo>
                      <a:pt x="195" y="315"/>
                    </a:lnTo>
                    <a:lnTo>
                      <a:pt x="256" y="278"/>
                    </a:lnTo>
                    <a:lnTo>
                      <a:pt x="323" y="241"/>
                    </a:lnTo>
                    <a:lnTo>
                      <a:pt x="392" y="208"/>
                    </a:lnTo>
                    <a:lnTo>
                      <a:pt x="465" y="180"/>
                    </a:lnTo>
                    <a:lnTo>
                      <a:pt x="541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7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4" y="49"/>
                    </a:lnTo>
                    <a:lnTo>
                      <a:pt x="1147" y="46"/>
                    </a:lnTo>
                    <a:lnTo>
                      <a:pt x="1243" y="43"/>
                    </a:lnTo>
                    <a:lnTo>
                      <a:pt x="12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44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7" h="303">
                    <a:moveTo>
                      <a:pt x="1047" y="266"/>
                    </a:moveTo>
                    <a:lnTo>
                      <a:pt x="995" y="236"/>
                    </a:lnTo>
                    <a:lnTo>
                      <a:pt x="943" y="208"/>
                    </a:lnTo>
                    <a:lnTo>
                      <a:pt x="888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4" y="107"/>
                    </a:lnTo>
                    <a:lnTo>
                      <a:pt x="641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38" y="39"/>
                    </a:lnTo>
                    <a:lnTo>
                      <a:pt x="368" y="28"/>
                    </a:lnTo>
                    <a:lnTo>
                      <a:pt x="299" y="19"/>
                    </a:lnTo>
                    <a:lnTo>
                      <a:pt x="226" y="9"/>
                    </a:lnTo>
                    <a:lnTo>
                      <a:pt x="151" y="6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5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2" y="61"/>
                    </a:lnTo>
                    <a:lnTo>
                      <a:pt x="363" y="71"/>
                    </a:lnTo>
                    <a:lnTo>
                      <a:pt x="432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3" y="150"/>
                    </a:lnTo>
                    <a:lnTo>
                      <a:pt x="754" y="175"/>
                    </a:lnTo>
                    <a:lnTo>
                      <a:pt x="816" y="196"/>
                    </a:lnTo>
                    <a:lnTo>
                      <a:pt x="871" y="217"/>
                    </a:lnTo>
                    <a:lnTo>
                      <a:pt x="926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7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07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39" h="440">
                    <a:moveTo>
                      <a:pt x="1239" y="0"/>
                    </a:moveTo>
                    <a:lnTo>
                      <a:pt x="1144" y="3"/>
                    </a:lnTo>
                    <a:lnTo>
                      <a:pt x="1051" y="6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7" y="46"/>
                    </a:lnTo>
                    <a:lnTo>
                      <a:pt x="691" y="64"/>
                    </a:lnTo>
                    <a:lnTo>
                      <a:pt x="607" y="86"/>
                    </a:lnTo>
                    <a:lnTo>
                      <a:pt x="528" y="111"/>
                    </a:lnTo>
                    <a:lnTo>
                      <a:pt x="450" y="138"/>
                    </a:lnTo>
                    <a:lnTo>
                      <a:pt x="374" y="171"/>
                    </a:lnTo>
                    <a:lnTo>
                      <a:pt x="302" y="205"/>
                    </a:lnTo>
                    <a:lnTo>
                      <a:pt x="235" y="242"/>
                    </a:lnTo>
                    <a:lnTo>
                      <a:pt x="168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9" y="440"/>
                    </a:lnTo>
                    <a:lnTo>
                      <a:pt x="79" y="394"/>
                    </a:lnTo>
                    <a:lnTo>
                      <a:pt x="134" y="355"/>
                    </a:lnTo>
                    <a:lnTo>
                      <a:pt x="192" y="315"/>
                    </a:lnTo>
                    <a:lnTo>
                      <a:pt x="253" y="278"/>
                    </a:lnTo>
                    <a:lnTo>
                      <a:pt x="319" y="242"/>
                    </a:lnTo>
                    <a:lnTo>
                      <a:pt x="392" y="208"/>
                    </a:lnTo>
                    <a:lnTo>
                      <a:pt x="461" y="180"/>
                    </a:lnTo>
                    <a:lnTo>
                      <a:pt x="540" y="153"/>
                    </a:lnTo>
                    <a:lnTo>
                      <a:pt x="618" y="129"/>
                    </a:lnTo>
                    <a:lnTo>
                      <a:pt x="703" y="107"/>
                    </a:lnTo>
                    <a:lnTo>
                      <a:pt x="783" y="89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51" y="49"/>
                    </a:lnTo>
                    <a:lnTo>
                      <a:pt x="1144" y="46"/>
                    </a:lnTo>
                    <a:lnTo>
                      <a:pt x="1239" y="43"/>
                    </a:lnTo>
                    <a:lnTo>
                      <a:pt x="12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340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9">
                    <a:moveTo>
                      <a:pt x="1175" y="351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80" y="177"/>
                    </a:lnTo>
                    <a:lnTo>
                      <a:pt x="807" y="147"/>
                    </a:lnTo>
                    <a:lnTo>
                      <a:pt x="738" y="119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5" y="15"/>
                    </a:lnTo>
                    <a:lnTo>
                      <a:pt x="175" y="6"/>
                    </a:lnTo>
                    <a:lnTo>
                      <a:pt x="87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6"/>
                    </a:lnTo>
                    <a:lnTo>
                      <a:pt x="175" y="49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4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2"/>
                    </a:lnTo>
                    <a:lnTo>
                      <a:pt x="795" y="190"/>
                    </a:lnTo>
                    <a:lnTo>
                      <a:pt x="862" y="214"/>
                    </a:lnTo>
                    <a:lnTo>
                      <a:pt x="926" y="245"/>
                    </a:lnTo>
                    <a:lnTo>
                      <a:pt x="987" y="278"/>
                    </a:lnTo>
                    <a:lnTo>
                      <a:pt x="1048" y="312"/>
                    </a:lnTo>
                    <a:lnTo>
                      <a:pt x="1100" y="349"/>
                    </a:lnTo>
                    <a:lnTo>
                      <a:pt x="1152" y="389"/>
                    </a:lnTo>
                    <a:lnTo>
                      <a:pt x="1175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900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6" y="5"/>
                    </a:lnTo>
                    <a:lnTo>
                      <a:pt x="944" y="15"/>
                    </a:lnTo>
                    <a:lnTo>
                      <a:pt x="854" y="27"/>
                    </a:lnTo>
                    <a:lnTo>
                      <a:pt x="769" y="42"/>
                    </a:lnTo>
                    <a:lnTo>
                      <a:pt x="683" y="60"/>
                    </a:lnTo>
                    <a:lnTo>
                      <a:pt x="601" y="82"/>
                    </a:lnTo>
                    <a:lnTo>
                      <a:pt x="523" y="103"/>
                    </a:lnTo>
                    <a:lnTo>
                      <a:pt x="448" y="131"/>
                    </a:lnTo>
                    <a:lnTo>
                      <a:pt x="372" y="164"/>
                    </a:lnTo>
                    <a:lnTo>
                      <a:pt x="302" y="196"/>
                    </a:lnTo>
                    <a:lnTo>
                      <a:pt x="236" y="229"/>
                    </a:lnTo>
                    <a:lnTo>
                      <a:pt x="168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3" y="265"/>
                    </a:lnTo>
                    <a:lnTo>
                      <a:pt x="319" y="232"/>
                    </a:lnTo>
                    <a:lnTo>
                      <a:pt x="390" y="201"/>
                    </a:lnTo>
                    <a:lnTo>
                      <a:pt x="459" y="174"/>
                    </a:lnTo>
                    <a:lnTo>
                      <a:pt x="535" y="146"/>
                    </a:lnTo>
                    <a:lnTo>
                      <a:pt x="613" y="125"/>
                    </a:lnTo>
                    <a:lnTo>
                      <a:pt x="694" y="103"/>
                    </a:lnTo>
                    <a:lnTo>
                      <a:pt x="775" y="85"/>
                    </a:lnTo>
                    <a:lnTo>
                      <a:pt x="860" y="70"/>
                    </a:lnTo>
                    <a:lnTo>
                      <a:pt x="950" y="58"/>
                    </a:lnTo>
                    <a:lnTo>
                      <a:pt x="1036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29880" y="5450760"/>
                <a:ext cx="102600" cy="35640"/>
              </a:xfrm>
              <a:custGeom>
                <a:avLst/>
                <a:gdLst/>
                <a:ahLst/>
                <a:rect l="l" t="t" r="r" b="b"/>
                <a:pathLst>
                  <a:path w="1124" h="351">
                    <a:moveTo>
                      <a:pt x="1124" y="315"/>
                    </a:moveTo>
                    <a:lnTo>
                      <a:pt x="1071" y="277"/>
                    </a:lnTo>
                    <a:lnTo>
                      <a:pt x="1013" y="247"/>
                    </a:lnTo>
                    <a:lnTo>
                      <a:pt x="956" y="214"/>
                    </a:lnTo>
                    <a:lnTo>
                      <a:pt x="895" y="183"/>
                    </a:lnTo>
                    <a:lnTo>
                      <a:pt x="833" y="153"/>
                    </a:lnTo>
                    <a:lnTo>
                      <a:pt x="764" y="128"/>
                    </a:lnTo>
                    <a:lnTo>
                      <a:pt x="697" y="103"/>
                    </a:lnTo>
                    <a:lnTo>
                      <a:pt x="627" y="82"/>
                    </a:lnTo>
                    <a:lnTo>
                      <a:pt x="555" y="63"/>
                    </a:lnTo>
                    <a:lnTo>
                      <a:pt x="479" y="48"/>
                    </a:lnTo>
                    <a:lnTo>
                      <a:pt x="404" y="33"/>
                    </a:lnTo>
                    <a:lnTo>
                      <a:pt x="325" y="22"/>
                    </a:lnTo>
                    <a:lnTo>
                      <a:pt x="247" y="12"/>
                    </a:lnTo>
                    <a:lnTo>
                      <a:pt x="166" y="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2" y="42"/>
                    </a:lnTo>
                    <a:lnTo>
                      <a:pt x="166" y="48"/>
                    </a:lnTo>
                    <a:lnTo>
                      <a:pt x="242" y="55"/>
                    </a:lnTo>
                    <a:lnTo>
                      <a:pt x="319" y="63"/>
                    </a:lnTo>
                    <a:lnTo>
                      <a:pt x="398" y="76"/>
                    </a:lnTo>
                    <a:lnTo>
                      <a:pt x="473" y="91"/>
                    </a:lnTo>
                    <a:lnTo>
                      <a:pt x="543" y="106"/>
                    </a:lnTo>
                    <a:lnTo>
                      <a:pt x="616" y="125"/>
                    </a:lnTo>
                    <a:lnTo>
                      <a:pt x="686" y="146"/>
                    </a:lnTo>
                    <a:lnTo>
                      <a:pt x="752" y="171"/>
                    </a:lnTo>
                    <a:lnTo>
                      <a:pt x="816" y="196"/>
                    </a:lnTo>
                    <a:lnTo>
                      <a:pt x="877" y="219"/>
                    </a:lnTo>
                    <a:lnTo>
                      <a:pt x="937" y="250"/>
                    </a:lnTo>
                    <a:lnTo>
                      <a:pt x="996" y="284"/>
                    </a:lnTo>
                    <a:lnTo>
                      <a:pt x="1049" y="315"/>
                    </a:lnTo>
                    <a:lnTo>
                      <a:pt x="1101" y="351"/>
                    </a:lnTo>
                    <a:lnTo>
                      <a:pt x="1124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828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6" y="3"/>
                    </a:lnTo>
                    <a:lnTo>
                      <a:pt x="1033" y="7"/>
                    </a:lnTo>
                    <a:lnTo>
                      <a:pt x="940" y="16"/>
                    </a:lnTo>
                    <a:lnTo>
                      <a:pt x="854" y="28"/>
                    </a:lnTo>
                    <a:lnTo>
                      <a:pt x="766" y="43"/>
                    </a:lnTo>
                    <a:lnTo>
                      <a:pt x="679" y="61"/>
                    </a:lnTo>
                    <a:lnTo>
                      <a:pt x="598" y="83"/>
                    </a:lnTo>
                    <a:lnTo>
                      <a:pt x="519" y="104"/>
                    </a:lnTo>
                    <a:lnTo>
                      <a:pt x="444" y="132"/>
                    </a:lnTo>
                    <a:lnTo>
                      <a:pt x="368" y="166"/>
                    </a:lnTo>
                    <a:lnTo>
                      <a:pt x="299" y="196"/>
                    </a:lnTo>
                    <a:lnTo>
                      <a:pt x="233" y="230"/>
                    </a:lnTo>
                    <a:lnTo>
                      <a:pt x="165" y="267"/>
                    </a:lnTo>
                    <a:lnTo>
                      <a:pt x="107" y="306"/>
                    </a:lnTo>
                    <a:lnTo>
                      <a:pt x="52" y="346"/>
                    </a:lnTo>
                    <a:lnTo>
                      <a:pt x="0" y="391"/>
                    </a:lnTo>
                    <a:lnTo>
                      <a:pt x="23" y="422"/>
                    </a:lnTo>
                    <a:lnTo>
                      <a:pt x="75" y="383"/>
                    </a:lnTo>
                    <a:lnTo>
                      <a:pt x="131" y="343"/>
                    </a:lnTo>
                    <a:lnTo>
                      <a:pt x="189" y="303"/>
                    </a:lnTo>
                    <a:lnTo>
                      <a:pt x="250" y="267"/>
                    </a:lnTo>
                    <a:lnTo>
                      <a:pt x="316" y="233"/>
                    </a:lnTo>
                    <a:lnTo>
                      <a:pt x="387" y="202"/>
                    </a:lnTo>
                    <a:lnTo>
                      <a:pt x="456" y="174"/>
                    </a:lnTo>
                    <a:lnTo>
                      <a:pt x="531" y="147"/>
                    </a:lnTo>
                    <a:lnTo>
                      <a:pt x="610" y="126"/>
                    </a:lnTo>
                    <a:lnTo>
                      <a:pt x="690" y="104"/>
                    </a:lnTo>
                    <a:lnTo>
                      <a:pt x="772" y="86"/>
                    </a:lnTo>
                    <a:lnTo>
                      <a:pt x="859" y="71"/>
                    </a:lnTo>
                    <a:lnTo>
                      <a:pt x="947" y="58"/>
                    </a:lnTo>
                    <a:lnTo>
                      <a:pt x="1033" y="50"/>
                    </a:lnTo>
                    <a:lnTo>
                      <a:pt x="1126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9160" y="548244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6"/>
                    </a:moveTo>
                    <a:lnTo>
                      <a:pt x="1094" y="291"/>
                    </a:lnTo>
                    <a:lnTo>
                      <a:pt x="1041" y="248"/>
                    </a:lnTo>
                    <a:lnTo>
                      <a:pt x="986" y="212"/>
                    </a:lnTo>
                    <a:lnTo>
                      <a:pt x="926" y="177"/>
                    </a:lnTo>
                    <a:lnTo>
                      <a:pt x="868" y="147"/>
                    </a:lnTo>
                    <a:lnTo>
                      <a:pt x="804" y="116"/>
                    </a:lnTo>
                    <a:lnTo>
                      <a:pt x="737" y="93"/>
                    </a:lnTo>
                    <a:lnTo>
                      <a:pt x="667" y="71"/>
                    </a:lnTo>
                    <a:lnTo>
                      <a:pt x="595" y="53"/>
                    </a:lnTo>
                    <a:lnTo>
                      <a:pt x="519" y="40"/>
                    </a:lnTo>
                    <a:lnTo>
                      <a:pt x="444" y="28"/>
                    </a:lnTo>
                    <a:lnTo>
                      <a:pt x="363" y="16"/>
                    </a:lnTo>
                    <a:lnTo>
                      <a:pt x="275" y="10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3"/>
                    </a:lnTo>
                    <a:lnTo>
                      <a:pt x="185" y="46"/>
                    </a:lnTo>
                    <a:lnTo>
                      <a:pt x="275" y="53"/>
                    </a:lnTo>
                    <a:lnTo>
                      <a:pt x="357" y="58"/>
                    </a:lnTo>
                    <a:lnTo>
                      <a:pt x="438" y="71"/>
                    </a:lnTo>
                    <a:lnTo>
                      <a:pt x="514" y="83"/>
                    </a:lnTo>
                    <a:lnTo>
                      <a:pt x="589" y="96"/>
                    </a:lnTo>
                    <a:lnTo>
                      <a:pt x="656" y="114"/>
                    </a:lnTo>
                    <a:lnTo>
                      <a:pt x="725" y="135"/>
                    </a:lnTo>
                    <a:lnTo>
                      <a:pt x="786" y="159"/>
                    </a:lnTo>
                    <a:lnTo>
                      <a:pt x="851" y="184"/>
                    </a:lnTo>
                    <a:lnTo>
                      <a:pt x="909" y="214"/>
                    </a:lnTo>
                    <a:lnTo>
                      <a:pt x="964" y="248"/>
                    </a:lnTo>
                    <a:lnTo>
                      <a:pt x="1019" y="285"/>
                    </a:lnTo>
                    <a:lnTo>
                      <a:pt x="1071" y="321"/>
                    </a:lnTo>
                    <a:lnTo>
                      <a:pt x="1117" y="368"/>
                    </a:lnTo>
                    <a:lnTo>
                      <a:pt x="1146" y="3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1648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9" h="428">
                    <a:moveTo>
                      <a:pt x="1229" y="0"/>
                    </a:moveTo>
                    <a:lnTo>
                      <a:pt x="1136" y="4"/>
                    </a:lnTo>
                    <a:lnTo>
                      <a:pt x="1043" y="7"/>
                    </a:lnTo>
                    <a:lnTo>
                      <a:pt x="950" y="15"/>
                    </a:lnTo>
                    <a:lnTo>
                      <a:pt x="862" y="28"/>
                    </a:lnTo>
                    <a:lnTo>
                      <a:pt x="776" y="43"/>
                    </a:lnTo>
                    <a:lnTo>
                      <a:pt x="689" y="62"/>
                    </a:lnTo>
                    <a:lnTo>
                      <a:pt x="607" y="83"/>
                    </a:lnTo>
                    <a:lnTo>
                      <a:pt x="526" y="108"/>
                    </a:lnTo>
                    <a:lnTo>
                      <a:pt x="450" y="135"/>
                    </a:lnTo>
                    <a:lnTo>
                      <a:pt x="375" y="169"/>
                    </a:lnTo>
                    <a:lnTo>
                      <a:pt x="302" y="199"/>
                    </a:lnTo>
                    <a:lnTo>
                      <a:pt x="236" y="236"/>
                    </a:lnTo>
                    <a:lnTo>
                      <a:pt x="175" y="272"/>
                    </a:lnTo>
                    <a:lnTo>
                      <a:pt x="111" y="309"/>
                    </a:lnTo>
                    <a:lnTo>
                      <a:pt x="56" y="352"/>
                    </a:lnTo>
                    <a:lnTo>
                      <a:pt x="0" y="398"/>
                    </a:lnTo>
                    <a:lnTo>
                      <a:pt x="30" y="428"/>
                    </a:lnTo>
                    <a:lnTo>
                      <a:pt x="79" y="388"/>
                    </a:lnTo>
                    <a:lnTo>
                      <a:pt x="134" y="346"/>
                    </a:lnTo>
                    <a:lnTo>
                      <a:pt x="192" y="309"/>
                    </a:lnTo>
                    <a:lnTo>
                      <a:pt x="253" y="272"/>
                    </a:lnTo>
                    <a:lnTo>
                      <a:pt x="320" y="236"/>
                    </a:lnTo>
                    <a:lnTo>
                      <a:pt x="392" y="206"/>
                    </a:lnTo>
                    <a:lnTo>
                      <a:pt x="463" y="178"/>
                    </a:lnTo>
                    <a:lnTo>
                      <a:pt x="538" y="150"/>
                    </a:lnTo>
                    <a:lnTo>
                      <a:pt x="619" y="126"/>
                    </a:lnTo>
                    <a:lnTo>
                      <a:pt x="700" y="105"/>
                    </a:lnTo>
                    <a:lnTo>
                      <a:pt x="782" y="86"/>
                    </a:lnTo>
                    <a:lnTo>
                      <a:pt x="869" y="70"/>
                    </a:lnTo>
                    <a:lnTo>
                      <a:pt x="955" y="58"/>
                    </a:lnTo>
                    <a:lnTo>
                      <a:pt x="1043" y="50"/>
                    </a:lnTo>
                    <a:lnTo>
                      <a:pt x="1136" y="47"/>
                    </a:lnTo>
                    <a:lnTo>
                      <a:pt x="1229" y="43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280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2" h="272">
                    <a:moveTo>
                      <a:pt x="992" y="236"/>
                    </a:moveTo>
                    <a:lnTo>
                      <a:pt x="943" y="208"/>
                    </a:lnTo>
                    <a:lnTo>
                      <a:pt x="890" y="184"/>
                    </a:lnTo>
                    <a:lnTo>
                      <a:pt x="835" y="163"/>
                    </a:lnTo>
                    <a:lnTo>
                      <a:pt x="777" y="135"/>
                    </a:lnTo>
                    <a:lnTo>
                      <a:pt x="722" y="116"/>
                    </a:lnTo>
                    <a:lnTo>
                      <a:pt x="662" y="95"/>
                    </a:lnTo>
                    <a:lnTo>
                      <a:pt x="603" y="80"/>
                    </a:lnTo>
                    <a:lnTo>
                      <a:pt x="542" y="62"/>
                    </a:lnTo>
                    <a:lnTo>
                      <a:pt x="475" y="50"/>
                    </a:lnTo>
                    <a:lnTo>
                      <a:pt x="412" y="37"/>
                    </a:lnTo>
                    <a:lnTo>
                      <a:pt x="344" y="25"/>
                    </a:lnTo>
                    <a:lnTo>
                      <a:pt x="278" y="15"/>
                    </a:lnTo>
                    <a:lnTo>
                      <a:pt x="212" y="10"/>
                    </a:lnTo>
                    <a:lnTo>
                      <a:pt x="138" y="4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69" y="43"/>
                    </a:lnTo>
                    <a:lnTo>
                      <a:pt x="138" y="47"/>
                    </a:lnTo>
                    <a:lnTo>
                      <a:pt x="206" y="52"/>
                    </a:lnTo>
                    <a:lnTo>
                      <a:pt x="272" y="58"/>
                    </a:lnTo>
                    <a:lnTo>
                      <a:pt x="339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1" y="105"/>
                    </a:lnTo>
                    <a:lnTo>
                      <a:pt x="591" y="123"/>
                    </a:lnTo>
                    <a:lnTo>
                      <a:pt x="649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5" y="245"/>
                    </a:lnTo>
                    <a:lnTo>
                      <a:pt x="975" y="272"/>
                    </a:lnTo>
                    <a:lnTo>
                      <a:pt x="992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5400" y="554760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7">
                    <a:moveTo>
                      <a:pt x="1227" y="0"/>
                    </a:moveTo>
                    <a:lnTo>
                      <a:pt x="1135" y="3"/>
                    </a:lnTo>
                    <a:lnTo>
                      <a:pt x="1042" y="5"/>
                    </a:lnTo>
                    <a:lnTo>
                      <a:pt x="949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6" y="106"/>
                    </a:lnTo>
                    <a:lnTo>
                      <a:pt x="450" y="134"/>
                    </a:lnTo>
                    <a:lnTo>
                      <a:pt x="372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2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9" y="388"/>
                    </a:lnTo>
                    <a:lnTo>
                      <a:pt x="134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20" y="235"/>
                    </a:lnTo>
                    <a:lnTo>
                      <a:pt x="389" y="204"/>
                    </a:lnTo>
                    <a:lnTo>
                      <a:pt x="461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5" y="58"/>
                    </a:lnTo>
                    <a:lnTo>
                      <a:pt x="1042" y="48"/>
                    </a:lnTo>
                    <a:lnTo>
                      <a:pt x="1135" y="45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27360" y="5547600"/>
                <a:ext cx="110160" cy="40680"/>
              </a:xfrm>
              <a:custGeom>
                <a:avLst/>
                <a:gdLst/>
                <a:ahLst/>
                <a:rect l="l" t="t" r="r" b="b"/>
                <a:pathLst>
                  <a:path w="1211" h="415">
                    <a:moveTo>
                      <a:pt x="1211" y="384"/>
                    </a:moveTo>
                    <a:lnTo>
                      <a:pt x="1159" y="339"/>
                    </a:lnTo>
                    <a:lnTo>
                      <a:pt x="1104" y="299"/>
                    </a:lnTo>
                    <a:lnTo>
                      <a:pt x="1040" y="262"/>
                    </a:lnTo>
                    <a:lnTo>
                      <a:pt x="979" y="225"/>
                    </a:lnTo>
                    <a:lnTo>
                      <a:pt x="912" y="192"/>
                    </a:lnTo>
                    <a:lnTo>
                      <a:pt x="843" y="162"/>
                    </a:lnTo>
                    <a:lnTo>
                      <a:pt x="767" y="128"/>
                    </a:lnTo>
                    <a:lnTo>
                      <a:pt x="692" y="104"/>
                    </a:lnTo>
                    <a:lnTo>
                      <a:pt x="613" y="79"/>
                    </a:lnTo>
                    <a:lnTo>
                      <a:pt x="529" y="58"/>
                    </a:lnTo>
                    <a:lnTo>
                      <a:pt x="448" y="43"/>
                    </a:lnTo>
                    <a:lnTo>
                      <a:pt x="360" y="27"/>
                    </a:lnTo>
                    <a:lnTo>
                      <a:pt x="274" y="15"/>
                    </a:lnTo>
                    <a:lnTo>
                      <a:pt x="184" y="5"/>
                    </a:lnTo>
                    <a:lnTo>
                      <a:pt x="94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4" y="45"/>
                    </a:lnTo>
                    <a:lnTo>
                      <a:pt x="184" y="48"/>
                    </a:lnTo>
                    <a:lnTo>
                      <a:pt x="268" y="58"/>
                    </a:lnTo>
                    <a:lnTo>
                      <a:pt x="355" y="70"/>
                    </a:lnTo>
                    <a:lnTo>
                      <a:pt x="442" y="85"/>
                    </a:lnTo>
                    <a:lnTo>
                      <a:pt x="524" y="101"/>
                    </a:lnTo>
                    <a:lnTo>
                      <a:pt x="601" y="122"/>
                    </a:lnTo>
                    <a:lnTo>
                      <a:pt x="680" y="146"/>
                    </a:lnTo>
                    <a:lnTo>
                      <a:pt x="755" y="171"/>
                    </a:lnTo>
                    <a:lnTo>
                      <a:pt x="824" y="198"/>
                    </a:lnTo>
                    <a:lnTo>
                      <a:pt x="895" y="229"/>
                    </a:lnTo>
                    <a:lnTo>
                      <a:pt x="961" y="262"/>
                    </a:lnTo>
                    <a:lnTo>
                      <a:pt x="1022" y="299"/>
                    </a:lnTo>
                    <a:lnTo>
                      <a:pt x="1081" y="336"/>
                    </a:lnTo>
                    <a:lnTo>
                      <a:pt x="1136" y="376"/>
                    </a:lnTo>
                    <a:lnTo>
                      <a:pt x="1188" y="415"/>
                    </a:lnTo>
                    <a:lnTo>
                      <a:pt x="1211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154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1" y="15"/>
                    </a:lnTo>
                    <a:lnTo>
                      <a:pt x="854" y="27"/>
                    </a:lnTo>
                    <a:lnTo>
                      <a:pt x="766" y="42"/>
                    </a:lnTo>
                    <a:lnTo>
                      <a:pt x="680" y="60"/>
                    </a:lnTo>
                    <a:lnTo>
                      <a:pt x="598" y="82"/>
                    </a:lnTo>
                    <a:lnTo>
                      <a:pt x="522" y="103"/>
                    </a:lnTo>
                    <a:lnTo>
                      <a:pt x="444" y="131"/>
                    </a:lnTo>
                    <a:lnTo>
                      <a:pt x="368" y="164"/>
                    </a:lnTo>
                    <a:lnTo>
                      <a:pt x="299" y="195"/>
                    </a:lnTo>
                    <a:lnTo>
                      <a:pt x="233" y="229"/>
                    </a:lnTo>
                    <a:lnTo>
                      <a:pt x="169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7" y="201"/>
                    </a:lnTo>
                    <a:lnTo>
                      <a:pt x="456" y="174"/>
                    </a:lnTo>
                    <a:lnTo>
                      <a:pt x="535" y="146"/>
                    </a:lnTo>
                    <a:lnTo>
                      <a:pt x="610" y="125"/>
                    </a:lnTo>
                    <a:lnTo>
                      <a:pt x="691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7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2556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71" h="211">
                    <a:moveTo>
                      <a:pt x="871" y="174"/>
                    </a:moveTo>
                    <a:lnTo>
                      <a:pt x="821" y="152"/>
                    </a:lnTo>
                    <a:lnTo>
                      <a:pt x="775" y="134"/>
                    </a:lnTo>
                    <a:lnTo>
                      <a:pt x="726" y="116"/>
                    </a:lnTo>
                    <a:lnTo>
                      <a:pt x="676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4" y="45"/>
                    </a:lnTo>
                    <a:lnTo>
                      <a:pt x="409" y="33"/>
                    </a:lnTo>
                    <a:lnTo>
                      <a:pt x="354" y="24"/>
                    </a:lnTo>
                    <a:lnTo>
                      <a:pt x="296" y="18"/>
                    </a:lnTo>
                    <a:lnTo>
                      <a:pt x="239" y="12"/>
                    </a:lnTo>
                    <a:lnTo>
                      <a:pt x="181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3" y="55"/>
                    </a:lnTo>
                    <a:lnTo>
                      <a:pt x="291" y="60"/>
                    </a:lnTo>
                    <a:lnTo>
                      <a:pt x="349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0" y="113"/>
                    </a:lnTo>
                    <a:lnTo>
                      <a:pt x="613" y="128"/>
                    </a:lnTo>
                    <a:lnTo>
                      <a:pt x="665" y="140"/>
                    </a:lnTo>
                    <a:lnTo>
                      <a:pt x="714" y="158"/>
                    </a:lnTo>
                    <a:lnTo>
                      <a:pt x="764" y="177"/>
                    </a:lnTo>
                    <a:lnTo>
                      <a:pt x="810" y="195"/>
                    </a:lnTo>
                    <a:lnTo>
                      <a:pt x="854" y="211"/>
                    </a:lnTo>
                    <a:lnTo>
                      <a:pt x="871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11800" y="561132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0" y="3"/>
                    </a:lnTo>
                    <a:lnTo>
                      <a:pt x="1047" y="7"/>
                    </a:lnTo>
                    <a:lnTo>
                      <a:pt x="954" y="15"/>
                    </a:lnTo>
                    <a:lnTo>
                      <a:pt x="865" y="28"/>
                    </a:lnTo>
                    <a:lnTo>
                      <a:pt x="777" y="43"/>
                    </a:lnTo>
                    <a:lnTo>
                      <a:pt x="690" y="65"/>
                    </a:lnTo>
                    <a:lnTo>
                      <a:pt x="609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2"/>
                    </a:lnTo>
                    <a:lnTo>
                      <a:pt x="305" y="202"/>
                    </a:lnTo>
                    <a:lnTo>
                      <a:pt x="237" y="239"/>
                    </a:lnTo>
                    <a:lnTo>
                      <a:pt x="171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8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3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1" y="209"/>
                    </a:lnTo>
                    <a:lnTo>
                      <a:pt x="464" y="181"/>
                    </a:lnTo>
                    <a:lnTo>
                      <a:pt x="539" y="154"/>
                    </a:lnTo>
                    <a:lnTo>
                      <a:pt x="621" y="129"/>
                    </a:lnTo>
                    <a:lnTo>
                      <a:pt x="701" y="108"/>
                    </a:lnTo>
                    <a:lnTo>
                      <a:pt x="783" y="86"/>
                    </a:lnTo>
                    <a:lnTo>
                      <a:pt x="870" y="71"/>
                    </a:lnTo>
                    <a:lnTo>
                      <a:pt x="960" y="58"/>
                    </a:lnTo>
                    <a:lnTo>
                      <a:pt x="1047" y="50"/>
                    </a:lnTo>
                    <a:lnTo>
                      <a:pt x="1140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44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1"/>
                    </a:moveTo>
                    <a:lnTo>
                      <a:pt x="1093" y="293"/>
                    </a:lnTo>
                    <a:lnTo>
                      <a:pt x="1036" y="260"/>
                    </a:lnTo>
                    <a:lnTo>
                      <a:pt x="978" y="227"/>
                    </a:lnTo>
                    <a:lnTo>
                      <a:pt x="917" y="196"/>
                    </a:lnTo>
                    <a:lnTo>
                      <a:pt x="853" y="166"/>
                    </a:lnTo>
                    <a:lnTo>
                      <a:pt x="783" y="138"/>
                    </a:lnTo>
                    <a:lnTo>
                      <a:pt x="714" y="111"/>
                    </a:lnTo>
                    <a:lnTo>
                      <a:pt x="643" y="89"/>
                    </a:lnTo>
                    <a:lnTo>
                      <a:pt x="569" y="71"/>
                    </a:lnTo>
                    <a:lnTo>
                      <a:pt x="490" y="53"/>
                    </a:lnTo>
                    <a:lnTo>
                      <a:pt x="415" y="37"/>
                    </a:lnTo>
                    <a:lnTo>
                      <a:pt x="333" y="25"/>
                    </a:lnTo>
                    <a:lnTo>
                      <a:pt x="252" y="13"/>
                    </a:lnTo>
                    <a:lnTo>
                      <a:pt x="168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3" y="43"/>
                    </a:lnTo>
                    <a:lnTo>
                      <a:pt x="168" y="50"/>
                    </a:lnTo>
                    <a:lnTo>
                      <a:pt x="247" y="55"/>
                    </a:lnTo>
                    <a:lnTo>
                      <a:pt x="327" y="68"/>
                    </a:lnTo>
                    <a:lnTo>
                      <a:pt x="409" y="80"/>
                    </a:lnTo>
                    <a:lnTo>
                      <a:pt x="484" y="95"/>
                    </a:lnTo>
                    <a:lnTo>
                      <a:pt x="557" y="114"/>
                    </a:lnTo>
                    <a:lnTo>
                      <a:pt x="632" y="132"/>
                    </a:lnTo>
                    <a:lnTo>
                      <a:pt x="702" y="154"/>
                    </a:lnTo>
                    <a:lnTo>
                      <a:pt x="772" y="181"/>
                    </a:lnTo>
                    <a:lnTo>
                      <a:pt x="835" y="202"/>
                    </a:lnTo>
                    <a:lnTo>
                      <a:pt x="899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6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108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7" h="434">
                    <a:moveTo>
                      <a:pt x="1237" y="0"/>
                    </a:moveTo>
                    <a:lnTo>
                      <a:pt x="1142" y="4"/>
                    </a:lnTo>
                    <a:lnTo>
                      <a:pt x="1049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9" y="43"/>
                    </a:lnTo>
                    <a:lnTo>
                      <a:pt x="692" y="62"/>
                    </a:lnTo>
                    <a:lnTo>
                      <a:pt x="610" y="83"/>
                    </a:lnTo>
                    <a:lnTo>
                      <a:pt x="529" y="108"/>
                    </a:lnTo>
                    <a:lnTo>
                      <a:pt x="453" y="135"/>
                    </a:lnTo>
                    <a:lnTo>
                      <a:pt x="375" y="168"/>
                    </a:lnTo>
                    <a:lnTo>
                      <a:pt x="305" y="202"/>
                    </a:lnTo>
                    <a:lnTo>
                      <a:pt x="239" y="236"/>
                    </a:lnTo>
                    <a:lnTo>
                      <a:pt x="172" y="275"/>
                    </a:lnTo>
                    <a:lnTo>
                      <a:pt x="112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30" y="434"/>
                    </a:lnTo>
                    <a:lnTo>
                      <a:pt x="79" y="395"/>
                    </a:lnTo>
                    <a:lnTo>
                      <a:pt x="134" y="352"/>
                    </a:lnTo>
                    <a:lnTo>
                      <a:pt x="195" y="312"/>
                    </a:lnTo>
                    <a:lnTo>
                      <a:pt x="256" y="272"/>
                    </a:lnTo>
                    <a:lnTo>
                      <a:pt x="323" y="239"/>
                    </a:lnTo>
                    <a:lnTo>
                      <a:pt x="393" y="206"/>
                    </a:lnTo>
                    <a:lnTo>
                      <a:pt x="465" y="178"/>
                    </a:lnTo>
                    <a:lnTo>
                      <a:pt x="541" y="150"/>
                    </a:lnTo>
                    <a:lnTo>
                      <a:pt x="622" y="126"/>
                    </a:lnTo>
                    <a:lnTo>
                      <a:pt x="703" y="105"/>
                    </a:lnTo>
                    <a:lnTo>
                      <a:pt x="785" y="86"/>
                    </a:lnTo>
                    <a:lnTo>
                      <a:pt x="871" y="70"/>
                    </a:lnTo>
                    <a:lnTo>
                      <a:pt x="961" y="58"/>
                    </a:lnTo>
                    <a:lnTo>
                      <a:pt x="1049" y="50"/>
                    </a:lnTo>
                    <a:lnTo>
                      <a:pt x="1142" y="47"/>
                    </a:lnTo>
                    <a:lnTo>
                      <a:pt x="1237" y="43"/>
                    </a:lnTo>
                    <a:lnTo>
                      <a:pt x="123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2376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8">
                    <a:moveTo>
                      <a:pt x="1173" y="352"/>
                    </a:moveTo>
                    <a:lnTo>
                      <a:pt x="1121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3" y="208"/>
                    </a:lnTo>
                    <a:lnTo>
                      <a:pt x="877" y="178"/>
                    </a:lnTo>
                    <a:lnTo>
                      <a:pt x="806" y="148"/>
                    </a:lnTo>
                    <a:lnTo>
                      <a:pt x="737" y="120"/>
                    </a:lnTo>
                    <a:lnTo>
                      <a:pt x="665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27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4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4" y="50"/>
                    </a:lnTo>
                    <a:lnTo>
                      <a:pt x="259" y="58"/>
                    </a:lnTo>
                    <a:lnTo>
                      <a:pt x="339" y="68"/>
                    </a:lnTo>
                    <a:lnTo>
                      <a:pt x="421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3"/>
                    </a:lnTo>
                    <a:lnTo>
                      <a:pt x="795" y="189"/>
                    </a:lnTo>
                    <a:lnTo>
                      <a:pt x="859" y="214"/>
                    </a:lnTo>
                    <a:lnTo>
                      <a:pt x="926" y="245"/>
                    </a:lnTo>
                    <a:lnTo>
                      <a:pt x="987" y="279"/>
                    </a:lnTo>
                    <a:lnTo>
                      <a:pt x="1042" y="312"/>
                    </a:lnTo>
                    <a:lnTo>
                      <a:pt x="1097" y="348"/>
                    </a:lnTo>
                    <a:lnTo>
                      <a:pt x="1149" y="388"/>
                    </a:lnTo>
                    <a:lnTo>
                      <a:pt x="1173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1000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3"/>
                    </a:lnTo>
                    <a:lnTo>
                      <a:pt x="1045" y="5"/>
                    </a:lnTo>
                    <a:lnTo>
                      <a:pt x="952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30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2" y="204"/>
                    </a:lnTo>
                    <a:lnTo>
                      <a:pt x="461" y="177"/>
                    </a:lnTo>
                    <a:lnTo>
                      <a:pt x="540" y="149"/>
                    </a:lnTo>
                    <a:lnTo>
                      <a:pt x="618" y="124"/>
                    </a:lnTo>
                    <a:lnTo>
                      <a:pt x="700" y="103"/>
                    </a:lnTo>
                    <a:lnTo>
                      <a:pt x="780" y="84"/>
                    </a:lnTo>
                    <a:lnTo>
                      <a:pt x="868" y="69"/>
                    </a:lnTo>
                    <a:lnTo>
                      <a:pt x="958" y="58"/>
                    </a:lnTo>
                    <a:lnTo>
                      <a:pt x="1045" y="48"/>
                    </a:lnTo>
                    <a:lnTo>
                      <a:pt x="1137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21960" y="56750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191" h="399">
                    <a:moveTo>
                      <a:pt x="1191" y="363"/>
                    </a:moveTo>
                    <a:lnTo>
                      <a:pt x="1139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2" y="182"/>
                    </a:lnTo>
                    <a:lnTo>
                      <a:pt x="821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8" y="76"/>
                    </a:lnTo>
                    <a:lnTo>
                      <a:pt x="517" y="54"/>
                    </a:lnTo>
                    <a:lnTo>
                      <a:pt x="436" y="39"/>
                    </a:lnTo>
                    <a:lnTo>
                      <a:pt x="352" y="23"/>
                    </a:lnTo>
                    <a:lnTo>
                      <a:pt x="268" y="15"/>
                    </a:lnTo>
                    <a:lnTo>
                      <a:pt x="178" y="5"/>
                    </a:lnTo>
                    <a:lnTo>
                      <a:pt x="90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0" y="45"/>
                    </a:lnTo>
                    <a:lnTo>
                      <a:pt x="178" y="48"/>
                    </a:lnTo>
                    <a:lnTo>
                      <a:pt x="261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7" y="119"/>
                    </a:lnTo>
                    <a:lnTo>
                      <a:pt x="662" y="140"/>
                    </a:lnTo>
                    <a:lnTo>
                      <a:pt x="738" y="164"/>
                    </a:lnTo>
                    <a:lnTo>
                      <a:pt x="804" y="192"/>
                    </a:lnTo>
                    <a:lnTo>
                      <a:pt x="874" y="220"/>
                    </a:lnTo>
                    <a:lnTo>
                      <a:pt x="941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1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820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2" h="440">
                    <a:moveTo>
                      <a:pt x="1242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10" y="86"/>
                    </a:lnTo>
                    <a:lnTo>
                      <a:pt x="528" y="110"/>
                    </a:lnTo>
                    <a:lnTo>
                      <a:pt x="453" y="137"/>
                    </a:lnTo>
                    <a:lnTo>
                      <a:pt x="374" y="172"/>
                    </a:lnTo>
                    <a:lnTo>
                      <a:pt x="305" y="205"/>
                    </a:lnTo>
                    <a:lnTo>
                      <a:pt x="237" y="241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29" y="440"/>
                    </a:lnTo>
                    <a:lnTo>
                      <a:pt x="78" y="394"/>
                    </a:lnTo>
                    <a:lnTo>
                      <a:pt x="133" y="354"/>
                    </a:lnTo>
                    <a:lnTo>
                      <a:pt x="195" y="315"/>
                    </a:lnTo>
                    <a:lnTo>
                      <a:pt x="255" y="278"/>
                    </a:lnTo>
                    <a:lnTo>
                      <a:pt x="322" y="241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6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2" y="43"/>
                    </a:lnTo>
                    <a:lnTo>
                      <a:pt x="124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208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8" h="303">
                    <a:moveTo>
                      <a:pt x="1048" y="266"/>
                    </a:moveTo>
                    <a:lnTo>
                      <a:pt x="996" y="236"/>
                    </a:lnTo>
                    <a:lnTo>
                      <a:pt x="944" y="208"/>
                    </a:lnTo>
                    <a:lnTo>
                      <a:pt x="887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5" y="107"/>
                    </a:lnTo>
                    <a:lnTo>
                      <a:pt x="642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41" y="39"/>
                    </a:lnTo>
                    <a:lnTo>
                      <a:pt x="371" y="28"/>
                    </a:lnTo>
                    <a:lnTo>
                      <a:pt x="299" y="19"/>
                    </a:lnTo>
                    <a:lnTo>
                      <a:pt x="227" y="9"/>
                    </a:lnTo>
                    <a:lnTo>
                      <a:pt x="151" y="6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6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3" y="61"/>
                    </a:lnTo>
                    <a:lnTo>
                      <a:pt x="365" y="71"/>
                    </a:lnTo>
                    <a:lnTo>
                      <a:pt x="436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4" y="150"/>
                    </a:lnTo>
                    <a:lnTo>
                      <a:pt x="755" y="175"/>
                    </a:lnTo>
                    <a:lnTo>
                      <a:pt x="815" y="196"/>
                    </a:lnTo>
                    <a:lnTo>
                      <a:pt x="870" y="217"/>
                    </a:lnTo>
                    <a:lnTo>
                      <a:pt x="925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8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071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1" h="440">
                    <a:moveTo>
                      <a:pt x="1241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7" y="15"/>
                    </a:lnTo>
                    <a:lnTo>
                      <a:pt x="867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08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1"/>
                    </a:lnTo>
                    <a:lnTo>
                      <a:pt x="303" y="205"/>
                    </a:lnTo>
                    <a:lnTo>
                      <a:pt x="237" y="242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8" y="440"/>
                    </a:lnTo>
                    <a:lnTo>
                      <a:pt x="78" y="394"/>
                    </a:lnTo>
                    <a:lnTo>
                      <a:pt x="133" y="355"/>
                    </a:lnTo>
                    <a:lnTo>
                      <a:pt x="193" y="315"/>
                    </a:lnTo>
                    <a:lnTo>
                      <a:pt x="255" y="278"/>
                    </a:lnTo>
                    <a:lnTo>
                      <a:pt x="322" y="242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1" y="107"/>
                    </a:lnTo>
                    <a:lnTo>
                      <a:pt x="786" y="89"/>
                    </a:lnTo>
                    <a:lnTo>
                      <a:pt x="873" y="71"/>
                    </a:lnTo>
                    <a:lnTo>
                      <a:pt x="962" y="58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1" y="4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2016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9">
                    <a:moveTo>
                      <a:pt x="1173" y="351"/>
                    </a:moveTo>
                    <a:lnTo>
                      <a:pt x="1121" y="312"/>
                    </a:lnTo>
                    <a:lnTo>
                      <a:pt x="1066" y="275"/>
                    </a:lnTo>
                    <a:lnTo>
                      <a:pt x="1005" y="242"/>
                    </a:lnTo>
                    <a:lnTo>
                      <a:pt x="940" y="208"/>
                    </a:lnTo>
                    <a:lnTo>
                      <a:pt x="877" y="177"/>
                    </a:lnTo>
                    <a:lnTo>
                      <a:pt x="807" y="147"/>
                    </a:lnTo>
                    <a:lnTo>
                      <a:pt x="734" y="119"/>
                    </a:lnTo>
                    <a:lnTo>
                      <a:pt x="662" y="95"/>
                    </a:lnTo>
                    <a:lnTo>
                      <a:pt x="586" y="73"/>
                    </a:lnTo>
                    <a:lnTo>
                      <a:pt x="506" y="55"/>
                    </a:lnTo>
                    <a:lnTo>
                      <a:pt x="427" y="40"/>
                    </a:lnTo>
                    <a:lnTo>
                      <a:pt x="346" y="25"/>
                    </a:lnTo>
                    <a:lnTo>
                      <a:pt x="262" y="15"/>
                    </a:lnTo>
                    <a:lnTo>
                      <a:pt x="174" y="6"/>
                    </a:lnTo>
                    <a:lnTo>
                      <a:pt x="8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8" y="46"/>
                    </a:lnTo>
                    <a:lnTo>
                      <a:pt x="174" y="49"/>
                    </a:lnTo>
                    <a:lnTo>
                      <a:pt x="256" y="58"/>
                    </a:lnTo>
                    <a:lnTo>
                      <a:pt x="340" y="68"/>
                    </a:lnTo>
                    <a:lnTo>
                      <a:pt x="421" y="83"/>
                    </a:lnTo>
                    <a:lnTo>
                      <a:pt x="500" y="98"/>
                    </a:lnTo>
                    <a:lnTo>
                      <a:pt x="575" y="116"/>
                    </a:lnTo>
                    <a:lnTo>
                      <a:pt x="651" y="138"/>
                    </a:lnTo>
                    <a:lnTo>
                      <a:pt x="723" y="162"/>
                    </a:lnTo>
                    <a:lnTo>
                      <a:pt x="795" y="190"/>
                    </a:lnTo>
                    <a:lnTo>
                      <a:pt x="860" y="214"/>
                    </a:lnTo>
                    <a:lnTo>
                      <a:pt x="923" y="245"/>
                    </a:lnTo>
                    <a:lnTo>
                      <a:pt x="987" y="278"/>
                    </a:lnTo>
                    <a:lnTo>
                      <a:pt x="1042" y="312"/>
                    </a:lnTo>
                    <a:lnTo>
                      <a:pt x="1097" y="349"/>
                    </a:lnTo>
                    <a:lnTo>
                      <a:pt x="1149" y="389"/>
                    </a:lnTo>
                    <a:lnTo>
                      <a:pt x="117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  <a:close/>
                  </a:path>
                </a:pathLst>
              </a:custGeom>
              <a:solidFill>
                <a:srgbClr val="b76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</a:path>
                </a:pathLst>
              </a:custGeom>
              <a:noFill/>
              <a:ln w="4680">
                <a:solidFill>
                  <a:srgbClr val="71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67080" y="5334840"/>
                <a:ext cx="25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871760" y="533484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873200" y="53359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73920" y="5339880"/>
                <a:ext cx="540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75000" y="534492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875000" y="5348520"/>
                <a:ext cx="612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875360" y="5350320"/>
                <a:ext cx="504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873200" y="535176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871760" y="53524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68160" y="53524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864560" y="5352120"/>
                <a:ext cx="324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60600" y="5349960"/>
                <a:ext cx="612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59880" y="534780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60600" y="53427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62760" y="5338800"/>
                <a:ext cx="504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8012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984440" y="5288040"/>
                <a:ext cx="720" cy="79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98624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987320" y="5292720"/>
                <a:ext cx="5040" cy="50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987680" y="5298120"/>
                <a:ext cx="6120" cy="18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7988040" y="5301720"/>
                <a:ext cx="720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987680" y="5303520"/>
                <a:ext cx="540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7986240" y="530460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984440" y="53056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980840" y="53056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977240" y="5304960"/>
                <a:ext cx="360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74360" y="5303160"/>
                <a:ext cx="540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972560" y="5301000"/>
                <a:ext cx="720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73640" y="52959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76160" y="5292000"/>
                <a:ext cx="432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91560" y="533016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261" h="127">
                    <a:moveTo>
                      <a:pt x="261" y="108"/>
                    </a:moveTo>
                    <a:lnTo>
                      <a:pt x="7" y="127"/>
                    </a:lnTo>
                    <a:lnTo>
                      <a:pt x="7" y="120"/>
                    </a:lnTo>
                    <a:lnTo>
                      <a:pt x="6" y="115"/>
                    </a:lnTo>
                    <a:lnTo>
                      <a:pt x="5" y="109"/>
                    </a:lnTo>
                    <a:lnTo>
                      <a:pt x="3" y="104"/>
                    </a:lnTo>
                    <a:lnTo>
                      <a:pt x="2" y="100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235" y="0"/>
                    </a:lnTo>
                    <a:lnTo>
                      <a:pt x="240" y="11"/>
                    </a:lnTo>
                    <a:lnTo>
                      <a:pt x="245" y="22"/>
                    </a:lnTo>
                    <a:lnTo>
                      <a:pt x="249" y="35"/>
                    </a:lnTo>
                    <a:lnTo>
                      <a:pt x="253" y="48"/>
                    </a:lnTo>
                    <a:lnTo>
                      <a:pt x="256" y="62"/>
                    </a:lnTo>
                    <a:lnTo>
                      <a:pt x="258" y="77"/>
                    </a:lnTo>
                    <a:lnTo>
                      <a:pt x="260" y="92"/>
                    </a:lnTo>
                    <a:lnTo>
                      <a:pt x="261" y="1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827840" y="5131440"/>
                <a:ext cx="222480" cy="268200"/>
                <a:chOff x="7827840" y="5131440"/>
                <a:chExt cx="222480" cy="268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27">
                      <a:moveTo>
                        <a:pt x="261" y="108"/>
                      </a:moveTo>
                      <a:lnTo>
                        <a:pt x="7" y="127"/>
                      </a:lnTo>
                      <a:lnTo>
                        <a:pt x="7" y="120"/>
                      </a:lnTo>
                      <a:lnTo>
                        <a:pt x="6" y="115"/>
                      </a:lnTo>
                      <a:lnTo>
                        <a:pt x="5" y="109"/>
                      </a:lnTo>
                      <a:lnTo>
                        <a:pt x="3" y="104"/>
                      </a:lnTo>
                      <a:lnTo>
                        <a:pt x="2" y="100"/>
                      </a:lnTo>
                      <a:lnTo>
                        <a:pt x="1" y="96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235" y="0"/>
                      </a:lnTo>
                      <a:lnTo>
                        <a:pt x="240" y="11"/>
                      </a:lnTo>
                      <a:lnTo>
                        <a:pt x="245" y="22"/>
                      </a:lnTo>
                      <a:lnTo>
                        <a:pt x="249" y="35"/>
                      </a:lnTo>
                      <a:lnTo>
                        <a:pt x="253" y="48"/>
                      </a:lnTo>
                      <a:lnTo>
                        <a:pt x="256" y="62"/>
                      </a:lnTo>
                      <a:lnTo>
                        <a:pt x="258" y="77"/>
                      </a:lnTo>
                      <a:lnTo>
                        <a:pt x="260" y="92"/>
                      </a:lnTo>
                      <a:lnTo>
                        <a:pt x="261" y="1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4d4a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  <a:close/>
                    </a:path>
                  </a:pathLst>
                </a:custGeom>
                <a:solidFill>
                  <a:srgbClr val="514e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  <a:close/>
                    </a:path>
                  </a:pathLst>
                </a:custGeom>
                <a:solidFill>
                  <a:srgbClr val="5452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  <a:close/>
                    </a:path>
                  </a:pathLst>
                </a:custGeom>
                <a:solidFill>
                  <a:srgbClr val="6967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  <a:close/>
                    </a:path>
                  </a:pathLst>
                </a:custGeom>
                <a:solidFill>
                  <a:srgbClr val="6c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  <a:close/>
                    </a:path>
                  </a:pathLst>
                </a:custGeom>
                <a:solidFill>
                  <a:srgbClr val="6f6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  <a:close/>
                    </a:path>
                  </a:pathLst>
                </a:custGeom>
                <a:solidFill>
                  <a:srgbClr val="747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  <a:close/>
                    </a:path>
                  </a:pathLst>
                </a:custGeom>
                <a:solidFill>
                  <a:srgbClr val="77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  <a:close/>
                    </a:path>
                  </a:pathLst>
                </a:custGeom>
                <a:solidFill>
                  <a:srgbClr val="8b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  <a:close/>
                    </a:path>
                  </a:pathLst>
                </a:custGeom>
                <a:solidFill>
                  <a:srgbClr val="929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  <a:close/>
                    </a:path>
                  </a:pathLst>
                </a:custGeom>
                <a:solidFill>
                  <a:srgbClr val="96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  <a:close/>
                    </a:path>
                  </a:pathLst>
                </a:custGeom>
                <a:solidFill>
                  <a:srgbClr val="9a9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  <a:close/>
                    </a:path>
                  </a:pathLst>
                </a:custGeom>
                <a:solidFill>
                  <a:srgbClr val="9e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  <a:close/>
                    </a:path>
                  </a:pathLst>
                </a:custGeom>
                <a:solidFill>
                  <a:srgbClr val="a2a1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a5a5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  <a:close/>
                    </a:path>
                  </a:pathLst>
                </a:custGeom>
                <a:solidFill>
                  <a:srgbClr val="a9a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38800" y="520416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0" h="84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2" y="5"/>
                      </a:lnTo>
                      <a:lnTo>
                        <a:pt x="85" y="10"/>
                      </a:lnTo>
                      <a:lnTo>
                        <a:pt x="88" y="15"/>
                      </a:lnTo>
                      <a:lnTo>
                        <a:pt x="91" y="20"/>
                      </a:lnTo>
                      <a:lnTo>
                        <a:pt x="94" y="23"/>
                      </a:lnTo>
                      <a:lnTo>
                        <a:pt x="98" y="27"/>
                      </a:lnTo>
                      <a:lnTo>
                        <a:pt x="100" y="29"/>
                      </a:lnTo>
                      <a:lnTo>
                        <a:pt x="37" y="84"/>
                      </a:lnTo>
                      <a:lnTo>
                        <a:pt x="33" y="82"/>
                      </a:lnTo>
                      <a:lnTo>
                        <a:pt x="28" y="79"/>
                      </a:lnTo>
                      <a:lnTo>
                        <a:pt x="23" y="75"/>
                      </a:lnTo>
                      <a:lnTo>
                        <a:pt x="18" y="68"/>
                      </a:lnTo>
                      <a:lnTo>
                        <a:pt x="13" y="62"/>
                      </a:lnTo>
                      <a:lnTo>
                        <a:pt x="8" y="53"/>
                      </a:lnTo>
                      <a:lnTo>
                        <a:pt x="3" y="46"/>
                      </a:lnTo>
                      <a:lnTo>
                        <a:pt x="0" y="3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00" h="84">
                    <a:moveTo>
                      <a:pt x="80" y="0"/>
                    </a:moveTo>
                    <a:lnTo>
                      <a:pt x="80" y="2"/>
                    </a:lnTo>
                    <a:lnTo>
                      <a:pt x="82" y="5"/>
                    </a:lnTo>
                    <a:lnTo>
                      <a:pt x="85" y="10"/>
                    </a:lnTo>
                    <a:lnTo>
                      <a:pt x="88" y="15"/>
                    </a:lnTo>
                    <a:lnTo>
                      <a:pt x="91" y="20"/>
                    </a:lnTo>
                    <a:lnTo>
                      <a:pt x="94" y="23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37" y="84"/>
                    </a:lnTo>
                    <a:lnTo>
                      <a:pt x="33" y="82"/>
                    </a:lnTo>
                    <a:lnTo>
                      <a:pt x="28" y="79"/>
                    </a:lnTo>
                    <a:lnTo>
                      <a:pt x="23" y="75"/>
                    </a:lnTo>
                    <a:lnTo>
                      <a:pt x="18" y="68"/>
                    </a:lnTo>
                    <a:lnTo>
                      <a:pt x="13" y="62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6"/>
                    </a:lnTo>
                    <a:lnTo>
                      <a:pt x="80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33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67760" y="5133240"/>
                <a:ext cx="445680" cy="457920"/>
              </a:xfrm>
              <a:custGeom>
                <a:avLst/>
                <a:gdLst/>
                <a:ahLst/>
                <a:rect l="l" t="t" r="r" b="b"/>
                <a:pathLst>
                  <a:path w="4895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50" y="343"/>
                    </a:lnTo>
                    <a:lnTo>
                      <a:pt x="2275" y="344"/>
                    </a:lnTo>
                    <a:lnTo>
                      <a:pt x="2303" y="348"/>
                    </a:lnTo>
                    <a:lnTo>
                      <a:pt x="2332" y="349"/>
                    </a:lnTo>
                    <a:lnTo>
                      <a:pt x="2363" y="354"/>
                    </a:lnTo>
                    <a:lnTo>
                      <a:pt x="2394" y="357"/>
                    </a:lnTo>
                    <a:lnTo>
                      <a:pt x="2426" y="359"/>
                    </a:lnTo>
                    <a:lnTo>
                      <a:pt x="2459" y="361"/>
                    </a:lnTo>
                    <a:lnTo>
                      <a:pt x="2494" y="362"/>
                    </a:lnTo>
                    <a:lnTo>
                      <a:pt x="2530" y="365"/>
                    </a:lnTo>
                    <a:lnTo>
                      <a:pt x="2566" y="362"/>
                    </a:lnTo>
                    <a:lnTo>
                      <a:pt x="2604" y="362"/>
                    </a:lnTo>
                    <a:lnTo>
                      <a:pt x="2642" y="359"/>
                    </a:lnTo>
                    <a:lnTo>
                      <a:pt x="2681" y="355"/>
                    </a:lnTo>
                    <a:lnTo>
                      <a:pt x="2721" y="349"/>
                    </a:lnTo>
                    <a:lnTo>
                      <a:pt x="2762" y="341"/>
                    </a:lnTo>
                    <a:lnTo>
                      <a:pt x="2804" y="332"/>
                    </a:lnTo>
                    <a:lnTo>
                      <a:pt x="2847" y="319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4"/>
                    </a:lnTo>
                    <a:lnTo>
                      <a:pt x="3205" y="129"/>
                    </a:lnTo>
                    <a:lnTo>
                      <a:pt x="3250" y="89"/>
                    </a:lnTo>
                    <a:lnTo>
                      <a:pt x="3298" y="48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6"/>
                    </a:lnTo>
                    <a:lnTo>
                      <a:pt x="3320" y="98"/>
                    </a:lnTo>
                    <a:lnTo>
                      <a:pt x="3306" y="143"/>
                    </a:lnTo>
                    <a:lnTo>
                      <a:pt x="3293" y="190"/>
                    </a:lnTo>
                    <a:lnTo>
                      <a:pt x="3280" y="232"/>
                    </a:lnTo>
                    <a:lnTo>
                      <a:pt x="3270" y="269"/>
                    </a:lnTo>
                    <a:lnTo>
                      <a:pt x="3261" y="294"/>
                    </a:lnTo>
                    <a:lnTo>
                      <a:pt x="3266" y="402"/>
                    </a:lnTo>
                    <a:lnTo>
                      <a:pt x="3276" y="510"/>
                    </a:lnTo>
                    <a:lnTo>
                      <a:pt x="3290" y="616"/>
                    </a:lnTo>
                    <a:lnTo>
                      <a:pt x="3303" y="723"/>
                    </a:lnTo>
                    <a:lnTo>
                      <a:pt x="3316" y="772"/>
                    </a:lnTo>
                    <a:lnTo>
                      <a:pt x="3330" y="821"/>
                    </a:lnTo>
                    <a:lnTo>
                      <a:pt x="3345" y="869"/>
                    </a:lnTo>
                    <a:lnTo>
                      <a:pt x="3361" y="917"/>
                    </a:lnTo>
                    <a:lnTo>
                      <a:pt x="3380" y="962"/>
                    </a:lnTo>
                    <a:lnTo>
                      <a:pt x="3400" y="1009"/>
                    </a:lnTo>
                    <a:lnTo>
                      <a:pt x="3421" y="1054"/>
                    </a:lnTo>
                    <a:lnTo>
                      <a:pt x="3443" y="1098"/>
                    </a:lnTo>
                    <a:lnTo>
                      <a:pt x="3468" y="1141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8"/>
                    </a:lnTo>
                    <a:lnTo>
                      <a:pt x="3569" y="1310"/>
                    </a:lnTo>
                    <a:lnTo>
                      <a:pt x="3596" y="1350"/>
                    </a:lnTo>
                    <a:lnTo>
                      <a:pt x="3624" y="1389"/>
                    </a:lnTo>
                    <a:lnTo>
                      <a:pt x="3651" y="1429"/>
                    </a:lnTo>
                    <a:lnTo>
                      <a:pt x="3689" y="1475"/>
                    </a:lnTo>
                    <a:lnTo>
                      <a:pt x="3727" y="1521"/>
                    </a:lnTo>
                    <a:lnTo>
                      <a:pt x="3767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1"/>
                    </a:lnTo>
                    <a:lnTo>
                      <a:pt x="3930" y="1747"/>
                    </a:lnTo>
                    <a:lnTo>
                      <a:pt x="3973" y="1792"/>
                    </a:lnTo>
                    <a:lnTo>
                      <a:pt x="4014" y="1835"/>
                    </a:lnTo>
                    <a:lnTo>
                      <a:pt x="4057" y="1880"/>
                    </a:lnTo>
                    <a:lnTo>
                      <a:pt x="4102" y="1925"/>
                    </a:lnTo>
                    <a:lnTo>
                      <a:pt x="4145" y="1967"/>
                    </a:lnTo>
                    <a:lnTo>
                      <a:pt x="4188" y="2013"/>
                    </a:lnTo>
                    <a:lnTo>
                      <a:pt x="4233" y="2055"/>
                    </a:lnTo>
                    <a:lnTo>
                      <a:pt x="4276" y="2099"/>
                    </a:lnTo>
                    <a:lnTo>
                      <a:pt x="4320" y="2142"/>
                    </a:lnTo>
                    <a:lnTo>
                      <a:pt x="4350" y="2178"/>
                    </a:lnTo>
                    <a:lnTo>
                      <a:pt x="4384" y="2225"/>
                    </a:lnTo>
                    <a:lnTo>
                      <a:pt x="4423" y="2281"/>
                    </a:lnTo>
                    <a:lnTo>
                      <a:pt x="4466" y="2345"/>
                    </a:lnTo>
                    <a:lnTo>
                      <a:pt x="4513" y="2415"/>
                    </a:lnTo>
                    <a:lnTo>
                      <a:pt x="4563" y="2490"/>
                    </a:lnTo>
                    <a:lnTo>
                      <a:pt x="4613" y="2566"/>
                    </a:lnTo>
                    <a:lnTo>
                      <a:pt x="4661" y="2642"/>
                    </a:lnTo>
                    <a:lnTo>
                      <a:pt x="4709" y="2716"/>
                    </a:lnTo>
                    <a:lnTo>
                      <a:pt x="4754" y="2787"/>
                    </a:lnTo>
                    <a:lnTo>
                      <a:pt x="4794" y="2852"/>
                    </a:lnTo>
                    <a:lnTo>
                      <a:pt x="4829" y="2908"/>
                    </a:lnTo>
                    <a:lnTo>
                      <a:pt x="4859" y="2957"/>
                    </a:lnTo>
                    <a:lnTo>
                      <a:pt x="4879" y="2995"/>
                    </a:lnTo>
                    <a:lnTo>
                      <a:pt x="4892" y="3018"/>
                    </a:lnTo>
                    <a:lnTo>
                      <a:pt x="4895" y="3028"/>
                    </a:lnTo>
                    <a:lnTo>
                      <a:pt x="4879" y="3029"/>
                    </a:lnTo>
                    <a:lnTo>
                      <a:pt x="4866" y="3035"/>
                    </a:lnTo>
                    <a:lnTo>
                      <a:pt x="4854" y="3042"/>
                    </a:lnTo>
                    <a:lnTo>
                      <a:pt x="4842" y="3052"/>
                    </a:lnTo>
                    <a:lnTo>
                      <a:pt x="4829" y="3062"/>
                    </a:lnTo>
                    <a:lnTo>
                      <a:pt x="4817" y="3073"/>
                    </a:lnTo>
                    <a:lnTo>
                      <a:pt x="4806" y="3082"/>
                    </a:lnTo>
                    <a:lnTo>
                      <a:pt x="4794" y="3087"/>
                    </a:lnTo>
                    <a:lnTo>
                      <a:pt x="4749" y="3113"/>
                    </a:lnTo>
                    <a:lnTo>
                      <a:pt x="4707" y="3145"/>
                    </a:lnTo>
                    <a:lnTo>
                      <a:pt x="4671" y="3182"/>
                    </a:lnTo>
                    <a:lnTo>
                      <a:pt x="4641" y="3223"/>
                    </a:lnTo>
                    <a:lnTo>
                      <a:pt x="4609" y="3266"/>
                    </a:lnTo>
                    <a:lnTo>
                      <a:pt x="4581" y="3313"/>
                    </a:lnTo>
                    <a:lnTo>
                      <a:pt x="4551" y="3359"/>
                    </a:lnTo>
                    <a:lnTo>
                      <a:pt x="4521" y="3406"/>
                    </a:lnTo>
                    <a:lnTo>
                      <a:pt x="4494" y="3439"/>
                    </a:lnTo>
                    <a:lnTo>
                      <a:pt x="4466" y="3472"/>
                    </a:lnTo>
                    <a:lnTo>
                      <a:pt x="4438" y="3503"/>
                    </a:lnTo>
                    <a:lnTo>
                      <a:pt x="4406" y="3530"/>
                    </a:lnTo>
                    <a:lnTo>
                      <a:pt x="4372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6" y="3647"/>
                    </a:lnTo>
                    <a:lnTo>
                      <a:pt x="4186" y="3665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9" y="3747"/>
                    </a:lnTo>
                    <a:lnTo>
                      <a:pt x="3902" y="3760"/>
                    </a:lnTo>
                    <a:lnTo>
                      <a:pt x="3867" y="3770"/>
                    </a:lnTo>
                    <a:lnTo>
                      <a:pt x="3830" y="3781"/>
                    </a:lnTo>
                    <a:lnTo>
                      <a:pt x="3794" y="3791"/>
                    </a:lnTo>
                    <a:lnTo>
                      <a:pt x="3758" y="3799"/>
                    </a:lnTo>
                    <a:lnTo>
                      <a:pt x="3720" y="3809"/>
                    </a:lnTo>
                    <a:lnTo>
                      <a:pt x="3682" y="3815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39"/>
                    </a:lnTo>
                    <a:lnTo>
                      <a:pt x="3533" y="3847"/>
                    </a:lnTo>
                    <a:lnTo>
                      <a:pt x="3493" y="3854"/>
                    </a:lnTo>
                    <a:lnTo>
                      <a:pt x="3455" y="3861"/>
                    </a:lnTo>
                    <a:lnTo>
                      <a:pt x="3419" y="3868"/>
                    </a:lnTo>
                    <a:lnTo>
                      <a:pt x="3381" y="3876"/>
                    </a:lnTo>
                    <a:lnTo>
                      <a:pt x="3343" y="3884"/>
                    </a:lnTo>
                    <a:lnTo>
                      <a:pt x="3306" y="3892"/>
                    </a:lnTo>
                    <a:lnTo>
                      <a:pt x="3268" y="3901"/>
                    </a:lnTo>
                    <a:lnTo>
                      <a:pt x="3232" y="3910"/>
                    </a:lnTo>
                    <a:lnTo>
                      <a:pt x="3195" y="3919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2"/>
                    </a:lnTo>
                    <a:lnTo>
                      <a:pt x="3051" y="3965"/>
                    </a:lnTo>
                    <a:lnTo>
                      <a:pt x="3017" y="3979"/>
                    </a:lnTo>
                    <a:lnTo>
                      <a:pt x="2982" y="3994"/>
                    </a:lnTo>
                    <a:lnTo>
                      <a:pt x="2950" y="4008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4" y="4063"/>
                    </a:lnTo>
                    <a:lnTo>
                      <a:pt x="2822" y="4084"/>
                    </a:lnTo>
                    <a:lnTo>
                      <a:pt x="2791" y="4105"/>
                    </a:lnTo>
                    <a:lnTo>
                      <a:pt x="2755" y="4131"/>
                    </a:lnTo>
                    <a:lnTo>
                      <a:pt x="2721" y="4158"/>
                    </a:lnTo>
                    <a:lnTo>
                      <a:pt x="2686" y="4187"/>
                    </a:lnTo>
                    <a:lnTo>
                      <a:pt x="2652" y="4214"/>
                    </a:lnTo>
                    <a:lnTo>
                      <a:pt x="2617" y="4243"/>
                    </a:lnTo>
                    <a:lnTo>
                      <a:pt x="2584" y="4274"/>
                    </a:lnTo>
                    <a:lnTo>
                      <a:pt x="2551" y="4303"/>
                    </a:lnTo>
                    <a:lnTo>
                      <a:pt x="2519" y="4334"/>
                    </a:lnTo>
                    <a:lnTo>
                      <a:pt x="2486" y="4367"/>
                    </a:lnTo>
                    <a:lnTo>
                      <a:pt x="2456" y="4398"/>
                    </a:lnTo>
                    <a:lnTo>
                      <a:pt x="2425" y="4430"/>
                    </a:lnTo>
                    <a:lnTo>
                      <a:pt x="2394" y="4462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5" y="4562"/>
                    </a:lnTo>
                    <a:lnTo>
                      <a:pt x="2277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90" y="3740"/>
                    </a:lnTo>
                    <a:lnTo>
                      <a:pt x="2143" y="3612"/>
                    </a:lnTo>
                    <a:lnTo>
                      <a:pt x="2110" y="3553"/>
                    </a:lnTo>
                    <a:lnTo>
                      <a:pt x="2072" y="3491"/>
                    </a:lnTo>
                    <a:lnTo>
                      <a:pt x="2030" y="3428"/>
                    </a:lnTo>
                    <a:lnTo>
                      <a:pt x="1983" y="3363"/>
                    </a:lnTo>
                    <a:lnTo>
                      <a:pt x="1933" y="3298"/>
                    </a:lnTo>
                    <a:lnTo>
                      <a:pt x="1882" y="3232"/>
                    </a:lnTo>
                    <a:lnTo>
                      <a:pt x="1828" y="3168"/>
                    </a:lnTo>
                    <a:lnTo>
                      <a:pt x="1773" y="3102"/>
                    </a:lnTo>
                    <a:lnTo>
                      <a:pt x="1718" y="3036"/>
                    </a:lnTo>
                    <a:lnTo>
                      <a:pt x="1663" y="2972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3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0"/>
                    </a:lnTo>
                    <a:lnTo>
                      <a:pt x="1202" y="2389"/>
                    </a:lnTo>
                    <a:lnTo>
                      <a:pt x="1158" y="2336"/>
                    </a:lnTo>
                    <a:lnTo>
                      <a:pt x="1115" y="2284"/>
                    </a:lnTo>
                    <a:lnTo>
                      <a:pt x="1068" y="2234"/>
                    </a:lnTo>
                    <a:lnTo>
                      <a:pt x="1022" y="2186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4"/>
                    </a:lnTo>
                    <a:lnTo>
                      <a:pt x="825" y="1996"/>
                    </a:lnTo>
                    <a:lnTo>
                      <a:pt x="774" y="1951"/>
                    </a:lnTo>
                    <a:lnTo>
                      <a:pt x="720" y="1904"/>
                    </a:lnTo>
                    <a:lnTo>
                      <a:pt x="667" y="1859"/>
                    </a:lnTo>
                    <a:lnTo>
                      <a:pt x="611" y="1812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3"/>
                    </a:lnTo>
                    <a:lnTo>
                      <a:pt x="488" y="1734"/>
                    </a:lnTo>
                    <a:lnTo>
                      <a:pt x="457" y="1718"/>
                    </a:lnTo>
                    <a:lnTo>
                      <a:pt x="426" y="1701"/>
                    </a:lnTo>
                    <a:lnTo>
                      <a:pt x="395" y="1685"/>
                    </a:lnTo>
                    <a:lnTo>
                      <a:pt x="364" y="1669"/>
                    </a:lnTo>
                    <a:lnTo>
                      <a:pt x="333" y="1655"/>
                    </a:lnTo>
                    <a:lnTo>
                      <a:pt x="301" y="1640"/>
                    </a:lnTo>
                    <a:lnTo>
                      <a:pt x="270" y="1626"/>
                    </a:lnTo>
                    <a:lnTo>
                      <a:pt x="237" y="1613"/>
                    </a:lnTo>
                    <a:lnTo>
                      <a:pt x="206" y="1598"/>
                    </a:lnTo>
                    <a:lnTo>
                      <a:pt x="173" y="1585"/>
                    </a:lnTo>
                    <a:lnTo>
                      <a:pt x="140" y="1571"/>
                    </a:lnTo>
                    <a:lnTo>
                      <a:pt x="108" y="1558"/>
                    </a:lnTo>
                    <a:lnTo>
                      <a:pt x="93" y="1557"/>
                    </a:lnTo>
                    <a:lnTo>
                      <a:pt x="75" y="1553"/>
                    </a:lnTo>
                    <a:lnTo>
                      <a:pt x="57" y="1547"/>
                    </a:lnTo>
                    <a:lnTo>
                      <a:pt x="37" y="1540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1"/>
                    </a:lnTo>
                    <a:lnTo>
                      <a:pt x="256" y="1463"/>
                    </a:lnTo>
                    <a:lnTo>
                      <a:pt x="303" y="1444"/>
                    </a:lnTo>
                    <a:lnTo>
                      <a:pt x="348" y="1423"/>
                    </a:lnTo>
                    <a:lnTo>
                      <a:pt x="391" y="1399"/>
                    </a:lnTo>
                    <a:lnTo>
                      <a:pt x="435" y="1375"/>
                    </a:lnTo>
                    <a:lnTo>
                      <a:pt x="478" y="1349"/>
                    </a:lnTo>
                    <a:lnTo>
                      <a:pt x="519" y="1320"/>
                    </a:lnTo>
                    <a:lnTo>
                      <a:pt x="561" y="1291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7"/>
                    </a:lnTo>
                    <a:lnTo>
                      <a:pt x="755" y="1123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5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8"/>
                    </a:lnTo>
                    <a:lnTo>
                      <a:pt x="1212" y="719"/>
                    </a:lnTo>
                    <a:lnTo>
                      <a:pt x="1253" y="690"/>
                    </a:lnTo>
                    <a:lnTo>
                      <a:pt x="1295" y="665"/>
                    </a:lnTo>
                    <a:lnTo>
                      <a:pt x="1338" y="640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8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4" y="484"/>
                    </a:lnTo>
                    <a:lnTo>
                      <a:pt x="1684" y="468"/>
                    </a:lnTo>
                    <a:lnTo>
                      <a:pt x="1724" y="452"/>
                    </a:lnTo>
                    <a:lnTo>
                      <a:pt x="1762" y="436"/>
                    </a:lnTo>
                    <a:lnTo>
                      <a:pt x="1804" y="423"/>
                    </a:lnTo>
                    <a:lnTo>
                      <a:pt x="1845" y="407"/>
                    </a:lnTo>
                    <a:lnTo>
                      <a:pt x="1887" y="397"/>
                    </a:lnTo>
                    <a:lnTo>
                      <a:pt x="1928" y="384"/>
                    </a:lnTo>
                    <a:lnTo>
                      <a:pt x="1970" y="375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c5b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5000" y="5119200"/>
                <a:ext cx="448200" cy="459000"/>
              </a:xfrm>
              <a:custGeom>
                <a:avLst/>
                <a:gdLst/>
                <a:ahLst/>
                <a:rect l="l" t="t" r="r" b="b"/>
                <a:pathLst>
                  <a:path w="4930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49" y="343"/>
                    </a:lnTo>
                    <a:lnTo>
                      <a:pt x="2275" y="345"/>
                    </a:lnTo>
                    <a:lnTo>
                      <a:pt x="2303" y="348"/>
                    </a:lnTo>
                    <a:lnTo>
                      <a:pt x="2331" y="351"/>
                    </a:lnTo>
                    <a:lnTo>
                      <a:pt x="2363" y="353"/>
                    </a:lnTo>
                    <a:lnTo>
                      <a:pt x="2394" y="357"/>
                    </a:lnTo>
                    <a:lnTo>
                      <a:pt x="2426" y="361"/>
                    </a:lnTo>
                    <a:lnTo>
                      <a:pt x="2459" y="362"/>
                    </a:lnTo>
                    <a:lnTo>
                      <a:pt x="2494" y="364"/>
                    </a:lnTo>
                    <a:lnTo>
                      <a:pt x="2529" y="364"/>
                    </a:lnTo>
                    <a:lnTo>
                      <a:pt x="2566" y="364"/>
                    </a:lnTo>
                    <a:lnTo>
                      <a:pt x="2604" y="362"/>
                    </a:lnTo>
                    <a:lnTo>
                      <a:pt x="2641" y="359"/>
                    </a:lnTo>
                    <a:lnTo>
                      <a:pt x="2681" y="356"/>
                    </a:lnTo>
                    <a:lnTo>
                      <a:pt x="2721" y="350"/>
                    </a:lnTo>
                    <a:lnTo>
                      <a:pt x="2762" y="343"/>
                    </a:lnTo>
                    <a:lnTo>
                      <a:pt x="2803" y="332"/>
                    </a:lnTo>
                    <a:lnTo>
                      <a:pt x="2846" y="321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3"/>
                    </a:lnTo>
                    <a:lnTo>
                      <a:pt x="3203" y="129"/>
                    </a:lnTo>
                    <a:lnTo>
                      <a:pt x="3250" y="89"/>
                    </a:lnTo>
                    <a:lnTo>
                      <a:pt x="3298" y="47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8"/>
                    </a:lnTo>
                    <a:lnTo>
                      <a:pt x="3319" y="100"/>
                    </a:lnTo>
                    <a:lnTo>
                      <a:pt x="3305" y="145"/>
                    </a:lnTo>
                    <a:lnTo>
                      <a:pt x="3291" y="190"/>
                    </a:lnTo>
                    <a:lnTo>
                      <a:pt x="3280" y="232"/>
                    </a:lnTo>
                    <a:lnTo>
                      <a:pt x="3268" y="269"/>
                    </a:lnTo>
                    <a:lnTo>
                      <a:pt x="3261" y="293"/>
                    </a:lnTo>
                    <a:lnTo>
                      <a:pt x="3266" y="403"/>
                    </a:lnTo>
                    <a:lnTo>
                      <a:pt x="3276" y="509"/>
                    </a:lnTo>
                    <a:lnTo>
                      <a:pt x="3290" y="617"/>
                    </a:lnTo>
                    <a:lnTo>
                      <a:pt x="3303" y="723"/>
                    </a:lnTo>
                    <a:lnTo>
                      <a:pt x="3316" y="774"/>
                    </a:lnTo>
                    <a:lnTo>
                      <a:pt x="3329" y="823"/>
                    </a:lnTo>
                    <a:lnTo>
                      <a:pt x="3345" y="870"/>
                    </a:lnTo>
                    <a:lnTo>
                      <a:pt x="3361" y="916"/>
                    </a:lnTo>
                    <a:lnTo>
                      <a:pt x="3379" y="964"/>
                    </a:lnTo>
                    <a:lnTo>
                      <a:pt x="3400" y="1009"/>
                    </a:lnTo>
                    <a:lnTo>
                      <a:pt x="3421" y="1055"/>
                    </a:lnTo>
                    <a:lnTo>
                      <a:pt x="3443" y="1098"/>
                    </a:lnTo>
                    <a:lnTo>
                      <a:pt x="3467" y="1142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9"/>
                    </a:lnTo>
                    <a:lnTo>
                      <a:pt x="3569" y="1310"/>
                    </a:lnTo>
                    <a:lnTo>
                      <a:pt x="3596" y="1349"/>
                    </a:lnTo>
                    <a:lnTo>
                      <a:pt x="3624" y="1390"/>
                    </a:lnTo>
                    <a:lnTo>
                      <a:pt x="3651" y="1430"/>
                    </a:lnTo>
                    <a:lnTo>
                      <a:pt x="3689" y="1475"/>
                    </a:lnTo>
                    <a:lnTo>
                      <a:pt x="3727" y="1522"/>
                    </a:lnTo>
                    <a:lnTo>
                      <a:pt x="3766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3"/>
                    </a:lnTo>
                    <a:lnTo>
                      <a:pt x="3930" y="1748"/>
                    </a:lnTo>
                    <a:lnTo>
                      <a:pt x="3973" y="1792"/>
                    </a:lnTo>
                    <a:lnTo>
                      <a:pt x="4014" y="1837"/>
                    </a:lnTo>
                    <a:lnTo>
                      <a:pt x="4057" y="1881"/>
                    </a:lnTo>
                    <a:lnTo>
                      <a:pt x="4102" y="1926"/>
                    </a:lnTo>
                    <a:lnTo>
                      <a:pt x="4145" y="1969"/>
                    </a:lnTo>
                    <a:lnTo>
                      <a:pt x="4188" y="2013"/>
                    </a:lnTo>
                    <a:lnTo>
                      <a:pt x="4233" y="2056"/>
                    </a:lnTo>
                    <a:lnTo>
                      <a:pt x="4275" y="2098"/>
                    </a:lnTo>
                    <a:lnTo>
                      <a:pt x="4320" y="2141"/>
                    </a:lnTo>
                    <a:lnTo>
                      <a:pt x="4348" y="2172"/>
                    </a:lnTo>
                    <a:lnTo>
                      <a:pt x="4377" y="2205"/>
                    </a:lnTo>
                    <a:lnTo>
                      <a:pt x="4410" y="2243"/>
                    </a:lnTo>
                    <a:lnTo>
                      <a:pt x="4444" y="2283"/>
                    </a:lnTo>
                    <a:lnTo>
                      <a:pt x="4482" y="2326"/>
                    </a:lnTo>
                    <a:lnTo>
                      <a:pt x="4519" y="2373"/>
                    </a:lnTo>
                    <a:lnTo>
                      <a:pt x="4559" y="2424"/>
                    </a:lnTo>
                    <a:lnTo>
                      <a:pt x="4601" y="2479"/>
                    </a:lnTo>
                    <a:lnTo>
                      <a:pt x="4644" y="2539"/>
                    </a:lnTo>
                    <a:lnTo>
                      <a:pt x="4687" y="2602"/>
                    </a:lnTo>
                    <a:lnTo>
                      <a:pt x="4728" y="2671"/>
                    </a:lnTo>
                    <a:lnTo>
                      <a:pt x="4771" y="2743"/>
                    </a:lnTo>
                    <a:lnTo>
                      <a:pt x="4810" y="2822"/>
                    </a:lnTo>
                    <a:lnTo>
                      <a:pt x="4852" y="2906"/>
                    </a:lnTo>
                    <a:lnTo>
                      <a:pt x="4893" y="2995"/>
                    </a:lnTo>
                    <a:lnTo>
                      <a:pt x="4930" y="3089"/>
                    </a:lnTo>
                    <a:lnTo>
                      <a:pt x="4914" y="3089"/>
                    </a:lnTo>
                    <a:lnTo>
                      <a:pt x="4897" y="3088"/>
                    </a:lnTo>
                    <a:lnTo>
                      <a:pt x="4877" y="3086"/>
                    </a:lnTo>
                    <a:lnTo>
                      <a:pt x="4859" y="3083"/>
                    </a:lnTo>
                    <a:lnTo>
                      <a:pt x="4842" y="3082"/>
                    </a:lnTo>
                    <a:lnTo>
                      <a:pt x="4824" y="3083"/>
                    </a:lnTo>
                    <a:lnTo>
                      <a:pt x="4810" y="3086"/>
                    </a:lnTo>
                    <a:lnTo>
                      <a:pt x="4797" y="3089"/>
                    </a:lnTo>
                    <a:lnTo>
                      <a:pt x="4752" y="3115"/>
                    </a:lnTo>
                    <a:lnTo>
                      <a:pt x="4711" y="3146"/>
                    </a:lnTo>
                    <a:lnTo>
                      <a:pt x="4674" y="3183"/>
                    </a:lnTo>
                    <a:lnTo>
                      <a:pt x="4644" y="3223"/>
                    </a:lnTo>
                    <a:lnTo>
                      <a:pt x="4613" y="3267"/>
                    </a:lnTo>
                    <a:lnTo>
                      <a:pt x="4584" y="3312"/>
                    </a:lnTo>
                    <a:lnTo>
                      <a:pt x="4554" y="3360"/>
                    </a:lnTo>
                    <a:lnTo>
                      <a:pt x="4525" y="3406"/>
                    </a:lnTo>
                    <a:lnTo>
                      <a:pt x="4498" y="3439"/>
                    </a:lnTo>
                    <a:lnTo>
                      <a:pt x="4468" y="3471"/>
                    </a:lnTo>
                    <a:lnTo>
                      <a:pt x="4439" y="3502"/>
                    </a:lnTo>
                    <a:lnTo>
                      <a:pt x="4406" y="3529"/>
                    </a:lnTo>
                    <a:lnTo>
                      <a:pt x="4371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5" y="3648"/>
                    </a:lnTo>
                    <a:lnTo>
                      <a:pt x="4186" y="3666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8" y="3746"/>
                    </a:lnTo>
                    <a:lnTo>
                      <a:pt x="3902" y="3759"/>
                    </a:lnTo>
                    <a:lnTo>
                      <a:pt x="3866" y="3770"/>
                    </a:lnTo>
                    <a:lnTo>
                      <a:pt x="3830" y="3781"/>
                    </a:lnTo>
                    <a:lnTo>
                      <a:pt x="3794" y="3790"/>
                    </a:lnTo>
                    <a:lnTo>
                      <a:pt x="3757" y="3799"/>
                    </a:lnTo>
                    <a:lnTo>
                      <a:pt x="3720" y="3809"/>
                    </a:lnTo>
                    <a:lnTo>
                      <a:pt x="3682" y="3817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41"/>
                    </a:lnTo>
                    <a:lnTo>
                      <a:pt x="3533" y="3848"/>
                    </a:lnTo>
                    <a:lnTo>
                      <a:pt x="3493" y="3856"/>
                    </a:lnTo>
                    <a:lnTo>
                      <a:pt x="3455" y="3862"/>
                    </a:lnTo>
                    <a:lnTo>
                      <a:pt x="3419" y="3870"/>
                    </a:lnTo>
                    <a:lnTo>
                      <a:pt x="3381" y="3877"/>
                    </a:lnTo>
                    <a:lnTo>
                      <a:pt x="3343" y="3885"/>
                    </a:lnTo>
                    <a:lnTo>
                      <a:pt x="3305" y="3894"/>
                    </a:lnTo>
                    <a:lnTo>
                      <a:pt x="3268" y="3901"/>
                    </a:lnTo>
                    <a:lnTo>
                      <a:pt x="3231" y="3910"/>
                    </a:lnTo>
                    <a:lnTo>
                      <a:pt x="3195" y="3920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4"/>
                    </a:lnTo>
                    <a:lnTo>
                      <a:pt x="3050" y="3966"/>
                    </a:lnTo>
                    <a:lnTo>
                      <a:pt x="3017" y="3978"/>
                    </a:lnTo>
                    <a:lnTo>
                      <a:pt x="2982" y="3993"/>
                    </a:lnTo>
                    <a:lnTo>
                      <a:pt x="2949" y="4010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3" y="4064"/>
                    </a:lnTo>
                    <a:lnTo>
                      <a:pt x="2822" y="4086"/>
                    </a:lnTo>
                    <a:lnTo>
                      <a:pt x="2791" y="4107"/>
                    </a:lnTo>
                    <a:lnTo>
                      <a:pt x="2755" y="4133"/>
                    </a:lnTo>
                    <a:lnTo>
                      <a:pt x="2721" y="4160"/>
                    </a:lnTo>
                    <a:lnTo>
                      <a:pt x="2686" y="4187"/>
                    </a:lnTo>
                    <a:lnTo>
                      <a:pt x="2652" y="4216"/>
                    </a:lnTo>
                    <a:lnTo>
                      <a:pt x="2617" y="4245"/>
                    </a:lnTo>
                    <a:lnTo>
                      <a:pt x="2584" y="4274"/>
                    </a:lnTo>
                    <a:lnTo>
                      <a:pt x="2551" y="4305"/>
                    </a:lnTo>
                    <a:lnTo>
                      <a:pt x="2519" y="4336"/>
                    </a:lnTo>
                    <a:lnTo>
                      <a:pt x="2486" y="4366"/>
                    </a:lnTo>
                    <a:lnTo>
                      <a:pt x="2456" y="4397"/>
                    </a:lnTo>
                    <a:lnTo>
                      <a:pt x="2424" y="4430"/>
                    </a:lnTo>
                    <a:lnTo>
                      <a:pt x="2394" y="4463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4" y="4562"/>
                    </a:lnTo>
                    <a:lnTo>
                      <a:pt x="2276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89" y="3740"/>
                    </a:lnTo>
                    <a:lnTo>
                      <a:pt x="2143" y="3613"/>
                    </a:lnTo>
                    <a:lnTo>
                      <a:pt x="2110" y="3553"/>
                    </a:lnTo>
                    <a:lnTo>
                      <a:pt x="2072" y="3492"/>
                    </a:lnTo>
                    <a:lnTo>
                      <a:pt x="2029" y="3428"/>
                    </a:lnTo>
                    <a:lnTo>
                      <a:pt x="1983" y="3365"/>
                    </a:lnTo>
                    <a:lnTo>
                      <a:pt x="1933" y="3299"/>
                    </a:lnTo>
                    <a:lnTo>
                      <a:pt x="1882" y="3234"/>
                    </a:lnTo>
                    <a:lnTo>
                      <a:pt x="1827" y="3169"/>
                    </a:lnTo>
                    <a:lnTo>
                      <a:pt x="1772" y="3102"/>
                    </a:lnTo>
                    <a:lnTo>
                      <a:pt x="1717" y="3036"/>
                    </a:lnTo>
                    <a:lnTo>
                      <a:pt x="1662" y="2973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2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1"/>
                    </a:lnTo>
                    <a:lnTo>
                      <a:pt x="1201" y="2388"/>
                    </a:lnTo>
                    <a:lnTo>
                      <a:pt x="1158" y="2336"/>
                    </a:lnTo>
                    <a:lnTo>
                      <a:pt x="1114" y="2285"/>
                    </a:lnTo>
                    <a:lnTo>
                      <a:pt x="1068" y="2236"/>
                    </a:lnTo>
                    <a:lnTo>
                      <a:pt x="1021" y="2187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3"/>
                    </a:lnTo>
                    <a:lnTo>
                      <a:pt x="825" y="1998"/>
                    </a:lnTo>
                    <a:lnTo>
                      <a:pt x="774" y="1951"/>
                    </a:lnTo>
                    <a:lnTo>
                      <a:pt x="720" y="1906"/>
                    </a:lnTo>
                    <a:lnTo>
                      <a:pt x="667" y="1859"/>
                    </a:lnTo>
                    <a:lnTo>
                      <a:pt x="610" y="1811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2"/>
                    </a:lnTo>
                    <a:lnTo>
                      <a:pt x="488" y="1736"/>
                    </a:lnTo>
                    <a:lnTo>
                      <a:pt x="457" y="1718"/>
                    </a:lnTo>
                    <a:lnTo>
                      <a:pt x="426" y="1702"/>
                    </a:lnTo>
                    <a:lnTo>
                      <a:pt x="395" y="1685"/>
                    </a:lnTo>
                    <a:lnTo>
                      <a:pt x="364" y="1671"/>
                    </a:lnTo>
                    <a:lnTo>
                      <a:pt x="333" y="1656"/>
                    </a:lnTo>
                    <a:lnTo>
                      <a:pt x="301" y="1642"/>
                    </a:lnTo>
                    <a:lnTo>
                      <a:pt x="269" y="1627"/>
                    </a:lnTo>
                    <a:lnTo>
                      <a:pt x="236" y="1613"/>
                    </a:lnTo>
                    <a:lnTo>
                      <a:pt x="206" y="1600"/>
                    </a:lnTo>
                    <a:lnTo>
                      <a:pt x="173" y="1587"/>
                    </a:lnTo>
                    <a:lnTo>
                      <a:pt x="140" y="1573"/>
                    </a:lnTo>
                    <a:lnTo>
                      <a:pt x="108" y="1560"/>
                    </a:lnTo>
                    <a:lnTo>
                      <a:pt x="92" y="1558"/>
                    </a:lnTo>
                    <a:lnTo>
                      <a:pt x="75" y="1552"/>
                    </a:lnTo>
                    <a:lnTo>
                      <a:pt x="56" y="1547"/>
                    </a:lnTo>
                    <a:lnTo>
                      <a:pt x="37" y="1541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0"/>
                    </a:lnTo>
                    <a:lnTo>
                      <a:pt x="256" y="1462"/>
                    </a:lnTo>
                    <a:lnTo>
                      <a:pt x="303" y="1444"/>
                    </a:lnTo>
                    <a:lnTo>
                      <a:pt x="346" y="1422"/>
                    </a:lnTo>
                    <a:lnTo>
                      <a:pt x="391" y="1399"/>
                    </a:lnTo>
                    <a:lnTo>
                      <a:pt x="434" y="1375"/>
                    </a:lnTo>
                    <a:lnTo>
                      <a:pt x="478" y="1348"/>
                    </a:lnTo>
                    <a:lnTo>
                      <a:pt x="519" y="1319"/>
                    </a:lnTo>
                    <a:lnTo>
                      <a:pt x="560" y="1290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8"/>
                    </a:lnTo>
                    <a:lnTo>
                      <a:pt x="754" y="1124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4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9"/>
                    </a:lnTo>
                    <a:lnTo>
                      <a:pt x="1212" y="720"/>
                    </a:lnTo>
                    <a:lnTo>
                      <a:pt x="1253" y="691"/>
                    </a:lnTo>
                    <a:lnTo>
                      <a:pt x="1295" y="665"/>
                    </a:lnTo>
                    <a:lnTo>
                      <a:pt x="1338" y="639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9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2" y="483"/>
                    </a:lnTo>
                    <a:lnTo>
                      <a:pt x="1682" y="467"/>
                    </a:lnTo>
                    <a:lnTo>
                      <a:pt x="1721" y="451"/>
                    </a:lnTo>
                    <a:lnTo>
                      <a:pt x="1762" y="437"/>
                    </a:lnTo>
                    <a:lnTo>
                      <a:pt x="1802" y="422"/>
                    </a:lnTo>
                    <a:lnTo>
                      <a:pt x="1844" y="408"/>
                    </a:lnTo>
                    <a:lnTo>
                      <a:pt x="1885" y="396"/>
                    </a:lnTo>
                    <a:lnTo>
                      <a:pt x="1927" y="385"/>
                    </a:lnTo>
                    <a:lnTo>
                      <a:pt x="1970" y="375"/>
                    </a:lnTo>
                    <a:lnTo>
                      <a:pt x="1994" y="369"/>
                    </a:lnTo>
                    <a:lnTo>
                      <a:pt x="2017" y="361"/>
                    </a:lnTo>
                    <a:lnTo>
                      <a:pt x="2040" y="356"/>
                    </a:lnTo>
                    <a:lnTo>
                      <a:pt x="2063" y="350"/>
                    </a:lnTo>
                    <a:lnTo>
                      <a:pt x="2087" y="346"/>
                    </a:lnTo>
                    <a:lnTo>
                      <a:pt x="2110" y="343"/>
                    </a:lnTo>
                    <a:lnTo>
                      <a:pt x="2134" y="341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60560" y="5141160"/>
                <a:ext cx="405360" cy="410760"/>
              </a:xfrm>
              <a:custGeom>
                <a:avLst/>
                <a:gdLst/>
                <a:ahLst/>
                <a:rect l="l" t="t" r="r" b="b"/>
                <a:pathLst>
                  <a:path w="4464" h="4125">
                    <a:moveTo>
                      <a:pt x="2902" y="0"/>
                    </a:moveTo>
                    <a:lnTo>
                      <a:pt x="2888" y="141"/>
                    </a:lnTo>
                    <a:lnTo>
                      <a:pt x="2885" y="284"/>
                    </a:lnTo>
                    <a:lnTo>
                      <a:pt x="2893" y="429"/>
                    </a:lnTo>
                    <a:lnTo>
                      <a:pt x="2912" y="572"/>
                    </a:lnTo>
                    <a:lnTo>
                      <a:pt x="2943" y="713"/>
                    </a:lnTo>
                    <a:lnTo>
                      <a:pt x="2988" y="848"/>
                    </a:lnTo>
                    <a:lnTo>
                      <a:pt x="3043" y="975"/>
                    </a:lnTo>
                    <a:lnTo>
                      <a:pt x="3112" y="1092"/>
                    </a:lnTo>
                    <a:lnTo>
                      <a:pt x="3150" y="1159"/>
                    </a:lnTo>
                    <a:lnTo>
                      <a:pt x="3193" y="1224"/>
                    </a:lnTo>
                    <a:lnTo>
                      <a:pt x="3238" y="1286"/>
                    </a:lnTo>
                    <a:lnTo>
                      <a:pt x="3286" y="1347"/>
                    </a:lnTo>
                    <a:lnTo>
                      <a:pt x="3335" y="1405"/>
                    </a:lnTo>
                    <a:lnTo>
                      <a:pt x="3389" y="1463"/>
                    </a:lnTo>
                    <a:lnTo>
                      <a:pt x="3444" y="1519"/>
                    </a:lnTo>
                    <a:lnTo>
                      <a:pt x="3501" y="1574"/>
                    </a:lnTo>
                    <a:lnTo>
                      <a:pt x="3557" y="1627"/>
                    </a:lnTo>
                    <a:lnTo>
                      <a:pt x="3616" y="1679"/>
                    </a:lnTo>
                    <a:lnTo>
                      <a:pt x="3674" y="1732"/>
                    </a:lnTo>
                    <a:lnTo>
                      <a:pt x="3732" y="1783"/>
                    </a:lnTo>
                    <a:lnTo>
                      <a:pt x="3791" y="1831"/>
                    </a:lnTo>
                    <a:lnTo>
                      <a:pt x="3850" y="1882"/>
                    </a:lnTo>
                    <a:lnTo>
                      <a:pt x="3907" y="1931"/>
                    </a:lnTo>
                    <a:lnTo>
                      <a:pt x="3962" y="1980"/>
                    </a:lnTo>
                    <a:lnTo>
                      <a:pt x="4020" y="2036"/>
                    </a:lnTo>
                    <a:lnTo>
                      <a:pt x="4071" y="2087"/>
                    </a:lnTo>
                    <a:lnTo>
                      <a:pt x="4118" y="2132"/>
                    </a:lnTo>
                    <a:lnTo>
                      <a:pt x="4161" y="2174"/>
                    </a:lnTo>
                    <a:lnTo>
                      <a:pt x="4198" y="2211"/>
                    </a:lnTo>
                    <a:lnTo>
                      <a:pt x="4233" y="2248"/>
                    </a:lnTo>
                    <a:lnTo>
                      <a:pt x="4264" y="2282"/>
                    </a:lnTo>
                    <a:lnTo>
                      <a:pt x="4293" y="2316"/>
                    </a:lnTo>
                    <a:lnTo>
                      <a:pt x="4318" y="2353"/>
                    </a:lnTo>
                    <a:lnTo>
                      <a:pt x="4341" y="2390"/>
                    </a:lnTo>
                    <a:lnTo>
                      <a:pt x="4364" y="2431"/>
                    </a:lnTo>
                    <a:lnTo>
                      <a:pt x="4384" y="2477"/>
                    </a:lnTo>
                    <a:lnTo>
                      <a:pt x="4403" y="2525"/>
                    </a:lnTo>
                    <a:lnTo>
                      <a:pt x="4424" y="2581"/>
                    </a:lnTo>
                    <a:lnTo>
                      <a:pt x="4443" y="2645"/>
                    </a:lnTo>
                    <a:lnTo>
                      <a:pt x="4464" y="2715"/>
                    </a:lnTo>
                    <a:lnTo>
                      <a:pt x="4426" y="2768"/>
                    </a:lnTo>
                    <a:lnTo>
                      <a:pt x="4390" y="2817"/>
                    </a:lnTo>
                    <a:lnTo>
                      <a:pt x="4353" y="2862"/>
                    </a:lnTo>
                    <a:lnTo>
                      <a:pt x="4319" y="2904"/>
                    </a:lnTo>
                    <a:lnTo>
                      <a:pt x="4285" y="2944"/>
                    </a:lnTo>
                    <a:lnTo>
                      <a:pt x="4250" y="2979"/>
                    </a:lnTo>
                    <a:lnTo>
                      <a:pt x="4218" y="3015"/>
                    </a:lnTo>
                    <a:lnTo>
                      <a:pt x="4185" y="3045"/>
                    </a:lnTo>
                    <a:lnTo>
                      <a:pt x="4153" y="3076"/>
                    </a:lnTo>
                    <a:lnTo>
                      <a:pt x="4121" y="3103"/>
                    </a:lnTo>
                    <a:lnTo>
                      <a:pt x="4090" y="3129"/>
                    </a:lnTo>
                    <a:lnTo>
                      <a:pt x="4060" y="3153"/>
                    </a:lnTo>
                    <a:lnTo>
                      <a:pt x="4030" y="3176"/>
                    </a:lnTo>
                    <a:lnTo>
                      <a:pt x="4001" y="3197"/>
                    </a:lnTo>
                    <a:lnTo>
                      <a:pt x="3972" y="3219"/>
                    </a:lnTo>
                    <a:lnTo>
                      <a:pt x="3944" y="3239"/>
                    </a:lnTo>
                    <a:lnTo>
                      <a:pt x="3887" y="3274"/>
                    </a:lnTo>
                    <a:lnTo>
                      <a:pt x="3827" y="3301"/>
                    </a:lnTo>
                    <a:lnTo>
                      <a:pt x="3765" y="3322"/>
                    </a:lnTo>
                    <a:lnTo>
                      <a:pt x="3702" y="3340"/>
                    </a:lnTo>
                    <a:lnTo>
                      <a:pt x="3636" y="3355"/>
                    </a:lnTo>
                    <a:lnTo>
                      <a:pt x="3569" y="3366"/>
                    </a:lnTo>
                    <a:lnTo>
                      <a:pt x="3502" y="3375"/>
                    </a:lnTo>
                    <a:lnTo>
                      <a:pt x="3433" y="3382"/>
                    </a:lnTo>
                    <a:lnTo>
                      <a:pt x="3364" y="3390"/>
                    </a:lnTo>
                    <a:lnTo>
                      <a:pt x="3294" y="3395"/>
                    </a:lnTo>
                    <a:lnTo>
                      <a:pt x="3225" y="3402"/>
                    </a:lnTo>
                    <a:lnTo>
                      <a:pt x="3158" y="3411"/>
                    </a:lnTo>
                    <a:lnTo>
                      <a:pt x="3090" y="3422"/>
                    </a:lnTo>
                    <a:lnTo>
                      <a:pt x="3024" y="3435"/>
                    </a:lnTo>
                    <a:lnTo>
                      <a:pt x="2958" y="3453"/>
                    </a:lnTo>
                    <a:lnTo>
                      <a:pt x="2895" y="3475"/>
                    </a:lnTo>
                    <a:lnTo>
                      <a:pt x="2843" y="3491"/>
                    </a:lnTo>
                    <a:lnTo>
                      <a:pt x="2794" y="3511"/>
                    </a:lnTo>
                    <a:lnTo>
                      <a:pt x="2744" y="3533"/>
                    </a:lnTo>
                    <a:lnTo>
                      <a:pt x="2695" y="3557"/>
                    </a:lnTo>
                    <a:lnTo>
                      <a:pt x="2649" y="3583"/>
                    </a:lnTo>
                    <a:lnTo>
                      <a:pt x="2602" y="3612"/>
                    </a:lnTo>
                    <a:lnTo>
                      <a:pt x="2558" y="3641"/>
                    </a:lnTo>
                    <a:lnTo>
                      <a:pt x="2513" y="3673"/>
                    </a:lnTo>
                    <a:lnTo>
                      <a:pt x="2471" y="3707"/>
                    </a:lnTo>
                    <a:lnTo>
                      <a:pt x="2429" y="3741"/>
                    </a:lnTo>
                    <a:lnTo>
                      <a:pt x="2388" y="3777"/>
                    </a:lnTo>
                    <a:lnTo>
                      <a:pt x="2348" y="3815"/>
                    </a:lnTo>
                    <a:lnTo>
                      <a:pt x="2310" y="3853"/>
                    </a:lnTo>
                    <a:lnTo>
                      <a:pt x="2273" y="3893"/>
                    </a:lnTo>
                    <a:lnTo>
                      <a:pt x="2236" y="3934"/>
                    </a:lnTo>
                    <a:lnTo>
                      <a:pt x="2201" y="3976"/>
                    </a:lnTo>
                    <a:lnTo>
                      <a:pt x="2093" y="4125"/>
                    </a:lnTo>
                    <a:lnTo>
                      <a:pt x="2100" y="4054"/>
                    </a:lnTo>
                    <a:lnTo>
                      <a:pt x="2108" y="3982"/>
                    </a:lnTo>
                    <a:lnTo>
                      <a:pt x="2116" y="3910"/>
                    </a:lnTo>
                    <a:lnTo>
                      <a:pt x="2116" y="3835"/>
                    </a:lnTo>
                    <a:lnTo>
                      <a:pt x="2110" y="3829"/>
                    </a:lnTo>
                    <a:lnTo>
                      <a:pt x="2113" y="3824"/>
                    </a:lnTo>
                    <a:lnTo>
                      <a:pt x="2114" y="3817"/>
                    </a:lnTo>
                    <a:lnTo>
                      <a:pt x="2114" y="3808"/>
                    </a:lnTo>
                    <a:lnTo>
                      <a:pt x="2098" y="3719"/>
                    </a:lnTo>
                    <a:lnTo>
                      <a:pt x="2080" y="3634"/>
                    </a:lnTo>
                    <a:lnTo>
                      <a:pt x="2053" y="3551"/>
                    </a:lnTo>
                    <a:lnTo>
                      <a:pt x="2026" y="3470"/>
                    </a:lnTo>
                    <a:lnTo>
                      <a:pt x="1995" y="3391"/>
                    </a:lnTo>
                    <a:lnTo>
                      <a:pt x="1963" y="3313"/>
                    </a:lnTo>
                    <a:lnTo>
                      <a:pt x="1928" y="3235"/>
                    </a:lnTo>
                    <a:lnTo>
                      <a:pt x="1892" y="3158"/>
                    </a:lnTo>
                    <a:lnTo>
                      <a:pt x="1865" y="3105"/>
                    </a:lnTo>
                    <a:lnTo>
                      <a:pt x="1835" y="3052"/>
                    </a:lnTo>
                    <a:lnTo>
                      <a:pt x="1808" y="3002"/>
                    </a:lnTo>
                    <a:lnTo>
                      <a:pt x="1777" y="2950"/>
                    </a:lnTo>
                    <a:lnTo>
                      <a:pt x="1747" y="2900"/>
                    </a:lnTo>
                    <a:lnTo>
                      <a:pt x="1717" y="2849"/>
                    </a:lnTo>
                    <a:lnTo>
                      <a:pt x="1686" y="2801"/>
                    </a:lnTo>
                    <a:lnTo>
                      <a:pt x="1654" y="2752"/>
                    </a:lnTo>
                    <a:lnTo>
                      <a:pt x="1620" y="2702"/>
                    </a:lnTo>
                    <a:lnTo>
                      <a:pt x="1587" y="2654"/>
                    </a:lnTo>
                    <a:lnTo>
                      <a:pt x="1555" y="2607"/>
                    </a:lnTo>
                    <a:lnTo>
                      <a:pt x="1521" y="2559"/>
                    </a:lnTo>
                    <a:lnTo>
                      <a:pt x="1486" y="2512"/>
                    </a:lnTo>
                    <a:lnTo>
                      <a:pt x="1451" y="2466"/>
                    </a:lnTo>
                    <a:lnTo>
                      <a:pt x="1416" y="2420"/>
                    </a:lnTo>
                    <a:lnTo>
                      <a:pt x="1379" y="2373"/>
                    </a:lnTo>
                    <a:lnTo>
                      <a:pt x="1341" y="2327"/>
                    </a:lnTo>
                    <a:lnTo>
                      <a:pt x="1306" y="2282"/>
                    </a:lnTo>
                    <a:lnTo>
                      <a:pt x="1268" y="2239"/>
                    </a:lnTo>
                    <a:lnTo>
                      <a:pt x="1228" y="2194"/>
                    </a:lnTo>
                    <a:lnTo>
                      <a:pt x="1190" y="2150"/>
                    </a:lnTo>
                    <a:lnTo>
                      <a:pt x="1151" y="2107"/>
                    </a:lnTo>
                    <a:lnTo>
                      <a:pt x="1111" y="2063"/>
                    </a:lnTo>
                    <a:lnTo>
                      <a:pt x="1072" y="2020"/>
                    </a:lnTo>
                    <a:lnTo>
                      <a:pt x="1030" y="1978"/>
                    </a:lnTo>
                    <a:lnTo>
                      <a:pt x="991" y="1934"/>
                    </a:lnTo>
                    <a:lnTo>
                      <a:pt x="950" y="1893"/>
                    </a:lnTo>
                    <a:lnTo>
                      <a:pt x="907" y="1851"/>
                    </a:lnTo>
                    <a:lnTo>
                      <a:pt x="865" y="1809"/>
                    </a:lnTo>
                    <a:lnTo>
                      <a:pt x="822" y="1767"/>
                    </a:lnTo>
                    <a:lnTo>
                      <a:pt x="779" y="1728"/>
                    </a:lnTo>
                    <a:lnTo>
                      <a:pt x="737" y="1686"/>
                    </a:lnTo>
                    <a:lnTo>
                      <a:pt x="694" y="1657"/>
                    </a:lnTo>
                    <a:lnTo>
                      <a:pt x="650" y="1627"/>
                    </a:lnTo>
                    <a:lnTo>
                      <a:pt x="606" y="1596"/>
                    </a:lnTo>
                    <a:lnTo>
                      <a:pt x="562" y="1564"/>
                    </a:lnTo>
                    <a:lnTo>
                      <a:pt x="518" y="1535"/>
                    </a:lnTo>
                    <a:lnTo>
                      <a:pt x="473" y="1505"/>
                    </a:lnTo>
                    <a:lnTo>
                      <a:pt x="428" y="1476"/>
                    </a:lnTo>
                    <a:lnTo>
                      <a:pt x="382" y="1447"/>
                    </a:lnTo>
                    <a:lnTo>
                      <a:pt x="336" y="1418"/>
                    </a:lnTo>
                    <a:lnTo>
                      <a:pt x="289" y="1391"/>
                    </a:lnTo>
                    <a:lnTo>
                      <a:pt x="243" y="1366"/>
                    </a:lnTo>
                    <a:lnTo>
                      <a:pt x="196" y="1340"/>
                    </a:lnTo>
                    <a:lnTo>
                      <a:pt x="148" y="1316"/>
                    </a:lnTo>
                    <a:lnTo>
                      <a:pt x="98" y="1295"/>
                    </a:lnTo>
                    <a:lnTo>
                      <a:pt x="50" y="1275"/>
                    </a:lnTo>
                    <a:lnTo>
                      <a:pt x="0" y="1257"/>
                    </a:lnTo>
                    <a:lnTo>
                      <a:pt x="53" y="1246"/>
                    </a:lnTo>
                    <a:lnTo>
                      <a:pt x="103" y="1230"/>
                    </a:lnTo>
                    <a:lnTo>
                      <a:pt x="153" y="1213"/>
                    </a:lnTo>
                    <a:lnTo>
                      <a:pt x="201" y="1194"/>
                    </a:lnTo>
                    <a:lnTo>
                      <a:pt x="248" y="1172"/>
                    </a:lnTo>
                    <a:lnTo>
                      <a:pt x="294" y="1149"/>
                    </a:lnTo>
                    <a:lnTo>
                      <a:pt x="339" y="1123"/>
                    </a:lnTo>
                    <a:lnTo>
                      <a:pt x="384" y="1096"/>
                    </a:lnTo>
                    <a:lnTo>
                      <a:pt x="426" y="1067"/>
                    </a:lnTo>
                    <a:lnTo>
                      <a:pt x="469" y="1038"/>
                    </a:lnTo>
                    <a:lnTo>
                      <a:pt x="514" y="1009"/>
                    </a:lnTo>
                    <a:lnTo>
                      <a:pt x="557" y="978"/>
                    </a:lnTo>
                    <a:lnTo>
                      <a:pt x="600" y="949"/>
                    </a:lnTo>
                    <a:lnTo>
                      <a:pt x="644" y="918"/>
                    </a:lnTo>
                    <a:lnTo>
                      <a:pt x="688" y="889"/>
                    </a:lnTo>
                    <a:lnTo>
                      <a:pt x="732" y="860"/>
                    </a:lnTo>
                    <a:lnTo>
                      <a:pt x="782" y="820"/>
                    </a:lnTo>
                    <a:lnTo>
                      <a:pt x="832" y="780"/>
                    </a:lnTo>
                    <a:lnTo>
                      <a:pt x="882" y="740"/>
                    </a:lnTo>
                    <a:lnTo>
                      <a:pt x="932" y="703"/>
                    </a:lnTo>
                    <a:lnTo>
                      <a:pt x="984" y="664"/>
                    </a:lnTo>
                    <a:lnTo>
                      <a:pt x="1035" y="626"/>
                    </a:lnTo>
                    <a:lnTo>
                      <a:pt x="1087" y="589"/>
                    </a:lnTo>
                    <a:lnTo>
                      <a:pt x="1138" y="552"/>
                    </a:lnTo>
                    <a:lnTo>
                      <a:pt x="1192" y="518"/>
                    </a:lnTo>
                    <a:lnTo>
                      <a:pt x="1246" y="485"/>
                    </a:lnTo>
                    <a:lnTo>
                      <a:pt x="1301" y="452"/>
                    </a:lnTo>
                    <a:lnTo>
                      <a:pt x="1356" y="420"/>
                    </a:lnTo>
                    <a:lnTo>
                      <a:pt x="1412" y="391"/>
                    </a:lnTo>
                    <a:lnTo>
                      <a:pt x="1469" y="362"/>
                    </a:lnTo>
                    <a:lnTo>
                      <a:pt x="1527" y="336"/>
                    </a:lnTo>
                    <a:lnTo>
                      <a:pt x="1587" y="312"/>
                    </a:lnTo>
                    <a:lnTo>
                      <a:pt x="1646" y="293"/>
                    </a:lnTo>
                    <a:lnTo>
                      <a:pt x="1787" y="252"/>
                    </a:lnTo>
                    <a:lnTo>
                      <a:pt x="1825" y="242"/>
                    </a:lnTo>
                    <a:lnTo>
                      <a:pt x="1865" y="233"/>
                    </a:lnTo>
                    <a:lnTo>
                      <a:pt x="1902" y="228"/>
                    </a:lnTo>
                    <a:lnTo>
                      <a:pt x="1942" y="223"/>
                    </a:lnTo>
                    <a:lnTo>
                      <a:pt x="1982" y="219"/>
                    </a:lnTo>
                    <a:lnTo>
                      <a:pt x="2021" y="215"/>
                    </a:lnTo>
                    <a:lnTo>
                      <a:pt x="2060" y="213"/>
                    </a:lnTo>
                    <a:lnTo>
                      <a:pt x="2100" y="212"/>
                    </a:lnTo>
                    <a:lnTo>
                      <a:pt x="2140" y="212"/>
                    </a:lnTo>
                    <a:lnTo>
                      <a:pt x="2180" y="210"/>
                    </a:lnTo>
                    <a:lnTo>
                      <a:pt x="2219" y="210"/>
                    </a:lnTo>
                    <a:lnTo>
                      <a:pt x="2258" y="207"/>
                    </a:lnTo>
                    <a:lnTo>
                      <a:pt x="2300" y="206"/>
                    </a:lnTo>
                    <a:lnTo>
                      <a:pt x="2339" y="204"/>
                    </a:lnTo>
                    <a:lnTo>
                      <a:pt x="2379" y="202"/>
                    </a:lnTo>
                    <a:lnTo>
                      <a:pt x="2419" y="199"/>
                    </a:lnTo>
                    <a:lnTo>
                      <a:pt x="2446" y="191"/>
                    </a:lnTo>
                    <a:lnTo>
                      <a:pt x="2474" y="184"/>
                    </a:lnTo>
                    <a:lnTo>
                      <a:pt x="2501" y="177"/>
                    </a:lnTo>
                    <a:lnTo>
                      <a:pt x="2529" y="170"/>
                    </a:lnTo>
                    <a:lnTo>
                      <a:pt x="2556" y="162"/>
                    </a:lnTo>
                    <a:lnTo>
                      <a:pt x="2584" y="156"/>
                    </a:lnTo>
                    <a:lnTo>
                      <a:pt x="2611" y="146"/>
                    </a:lnTo>
                    <a:lnTo>
                      <a:pt x="2637" y="138"/>
                    </a:lnTo>
                    <a:lnTo>
                      <a:pt x="2664" y="127"/>
                    </a:lnTo>
                    <a:lnTo>
                      <a:pt x="2690" y="115"/>
                    </a:lnTo>
                    <a:lnTo>
                      <a:pt x="2716" y="104"/>
                    </a:lnTo>
                    <a:lnTo>
                      <a:pt x="2742" y="91"/>
                    </a:lnTo>
                    <a:lnTo>
                      <a:pt x="2767" y="80"/>
                    </a:lnTo>
                    <a:lnTo>
                      <a:pt x="2792" y="65"/>
                    </a:lnTo>
                    <a:lnTo>
                      <a:pt x="2815" y="51"/>
                    </a:lnTo>
                    <a:lnTo>
                      <a:pt x="2838" y="34"/>
                    </a:lnTo>
                    <a:lnTo>
                      <a:pt x="2849" y="34"/>
                    </a:lnTo>
                    <a:lnTo>
                      <a:pt x="2857" y="30"/>
                    </a:lnTo>
                    <a:lnTo>
                      <a:pt x="2864" y="25"/>
                    </a:lnTo>
                    <a:lnTo>
                      <a:pt x="2870" y="19"/>
                    </a:lnTo>
                    <a:lnTo>
                      <a:pt x="2878" y="12"/>
                    </a:lnTo>
                    <a:lnTo>
                      <a:pt x="2885" y="7"/>
                    </a:lnTo>
                    <a:lnTo>
                      <a:pt x="2893" y="1"/>
                    </a:lnTo>
                    <a:lnTo>
                      <a:pt x="29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72160" y="5185080"/>
                <a:ext cx="231840" cy="289080"/>
              </a:xfrm>
              <a:custGeom>
                <a:avLst/>
                <a:gdLst/>
                <a:ahLst/>
                <a:rect l="l" t="t" r="r" b="b"/>
                <a:pathLst>
                  <a:path w="2551" h="2906">
                    <a:moveTo>
                      <a:pt x="1286" y="7"/>
                    </a:moveTo>
                    <a:lnTo>
                      <a:pt x="1274" y="38"/>
                    </a:lnTo>
                    <a:lnTo>
                      <a:pt x="1264" y="70"/>
                    </a:lnTo>
                    <a:lnTo>
                      <a:pt x="1256" y="105"/>
                    </a:lnTo>
                    <a:lnTo>
                      <a:pt x="1249" y="137"/>
                    </a:lnTo>
                    <a:lnTo>
                      <a:pt x="1238" y="171"/>
                    </a:lnTo>
                    <a:lnTo>
                      <a:pt x="1226" y="203"/>
                    </a:lnTo>
                    <a:lnTo>
                      <a:pt x="1211" y="232"/>
                    </a:lnTo>
                    <a:lnTo>
                      <a:pt x="1191" y="258"/>
                    </a:lnTo>
                    <a:lnTo>
                      <a:pt x="1169" y="281"/>
                    </a:lnTo>
                    <a:lnTo>
                      <a:pt x="1149" y="305"/>
                    </a:lnTo>
                    <a:lnTo>
                      <a:pt x="1130" y="326"/>
                    </a:lnTo>
                    <a:lnTo>
                      <a:pt x="1109" y="350"/>
                    </a:lnTo>
                    <a:lnTo>
                      <a:pt x="1089" y="371"/>
                    </a:lnTo>
                    <a:lnTo>
                      <a:pt x="1070" y="395"/>
                    </a:lnTo>
                    <a:lnTo>
                      <a:pt x="1049" y="416"/>
                    </a:lnTo>
                    <a:lnTo>
                      <a:pt x="1028" y="440"/>
                    </a:lnTo>
                    <a:lnTo>
                      <a:pt x="1006" y="461"/>
                    </a:lnTo>
                    <a:lnTo>
                      <a:pt x="986" y="482"/>
                    </a:lnTo>
                    <a:lnTo>
                      <a:pt x="963" y="503"/>
                    </a:lnTo>
                    <a:lnTo>
                      <a:pt x="941" y="524"/>
                    </a:lnTo>
                    <a:lnTo>
                      <a:pt x="916" y="542"/>
                    </a:lnTo>
                    <a:lnTo>
                      <a:pt x="893" y="561"/>
                    </a:lnTo>
                    <a:lnTo>
                      <a:pt x="867" y="578"/>
                    </a:lnTo>
                    <a:lnTo>
                      <a:pt x="841" y="594"/>
                    </a:lnTo>
                    <a:lnTo>
                      <a:pt x="808" y="609"/>
                    </a:lnTo>
                    <a:lnTo>
                      <a:pt x="775" y="623"/>
                    </a:lnTo>
                    <a:lnTo>
                      <a:pt x="743" y="633"/>
                    </a:lnTo>
                    <a:lnTo>
                      <a:pt x="710" y="646"/>
                    </a:lnTo>
                    <a:lnTo>
                      <a:pt x="675" y="656"/>
                    </a:lnTo>
                    <a:lnTo>
                      <a:pt x="643" y="665"/>
                    </a:lnTo>
                    <a:lnTo>
                      <a:pt x="610" y="674"/>
                    </a:lnTo>
                    <a:lnTo>
                      <a:pt x="578" y="683"/>
                    </a:lnTo>
                    <a:lnTo>
                      <a:pt x="545" y="690"/>
                    </a:lnTo>
                    <a:lnTo>
                      <a:pt x="512" y="698"/>
                    </a:lnTo>
                    <a:lnTo>
                      <a:pt x="480" y="704"/>
                    </a:lnTo>
                    <a:lnTo>
                      <a:pt x="447" y="714"/>
                    </a:lnTo>
                    <a:lnTo>
                      <a:pt x="412" y="720"/>
                    </a:lnTo>
                    <a:lnTo>
                      <a:pt x="380" y="728"/>
                    </a:lnTo>
                    <a:lnTo>
                      <a:pt x="347" y="738"/>
                    </a:lnTo>
                    <a:lnTo>
                      <a:pt x="314" y="746"/>
                    </a:lnTo>
                    <a:lnTo>
                      <a:pt x="294" y="755"/>
                    </a:lnTo>
                    <a:lnTo>
                      <a:pt x="272" y="767"/>
                    </a:lnTo>
                    <a:lnTo>
                      <a:pt x="251" y="775"/>
                    </a:lnTo>
                    <a:lnTo>
                      <a:pt x="229" y="786"/>
                    </a:lnTo>
                    <a:lnTo>
                      <a:pt x="208" y="799"/>
                    </a:lnTo>
                    <a:lnTo>
                      <a:pt x="187" y="812"/>
                    </a:lnTo>
                    <a:lnTo>
                      <a:pt x="166" y="825"/>
                    </a:lnTo>
                    <a:lnTo>
                      <a:pt x="148" y="836"/>
                    </a:lnTo>
                    <a:lnTo>
                      <a:pt x="129" y="851"/>
                    </a:lnTo>
                    <a:lnTo>
                      <a:pt x="110" y="868"/>
                    </a:lnTo>
                    <a:lnTo>
                      <a:pt x="93" y="884"/>
                    </a:lnTo>
                    <a:lnTo>
                      <a:pt x="78" y="900"/>
                    </a:lnTo>
                    <a:lnTo>
                      <a:pt x="61" y="918"/>
                    </a:lnTo>
                    <a:lnTo>
                      <a:pt x="50" y="939"/>
                    </a:lnTo>
                    <a:lnTo>
                      <a:pt x="38" y="958"/>
                    </a:lnTo>
                    <a:lnTo>
                      <a:pt x="28" y="980"/>
                    </a:lnTo>
                    <a:lnTo>
                      <a:pt x="8" y="1038"/>
                    </a:lnTo>
                    <a:lnTo>
                      <a:pt x="0" y="1098"/>
                    </a:lnTo>
                    <a:lnTo>
                      <a:pt x="1" y="1156"/>
                    </a:lnTo>
                    <a:lnTo>
                      <a:pt x="13" y="1214"/>
                    </a:lnTo>
                    <a:lnTo>
                      <a:pt x="34" y="1269"/>
                    </a:lnTo>
                    <a:lnTo>
                      <a:pt x="65" y="1321"/>
                    </a:lnTo>
                    <a:lnTo>
                      <a:pt x="105" y="1364"/>
                    </a:lnTo>
                    <a:lnTo>
                      <a:pt x="154" y="1401"/>
                    </a:lnTo>
                    <a:lnTo>
                      <a:pt x="194" y="1420"/>
                    </a:lnTo>
                    <a:lnTo>
                      <a:pt x="234" y="1438"/>
                    </a:lnTo>
                    <a:lnTo>
                      <a:pt x="275" y="1454"/>
                    </a:lnTo>
                    <a:lnTo>
                      <a:pt x="318" y="1467"/>
                    </a:lnTo>
                    <a:lnTo>
                      <a:pt x="359" y="1480"/>
                    </a:lnTo>
                    <a:lnTo>
                      <a:pt x="401" y="1493"/>
                    </a:lnTo>
                    <a:lnTo>
                      <a:pt x="442" y="1504"/>
                    </a:lnTo>
                    <a:lnTo>
                      <a:pt x="485" y="1517"/>
                    </a:lnTo>
                    <a:lnTo>
                      <a:pt x="524" y="1529"/>
                    </a:lnTo>
                    <a:lnTo>
                      <a:pt x="564" y="1543"/>
                    </a:lnTo>
                    <a:lnTo>
                      <a:pt x="604" y="1560"/>
                    </a:lnTo>
                    <a:lnTo>
                      <a:pt x="642" y="1578"/>
                    </a:lnTo>
                    <a:lnTo>
                      <a:pt x="677" y="1599"/>
                    </a:lnTo>
                    <a:lnTo>
                      <a:pt x="713" y="1625"/>
                    </a:lnTo>
                    <a:lnTo>
                      <a:pt x="747" y="1652"/>
                    </a:lnTo>
                    <a:lnTo>
                      <a:pt x="777" y="1685"/>
                    </a:lnTo>
                    <a:lnTo>
                      <a:pt x="802" y="1725"/>
                    </a:lnTo>
                    <a:lnTo>
                      <a:pt x="817" y="1768"/>
                    </a:lnTo>
                    <a:lnTo>
                      <a:pt x="825" y="1815"/>
                    </a:lnTo>
                    <a:lnTo>
                      <a:pt x="828" y="1865"/>
                    </a:lnTo>
                    <a:lnTo>
                      <a:pt x="825" y="1913"/>
                    </a:lnTo>
                    <a:lnTo>
                      <a:pt x="820" y="1962"/>
                    </a:lnTo>
                    <a:lnTo>
                      <a:pt x="815" y="2009"/>
                    </a:lnTo>
                    <a:lnTo>
                      <a:pt x="808" y="2055"/>
                    </a:lnTo>
                    <a:lnTo>
                      <a:pt x="803" y="2145"/>
                    </a:lnTo>
                    <a:lnTo>
                      <a:pt x="796" y="2240"/>
                    </a:lnTo>
                    <a:lnTo>
                      <a:pt x="795" y="2332"/>
                    </a:lnTo>
                    <a:lnTo>
                      <a:pt x="808" y="2422"/>
                    </a:lnTo>
                    <a:lnTo>
                      <a:pt x="822" y="2465"/>
                    </a:lnTo>
                    <a:lnTo>
                      <a:pt x="838" y="2507"/>
                    </a:lnTo>
                    <a:lnTo>
                      <a:pt x="856" y="2547"/>
                    </a:lnTo>
                    <a:lnTo>
                      <a:pt x="878" y="2586"/>
                    </a:lnTo>
                    <a:lnTo>
                      <a:pt x="901" y="2621"/>
                    </a:lnTo>
                    <a:lnTo>
                      <a:pt x="927" y="2658"/>
                    </a:lnTo>
                    <a:lnTo>
                      <a:pt x="956" y="2690"/>
                    </a:lnTo>
                    <a:lnTo>
                      <a:pt x="986" y="2721"/>
                    </a:lnTo>
                    <a:lnTo>
                      <a:pt x="1016" y="2750"/>
                    </a:lnTo>
                    <a:lnTo>
                      <a:pt x="1049" y="2777"/>
                    </a:lnTo>
                    <a:lnTo>
                      <a:pt x="1083" y="2800"/>
                    </a:lnTo>
                    <a:lnTo>
                      <a:pt x="1119" y="2824"/>
                    </a:lnTo>
                    <a:lnTo>
                      <a:pt x="1156" y="2844"/>
                    </a:lnTo>
                    <a:lnTo>
                      <a:pt x="1194" y="2864"/>
                    </a:lnTo>
                    <a:lnTo>
                      <a:pt x="1231" y="2879"/>
                    </a:lnTo>
                    <a:lnTo>
                      <a:pt x="1271" y="2893"/>
                    </a:lnTo>
                    <a:lnTo>
                      <a:pt x="1312" y="2902"/>
                    </a:lnTo>
                    <a:lnTo>
                      <a:pt x="1352" y="2906"/>
                    </a:lnTo>
                    <a:lnTo>
                      <a:pt x="1389" y="2902"/>
                    </a:lnTo>
                    <a:lnTo>
                      <a:pt x="1426" y="2895"/>
                    </a:lnTo>
                    <a:lnTo>
                      <a:pt x="1462" y="2882"/>
                    </a:lnTo>
                    <a:lnTo>
                      <a:pt x="1497" y="2864"/>
                    </a:lnTo>
                    <a:lnTo>
                      <a:pt x="1529" y="2842"/>
                    </a:lnTo>
                    <a:lnTo>
                      <a:pt x="1562" y="2817"/>
                    </a:lnTo>
                    <a:lnTo>
                      <a:pt x="1592" y="2789"/>
                    </a:lnTo>
                    <a:lnTo>
                      <a:pt x="1622" y="2757"/>
                    </a:lnTo>
                    <a:lnTo>
                      <a:pt x="1652" y="2725"/>
                    </a:lnTo>
                    <a:lnTo>
                      <a:pt x="1679" y="2689"/>
                    </a:lnTo>
                    <a:lnTo>
                      <a:pt x="1705" y="2652"/>
                    </a:lnTo>
                    <a:lnTo>
                      <a:pt x="1730" y="2616"/>
                    </a:lnTo>
                    <a:lnTo>
                      <a:pt x="1756" y="2578"/>
                    </a:lnTo>
                    <a:lnTo>
                      <a:pt x="1780" y="2539"/>
                    </a:lnTo>
                    <a:lnTo>
                      <a:pt x="1792" y="2528"/>
                    </a:lnTo>
                    <a:lnTo>
                      <a:pt x="1805" y="2515"/>
                    </a:lnTo>
                    <a:lnTo>
                      <a:pt x="1816" y="2502"/>
                    </a:lnTo>
                    <a:lnTo>
                      <a:pt x="1830" y="2489"/>
                    </a:lnTo>
                    <a:lnTo>
                      <a:pt x="1843" y="2478"/>
                    </a:lnTo>
                    <a:lnTo>
                      <a:pt x="1860" y="2465"/>
                    </a:lnTo>
                    <a:lnTo>
                      <a:pt x="1875" y="2453"/>
                    </a:lnTo>
                    <a:lnTo>
                      <a:pt x="1892" y="2441"/>
                    </a:lnTo>
                    <a:lnTo>
                      <a:pt x="1928" y="2425"/>
                    </a:lnTo>
                    <a:lnTo>
                      <a:pt x="1966" y="2415"/>
                    </a:lnTo>
                    <a:lnTo>
                      <a:pt x="2006" y="2407"/>
                    </a:lnTo>
                    <a:lnTo>
                      <a:pt x="2045" y="2401"/>
                    </a:lnTo>
                    <a:lnTo>
                      <a:pt x="2085" y="2396"/>
                    </a:lnTo>
                    <a:lnTo>
                      <a:pt x="2126" y="2391"/>
                    </a:lnTo>
                    <a:lnTo>
                      <a:pt x="2166" y="2388"/>
                    </a:lnTo>
                    <a:lnTo>
                      <a:pt x="2206" y="2382"/>
                    </a:lnTo>
                    <a:lnTo>
                      <a:pt x="2246" y="2377"/>
                    </a:lnTo>
                    <a:lnTo>
                      <a:pt x="2286" y="2370"/>
                    </a:lnTo>
                    <a:lnTo>
                      <a:pt x="2326" y="2357"/>
                    </a:lnTo>
                    <a:lnTo>
                      <a:pt x="2362" y="2344"/>
                    </a:lnTo>
                    <a:lnTo>
                      <a:pt x="2397" y="2324"/>
                    </a:lnTo>
                    <a:lnTo>
                      <a:pt x="2434" y="2303"/>
                    </a:lnTo>
                    <a:lnTo>
                      <a:pt x="2467" y="2274"/>
                    </a:lnTo>
                    <a:lnTo>
                      <a:pt x="2497" y="2240"/>
                    </a:lnTo>
                    <a:lnTo>
                      <a:pt x="2524" y="2196"/>
                    </a:lnTo>
                    <a:lnTo>
                      <a:pt x="2540" y="2150"/>
                    </a:lnTo>
                    <a:lnTo>
                      <a:pt x="2549" y="2106"/>
                    </a:lnTo>
                    <a:lnTo>
                      <a:pt x="2551" y="2063"/>
                    </a:lnTo>
                    <a:lnTo>
                      <a:pt x="2545" y="2020"/>
                    </a:lnTo>
                    <a:lnTo>
                      <a:pt x="2535" y="1979"/>
                    </a:lnTo>
                    <a:lnTo>
                      <a:pt x="2518" y="1939"/>
                    </a:lnTo>
                    <a:lnTo>
                      <a:pt x="2497" y="1899"/>
                    </a:lnTo>
                    <a:lnTo>
                      <a:pt x="2472" y="1862"/>
                    </a:lnTo>
                    <a:lnTo>
                      <a:pt x="2441" y="1828"/>
                    </a:lnTo>
                    <a:lnTo>
                      <a:pt x="2408" y="1795"/>
                    </a:lnTo>
                    <a:lnTo>
                      <a:pt x="2372" y="1766"/>
                    </a:lnTo>
                    <a:lnTo>
                      <a:pt x="2334" y="1741"/>
                    </a:lnTo>
                    <a:lnTo>
                      <a:pt x="2293" y="1717"/>
                    </a:lnTo>
                    <a:lnTo>
                      <a:pt x="2251" y="1699"/>
                    </a:lnTo>
                    <a:lnTo>
                      <a:pt x="2211" y="1685"/>
                    </a:lnTo>
                    <a:lnTo>
                      <a:pt x="2153" y="1670"/>
                    </a:lnTo>
                    <a:lnTo>
                      <a:pt x="2093" y="1657"/>
                    </a:lnTo>
                    <a:lnTo>
                      <a:pt x="2033" y="1644"/>
                    </a:lnTo>
                    <a:lnTo>
                      <a:pt x="1973" y="1634"/>
                    </a:lnTo>
                    <a:lnTo>
                      <a:pt x="1913" y="1623"/>
                    </a:lnTo>
                    <a:lnTo>
                      <a:pt x="1855" y="1610"/>
                    </a:lnTo>
                    <a:lnTo>
                      <a:pt x="1795" y="1596"/>
                    </a:lnTo>
                    <a:lnTo>
                      <a:pt x="1739" y="1580"/>
                    </a:lnTo>
                    <a:lnTo>
                      <a:pt x="1684" y="1562"/>
                    </a:lnTo>
                    <a:lnTo>
                      <a:pt x="1630" y="1540"/>
                    </a:lnTo>
                    <a:lnTo>
                      <a:pt x="1582" y="1512"/>
                    </a:lnTo>
                    <a:lnTo>
                      <a:pt x="1536" y="1482"/>
                    </a:lnTo>
                    <a:lnTo>
                      <a:pt x="1495" y="1446"/>
                    </a:lnTo>
                    <a:lnTo>
                      <a:pt x="1457" y="1404"/>
                    </a:lnTo>
                    <a:lnTo>
                      <a:pt x="1426" y="1355"/>
                    </a:lnTo>
                    <a:lnTo>
                      <a:pt x="1399" y="1298"/>
                    </a:lnTo>
                    <a:lnTo>
                      <a:pt x="1381" y="1248"/>
                    </a:lnTo>
                    <a:lnTo>
                      <a:pt x="1377" y="1197"/>
                    </a:lnTo>
                    <a:lnTo>
                      <a:pt x="1383" y="1148"/>
                    </a:lnTo>
                    <a:lnTo>
                      <a:pt x="1399" y="1098"/>
                    </a:lnTo>
                    <a:lnTo>
                      <a:pt x="1419" y="1047"/>
                    </a:lnTo>
                    <a:lnTo>
                      <a:pt x="1444" y="997"/>
                    </a:lnTo>
                    <a:lnTo>
                      <a:pt x="1467" y="947"/>
                    </a:lnTo>
                    <a:lnTo>
                      <a:pt x="1492" y="897"/>
                    </a:lnTo>
                    <a:lnTo>
                      <a:pt x="1504" y="868"/>
                    </a:lnTo>
                    <a:lnTo>
                      <a:pt x="1507" y="836"/>
                    </a:lnTo>
                    <a:lnTo>
                      <a:pt x="1504" y="806"/>
                    </a:lnTo>
                    <a:lnTo>
                      <a:pt x="1492" y="778"/>
                    </a:lnTo>
                    <a:lnTo>
                      <a:pt x="1472" y="757"/>
                    </a:lnTo>
                    <a:lnTo>
                      <a:pt x="1450" y="739"/>
                    </a:lnTo>
                    <a:lnTo>
                      <a:pt x="1426" y="725"/>
                    </a:lnTo>
                    <a:lnTo>
                      <a:pt x="1402" y="712"/>
                    </a:lnTo>
                    <a:lnTo>
                      <a:pt x="1379" y="699"/>
                    </a:lnTo>
                    <a:lnTo>
                      <a:pt x="1359" y="685"/>
                    </a:lnTo>
                    <a:lnTo>
                      <a:pt x="1344" y="667"/>
                    </a:lnTo>
                    <a:lnTo>
                      <a:pt x="1334" y="645"/>
                    </a:lnTo>
                    <a:lnTo>
                      <a:pt x="1316" y="593"/>
                    </a:lnTo>
                    <a:lnTo>
                      <a:pt x="1311" y="536"/>
                    </a:lnTo>
                    <a:lnTo>
                      <a:pt x="1316" y="480"/>
                    </a:lnTo>
                    <a:lnTo>
                      <a:pt x="1334" y="427"/>
                    </a:lnTo>
                    <a:lnTo>
                      <a:pt x="1352" y="384"/>
                    </a:lnTo>
                    <a:lnTo>
                      <a:pt x="1369" y="339"/>
                    </a:lnTo>
                    <a:lnTo>
                      <a:pt x="1383" y="295"/>
                    </a:lnTo>
                    <a:lnTo>
                      <a:pt x="1394" y="250"/>
                    </a:lnTo>
                    <a:lnTo>
                      <a:pt x="1400" y="207"/>
                    </a:lnTo>
                    <a:lnTo>
                      <a:pt x="1400" y="163"/>
                    </a:lnTo>
                    <a:lnTo>
                      <a:pt x="1395" y="118"/>
                    </a:lnTo>
                    <a:lnTo>
                      <a:pt x="1381" y="74"/>
                    </a:lnTo>
                    <a:lnTo>
                      <a:pt x="1377" y="62"/>
                    </a:lnTo>
                    <a:lnTo>
                      <a:pt x="1369" y="45"/>
                    </a:lnTo>
                    <a:lnTo>
                      <a:pt x="1355" y="31"/>
                    </a:lnTo>
                    <a:lnTo>
                      <a:pt x="1339" y="16"/>
                    </a:lnTo>
                    <a:lnTo>
                      <a:pt x="1322" y="5"/>
                    </a:lnTo>
                    <a:lnTo>
                      <a:pt x="1307" y="0"/>
                    </a:lnTo>
                    <a:lnTo>
                      <a:pt x="1295" y="0"/>
                    </a:lnTo>
                    <a:lnTo>
                      <a:pt x="1286" y="7"/>
                    </a:lnTo>
                    <a:close/>
                  </a:path>
                </a:pathLst>
              </a:custGeom>
              <a:solidFill>
                <a:srgbClr val="a2d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449480" y="523512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8">
                    <a:moveTo>
                      <a:pt x="0" y="663"/>
                    </a:moveTo>
                    <a:lnTo>
                      <a:pt x="13" y="676"/>
                    </a:lnTo>
                    <a:lnTo>
                      <a:pt x="25" y="687"/>
                    </a:lnTo>
                    <a:lnTo>
                      <a:pt x="38" y="697"/>
                    </a:lnTo>
                    <a:lnTo>
                      <a:pt x="50" y="707"/>
                    </a:lnTo>
                    <a:lnTo>
                      <a:pt x="65" y="713"/>
                    </a:lnTo>
                    <a:lnTo>
                      <a:pt x="80" y="718"/>
                    </a:lnTo>
                    <a:lnTo>
                      <a:pt x="95" y="716"/>
                    </a:lnTo>
                    <a:lnTo>
                      <a:pt x="113" y="712"/>
                    </a:lnTo>
                    <a:lnTo>
                      <a:pt x="155" y="689"/>
                    </a:lnTo>
                    <a:lnTo>
                      <a:pt x="190" y="660"/>
                    </a:lnTo>
                    <a:lnTo>
                      <a:pt x="219" y="625"/>
                    </a:lnTo>
                    <a:lnTo>
                      <a:pt x="245" y="587"/>
                    </a:lnTo>
                    <a:lnTo>
                      <a:pt x="268" y="549"/>
                    </a:lnTo>
                    <a:lnTo>
                      <a:pt x="291" y="515"/>
                    </a:lnTo>
                    <a:lnTo>
                      <a:pt x="319" y="483"/>
                    </a:lnTo>
                    <a:lnTo>
                      <a:pt x="351" y="460"/>
                    </a:lnTo>
                    <a:lnTo>
                      <a:pt x="381" y="449"/>
                    </a:lnTo>
                    <a:lnTo>
                      <a:pt x="411" y="449"/>
                    </a:lnTo>
                    <a:lnTo>
                      <a:pt x="443" y="459"/>
                    </a:lnTo>
                    <a:lnTo>
                      <a:pt x="474" y="471"/>
                    </a:lnTo>
                    <a:lnTo>
                      <a:pt x="504" y="486"/>
                    </a:lnTo>
                    <a:lnTo>
                      <a:pt x="537" y="496"/>
                    </a:lnTo>
                    <a:lnTo>
                      <a:pt x="572" y="500"/>
                    </a:lnTo>
                    <a:lnTo>
                      <a:pt x="606" y="494"/>
                    </a:lnTo>
                    <a:lnTo>
                      <a:pt x="634" y="478"/>
                    </a:lnTo>
                    <a:lnTo>
                      <a:pt x="659" y="459"/>
                    </a:lnTo>
                    <a:lnTo>
                      <a:pt x="680" y="435"/>
                    </a:lnTo>
                    <a:lnTo>
                      <a:pt x="701" y="407"/>
                    </a:lnTo>
                    <a:lnTo>
                      <a:pt x="720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09"/>
                    </a:lnTo>
                    <a:lnTo>
                      <a:pt x="810" y="295"/>
                    </a:lnTo>
                    <a:lnTo>
                      <a:pt x="842" y="288"/>
                    </a:lnTo>
                    <a:lnTo>
                      <a:pt x="871" y="286"/>
                    </a:lnTo>
                    <a:lnTo>
                      <a:pt x="902" y="288"/>
                    </a:lnTo>
                    <a:lnTo>
                      <a:pt x="932" y="292"/>
                    </a:lnTo>
                    <a:lnTo>
                      <a:pt x="960" y="295"/>
                    </a:lnTo>
                    <a:lnTo>
                      <a:pt x="992" y="298"/>
                    </a:lnTo>
                    <a:lnTo>
                      <a:pt x="1020" y="293"/>
                    </a:lnTo>
                    <a:lnTo>
                      <a:pt x="1060" y="277"/>
                    </a:lnTo>
                    <a:lnTo>
                      <a:pt x="1095" y="257"/>
                    </a:lnTo>
                    <a:lnTo>
                      <a:pt x="1123" y="232"/>
                    </a:lnTo>
                    <a:lnTo>
                      <a:pt x="1153" y="203"/>
                    </a:lnTo>
                    <a:lnTo>
                      <a:pt x="1179" y="172"/>
                    </a:lnTo>
                    <a:lnTo>
                      <a:pt x="1205" y="140"/>
                    </a:lnTo>
                    <a:lnTo>
                      <a:pt x="1231" y="107"/>
                    </a:lnTo>
                    <a:lnTo>
                      <a:pt x="1260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3" y="74"/>
                    </a:lnTo>
                    <a:lnTo>
                      <a:pt x="1293" y="74"/>
                    </a:lnTo>
                    <a:lnTo>
                      <a:pt x="1301" y="74"/>
                    </a:lnTo>
                    <a:lnTo>
                      <a:pt x="1309" y="74"/>
                    </a:lnTo>
                    <a:lnTo>
                      <a:pt x="1316" y="74"/>
                    </a:lnTo>
                    <a:lnTo>
                      <a:pt x="1323" y="74"/>
                    </a:lnTo>
                    <a:lnTo>
                      <a:pt x="1346" y="89"/>
                    </a:lnTo>
                    <a:lnTo>
                      <a:pt x="1368" y="101"/>
                    </a:lnTo>
                    <a:lnTo>
                      <a:pt x="1392" y="113"/>
                    </a:lnTo>
                    <a:lnTo>
                      <a:pt x="1418" y="119"/>
                    </a:lnTo>
                    <a:lnTo>
                      <a:pt x="1442" y="125"/>
                    </a:lnTo>
                    <a:lnTo>
                      <a:pt x="1469" y="129"/>
                    </a:lnTo>
                    <a:lnTo>
                      <a:pt x="1496" y="130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6" y="121"/>
                    </a:lnTo>
                    <a:lnTo>
                      <a:pt x="1602" y="116"/>
                    </a:lnTo>
                    <a:lnTo>
                      <a:pt x="1628" y="107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700" y="72"/>
                    </a:lnTo>
                    <a:lnTo>
                      <a:pt x="1721" y="58"/>
                    </a:lnTo>
                    <a:lnTo>
                      <a:pt x="1787" y="0"/>
                    </a:lnTo>
                    <a:lnTo>
                      <a:pt x="1765" y="15"/>
                    </a:lnTo>
                    <a:lnTo>
                      <a:pt x="1743" y="29"/>
                    </a:lnTo>
                    <a:lnTo>
                      <a:pt x="1719" y="40"/>
                    </a:lnTo>
                    <a:lnTo>
                      <a:pt x="1694" y="49"/>
                    </a:lnTo>
                    <a:lnTo>
                      <a:pt x="1667" y="58"/>
                    </a:lnTo>
                    <a:lnTo>
                      <a:pt x="1642" y="63"/>
                    </a:lnTo>
                    <a:lnTo>
                      <a:pt x="1616" y="69"/>
                    </a:lnTo>
                    <a:lnTo>
                      <a:pt x="1589" y="71"/>
                    </a:lnTo>
                    <a:lnTo>
                      <a:pt x="1561" y="72"/>
                    </a:lnTo>
                    <a:lnTo>
                      <a:pt x="1534" y="71"/>
                    </a:lnTo>
                    <a:lnTo>
                      <a:pt x="1509" y="67"/>
                    </a:lnTo>
                    <a:lnTo>
                      <a:pt x="1483" y="61"/>
                    </a:lnTo>
                    <a:lnTo>
                      <a:pt x="1458" y="55"/>
                    </a:lnTo>
                    <a:lnTo>
                      <a:pt x="1434" y="44"/>
                    </a:lnTo>
                    <a:lnTo>
                      <a:pt x="1411" y="31"/>
                    </a:lnTo>
                    <a:lnTo>
                      <a:pt x="1389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6" y="16"/>
                    </a:lnTo>
                    <a:lnTo>
                      <a:pt x="1358" y="16"/>
                    </a:lnTo>
                    <a:lnTo>
                      <a:pt x="1348" y="16"/>
                    </a:lnTo>
                    <a:lnTo>
                      <a:pt x="1339" y="16"/>
                    </a:lnTo>
                    <a:lnTo>
                      <a:pt x="1332" y="16"/>
                    </a:lnTo>
                    <a:lnTo>
                      <a:pt x="1325" y="16"/>
                    </a:lnTo>
                    <a:lnTo>
                      <a:pt x="1296" y="49"/>
                    </a:lnTo>
                    <a:lnTo>
                      <a:pt x="1270" y="82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60" y="200"/>
                    </a:lnTo>
                    <a:lnTo>
                      <a:pt x="1125" y="219"/>
                    </a:lnTo>
                    <a:lnTo>
                      <a:pt x="1086" y="235"/>
                    </a:lnTo>
                    <a:lnTo>
                      <a:pt x="1057" y="240"/>
                    </a:lnTo>
                    <a:lnTo>
                      <a:pt x="1026" y="237"/>
                    </a:lnTo>
                    <a:lnTo>
                      <a:pt x="997" y="234"/>
                    </a:lnTo>
                    <a:lnTo>
                      <a:pt x="967" y="230"/>
                    </a:lnTo>
                    <a:lnTo>
                      <a:pt x="938" y="229"/>
                    </a:lnTo>
                    <a:lnTo>
                      <a:pt x="907" y="230"/>
                    </a:lnTo>
                    <a:lnTo>
                      <a:pt x="878" y="237"/>
                    </a:lnTo>
                    <a:lnTo>
                      <a:pt x="847" y="251"/>
                    </a:lnTo>
                    <a:lnTo>
                      <a:pt x="825" y="274"/>
                    </a:lnTo>
                    <a:lnTo>
                      <a:pt x="804" y="298"/>
                    </a:lnTo>
                    <a:lnTo>
                      <a:pt x="785" y="324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5" y="401"/>
                    </a:lnTo>
                    <a:lnTo>
                      <a:pt x="701" y="420"/>
                    </a:lnTo>
                    <a:lnTo>
                      <a:pt x="674" y="436"/>
                    </a:lnTo>
                    <a:lnTo>
                      <a:pt x="637" y="442"/>
                    </a:lnTo>
                    <a:lnTo>
                      <a:pt x="604" y="438"/>
                    </a:lnTo>
                    <a:lnTo>
                      <a:pt x="572" y="428"/>
                    </a:lnTo>
                    <a:lnTo>
                      <a:pt x="539" y="414"/>
                    </a:lnTo>
                    <a:lnTo>
                      <a:pt x="508" y="401"/>
                    </a:lnTo>
                    <a:lnTo>
                      <a:pt x="477" y="391"/>
                    </a:lnTo>
                    <a:lnTo>
                      <a:pt x="448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8" y="457"/>
                    </a:lnTo>
                    <a:lnTo>
                      <a:pt x="334" y="491"/>
                    </a:lnTo>
                    <a:lnTo>
                      <a:pt x="310" y="528"/>
                    </a:lnTo>
                    <a:lnTo>
                      <a:pt x="284" y="565"/>
                    </a:lnTo>
                    <a:lnTo>
                      <a:pt x="256" y="600"/>
                    </a:lnTo>
                    <a:lnTo>
                      <a:pt x="221" y="631"/>
                    </a:lnTo>
                    <a:lnTo>
                      <a:pt x="178" y="654"/>
                    </a:lnTo>
                    <a:lnTo>
                      <a:pt x="161" y="658"/>
                    </a:lnTo>
                    <a:lnTo>
                      <a:pt x="145" y="658"/>
                    </a:lnTo>
                    <a:lnTo>
                      <a:pt x="131" y="654"/>
                    </a:lnTo>
                    <a:lnTo>
                      <a:pt x="118" y="647"/>
                    </a:lnTo>
                    <a:lnTo>
                      <a:pt x="103" y="639"/>
                    </a:lnTo>
                    <a:lnTo>
                      <a:pt x="92" y="629"/>
                    </a:lnTo>
                    <a:lnTo>
                      <a:pt x="80" y="616"/>
                    </a:lnTo>
                    <a:lnTo>
                      <a:pt x="68" y="604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9640" y="526716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6">
                    <a:moveTo>
                      <a:pt x="0" y="661"/>
                    </a:moveTo>
                    <a:lnTo>
                      <a:pt x="12" y="674"/>
                    </a:lnTo>
                    <a:lnTo>
                      <a:pt x="24" y="687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3" y="712"/>
                    </a:lnTo>
                    <a:lnTo>
                      <a:pt x="79" y="716"/>
                    </a:lnTo>
                    <a:lnTo>
                      <a:pt x="94" y="716"/>
                    </a:lnTo>
                    <a:lnTo>
                      <a:pt x="112" y="712"/>
                    </a:lnTo>
                    <a:lnTo>
                      <a:pt x="155" y="689"/>
                    </a:lnTo>
                    <a:lnTo>
                      <a:pt x="188" y="658"/>
                    </a:lnTo>
                    <a:lnTo>
                      <a:pt x="218" y="623"/>
                    </a:lnTo>
                    <a:lnTo>
                      <a:pt x="243" y="585"/>
                    </a:lnTo>
                    <a:lnTo>
                      <a:pt x="266" y="549"/>
                    </a:lnTo>
                    <a:lnTo>
                      <a:pt x="290" y="515"/>
                    </a:lnTo>
                    <a:lnTo>
                      <a:pt x="318" y="484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1" y="458"/>
                    </a:lnTo>
                    <a:lnTo>
                      <a:pt x="473" y="471"/>
                    </a:lnTo>
                    <a:lnTo>
                      <a:pt x="504" y="486"/>
                    </a:lnTo>
                    <a:lnTo>
                      <a:pt x="536" y="496"/>
                    </a:lnTo>
                    <a:lnTo>
                      <a:pt x="571" y="500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9" y="458"/>
                    </a:lnTo>
                    <a:lnTo>
                      <a:pt x="679" y="435"/>
                    </a:lnTo>
                    <a:lnTo>
                      <a:pt x="699" y="407"/>
                    </a:lnTo>
                    <a:lnTo>
                      <a:pt x="719" y="383"/>
                    </a:lnTo>
                    <a:lnTo>
                      <a:pt x="737" y="355"/>
                    </a:lnTo>
                    <a:lnTo>
                      <a:pt x="759" y="331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6"/>
                    </a:lnTo>
                    <a:lnTo>
                      <a:pt x="901" y="288"/>
                    </a:lnTo>
                    <a:lnTo>
                      <a:pt x="930" y="291"/>
                    </a:lnTo>
                    <a:lnTo>
                      <a:pt x="959" y="296"/>
                    </a:lnTo>
                    <a:lnTo>
                      <a:pt x="990" y="297"/>
                    </a:lnTo>
                    <a:lnTo>
                      <a:pt x="1020" y="293"/>
                    </a:lnTo>
                    <a:lnTo>
                      <a:pt x="1059" y="277"/>
                    </a:lnTo>
                    <a:lnTo>
                      <a:pt x="1093" y="257"/>
                    </a:lnTo>
                    <a:lnTo>
                      <a:pt x="1123" y="232"/>
                    </a:lnTo>
                    <a:lnTo>
                      <a:pt x="1152" y="203"/>
                    </a:lnTo>
                    <a:lnTo>
                      <a:pt x="1178" y="172"/>
                    </a:lnTo>
                    <a:lnTo>
                      <a:pt x="1203" y="140"/>
                    </a:lnTo>
                    <a:lnTo>
                      <a:pt x="1230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3" y="74"/>
                    </a:lnTo>
                    <a:lnTo>
                      <a:pt x="1281" y="74"/>
                    </a:lnTo>
                    <a:lnTo>
                      <a:pt x="1291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5" y="88"/>
                    </a:lnTo>
                    <a:lnTo>
                      <a:pt x="1367" y="101"/>
                    </a:lnTo>
                    <a:lnTo>
                      <a:pt x="1391" y="112"/>
                    </a:lnTo>
                    <a:lnTo>
                      <a:pt x="1417" y="119"/>
                    </a:lnTo>
                    <a:lnTo>
                      <a:pt x="1441" y="125"/>
                    </a:lnTo>
                    <a:lnTo>
                      <a:pt x="1468" y="129"/>
                    </a:lnTo>
                    <a:lnTo>
                      <a:pt x="1494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6" y="122"/>
                    </a:lnTo>
                    <a:lnTo>
                      <a:pt x="1601" y="116"/>
                    </a:lnTo>
                    <a:lnTo>
                      <a:pt x="1627" y="106"/>
                    </a:lnTo>
                    <a:lnTo>
                      <a:pt x="1651" y="98"/>
                    </a:lnTo>
                    <a:lnTo>
                      <a:pt x="1674" y="87"/>
                    </a:lnTo>
                    <a:lnTo>
                      <a:pt x="1699" y="72"/>
                    </a:lnTo>
                    <a:lnTo>
                      <a:pt x="1719" y="58"/>
                    </a:lnTo>
                    <a:lnTo>
                      <a:pt x="1787" y="0"/>
                    </a:lnTo>
                    <a:lnTo>
                      <a:pt x="1764" y="14"/>
                    </a:lnTo>
                    <a:lnTo>
                      <a:pt x="1742" y="29"/>
                    </a:lnTo>
                    <a:lnTo>
                      <a:pt x="1718" y="40"/>
                    </a:lnTo>
                    <a:lnTo>
                      <a:pt x="1692" y="48"/>
                    </a:lnTo>
                    <a:lnTo>
                      <a:pt x="1666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8" y="67"/>
                    </a:lnTo>
                    <a:lnTo>
                      <a:pt x="1483" y="61"/>
                    </a:lnTo>
                    <a:lnTo>
                      <a:pt x="1456" y="54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4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6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4" y="16"/>
                    </a:lnTo>
                    <a:lnTo>
                      <a:pt x="1295" y="48"/>
                    </a:lnTo>
                    <a:lnTo>
                      <a:pt x="1270" y="82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5" y="239"/>
                    </a:lnTo>
                    <a:lnTo>
                      <a:pt x="1025" y="238"/>
                    </a:lnTo>
                    <a:lnTo>
                      <a:pt x="995" y="233"/>
                    </a:lnTo>
                    <a:lnTo>
                      <a:pt x="967" y="230"/>
                    </a:lnTo>
                    <a:lnTo>
                      <a:pt x="937" y="228"/>
                    </a:lnTo>
                    <a:lnTo>
                      <a:pt x="906" y="230"/>
                    </a:lnTo>
                    <a:lnTo>
                      <a:pt x="877" y="238"/>
                    </a:lnTo>
                    <a:lnTo>
                      <a:pt x="846" y="252"/>
                    </a:lnTo>
                    <a:lnTo>
                      <a:pt x="824" y="273"/>
                    </a:lnTo>
                    <a:lnTo>
                      <a:pt x="803" y="297"/>
                    </a:lnTo>
                    <a:lnTo>
                      <a:pt x="784" y="325"/>
                    </a:lnTo>
                    <a:lnTo>
                      <a:pt x="765" y="349"/>
                    </a:lnTo>
                    <a:lnTo>
                      <a:pt x="744" y="377"/>
                    </a:lnTo>
                    <a:lnTo>
                      <a:pt x="724" y="400"/>
                    </a:lnTo>
                    <a:lnTo>
                      <a:pt x="699" y="420"/>
                    </a:lnTo>
                    <a:lnTo>
                      <a:pt x="672" y="436"/>
                    </a:lnTo>
                    <a:lnTo>
                      <a:pt x="636" y="442"/>
                    </a:lnTo>
                    <a:lnTo>
                      <a:pt x="603" y="438"/>
                    </a:lnTo>
                    <a:lnTo>
                      <a:pt x="571" y="428"/>
                    </a:lnTo>
                    <a:lnTo>
                      <a:pt x="538" y="413"/>
                    </a:lnTo>
                    <a:lnTo>
                      <a:pt x="507" y="399"/>
                    </a:lnTo>
                    <a:lnTo>
                      <a:pt x="476" y="391"/>
                    </a:lnTo>
                    <a:lnTo>
                      <a:pt x="446" y="391"/>
                    </a:lnTo>
                    <a:lnTo>
                      <a:pt x="416" y="402"/>
                    </a:lnTo>
                    <a:lnTo>
                      <a:pt x="383" y="426"/>
                    </a:lnTo>
                    <a:lnTo>
                      <a:pt x="358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3" y="565"/>
                    </a:lnTo>
                    <a:lnTo>
                      <a:pt x="256" y="600"/>
                    </a:lnTo>
                    <a:lnTo>
                      <a:pt x="220" y="631"/>
                    </a:lnTo>
                    <a:lnTo>
                      <a:pt x="177" y="654"/>
                    </a:lnTo>
                    <a:lnTo>
                      <a:pt x="160" y="658"/>
                    </a:lnTo>
                    <a:lnTo>
                      <a:pt x="144" y="658"/>
                    </a:lnTo>
                    <a:lnTo>
                      <a:pt x="130" y="654"/>
                    </a:lnTo>
                    <a:lnTo>
                      <a:pt x="117" y="647"/>
                    </a:lnTo>
                    <a:lnTo>
                      <a:pt x="103" y="639"/>
                    </a:lnTo>
                    <a:lnTo>
                      <a:pt x="90" y="629"/>
                    </a:lnTo>
                    <a:lnTo>
                      <a:pt x="79" y="616"/>
                    </a:lnTo>
                    <a:lnTo>
                      <a:pt x="67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5920" y="530208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5" h="718">
                    <a:moveTo>
                      <a:pt x="0" y="663"/>
                    </a:moveTo>
                    <a:lnTo>
                      <a:pt x="11" y="676"/>
                    </a:lnTo>
                    <a:lnTo>
                      <a:pt x="24" y="687"/>
                    </a:lnTo>
                    <a:lnTo>
                      <a:pt x="38" y="698"/>
                    </a:lnTo>
                    <a:lnTo>
                      <a:pt x="50" y="707"/>
                    </a:lnTo>
                    <a:lnTo>
                      <a:pt x="64" y="714"/>
                    </a:lnTo>
                    <a:lnTo>
                      <a:pt x="79" y="718"/>
                    </a:lnTo>
                    <a:lnTo>
                      <a:pt x="94" y="718"/>
                    </a:lnTo>
                    <a:lnTo>
                      <a:pt x="111" y="714"/>
                    </a:lnTo>
                    <a:lnTo>
                      <a:pt x="154" y="690"/>
                    </a:lnTo>
                    <a:lnTo>
                      <a:pt x="189" y="660"/>
                    </a:lnTo>
                    <a:lnTo>
                      <a:pt x="219" y="626"/>
                    </a:lnTo>
                    <a:lnTo>
                      <a:pt x="242" y="587"/>
                    </a:lnTo>
                    <a:lnTo>
                      <a:pt x="266" y="552"/>
                    </a:lnTo>
                    <a:lnTo>
                      <a:pt x="291" y="517"/>
                    </a:lnTo>
                    <a:lnTo>
                      <a:pt x="319" y="486"/>
                    </a:lnTo>
                    <a:lnTo>
                      <a:pt x="351" y="462"/>
                    </a:lnTo>
                    <a:lnTo>
                      <a:pt x="380" y="452"/>
                    </a:lnTo>
                    <a:lnTo>
                      <a:pt x="411" y="452"/>
                    </a:lnTo>
                    <a:lnTo>
                      <a:pt x="440" y="459"/>
                    </a:lnTo>
                    <a:lnTo>
                      <a:pt x="472" y="473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2"/>
                    </a:lnTo>
                    <a:lnTo>
                      <a:pt x="605" y="495"/>
                    </a:lnTo>
                    <a:lnTo>
                      <a:pt x="633" y="481"/>
                    </a:lnTo>
                    <a:lnTo>
                      <a:pt x="657" y="459"/>
                    </a:lnTo>
                    <a:lnTo>
                      <a:pt x="680" y="436"/>
                    </a:lnTo>
                    <a:lnTo>
                      <a:pt x="698" y="410"/>
                    </a:lnTo>
                    <a:lnTo>
                      <a:pt x="719" y="383"/>
                    </a:lnTo>
                    <a:lnTo>
                      <a:pt x="738" y="355"/>
                    </a:lnTo>
                    <a:lnTo>
                      <a:pt x="758" y="332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8"/>
                    </a:lnTo>
                    <a:lnTo>
                      <a:pt x="900" y="291"/>
                    </a:lnTo>
                    <a:lnTo>
                      <a:pt x="928" y="294"/>
                    </a:lnTo>
                    <a:lnTo>
                      <a:pt x="960" y="296"/>
                    </a:lnTo>
                    <a:lnTo>
                      <a:pt x="989" y="298"/>
                    </a:lnTo>
                    <a:lnTo>
                      <a:pt x="1020" y="294"/>
                    </a:lnTo>
                    <a:lnTo>
                      <a:pt x="1058" y="280"/>
                    </a:lnTo>
                    <a:lnTo>
                      <a:pt x="1092" y="257"/>
                    </a:lnTo>
                    <a:lnTo>
                      <a:pt x="1123" y="233"/>
                    </a:lnTo>
                    <a:lnTo>
                      <a:pt x="1151" y="203"/>
                    </a:lnTo>
                    <a:lnTo>
                      <a:pt x="1176" y="172"/>
                    </a:lnTo>
                    <a:lnTo>
                      <a:pt x="1202" y="141"/>
                    </a:lnTo>
                    <a:lnTo>
                      <a:pt x="1229" y="109"/>
                    </a:lnTo>
                    <a:lnTo>
                      <a:pt x="1259" y="77"/>
                    </a:lnTo>
                    <a:lnTo>
                      <a:pt x="1266" y="77"/>
                    </a:lnTo>
                    <a:lnTo>
                      <a:pt x="1273" y="77"/>
                    </a:lnTo>
                    <a:lnTo>
                      <a:pt x="1281" y="77"/>
                    </a:lnTo>
                    <a:lnTo>
                      <a:pt x="1290" y="77"/>
                    </a:lnTo>
                    <a:lnTo>
                      <a:pt x="1299" y="77"/>
                    </a:lnTo>
                    <a:lnTo>
                      <a:pt x="1307" y="77"/>
                    </a:lnTo>
                    <a:lnTo>
                      <a:pt x="1316" y="77"/>
                    </a:lnTo>
                    <a:lnTo>
                      <a:pt x="1322" y="77"/>
                    </a:lnTo>
                    <a:lnTo>
                      <a:pt x="1344" y="91"/>
                    </a:lnTo>
                    <a:lnTo>
                      <a:pt x="1367" y="104"/>
                    </a:lnTo>
                    <a:lnTo>
                      <a:pt x="1392" y="113"/>
                    </a:lnTo>
                    <a:lnTo>
                      <a:pt x="1416" y="120"/>
                    </a:lnTo>
                    <a:lnTo>
                      <a:pt x="1442" y="127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0" y="130"/>
                    </a:lnTo>
                    <a:lnTo>
                      <a:pt x="1548" y="129"/>
                    </a:lnTo>
                    <a:lnTo>
                      <a:pt x="1574" y="124"/>
                    </a:lnTo>
                    <a:lnTo>
                      <a:pt x="1602" y="119"/>
                    </a:lnTo>
                    <a:lnTo>
                      <a:pt x="1625" y="109"/>
                    </a:lnTo>
                    <a:lnTo>
                      <a:pt x="1652" y="100"/>
                    </a:lnTo>
                    <a:lnTo>
                      <a:pt x="1675" y="87"/>
                    </a:lnTo>
                    <a:lnTo>
                      <a:pt x="1698" y="75"/>
                    </a:lnTo>
                    <a:lnTo>
                      <a:pt x="1720" y="61"/>
                    </a:lnTo>
                    <a:lnTo>
                      <a:pt x="1785" y="0"/>
                    </a:lnTo>
                    <a:lnTo>
                      <a:pt x="1765" y="14"/>
                    </a:lnTo>
                    <a:lnTo>
                      <a:pt x="1740" y="29"/>
                    </a:lnTo>
                    <a:lnTo>
                      <a:pt x="1717" y="40"/>
                    </a:lnTo>
                    <a:lnTo>
                      <a:pt x="1692" y="51"/>
                    </a:lnTo>
                    <a:lnTo>
                      <a:pt x="1667" y="58"/>
                    </a:lnTo>
                    <a:lnTo>
                      <a:pt x="1640" y="66"/>
                    </a:lnTo>
                    <a:lnTo>
                      <a:pt x="1613" y="69"/>
                    </a:lnTo>
                    <a:lnTo>
                      <a:pt x="1587" y="72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7" y="69"/>
                    </a:lnTo>
                    <a:lnTo>
                      <a:pt x="1482" y="62"/>
                    </a:lnTo>
                    <a:lnTo>
                      <a:pt x="1457" y="55"/>
                    </a:lnTo>
                    <a:lnTo>
                      <a:pt x="1432" y="46"/>
                    </a:lnTo>
                    <a:lnTo>
                      <a:pt x="1410" y="33"/>
                    </a:lnTo>
                    <a:lnTo>
                      <a:pt x="1387" y="19"/>
                    </a:lnTo>
                    <a:lnTo>
                      <a:pt x="1381" y="19"/>
                    </a:lnTo>
                    <a:lnTo>
                      <a:pt x="1374" y="19"/>
                    </a:lnTo>
                    <a:lnTo>
                      <a:pt x="1366" y="19"/>
                    </a:lnTo>
                    <a:lnTo>
                      <a:pt x="1357" y="19"/>
                    </a:lnTo>
                    <a:lnTo>
                      <a:pt x="1347" y="19"/>
                    </a:lnTo>
                    <a:lnTo>
                      <a:pt x="1339" y="19"/>
                    </a:lnTo>
                    <a:lnTo>
                      <a:pt x="1331" y="19"/>
                    </a:lnTo>
                    <a:lnTo>
                      <a:pt x="1324" y="19"/>
                    </a:lnTo>
                    <a:lnTo>
                      <a:pt x="1295" y="51"/>
                    </a:lnTo>
                    <a:lnTo>
                      <a:pt x="1269" y="84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59" y="199"/>
                    </a:lnTo>
                    <a:lnTo>
                      <a:pt x="1125" y="222"/>
                    </a:lnTo>
                    <a:lnTo>
                      <a:pt x="1086" y="236"/>
                    </a:lnTo>
                    <a:lnTo>
                      <a:pt x="1056" y="240"/>
                    </a:lnTo>
                    <a:lnTo>
                      <a:pt x="1025" y="238"/>
                    </a:lnTo>
                    <a:lnTo>
                      <a:pt x="996" y="236"/>
                    </a:lnTo>
                    <a:lnTo>
                      <a:pt x="966" y="233"/>
                    </a:lnTo>
                    <a:lnTo>
                      <a:pt x="936" y="230"/>
                    </a:lnTo>
                    <a:lnTo>
                      <a:pt x="906" y="230"/>
                    </a:lnTo>
                    <a:lnTo>
                      <a:pt x="875" y="238"/>
                    </a:lnTo>
                    <a:lnTo>
                      <a:pt x="846" y="252"/>
                    </a:lnTo>
                    <a:lnTo>
                      <a:pt x="823" y="274"/>
                    </a:lnTo>
                    <a:lnTo>
                      <a:pt x="803" y="298"/>
                    </a:lnTo>
                    <a:lnTo>
                      <a:pt x="785" y="325"/>
                    </a:lnTo>
                    <a:lnTo>
                      <a:pt x="763" y="352"/>
                    </a:lnTo>
                    <a:lnTo>
                      <a:pt x="745" y="378"/>
                    </a:lnTo>
                    <a:lnTo>
                      <a:pt x="722" y="401"/>
                    </a:lnTo>
                    <a:lnTo>
                      <a:pt x="698" y="423"/>
                    </a:lnTo>
                    <a:lnTo>
                      <a:pt x="670" y="437"/>
                    </a:lnTo>
                    <a:lnTo>
                      <a:pt x="637" y="444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8" y="415"/>
                    </a:lnTo>
                    <a:lnTo>
                      <a:pt x="507" y="401"/>
                    </a:lnTo>
                    <a:lnTo>
                      <a:pt x="477" y="394"/>
                    </a:lnTo>
                    <a:lnTo>
                      <a:pt x="445" y="394"/>
                    </a:lnTo>
                    <a:lnTo>
                      <a:pt x="416" y="404"/>
                    </a:lnTo>
                    <a:lnTo>
                      <a:pt x="384" y="428"/>
                    </a:lnTo>
                    <a:lnTo>
                      <a:pt x="356" y="457"/>
                    </a:lnTo>
                    <a:lnTo>
                      <a:pt x="332" y="491"/>
                    </a:lnTo>
                    <a:lnTo>
                      <a:pt x="307" y="529"/>
                    </a:lnTo>
                    <a:lnTo>
                      <a:pt x="284" y="568"/>
                    </a:lnTo>
                    <a:lnTo>
                      <a:pt x="254" y="602"/>
                    </a:lnTo>
                    <a:lnTo>
                      <a:pt x="220" y="633"/>
                    </a:lnTo>
                    <a:lnTo>
                      <a:pt x="177" y="656"/>
                    </a:lnTo>
                    <a:lnTo>
                      <a:pt x="159" y="660"/>
                    </a:lnTo>
                    <a:lnTo>
                      <a:pt x="144" y="660"/>
                    </a:lnTo>
                    <a:lnTo>
                      <a:pt x="129" y="656"/>
                    </a:lnTo>
                    <a:lnTo>
                      <a:pt x="116" y="649"/>
                    </a:lnTo>
                    <a:lnTo>
                      <a:pt x="103" y="640"/>
                    </a:lnTo>
                    <a:lnTo>
                      <a:pt x="89" y="629"/>
                    </a:lnTo>
                    <a:lnTo>
                      <a:pt x="78" y="618"/>
                    </a:lnTo>
                    <a:lnTo>
                      <a:pt x="66" y="60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18600" y="533016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6">
                    <a:moveTo>
                      <a:pt x="0" y="662"/>
                    </a:moveTo>
                    <a:lnTo>
                      <a:pt x="12" y="675"/>
                    </a:lnTo>
                    <a:lnTo>
                      <a:pt x="25" y="688"/>
                    </a:lnTo>
                    <a:lnTo>
                      <a:pt x="38" y="699"/>
                    </a:lnTo>
                    <a:lnTo>
                      <a:pt x="50" y="705"/>
                    </a:lnTo>
                    <a:lnTo>
                      <a:pt x="65" y="713"/>
                    </a:lnTo>
                    <a:lnTo>
                      <a:pt x="80" y="716"/>
                    </a:lnTo>
                    <a:lnTo>
                      <a:pt x="95" y="716"/>
                    </a:lnTo>
                    <a:lnTo>
                      <a:pt x="112" y="713"/>
                    </a:lnTo>
                    <a:lnTo>
                      <a:pt x="155" y="689"/>
                    </a:lnTo>
                    <a:lnTo>
                      <a:pt x="190" y="659"/>
                    </a:lnTo>
                    <a:lnTo>
                      <a:pt x="219" y="623"/>
                    </a:lnTo>
                    <a:lnTo>
                      <a:pt x="243" y="586"/>
                    </a:lnTo>
                    <a:lnTo>
                      <a:pt x="267" y="549"/>
                    </a:lnTo>
                    <a:lnTo>
                      <a:pt x="291" y="515"/>
                    </a:lnTo>
                    <a:lnTo>
                      <a:pt x="318" y="485"/>
                    </a:lnTo>
                    <a:lnTo>
                      <a:pt x="351" y="461"/>
                    </a:lnTo>
                    <a:lnTo>
                      <a:pt x="381" y="450"/>
                    </a:lnTo>
                    <a:lnTo>
                      <a:pt x="411" y="450"/>
                    </a:lnTo>
                    <a:lnTo>
                      <a:pt x="441" y="457"/>
                    </a:lnTo>
                    <a:lnTo>
                      <a:pt x="471" y="472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1"/>
                    </a:lnTo>
                    <a:lnTo>
                      <a:pt x="606" y="496"/>
                    </a:lnTo>
                    <a:lnTo>
                      <a:pt x="634" y="479"/>
                    </a:lnTo>
                    <a:lnTo>
                      <a:pt x="657" y="459"/>
                    </a:lnTo>
                    <a:lnTo>
                      <a:pt x="680" y="435"/>
                    </a:lnTo>
                    <a:lnTo>
                      <a:pt x="699" y="408"/>
                    </a:lnTo>
                    <a:lnTo>
                      <a:pt x="719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11"/>
                    </a:lnTo>
                    <a:lnTo>
                      <a:pt x="810" y="296"/>
                    </a:lnTo>
                    <a:lnTo>
                      <a:pt x="842" y="289"/>
                    </a:lnTo>
                    <a:lnTo>
                      <a:pt x="871" y="287"/>
                    </a:lnTo>
                    <a:lnTo>
                      <a:pt x="900" y="289"/>
                    </a:lnTo>
                    <a:lnTo>
                      <a:pt x="929" y="292"/>
                    </a:lnTo>
                    <a:lnTo>
                      <a:pt x="960" y="296"/>
                    </a:lnTo>
                    <a:lnTo>
                      <a:pt x="990" y="298"/>
                    </a:lnTo>
                    <a:lnTo>
                      <a:pt x="1020" y="295"/>
                    </a:lnTo>
                    <a:lnTo>
                      <a:pt x="1060" y="277"/>
                    </a:lnTo>
                    <a:lnTo>
                      <a:pt x="1095" y="258"/>
                    </a:lnTo>
                    <a:lnTo>
                      <a:pt x="1123" y="232"/>
                    </a:lnTo>
                    <a:lnTo>
                      <a:pt x="1151" y="203"/>
                    </a:lnTo>
                    <a:lnTo>
                      <a:pt x="1178" y="173"/>
                    </a:lnTo>
                    <a:lnTo>
                      <a:pt x="1205" y="140"/>
                    </a:lnTo>
                    <a:lnTo>
                      <a:pt x="1230" y="108"/>
                    </a:lnTo>
                    <a:lnTo>
                      <a:pt x="1260" y="75"/>
                    </a:lnTo>
                    <a:lnTo>
                      <a:pt x="1266" y="75"/>
                    </a:lnTo>
                    <a:lnTo>
                      <a:pt x="1273" y="75"/>
                    </a:lnTo>
                    <a:lnTo>
                      <a:pt x="1282" y="75"/>
                    </a:lnTo>
                    <a:lnTo>
                      <a:pt x="1291" y="75"/>
                    </a:lnTo>
                    <a:lnTo>
                      <a:pt x="1299" y="75"/>
                    </a:lnTo>
                    <a:lnTo>
                      <a:pt x="1308" y="75"/>
                    </a:lnTo>
                    <a:lnTo>
                      <a:pt x="1316" y="75"/>
                    </a:lnTo>
                    <a:lnTo>
                      <a:pt x="1323" y="75"/>
                    </a:lnTo>
                    <a:lnTo>
                      <a:pt x="1346" y="89"/>
                    </a:lnTo>
                    <a:lnTo>
                      <a:pt x="1368" y="102"/>
                    </a:lnTo>
                    <a:lnTo>
                      <a:pt x="1392" y="113"/>
                    </a:lnTo>
                    <a:lnTo>
                      <a:pt x="1416" y="121"/>
                    </a:lnTo>
                    <a:lnTo>
                      <a:pt x="1442" y="126"/>
                    </a:lnTo>
                    <a:lnTo>
                      <a:pt x="1469" y="129"/>
                    </a:lnTo>
                    <a:lnTo>
                      <a:pt x="1496" y="131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4" y="122"/>
                    </a:lnTo>
                    <a:lnTo>
                      <a:pt x="1602" y="116"/>
                    </a:lnTo>
                    <a:lnTo>
                      <a:pt x="1627" y="108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699" y="73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5" y="15"/>
                    </a:lnTo>
                    <a:lnTo>
                      <a:pt x="1741" y="28"/>
                    </a:lnTo>
                    <a:lnTo>
                      <a:pt x="1717" y="41"/>
                    </a:lnTo>
                    <a:lnTo>
                      <a:pt x="1693" y="50"/>
                    </a:lnTo>
                    <a:lnTo>
                      <a:pt x="1667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1" y="71"/>
                    </a:lnTo>
                    <a:lnTo>
                      <a:pt x="1534" y="69"/>
                    </a:lnTo>
                    <a:lnTo>
                      <a:pt x="1507" y="68"/>
                    </a:lnTo>
                    <a:lnTo>
                      <a:pt x="1483" y="60"/>
                    </a:lnTo>
                    <a:lnTo>
                      <a:pt x="1458" y="53"/>
                    </a:lnTo>
                    <a:lnTo>
                      <a:pt x="1433" y="44"/>
                    </a:lnTo>
                    <a:lnTo>
                      <a:pt x="1411" y="31"/>
                    </a:lnTo>
                    <a:lnTo>
                      <a:pt x="1388" y="17"/>
                    </a:lnTo>
                    <a:lnTo>
                      <a:pt x="1381" y="17"/>
                    </a:lnTo>
                    <a:lnTo>
                      <a:pt x="1375" y="17"/>
                    </a:lnTo>
                    <a:lnTo>
                      <a:pt x="1366" y="17"/>
                    </a:lnTo>
                    <a:lnTo>
                      <a:pt x="1358" y="17"/>
                    </a:lnTo>
                    <a:lnTo>
                      <a:pt x="1348" y="17"/>
                    </a:lnTo>
                    <a:lnTo>
                      <a:pt x="1338" y="17"/>
                    </a:lnTo>
                    <a:lnTo>
                      <a:pt x="1331" y="17"/>
                    </a:lnTo>
                    <a:lnTo>
                      <a:pt x="1325" y="17"/>
                    </a:lnTo>
                    <a:lnTo>
                      <a:pt x="1296" y="50"/>
                    </a:lnTo>
                    <a:lnTo>
                      <a:pt x="1270" y="82"/>
                    </a:lnTo>
                    <a:lnTo>
                      <a:pt x="1244" y="113"/>
                    </a:lnTo>
                    <a:lnTo>
                      <a:pt x="1218" y="144"/>
                    </a:lnTo>
                    <a:lnTo>
                      <a:pt x="1189" y="173"/>
                    </a:lnTo>
                    <a:lnTo>
                      <a:pt x="1160" y="198"/>
                    </a:lnTo>
                    <a:lnTo>
                      <a:pt x="1125" y="219"/>
                    </a:lnTo>
                    <a:lnTo>
                      <a:pt x="1086" y="234"/>
                    </a:lnTo>
                    <a:lnTo>
                      <a:pt x="1057" y="238"/>
                    </a:lnTo>
                    <a:lnTo>
                      <a:pt x="1025" y="238"/>
                    </a:lnTo>
                    <a:lnTo>
                      <a:pt x="997" y="234"/>
                    </a:lnTo>
                    <a:lnTo>
                      <a:pt x="967" y="231"/>
                    </a:lnTo>
                    <a:lnTo>
                      <a:pt x="937" y="229"/>
                    </a:lnTo>
                    <a:lnTo>
                      <a:pt x="907" y="231"/>
                    </a:lnTo>
                    <a:lnTo>
                      <a:pt x="876" y="238"/>
                    </a:lnTo>
                    <a:lnTo>
                      <a:pt x="847" y="253"/>
                    </a:lnTo>
                    <a:lnTo>
                      <a:pt x="824" y="274"/>
                    </a:lnTo>
                    <a:lnTo>
                      <a:pt x="804" y="298"/>
                    </a:lnTo>
                    <a:lnTo>
                      <a:pt x="785" y="325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4" y="401"/>
                    </a:lnTo>
                    <a:lnTo>
                      <a:pt x="699" y="421"/>
                    </a:lnTo>
                    <a:lnTo>
                      <a:pt x="671" y="437"/>
                    </a:lnTo>
                    <a:lnTo>
                      <a:pt x="637" y="443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9" y="414"/>
                    </a:lnTo>
                    <a:lnTo>
                      <a:pt x="508" y="399"/>
                    </a:lnTo>
                    <a:lnTo>
                      <a:pt x="477" y="392"/>
                    </a:lnTo>
                    <a:lnTo>
                      <a:pt x="446" y="392"/>
                    </a:lnTo>
                    <a:lnTo>
                      <a:pt x="416" y="403"/>
                    </a:lnTo>
                    <a:lnTo>
                      <a:pt x="384" y="427"/>
                    </a:lnTo>
                    <a:lnTo>
                      <a:pt x="356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4" y="566"/>
                    </a:lnTo>
                    <a:lnTo>
                      <a:pt x="255" y="601"/>
                    </a:lnTo>
                    <a:lnTo>
                      <a:pt x="221" y="631"/>
                    </a:lnTo>
                    <a:lnTo>
                      <a:pt x="178" y="655"/>
                    </a:lnTo>
                    <a:lnTo>
                      <a:pt x="160" y="659"/>
                    </a:lnTo>
                    <a:lnTo>
                      <a:pt x="145" y="659"/>
                    </a:lnTo>
                    <a:lnTo>
                      <a:pt x="131" y="655"/>
                    </a:lnTo>
                    <a:lnTo>
                      <a:pt x="118" y="647"/>
                    </a:lnTo>
                    <a:lnTo>
                      <a:pt x="103" y="641"/>
                    </a:lnTo>
                    <a:lnTo>
                      <a:pt x="90" y="630"/>
                    </a:lnTo>
                    <a:lnTo>
                      <a:pt x="78" y="617"/>
                    </a:lnTo>
                    <a:lnTo>
                      <a:pt x="66" y="604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35160" y="535680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4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2"/>
                    </a:lnTo>
                    <a:lnTo>
                      <a:pt x="79" y="715"/>
                    </a:lnTo>
                    <a:lnTo>
                      <a:pt x="95" y="715"/>
                    </a:lnTo>
                    <a:lnTo>
                      <a:pt x="112" y="712"/>
                    </a:lnTo>
                    <a:lnTo>
                      <a:pt x="155" y="688"/>
                    </a:lnTo>
                    <a:lnTo>
                      <a:pt x="189" y="657"/>
                    </a:lnTo>
                    <a:lnTo>
                      <a:pt x="218" y="623"/>
                    </a:lnTo>
                    <a:lnTo>
                      <a:pt x="242" y="585"/>
                    </a:lnTo>
                    <a:lnTo>
                      <a:pt x="267" y="549"/>
                    </a:lnTo>
                    <a:lnTo>
                      <a:pt x="290" y="514"/>
                    </a:lnTo>
                    <a:lnTo>
                      <a:pt x="318" y="483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0" y="459"/>
                    </a:lnTo>
                    <a:lnTo>
                      <a:pt x="471" y="470"/>
                    </a:lnTo>
                    <a:lnTo>
                      <a:pt x="504" y="485"/>
                    </a:lnTo>
                    <a:lnTo>
                      <a:pt x="536" y="496"/>
                    </a:lnTo>
                    <a:lnTo>
                      <a:pt x="569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7" y="459"/>
                    </a:lnTo>
                    <a:lnTo>
                      <a:pt x="679" y="435"/>
                    </a:lnTo>
                    <a:lnTo>
                      <a:pt x="698" y="407"/>
                    </a:lnTo>
                    <a:lnTo>
                      <a:pt x="719" y="382"/>
                    </a:lnTo>
                    <a:lnTo>
                      <a:pt x="738" y="354"/>
                    </a:lnTo>
                    <a:lnTo>
                      <a:pt x="759" y="332"/>
                    </a:lnTo>
                    <a:lnTo>
                      <a:pt x="781" y="309"/>
                    </a:lnTo>
                    <a:lnTo>
                      <a:pt x="810" y="295"/>
                    </a:lnTo>
                    <a:lnTo>
                      <a:pt x="841" y="288"/>
                    </a:lnTo>
                    <a:lnTo>
                      <a:pt x="871" y="286"/>
                    </a:lnTo>
                    <a:lnTo>
                      <a:pt x="899" y="288"/>
                    </a:lnTo>
                    <a:lnTo>
                      <a:pt x="929" y="291"/>
                    </a:lnTo>
                    <a:lnTo>
                      <a:pt x="960" y="295"/>
                    </a:lnTo>
                    <a:lnTo>
                      <a:pt x="989" y="297"/>
                    </a:lnTo>
                    <a:lnTo>
                      <a:pt x="1020" y="293"/>
                    </a:lnTo>
                    <a:lnTo>
                      <a:pt x="1057" y="277"/>
                    </a:lnTo>
                    <a:lnTo>
                      <a:pt x="1092" y="257"/>
                    </a:lnTo>
                    <a:lnTo>
                      <a:pt x="1123" y="232"/>
                    </a:lnTo>
                    <a:lnTo>
                      <a:pt x="1150" y="203"/>
                    </a:lnTo>
                    <a:lnTo>
                      <a:pt x="1177" y="172"/>
                    </a:lnTo>
                    <a:lnTo>
                      <a:pt x="1202" y="139"/>
                    </a:lnTo>
                    <a:lnTo>
                      <a:pt x="1230" y="106"/>
                    </a:lnTo>
                    <a:lnTo>
                      <a:pt x="1259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2" y="74"/>
                    </a:lnTo>
                    <a:lnTo>
                      <a:pt x="1290" y="74"/>
                    </a:lnTo>
                    <a:lnTo>
                      <a:pt x="1298" y="74"/>
                    </a:lnTo>
                    <a:lnTo>
                      <a:pt x="1307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3" y="89"/>
                    </a:lnTo>
                    <a:lnTo>
                      <a:pt x="1368" y="101"/>
                    </a:lnTo>
                    <a:lnTo>
                      <a:pt x="1391" y="113"/>
                    </a:lnTo>
                    <a:lnTo>
                      <a:pt x="1415" y="119"/>
                    </a:lnTo>
                    <a:lnTo>
                      <a:pt x="1441" y="124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1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7"/>
                    </a:lnTo>
                    <a:lnTo>
                      <a:pt x="1698" y="72"/>
                    </a:lnTo>
                    <a:lnTo>
                      <a:pt x="1720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9"/>
                    </a:lnTo>
                    <a:lnTo>
                      <a:pt x="1716" y="40"/>
                    </a:lnTo>
                    <a:lnTo>
                      <a:pt x="1693" y="49"/>
                    </a:lnTo>
                    <a:lnTo>
                      <a:pt x="1666" y="58"/>
                    </a:lnTo>
                    <a:lnTo>
                      <a:pt x="1641" y="63"/>
                    </a:lnTo>
                    <a:lnTo>
                      <a:pt x="1613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6" y="66"/>
                    </a:lnTo>
                    <a:lnTo>
                      <a:pt x="1483" y="61"/>
                    </a:lnTo>
                    <a:lnTo>
                      <a:pt x="1457" y="55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5" y="16"/>
                    </a:lnTo>
                    <a:lnTo>
                      <a:pt x="1295" y="49"/>
                    </a:lnTo>
                    <a:lnTo>
                      <a:pt x="1270" y="81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6" y="239"/>
                    </a:lnTo>
                    <a:lnTo>
                      <a:pt x="1025" y="237"/>
                    </a:lnTo>
                    <a:lnTo>
                      <a:pt x="996" y="234"/>
                    </a:lnTo>
                    <a:lnTo>
                      <a:pt x="967" y="230"/>
                    </a:lnTo>
                    <a:lnTo>
                      <a:pt x="936" y="228"/>
                    </a:lnTo>
                    <a:lnTo>
                      <a:pt x="906" y="230"/>
                    </a:lnTo>
                    <a:lnTo>
                      <a:pt x="876" y="237"/>
                    </a:lnTo>
                    <a:lnTo>
                      <a:pt x="846" y="251"/>
                    </a:lnTo>
                    <a:lnTo>
                      <a:pt x="824" y="274"/>
                    </a:lnTo>
                    <a:lnTo>
                      <a:pt x="803" y="297"/>
                    </a:lnTo>
                    <a:lnTo>
                      <a:pt x="784" y="324"/>
                    </a:lnTo>
                    <a:lnTo>
                      <a:pt x="764" y="349"/>
                    </a:lnTo>
                    <a:lnTo>
                      <a:pt x="744" y="377"/>
                    </a:lnTo>
                    <a:lnTo>
                      <a:pt x="722" y="401"/>
                    </a:lnTo>
                    <a:lnTo>
                      <a:pt x="698" y="420"/>
                    </a:lnTo>
                    <a:lnTo>
                      <a:pt x="671" y="436"/>
                    </a:lnTo>
                    <a:lnTo>
                      <a:pt x="636" y="441"/>
                    </a:lnTo>
                    <a:lnTo>
                      <a:pt x="601" y="438"/>
                    </a:lnTo>
                    <a:lnTo>
                      <a:pt x="569" y="427"/>
                    </a:lnTo>
                    <a:lnTo>
                      <a:pt x="538" y="412"/>
                    </a:lnTo>
                    <a:lnTo>
                      <a:pt x="508" y="398"/>
                    </a:lnTo>
                    <a:lnTo>
                      <a:pt x="476" y="391"/>
                    </a:lnTo>
                    <a:lnTo>
                      <a:pt x="445" y="391"/>
                    </a:lnTo>
                    <a:lnTo>
                      <a:pt x="416" y="402"/>
                    </a:lnTo>
                    <a:lnTo>
                      <a:pt x="383" y="425"/>
                    </a:lnTo>
                    <a:lnTo>
                      <a:pt x="356" y="456"/>
                    </a:lnTo>
                    <a:lnTo>
                      <a:pt x="332" y="491"/>
                    </a:lnTo>
                    <a:lnTo>
                      <a:pt x="308" y="527"/>
                    </a:lnTo>
                    <a:lnTo>
                      <a:pt x="283" y="565"/>
                    </a:lnTo>
                    <a:lnTo>
                      <a:pt x="255" y="599"/>
                    </a:lnTo>
                    <a:lnTo>
                      <a:pt x="220" y="630"/>
                    </a:lnTo>
                    <a:lnTo>
                      <a:pt x="177" y="654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29" y="654"/>
                    </a:lnTo>
                    <a:lnTo>
                      <a:pt x="115" y="647"/>
                    </a:lnTo>
                    <a:lnTo>
                      <a:pt x="103" y="639"/>
                    </a:lnTo>
                    <a:lnTo>
                      <a:pt x="89" y="628"/>
                    </a:lnTo>
                    <a:lnTo>
                      <a:pt x="77" y="615"/>
                    </a:lnTo>
                    <a:lnTo>
                      <a:pt x="65" y="604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54960" y="538668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5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1"/>
                    </a:lnTo>
                    <a:lnTo>
                      <a:pt x="78" y="715"/>
                    </a:lnTo>
                    <a:lnTo>
                      <a:pt x="93" y="715"/>
                    </a:lnTo>
                    <a:lnTo>
                      <a:pt x="110" y="711"/>
                    </a:lnTo>
                    <a:lnTo>
                      <a:pt x="153" y="687"/>
                    </a:lnTo>
                    <a:lnTo>
                      <a:pt x="190" y="657"/>
                    </a:lnTo>
                    <a:lnTo>
                      <a:pt x="217" y="623"/>
                    </a:lnTo>
                    <a:lnTo>
                      <a:pt x="243" y="584"/>
                    </a:lnTo>
                    <a:lnTo>
                      <a:pt x="267" y="549"/>
                    </a:lnTo>
                    <a:lnTo>
                      <a:pt x="291" y="513"/>
                    </a:lnTo>
                    <a:lnTo>
                      <a:pt x="317" y="483"/>
                    </a:lnTo>
                    <a:lnTo>
                      <a:pt x="350" y="460"/>
                    </a:lnTo>
                    <a:lnTo>
                      <a:pt x="381" y="449"/>
                    </a:lnTo>
                    <a:lnTo>
                      <a:pt x="410" y="449"/>
                    </a:lnTo>
                    <a:lnTo>
                      <a:pt x="441" y="456"/>
                    </a:lnTo>
                    <a:lnTo>
                      <a:pt x="472" y="470"/>
                    </a:lnTo>
                    <a:lnTo>
                      <a:pt x="505" y="485"/>
                    </a:lnTo>
                    <a:lnTo>
                      <a:pt x="538" y="496"/>
                    </a:lnTo>
                    <a:lnTo>
                      <a:pt x="570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8" y="457"/>
                    </a:lnTo>
                    <a:lnTo>
                      <a:pt x="678" y="433"/>
                    </a:lnTo>
                    <a:lnTo>
                      <a:pt x="699" y="407"/>
                    </a:lnTo>
                    <a:lnTo>
                      <a:pt x="718" y="380"/>
                    </a:lnTo>
                    <a:lnTo>
                      <a:pt x="737" y="354"/>
                    </a:lnTo>
                    <a:lnTo>
                      <a:pt x="757" y="329"/>
                    </a:lnTo>
                    <a:lnTo>
                      <a:pt x="779" y="309"/>
                    </a:lnTo>
                    <a:lnTo>
                      <a:pt x="811" y="294"/>
                    </a:lnTo>
                    <a:lnTo>
                      <a:pt x="840" y="288"/>
                    </a:lnTo>
                    <a:lnTo>
                      <a:pt x="871" y="286"/>
                    </a:lnTo>
                    <a:lnTo>
                      <a:pt x="900" y="288"/>
                    </a:lnTo>
                    <a:lnTo>
                      <a:pt x="929" y="291"/>
                    </a:lnTo>
                    <a:lnTo>
                      <a:pt x="959" y="294"/>
                    </a:lnTo>
                    <a:lnTo>
                      <a:pt x="989" y="294"/>
                    </a:lnTo>
                    <a:lnTo>
                      <a:pt x="1019" y="291"/>
                    </a:lnTo>
                    <a:lnTo>
                      <a:pt x="1059" y="277"/>
                    </a:lnTo>
                    <a:lnTo>
                      <a:pt x="1092" y="254"/>
                    </a:lnTo>
                    <a:lnTo>
                      <a:pt x="1122" y="230"/>
                    </a:lnTo>
                    <a:lnTo>
                      <a:pt x="1152" y="201"/>
                    </a:lnTo>
                    <a:lnTo>
                      <a:pt x="1177" y="170"/>
                    </a:lnTo>
                    <a:lnTo>
                      <a:pt x="1203" y="138"/>
                    </a:lnTo>
                    <a:lnTo>
                      <a:pt x="1228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2" y="74"/>
                    </a:lnTo>
                    <a:lnTo>
                      <a:pt x="1280" y="74"/>
                    </a:lnTo>
                    <a:lnTo>
                      <a:pt x="1290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2" y="74"/>
                    </a:lnTo>
                    <a:lnTo>
                      <a:pt x="1343" y="88"/>
                    </a:lnTo>
                    <a:lnTo>
                      <a:pt x="1366" y="101"/>
                    </a:lnTo>
                    <a:lnTo>
                      <a:pt x="1390" y="109"/>
                    </a:lnTo>
                    <a:lnTo>
                      <a:pt x="1416" y="117"/>
                    </a:lnTo>
                    <a:lnTo>
                      <a:pt x="1442" y="124"/>
                    </a:lnTo>
                    <a:lnTo>
                      <a:pt x="1468" y="127"/>
                    </a:lnTo>
                    <a:lnTo>
                      <a:pt x="1493" y="128"/>
                    </a:lnTo>
                    <a:lnTo>
                      <a:pt x="1521" y="128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0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5"/>
                    </a:lnTo>
                    <a:lnTo>
                      <a:pt x="1698" y="72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7"/>
                    </a:lnTo>
                    <a:lnTo>
                      <a:pt x="1717" y="40"/>
                    </a:lnTo>
                    <a:lnTo>
                      <a:pt x="1691" y="48"/>
                    </a:lnTo>
                    <a:lnTo>
                      <a:pt x="1666" y="58"/>
                    </a:lnTo>
                    <a:lnTo>
                      <a:pt x="1640" y="63"/>
                    </a:lnTo>
                    <a:lnTo>
                      <a:pt x="1614" y="69"/>
                    </a:lnTo>
                    <a:lnTo>
                      <a:pt x="1586" y="70"/>
                    </a:lnTo>
                    <a:lnTo>
                      <a:pt x="1559" y="70"/>
                    </a:lnTo>
                    <a:lnTo>
                      <a:pt x="1533" y="69"/>
                    </a:lnTo>
                    <a:lnTo>
                      <a:pt x="1508" y="66"/>
                    </a:lnTo>
                    <a:lnTo>
                      <a:pt x="1481" y="59"/>
                    </a:lnTo>
                    <a:lnTo>
                      <a:pt x="1456" y="51"/>
                    </a:lnTo>
                    <a:lnTo>
                      <a:pt x="1431" y="43"/>
                    </a:lnTo>
                    <a:lnTo>
                      <a:pt x="1410" y="30"/>
                    </a:lnTo>
                    <a:lnTo>
                      <a:pt x="1387" y="16"/>
                    </a:lnTo>
                    <a:lnTo>
                      <a:pt x="1380" y="16"/>
                    </a:lnTo>
                    <a:lnTo>
                      <a:pt x="1373" y="16"/>
                    </a:lnTo>
                    <a:lnTo>
                      <a:pt x="1365" y="16"/>
                    </a:lnTo>
                    <a:lnTo>
                      <a:pt x="1356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0" y="16"/>
                    </a:lnTo>
                    <a:lnTo>
                      <a:pt x="1323" y="16"/>
                    </a:lnTo>
                    <a:lnTo>
                      <a:pt x="1294" y="48"/>
                    </a:lnTo>
                    <a:lnTo>
                      <a:pt x="1268" y="80"/>
                    </a:lnTo>
                    <a:lnTo>
                      <a:pt x="1242" y="112"/>
                    </a:lnTo>
                    <a:lnTo>
                      <a:pt x="1217" y="143"/>
                    </a:lnTo>
                    <a:lnTo>
                      <a:pt x="1189" y="172"/>
                    </a:lnTo>
                    <a:lnTo>
                      <a:pt x="1158" y="196"/>
                    </a:lnTo>
                    <a:lnTo>
                      <a:pt x="1124" y="219"/>
                    </a:lnTo>
                    <a:lnTo>
                      <a:pt x="1086" y="233"/>
                    </a:lnTo>
                    <a:lnTo>
                      <a:pt x="1055" y="237"/>
                    </a:lnTo>
                    <a:lnTo>
                      <a:pt x="1025" y="237"/>
                    </a:lnTo>
                    <a:lnTo>
                      <a:pt x="995" y="233"/>
                    </a:lnTo>
                    <a:lnTo>
                      <a:pt x="965" y="230"/>
                    </a:lnTo>
                    <a:lnTo>
                      <a:pt x="936" y="228"/>
                    </a:lnTo>
                    <a:lnTo>
                      <a:pt x="907" y="230"/>
                    </a:lnTo>
                    <a:lnTo>
                      <a:pt x="876" y="237"/>
                    </a:lnTo>
                    <a:lnTo>
                      <a:pt x="847" y="251"/>
                    </a:lnTo>
                    <a:lnTo>
                      <a:pt x="824" y="272"/>
                    </a:lnTo>
                    <a:lnTo>
                      <a:pt x="804" y="296"/>
                    </a:lnTo>
                    <a:lnTo>
                      <a:pt x="784" y="322"/>
                    </a:lnTo>
                    <a:lnTo>
                      <a:pt x="764" y="349"/>
                    </a:lnTo>
                    <a:lnTo>
                      <a:pt x="746" y="375"/>
                    </a:lnTo>
                    <a:lnTo>
                      <a:pt x="723" y="398"/>
                    </a:lnTo>
                    <a:lnTo>
                      <a:pt x="699" y="420"/>
                    </a:lnTo>
                    <a:lnTo>
                      <a:pt x="671" y="434"/>
                    </a:lnTo>
                    <a:lnTo>
                      <a:pt x="636" y="441"/>
                    </a:lnTo>
                    <a:lnTo>
                      <a:pt x="603" y="436"/>
                    </a:lnTo>
                    <a:lnTo>
                      <a:pt x="570" y="425"/>
                    </a:lnTo>
                    <a:lnTo>
                      <a:pt x="538" y="412"/>
                    </a:lnTo>
                    <a:lnTo>
                      <a:pt x="506" y="398"/>
                    </a:lnTo>
                    <a:lnTo>
                      <a:pt x="477" y="391"/>
                    </a:lnTo>
                    <a:lnTo>
                      <a:pt x="446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7" y="456"/>
                    </a:lnTo>
                    <a:lnTo>
                      <a:pt x="333" y="491"/>
                    </a:lnTo>
                    <a:lnTo>
                      <a:pt x="308" y="526"/>
                    </a:lnTo>
                    <a:lnTo>
                      <a:pt x="285" y="565"/>
                    </a:lnTo>
                    <a:lnTo>
                      <a:pt x="255" y="599"/>
                    </a:lnTo>
                    <a:lnTo>
                      <a:pt x="220" y="629"/>
                    </a:lnTo>
                    <a:lnTo>
                      <a:pt x="178" y="653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30" y="653"/>
                    </a:lnTo>
                    <a:lnTo>
                      <a:pt x="115" y="647"/>
                    </a:lnTo>
                    <a:lnTo>
                      <a:pt x="102" y="639"/>
                    </a:lnTo>
                    <a:lnTo>
                      <a:pt x="90" y="628"/>
                    </a:lnTo>
                    <a:lnTo>
                      <a:pt x="78" y="615"/>
                    </a:lnTo>
                    <a:lnTo>
                      <a:pt x="66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18480" y="5680080"/>
                <a:ext cx="250920" cy="130680"/>
              </a:xfrm>
              <a:custGeom>
                <a:avLst/>
                <a:gdLst/>
                <a:ahLst/>
                <a:rect l="l" t="t" r="r" b="b"/>
                <a:pathLst>
                  <a:path w="2761" h="1311">
                    <a:moveTo>
                      <a:pt x="1955" y="5"/>
                    </a:moveTo>
                    <a:lnTo>
                      <a:pt x="2037" y="1"/>
                    </a:lnTo>
                    <a:lnTo>
                      <a:pt x="2116" y="0"/>
                    </a:lnTo>
                    <a:lnTo>
                      <a:pt x="2193" y="0"/>
                    </a:lnTo>
                    <a:lnTo>
                      <a:pt x="2266" y="2"/>
                    </a:lnTo>
                    <a:lnTo>
                      <a:pt x="2337" y="5"/>
                    </a:lnTo>
                    <a:lnTo>
                      <a:pt x="2403" y="11"/>
                    </a:lnTo>
                    <a:lnTo>
                      <a:pt x="2465" y="18"/>
                    </a:lnTo>
                    <a:lnTo>
                      <a:pt x="2522" y="27"/>
                    </a:lnTo>
                    <a:lnTo>
                      <a:pt x="2549" y="32"/>
                    </a:lnTo>
                    <a:lnTo>
                      <a:pt x="2574" y="37"/>
                    </a:lnTo>
                    <a:lnTo>
                      <a:pt x="2599" y="43"/>
                    </a:lnTo>
                    <a:lnTo>
                      <a:pt x="2621" y="48"/>
                    </a:lnTo>
                    <a:lnTo>
                      <a:pt x="2642" y="55"/>
                    </a:lnTo>
                    <a:lnTo>
                      <a:pt x="2662" y="61"/>
                    </a:lnTo>
                    <a:lnTo>
                      <a:pt x="2679" y="69"/>
                    </a:lnTo>
                    <a:lnTo>
                      <a:pt x="2696" y="75"/>
                    </a:lnTo>
                    <a:lnTo>
                      <a:pt x="2710" y="83"/>
                    </a:lnTo>
                    <a:lnTo>
                      <a:pt x="2723" y="91"/>
                    </a:lnTo>
                    <a:lnTo>
                      <a:pt x="2734" y="99"/>
                    </a:lnTo>
                    <a:lnTo>
                      <a:pt x="2744" y="108"/>
                    </a:lnTo>
                    <a:lnTo>
                      <a:pt x="2751" y="116"/>
                    </a:lnTo>
                    <a:lnTo>
                      <a:pt x="2756" y="125"/>
                    </a:lnTo>
                    <a:lnTo>
                      <a:pt x="2759" y="133"/>
                    </a:lnTo>
                    <a:lnTo>
                      <a:pt x="2761" y="143"/>
                    </a:lnTo>
                    <a:lnTo>
                      <a:pt x="2760" y="153"/>
                    </a:lnTo>
                    <a:lnTo>
                      <a:pt x="2757" y="162"/>
                    </a:lnTo>
                    <a:lnTo>
                      <a:pt x="2752" y="172"/>
                    </a:lnTo>
                    <a:lnTo>
                      <a:pt x="2745" y="181"/>
                    </a:lnTo>
                    <a:lnTo>
                      <a:pt x="2737" y="190"/>
                    </a:lnTo>
                    <a:lnTo>
                      <a:pt x="2725" y="200"/>
                    </a:lnTo>
                    <a:lnTo>
                      <a:pt x="2713" y="209"/>
                    </a:lnTo>
                    <a:lnTo>
                      <a:pt x="2699" y="218"/>
                    </a:lnTo>
                    <a:lnTo>
                      <a:pt x="2682" y="227"/>
                    </a:lnTo>
                    <a:lnTo>
                      <a:pt x="2665" y="236"/>
                    </a:lnTo>
                    <a:lnTo>
                      <a:pt x="2646" y="245"/>
                    </a:lnTo>
                    <a:lnTo>
                      <a:pt x="2625" y="254"/>
                    </a:lnTo>
                    <a:lnTo>
                      <a:pt x="2603" y="262"/>
                    </a:lnTo>
                    <a:lnTo>
                      <a:pt x="2578" y="271"/>
                    </a:lnTo>
                    <a:lnTo>
                      <a:pt x="2554" y="278"/>
                    </a:lnTo>
                    <a:lnTo>
                      <a:pt x="2527" y="287"/>
                    </a:lnTo>
                    <a:lnTo>
                      <a:pt x="2499" y="294"/>
                    </a:lnTo>
                    <a:lnTo>
                      <a:pt x="2470" y="302"/>
                    </a:lnTo>
                    <a:lnTo>
                      <a:pt x="2440" y="309"/>
                    </a:lnTo>
                    <a:lnTo>
                      <a:pt x="2409" y="316"/>
                    </a:lnTo>
                    <a:lnTo>
                      <a:pt x="2343" y="329"/>
                    </a:lnTo>
                    <a:lnTo>
                      <a:pt x="2272" y="341"/>
                    </a:lnTo>
                    <a:lnTo>
                      <a:pt x="2199" y="351"/>
                    </a:lnTo>
                    <a:lnTo>
                      <a:pt x="2122" y="360"/>
                    </a:lnTo>
                    <a:lnTo>
                      <a:pt x="2043" y="368"/>
                    </a:lnTo>
                    <a:lnTo>
                      <a:pt x="1961" y="373"/>
                    </a:lnTo>
                    <a:lnTo>
                      <a:pt x="1880" y="376"/>
                    </a:lnTo>
                    <a:lnTo>
                      <a:pt x="1800" y="378"/>
                    </a:lnTo>
                    <a:lnTo>
                      <a:pt x="1724" y="378"/>
                    </a:lnTo>
                    <a:lnTo>
                      <a:pt x="1650" y="376"/>
                    </a:lnTo>
                    <a:lnTo>
                      <a:pt x="1580" y="372"/>
                    </a:lnTo>
                    <a:lnTo>
                      <a:pt x="1514" y="366"/>
                    </a:lnTo>
                    <a:lnTo>
                      <a:pt x="1482" y="363"/>
                    </a:lnTo>
                    <a:lnTo>
                      <a:pt x="1451" y="360"/>
                    </a:lnTo>
                    <a:lnTo>
                      <a:pt x="1422" y="356"/>
                    </a:lnTo>
                    <a:lnTo>
                      <a:pt x="1394" y="350"/>
                    </a:lnTo>
                    <a:lnTo>
                      <a:pt x="1367" y="346"/>
                    </a:lnTo>
                    <a:lnTo>
                      <a:pt x="1341" y="341"/>
                    </a:lnTo>
                    <a:lnTo>
                      <a:pt x="1318" y="335"/>
                    </a:lnTo>
                    <a:lnTo>
                      <a:pt x="1295" y="329"/>
                    </a:lnTo>
                    <a:lnTo>
                      <a:pt x="1274" y="322"/>
                    </a:lnTo>
                    <a:lnTo>
                      <a:pt x="1254" y="316"/>
                    </a:lnTo>
                    <a:lnTo>
                      <a:pt x="1236" y="309"/>
                    </a:lnTo>
                    <a:lnTo>
                      <a:pt x="1220" y="302"/>
                    </a:lnTo>
                    <a:lnTo>
                      <a:pt x="1205" y="294"/>
                    </a:lnTo>
                    <a:lnTo>
                      <a:pt x="1192" y="287"/>
                    </a:lnTo>
                    <a:lnTo>
                      <a:pt x="1181" y="278"/>
                    </a:lnTo>
                    <a:lnTo>
                      <a:pt x="1173" y="270"/>
                    </a:lnTo>
                    <a:lnTo>
                      <a:pt x="1165" y="261"/>
                    </a:lnTo>
                    <a:lnTo>
                      <a:pt x="1160" y="253"/>
                    </a:lnTo>
                    <a:lnTo>
                      <a:pt x="1157" y="244"/>
                    </a:lnTo>
                    <a:lnTo>
                      <a:pt x="1156" y="234"/>
                    </a:lnTo>
                    <a:lnTo>
                      <a:pt x="1157" y="225"/>
                    </a:lnTo>
                    <a:lnTo>
                      <a:pt x="1159" y="215"/>
                    </a:lnTo>
                    <a:lnTo>
                      <a:pt x="1164" y="205"/>
                    </a:lnTo>
                    <a:lnTo>
                      <a:pt x="1171" y="197"/>
                    </a:lnTo>
                    <a:lnTo>
                      <a:pt x="1180" y="187"/>
                    </a:lnTo>
                    <a:lnTo>
                      <a:pt x="1190" y="177"/>
                    </a:lnTo>
                    <a:lnTo>
                      <a:pt x="1203" y="169"/>
                    </a:lnTo>
                    <a:lnTo>
                      <a:pt x="1218" y="159"/>
                    </a:lnTo>
                    <a:lnTo>
                      <a:pt x="1233" y="150"/>
                    </a:lnTo>
                    <a:lnTo>
                      <a:pt x="1251" y="142"/>
                    </a:lnTo>
                    <a:lnTo>
                      <a:pt x="1271" y="132"/>
                    </a:lnTo>
                    <a:lnTo>
                      <a:pt x="1291" y="124"/>
                    </a:lnTo>
                    <a:lnTo>
                      <a:pt x="1314" y="116"/>
                    </a:lnTo>
                    <a:lnTo>
                      <a:pt x="1337" y="108"/>
                    </a:lnTo>
                    <a:lnTo>
                      <a:pt x="1363" y="99"/>
                    </a:lnTo>
                    <a:lnTo>
                      <a:pt x="1389" y="91"/>
                    </a:lnTo>
                    <a:lnTo>
                      <a:pt x="1446" y="76"/>
                    </a:lnTo>
                    <a:lnTo>
                      <a:pt x="1507" y="62"/>
                    </a:lnTo>
                    <a:lnTo>
                      <a:pt x="1574" y="49"/>
                    </a:lnTo>
                    <a:lnTo>
                      <a:pt x="1644" y="38"/>
                    </a:lnTo>
                    <a:lnTo>
                      <a:pt x="1718" y="27"/>
                    </a:lnTo>
                    <a:lnTo>
                      <a:pt x="1794" y="18"/>
                    </a:lnTo>
                    <a:lnTo>
                      <a:pt x="1874" y="11"/>
                    </a:lnTo>
                    <a:lnTo>
                      <a:pt x="1955" y="5"/>
                    </a:lnTo>
                    <a:close/>
                    <a:moveTo>
                      <a:pt x="1146" y="592"/>
                    </a:moveTo>
                    <a:lnTo>
                      <a:pt x="1205" y="588"/>
                    </a:lnTo>
                    <a:lnTo>
                      <a:pt x="1264" y="585"/>
                    </a:lnTo>
                    <a:lnTo>
                      <a:pt x="1322" y="583"/>
                    </a:lnTo>
                    <a:lnTo>
                      <a:pt x="1379" y="582"/>
                    </a:lnTo>
                    <a:lnTo>
                      <a:pt x="1435" y="582"/>
                    </a:lnTo>
                    <a:lnTo>
                      <a:pt x="1490" y="582"/>
                    </a:lnTo>
                    <a:lnTo>
                      <a:pt x="1544" y="585"/>
                    </a:lnTo>
                    <a:lnTo>
                      <a:pt x="1597" y="587"/>
                    </a:lnTo>
                    <a:lnTo>
                      <a:pt x="1648" y="590"/>
                    </a:lnTo>
                    <a:lnTo>
                      <a:pt x="1698" y="594"/>
                    </a:lnTo>
                    <a:lnTo>
                      <a:pt x="1747" y="600"/>
                    </a:lnTo>
                    <a:lnTo>
                      <a:pt x="1795" y="605"/>
                    </a:lnTo>
                    <a:lnTo>
                      <a:pt x="1841" y="612"/>
                    </a:lnTo>
                    <a:lnTo>
                      <a:pt x="1885" y="619"/>
                    </a:lnTo>
                    <a:lnTo>
                      <a:pt x="1928" y="628"/>
                    </a:lnTo>
                    <a:lnTo>
                      <a:pt x="1968" y="636"/>
                    </a:lnTo>
                    <a:lnTo>
                      <a:pt x="2007" y="646"/>
                    </a:lnTo>
                    <a:lnTo>
                      <a:pt x="2044" y="657"/>
                    </a:lnTo>
                    <a:lnTo>
                      <a:pt x="2079" y="667"/>
                    </a:lnTo>
                    <a:lnTo>
                      <a:pt x="2112" y="678"/>
                    </a:lnTo>
                    <a:lnTo>
                      <a:pt x="2143" y="691"/>
                    </a:lnTo>
                    <a:lnTo>
                      <a:pt x="2171" y="704"/>
                    </a:lnTo>
                    <a:lnTo>
                      <a:pt x="2198" y="717"/>
                    </a:lnTo>
                    <a:lnTo>
                      <a:pt x="2221" y="731"/>
                    </a:lnTo>
                    <a:lnTo>
                      <a:pt x="2243" y="746"/>
                    </a:lnTo>
                    <a:lnTo>
                      <a:pt x="2262" y="761"/>
                    </a:lnTo>
                    <a:lnTo>
                      <a:pt x="2279" y="776"/>
                    </a:lnTo>
                    <a:lnTo>
                      <a:pt x="2292" y="792"/>
                    </a:lnTo>
                    <a:lnTo>
                      <a:pt x="2303" y="809"/>
                    </a:lnTo>
                    <a:lnTo>
                      <a:pt x="2311" y="826"/>
                    </a:lnTo>
                    <a:lnTo>
                      <a:pt x="2316" y="843"/>
                    </a:lnTo>
                    <a:lnTo>
                      <a:pt x="2318" y="862"/>
                    </a:lnTo>
                    <a:lnTo>
                      <a:pt x="2317" y="880"/>
                    </a:lnTo>
                    <a:lnTo>
                      <a:pt x="2313" y="898"/>
                    </a:lnTo>
                    <a:lnTo>
                      <a:pt x="2307" y="917"/>
                    </a:lnTo>
                    <a:lnTo>
                      <a:pt x="2297" y="935"/>
                    </a:lnTo>
                    <a:lnTo>
                      <a:pt x="2285" y="953"/>
                    </a:lnTo>
                    <a:lnTo>
                      <a:pt x="2269" y="970"/>
                    </a:lnTo>
                    <a:lnTo>
                      <a:pt x="2252" y="989"/>
                    </a:lnTo>
                    <a:lnTo>
                      <a:pt x="2232" y="1006"/>
                    </a:lnTo>
                    <a:lnTo>
                      <a:pt x="2209" y="1024"/>
                    </a:lnTo>
                    <a:lnTo>
                      <a:pt x="2184" y="1041"/>
                    </a:lnTo>
                    <a:lnTo>
                      <a:pt x="2156" y="1057"/>
                    </a:lnTo>
                    <a:lnTo>
                      <a:pt x="2127" y="1074"/>
                    </a:lnTo>
                    <a:lnTo>
                      <a:pt x="2095" y="1091"/>
                    </a:lnTo>
                    <a:lnTo>
                      <a:pt x="2060" y="1107"/>
                    </a:lnTo>
                    <a:lnTo>
                      <a:pt x="2025" y="1122"/>
                    </a:lnTo>
                    <a:lnTo>
                      <a:pt x="1987" y="1138"/>
                    </a:lnTo>
                    <a:lnTo>
                      <a:pt x="1947" y="1152"/>
                    </a:lnTo>
                    <a:lnTo>
                      <a:pt x="1905" y="1167"/>
                    </a:lnTo>
                    <a:lnTo>
                      <a:pt x="1861" y="1180"/>
                    </a:lnTo>
                    <a:lnTo>
                      <a:pt x="1816" y="1194"/>
                    </a:lnTo>
                    <a:lnTo>
                      <a:pt x="1770" y="1207"/>
                    </a:lnTo>
                    <a:lnTo>
                      <a:pt x="1722" y="1218"/>
                    </a:lnTo>
                    <a:lnTo>
                      <a:pt x="1672" y="1230"/>
                    </a:lnTo>
                    <a:lnTo>
                      <a:pt x="1621" y="1241"/>
                    </a:lnTo>
                    <a:lnTo>
                      <a:pt x="1569" y="1251"/>
                    </a:lnTo>
                    <a:lnTo>
                      <a:pt x="1515" y="1260"/>
                    </a:lnTo>
                    <a:lnTo>
                      <a:pt x="1460" y="1269"/>
                    </a:lnTo>
                    <a:lnTo>
                      <a:pt x="1404" y="1278"/>
                    </a:lnTo>
                    <a:lnTo>
                      <a:pt x="1347" y="1285"/>
                    </a:lnTo>
                    <a:lnTo>
                      <a:pt x="1290" y="1291"/>
                    </a:lnTo>
                    <a:lnTo>
                      <a:pt x="1231" y="1297"/>
                    </a:lnTo>
                    <a:lnTo>
                      <a:pt x="1172" y="1301"/>
                    </a:lnTo>
                    <a:lnTo>
                      <a:pt x="1113" y="1305"/>
                    </a:lnTo>
                    <a:lnTo>
                      <a:pt x="1055" y="1309"/>
                    </a:lnTo>
                    <a:lnTo>
                      <a:pt x="996" y="1310"/>
                    </a:lnTo>
                    <a:lnTo>
                      <a:pt x="939" y="1311"/>
                    </a:lnTo>
                    <a:lnTo>
                      <a:pt x="883" y="1311"/>
                    </a:lnTo>
                    <a:lnTo>
                      <a:pt x="828" y="1311"/>
                    </a:lnTo>
                    <a:lnTo>
                      <a:pt x="774" y="1309"/>
                    </a:lnTo>
                    <a:lnTo>
                      <a:pt x="721" y="1307"/>
                    </a:lnTo>
                    <a:lnTo>
                      <a:pt x="670" y="1302"/>
                    </a:lnTo>
                    <a:lnTo>
                      <a:pt x="620" y="1299"/>
                    </a:lnTo>
                    <a:lnTo>
                      <a:pt x="571" y="1294"/>
                    </a:lnTo>
                    <a:lnTo>
                      <a:pt x="523" y="1287"/>
                    </a:lnTo>
                    <a:lnTo>
                      <a:pt x="477" y="1281"/>
                    </a:lnTo>
                    <a:lnTo>
                      <a:pt x="433" y="1273"/>
                    </a:lnTo>
                    <a:lnTo>
                      <a:pt x="391" y="1266"/>
                    </a:lnTo>
                    <a:lnTo>
                      <a:pt x="350" y="1257"/>
                    </a:lnTo>
                    <a:lnTo>
                      <a:pt x="311" y="1247"/>
                    </a:lnTo>
                    <a:lnTo>
                      <a:pt x="274" y="1237"/>
                    </a:lnTo>
                    <a:lnTo>
                      <a:pt x="239" y="1226"/>
                    </a:lnTo>
                    <a:lnTo>
                      <a:pt x="206" y="1214"/>
                    </a:lnTo>
                    <a:lnTo>
                      <a:pt x="175" y="1202"/>
                    </a:lnTo>
                    <a:lnTo>
                      <a:pt x="147" y="1189"/>
                    </a:lnTo>
                    <a:lnTo>
                      <a:pt x="120" y="1177"/>
                    </a:lnTo>
                    <a:lnTo>
                      <a:pt x="97" y="1161"/>
                    </a:lnTo>
                    <a:lnTo>
                      <a:pt x="75" y="1148"/>
                    </a:lnTo>
                    <a:lnTo>
                      <a:pt x="56" y="1132"/>
                    </a:lnTo>
                    <a:lnTo>
                      <a:pt x="40" y="1116"/>
                    </a:lnTo>
                    <a:lnTo>
                      <a:pt x="26" y="1100"/>
                    </a:lnTo>
                    <a:lnTo>
                      <a:pt x="15" y="1084"/>
                    </a:lnTo>
                    <a:lnTo>
                      <a:pt x="7" y="1067"/>
                    </a:lnTo>
                    <a:lnTo>
                      <a:pt x="2" y="1049"/>
                    </a:lnTo>
                    <a:lnTo>
                      <a:pt x="0" y="1030"/>
                    </a:lnTo>
                    <a:lnTo>
                      <a:pt x="1" y="1012"/>
                    </a:lnTo>
                    <a:lnTo>
                      <a:pt x="4" y="994"/>
                    </a:lnTo>
                    <a:lnTo>
                      <a:pt x="11" y="977"/>
                    </a:lnTo>
                    <a:lnTo>
                      <a:pt x="21" y="958"/>
                    </a:lnTo>
                    <a:lnTo>
                      <a:pt x="34" y="940"/>
                    </a:lnTo>
                    <a:lnTo>
                      <a:pt x="48" y="922"/>
                    </a:lnTo>
                    <a:lnTo>
                      <a:pt x="66" y="905"/>
                    </a:lnTo>
                    <a:lnTo>
                      <a:pt x="87" y="886"/>
                    </a:lnTo>
                    <a:lnTo>
                      <a:pt x="109" y="869"/>
                    </a:lnTo>
                    <a:lnTo>
                      <a:pt x="134" y="852"/>
                    </a:lnTo>
                    <a:lnTo>
                      <a:pt x="162" y="835"/>
                    </a:lnTo>
                    <a:lnTo>
                      <a:pt x="192" y="819"/>
                    </a:lnTo>
                    <a:lnTo>
                      <a:pt x="223" y="803"/>
                    </a:lnTo>
                    <a:lnTo>
                      <a:pt x="258" y="787"/>
                    </a:lnTo>
                    <a:lnTo>
                      <a:pt x="294" y="770"/>
                    </a:lnTo>
                    <a:lnTo>
                      <a:pt x="331" y="755"/>
                    </a:lnTo>
                    <a:lnTo>
                      <a:pt x="371" y="741"/>
                    </a:lnTo>
                    <a:lnTo>
                      <a:pt x="413" y="726"/>
                    </a:lnTo>
                    <a:lnTo>
                      <a:pt x="457" y="713"/>
                    </a:lnTo>
                    <a:lnTo>
                      <a:pt x="502" y="699"/>
                    </a:lnTo>
                    <a:lnTo>
                      <a:pt x="549" y="687"/>
                    </a:lnTo>
                    <a:lnTo>
                      <a:pt x="597" y="675"/>
                    </a:lnTo>
                    <a:lnTo>
                      <a:pt x="647" y="663"/>
                    </a:lnTo>
                    <a:lnTo>
                      <a:pt x="698" y="652"/>
                    </a:lnTo>
                    <a:lnTo>
                      <a:pt x="750" y="643"/>
                    </a:lnTo>
                    <a:lnTo>
                      <a:pt x="804" y="633"/>
                    </a:lnTo>
                    <a:lnTo>
                      <a:pt x="858" y="624"/>
                    </a:lnTo>
                    <a:lnTo>
                      <a:pt x="914" y="616"/>
                    </a:lnTo>
                    <a:lnTo>
                      <a:pt x="971" y="608"/>
                    </a:lnTo>
                    <a:lnTo>
                      <a:pt x="1028" y="602"/>
                    </a:lnTo>
                    <a:lnTo>
                      <a:pt x="1087" y="596"/>
                    </a:lnTo>
                    <a:lnTo>
                      <a:pt x="1146" y="592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3000" y="5703840"/>
                <a:ext cx="284400" cy="64800"/>
              </a:xfrm>
              <a:custGeom>
                <a:avLst/>
                <a:gdLst/>
                <a:ahLst/>
                <a:rect l="l" t="t" r="r" b="b"/>
                <a:pathLst>
                  <a:path w="3125" h="652">
                    <a:moveTo>
                      <a:pt x="993" y="0"/>
                    </a:moveTo>
                    <a:lnTo>
                      <a:pt x="3125" y="2"/>
                    </a:lnTo>
                    <a:lnTo>
                      <a:pt x="2656" y="652"/>
                    </a:lnTo>
                    <a:lnTo>
                      <a:pt x="0" y="652"/>
                    </a:lnTo>
                    <a:lnTo>
                      <a:pt x="993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74560" y="5677200"/>
                <a:ext cx="240840" cy="134640"/>
              </a:xfrm>
              <a:custGeom>
                <a:avLst/>
                <a:gdLst/>
                <a:ahLst/>
                <a:rect l="l" t="t" r="r" b="b"/>
                <a:pathLst>
                  <a:path w="2655" h="1353">
                    <a:moveTo>
                      <a:pt x="0" y="1353"/>
                    </a:moveTo>
                    <a:lnTo>
                      <a:pt x="236" y="1353"/>
                    </a:lnTo>
                    <a:lnTo>
                      <a:pt x="238" y="1341"/>
                    </a:lnTo>
                    <a:lnTo>
                      <a:pt x="245" y="1327"/>
                    </a:lnTo>
                    <a:lnTo>
                      <a:pt x="255" y="1313"/>
                    </a:lnTo>
                    <a:lnTo>
                      <a:pt x="271" y="1300"/>
                    </a:lnTo>
                    <a:lnTo>
                      <a:pt x="288" y="1286"/>
                    </a:lnTo>
                    <a:lnTo>
                      <a:pt x="309" y="1273"/>
                    </a:lnTo>
                    <a:lnTo>
                      <a:pt x="334" y="1259"/>
                    </a:lnTo>
                    <a:lnTo>
                      <a:pt x="361" y="1245"/>
                    </a:lnTo>
                    <a:lnTo>
                      <a:pt x="390" y="1232"/>
                    </a:lnTo>
                    <a:lnTo>
                      <a:pt x="422" y="1218"/>
                    </a:lnTo>
                    <a:lnTo>
                      <a:pt x="454" y="1204"/>
                    </a:lnTo>
                    <a:lnTo>
                      <a:pt x="489" y="1191"/>
                    </a:lnTo>
                    <a:lnTo>
                      <a:pt x="561" y="1164"/>
                    </a:lnTo>
                    <a:lnTo>
                      <a:pt x="636" y="1136"/>
                    </a:lnTo>
                    <a:lnTo>
                      <a:pt x="710" y="1110"/>
                    </a:lnTo>
                    <a:lnTo>
                      <a:pt x="783" y="1083"/>
                    </a:lnTo>
                    <a:lnTo>
                      <a:pt x="816" y="1070"/>
                    </a:lnTo>
                    <a:lnTo>
                      <a:pt x="850" y="1056"/>
                    </a:lnTo>
                    <a:lnTo>
                      <a:pt x="881" y="1042"/>
                    </a:lnTo>
                    <a:lnTo>
                      <a:pt x="910" y="1028"/>
                    </a:lnTo>
                    <a:lnTo>
                      <a:pt x="937" y="1015"/>
                    </a:lnTo>
                    <a:lnTo>
                      <a:pt x="961" y="1001"/>
                    </a:lnTo>
                    <a:lnTo>
                      <a:pt x="983" y="987"/>
                    </a:lnTo>
                    <a:lnTo>
                      <a:pt x="1001" y="974"/>
                    </a:lnTo>
                    <a:lnTo>
                      <a:pt x="1015" y="960"/>
                    </a:lnTo>
                    <a:lnTo>
                      <a:pt x="1027" y="946"/>
                    </a:lnTo>
                    <a:lnTo>
                      <a:pt x="1033" y="932"/>
                    </a:lnTo>
                    <a:lnTo>
                      <a:pt x="1035" y="918"/>
                    </a:lnTo>
                    <a:lnTo>
                      <a:pt x="800" y="918"/>
                    </a:lnTo>
                    <a:lnTo>
                      <a:pt x="797" y="932"/>
                    </a:lnTo>
                    <a:lnTo>
                      <a:pt x="791" y="946"/>
                    </a:lnTo>
                    <a:lnTo>
                      <a:pt x="780" y="960"/>
                    </a:lnTo>
                    <a:lnTo>
                      <a:pt x="765" y="974"/>
                    </a:lnTo>
                    <a:lnTo>
                      <a:pt x="747" y="987"/>
                    </a:lnTo>
                    <a:lnTo>
                      <a:pt x="726" y="1001"/>
                    </a:lnTo>
                    <a:lnTo>
                      <a:pt x="702" y="1015"/>
                    </a:lnTo>
                    <a:lnTo>
                      <a:pt x="675" y="1028"/>
                    </a:lnTo>
                    <a:lnTo>
                      <a:pt x="646" y="1042"/>
                    </a:lnTo>
                    <a:lnTo>
                      <a:pt x="614" y="1056"/>
                    </a:lnTo>
                    <a:lnTo>
                      <a:pt x="582" y="1070"/>
                    </a:lnTo>
                    <a:lnTo>
                      <a:pt x="547" y="1083"/>
                    </a:lnTo>
                    <a:lnTo>
                      <a:pt x="475" y="1110"/>
                    </a:lnTo>
                    <a:lnTo>
                      <a:pt x="400" y="1136"/>
                    </a:lnTo>
                    <a:lnTo>
                      <a:pt x="326" y="1164"/>
                    </a:lnTo>
                    <a:lnTo>
                      <a:pt x="253" y="1191"/>
                    </a:lnTo>
                    <a:lnTo>
                      <a:pt x="219" y="1204"/>
                    </a:lnTo>
                    <a:lnTo>
                      <a:pt x="186" y="1218"/>
                    </a:lnTo>
                    <a:lnTo>
                      <a:pt x="154" y="1232"/>
                    </a:lnTo>
                    <a:lnTo>
                      <a:pt x="126" y="1245"/>
                    </a:lnTo>
                    <a:lnTo>
                      <a:pt x="98" y="1259"/>
                    </a:lnTo>
                    <a:lnTo>
                      <a:pt x="75" y="1273"/>
                    </a:lnTo>
                    <a:lnTo>
                      <a:pt x="53" y="1286"/>
                    </a:lnTo>
                    <a:lnTo>
                      <a:pt x="35" y="1300"/>
                    </a:lnTo>
                    <a:lnTo>
                      <a:pt x="21" y="1313"/>
                    </a:lnTo>
                    <a:lnTo>
                      <a:pt x="10" y="1327"/>
                    </a:lnTo>
                    <a:lnTo>
                      <a:pt x="3" y="1341"/>
                    </a:lnTo>
                    <a:lnTo>
                      <a:pt x="0" y="1353"/>
                    </a:lnTo>
                    <a:close/>
                    <a:moveTo>
                      <a:pt x="1851" y="266"/>
                    </a:moveTo>
                    <a:lnTo>
                      <a:pt x="2059" y="266"/>
                    </a:lnTo>
                    <a:lnTo>
                      <a:pt x="2061" y="259"/>
                    </a:lnTo>
                    <a:lnTo>
                      <a:pt x="2066" y="250"/>
                    </a:lnTo>
                    <a:lnTo>
                      <a:pt x="2074" y="243"/>
                    </a:lnTo>
                    <a:lnTo>
                      <a:pt x="2084" y="235"/>
                    </a:lnTo>
                    <a:lnTo>
                      <a:pt x="2098" y="226"/>
                    </a:lnTo>
                    <a:lnTo>
                      <a:pt x="2114" y="218"/>
                    </a:lnTo>
                    <a:lnTo>
                      <a:pt x="2132" y="210"/>
                    </a:lnTo>
                    <a:lnTo>
                      <a:pt x="2152" y="202"/>
                    </a:lnTo>
                    <a:lnTo>
                      <a:pt x="2197" y="185"/>
                    </a:lnTo>
                    <a:lnTo>
                      <a:pt x="2247" y="167"/>
                    </a:lnTo>
                    <a:lnTo>
                      <a:pt x="2302" y="150"/>
                    </a:lnTo>
                    <a:lnTo>
                      <a:pt x="2358" y="133"/>
                    </a:lnTo>
                    <a:lnTo>
                      <a:pt x="2413" y="116"/>
                    </a:lnTo>
                    <a:lnTo>
                      <a:pt x="2467" y="99"/>
                    </a:lnTo>
                    <a:lnTo>
                      <a:pt x="2517" y="81"/>
                    </a:lnTo>
                    <a:lnTo>
                      <a:pt x="2562" y="64"/>
                    </a:lnTo>
                    <a:lnTo>
                      <a:pt x="2582" y="57"/>
                    </a:lnTo>
                    <a:lnTo>
                      <a:pt x="2600" y="48"/>
                    </a:lnTo>
                    <a:lnTo>
                      <a:pt x="2616" y="40"/>
                    </a:lnTo>
                    <a:lnTo>
                      <a:pt x="2630" y="32"/>
                    </a:lnTo>
                    <a:lnTo>
                      <a:pt x="2640" y="23"/>
                    </a:lnTo>
                    <a:lnTo>
                      <a:pt x="2648" y="16"/>
                    </a:lnTo>
                    <a:lnTo>
                      <a:pt x="2653" y="7"/>
                    </a:lnTo>
                    <a:lnTo>
                      <a:pt x="2655" y="0"/>
                    </a:lnTo>
                    <a:lnTo>
                      <a:pt x="2447" y="0"/>
                    </a:lnTo>
                    <a:lnTo>
                      <a:pt x="2445" y="7"/>
                    </a:lnTo>
                    <a:lnTo>
                      <a:pt x="2441" y="16"/>
                    </a:lnTo>
                    <a:lnTo>
                      <a:pt x="2433" y="23"/>
                    </a:lnTo>
                    <a:lnTo>
                      <a:pt x="2422" y="32"/>
                    </a:lnTo>
                    <a:lnTo>
                      <a:pt x="2409" y="40"/>
                    </a:lnTo>
                    <a:lnTo>
                      <a:pt x="2392" y="48"/>
                    </a:lnTo>
                    <a:lnTo>
                      <a:pt x="2374" y="57"/>
                    </a:lnTo>
                    <a:lnTo>
                      <a:pt x="2355" y="64"/>
                    </a:lnTo>
                    <a:lnTo>
                      <a:pt x="2310" y="81"/>
                    </a:lnTo>
                    <a:lnTo>
                      <a:pt x="2259" y="99"/>
                    </a:lnTo>
                    <a:lnTo>
                      <a:pt x="2205" y="116"/>
                    </a:lnTo>
                    <a:lnTo>
                      <a:pt x="2150" y="133"/>
                    </a:lnTo>
                    <a:lnTo>
                      <a:pt x="2093" y="150"/>
                    </a:lnTo>
                    <a:lnTo>
                      <a:pt x="2039" y="167"/>
                    </a:lnTo>
                    <a:lnTo>
                      <a:pt x="1989" y="185"/>
                    </a:lnTo>
                    <a:lnTo>
                      <a:pt x="1945" y="202"/>
                    </a:lnTo>
                    <a:lnTo>
                      <a:pt x="1924" y="210"/>
                    </a:lnTo>
                    <a:lnTo>
                      <a:pt x="1906" y="218"/>
                    </a:lnTo>
                    <a:lnTo>
                      <a:pt x="1890" y="226"/>
                    </a:lnTo>
                    <a:lnTo>
                      <a:pt x="1877" y="235"/>
                    </a:lnTo>
                    <a:lnTo>
                      <a:pt x="1866" y="243"/>
                    </a:lnTo>
                    <a:lnTo>
                      <a:pt x="1858" y="250"/>
                    </a:lnTo>
                    <a:lnTo>
                      <a:pt x="1853" y="259"/>
                    </a:lnTo>
                    <a:lnTo>
                      <a:pt x="185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5640" y="5664960"/>
                <a:ext cx="439200" cy="170280"/>
              </a:xfrm>
              <a:custGeom>
                <a:avLst/>
                <a:gdLst/>
                <a:ahLst/>
                <a:rect l="l" t="t" r="r" b="b"/>
                <a:pathLst>
                  <a:path w="4830" h="1703">
                    <a:moveTo>
                      <a:pt x="4830" y="0"/>
                    </a:moveTo>
                    <a:lnTo>
                      <a:pt x="3765" y="1584"/>
                    </a:lnTo>
                    <a:lnTo>
                      <a:pt x="3100" y="1584"/>
                    </a:lnTo>
                    <a:lnTo>
                      <a:pt x="2956" y="1701"/>
                    </a:lnTo>
                    <a:lnTo>
                      <a:pt x="0" y="170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3840" y="5836680"/>
                <a:ext cx="49680" cy="113400"/>
              </a:xfrm>
              <a:custGeom>
                <a:avLst/>
                <a:gdLst/>
                <a:ahLst/>
                <a:rect l="l" t="t" r="r" b="b"/>
                <a:pathLst>
                  <a:path w="546" h="1134">
                    <a:moveTo>
                      <a:pt x="0" y="0"/>
                    </a:moveTo>
                    <a:lnTo>
                      <a:pt x="0" y="629"/>
                    </a:lnTo>
                    <a:lnTo>
                      <a:pt x="0" y="662"/>
                    </a:lnTo>
                    <a:lnTo>
                      <a:pt x="2" y="693"/>
                    </a:lnTo>
                    <a:lnTo>
                      <a:pt x="5" y="724"/>
                    </a:lnTo>
                    <a:lnTo>
                      <a:pt x="8" y="753"/>
                    </a:lnTo>
                    <a:lnTo>
                      <a:pt x="13" y="781"/>
                    </a:lnTo>
                    <a:lnTo>
                      <a:pt x="18" y="808"/>
                    </a:lnTo>
                    <a:lnTo>
                      <a:pt x="26" y="834"/>
                    </a:lnTo>
                    <a:lnTo>
                      <a:pt x="34" y="857"/>
                    </a:lnTo>
                    <a:lnTo>
                      <a:pt x="43" y="881"/>
                    </a:lnTo>
                    <a:lnTo>
                      <a:pt x="53" y="903"/>
                    </a:lnTo>
                    <a:lnTo>
                      <a:pt x="63" y="925"/>
                    </a:lnTo>
                    <a:lnTo>
                      <a:pt x="76" y="945"/>
                    </a:lnTo>
                    <a:lnTo>
                      <a:pt x="89" y="964"/>
                    </a:lnTo>
                    <a:lnTo>
                      <a:pt x="103" y="982"/>
                    </a:lnTo>
                    <a:lnTo>
                      <a:pt x="119" y="999"/>
                    </a:lnTo>
                    <a:lnTo>
                      <a:pt x="136" y="1015"/>
                    </a:lnTo>
                    <a:lnTo>
                      <a:pt x="153" y="1029"/>
                    </a:lnTo>
                    <a:lnTo>
                      <a:pt x="171" y="1043"/>
                    </a:lnTo>
                    <a:lnTo>
                      <a:pt x="191" y="1056"/>
                    </a:lnTo>
                    <a:lnTo>
                      <a:pt x="212" y="1068"/>
                    </a:lnTo>
                    <a:lnTo>
                      <a:pt x="234" y="1078"/>
                    </a:lnTo>
                    <a:lnTo>
                      <a:pt x="257" y="1088"/>
                    </a:lnTo>
                    <a:lnTo>
                      <a:pt x="281" y="1098"/>
                    </a:lnTo>
                    <a:lnTo>
                      <a:pt x="306" y="1105"/>
                    </a:lnTo>
                    <a:lnTo>
                      <a:pt x="332" y="1112"/>
                    </a:lnTo>
                    <a:lnTo>
                      <a:pt x="359" y="1118"/>
                    </a:lnTo>
                    <a:lnTo>
                      <a:pt x="388" y="1123"/>
                    </a:lnTo>
                    <a:lnTo>
                      <a:pt x="417" y="1127"/>
                    </a:lnTo>
                    <a:lnTo>
                      <a:pt x="448" y="1130"/>
                    </a:lnTo>
                    <a:lnTo>
                      <a:pt x="479" y="1132"/>
                    </a:lnTo>
                    <a:lnTo>
                      <a:pt x="512" y="1133"/>
                    </a:lnTo>
                    <a:lnTo>
                      <a:pt x="546" y="11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15840" y="5667120"/>
                <a:ext cx="66960" cy="279360"/>
              </a:xfrm>
              <a:custGeom>
                <a:avLst/>
                <a:gdLst/>
                <a:ahLst/>
                <a:rect l="l" t="t" r="r" b="b"/>
                <a:pathLst>
                  <a:path w="744" h="2795">
                    <a:moveTo>
                      <a:pt x="744" y="0"/>
                    </a:moveTo>
                    <a:lnTo>
                      <a:pt x="0" y="1690"/>
                    </a:lnTo>
                    <a:lnTo>
                      <a:pt x="0" y="279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lnTo>
                      <a:pt x="2163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lnTo>
                      <a:pt x="1992" y="367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lnTo>
                      <a:pt x="2165" y="3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lnTo>
                      <a:pt x="1993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5008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5080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931080" y="5225400"/>
                <a:ext cx="15624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72120" y="527688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887520" y="517104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971040" y="5273640"/>
                <a:ext cx="157320" cy="399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510320" y="6077880"/>
                <a:ext cx="19080" cy="90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17800" y="5506560"/>
                <a:ext cx="137160" cy="571680"/>
              </a:xfrm>
              <a:custGeom>
                <a:avLst/>
                <a:gdLst/>
                <a:ahLst/>
                <a:rect l="l" t="t" r="r" b="b"/>
                <a:pathLst>
                  <a:path w="1508" h="5731">
                    <a:moveTo>
                      <a:pt x="1508" y="2960"/>
                    </a:moveTo>
                    <a:lnTo>
                      <a:pt x="341" y="0"/>
                    </a:lnTo>
                    <a:lnTo>
                      <a:pt x="0" y="2497"/>
                    </a:lnTo>
                    <a:lnTo>
                      <a:pt x="1222" y="57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98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5880" y="57967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1" h="2001">
                    <a:moveTo>
                      <a:pt x="1782" y="1920"/>
                    </a:moveTo>
                    <a:lnTo>
                      <a:pt x="1705" y="1939"/>
                    </a:lnTo>
                    <a:lnTo>
                      <a:pt x="1628" y="1955"/>
                    </a:lnTo>
                    <a:lnTo>
                      <a:pt x="1553" y="1969"/>
                    </a:lnTo>
                    <a:lnTo>
                      <a:pt x="1477" y="1981"/>
                    </a:lnTo>
                    <a:lnTo>
                      <a:pt x="1402" y="1990"/>
                    </a:lnTo>
                    <a:lnTo>
                      <a:pt x="1328" y="1996"/>
                    </a:lnTo>
                    <a:lnTo>
                      <a:pt x="1255" y="2000"/>
                    </a:lnTo>
                    <a:lnTo>
                      <a:pt x="1183" y="2001"/>
                    </a:lnTo>
                    <a:lnTo>
                      <a:pt x="1111" y="2000"/>
                    </a:lnTo>
                    <a:lnTo>
                      <a:pt x="1041" y="1997"/>
                    </a:lnTo>
                    <a:lnTo>
                      <a:pt x="973" y="1992"/>
                    </a:lnTo>
                    <a:lnTo>
                      <a:pt x="905" y="1984"/>
                    </a:lnTo>
                    <a:lnTo>
                      <a:pt x="839" y="1975"/>
                    </a:lnTo>
                    <a:lnTo>
                      <a:pt x="776" y="1962"/>
                    </a:lnTo>
                    <a:lnTo>
                      <a:pt x="712" y="1948"/>
                    </a:lnTo>
                    <a:lnTo>
                      <a:pt x="652" y="1931"/>
                    </a:lnTo>
                    <a:lnTo>
                      <a:pt x="593" y="1912"/>
                    </a:lnTo>
                    <a:lnTo>
                      <a:pt x="537" y="1891"/>
                    </a:lnTo>
                    <a:lnTo>
                      <a:pt x="483" y="1868"/>
                    </a:lnTo>
                    <a:lnTo>
                      <a:pt x="431" y="1842"/>
                    </a:lnTo>
                    <a:lnTo>
                      <a:pt x="381" y="1816"/>
                    </a:lnTo>
                    <a:lnTo>
                      <a:pt x="334" y="1787"/>
                    </a:lnTo>
                    <a:lnTo>
                      <a:pt x="289" y="1756"/>
                    </a:lnTo>
                    <a:lnTo>
                      <a:pt x="247" y="1723"/>
                    </a:lnTo>
                    <a:lnTo>
                      <a:pt x="209" y="1689"/>
                    </a:lnTo>
                    <a:lnTo>
                      <a:pt x="173" y="1652"/>
                    </a:lnTo>
                    <a:lnTo>
                      <a:pt x="140" y="1614"/>
                    </a:lnTo>
                    <a:lnTo>
                      <a:pt x="111" y="1574"/>
                    </a:lnTo>
                    <a:lnTo>
                      <a:pt x="84" y="1532"/>
                    </a:lnTo>
                    <a:lnTo>
                      <a:pt x="61" y="1488"/>
                    </a:lnTo>
                    <a:lnTo>
                      <a:pt x="41" y="1443"/>
                    </a:lnTo>
                    <a:lnTo>
                      <a:pt x="26" y="1397"/>
                    </a:lnTo>
                    <a:lnTo>
                      <a:pt x="14" y="1348"/>
                    </a:lnTo>
                    <a:lnTo>
                      <a:pt x="6" y="1300"/>
                    </a:lnTo>
                    <a:lnTo>
                      <a:pt x="1" y="1252"/>
                    </a:lnTo>
                    <a:lnTo>
                      <a:pt x="0" y="1203"/>
                    </a:lnTo>
                    <a:lnTo>
                      <a:pt x="5" y="1154"/>
                    </a:lnTo>
                    <a:lnTo>
                      <a:pt x="12" y="1105"/>
                    </a:lnTo>
                    <a:lnTo>
                      <a:pt x="22" y="1056"/>
                    </a:lnTo>
                    <a:lnTo>
                      <a:pt x="36" y="1008"/>
                    </a:lnTo>
                    <a:lnTo>
                      <a:pt x="55" y="959"/>
                    </a:lnTo>
                    <a:lnTo>
                      <a:pt x="75" y="911"/>
                    </a:lnTo>
                    <a:lnTo>
                      <a:pt x="99" y="863"/>
                    </a:lnTo>
                    <a:lnTo>
                      <a:pt x="127" y="815"/>
                    </a:lnTo>
                    <a:lnTo>
                      <a:pt x="158" y="768"/>
                    </a:lnTo>
                    <a:lnTo>
                      <a:pt x="192" y="722"/>
                    </a:lnTo>
                    <a:lnTo>
                      <a:pt x="229" y="676"/>
                    </a:lnTo>
                    <a:lnTo>
                      <a:pt x="269" y="631"/>
                    </a:lnTo>
                    <a:lnTo>
                      <a:pt x="311" y="586"/>
                    </a:lnTo>
                    <a:lnTo>
                      <a:pt x="356" y="543"/>
                    </a:lnTo>
                    <a:lnTo>
                      <a:pt x="404" y="502"/>
                    </a:lnTo>
                    <a:lnTo>
                      <a:pt x="455" y="460"/>
                    </a:lnTo>
                    <a:lnTo>
                      <a:pt x="508" y="420"/>
                    </a:lnTo>
                    <a:lnTo>
                      <a:pt x="563" y="381"/>
                    </a:lnTo>
                    <a:lnTo>
                      <a:pt x="622" y="344"/>
                    </a:lnTo>
                    <a:lnTo>
                      <a:pt x="682" y="308"/>
                    </a:lnTo>
                    <a:lnTo>
                      <a:pt x="745" y="274"/>
                    </a:lnTo>
                    <a:lnTo>
                      <a:pt x="809" y="241"/>
                    </a:lnTo>
                    <a:lnTo>
                      <a:pt x="877" y="209"/>
                    </a:lnTo>
                    <a:lnTo>
                      <a:pt x="945" y="180"/>
                    </a:lnTo>
                    <a:lnTo>
                      <a:pt x="1015" y="152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9" y="82"/>
                    </a:lnTo>
                    <a:lnTo>
                      <a:pt x="1315" y="62"/>
                    </a:lnTo>
                    <a:lnTo>
                      <a:pt x="1392" y="45"/>
                    </a:lnTo>
                    <a:lnTo>
                      <a:pt x="1468" y="32"/>
                    </a:lnTo>
                    <a:lnTo>
                      <a:pt x="1544" y="20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10" y="0"/>
                    </a:lnTo>
                    <a:lnTo>
                      <a:pt x="1980" y="4"/>
                    </a:lnTo>
                    <a:lnTo>
                      <a:pt x="2049" y="10"/>
                    </a:lnTo>
                    <a:lnTo>
                      <a:pt x="2116" y="17"/>
                    </a:lnTo>
                    <a:lnTo>
                      <a:pt x="2182" y="27"/>
                    </a:lnTo>
                    <a:lnTo>
                      <a:pt x="2245" y="40"/>
                    </a:lnTo>
                    <a:lnTo>
                      <a:pt x="2309" y="54"/>
                    </a:lnTo>
                    <a:lnTo>
                      <a:pt x="2369" y="71"/>
                    </a:lnTo>
                    <a:lnTo>
                      <a:pt x="2428" y="89"/>
                    </a:lnTo>
                    <a:lnTo>
                      <a:pt x="2484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40" y="186"/>
                    </a:lnTo>
                    <a:lnTo>
                      <a:pt x="2687" y="215"/>
                    </a:lnTo>
                    <a:lnTo>
                      <a:pt x="2732" y="246"/>
                    </a:lnTo>
                    <a:lnTo>
                      <a:pt x="2774" y="278"/>
                    </a:lnTo>
                    <a:lnTo>
                      <a:pt x="2813" y="312"/>
                    </a:lnTo>
                    <a:lnTo>
                      <a:pt x="2848" y="349"/>
                    </a:lnTo>
                    <a:lnTo>
                      <a:pt x="2882" y="388"/>
                    </a:lnTo>
                    <a:lnTo>
                      <a:pt x="2912" y="427"/>
                    </a:lnTo>
                    <a:lnTo>
                      <a:pt x="2938" y="469"/>
                    </a:lnTo>
                    <a:lnTo>
                      <a:pt x="2960" y="513"/>
                    </a:lnTo>
                    <a:lnTo>
                      <a:pt x="2981" y="559"/>
                    </a:lnTo>
                    <a:lnTo>
                      <a:pt x="2996" y="606"/>
                    </a:lnTo>
                    <a:lnTo>
                      <a:pt x="3008" y="653"/>
                    </a:lnTo>
                    <a:lnTo>
                      <a:pt x="3017" y="701"/>
                    </a:lnTo>
                    <a:lnTo>
                      <a:pt x="3021" y="750"/>
                    </a:lnTo>
                    <a:lnTo>
                      <a:pt x="3021" y="798"/>
                    </a:lnTo>
                    <a:lnTo>
                      <a:pt x="3018" y="848"/>
                    </a:lnTo>
                    <a:lnTo>
                      <a:pt x="3010" y="896"/>
                    </a:lnTo>
                    <a:lnTo>
                      <a:pt x="2999" y="945"/>
                    </a:lnTo>
                    <a:lnTo>
                      <a:pt x="2985" y="994"/>
                    </a:lnTo>
                    <a:lnTo>
                      <a:pt x="2968" y="1042"/>
                    </a:lnTo>
                    <a:lnTo>
                      <a:pt x="2946" y="1090"/>
                    </a:lnTo>
                    <a:lnTo>
                      <a:pt x="2922" y="1139"/>
                    </a:lnTo>
                    <a:lnTo>
                      <a:pt x="2894" y="1186"/>
                    </a:lnTo>
                    <a:lnTo>
                      <a:pt x="2864" y="1233"/>
                    </a:lnTo>
                    <a:lnTo>
                      <a:pt x="2830" y="1279"/>
                    </a:lnTo>
                    <a:lnTo>
                      <a:pt x="2792" y="1326"/>
                    </a:lnTo>
                    <a:lnTo>
                      <a:pt x="2752" y="1371"/>
                    </a:lnTo>
                    <a:lnTo>
                      <a:pt x="2711" y="1415"/>
                    </a:lnTo>
                    <a:lnTo>
                      <a:pt x="2665" y="1458"/>
                    </a:lnTo>
                    <a:lnTo>
                      <a:pt x="2617" y="1500"/>
                    </a:lnTo>
                    <a:lnTo>
                      <a:pt x="2566" y="1541"/>
                    </a:lnTo>
                    <a:lnTo>
                      <a:pt x="2513" y="1581"/>
                    </a:lnTo>
                    <a:lnTo>
                      <a:pt x="2457" y="1620"/>
                    </a:lnTo>
                    <a:lnTo>
                      <a:pt x="2399" y="1658"/>
                    </a:lnTo>
                    <a:lnTo>
                      <a:pt x="2338" y="1693"/>
                    </a:lnTo>
                    <a:lnTo>
                      <a:pt x="2276" y="1727"/>
                    </a:lnTo>
                    <a:lnTo>
                      <a:pt x="2212" y="1761"/>
                    </a:lnTo>
                    <a:lnTo>
                      <a:pt x="2144" y="1792"/>
                    </a:lnTo>
                    <a:lnTo>
                      <a:pt x="2076" y="1821"/>
                    </a:lnTo>
                    <a:lnTo>
                      <a:pt x="2005" y="1849"/>
                    </a:lnTo>
                    <a:lnTo>
                      <a:pt x="1932" y="1875"/>
                    </a:lnTo>
                    <a:lnTo>
                      <a:pt x="1858" y="1898"/>
                    </a:lnTo>
                    <a:lnTo>
                      <a:pt x="1782" y="19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  <a:close/>
                  </a:path>
                </a:pathLst>
              </a:custGeom>
              <a:solidFill>
                <a:srgbClr val="2d6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  <a:close/>
                  </a:path>
                </a:pathLst>
              </a:custGeom>
              <a:solidFill>
                <a:srgbClr val="f2b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10920" y="5858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893" h="650">
                    <a:moveTo>
                      <a:pt x="109" y="157"/>
                    </a:moveTo>
                    <a:lnTo>
                      <a:pt x="110" y="163"/>
                    </a:lnTo>
                    <a:lnTo>
                      <a:pt x="111" y="183"/>
                    </a:lnTo>
                    <a:lnTo>
                      <a:pt x="111" y="197"/>
                    </a:lnTo>
                    <a:lnTo>
                      <a:pt x="110" y="212"/>
                    </a:lnTo>
                    <a:lnTo>
                      <a:pt x="108" y="230"/>
                    </a:lnTo>
                    <a:lnTo>
                      <a:pt x="105" y="249"/>
                    </a:lnTo>
                    <a:lnTo>
                      <a:pt x="100" y="270"/>
                    </a:lnTo>
                    <a:lnTo>
                      <a:pt x="94" y="292"/>
                    </a:lnTo>
                    <a:lnTo>
                      <a:pt x="85" y="315"/>
                    </a:lnTo>
                    <a:lnTo>
                      <a:pt x="74" y="339"/>
                    </a:lnTo>
                    <a:lnTo>
                      <a:pt x="68" y="351"/>
                    </a:lnTo>
                    <a:lnTo>
                      <a:pt x="60" y="363"/>
                    </a:lnTo>
                    <a:lnTo>
                      <a:pt x="52" y="375"/>
                    </a:lnTo>
                    <a:lnTo>
                      <a:pt x="44" y="387"/>
                    </a:lnTo>
                    <a:lnTo>
                      <a:pt x="34" y="400"/>
                    </a:lnTo>
                    <a:lnTo>
                      <a:pt x="24" y="412"/>
                    </a:lnTo>
                    <a:lnTo>
                      <a:pt x="13" y="423"/>
                    </a:lnTo>
                    <a:lnTo>
                      <a:pt x="0" y="435"/>
                    </a:lnTo>
                    <a:lnTo>
                      <a:pt x="595" y="650"/>
                    </a:lnTo>
                    <a:lnTo>
                      <a:pt x="609" y="638"/>
                    </a:lnTo>
                    <a:lnTo>
                      <a:pt x="649" y="605"/>
                    </a:lnTo>
                    <a:lnTo>
                      <a:pt x="674" y="580"/>
                    </a:lnTo>
                    <a:lnTo>
                      <a:pt x="703" y="550"/>
                    </a:lnTo>
                    <a:lnTo>
                      <a:pt x="717" y="534"/>
                    </a:lnTo>
                    <a:lnTo>
                      <a:pt x="733" y="516"/>
                    </a:lnTo>
                    <a:lnTo>
                      <a:pt x="748" y="497"/>
                    </a:lnTo>
                    <a:lnTo>
                      <a:pt x="763" y="476"/>
                    </a:lnTo>
                    <a:lnTo>
                      <a:pt x="779" y="455"/>
                    </a:lnTo>
                    <a:lnTo>
                      <a:pt x="793" y="432"/>
                    </a:lnTo>
                    <a:lnTo>
                      <a:pt x="807" y="408"/>
                    </a:lnTo>
                    <a:lnTo>
                      <a:pt x="820" y="383"/>
                    </a:lnTo>
                    <a:lnTo>
                      <a:pt x="834" y="357"/>
                    </a:lnTo>
                    <a:lnTo>
                      <a:pt x="846" y="330"/>
                    </a:lnTo>
                    <a:lnTo>
                      <a:pt x="856" y="301"/>
                    </a:lnTo>
                    <a:lnTo>
                      <a:pt x="866" y="272"/>
                    </a:lnTo>
                    <a:lnTo>
                      <a:pt x="874" y="242"/>
                    </a:lnTo>
                    <a:lnTo>
                      <a:pt x="882" y="210"/>
                    </a:lnTo>
                    <a:lnTo>
                      <a:pt x="888" y="177"/>
                    </a:lnTo>
                    <a:lnTo>
                      <a:pt x="891" y="144"/>
                    </a:lnTo>
                    <a:lnTo>
                      <a:pt x="893" y="110"/>
                    </a:lnTo>
                    <a:lnTo>
                      <a:pt x="893" y="74"/>
                    </a:lnTo>
                    <a:lnTo>
                      <a:pt x="891" y="38"/>
                    </a:lnTo>
                    <a:lnTo>
                      <a:pt x="887" y="0"/>
                    </a:lnTo>
                    <a:lnTo>
                      <a:pt x="109" y="157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46040" y="5848920"/>
                <a:ext cx="23400" cy="103320"/>
              </a:xfrm>
              <a:custGeom>
                <a:avLst/>
                <a:gdLst/>
                <a:ahLst/>
                <a:rect l="l" t="t" r="r" b="b"/>
                <a:pathLst>
                  <a:path w="263" h="1042">
                    <a:moveTo>
                      <a:pt x="263" y="0"/>
                    </a:moveTo>
                    <a:lnTo>
                      <a:pt x="251" y="12"/>
                    </a:lnTo>
                    <a:lnTo>
                      <a:pt x="219" y="47"/>
                    </a:lnTo>
                    <a:lnTo>
                      <a:pt x="198" y="73"/>
                    </a:lnTo>
                    <a:lnTo>
                      <a:pt x="175" y="102"/>
                    </a:lnTo>
                    <a:lnTo>
                      <a:pt x="150" y="136"/>
                    </a:lnTo>
                    <a:lnTo>
                      <a:pt x="125" y="173"/>
                    </a:lnTo>
                    <a:lnTo>
                      <a:pt x="112" y="193"/>
                    </a:lnTo>
                    <a:lnTo>
                      <a:pt x="100" y="214"/>
                    </a:lnTo>
                    <a:lnTo>
                      <a:pt x="87" y="235"/>
                    </a:lnTo>
                    <a:lnTo>
                      <a:pt x="75" y="258"/>
                    </a:lnTo>
                    <a:lnTo>
                      <a:pt x="64" y="280"/>
                    </a:lnTo>
                    <a:lnTo>
                      <a:pt x="54" y="304"/>
                    </a:lnTo>
                    <a:lnTo>
                      <a:pt x="44" y="327"/>
                    </a:lnTo>
                    <a:lnTo>
                      <a:pt x="34" y="351"/>
                    </a:lnTo>
                    <a:lnTo>
                      <a:pt x="25" y="376"/>
                    </a:lnTo>
                    <a:lnTo>
                      <a:pt x="18" y="402"/>
                    </a:lnTo>
                    <a:lnTo>
                      <a:pt x="12" y="426"/>
                    </a:lnTo>
                    <a:lnTo>
                      <a:pt x="7" y="452"/>
                    </a:lnTo>
                    <a:lnTo>
                      <a:pt x="3" y="478"/>
                    </a:lnTo>
                    <a:lnTo>
                      <a:pt x="1" y="504"/>
                    </a:lnTo>
                    <a:lnTo>
                      <a:pt x="0" y="529"/>
                    </a:lnTo>
                    <a:lnTo>
                      <a:pt x="1" y="556"/>
                    </a:lnTo>
                    <a:lnTo>
                      <a:pt x="0" y="569"/>
                    </a:lnTo>
                    <a:lnTo>
                      <a:pt x="1" y="606"/>
                    </a:lnTo>
                    <a:lnTo>
                      <a:pt x="3" y="632"/>
                    </a:lnTo>
                    <a:lnTo>
                      <a:pt x="6" y="661"/>
                    </a:lnTo>
                    <a:lnTo>
                      <a:pt x="9" y="677"/>
                    </a:lnTo>
                    <a:lnTo>
                      <a:pt x="12" y="694"/>
                    </a:lnTo>
                    <a:lnTo>
                      <a:pt x="16" y="711"/>
                    </a:lnTo>
                    <a:lnTo>
                      <a:pt x="21" y="729"/>
                    </a:lnTo>
                    <a:lnTo>
                      <a:pt x="27" y="749"/>
                    </a:lnTo>
                    <a:lnTo>
                      <a:pt x="33" y="767"/>
                    </a:lnTo>
                    <a:lnTo>
                      <a:pt x="42" y="787"/>
                    </a:lnTo>
                    <a:lnTo>
                      <a:pt x="50" y="807"/>
                    </a:lnTo>
                    <a:lnTo>
                      <a:pt x="60" y="827"/>
                    </a:lnTo>
                    <a:lnTo>
                      <a:pt x="70" y="847"/>
                    </a:lnTo>
                    <a:lnTo>
                      <a:pt x="82" y="868"/>
                    </a:lnTo>
                    <a:lnTo>
                      <a:pt x="96" y="888"/>
                    </a:lnTo>
                    <a:lnTo>
                      <a:pt x="110" y="909"/>
                    </a:lnTo>
                    <a:lnTo>
                      <a:pt x="126" y="928"/>
                    </a:lnTo>
                    <a:lnTo>
                      <a:pt x="144" y="948"/>
                    </a:lnTo>
                    <a:lnTo>
                      <a:pt x="163" y="968"/>
                    </a:lnTo>
                    <a:lnTo>
                      <a:pt x="183" y="987"/>
                    </a:lnTo>
                    <a:lnTo>
                      <a:pt x="206" y="1006"/>
                    </a:lnTo>
                    <a:lnTo>
                      <a:pt x="230" y="1025"/>
                    </a:lnTo>
                    <a:lnTo>
                      <a:pt x="256" y="1042"/>
                    </a:lnTo>
                    <a:lnTo>
                      <a:pt x="247" y="1033"/>
                    </a:lnTo>
                    <a:lnTo>
                      <a:pt x="223" y="1006"/>
                    </a:lnTo>
                    <a:lnTo>
                      <a:pt x="207" y="987"/>
                    </a:lnTo>
                    <a:lnTo>
                      <a:pt x="189" y="963"/>
                    </a:lnTo>
                    <a:lnTo>
                      <a:pt x="170" y="936"/>
                    </a:lnTo>
                    <a:lnTo>
                      <a:pt x="152" y="905"/>
                    </a:lnTo>
                    <a:lnTo>
                      <a:pt x="141" y="888"/>
                    </a:lnTo>
                    <a:lnTo>
                      <a:pt x="132" y="871"/>
                    </a:lnTo>
                    <a:lnTo>
                      <a:pt x="123" y="853"/>
                    </a:lnTo>
                    <a:lnTo>
                      <a:pt x="114" y="833"/>
                    </a:lnTo>
                    <a:lnTo>
                      <a:pt x="105" y="813"/>
                    </a:lnTo>
                    <a:lnTo>
                      <a:pt x="97" y="793"/>
                    </a:lnTo>
                    <a:lnTo>
                      <a:pt x="89" y="771"/>
                    </a:lnTo>
                    <a:lnTo>
                      <a:pt x="82" y="749"/>
                    </a:lnTo>
                    <a:lnTo>
                      <a:pt x="75" y="726"/>
                    </a:lnTo>
                    <a:lnTo>
                      <a:pt x="70" y="702"/>
                    </a:lnTo>
                    <a:lnTo>
                      <a:pt x="65" y="678"/>
                    </a:lnTo>
                    <a:lnTo>
                      <a:pt x="61" y="653"/>
                    </a:lnTo>
                    <a:lnTo>
                      <a:pt x="58" y="628"/>
                    </a:lnTo>
                    <a:lnTo>
                      <a:pt x="56" y="601"/>
                    </a:lnTo>
                    <a:lnTo>
                      <a:pt x="56" y="575"/>
                    </a:lnTo>
                    <a:lnTo>
                      <a:pt x="56" y="548"/>
                    </a:lnTo>
                    <a:lnTo>
                      <a:pt x="57" y="536"/>
                    </a:lnTo>
                    <a:lnTo>
                      <a:pt x="59" y="504"/>
                    </a:lnTo>
                    <a:lnTo>
                      <a:pt x="62" y="480"/>
                    </a:lnTo>
                    <a:lnTo>
                      <a:pt x="67" y="452"/>
                    </a:lnTo>
                    <a:lnTo>
                      <a:pt x="73" y="420"/>
                    </a:lnTo>
                    <a:lnTo>
                      <a:pt x="82" y="383"/>
                    </a:lnTo>
                    <a:lnTo>
                      <a:pt x="93" y="345"/>
                    </a:lnTo>
                    <a:lnTo>
                      <a:pt x="107" y="302"/>
                    </a:lnTo>
                    <a:lnTo>
                      <a:pt x="114" y="280"/>
                    </a:lnTo>
                    <a:lnTo>
                      <a:pt x="123" y="257"/>
                    </a:lnTo>
                    <a:lnTo>
                      <a:pt x="132" y="233"/>
                    </a:lnTo>
                    <a:lnTo>
                      <a:pt x="144" y="209"/>
                    </a:lnTo>
                    <a:lnTo>
                      <a:pt x="155" y="185"/>
                    </a:lnTo>
                    <a:lnTo>
                      <a:pt x="167" y="159"/>
                    </a:lnTo>
                    <a:lnTo>
                      <a:pt x="180" y="133"/>
                    </a:lnTo>
                    <a:lnTo>
                      <a:pt x="195" y="107"/>
                    </a:lnTo>
                    <a:lnTo>
                      <a:pt x="210" y="80"/>
                    </a:lnTo>
                    <a:lnTo>
                      <a:pt x="226" y="53"/>
                    </a:lnTo>
                    <a:lnTo>
                      <a:pt x="243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908120" y="5818680"/>
                <a:ext cx="19800" cy="79560"/>
              </a:xfrm>
              <a:custGeom>
                <a:avLst/>
                <a:gdLst/>
                <a:ahLst/>
                <a:rect l="l" t="t" r="r" b="b"/>
                <a:pathLst>
                  <a:path w="222" h="804">
                    <a:moveTo>
                      <a:pt x="0" y="0"/>
                    </a:moveTo>
                    <a:lnTo>
                      <a:pt x="3" y="3"/>
                    </a:lnTo>
                    <a:lnTo>
                      <a:pt x="12" y="13"/>
                    </a:lnTo>
                    <a:lnTo>
                      <a:pt x="26" y="30"/>
                    </a:lnTo>
                    <a:lnTo>
                      <a:pt x="43" y="53"/>
                    </a:lnTo>
                    <a:lnTo>
                      <a:pt x="52" y="67"/>
                    </a:lnTo>
                    <a:lnTo>
                      <a:pt x="61" y="82"/>
                    </a:lnTo>
                    <a:lnTo>
                      <a:pt x="71" y="99"/>
                    </a:lnTo>
                    <a:lnTo>
                      <a:pt x="81" y="118"/>
                    </a:lnTo>
                    <a:lnTo>
                      <a:pt x="90" y="139"/>
                    </a:lnTo>
                    <a:lnTo>
                      <a:pt x="99" y="160"/>
                    </a:lnTo>
                    <a:lnTo>
                      <a:pt x="108" y="183"/>
                    </a:lnTo>
                    <a:lnTo>
                      <a:pt x="117" y="207"/>
                    </a:lnTo>
                    <a:lnTo>
                      <a:pt x="124" y="234"/>
                    </a:lnTo>
                    <a:lnTo>
                      <a:pt x="130" y="262"/>
                    </a:lnTo>
                    <a:lnTo>
                      <a:pt x="135" y="291"/>
                    </a:lnTo>
                    <a:lnTo>
                      <a:pt x="139" y="322"/>
                    </a:lnTo>
                    <a:lnTo>
                      <a:pt x="142" y="354"/>
                    </a:lnTo>
                    <a:lnTo>
                      <a:pt x="143" y="388"/>
                    </a:lnTo>
                    <a:lnTo>
                      <a:pt x="142" y="423"/>
                    </a:lnTo>
                    <a:lnTo>
                      <a:pt x="139" y="460"/>
                    </a:lnTo>
                    <a:lnTo>
                      <a:pt x="135" y="497"/>
                    </a:lnTo>
                    <a:lnTo>
                      <a:pt x="128" y="537"/>
                    </a:lnTo>
                    <a:lnTo>
                      <a:pt x="119" y="578"/>
                    </a:lnTo>
                    <a:lnTo>
                      <a:pt x="106" y="621"/>
                    </a:lnTo>
                    <a:lnTo>
                      <a:pt x="92" y="664"/>
                    </a:lnTo>
                    <a:lnTo>
                      <a:pt x="75" y="709"/>
                    </a:lnTo>
                    <a:lnTo>
                      <a:pt x="54" y="755"/>
                    </a:lnTo>
                    <a:lnTo>
                      <a:pt x="31" y="804"/>
                    </a:lnTo>
                    <a:lnTo>
                      <a:pt x="35" y="798"/>
                    </a:lnTo>
                    <a:lnTo>
                      <a:pt x="49" y="783"/>
                    </a:lnTo>
                    <a:lnTo>
                      <a:pt x="69" y="758"/>
                    </a:lnTo>
                    <a:lnTo>
                      <a:pt x="93" y="726"/>
                    </a:lnTo>
                    <a:lnTo>
                      <a:pt x="106" y="707"/>
                    </a:lnTo>
                    <a:lnTo>
                      <a:pt x="120" y="686"/>
                    </a:lnTo>
                    <a:lnTo>
                      <a:pt x="134" y="664"/>
                    </a:lnTo>
                    <a:lnTo>
                      <a:pt x="147" y="640"/>
                    </a:lnTo>
                    <a:lnTo>
                      <a:pt x="160" y="614"/>
                    </a:lnTo>
                    <a:lnTo>
                      <a:pt x="174" y="588"/>
                    </a:lnTo>
                    <a:lnTo>
                      <a:pt x="185" y="560"/>
                    </a:lnTo>
                    <a:lnTo>
                      <a:pt x="195" y="531"/>
                    </a:lnTo>
                    <a:lnTo>
                      <a:pt x="204" y="501"/>
                    </a:lnTo>
                    <a:lnTo>
                      <a:pt x="212" y="469"/>
                    </a:lnTo>
                    <a:lnTo>
                      <a:pt x="217" y="438"/>
                    </a:lnTo>
                    <a:lnTo>
                      <a:pt x="221" y="405"/>
                    </a:lnTo>
                    <a:lnTo>
                      <a:pt x="222" y="373"/>
                    </a:lnTo>
                    <a:lnTo>
                      <a:pt x="220" y="338"/>
                    </a:lnTo>
                    <a:lnTo>
                      <a:pt x="215" y="305"/>
                    </a:lnTo>
                    <a:lnTo>
                      <a:pt x="207" y="271"/>
                    </a:lnTo>
                    <a:lnTo>
                      <a:pt x="196" y="236"/>
                    </a:lnTo>
                    <a:lnTo>
                      <a:pt x="181" y="202"/>
                    </a:lnTo>
                    <a:lnTo>
                      <a:pt x="162" y="168"/>
                    </a:lnTo>
                    <a:lnTo>
                      <a:pt x="139" y="133"/>
                    </a:lnTo>
                    <a:lnTo>
                      <a:pt x="111" y="99"/>
                    </a:lnTo>
                    <a:lnTo>
                      <a:pt x="80" y="65"/>
                    </a:lnTo>
                    <a:lnTo>
                      <a:pt x="4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1560" y="5963400"/>
                <a:ext cx="92520" cy="51480"/>
              </a:xfrm>
              <a:custGeom>
                <a:avLst/>
                <a:gdLst/>
                <a:ahLst/>
                <a:rect l="l" t="t" r="r" b="b"/>
                <a:pathLst>
                  <a:path w="1019" h="516">
                    <a:moveTo>
                      <a:pt x="0" y="0"/>
                    </a:moveTo>
                    <a:lnTo>
                      <a:pt x="3" y="6"/>
                    </a:lnTo>
                    <a:lnTo>
                      <a:pt x="9" y="22"/>
                    </a:lnTo>
                    <a:lnTo>
                      <a:pt x="14" y="34"/>
                    </a:lnTo>
                    <a:lnTo>
                      <a:pt x="21" y="48"/>
                    </a:lnTo>
                    <a:lnTo>
                      <a:pt x="29" y="63"/>
                    </a:lnTo>
                    <a:lnTo>
                      <a:pt x="39" y="80"/>
                    </a:lnTo>
                    <a:lnTo>
                      <a:pt x="50" y="100"/>
                    </a:lnTo>
                    <a:lnTo>
                      <a:pt x="64" y="120"/>
                    </a:lnTo>
                    <a:lnTo>
                      <a:pt x="80" y="141"/>
                    </a:lnTo>
                    <a:lnTo>
                      <a:pt x="97" y="163"/>
                    </a:lnTo>
                    <a:lnTo>
                      <a:pt x="117" y="187"/>
                    </a:lnTo>
                    <a:lnTo>
                      <a:pt x="138" y="210"/>
                    </a:lnTo>
                    <a:lnTo>
                      <a:pt x="163" y="234"/>
                    </a:lnTo>
                    <a:lnTo>
                      <a:pt x="189" y="259"/>
                    </a:lnTo>
                    <a:lnTo>
                      <a:pt x="218" y="282"/>
                    </a:lnTo>
                    <a:lnTo>
                      <a:pt x="249" y="307"/>
                    </a:lnTo>
                    <a:lnTo>
                      <a:pt x="284" y="330"/>
                    </a:lnTo>
                    <a:lnTo>
                      <a:pt x="321" y="353"/>
                    </a:lnTo>
                    <a:lnTo>
                      <a:pt x="361" y="376"/>
                    </a:lnTo>
                    <a:lnTo>
                      <a:pt x="404" y="397"/>
                    </a:lnTo>
                    <a:lnTo>
                      <a:pt x="450" y="416"/>
                    </a:lnTo>
                    <a:lnTo>
                      <a:pt x="499" y="436"/>
                    </a:lnTo>
                    <a:lnTo>
                      <a:pt x="552" y="453"/>
                    </a:lnTo>
                    <a:lnTo>
                      <a:pt x="607" y="469"/>
                    </a:lnTo>
                    <a:lnTo>
                      <a:pt x="668" y="483"/>
                    </a:lnTo>
                    <a:lnTo>
                      <a:pt x="730" y="494"/>
                    </a:lnTo>
                    <a:lnTo>
                      <a:pt x="797" y="503"/>
                    </a:lnTo>
                    <a:lnTo>
                      <a:pt x="867" y="511"/>
                    </a:lnTo>
                    <a:lnTo>
                      <a:pt x="941" y="515"/>
                    </a:lnTo>
                    <a:lnTo>
                      <a:pt x="1019" y="516"/>
                    </a:lnTo>
                    <a:lnTo>
                      <a:pt x="995" y="514"/>
                    </a:lnTo>
                    <a:lnTo>
                      <a:pt x="926" y="506"/>
                    </a:lnTo>
                    <a:lnTo>
                      <a:pt x="902" y="501"/>
                    </a:lnTo>
                    <a:lnTo>
                      <a:pt x="877" y="497"/>
                    </a:lnTo>
                    <a:lnTo>
                      <a:pt x="849" y="492"/>
                    </a:lnTo>
                    <a:lnTo>
                      <a:pt x="820" y="484"/>
                    </a:lnTo>
                    <a:lnTo>
                      <a:pt x="788" y="477"/>
                    </a:lnTo>
                    <a:lnTo>
                      <a:pt x="755" y="467"/>
                    </a:lnTo>
                    <a:lnTo>
                      <a:pt x="721" y="456"/>
                    </a:lnTo>
                    <a:lnTo>
                      <a:pt x="684" y="444"/>
                    </a:lnTo>
                    <a:lnTo>
                      <a:pt x="646" y="431"/>
                    </a:lnTo>
                    <a:lnTo>
                      <a:pt x="607" y="416"/>
                    </a:lnTo>
                    <a:lnTo>
                      <a:pt x="568" y="400"/>
                    </a:lnTo>
                    <a:lnTo>
                      <a:pt x="527" y="382"/>
                    </a:lnTo>
                    <a:lnTo>
                      <a:pt x="485" y="362"/>
                    </a:lnTo>
                    <a:lnTo>
                      <a:pt x="442" y="340"/>
                    </a:lnTo>
                    <a:lnTo>
                      <a:pt x="399" y="317"/>
                    </a:lnTo>
                    <a:lnTo>
                      <a:pt x="355" y="291"/>
                    </a:lnTo>
                    <a:lnTo>
                      <a:pt x="311" y="263"/>
                    </a:lnTo>
                    <a:lnTo>
                      <a:pt x="267" y="233"/>
                    </a:lnTo>
                    <a:lnTo>
                      <a:pt x="222" y="199"/>
                    </a:lnTo>
                    <a:lnTo>
                      <a:pt x="177" y="165"/>
                    </a:lnTo>
                    <a:lnTo>
                      <a:pt x="132" y="127"/>
                    </a:lnTo>
                    <a:lnTo>
                      <a:pt x="88" y="88"/>
                    </a:lnTo>
                    <a:lnTo>
                      <a:pt x="43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29720" y="5845680"/>
                <a:ext cx="10080" cy="40680"/>
              </a:xfrm>
              <a:custGeom>
                <a:avLst/>
                <a:gdLst/>
                <a:ahLst/>
                <a:rect l="l" t="t" r="r" b="b"/>
                <a:pathLst>
                  <a:path w="107" h="403">
                    <a:moveTo>
                      <a:pt x="59" y="0"/>
                    </a:moveTo>
                    <a:lnTo>
                      <a:pt x="60" y="9"/>
                    </a:lnTo>
                    <a:lnTo>
                      <a:pt x="63" y="33"/>
                    </a:lnTo>
                    <a:lnTo>
                      <a:pt x="65" y="51"/>
                    </a:lnTo>
                    <a:lnTo>
                      <a:pt x="66" y="72"/>
                    </a:lnTo>
                    <a:lnTo>
                      <a:pt x="66" y="96"/>
                    </a:lnTo>
                    <a:lnTo>
                      <a:pt x="66" y="123"/>
                    </a:lnTo>
                    <a:lnTo>
                      <a:pt x="64" y="152"/>
                    </a:lnTo>
                    <a:lnTo>
                      <a:pt x="61" y="183"/>
                    </a:lnTo>
                    <a:lnTo>
                      <a:pt x="56" y="216"/>
                    </a:lnTo>
                    <a:lnTo>
                      <a:pt x="50" y="250"/>
                    </a:lnTo>
                    <a:lnTo>
                      <a:pt x="41" y="287"/>
                    </a:lnTo>
                    <a:lnTo>
                      <a:pt x="31" y="325"/>
                    </a:lnTo>
                    <a:lnTo>
                      <a:pt x="23" y="344"/>
                    </a:lnTo>
                    <a:lnTo>
                      <a:pt x="16" y="363"/>
                    </a:lnTo>
                    <a:lnTo>
                      <a:pt x="8" y="383"/>
                    </a:lnTo>
                    <a:lnTo>
                      <a:pt x="0" y="403"/>
                    </a:lnTo>
                    <a:lnTo>
                      <a:pt x="8" y="393"/>
                    </a:lnTo>
                    <a:lnTo>
                      <a:pt x="27" y="367"/>
                    </a:lnTo>
                    <a:lnTo>
                      <a:pt x="41" y="348"/>
                    </a:lnTo>
                    <a:lnTo>
                      <a:pt x="54" y="326"/>
                    </a:lnTo>
                    <a:lnTo>
                      <a:pt x="67" y="301"/>
                    </a:lnTo>
                    <a:lnTo>
                      <a:pt x="81" y="273"/>
                    </a:lnTo>
                    <a:lnTo>
                      <a:pt x="86" y="259"/>
                    </a:lnTo>
                    <a:lnTo>
                      <a:pt x="91" y="243"/>
                    </a:lnTo>
                    <a:lnTo>
                      <a:pt x="96" y="228"/>
                    </a:lnTo>
                    <a:lnTo>
                      <a:pt x="100" y="212"/>
                    </a:lnTo>
                    <a:lnTo>
                      <a:pt x="103" y="195"/>
                    </a:lnTo>
                    <a:lnTo>
                      <a:pt x="105" y="178"/>
                    </a:lnTo>
                    <a:lnTo>
                      <a:pt x="106" y="161"/>
                    </a:lnTo>
                    <a:lnTo>
                      <a:pt x="107" y="144"/>
                    </a:lnTo>
                    <a:lnTo>
                      <a:pt x="106" y="126"/>
                    </a:lnTo>
                    <a:lnTo>
                      <a:pt x="104" y="109"/>
                    </a:lnTo>
                    <a:lnTo>
                      <a:pt x="100" y="90"/>
                    </a:lnTo>
                    <a:lnTo>
                      <a:pt x="95" y="72"/>
                    </a:lnTo>
                    <a:lnTo>
                      <a:pt x="89" y="54"/>
                    </a:lnTo>
                    <a:lnTo>
                      <a:pt x="81" y="36"/>
                    </a:lnTo>
                    <a:lnTo>
                      <a:pt x="7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/>
          </p:nvPr>
        </p:nvSpPr>
        <p:spPr>
          <a:xfrm>
            <a:off x="1598760" y="1628640"/>
            <a:ext cx="6502320" cy="4525920"/>
          </a:xfrm>
          <a:prstGeom prst="rect">
            <a:avLst/>
          </a:prstGeom>
          <a:solidFill>
            <a:srgbClr val="dcf8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rvicio de Cán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Bienve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stim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un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alu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úsica y lla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835280" y="404640"/>
            <a:ext cx="5190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ograma Sugere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33" name="" descr=""/>
          <p:cNvPicPr/>
          <p:nvPr/>
        </p:nvPicPr>
        <p:blipFill>
          <a:blip r:embed="rId1"/>
          <a:stretch/>
        </p:blipFill>
        <p:spPr>
          <a:xfrm>
            <a:off x="5508720" y="4073400"/>
            <a:ext cx="3635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"/>
          <p:cNvSpPr txBox="1"/>
          <p:nvPr/>
        </p:nvSpPr>
        <p:spPr>
          <a:xfrm>
            <a:off x="1114560" y="417600"/>
            <a:ext cx="71294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y presentación del sermón.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35" name="" descr=""/>
          <p:cNvPicPr/>
          <p:nvPr/>
        </p:nvPicPr>
        <p:blipFill>
          <a:blip r:embed="rId1"/>
          <a:stretch/>
        </p:blipFill>
        <p:spPr>
          <a:xfrm>
            <a:off x="4013280" y="2781360"/>
            <a:ext cx="156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627516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téngase a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rele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senc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 txBox="1"/>
          <p:nvPr/>
        </p:nvSpPr>
        <p:spPr>
          <a:xfrm>
            <a:off x="2771640" y="404640"/>
            <a:ext cx="3510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Orient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38" name="" descr=""/>
          <p:cNvPicPr/>
          <p:nvPr/>
        </p:nvPicPr>
        <p:blipFill>
          <a:blip r:embed="rId3"/>
          <a:stretch/>
        </p:blipFill>
        <p:spPr>
          <a:xfrm>
            <a:off x="6804000" y="2781360"/>
            <a:ext cx="1892160" cy="3746520"/>
          </a:xfrm>
          <a:prstGeom prst="rect">
            <a:avLst/>
          </a:prstGeom>
          <a:ln w="0">
            <a:noFill/>
          </a:ln>
        </p:spPr>
      </p:pic>
      <p:sp>
        <p:nvSpPr>
          <p:cNvPr id="5839" name=""/>
          <p:cNvSpPr/>
          <p:nvPr/>
        </p:nvSpPr>
        <p:spPr>
          <a:xfrm>
            <a:off x="8244000" y="3429000"/>
            <a:ext cx="144360" cy="14436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"/>
          <p:cNvSpPr/>
          <p:nvPr/>
        </p:nvSpPr>
        <p:spPr>
          <a:xfrm>
            <a:off x="6443640" y="3357720"/>
            <a:ext cx="1441440" cy="2232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/>
          </p:nvPr>
        </p:nvSpPr>
        <p:spPr>
          <a:xfrm>
            <a:off x="240840" y="1268280"/>
            <a:ext cx="6635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risto debe ser el centro de nuestros sermo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vangel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gunos pasos para la presentación del serm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gre la atención d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ga cuál será su tem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usque material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s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 máximo 3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ce el material en una secuencia 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se olvide del ll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 txBox="1"/>
          <p:nvPr/>
        </p:nvSpPr>
        <p:spPr>
          <a:xfrm>
            <a:off x="2585880" y="338040"/>
            <a:ext cx="36417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rear Serm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43" name="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1893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2010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ozca bien el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amine cada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los textos para ver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otras fu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lustre el sermón usando historias , noticias y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riba el ser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actique su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 txBox="1"/>
          <p:nvPr/>
        </p:nvSpPr>
        <p:spPr>
          <a:xfrm>
            <a:off x="1763640" y="333360"/>
            <a:ext cx="515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Bosquejo de un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46" name=""/>
          <p:cNvGrpSpPr/>
          <p:nvPr/>
        </p:nvGrpSpPr>
        <p:grpSpPr>
          <a:xfrm>
            <a:off x="6553080" y="1484280"/>
            <a:ext cx="2590920" cy="1828800"/>
            <a:chOff x="6553080" y="1484280"/>
            <a:chExt cx="2590920" cy="1828800"/>
          </a:xfrm>
        </p:grpSpPr>
        <p:sp>
          <p:nvSpPr>
            <p:cNvPr id="5847" name=""/>
            <p:cNvSpPr/>
            <p:nvPr/>
          </p:nvSpPr>
          <p:spPr>
            <a:xfrm>
              <a:off x="6553080" y="1484280"/>
              <a:ext cx="2590920" cy="1824840"/>
            </a:xfrm>
            <a:prstGeom prst="leftArrowCallout">
              <a:avLst>
                <a:gd name="adj1" fmla="val 25002"/>
                <a:gd name="adj2" fmla="val 25000"/>
                <a:gd name="adj3" fmla="val 23663"/>
                <a:gd name="adj4" fmla="val 666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8" name="" descr=""/>
            <p:cNvPicPr/>
            <p:nvPr/>
          </p:nvPicPr>
          <p:blipFill>
            <a:blip r:embed="rId3"/>
            <a:stretch/>
          </p:blipFill>
          <p:spPr>
            <a:xfrm>
              <a:off x="7500600" y="1792080"/>
              <a:ext cx="157968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nfíe. Dios está dirig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sincera. Crea en lo que está predic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práctica. Diga el “có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entusi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amable con 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intera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ga contacto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una porta voz del Espíritu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láj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1604880" y="476280"/>
            <a:ext cx="5631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resentación del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1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916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utilice historias personales como si fuesen suy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ilustraciones apropiadas a la cu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historia no debe ofender a quien está en el aud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un asunto que el público se identif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ejempl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2195640" y="476280"/>
            <a:ext cx="5105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El uso de Ilustr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4" name="" descr=""/>
          <p:cNvPicPr/>
          <p:nvPr/>
        </p:nvPicPr>
        <p:blipFill>
          <a:blip r:embed="rId3"/>
          <a:stretch/>
        </p:blipFill>
        <p:spPr>
          <a:xfrm>
            <a:off x="6156360" y="4146480"/>
            <a:ext cx="2808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"/>
          <p:cNvSpPr txBox="1"/>
          <p:nvPr/>
        </p:nvSpPr>
        <p:spPr>
          <a:xfrm>
            <a:off x="1474920" y="333360"/>
            <a:ext cx="67690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Visitas y Toma de Decisiones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6" name=""/>
          <p:cNvGrpSpPr/>
          <p:nvPr/>
        </p:nvGrpSpPr>
        <p:grpSpPr>
          <a:xfrm>
            <a:off x="2626920" y="2276640"/>
            <a:ext cx="2808360" cy="4221000"/>
            <a:chOff x="2626920" y="2276640"/>
            <a:chExt cx="2808360" cy="4221000"/>
          </a:xfrm>
        </p:grpSpPr>
        <p:sp>
          <p:nvSpPr>
            <p:cNvPr id="5857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185640" y="2890080"/>
              <a:ext cx="1107360" cy="59652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813" y="105"/>
                  </a:moveTo>
                  <a:lnTo>
                    <a:pt x="413" y="105"/>
                  </a:lnTo>
                  <a:lnTo>
                    <a:pt x="403" y="98"/>
                  </a:lnTo>
                  <a:lnTo>
                    <a:pt x="389" y="98"/>
                  </a:lnTo>
                  <a:lnTo>
                    <a:pt x="378" y="88"/>
                  </a:lnTo>
                  <a:lnTo>
                    <a:pt x="370" y="79"/>
                  </a:lnTo>
                  <a:lnTo>
                    <a:pt x="362" y="69"/>
                  </a:lnTo>
                  <a:lnTo>
                    <a:pt x="354" y="56"/>
                  </a:lnTo>
                  <a:lnTo>
                    <a:pt x="348" y="39"/>
                  </a:lnTo>
                  <a:lnTo>
                    <a:pt x="348" y="0"/>
                  </a:lnTo>
                  <a:lnTo>
                    <a:pt x="345" y="7"/>
                  </a:lnTo>
                  <a:lnTo>
                    <a:pt x="337" y="20"/>
                  </a:lnTo>
                  <a:lnTo>
                    <a:pt x="329" y="39"/>
                  </a:lnTo>
                  <a:lnTo>
                    <a:pt x="316" y="56"/>
                  </a:lnTo>
                  <a:lnTo>
                    <a:pt x="305" y="69"/>
                  </a:lnTo>
                  <a:lnTo>
                    <a:pt x="291" y="79"/>
                  </a:lnTo>
                  <a:lnTo>
                    <a:pt x="275" y="88"/>
                  </a:lnTo>
                  <a:lnTo>
                    <a:pt x="261" y="98"/>
                  </a:lnTo>
                  <a:lnTo>
                    <a:pt x="245" y="98"/>
                  </a:lnTo>
                  <a:lnTo>
                    <a:pt x="226" y="105"/>
                  </a:lnTo>
                  <a:lnTo>
                    <a:pt x="229" y="118"/>
                  </a:lnTo>
                  <a:lnTo>
                    <a:pt x="231" y="137"/>
                  </a:lnTo>
                  <a:lnTo>
                    <a:pt x="231" y="173"/>
                  </a:lnTo>
                  <a:lnTo>
                    <a:pt x="229" y="196"/>
                  </a:lnTo>
                  <a:lnTo>
                    <a:pt x="226" y="225"/>
                  </a:lnTo>
                  <a:lnTo>
                    <a:pt x="218" y="245"/>
                  </a:lnTo>
                  <a:lnTo>
                    <a:pt x="210" y="274"/>
                  </a:lnTo>
                  <a:lnTo>
                    <a:pt x="204" y="284"/>
                  </a:lnTo>
                  <a:lnTo>
                    <a:pt x="191" y="313"/>
                  </a:lnTo>
                  <a:lnTo>
                    <a:pt x="177" y="333"/>
                  </a:lnTo>
                  <a:lnTo>
                    <a:pt x="163" y="353"/>
                  </a:lnTo>
                  <a:lnTo>
                    <a:pt x="147" y="372"/>
                  </a:lnTo>
                  <a:lnTo>
                    <a:pt x="128" y="389"/>
                  </a:lnTo>
                  <a:lnTo>
                    <a:pt x="109" y="402"/>
                  </a:lnTo>
                  <a:lnTo>
                    <a:pt x="90" y="411"/>
                  </a:lnTo>
                  <a:lnTo>
                    <a:pt x="71" y="421"/>
                  </a:lnTo>
                  <a:lnTo>
                    <a:pt x="49" y="428"/>
                  </a:lnTo>
                  <a:lnTo>
                    <a:pt x="36" y="428"/>
                  </a:lnTo>
                  <a:lnTo>
                    <a:pt x="28" y="421"/>
                  </a:lnTo>
                  <a:lnTo>
                    <a:pt x="19" y="411"/>
                  </a:lnTo>
                  <a:lnTo>
                    <a:pt x="11" y="408"/>
                  </a:lnTo>
                  <a:lnTo>
                    <a:pt x="3" y="398"/>
                  </a:lnTo>
                  <a:lnTo>
                    <a:pt x="0" y="389"/>
                  </a:lnTo>
                  <a:lnTo>
                    <a:pt x="0" y="362"/>
                  </a:lnTo>
                  <a:lnTo>
                    <a:pt x="9" y="323"/>
                  </a:lnTo>
                  <a:lnTo>
                    <a:pt x="9" y="320"/>
                  </a:lnTo>
                  <a:lnTo>
                    <a:pt x="11" y="284"/>
                  </a:lnTo>
                  <a:lnTo>
                    <a:pt x="19" y="245"/>
                  </a:lnTo>
                  <a:lnTo>
                    <a:pt x="19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H="1">
              <a:off x="3164040" y="3081240"/>
              <a:ext cx="851040" cy="813960"/>
            </a:xfrm>
            <a:custGeom>
              <a:avLst/>
              <a:gdLst/>
              <a:ahLst/>
              <a:rect l="l" t="t" r="r" b="b"/>
              <a:pathLst>
                <a:path w="625" h="584">
                  <a:moveTo>
                    <a:pt x="0" y="147"/>
                  </a:moveTo>
                  <a:lnTo>
                    <a:pt x="57" y="105"/>
                  </a:lnTo>
                  <a:lnTo>
                    <a:pt x="71" y="95"/>
                  </a:lnTo>
                  <a:lnTo>
                    <a:pt x="90" y="79"/>
                  </a:lnTo>
                  <a:lnTo>
                    <a:pt x="109" y="69"/>
                  </a:lnTo>
                  <a:lnTo>
                    <a:pt x="125" y="69"/>
                  </a:lnTo>
                  <a:lnTo>
                    <a:pt x="144" y="66"/>
                  </a:lnTo>
                  <a:lnTo>
                    <a:pt x="188" y="66"/>
                  </a:lnTo>
                  <a:lnTo>
                    <a:pt x="201" y="69"/>
                  </a:lnTo>
                  <a:lnTo>
                    <a:pt x="215" y="79"/>
                  </a:lnTo>
                  <a:lnTo>
                    <a:pt x="228" y="85"/>
                  </a:lnTo>
                  <a:lnTo>
                    <a:pt x="239" y="98"/>
                  </a:lnTo>
                  <a:lnTo>
                    <a:pt x="247" y="108"/>
                  </a:lnTo>
                  <a:lnTo>
                    <a:pt x="253" y="128"/>
                  </a:lnTo>
                  <a:lnTo>
                    <a:pt x="258" y="144"/>
                  </a:lnTo>
                  <a:lnTo>
                    <a:pt x="261" y="157"/>
                  </a:lnTo>
                  <a:lnTo>
                    <a:pt x="261" y="193"/>
                  </a:lnTo>
                  <a:lnTo>
                    <a:pt x="332" y="79"/>
                  </a:lnTo>
                  <a:lnTo>
                    <a:pt x="340" y="59"/>
                  </a:lnTo>
                  <a:lnTo>
                    <a:pt x="353" y="46"/>
                  </a:lnTo>
                  <a:lnTo>
                    <a:pt x="364" y="36"/>
                  </a:lnTo>
                  <a:lnTo>
                    <a:pt x="381" y="20"/>
                  </a:lnTo>
                  <a:lnTo>
                    <a:pt x="397" y="10"/>
                  </a:lnTo>
                  <a:lnTo>
                    <a:pt x="413" y="7"/>
                  </a:lnTo>
                  <a:lnTo>
                    <a:pt x="429" y="0"/>
                  </a:lnTo>
                  <a:lnTo>
                    <a:pt x="462" y="0"/>
                  </a:lnTo>
                  <a:lnTo>
                    <a:pt x="476" y="10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08" y="39"/>
                  </a:lnTo>
                  <a:lnTo>
                    <a:pt x="511" y="56"/>
                  </a:lnTo>
                  <a:lnTo>
                    <a:pt x="519" y="69"/>
                  </a:lnTo>
                  <a:lnTo>
                    <a:pt x="519" y="118"/>
                  </a:lnTo>
                  <a:lnTo>
                    <a:pt x="519" y="134"/>
                  </a:lnTo>
                  <a:lnTo>
                    <a:pt x="527" y="128"/>
                  </a:lnTo>
                  <a:lnTo>
                    <a:pt x="544" y="128"/>
                  </a:lnTo>
                  <a:lnTo>
                    <a:pt x="557" y="128"/>
                  </a:lnTo>
                  <a:lnTo>
                    <a:pt x="568" y="134"/>
                  </a:lnTo>
                  <a:lnTo>
                    <a:pt x="582" y="137"/>
                  </a:lnTo>
                  <a:lnTo>
                    <a:pt x="598" y="147"/>
                  </a:lnTo>
                  <a:lnTo>
                    <a:pt x="601" y="157"/>
                  </a:lnTo>
                  <a:lnTo>
                    <a:pt x="609" y="173"/>
                  </a:lnTo>
                  <a:lnTo>
                    <a:pt x="625" y="186"/>
                  </a:lnTo>
                  <a:lnTo>
                    <a:pt x="625" y="252"/>
                  </a:lnTo>
                  <a:lnTo>
                    <a:pt x="617" y="294"/>
                  </a:lnTo>
                  <a:lnTo>
                    <a:pt x="606" y="323"/>
                  </a:lnTo>
                  <a:lnTo>
                    <a:pt x="598" y="353"/>
                  </a:lnTo>
                  <a:lnTo>
                    <a:pt x="582" y="382"/>
                  </a:lnTo>
                  <a:lnTo>
                    <a:pt x="565" y="408"/>
                  </a:lnTo>
                  <a:lnTo>
                    <a:pt x="503" y="5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H="1">
              <a:off x="4226040" y="3486960"/>
              <a:ext cx="6840" cy="860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0" y="62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H="1">
              <a:off x="3737520" y="3300120"/>
              <a:ext cx="185040" cy="19080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88"/>
                  </a:moveTo>
                  <a:lnTo>
                    <a:pt x="84" y="137"/>
                  </a:lnTo>
                  <a:lnTo>
                    <a:pt x="71" y="137"/>
                  </a:lnTo>
                  <a:lnTo>
                    <a:pt x="57" y="134"/>
                  </a:lnTo>
                  <a:lnTo>
                    <a:pt x="44" y="127"/>
                  </a:lnTo>
                  <a:lnTo>
                    <a:pt x="33" y="117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4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3441600" y="3259440"/>
              <a:ext cx="103680" cy="9468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0" y="0"/>
                  </a:moveTo>
                  <a:lnTo>
                    <a:pt x="3" y="9"/>
                  </a:lnTo>
                  <a:lnTo>
                    <a:pt x="11" y="26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8"/>
                  </a:lnTo>
                  <a:lnTo>
                    <a:pt x="52" y="65"/>
                  </a:lnTo>
                  <a:lnTo>
                    <a:pt x="60" y="68"/>
                  </a:lnTo>
                  <a:lnTo>
                    <a:pt x="7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3288960" y="3459240"/>
              <a:ext cx="77400" cy="58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8" y="13"/>
                  </a:lnTo>
                  <a:lnTo>
                    <a:pt x="19" y="23"/>
                  </a:lnTo>
                  <a:lnTo>
                    <a:pt x="27" y="33"/>
                  </a:lnTo>
                  <a:lnTo>
                    <a:pt x="43" y="42"/>
                  </a:lnTo>
                  <a:lnTo>
                    <a:pt x="5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H="1" flipV="1">
              <a:off x="3340800" y="3322440"/>
              <a:ext cx="7776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H="1" flipV="1">
              <a:off x="3707280" y="3444840"/>
              <a:ext cx="21096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H="1" flipV="1">
              <a:off x="3467520" y="3517560"/>
              <a:ext cx="181080" cy="34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>
              <a:off x="3234960" y="3790800"/>
              <a:ext cx="28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 flipV="1">
              <a:off x="3196440" y="3422520"/>
              <a:ext cx="2592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 flipV="1">
              <a:off x="3756240" y="2603880"/>
              <a:ext cx="518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5132160" y="3463200"/>
              <a:ext cx="23040" cy="11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H="1">
              <a:off x="4425120" y="3941640"/>
              <a:ext cx="200160" cy="617400"/>
            </a:xfrm>
            <a:custGeom>
              <a:avLst/>
              <a:gdLst/>
              <a:ahLst/>
              <a:rect l="l" t="t" r="r" b="b"/>
              <a:pathLst>
                <a:path w="147" h="443">
                  <a:moveTo>
                    <a:pt x="35" y="443"/>
                  </a:moveTo>
                  <a:lnTo>
                    <a:pt x="35" y="411"/>
                  </a:lnTo>
                  <a:lnTo>
                    <a:pt x="41" y="375"/>
                  </a:lnTo>
                  <a:lnTo>
                    <a:pt x="41" y="284"/>
                  </a:lnTo>
                  <a:lnTo>
                    <a:pt x="35" y="254"/>
                  </a:lnTo>
                  <a:lnTo>
                    <a:pt x="35" y="225"/>
                  </a:lnTo>
                  <a:lnTo>
                    <a:pt x="27" y="196"/>
                  </a:lnTo>
                  <a:lnTo>
                    <a:pt x="24" y="166"/>
                  </a:lnTo>
                  <a:lnTo>
                    <a:pt x="19" y="137"/>
                  </a:lnTo>
                  <a:lnTo>
                    <a:pt x="11" y="107"/>
                  </a:lnTo>
                  <a:lnTo>
                    <a:pt x="3" y="85"/>
                  </a:lnTo>
                  <a:lnTo>
                    <a:pt x="0" y="78"/>
                  </a:lnTo>
                  <a:lnTo>
                    <a:pt x="0" y="4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92" y="19"/>
                  </a:lnTo>
                  <a:lnTo>
                    <a:pt x="98" y="29"/>
                  </a:lnTo>
                  <a:lnTo>
                    <a:pt x="109" y="46"/>
                  </a:lnTo>
                  <a:lnTo>
                    <a:pt x="117" y="59"/>
                  </a:lnTo>
                  <a:lnTo>
                    <a:pt x="125" y="78"/>
                  </a:lnTo>
                  <a:lnTo>
                    <a:pt x="130" y="98"/>
                  </a:lnTo>
                  <a:lnTo>
                    <a:pt x="133" y="117"/>
                  </a:lnTo>
                  <a:lnTo>
                    <a:pt x="141" y="137"/>
                  </a:lnTo>
                  <a:lnTo>
                    <a:pt x="141" y="156"/>
                  </a:lnTo>
                  <a:lnTo>
                    <a:pt x="141" y="183"/>
                  </a:lnTo>
                  <a:lnTo>
                    <a:pt x="147" y="202"/>
                  </a:lnTo>
                  <a:lnTo>
                    <a:pt x="147" y="218"/>
                  </a:lnTo>
                  <a:lnTo>
                    <a:pt x="141" y="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5010840" y="6211800"/>
              <a:ext cx="10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5437080" y="1844640"/>
            <a:ext cx="2664000" cy="4653000"/>
            <a:chOff x="5437080" y="1844640"/>
            <a:chExt cx="2664000" cy="4653000"/>
          </a:xfrm>
        </p:grpSpPr>
        <p:sp>
          <p:nvSpPr>
            <p:cNvPr id="5889" name=""/>
            <p:cNvSpPr/>
            <p:nvPr/>
          </p:nvSpPr>
          <p:spPr>
            <a:xfrm flipH="1">
              <a:off x="5437080" y="1844640"/>
              <a:ext cx="2664000" cy="4653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5702400" y="2119320"/>
              <a:ext cx="2203200" cy="4295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7821720" y="1917720"/>
              <a:ext cx="216720" cy="4482720"/>
            </a:xfrm>
            <a:custGeom>
              <a:avLst/>
              <a:gdLst/>
              <a:ahLst/>
              <a:rect l="l" t="t" r="r" b="b"/>
              <a:pathLst>
                <a:path w="166" h="3376">
                  <a:moveTo>
                    <a:pt x="0" y="0"/>
                  </a:moveTo>
                  <a:lnTo>
                    <a:pt x="166" y="195"/>
                  </a:lnTo>
                  <a:lnTo>
                    <a:pt x="166" y="3376"/>
                  </a:lnTo>
                  <a:lnTo>
                    <a:pt x="0" y="3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5485320" y="1916280"/>
              <a:ext cx="2552760" cy="258840"/>
            </a:xfrm>
            <a:custGeom>
              <a:avLst/>
              <a:gdLst/>
              <a:ahLst/>
              <a:rect l="l" t="t" r="r" b="b"/>
              <a:pathLst>
                <a:path w="1955" h="195">
                  <a:moveTo>
                    <a:pt x="0" y="1"/>
                  </a:moveTo>
                  <a:lnTo>
                    <a:pt x="1955" y="0"/>
                  </a:lnTo>
                  <a:lnTo>
                    <a:pt x="1769" y="195"/>
                  </a:lnTo>
                  <a:lnTo>
                    <a:pt x="156" y="19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5496120" y="1917720"/>
              <a:ext cx="232200" cy="4481640"/>
            </a:xfrm>
            <a:custGeom>
              <a:avLst/>
              <a:gdLst/>
              <a:ahLst/>
              <a:rect l="l" t="t" r="r" b="b"/>
              <a:pathLst>
                <a:path w="178" h="3375">
                  <a:moveTo>
                    <a:pt x="0" y="194"/>
                  </a:moveTo>
                  <a:lnTo>
                    <a:pt x="178" y="0"/>
                  </a:lnTo>
                  <a:lnTo>
                    <a:pt x="177" y="3375"/>
                  </a:lnTo>
                  <a:lnTo>
                    <a:pt x="0" y="337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4" name=""/>
            <p:cNvGrpSpPr/>
            <p:nvPr/>
          </p:nvGrpSpPr>
          <p:grpSpPr>
            <a:xfrm>
              <a:off x="5981400" y="2190960"/>
              <a:ext cx="1827360" cy="4194360"/>
              <a:chOff x="5981400" y="2190960"/>
              <a:chExt cx="1827360" cy="4194360"/>
            </a:xfrm>
          </p:grpSpPr>
          <p:sp>
            <p:nvSpPr>
              <p:cNvPr id="5895" name=""/>
              <p:cNvSpPr/>
              <p:nvPr/>
            </p:nvSpPr>
            <p:spPr>
              <a:xfrm flipH="1">
                <a:off x="5981040" y="2190960"/>
                <a:ext cx="1695960" cy="4178520"/>
              </a:xfrm>
              <a:custGeom>
                <a:avLst/>
                <a:gdLst/>
                <a:ahLst/>
                <a:rect l="l" t="t" r="r" b="b"/>
                <a:pathLst>
                  <a:path w="1299" h="3147">
                    <a:moveTo>
                      <a:pt x="1" y="0"/>
                    </a:moveTo>
                    <a:lnTo>
                      <a:pt x="0" y="3147"/>
                    </a:lnTo>
                    <a:lnTo>
                      <a:pt x="1299" y="2791"/>
                    </a:lnTo>
                    <a:lnTo>
                      <a:pt x="1299" y="3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6" name=""/>
              <p:cNvGrpSpPr/>
              <p:nvPr/>
            </p:nvGrpSpPr>
            <p:grpSpPr>
              <a:xfrm>
                <a:off x="6195240" y="2593080"/>
                <a:ext cx="1177560" cy="1573200"/>
                <a:chOff x="6195240" y="2593080"/>
                <a:chExt cx="1177560" cy="1573200"/>
              </a:xfrm>
            </p:grpSpPr>
            <p:sp>
              <p:nvSpPr>
                <p:cNvPr id="5897" name=""/>
                <p:cNvSpPr/>
                <p:nvPr/>
              </p:nvSpPr>
              <p:spPr>
                <a:xfrm flipH="1">
                  <a:off x="6195240" y="2607480"/>
                  <a:ext cx="1105920" cy="1558800"/>
                </a:xfrm>
                <a:custGeom>
                  <a:avLst/>
                  <a:gdLst/>
                  <a:ahLst/>
                  <a:rect l="l" t="t" r="r" b="b"/>
                  <a:pathLst>
                    <a:path w="847" h="1174">
                      <a:moveTo>
                        <a:pt x="0" y="0"/>
                      </a:moveTo>
                      <a:lnTo>
                        <a:pt x="847" y="189"/>
                      </a:lnTo>
                      <a:lnTo>
                        <a:pt x="845" y="1174"/>
                      </a:lnTo>
                      <a:lnTo>
                        <a:pt x="0" y="1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6239880" y="2664720"/>
                  <a:ext cx="1054440" cy="1415160"/>
                </a:xfrm>
                <a:custGeom>
                  <a:avLst/>
                  <a:gdLst/>
                  <a:ahLst/>
                  <a:rect l="l" t="t" r="r" b="b"/>
                  <a:pathLst>
                    <a:path w="808" h="1066">
                      <a:moveTo>
                        <a:pt x="0" y="0"/>
                      </a:moveTo>
                      <a:lnTo>
                        <a:pt x="808" y="179"/>
                      </a:lnTo>
                      <a:lnTo>
                        <a:pt x="805" y="1066"/>
                      </a:lnTo>
                      <a:lnTo>
                        <a:pt x="0" y="10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7313040" y="2593080"/>
                  <a:ext cx="59760" cy="1537560"/>
                </a:xfrm>
                <a:custGeom>
                  <a:avLst/>
                  <a:gdLst/>
                  <a:ahLst/>
                  <a:rect l="l" t="t" r="r" b="b"/>
                  <a:pathLst>
                    <a:path w="46" h="1158">
                      <a:moveTo>
                        <a:pt x="0" y="0"/>
                      </a:moveTo>
                      <a:lnTo>
                        <a:pt x="46" y="22"/>
                      </a:lnTo>
                      <a:lnTo>
                        <a:pt x="46" y="1158"/>
                      </a:lnTo>
                      <a:lnTo>
                        <a:pt x="0" y="1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6207840" y="4356720"/>
                <a:ext cx="1167840" cy="1626120"/>
                <a:chOff x="6207840" y="4356720"/>
                <a:chExt cx="1167840" cy="1626120"/>
              </a:xfrm>
            </p:grpSpPr>
            <p:sp>
              <p:nvSpPr>
                <p:cNvPr id="5901" name=""/>
                <p:cNvSpPr/>
                <p:nvPr/>
              </p:nvSpPr>
              <p:spPr>
                <a:xfrm flipH="1">
                  <a:off x="6207840" y="4356720"/>
                  <a:ext cx="1105200" cy="1626120"/>
                </a:xfrm>
                <a:custGeom>
                  <a:avLst/>
                  <a:gdLst/>
                  <a:ahLst/>
                  <a:rect l="l" t="t" r="r" b="b"/>
                  <a:pathLst>
                    <a:path w="847" h="1225">
                      <a:moveTo>
                        <a:pt x="0" y="46"/>
                      </a:moveTo>
                      <a:lnTo>
                        <a:pt x="846" y="0"/>
                      </a:lnTo>
                      <a:lnTo>
                        <a:pt x="847" y="1041"/>
                      </a:lnTo>
                      <a:lnTo>
                        <a:pt x="0" y="122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6262200" y="4410720"/>
                  <a:ext cx="1023480" cy="1484280"/>
                </a:xfrm>
                <a:custGeom>
                  <a:avLst/>
                  <a:gdLst/>
                  <a:ahLst/>
                  <a:rect l="l" t="t" r="r" b="b"/>
                  <a:pathLst>
                    <a:path w="784" h="1118">
                      <a:moveTo>
                        <a:pt x="0" y="48"/>
                      </a:moveTo>
                      <a:lnTo>
                        <a:pt x="783" y="0"/>
                      </a:lnTo>
                      <a:lnTo>
                        <a:pt x="784" y="960"/>
                      </a:lnTo>
                      <a:lnTo>
                        <a:pt x="0" y="111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H="1">
                  <a:off x="7311600" y="4417200"/>
                  <a:ext cx="63720" cy="1554480"/>
                </a:xfrm>
                <a:custGeom>
                  <a:avLst/>
                  <a:gdLst/>
                  <a:ahLst/>
                  <a:rect l="l" t="t" r="r" b="b"/>
                  <a:pathLst>
                    <a:path w="49" h="1171">
                      <a:moveTo>
                        <a:pt x="2" y="0"/>
                      </a:moveTo>
                      <a:lnTo>
                        <a:pt x="49" y="3"/>
                      </a:lnTo>
                      <a:lnTo>
                        <a:pt x="49" y="1171"/>
                      </a:lnTo>
                      <a:lnTo>
                        <a:pt x="0" y="116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4" name=""/>
              <p:cNvSpPr/>
              <p:nvPr/>
            </p:nvSpPr>
            <p:spPr>
              <a:xfrm flipH="1">
                <a:off x="7675560" y="2205360"/>
                <a:ext cx="133200" cy="4179960"/>
              </a:xfrm>
              <a:custGeom>
                <a:avLst/>
                <a:gdLst/>
                <a:ahLst/>
                <a:rect l="l" t="t" r="r" b="b"/>
                <a:pathLst>
                  <a:path w="102" h="3148">
                    <a:moveTo>
                      <a:pt x="102" y="0"/>
                    </a:moveTo>
                    <a:lnTo>
                      <a:pt x="0" y="43"/>
                    </a:lnTo>
                    <a:lnTo>
                      <a:pt x="0" y="3148"/>
                    </a:lnTo>
                    <a:lnTo>
                      <a:pt x="102" y="31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996880" y="3991320"/>
                <a:ext cx="261000" cy="502920"/>
                <a:chOff x="5996880" y="3991320"/>
                <a:chExt cx="261000" cy="502920"/>
              </a:xfrm>
            </p:grpSpPr>
            <p:sp>
              <p:nvSpPr>
                <p:cNvPr id="5906" name=""/>
                <p:cNvSpPr/>
                <p:nvPr/>
              </p:nvSpPr>
              <p:spPr>
                <a:xfrm flipH="1">
                  <a:off x="6046200" y="4126680"/>
                  <a:ext cx="211320" cy="29016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6024240" y="3991320"/>
                  <a:ext cx="153720" cy="50292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H="1">
                  <a:off x="6033600" y="4000320"/>
                  <a:ext cx="131400" cy="482760"/>
                </a:xfrm>
                <a:prstGeom prst="rect">
                  <a:avLst/>
                </a:prstGeom>
                <a:solidFill>
                  <a:srgbClr val="e07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9" name=""/>
                <p:cNvGrpSpPr/>
                <p:nvPr/>
              </p:nvGrpSpPr>
              <p:grpSpPr>
                <a:xfrm>
                  <a:off x="5996880" y="4029840"/>
                  <a:ext cx="158040" cy="253440"/>
                  <a:chOff x="5996880" y="4029840"/>
                  <a:chExt cx="158040" cy="253440"/>
                </a:xfrm>
              </p:grpSpPr>
              <p:sp>
                <p:nvSpPr>
                  <p:cNvPr id="5910" name=""/>
                  <p:cNvSpPr/>
                  <p:nvPr/>
                </p:nvSpPr>
                <p:spPr>
                  <a:xfrm flipH="1">
                    <a:off x="5999400" y="4029840"/>
                    <a:ext cx="155160" cy="2534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 flipH="1">
                    <a:off x="5996880" y="4040280"/>
                    <a:ext cx="126720" cy="23328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 flipH="1">
                    <a:off x="6072480" y="4090680"/>
                    <a:ext cx="154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5">
                        <a:moveTo>
                          <a:pt x="1" y="0"/>
                        </a:moveTo>
                        <a:lnTo>
                          <a:pt x="0" y="54"/>
                        </a:lnTo>
                        <a:lnTo>
                          <a:pt x="12" y="55"/>
                        </a:lnTo>
                        <a:lnTo>
                          <a:pt x="8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3" name=""/>
                <p:cNvSpPr/>
                <p:nvPr/>
              </p:nvSpPr>
              <p:spPr>
                <a:xfrm flipH="1">
                  <a:off x="6079320" y="4288680"/>
                  <a:ext cx="27360" cy="68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4" name=""/>
          <p:cNvSpPr/>
          <p:nvPr/>
        </p:nvSpPr>
        <p:spPr>
          <a:xfrm>
            <a:off x="0" y="1413000"/>
            <a:ext cx="262728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llamado es la llave que abre las  puertas para la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/>
          </p:nvPr>
        </p:nvSpPr>
        <p:spPr>
          <a:xfrm>
            <a:off x="1753920" y="142416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Cinco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Juan 3:16 - Crea que Dios lo 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Hechos 11:18 - Permita que el  Espíritu Santo lo guié al arrepent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I Juan 1:9 - Confiese sus pecados a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Apocalipsis 3:20 – Invite a Jesús a entrar en su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Marcos 11:24 - Seremos atendidos por él si cree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052640" y="333360"/>
            <a:ext cx="7038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ómo Llevar a alguien a Cris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17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2448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"/>
          <p:cNvSpPr txBox="1"/>
          <p:nvPr/>
        </p:nvSpPr>
        <p:spPr>
          <a:xfrm>
            <a:off x="2484360" y="401760"/>
            <a:ext cx="4143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en el ho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476360" y="1700280"/>
            <a:ext cx="5976360" cy="4635000"/>
            <a:chOff x="1476360" y="1700280"/>
            <a:chExt cx="5976360" cy="4635000"/>
          </a:xfrm>
        </p:grpSpPr>
        <p:graphicFrame>
          <p:nvGraphicFramePr>
            <p:cNvPr id="5920" name=""/>
            <p:cNvGraphicFramePr/>
            <p:nvPr/>
          </p:nvGraphicFramePr>
          <p:xfrm>
            <a:off x="1476360" y="4208040"/>
            <a:ext cx="1680840" cy="84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4208040"/>
                      <a:ext cx="1680840" cy="84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2" name=""/>
            <p:cNvGraphicFramePr/>
            <p:nvPr/>
          </p:nvGraphicFramePr>
          <p:xfrm>
            <a:off x="1756440" y="2719080"/>
            <a:ext cx="1587240" cy="79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6440" y="2719080"/>
                      <a:ext cx="158724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4" name=""/>
            <p:cNvGraphicFramePr/>
            <p:nvPr/>
          </p:nvGraphicFramePr>
          <p:xfrm>
            <a:off x="5398920" y="1935360"/>
            <a:ext cx="149400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1935360"/>
                      <a:ext cx="1494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6" name=""/>
            <p:cNvGraphicFramePr/>
            <p:nvPr/>
          </p:nvGraphicFramePr>
          <p:xfrm>
            <a:off x="3063600" y="5305320"/>
            <a:ext cx="2054520" cy="102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5305320"/>
                      <a:ext cx="205452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8" name=""/>
            <p:cNvGraphicFramePr/>
            <p:nvPr/>
          </p:nvGraphicFramePr>
          <p:xfrm>
            <a:off x="5865480" y="3502440"/>
            <a:ext cx="1587240" cy="79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5480" y="3502440"/>
                      <a:ext cx="158724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0" name=""/>
            <p:cNvGraphicFramePr/>
            <p:nvPr/>
          </p:nvGraphicFramePr>
          <p:xfrm>
            <a:off x="2783520" y="1700280"/>
            <a:ext cx="1400760" cy="70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3520" y="1700280"/>
                      <a:ext cx="1400760" cy="70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2" name=""/>
            <p:cNvGraphicFramePr/>
            <p:nvPr/>
          </p:nvGraphicFramePr>
          <p:xfrm>
            <a:off x="5491800" y="4835160"/>
            <a:ext cx="1895040" cy="94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9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91800" y="4835160"/>
                      <a:ext cx="1895040" cy="94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4" name=""/>
          <p:cNvSpPr/>
          <p:nvPr/>
        </p:nvSpPr>
        <p:spPr>
          <a:xfrm>
            <a:off x="3203640" y="2421000"/>
            <a:ext cx="282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uch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on tomadas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visitamos el hogar 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471760" y="385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95280" y="3114720"/>
            <a:ext cx="8497800" cy="35542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1403280" y="476280"/>
            <a:ext cx="6248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ndo a la Comunid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"/>
          <p:cNvSpPr/>
          <p:nvPr/>
        </p:nvSpPr>
        <p:spPr>
          <a:xfrm>
            <a:off x="34920" y="5877000"/>
            <a:ext cx="309564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 txBox="1"/>
          <p:nvPr/>
        </p:nvSpPr>
        <p:spPr>
          <a:xfrm>
            <a:off x="1014480" y="549360"/>
            <a:ext cx="71150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ualidades de un Visitad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937" name=""/>
          <p:cNvGraphicFramePr/>
          <p:nvPr/>
        </p:nvGraphicFramePr>
        <p:xfrm>
          <a:off x="108000" y="3860640"/>
          <a:ext cx="310176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101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9" name=""/>
          <p:cNvSpPr/>
          <p:nvPr/>
        </p:nvSpPr>
        <p:spPr>
          <a:xfrm>
            <a:off x="3607920" y="1576440"/>
            <a:ext cx="57031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or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ceder por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dilig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itar a los interesado un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parte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e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er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manecer opti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0" name=""/>
          <p:cNvGraphicFramePr/>
          <p:nvPr/>
        </p:nvGraphicFramePr>
        <p:xfrm>
          <a:off x="179280" y="3051000"/>
          <a:ext cx="187164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51000"/>
                    <a:ext cx="187164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2" name=""/>
          <p:cNvGraphicFramePr/>
          <p:nvPr/>
        </p:nvGraphicFramePr>
        <p:xfrm>
          <a:off x="1403280" y="2997360"/>
          <a:ext cx="20890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97360"/>
                    <a:ext cx="208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4" name=""/>
          <p:cNvSpPr txBox="1"/>
          <p:nvPr/>
        </p:nvSpPr>
        <p:spPr>
          <a:xfrm>
            <a:off x="642960" y="404640"/>
            <a:ext cx="78580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Durante las Reun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45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llamado que haga efecto toma tiempo. Se recomienda que el llamado para tomar una decisión ocupe de 10% a 20% del tiempo total de la pres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778200" y="3016080"/>
            <a:ext cx="5151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s de 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evantar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cribir la decisión en una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nerse en 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asar al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 txBox="1"/>
          <p:nvPr/>
        </p:nvSpPr>
        <p:spPr>
          <a:xfrm>
            <a:off x="1763640" y="549360"/>
            <a:ext cx="583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eremonia bautismal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4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11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l bautismo puede ser realizado en un ambiente interno o externo, donde quiera que haya agua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 apropiado tener himnos, testimonios y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Tener una ceremonia de Bienve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Voto Bautismal: Manual de la 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"/>
          <p:cNvSpPr txBox="1"/>
          <p:nvPr/>
        </p:nvSpPr>
        <p:spPr>
          <a:xfrm>
            <a:off x="1187280" y="333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Instruyendo a los Nuevos Creyentes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51" name="" descr=""/>
          <p:cNvPicPr/>
          <p:nvPr/>
        </p:nvPicPr>
        <p:blipFill>
          <a:blip r:embed="rId1"/>
          <a:stretch/>
        </p:blipFill>
        <p:spPr>
          <a:xfrm>
            <a:off x="1692360" y="2095560"/>
            <a:ext cx="5910120" cy="2917800"/>
          </a:xfrm>
          <a:prstGeom prst="rect">
            <a:avLst/>
          </a:prstGeom>
          <a:ln w="0">
            <a:noFill/>
          </a:ln>
        </p:spPr>
      </p:pic>
      <p:sp>
        <p:nvSpPr>
          <p:cNvPr id="5952" name=""/>
          <p:cNvSpPr/>
          <p:nvPr/>
        </p:nvSpPr>
        <p:spPr>
          <a:xfrm>
            <a:off x="1478880" y="5595840"/>
            <a:ext cx="627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nisterio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"/>
          <p:cNvSpPr/>
          <p:nvPr/>
        </p:nvSpPr>
        <p:spPr>
          <a:xfrm>
            <a:off x="1042920" y="5661000"/>
            <a:ext cx="74167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1747800" y="692280"/>
            <a:ext cx="5648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Crisis Enfrentada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 los Nuevos Miembro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2987640" y="3465360"/>
            <a:ext cx="3587760" cy="2987640"/>
            <a:chOff x="2987640" y="3465360"/>
            <a:chExt cx="3587760" cy="2987640"/>
          </a:xfrm>
        </p:grpSpPr>
        <p:sp>
          <p:nvSpPr>
            <p:cNvPr id="5956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7" name=""/>
            <p:cNvGraphicFramePr/>
            <p:nvPr/>
          </p:nvGraphicFramePr>
          <p:xfrm>
            <a:off x="3109680" y="3768480"/>
            <a:ext cx="3264120" cy="26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9680" y="3768480"/>
                      <a:ext cx="3264120" cy="26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9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769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isis de Des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vivir a la altura de los padron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usencia o alteración en la frecuencia a la 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ese cuadro cambia si la crisis es percibida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través de una llamada telefónica, una palabra de ánimo, una tarjeta, una visita, usted puede traer esper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>
            <a:off x="0" y="16286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72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Integ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hacer amigos en la nuev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Llega tarde a la iglesia, se sienta  solo y raramente participa de una reunión social. Se aleja d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tención personal inmediata para ayudarlo a hacer amigos en la iglesia. Invitación para almorzar, visitar, l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>
            <a:off x="571680" y="1628640"/>
            <a:ext cx="687240" cy="486000"/>
          </a:xfrm>
          <a:prstGeom prst="rightArrow">
            <a:avLst>
              <a:gd name="adj1" fmla="val 50000"/>
              <a:gd name="adj2" fmla="val 35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28352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en el Estilo de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busca integrar el sistema de valores de la Biblia y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No asiste a la Escuela Sabática, reuniones de oración. Su experiencia cristiana es superfi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consejar a este miembro a practicar la devoción personal, participar de un Grupo pequeño y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39640" y="17193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Desánimo por  las imperfecciones de otros miembros de igle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expresa a través de críticas, chismes, no guarda las confidencias. Eso genera desánimo y se rehúsa participar en las actividad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Amoroso 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24000" y="164772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7859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aspectos más importantes de un evangelismo de éxito es el  trabajo de preparación bien estructu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todos los encuentros de Ministerios de la Mujer  tienen que ser reuniones  evangelísticas, pero todas las reuniones deberían tener este enfo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de las mejores form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r cuál es el tipo d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debe planificar, es hacer una encuesta para descubrir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448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3" name=""/>
          <p:cNvSpPr/>
          <p:nvPr/>
        </p:nvSpPr>
        <p:spPr>
          <a:xfrm>
            <a:off x="250920" y="189000"/>
            <a:ext cx="5113080" cy="57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 posible involucrar a las mujeres en el evangelismo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guro!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mundo será advertido si usted no participa activamente?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, durante  nuestra vida, o tal vez nunca! Permitamos que el Espíritu Santo, anime nuestro corazón, dándonos poder para realizar la finalización de la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0120" y="1484280"/>
            <a:ext cx="785952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encuesta en la comunidad nos entrega rápidamente mucha información respecto de los intereses religiosos y las preferencias de las personas  respecto a  un tema en especi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59280" y="333360"/>
            <a:ext cx="30081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ncuest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0880" y="3789360"/>
            <a:ext cx="2679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muchas maneras de satisfacer las necesidades de las personas en nuestra comunidad. Algunas de las más comun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 de arte culinario y nutr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 est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s Cómo Dejar de Fu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857160" y="404640"/>
            <a:ext cx="742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ogramas y Proyectos en la Comun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69080" y="4795920"/>
            <a:ext cx="3166200" cy="1728000"/>
            <a:chOff x="5869080" y="4795920"/>
            <a:chExt cx="3166200" cy="1728000"/>
          </a:xfrm>
        </p:grpSpPr>
        <p:grpSp>
          <p:nvGrpSpPr>
            <p:cNvPr id="739" name=""/>
            <p:cNvGrpSpPr/>
            <p:nvPr/>
          </p:nvGrpSpPr>
          <p:grpSpPr>
            <a:xfrm>
              <a:off x="5869080" y="4795920"/>
              <a:ext cx="3166200" cy="1728000"/>
              <a:chOff x="5869080" y="4795920"/>
              <a:chExt cx="3166200" cy="17280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99440" y="5984640"/>
                <a:ext cx="20520" cy="338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6" y="17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82760" y="5617800"/>
                <a:ext cx="3149280" cy="906120"/>
              </a:xfrm>
              <a:custGeom>
                <a:avLst/>
                <a:gdLst/>
                <a:ahLst/>
                <a:rect l="l" t="t" r="r" b="b"/>
                <a:pathLst>
                  <a:path w="1803" h="452">
                    <a:moveTo>
                      <a:pt x="0" y="452"/>
                    </a:moveTo>
                    <a:lnTo>
                      <a:pt x="0" y="231"/>
                    </a:lnTo>
                    <a:lnTo>
                      <a:pt x="11" y="225"/>
                    </a:lnTo>
                    <a:lnTo>
                      <a:pt x="20" y="220"/>
                    </a:lnTo>
                    <a:lnTo>
                      <a:pt x="32" y="217"/>
                    </a:lnTo>
                    <a:lnTo>
                      <a:pt x="43" y="211"/>
                    </a:lnTo>
                    <a:lnTo>
                      <a:pt x="51" y="194"/>
                    </a:lnTo>
                    <a:lnTo>
                      <a:pt x="59" y="189"/>
                    </a:lnTo>
                    <a:lnTo>
                      <a:pt x="48" y="172"/>
                    </a:lnTo>
                    <a:lnTo>
                      <a:pt x="48" y="163"/>
                    </a:lnTo>
                    <a:lnTo>
                      <a:pt x="38" y="149"/>
                    </a:lnTo>
                    <a:lnTo>
                      <a:pt x="32" y="138"/>
                    </a:lnTo>
                    <a:lnTo>
                      <a:pt x="31" y="127"/>
                    </a:lnTo>
                    <a:lnTo>
                      <a:pt x="31" y="116"/>
                    </a:lnTo>
                    <a:lnTo>
                      <a:pt x="32" y="108"/>
                    </a:lnTo>
                    <a:lnTo>
                      <a:pt x="35" y="101"/>
                    </a:lnTo>
                    <a:lnTo>
                      <a:pt x="35" y="90"/>
                    </a:lnTo>
                    <a:lnTo>
                      <a:pt x="43" y="74"/>
                    </a:lnTo>
                    <a:lnTo>
                      <a:pt x="49" y="65"/>
                    </a:lnTo>
                    <a:lnTo>
                      <a:pt x="59" y="59"/>
                    </a:lnTo>
                    <a:lnTo>
                      <a:pt x="69" y="54"/>
                    </a:lnTo>
                    <a:lnTo>
                      <a:pt x="82" y="54"/>
                    </a:lnTo>
                    <a:lnTo>
                      <a:pt x="85" y="54"/>
                    </a:lnTo>
                    <a:lnTo>
                      <a:pt x="96" y="54"/>
                    </a:lnTo>
                    <a:lnTo>
                      <a:pt x="108" y="59"/>
                    </a:lnTo>
                    <a:lnTo>
                      <a:pt x="122" y="64"/>
                    </a:lnTo>
                    <a:lnTo>
                      <a:pt x="124" y="64"/>
                    </a:lnTo>
                    <a:lnTo>
                      <a:pt x="128" y="64"/>
                    </a:lnTo>
                    <a:lnTo>
                      <a:pt x="142" y="65"/>
                    </a:lnTo>
                    <a:lnTo>
                      <a:pt x="144" y="71"/>
                    </a:lnTo>
                    <a:lnTo>
                      <a:pt x="147" y="74"/>
                    </a:lnTo>
                    <a:lnTo>
                      <a:pt x="153" y="79"/>
                    </a:lnTo>
                    <a:lnTo>
                      <a:pt x="162" y="90"/>
                    </a:lnTo>
                    <a:lnTo>
                      <a:pt x="164" y="96"/>
                    </a:lnTo>
                    <a:lnTo>
                      <a:pt x="159" y="104"/>
                    </a:lnTo>
                    <a:lnTo>
                      <a:pt x="153" y="108"/>
                    </a:lnTo>
                    <a:lnTo>
                      <a:pt x="142" y="110"/>
                    </a:lnTo>
                    <a:lnTo>
                      <a:pt x="128" y="113"/>
                    </a:lnTo>
                    <a:lnTo>
                      <a:pt x="133" y="132"/>
                    </a:lnTo>
                    <a:lnTo>
                      <a:pt x="131" y="149"/>
                    </a:lnTo>
                    <a:lnTo>
                      <a:pt x="124" y="149"/>
                    </a:lnTo>
                    <a:lnTo>
                      <a:pt x="121" y="142"/>
                    </a:lnTo>
                    <a:lnTo>
                      <a:pt x="121" y="139"/>
                    </a:lnTo>
                    <a:lnTo>
                      <a:pt x="118" y="136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5" y="138"/>
                    </a:lnTo>
                    <a:lnTo>
                      <a:pt x="105" y="142"/>
                    </a:lnTo>
                    <a:lnTo>
                      <a:pt x="104" y="146"/>
                    </a:lnTo>
                    <a:lnTo>
                      <a:pt x="108" y="156"/>
                    </a:lnTo>
                    <a:lnTo>
                      <a:pt x="114" y="169"/>
                    </a:lnTo>
                    <a:lnTo>
                      <a:pt x="94" y="189"/>
                    </a:lnTo>
                    <a:lnTo>
                      <a:pt x="82" y="194"/>
                    </a:lnTo>
                    <a:lnTo>
                      <a:pt x="94" y="197"/>
                    </a:lnTo>
                    <a:lnTo>
                      <a:pt x="108" y="203"/>
                    </a:lnTo>
                    <a:lnTo>
                      <a:pt x="121" y="211"/>
                    </a:lnTo>
                    <a:lnTo>
                      <a:pt x="130" y="220"/>
                    </a:lnTo>
                    <a:lnTo>
                      <a:pt x="131" y="223"/>
                    </a:lnTo>
                    <a:lnTo>
                      <a:pt x="162" y="242"/>
                    </a:lnTo>
                    <a:lnTo>
                      <a:pt x="176" y="259"/>
                    </a:lnTo>
                    <a:lnTo>
                      <a:pt x="179" y="272"/>
                    </a:lnTo>
                    <a:lnTo>
                      <a:pt x="212" y="325"/>
                    </a:lnTo>
                    <a:lnTo>
                      <a:pt x="317" y="231"/>
                    </a:lnTo>
                    <a:lnTo>
                      <a:pt x="706" y="231"/>
                    </a:lnTo>
                    <a:lnTo>
                      <a:pt x="706" y="67"/>
                    </a:lnTo>
                    <a:lnTo>
                      <a:pt x="719" y="67"/>
                    </a:lnTo>
                    <a:lnTo>
                      <a:pt x="725" y="67"/>
                    </a:lnTo>
                    <a:lnTo>
                      <a:pt x="733" y="64"/>
                    </a:lnTo>
                    <a:lnTo>
                      <a:pt x="744" y="59"/>
                    </a:lnTo>
                    <a:lnTo>
                      <a:pt x="750" y="59"/>
                    </a:lnTo>
                    <a:lnTo>
                      <a:pt x="765" y="67"/>
                    </a:lnTo>
                    <a:lnTo>
                      <a:pt x="768" y="70"/>
                    </a:lnTo>
                    <a:lnTo>
                      <a:pt x="776" y="73"/>
                    </a:lnTo>
                    <a:lnTo>
                      <a:pt x="782" y="79"/>
                    </a:lnTo>
                    <a:lnTo>
                      <a:pt x="787" y="85"/>
                    </a:lnTo>
                    <a:lnTo>
                      <a:pt x="790" y="91"/>
                    </a:lnTo>
                    <a:lnTo>
                      <a:pt x="795" y="95"/>
                    </a:lnTo>
                    <a:lnTo>
                      <a:pt x="795" y="98"/>
                    </a:lnTo>
                    <a:lnTo>
                      <a:pt x="795" y="108"/>
                    </a:lnTo>
                    <a:lnTo>
                      <a:pt x="790" y="121"/>
                    </a:lnTo>
                    <a:lnTo>
                      <a:pt x="795" y="121"/>
                    </a:lnTo>
                    <a:lnTo>
                      <a:pt x="790" y="130"/>
                    </a:lnTo>
                    <a:lnTo>
                      <a:pt x="790" y="138"/>
                    </a:lnTo>
                    <a:lnTo>
                      <a:pt x="787" y="139"/>
                    </a:lnTo>
                    <a:lnTo>
                      <a:pt x="764" y="172"/>
                    </a:lnTo>
                    <a:lnTo>
                      <a:pt x="756" y="231"/>
                    </a:lnTo>
                    <a:lnTo>
                      <a:pt x="757" y="231"/>
                    </a:lnTo>
                    <a:lnTo>
                      <a:pt x="806" y="231"/>
                    </a:lnTo>
                    <a:lnTo>
                      <a:pt x="1005" y="194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5"/>
                    </a:lnTo>
                    <a:lnTo>
                      <a:pt x="1418" y="215"/>
                    </a:lnTo>
                    <a:lnTo>
                      <a:pt x="1461" y="220"/>
                    </a:lnTo>
                    <a:lnTo>
                      <a:pt x="1631" y="184"/>
                    </a:lnTo>
                    <a:lnTo>
                      <a:pt x="1653" y="178"/>
                    </a:lnTo>
                    <a:lnTo>
                      <a:pt x="1673" y="175"/>
                    </a:lnTo>
                    <a:lnTo>
                      <a:pt x="1693" y="175"/>
                    </a:lnTo>
                    <a:lnTo>
                      <a:pt x="1714" y="178"/>
                    </a:lnTo>
                    <a:lnTo>
                      <a:pt x="1731" y="189"/>
                    </a:lnTo>
                    <a:lnTo>
                      <a:pt x="1779" y="197"/>
                    </a:lnTo>
                    <a:lnTo>
                      <a:pt x="1794" y="200"/>
                    </a:lnTo>
                    <a:lnTo>
                      <a:pt x="1799" y="203"/>
                    </a:lnTo>
                    <a:lnTo>
                      <a:pt x="1803" y="231"/>
                    </a:lnTo>
                    <a:lnTo>
                      <a:pt x="1803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82760" y="5615640"/>
                <a:ext cx="3149280" cy="908280"/>
              </a:xfrm>
              <a:custGeom>
                <a:avLst/>
                <a:gdLst/>
                <a:ahLst/>
                <a:rect l="l" t="t" r="r" b="b"/>
                <a:pathLst>
                  <a:path w="1803" h="453">
                    <a:moveTo>
                      <a:pt x="0" y="453"/>
                    </a:moveTo>
                    <a:lnTo>
                      <a:pt x="0" y="232"/>
                    </a:lnTo>
                    <a:lnTo>
                      <a:pt x="11" y="226"/>
                    </a:lnTo>
                    <a:lnTo>
                      <a:pt x="20" y="221"/>
                    </a:lnTo>
                    <a:lnTo>
                      <a:pt x="32" y="218"/>
                    </a:lnTo>
                    <a:lnTo>
                      <a:pt x="43" y="212"/>
                    </a:lnTo>
                    <a:lnTo>
                      <a:pt x="51" y="195"/>
                    </a:lnTo>
                    <a:lnTo>
                      <a:pt x="59" y="190"/>
                    </a:lnTo>
                    <a:lnTo>
                      <a:pt x="48" y="173"/>
                    </a:lnTo>
                    <a:lnTo>
                      <a:pt x="48" y="164"/>
                    </a:lnTo>
                    <a:lnTo>
                      <a:pt x="38" y="150"/>
                    </a:lnTo>
                    <a:lnTo>
                      <a:pt x="32" y="139"/>
                    </a:lnTo>
                    <a:lnTo>
                      <a:pt x="31" y="128"/>
                    </a:lnTo>
                    <a:lnTo>
                      <a:pt x="31" y="117"/>
                    </a:lnTo>
                    <a:lnTo>
                      <a:pt x="32" y="109"/>
                    </a:lnTo>
                    <a:lnTo>
                      <a:pt x="35" y="102"/>
                    </a:lnTo>
                    <a:lnTo>
                      <a:pt x="35" y="91"/>
                    </a:lnTo>
                    <a:lnTo>
                      <a:pt x="43" y="75"/>
                    </a:lnTo>
                    <a:lnTo>
                      <a:pt x="49" y="66"/>
                    </a:lnTo>
                    <a:lnTo>
                      <a:pt x="59" y="60"/>
                    </a:lnTo>
                    <a:lnTo>
                      <a:pt x="69" y="55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96" y="55"/>
                    </a:lnTo>
                    <a:lnTo>
                      <a:pt x="108" y="60"/>
                    </a:lnTo>
                    <a:lnTo>
                      <a:pt x="122" y="65"/>
                    </a:lnTo>
                    <a:lnTo>
                      <a:pt x="124" y="65"/>
                    </a:lnTo>
                    <a:lnTo>
                      <a:pt x="128" y="65"/>
                    </a:lnTo>
                    <a:lnTo>
                      <a:pt x="142" y="66"/>
                    </a:lnTo>
                    <a:lnTo>
                      <a:pt x="144" y="72"/>
                    </a:lnTo>
                    <a:lnTo>
                      <a:pt x="147" y="75"/>
                    </a:lnTo>
                    <a:lnTo>
                      <a:pt x="153" y="80"/>
                    </a:lnTo>
                    <a:lnTo>
                      <a:pt x="162" y="91"/>
                    </a:lnTo>
                    <a:lnTo>
                      <a:pt x="164" y="97"/>
                    </a:lnTo>
                    <a:lnTo>
                      <a:pt x="159" y="105"/>
                    </a:lnTo>
                    <a:lnTo>
                      <a:pt x="153" y="109"/>
                    </a:lnTo>
                    <a:lnTo>
                      <a:pt x="142" y="111"/>
                    </a:lnTo>
                    <a:lnTo>
                      <a:pt x="128" y="114"/>
                    </a:lnTo>
                    <a:lnTo>
                      <a:pt x="133" y="133"/>
                    </a:lnTo>
                    <a:lnTo>
                      <a:pt x="131" y="150"/>
                    </a:lnTo>
                    <a:lnTo>
                      <a:pt x="124" y="150"/>
                    </a:lnTo>
                    <a:lnTo>
                      <a:pt x="121" y="143"/>
                    </a:lnTo>
                    <a:lnTo>
                      <a:pt x="121" y="140"/>
                    </a:lnTo>
                    <a:lnTo>
                      <a:pt x="118" y="137"/>
                    </a:lnTo>
                    <a:lnTo>
                      <a:pt x="114" y="136"/>
                    </a:lnTo>
                    <a:lnTo>
                      <a:pt x="108" y="136"/>
                    </a:lnTo>
                    <a:lnTo>
                      <a:pt x="105" y="139"/>
                    </a:lnTo>
                    <a:lnTo>
                      <a:pt x="105" y="143"/>
                    </a:lnTo>
                    <a:lnTo>
                      <a:pt x="104" y="147"/>
                    </a:lnTo>
                    <a:lnTo>
                      <a:pt x="108" y="157"/>
                    </a:lnTo>
                    <a:lnTo>
                      <a:pt x="114" y="170"/>
                    </a:lnTo>
                    <a:lnTo>
                      <a:pt x="94" y="190"/>
                    </a:lnTo>
                    <a:lnTo>
                      <a:pt x="82" y="195"/>
                    </a:lnTo>
                    <a:lnTo>
                      <a:pt x="94" y="198"/>
                    </a:lnTo>
                    <a:lnTo>
                      <a:pt x="108" y="204"/>
                    </a:lnTo>
                    <a:lnTo>
                      <a:pt x="121" y="212"/>
                    </a:lnTo>
                    <a:lnTo>
                      <a:pt x="130" y="221"/>
                    </a:lnTo>
                    <a:lnTo>
                      <a:pt x="131" y="224"/>
                    </a:lnTo>
                    <a:lnTo>
                      <a:pt x="162" y="243"/>
                    </a:lnTo>
                    <a:lnTo>
                      <a:pt x="176" y="260"/>
                    </a:lnTo>
                    <a:lnTo>
                      <a:pt x="179" y="273"/>
                    </a:lnTo>
                    <a:lnTo>
                      <a:pt x="212" y="326"/>
                    </a:lnTo>
                    <a:lnTo>
                      <a:pt x="317" y="232"/>
                    </a:lnTo>
                    <a:lnTo>
                      <a:pt x="706" y="232"/>
                    </a:lnTo>
                    <a:lnTo>
                      <a:pt x="706" y="68"/>
                    </a:lnTo>
                    <a:lnTo>
                      <a:pt x="719" y="68"/>
                    </a:lnTo>
                    <a:lnTo>
                      <a:pt x="725" y="68"/>
                    </a:lnTo>
                    <a:lnTo>
                      <a:pt x="733" y="65"/>
                    </a:lnTo>
                    <a:lnTo>
                      <a:pt x="744" y="60"/>
                    </a:lnTo>
                    <a:lnTo>
                      <a:pt x="750" y="60"/>
                    </a:lnTo>
                    <a:lnTo>
                      <a:pt x="765" y="68"/>
                    </a:lnTo>
                    <a:lnTo>
                      <a:pt x="768" y="71"/>
                    </a:lnTo>
                    <a:lnTo>
                      <a:pt x="776" y="74"/>
                    </a:lnTo>
                    <a:lnTo>
                      <a:pt x="782" y="80"/>
                    </a:lnTo>
                    <a:lnTo>
                      <a:pt x="787" y="86"/>
                    </a:lnTo>
                    <a:lnTo>
                      <a:pt x="790" y="92"/>
                    </a:lnTo>
                    <a:lnTo>
                      <a:pt x="795" y="96"/>
                    </a:lnTo>
                    <a:lnTo>
                      <a:pt x="795" y="99"/>
                    </a:lnTo>
                    <a:lnTo>
                      <a:pt x="795" y="109"/>
                    </a:lnTo>
                    <a:lnTo>
                      <a:pt x="790" y="122"/>
                    </a:lnTo>
                    <a:lnTo>
                      <a:pt x="795" y="122"/>
                    </a:lnTo>
                    <a:lnTo>
                      <a:pt x="790" y="131"/>
                    </a:lnTo>
                    <a:lnTo>
                      <a:pt x="790" y="139"/>
                    </a:lnTo>
                    <a:lnTo>
                      <a:pt x="787" y="140"/>
                    </a:lnTo>
                    <a:lnTo>
                      <a:pt x="764" y="173"/>
                    </a:lnTo>
                    <a:lnTo>
                      <a:pt x="756" y="232"/>
                    </a:lnTo>
                    <a:lnTo>
                      <a:pt x="757" y="232"/>
                    </a:lnTo>
                    <a:lnTo>
                      <a:pt x="806" y="232"/>
                    </a:lnTo>
                    <a:lnTo>
                      <a:pt x="1005" y="195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6"/>
                    </a:lnTo>
                    <a:lnTo>
                      <a:pt x="1418" y="216"/>
                    </a:lnTo>
                    <a:lnTo>
                      <a:pt x="1461" y="221"/>
                    </a:lnTo>
                    <a:lnTo>
                      <a:pt x="1631" y="185"/>
                    </a:lnTo>
                    <a:lnTo>
                      <a:pt x="1653" y="179"/>
                    </a:lnTo>
                    <a:lnTo>
                      <a:pt x="1673" y="176"/>
                    </a:lnTo>
                    <a:lnTo>
                      <a:pt x="1693" y="176"/>
                    </a:lnTo>
                    <a:lnTo>
                      <a:pt x="1714" y="179"/>
                    </a:lnTo>
                    <a:lnTo>
                      <a:pt x="1731" y="190"/>
                    </a:lnTo>
                    <a:lnTo>
                      <a:pt x="1779" y="198"/>
                    </a:lnTo>
                    <a:lnTo>
                      <a:pt x="1794" y="201"/>
                    </a:lnTo>
                    <a:lnTo>
                      <a:pt x="1799" y="204"/>
                    </a:lnTo>
                    <a:lnTo>
                      <a:pt x="1803" y="232"/>
                    </a:lnTo>
                    <a:lnTo>
                      <a:pt x="1803" y="453"/>
                    </a:lnTo>
                    <a:lnTo>
                      <a:pt x="0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  <a:close/>
                  </a:path>
                </a:pathLst>
              </a:custGeom>
              <a:solidFill>
                <a:srgbClr val="34a3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96320" y="5990760"/>
                <a:ext cx="183240" cy="792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  <a:close/>
                  </a:path>
                </a:pathLst>
              </a:custGeom>
              <a:solidFill>
                <a:srgbClr val="41b72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48360" y="6136920"/>
                <a:ext cx="106200" cy="1922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0" y="96"/>
                    </a:moveTo>
                    <a:lnTo>
                      <a:pt x="45" y="96"/>
                    </a:lnTo>
                    <a:lnTo>
                      <a:pt x="61" y="9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66560" y="5962320"/>
                <a:ext cx="32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54040" y="63154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53"/>
                    </a:moveTo>
                    <a:lnTo>
                      <a:pt x="33" y="45"/>
                    </a:lnTo>
                    <a:lnTo>
                      <a:pt x="16" y="2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7035120" y="6279480"/>
                <a:ext cx="19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09560" y="5992560"/>
                <a:ext cx="13680" cy="5400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27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46200" y="620100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7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9"/>
                    </a:lnTo>
                    <a:close/>
                    <a:moveTo>
                      <a:pt x="7" y="11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01400" y="5605560"/>
                <a:ext cx="361440" cy="216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01400" y="560160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01400" y="5599800"/>
                <a:ext cx="361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601400" y="559548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7601760" y="5583960"/>
              <a:ext cx="361080" cy="33480"/>
              <a:chOff x="7601760" y="5583960"/>
              <a:chExt cx="361080" cy="3348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01760" y="559368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01760" y="558972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01760" y="558792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01760" y="558396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01760" y="5583960"/>
                <a:ext cx="361080" cy="180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01760" y="5583960"/>
                <a:ext cx="361080" cy="2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36320" y="56152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36320" y="561528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36320" y="5611320"/>
                <a:ext cx="140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636680" y="5601600"/>
              <a:ext cx="13680" cy="9720"/>
              <a:chOff x="7636680" y="5601600"/>
              <a:chExt cx="13680" cy="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36680" y="5607720"/>
                <a:ext cx="13680" cy="3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36680" y="5605200"/>
                <a:ext cx="1368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36680" y="5601600"/>
                <a:ext cx="1368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636680" y="5601600"/>
              <a:ext cx="291600" cy="13680"/>
              <a:chOff x="7636680" y="5601600"/>
              <a:chExt cx="291600" cy="13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36680" y="5601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6680" y="5601600"/>
                <a:ext cx="14040" cy="1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914240" y="56113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4240" y="5607720"/>
                <a:ext cx="140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914240" y="5605560"/>
                <a:ext cx="140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7926480" y="5447520"/>
              <a:ext cx="55440" cy="113760"/>
              <a:chOff x="7926480" y="5447520"/>
              <a:chExt cx="55440" cy="113760"/>
            </a:xfrm>
          </p:grpSpPr>
          <p:sp>
            <p:nvSpPr>
              <p:cNvPr id="1544" name=""/>
              <p:cNvSpPr/>
              <p:nvPr/>
            </p:nvSpPr>
            <p:spPr>
              <a:xfrm>
                <a:off x="7926480" y="5533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6480" y="55314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926480" y="55274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926480" y="55256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926480" y="55213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926480" y="551952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26480" y="55155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926480" y="5511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6480" y="5509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26480" y="5505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26480" y="55033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926480" y="54990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26480" y="54972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926480" y="5493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26480" y="5491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26480" y="5487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26480" y="54856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926480" y="54813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926480" y="54774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6480" y="54756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26480" y="5471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26480" y="54691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26480" y="5465520"/>
                <a:ext cx="554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926480" y="546336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926480" y="54590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26480" y="54572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26480" y="5453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926480" y="54514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926480" y="54475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26480" y="5447520"/>
                <a:ext cx="5544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32" y="0"/>
                    </a:move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26480" y="5447520"/>
                <a:ext cx="55440" cy="11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926480" y="5463360"/>
                <a:ext cx="5400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7926480" y="5457600"/>
              <a:ext cx="53640" cy="5760"/>
              <a:chOff x="7926480" y="5457600"/>
              <a:chExt cx="53640" cy="5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926480" y="5459040"/>
                <a:ext cx="53640" cy="360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26480" y="5457600"/>
                <a:ext cx="53640" cy="144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926480" y="5457600"/>
              <a:ext cx="53640" cy="20880"/>
              <a:chOff x="7926480" y="5457600"/>
              <a:chExt cx="53640" cy="2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926480" y="54576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926480" y="54576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926480" y="54770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926480" y="5475240"/>
                <a:ext cx="53640" cy="144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926480" y="5471640"/>
              <a:ext cx="53640" cy="23400"/>
              <a:chOff x="7926480" y="5471640"/>
              <a:chExt cx="53640" cy="234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26480" y="5471640"/>
                <a:ext cx="53640" cy="39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26480" y="54716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26480" y="547164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26480" y="549288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26480" y="5491080"/>
                <a:ext cx="53640" cy="144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7926480" y="5487480"/>
              <a:ext cx="53640" cy="23040"/>
              <a:chOff x="7926480" y="5487480"/>
              <a:chExt cx="53640" cy="23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26480" y="5487480"/>
                <a:ext cx="53640" cy="39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26480" y="54874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6480" y="54874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6480" y="55090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26480" y="5505120"/>
                <a:ext cx="53640" cy="39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926480" y="5503320"/>
              <a:ext cx="53640" cy="2160"/>
              <a:chOff x="7926480" y="5503320"/>
              <a:chExt cx="53640" cy="2160"/>
            </a:xfrm>
          </p:grpSpPr>
          <p:sp>
            <p:nvSpPr>
              <p:cNvPr id="25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26480" y="5503320"/>
                <a:ext cx="53640" cy="180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7926480" y="5503320"/>
              <a:ext cx="53640" cy="23040"/>
              <a:chOff x="7926480" y="5503320"/>
              <a:chExt cx="53640" cy="23040"/>
            </a:xfrm>
          </p:grpSpPr>
          <p:sp>
            <p:nvSpPr>
              <p:cNvPr id="275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26480" y="550332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26480" y="550332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26480" y="55249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26480" y="5520960"/>
                <a:ext cx="53640" cy="39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7926480" y="5519880"/>
              <a:ext cx="53640" cy="20880"/>
              <a:chOff x="7926480" y="5519880"/>
              <a:chExt cx="53640" cy="20880"/>
            </a:xfrm>
          </p:grpSpPr>
          <p:sp>
            <p:nvSpPr>
              <p:cNvPr id="295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26480" y="5519880"/>
                <a:ext cx="53640" cy="144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926480" y="55198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926480" y="55198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926480" y="55393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926480" y="5537160"/>
                <a:ext cx="53640" cy="21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926480" y="5533560"/>
              <a:ext cx="53640" cy="23040"/>
              <a:chOff x="7926480" y="5533560"/>
              <a:chExt cx="53640" cy="23040"/>
            </a:xfrm>
          </p:grpSpPr>
          <p:sp>
            <p:nvSpPr>
              <p:cNvPr id="315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926480" y="5533560"/>
                <a:ext cx="53640" cy="39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926480" y="55335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926480" y="553356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926480" y="55551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926480" y="5553360"/>
                <a:ext cx="53640" cy="144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7926480" y="5549760"/>
              <a:ext cx="53640" cy="3960"/>
              <a:chOff x="7926480" y="5549760"/>
              <a:chExt cx="53640" cy="3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926480" y="5549760"/>
                <a:ext cx="53640" cy="360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7926480" y="5311080"/>
              <a:ext cx="53640" cy="244080"/>
              <a:chOff x="7926480" y="5311080"/>
              <a:chExt cx="53640" cy="244080"/>
            </a:xfrm>
          </p:grpSpPr>
          <p:sp>
            <p:nvSpPr>
              <p:cNvPr id="3554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926480" y="554940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926480" y="55494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926480" y="54291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926480" y="5424840"/>
                <a:ext cx="53640" cy="39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926480" y="5423040"/>
                <a:ext cx="53640" cy="180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926480" y="5419080"/>
                <a:ext cx="53640" cy="39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926480" y="5417280"/>
                <a:ext cx="53640" cy="180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926480" y="5412960"/>
                <a:ext cx="53640" cy="39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26480" y="5409000"/>
                <a:ext cx="53640" cy="39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26480" y="5407200"/>
                <a:ext cx="53640" cy="180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26480" y="5403240"/>
                <a:ext cx="53640" cy="39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26480" y="5400720"/>
                <a:ext cx="53640" cy="21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26480" y="5397120"/>
                <a:ext cx="53640" cy="360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926480" y="5394960"/>
                <a:ext cx="53640" cy="21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926480" y="5391000"/>
                <a:ext cx="53640" cy="39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c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7926480" y="5388840"/>
                <a:ext cx="53640" cy="180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926480" y="5384880"/>
                <a:ext cx="53640" cy="39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26480" y="5380920"/>
                <a:ext cx="53640" cy="39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926480" y="5379120"/>
                <a:ext cx="53640" cy="180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926480" y="5374800"/>
                <a:ext cx="53640" cy="39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926480" y="5373000"/>
                <a:ext cx="53640" cy="180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926480" y="5369040"/>
                <a:ext cx="53640" cy="39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926480" y="5366880"/>
                <a:ext cx="53640" cy="21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926480" y="5363280"/>
                <a:ext cx="53640" cy="3600"/>
              </a:xfrm>
              <a:prstGeom prst="rect">
                <a:avLst/>
              </a:prstGeom>
              <a:solidFill>
                <a:srgbClr val="b2b5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926480" y="5360760"/>
                <a:ext cx="53640" cy="21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926480" y="5356800"/>
                <a:ext cx="53640" cy="39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4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26480" y="5355000"/>
                <a:ext cx="53640" cy="180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926480" y="5351040"/>
                <a:ext cx="53640" cy="39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926480" y="5346720"/>
                <a:ext cx="53640" cy="39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926480" y="5344920"/>
                <a:ext cx="53640" cy="180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926480" y="5340960"/>
                <a:ext cx="53640" cy="39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926480" y="5339160"/>
                <a:ext cx="53640" cy="180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926480" y="5334840"/>
                <a:ext cx="53640" cy="39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8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26480" y="5332680"/>
                <a:ext cx="53640" cy="21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926480" y="5329080"/>
                <a:ext cx="53640" cy="360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926480" y="5326920"/>
                <a:ext cx="53640" cy="21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926480" y="5322600"/>
                <a:ext cx="53640" cy="39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926480" y="5320800"/>
                <a:ext cx="53640" cy="180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926480" y="5316840"/>
                <a:ext cx="53640" cy="39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926480" y="5312880"/>
                <a:ext cx="53640" cy="39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26480" y="5311080"/>
                <a:ext cx="53640" cy="180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7926480" y="5271120"/>
              <a:ext cx="53640" cy="157680"/>
              <a:chOff x="7926480" y="5271120"/>
              <a:chExt cx="53640" cy="157680"/>
            </a:xfrm>
          </p:grpSpPr>
          <p:sp>
            <p:nvSpPr>
              <p:cNvPr id="3755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926480" y="5306760"/>
                <a:ext cx="53640" cy="39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926480" y="5304960"/>
                <a:ext cx="53640" cy="180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926480" y="5301000"/>
                <a:ext cx="53640" cy="39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926480" y="5299200"/>
                <a:ext cx="53640" cy="180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926480" y="5294880"/>
                <a:ext cx="53640" cy="39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926480" y="5292720"/>
                <a:ext cx="53640" cy="21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926480" y="5288760"/>
                <a:ext cx="53640" cy="39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480" y="5286960"/>
                <a:ext cx="53640" cy="180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5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926480" y="5282640"/>
                <a:ext cx="53640" cy="39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926480" y="5278680"/>
                <a:ext cx="53640" cy="39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926480" y="5276880"/>
                <a:ext cx="53640" cy="180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926480" y="5272920"/>
                <a:ext cx="53640" cy="39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926480" y="5271120"/>
                <a:ext cx="53640" cy="180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9c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926480" y="52711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9c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926480" y="5271120"/>
                <a:ext cx="53640" cy="157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952400" y="53226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950600" y="532260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947000" y="53226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945560" y="5320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938360" y="53208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938360" y="5316840"/>
                <a:ext cx="29520" cy="396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938360" y="5312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38360" y="53125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936920" y="53067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936920" y="5306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933320" y="530100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7933680" y="5278680"/>
              <a:ext cx="41400" cy="47520"/>
              <a:chOff x="7933680" y="5278680"/>
              <a:chExt cx="41400" cy="47520"/>
            </a:xfrm>
          </p:grpSpPr>
          <p:sp>
            <p:nvSpPr>
              <p:cNvPr id="3956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933680" y="529488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936920" y="52884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2320" y="52866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42320" y="52826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945560" y="52786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47360" y="52786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950960" y="52786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952400" y="52786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33680" y="527868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952400" y="53164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947360" y="53121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942320" y="530640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7942320" y="5286960"/>
              <a:ext cx="25560" cy="103680"/>
              <a:chOff x="7942320" y="5286960"/>
              <a:chExt cx="25560" cy="103680"/>
            </a:xfrm>
          </p:grpSpPr>
          <p:sp>
            <p:nvSpPr>
              <p:cNvPr id="415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942320" y="530100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942320" y="52948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947360" y="52887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952400" y="5288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942320" y="52887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6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7945200" y="528696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952400" y="53888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933680" y="5351040"/>
              <a:ext cx="41400" cy="39600"/>
              <a:chOff x="7933680" y="5351040"/>
              <a:chExt cx="41400" cy="39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7945560" y="53888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945560" y="53848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942320" y="538092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942320" y="538092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936920" y="53748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933680" y="53690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33680" y="5362920"/>
                <a:ext cx="414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936920" y="535680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938720" y="5351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933680" y="5345280"/>
              <a:ext cx="41400" cy="45360"/>
              <a:chOff x="7933680" y="5345280"/>
              <a:chExt cx="41400" cy="45360"/>
            </a:xfrm>
          </p:grpSpPr>
          <p:sp>
            <p:nvSpPr>
              <p:cNvPr id="4559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942320" y="53470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945560" y="53452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952400" y="5345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933680" y="534528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1"/>
                    </a:moveTo>
                    <a:lnTo>
                      <a:pt x="24" y="14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952400" y="5380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7947360" y="53809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45560" y="53791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945560" y="5374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942320" y="536904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942320" y="53632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7942320" y="5351040"/>
              <a:ext cx="25560" cy="73440"/>
              <a:chOff x="7942320" y="5351040"/>
              <a:chExt cx="25560" cy="73440"/>
            </a:xfrm>
          </p:grpSpPr>
          <p:sp>
            <p:nvSpPr>
              <p:cNvPr id="476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945560" y="5356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952400" y="535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942320" y="5355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6"/>
                    </a:moveTo>
                    <a:lnTo>
                      <a:pt x="15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7945200" y="535104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947360" y="541872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7945920" y="5403240"/>
              <a:ext cx="15480" cy="19440"/>
              <a:chOff x="7945920" y="5403240"/>
              <a:chExt cx="15480" cy="19440"/>
            </a:xfrm>
          </p:grpSpPr>
          <p:sp>
            <p:nvSpPr>
              <p:cNvPr id="4961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45920" y="54129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45920" y="540900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47360" y="5403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945920" y="5403240"/>
                <a:ext cx="15480" cy="194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952400" y="5418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7947360" y="5407560"/>
              <a:ext cx="10080" cy="10800"/>
              <a:chOff x="7947360" y="5407560"/>
              <a:chExt cx="10080" cy="10800"/>
            </a:xfrm>
          </p:grpSpPr>
          <p:sp>
            <p:nvSpPr>
              <p:cNvPr id="5162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947360" y="54129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7947360" y="5409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7582680" y="5286960"/>
              <a:ext cx="375120" cy="131400"/>
              <a:chOff x="7582680" y="5286960"/>
              <a:chExt cx="375120" cy="131400"/>
            </a:xfrm>
          </p:grpSpPr>
          <p:sp>
            <p:nvSpPr>
              <p:cNvPr id="5363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52400" y="540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47360" y="5406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582680" y="5380560"/>
                <a:ext cx="360" cy="39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582680" y="5378760"/>
                <a:ext cx="360" cy="180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2680" y="5374800"/>
                <a:ext cx="360" cy="39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582680" y="5373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ab09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82680" y="5369040"/>
                <a:ext cx="1440" cy="39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582680" y="5366520"/>
                <a:ext cx="1440" cy="21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582680" y="5362920"/>
                <a:ext cx="1440" cy="360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582680" y="5360760"/>
                <a:ext cx="1440" cy="21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582680" y="5356800"/>
                <a:ext cx="1440" cy="39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5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582680" y="5355000"/>
                <a:ext cx="1440" cy="1800"/>
              </a:xfrm>
              <a:prstGeom prst="rect">
                <a:avLst/>
              </a:prstGeom>
              <a:solidFill>
                <a:srgbClr val="cd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582680" y="5350680"/>
                <a:ext cx="1440" cy="39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582680" y="5346720"/>
                <a:ext cx="1440" cy="39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82680" y="5344920"/>
                <a:ext cx="1440" cy="180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582680" y="5340600"/>
                <a:ext cx="1440" cy="39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7582680" y="5338800"/>
                <a:ext cx="1440" cy="180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1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582680" y="5334840"/>
                <a:ext cx="1440" cy="39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7582680" y="5332680"/>
                <a:ext cx="1440" cy="21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b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582680" y="5329080"/>
                <a:ext cx="1440" cy="360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7582680" y="5326560"/>
                <a:ext cx="1440" cy="21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582680" y="5322600"/>
                <a:ext cx="1440" cy="39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582680" y="5320800"/>
                <a:ext cx="1440" cy="180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3be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582680" y="5316840"/>
                <a:ext cx="1440" cy="3960"/>
              </a:xfrm>
              <a:prstGeom prst="rect">
                <a:avLst/>
              </a:prstGeom>
              <a:solidFill>
                <a:srgbClr val="d4bf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7582680" y="5312520"/>
                <a:ext cx="1440" cy="39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582680" y="5310720"/>
                <a:ext cx="1440" cy="180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7582680" y="5306760"/>
                <a:ext cx="1440" cy="39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82680" y="5304960"/>
                <a:ext cx="1440" cy="180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82680" y="5301000"/>
                <a:ext cx="1440" cy="3960"/>
              </a:xfrm>
              <a:prstGeom prst="rect">
                <a:avLst/>
              </a:prstGeom>
              <a:solidFill>
                <a:srgbClr val="d6c4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582680" y="5299200"/>
                <a:ext cx="1440" cy="1800"/>
              </a:xfrm>
              <a:prstGeom prst="rect">
                <a:avLst/>
              </a:prstGeom>
              <a:solidFill>
                <a:srgbClr val="d7c4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582680" y="5294880"/>
                <a:ext cx="1440" cy="3960"/>
              </a:xfrm>
              <a:prstGeom prst="rect">
                <a:avLst/>
              </a:prstGeom>
              <a:solidFill>
                <a:srgbClr val="d8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582680" y="5292720"/>
                <a:ext cx="1440" cy="21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582680" y="5288760"/>
                <a:ext cx="1440" cy="39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582680" y="5286960"/>
                <a:ext cx="1440" cy="180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7593120" y="531288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593120" y="5265000"/>
              <a:ext cx="324720" cy="29628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184" y="148"/>
                  </a:moveTo>
                  <a:lnTo>
                    <a:pt x="3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1"/>
                  </a:lnTo>
                  <a:lnTo>
                    <a:pt x="186" y="3"/>
                  </a:lnTo>
                  <a:lnTo>
                    <a:pt x="186" y="145"/>
                  </a:lnTo>
                  <a:lnTo>
                    <a:pt x="186" y="147"/>
                  </a:lnTo>
                  <a:lnTo>
                    <a:pt x="184" y="148"/>
                  </a:lnTo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598160" y="5272920"/>
              <a:ext cx="314280" cy="27684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0" y="78"/>
                  </a:moveTo>
                  <a:lnTo>
                    <a:pt x="2" y="34"/>
                  </a:lnTo>
                  <a:lnTo>
                    <a:pt x="3" y="13"/>
                  </a:lnTo>
                  <a:lnTo>
                    <a:pt x="3" y="7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44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141" y="2"/>
                  </a:lnTo>
                  <a:lnTo>
                    <a:pt x="160" y="3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80" y="48"/>
                  </a:lnTo>
                  <a:lnTo>
                    <a:pt x="180" y="65"/>
                  </a:lnTo>
                  <a:lnTo>
                    <a:pt x="178" y="90"/>
                  </a:lnTo>
                  <a:lnTo>
                    <a:pt x="177" y="109"/>
                  </a:lnTo>
                  <a:lnTo>
                    <a:pt x="177" y="123"/>
                  </a:lnTo>
                  <a:lnTo>
                    <a:pt x="175" y="130"/>
                  </a:lnTo>
                  <a:lnTo>
                    <a:pt x="174" y="132"/>
                  </a:lnTo>
                  <a:lnTo>
                    <a:pt x="172" y="133"/>
                  </a:lnTo>
                  <a:lnTo>
                    <a:pt x="169" y="133"/>
                  </a:lnTo>
                  <a:lnTo>
                    <a:pt x="112" y="138"/>
                  </a:lnTo>
                  <a:lnTo>
                    <a:pt x="75" y="137"/>
                  </a:lnTo>
                  <a:lnTo>
                    <a:pt x="51" y="137"/>
                  </a:lnTo>
                  <a:lnTo>
                    <a:pt x="28" y="135"/>
                  </a:lnTo>
                  <a:lnTo>
                    <a:pt x="13" y="133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3" y="130"/>
                  </a:lnTo>
                  <a:lnTo>
                    <a:pt x="2" y="129"/>
                  </a:lnTo>
                  <a:lnTo>
                    <a:pt x="0" y="81"/>
                  </a:lnTo>
                  <a:lnTo>
                    <a:pt x="0" y="78"/>
                  </a:lnTo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/>
          </p:nvPr>
        </p:nvSpPr>
        <p:spPr>
          <a:xfrm>
            <a:off x="323640" y="34308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eró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 mental: depresión, luto, abuso, alcoho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uto es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familia: cursos para novios, enriquecimiento matrimonial, disciplina, adoles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fin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o 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3" name="" descr=""/>
          <p:cNvPicPr/>
          <p:nvPr/>
        </p:nvPicPr>
        <p:blipFill>
          <a:blip r:embed="rId1"/>
          <a:stretch/>
        </p:blipFill>
        <p:spPr>
          <a:xfrm>
            <a:off x="5659560" y="3933720"/>
            <a:ext cx="3376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4:03Z</dcterms:created>
  <dc:creator>RaquelA</dc:creator>
  <dc:description/>
  <dc:language>en-US</dc:language>
  <cp:lastModifiedBy>arraisr</cp:lastModifiedBy>
  <dcterms:modified xsi:type="dcterms:W3CDTF">2008-05-27T20:29:35Z</dcterms:modified>
  <cp:revision>51</cp:revision>
  <dc:subject/>
  <dc:title>Manual de  Evangelismo Feminino</dc:title>
</cp:coreProperties>
</file>