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B95-AC88-40A6-8A23-24646D9F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A5F-5B7F-40A9-9D18-D7528DD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EC7-A783-4E30-AEB6-6D539689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CF8-4F5B-4104-BEA0-E2D1D763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45E-DB9C-4F71-B48A-CBBC638A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89D-14C7-45A3-830F-F398557E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EA9-7F59-43C3-8595-45849BBB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E40-4BF6-49F7-BF52-221F80C3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230-B3AA-487A-8D0E-16A81FEC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D6F-353C-439C-A1D4-A48199D6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66B-AF8A-45CC-BA40-54461888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D1B-BD14-49EC-9534-32599CD3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or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767B-BBF5-4E43-B778-3E43F645F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ork"/>
              </a:rPr>
              <a:t>Principios de Liderazgo Eficaz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Curso de Liderazgo</a:t>
            </a:r>
            <a:br>
              <a:rPr sz="32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Nivel 1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El papel básico del líder es fomentar el respeto mutuo y formar un equipo complementario donde cada fortaleza se considera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ductiva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 y cada debilidad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trascendente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dministrador – Las funciones básicas son us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lu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ultipl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l trabajo y la función del producto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19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66"/>
                </a:solidFill>
                <a:latin typeface="Tork"/>
                <a:ea typeface="SimSun"/>
              </a:rPr>
              <a:t>LIDERAZGO EN EQUIPO</a:t>
            </a:r>
            <a:endParaRPr b="0" lang="en-US" sz="40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 una líde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ta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“cuyo corazón Dios haya tocad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dispuestas a unirse bajo el señorío de Jesucristo. Esto permitirá al grupo evitar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u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confianz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un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Tenga un enfoque claro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ensible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a mujeres dotadas en las áreas que necesit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blezca, desde el inicio,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xpectativ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de que cada miembro mantendrá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ormada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roporcione oportunidades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prendizaj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miembros del equipo deben mostr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spe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unos por otros y por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nime al grupo a que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rries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Reconozca que ocurrirá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racaso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termine encarar los fracasos como un proceso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finamien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e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lexibl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dele y espe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nceridad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ransparencia y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ulnerabilidad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Diríjas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tamente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l miembro del equipo con quien esté en conflic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da miembro del equipo es u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ntrenamien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romueva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entalidad de equip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xcluya a los miembros del equipo que no esté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articip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l “proceso de equip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ermanezca en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blanc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6201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Principios enseñados por Jetro respecto al arte de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.. Esto es demasiado pesado para ti; tú solo no lo puedes hacer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duda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e agotarás demasiad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 tanto tú como el pueblo que está contig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 resultados serán más satisfactorios para todos si tú delegar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isés seguiría siendo 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hiciereis esto, y así Dios te ordenara, podrás entonc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oport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6880" y="2895480"/>
            <a:ext cx="1527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Century Gothic"/>
                <a:ea typeface="SimSun"/>
              </a:rPr>
              <a:t>Beneficios que Moisés recibió al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Men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gotamiento físico y mental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ersonas má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satisfecha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concentrarse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n l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asuntos mas importante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de usar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done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de los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sarrollo de un equipo de aliado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cididos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lcanzar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l mis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blanco.-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oner en  práctica un sistema que sería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eficaz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cuando él ya no fuera el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2560" y="1066680"/>
            <a:ext cx="171144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7057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Tork"/>
                <a:ea typeface="SimSun"/>
              </a:rPr>
              <a:t>ENFRENTE EL ESTRÉ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Esté segura que el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trés 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vendrá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Dé gracias en todas las circunstancias. (Ver I Tesalonicenses 5:18)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Construya su seguridad en Cristo que nos dice: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ermaneced en mí, ...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Acercaos a Dios y él se acercará a vosotros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ase a solas con Dios , todo el tiempo que pueda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Su seguridad en Cristo es algo que nunc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ambiará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aún  cuando todo sea diferente. 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La fuerza viene d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manecer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3360" y="2590920"/>
            <a:ext cx="1790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10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ork"/>
                <a:ea typeface="SimSun"/>
              </a:rPr>
              <a:t>CARACTERÍSTICAS DE L LIDERAZGO EFICAZ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con Di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necesitan tener un sentido de responsabilidad para el servicio y colaboración con los 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ener un sentido de visión fuertemente definido y ser capaz de articularlo debid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visión tiene que ser compartida y  significativa y tener sentido para las personas que están involucrad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usted desea ser una líder eficiente, debe aprend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tinu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3551040"/>
            <a:ext cx="8458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deben ser person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iables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ben s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biert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su comunicación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trabajo será mucho más eficiente si se realiza en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quip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la presentación de una meta o visión de un estado futuro que la gente puede desear; presentado por una persona, y la generación de una buena voluntad dentro de aquellas personas, para seguir al líder hacia esa meta, a lo largo de un curso de acción socialmente responsable y mutuamente beneficios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35560" y="3102120"/>
            <a:ext cx="2908440" cy="291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entusiasmo es uno  de los mejores comportamientos para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odas las líderes tienen que hacer frente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blem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algún moment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los problemas no habría  mejoras.</a:t>
            </a:r>
            <a:r>
              <a:rPr b="0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405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80520"/>
            <a:ext cx="5867280" cy="57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 líder debe ser capaz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unicars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 y tambié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cuch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arte del liderazgo es estar siempre avanzando hacia un blanco futuro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líder eficiente necesita ser una administrado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ficiente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l tiempo y ser organizada. Necesita tener la mente centrada en las personas y  en la tarea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587680" cy="51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4572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Tork"/>
                <a:ea typeface="SimSun"/>
              </a:rPr>
              <a:t>Crecimiento Persona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 importante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jercitarse </a:t>
            </a: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 regularmente: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Física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Ment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mocion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piritualmente.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443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90760" y="579600"/>
            <a:ext cx="464796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Usted es una líder si la gente desea seguirl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iderazgo 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viliza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 a los otros hacia un blanco compartido por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l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eguidores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or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3630600" cy="40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el ejercici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ne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pirituale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ajo el llamado de Dios a servir a un cierto grupo de personas, para alcanzar las metas que Dios les ha dado, con el fi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glorif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a Crist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712960"/>
            <a:ext cx="4038480" cy="3306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696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mbios observados en el liderazgo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íder co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g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Influencia por medio de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uas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operativ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justicia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ctivism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primero el equipo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clusivis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comparte el poder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380880"/>
            <a:ext cx="5334120" cy="606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Las características de un buen liderazgo en estos días, tienden a reflejar los atributos que se encuentran normalmente en mujer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En el promedio ... los líderes está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adoptando comportamientos y tácticas que enfatizan un cambio para el comportamiento cooperativo... tales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capacitación, comunicación abierta, confianz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Ser líder en la iglesia de Dios significa estar dispuesto a ser 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ervo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Isaías 42 – Modelo de Liderazgo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pend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de Dio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ios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i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usted!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dest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Jesús evitó las oportunidades de llam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ten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 hacia sí mism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mpatí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everanc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sagración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66"/>
                </a:solidFill>
                <a:latin typeface="Tork"/>
                <a:ea typeface="SimSun"/>
              </a:rPr>
              <a:t>ADMINISTRADOR versus LÍDER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os líderes se ocupan 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c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el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administrador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elocidad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líder se ocupa de la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– manteniedo siempr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vista, ..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 las personas a trabajar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administrador se ocupa de establecer estructuras y sistemas para conseguir esos resultados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3:20:51Z</dcterms:created>
  <dc:creator>Heather Dawn Small</dc:creator>
  <dc:description/>
  <dc:language>en-US</dc:language>
  <cp:lastModifiedBy>Sede Administrativa</cp:lastModifiedBy>
  <dcterms:modified xsi:type="dcterms:W3CDTF">2003-05-13T13:58:20Z</dcterms:modified>
  <cp:revision>48</cp:revision>
  <dc:subject/>
  <dc:title>Principles of Effective Leadership</dc:title>
</cp:coreProperties>
</file>