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E4E-0007-4448-8059-E8ADDDEC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244-F478-4CD2-AB48-9C4F0A6E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ABD-9B3D-4100-A86B-303485C0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E1A-DB24-4BA9-9B76-036BD59C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185-1F4E-415A-AEDE-DFDA3404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A06-5FCB-419B-9477-F9B22E7B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B22-98AD-4E9C-9598-263AF513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7FA-C403-4569-A9B8-D799CEE3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4A1-38B3-4C64-9538-1763E459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87D-A617-412F-8E6D-AFFF5A3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D77-2CBC-4637-8680-B632930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701-968C-44DA-8E67-E1E90889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or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or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or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or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3582-0625-460A-B4EB-12B1356AD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ffff"/>
                </a:solidFill>
                <a:latin typeface="Tork"/>
              </a:rPr>
              <a:t>Principios de Liderazgo Eficaz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Curso de Liderazgo</a:t>
            </a:r>
            <a:br>
              <a:rPr sz="3200"/>
            </a:br>
            <a:r>
              <a:rPr b="1" i="1" lang="es-ES" sz="3200" spc="-1" strike="noStrike">
                <a:solidFill>
                  <a:srgbClr val="ffff66"/>
                </a:solidFill>
                <a:latin typeface="Tork"/>
              </a:rPr>
              <a:t>Nivel 1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El papel básico del líder es fomentar el respeto mutuo y formar un equipo complementario donde cada fortaleza se considera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ductiva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 y cada debilidad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trascendente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dministrador – Las funciones básicas son us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lu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ultipl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l trabajo y la función del producto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19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66"/>
                </a:solidFill>
                <a:latin typeface="Tork"/>
                <a:ea typeface="SimSun"/>
              </a:rPr>
              <a:t>LIDERAZGO EN EQUIPO</a:t>
            </a:r>
            <a:endParaRPr b="0" lang="en-US" sz="40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 una líder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ta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“cuyo corazón Dios haya tocad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Mujeres dispuestas a unirse bajo el señorío de Jesucristo. Esto permitirá al grupo evitar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u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confianza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sun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Tenga un enfoque claro y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ensible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ija a mujeres dotadas en las áreas que necesit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blezca, desde el inicio,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xpectativ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de que cada miembro mantendrá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formada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roporcione oportunidades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prendizaj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miembros del equipo deben mostr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spe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unos por otros y por la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Anime al grupo a que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rries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Reconozca que ocurrirá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racaso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termine encarar los fracasos como un proceso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refinamient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e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flexibl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gu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dele y esper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nceridad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ransparencia y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ulnerabilidad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Diríjase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tamente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l miembro del equipo con quien esté en conflic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da miembro del equipo es u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ntrenamient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romueva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entalidad de equipo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xcluya a los miembros del equipo que no estén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articip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el “proceso de equipo”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Permanezca en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blanc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76201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Principios enseñados por Jetro respecto al arte de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.. Esto es demasiado pesado para ti; tú solo no lo puedes hacer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duda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te agotarás demasiad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, tanto tú como el pueblo que está contig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os  resultados serán más satisfactorios para todos si tú delegar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Moisés seguiría siendo 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hiciereis esto, y así Dios te ordenara, podrás entonc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oport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16880" y="2895480"/>
            <a:ext cx="15271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153640" cy="64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Century Gothic"/>
                <a:ea typeface="SimSun"/>
              </a:rPr>
              <a:t>Beneficios que Moisés recibió al delegar: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Men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gotamiento físico y mental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ersonas má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satisfecha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pa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concentrarse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n l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asuntos mas importante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Capacidad de usar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dones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de los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sarrollo de un equipo de aliado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decididos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alcanzar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el mis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blanco.-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Poner en  práctica un sistema que sería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entury Gothic"/>
                <a:ea typeface="SimSun"/>
              </a:rPr>
              <a:t>eficaz</a:t>
            </a: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SimSun"/>
              </a:rPr>
              <a:t> cuando él ya no fuera el líder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2560" y="1066680"/>
            <a:ext cx="1711440" cy="320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1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10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670572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Tork"/>
                <a:ea typeface="SimSun"/>
              </a:rPr>
              <a:t>ENFRENTE EL ESTRÉ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Esté segura que el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trés 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vendrá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Dé gracias en todas las circunstancias. (Ver I Tesalonicenses 5:18)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Construya su seguridad en Cristo que nos dice: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ermaneced en mí, ...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“</a:t>
            </a:r>
            <a:r>
              <a:rPr b="1" i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Acercaos a Dios y él se acercará a vosotros”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Pase a solas con Dios , todo el tiempo que pueda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Su seguridad en Cristo es algo que nunc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ambiará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 aún  cuando todo sea diferente. 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ork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La fuerza viene d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manecer</a:t>
            </a:r>
            <a:r>
              <a:rPr b="1" lang="es-ES" sz="20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3360" y="2590920"/>
            <a:ext cx="179064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1000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58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66"/>
                </a:solidFill>
                <a:latin typeface="Tork"/>
                <a:ea typeface="SimSun"/>
              </a:rPr>
              <a:t>CARACTERÍSTICAS DE L LIDERAZGO EFICAZ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sta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prometid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con Dios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necesitan tener un sentido de responsabilidad para el servicio y colaboración con los  demá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ener un sentido de visión fuertemente definido y ser capaz de articularlo debid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visión tiene que ser compartida y  significativa y tener sentido para las personas que están involucrada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 usted desea ser una líder eficiente, debe aprend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tinuamente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3551040"/>
            <a:ext cx="84582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s líderes deben ser persona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fiables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ben ser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biert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su comunicación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trabajo será mucho más eficiente si se realiza en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quip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6400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la presentación de una meta o visión de un estado futuro que la gente puede desear; presentado por una persona, y la generación de una buena voluntad dentro de aquellas personas, para seguir al líder hacia esa meta, a lo largo de un curso de acción socialmente responsable y mutuamente beneficios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35560" y="3102120"/>
            <a:ext cx="2908440" cy="291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El entusiasmo es uno  de los mejores comportamientos para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Todas las líderes tienen que hacer frente 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roblema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algún moment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Sin los problemas no habría  mejoras.</a:t>
            </a:r>
            <a:r>
              <a:rPr b="0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038480" cy="405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971800" y="380520"/>
            <a:ext cx="5867280" cy="57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 líder debe ser capaz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municarse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 y tambié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cuch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ien .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Parte del liderazgo es estar siempre avanzando hacia un blanco futuro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a líder eficiente necesita ser una administrador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ficiente 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el tiempo y ser organizada. Necesita tener la mente centrada en las personas y  en la tarea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587680" cy="51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45720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66"/>
                </a:solidFill>
                <a:latin typeface="Tork"/>
                <a:ea typeface="SimSun"/>
              </a:rPr>
              <a:t>Crecimiento Personal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 importante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jercitarse </a:t>
            </a: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 regularmente: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Física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Ment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mocionalmente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ork"/>
                <a:ea typeface="SimSun"/>
              </a:rPr>
              <a:t>Espiritualmente.</a:t>
            </a:r>
            <a:endParaRPr b="0" lang="en-US" sz="24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038840" cy="443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90760" y="579600"/>
            <a:ext cx="4647960" cy="582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Usted es una líder si la gente desea seguirla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iderazgo e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viliza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 a los otros hacia un blanco compartido por el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líder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y l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eguidores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”.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or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1920" y="1143000"/>
            <a:ext cx="3630600" cy="40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ork"/>
                <a:ea typeface="SimSun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iderazgo es el ejercicio de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ones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spirituales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bajo el llamado de Dios a servir a un cierto grupo de personas, para alcanzar las metas que Dios les ha dado, con el fin d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glorificar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a Cristo”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2712960"/>
            <a:ext cx="4038480" cy="3306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6960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Cambios observados en el liderazgo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Líder como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g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Influencia por medio de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uas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operativ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justicia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lectivismo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primero el equipo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Inclusivis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(comparte el poder)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57600" y="380880"/>
            <a:ext cx="5334120" cy="606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Las características de un buen liderazgo en estos días, tienden a reflejar los atributos que se encuentran normalmente en mujer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En el promedio ... los líderes está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adoptando comportamientos y tácticas que enfatizan un cambio para el comportamiento cooperativo... tales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be0e3"/>
                </a:solidFill>
                <a:latin typeface="Arial"/>
                <a:ea typeface="SimSun"/>
              </a:rPr>
              <a:t>capacitación, comunicación abierta, confianz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Tor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Ser líder en la iglesia de Dios significa estar dispuesto a ser  </a:t>
            </a:r>
            <a:r>
              <a:rPr b="1" lang="es-ES" sz="36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siervo</a:t>
            </a:r>
            <a:r>
              <a:rPr b="1" lang="es-ES" sz="36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6194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66"/>
                </a:solidFill>
                <a:latin typeface="Tork"/>
                <a:ea typeface="SimSun"/>
              </a:rPr>
              <a:t>Isaías 42 – Modelo de Liderazgo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pendenci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de Dios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Dios S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eleita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en usted!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dest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Jesús evitó las oportunidades de llamar l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atención</a:t>
            </a:r>
            <a:r>
              <a:rPr b="1" lang="es-ES" sz="2800" spc="-1" strike="noStrike">
                <a:solidFill>
                  <a:srgbClr val="ffffff"/>
                </a:solidFill>
                <a:latin typeface="Tork"/>
                <a:ea typeface="SimSun"/>
              </a:rPr>
              <a:t>   hacia sí mismo.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Empatí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Perseverancia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Consagración</a:t>
            </a:r>
            <a:endParaRPr b="0" lang="en-US" sz="28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66"/>
                </a:solidFill>
                <a:latin typeface="Tork"/>
                <a:ea typeface="SimSun"/>
              </a:rPr>
              <a:t>ADMINISTRADOR versus LÍDER</a:t>
            </a:r>
            <a:endParaRPr b="0" lang="en-US" sz="36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Los líderes se ocupan 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direcc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, el 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administrador d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elocidad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líder se ocupa de la 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v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– manteniedo siempre l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isión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en vista, ...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ork"/>
                <a:ea typeface="SimSun"/>
              </a:rPr>
              <a:t>motivando</a:t>
            </a: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 a las personas a trabajar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ork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ork"/>
                <a:ea typeface="SimSun"/>
              </a:rPr>
              <a:t>El administrador se ocupa de establecer estructuras y sistemas para conseguir esos resultados.</a:t>
            </a:r>
            <a:endParaRPr b="0" lang="en-US" sz="3200" spc="-1" strike="noStrike">
              <a:solidFill>
                <a:srgbClr val="ffffff"/>
              </a:solidFill>
              <a:latin typeface="Tor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23:20:51Z</dcterms:created>
  <dc:creator>Heather Dawn Small</dc:creator>
  <dc:description/>
  <dc:language>en-US</dc:language>
  <cp:lastModifiedBy>Sede Administrativa</cp:lastModifiedBy>
  <dcterms:modified xsi:type="dcterms:W3CDTF">2003-05-13T13:58:20Z</dcterms:modified>
  <cp:revision>48</cp:revision>
  <dc:subject/>
  <dc:title>Principles of Effective Leadership</dc:title>
</cp:coreProperties>
</file>