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1082-F719-47D5-BAB0-EBC74BC6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59A4-807B-44D6-9032-DFC8CE35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07F7-6F34-492F-A08B-E7E625EB0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E813-ACD8-4A28-AAF7-441D4E8E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7108-3AB3-42BC-B891-DF7422F4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B25B-4F30-4B87-BBCB-8BB0156C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F066-1580-4F08-8BFA-7E769A8A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6599-E14B-4D19-BA8C-115ED272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9EE9-5F6E-4B2E-92FA-53827355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4DE4-2E9E-4A2A-9A14-25237341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D9EC-A01E-4E3B-BABE-5D7B271D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A6E0-5F99-4F93-904F-4C34272C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or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or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or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or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or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or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1F1F-17C5-46D7-BCFA-052FB94D2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fffff"/>
                </a:solidFill>
                <a:latin typeface="Tork"/>
              </a:rPr>
              <a:t>Principios de Liderazgo Eficaz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1" i="1" lang="es-ES" sz="3200" spc="-1" strike="noStrike">
                <a:solidFill>
                  <a:srgbClr val="ffff66"/>
                </a:solidFill>
                <a:latin typeface="Tork"/>
              </a:rPr>
              <a:t>Curso de Liderazgo</a:t>
            </a:r>
            <a:br>
              <a:rPr sz="3200"/>
            </a:br>
            <a:r>
              <a:rPr b="1" i="1" lang="es-ES" sz="3200" spc="-1" strike="noStrike">
                <a:solidFill>
                  <a:srgbClr val="ffff66"/>
                </a:solidFill>
                <a:latin typeface="Tork"/>
              </a:rPr>
              <a:t>Nivel 1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ork"/>
                <a:ea typeface="SimSun"/>
              </a:rPr>
              <a:t>El papel básico del líder es fomentar el respeto mutuo y formar un equipo complementario donde cada fortaleza se considera </a:t>
            </a:r>
            <a:r>
              <a:rPr b="1" lang="es-ES" sz="36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roductiva</a:t>
            </a:r>
            <a:r>
              <a:rPr b="1" lang="es-ES" sz="3600" spc="-1" strike="noStrike">
                <a:solidFill>
                  <a:srgbClr val="ffffff"/>
                </a:solidFill>
                <a:latin typeface="Tork"/>
                <a:ea typeface="SimSun"/>
              </a:rPr>
              <a:t> y cada debilidad </a:t>
            </a:r>
            <a:r>
              <a:rPr b="1" lang="es-ES" sz="36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intrascendente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8390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Administrador – Las funciones básicas son usar l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influenci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par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ultiplicar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el trabajo y la función del productor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743200" y="1676520"/>
            <a:ext cx="3619440" cy="4267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40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66"/>
                </a:solidFill>
                <a:latin typeface="Tork"/>
                <a:ea typeface="SimSun"/>
              </a:rPr>
              <a:t>LIDERAZGO EN EQUIPO</a:t>
            </a:r>
            <a:endParaRPr b="0" lang="en-US" sz="40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Elija  una líder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otada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y 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mprometida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Mujeres “cuyo corazón Dios haya tocado”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Mujeres dispuestas a unirse bajo el señorío de Jesucristo. Esto permitirá al grupo evitar l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nfusión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,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esconfianza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y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esunión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Tenga un enfoque claro y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mprensible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Elija a mujeres dotadas en las áreas que necesita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548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Establezca, desde el inicio, l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xpectativ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 de que cada miembro mantendrá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informada 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a la líder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Proporcione oportunidades d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aprendizaje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os miembros del equipo deben mostrar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respet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unos por otros y por la líder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Anime al grupo a que s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arriesgue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Reconozca que ocurrirán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fracasos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Determine encarar los fracasos como un proceso d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refinamient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Se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flexible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elegue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Modele y esper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sinceridad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	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transparencia y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vulnerabilidad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1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1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0" dur="10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10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589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Diríjase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irectamente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al miembro del equipo con quien esté en conflicto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Cada miembro del equipo es un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líder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en entrenamiento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Promueva l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entalidad de equipo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Excluya a los miembros del equipo que no estén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articipando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en el “proceso de equipo”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Permanezca en el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blanco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2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09120" y="228600"/>
            <a:ext cx="7620120" cy="589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66"/>
                </a:solidFill>
                <a:latin typeface="Tork"/>
                <a:ea typeface="SimSun"/>
              </a:rPr>
              <a:t>Principios enseñados por Jetro respecto al arte de delegar: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.. Esto es demasiado pesado para ti; tú solo no lo puedes hacer”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Sin duda,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te agotarás demasiad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, tanto tú como el pueblo que está contigo”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os  resultados serán más satisfactorios para todos si tú delegara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Moisés seguiría siendo el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líder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Si hiciereis esto, y así Dios te ordenara, podrás entonce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soportar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”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16880" y="2895480"/>
            <a:ext cx="1527120" cy="2514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8153640" cy="647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66"/>
                </a:solidFill>
                <a:latin typeface="Century Gothic"/>
                <a:ea typeface="SimSun"/>
              </a:rPr>
              <a:t>Beneficios que Moisés recibió al delegar: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Meno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agotamiento físico y mental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Personas má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satisfechas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Capacidad par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concentrarse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en los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asuntos mas importante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Capacidad de usar lo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dones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de los demá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Desarrollo de un equipo de aliados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decididos 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alcanzar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el mismo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blanco.-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Poner en  práctica un sistema que sería 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eficaz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cuando él ya no fuera el líder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432560" y="1066680"/>
            <a:ext cx="1711440" cy="3200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3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8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3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8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3" dur="1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8" dur="10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3" dur="1000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8" dur="1000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3" dur="1000"/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6705720" cy="589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66"/>
                </a:solidFill>
                <a:latin typeface="Tork"/>
                <a:ea typeface="SimSun"/>
              </a:rPr>
              <a:t>ENFRENTE EL ESTRÉS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Esté segura que el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strés </a:t>
            </a: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vendrá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Dé gracias en todas las circunstancias. (Ver I Tesalonicenses 5:18)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Construya su seguridad en Cristo que nos dice: “</a:t>
            </a:r>
            <a:r>
              <a:rPr b="1" i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permaneced en mí, ...”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 “</a:t>
            </a:r>
            <a:r>
              <a:rPr b="1" i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Acercaos a Dios y él se acercará a vosotros”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Pase a solas con Dios , todo el tiempo que pueda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Su seguridad en Cristo es algo que nunca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ambiará</a:t>
            </a: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 aún  cuando todo sea diferente. 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La fuerza viene de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ermanecer</a:t>
            </a: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353360" y="2590920"/>
            <a:ext cx="179064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1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10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1000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1000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1000"/>
                                        <p:tgtEl>
                                          <p:spTgt spid="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229600" cy="589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66"/>
                </a:solidFill>
                <a:latin typeface="Tork"/>
                <a:ea typeface="SimSun"/>
              </a:rPr>
              <a:t>CARACTERÍSTICAS DE L LIDERAZGO EFICAZ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Estar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mprometid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con Dios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as líderes necesitan tener un sentido de responsabilidad para el servicio y colaboración con los  demá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Tener un sentido de visión fuertemente definido y ser capaz de articularlo debidamente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a visión tiene que ser compartida y  significativa y tener sentido para las personas que están involucrada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Si usted desea ser una líder eficiente, debe aprender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ntinuamente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2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7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2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2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7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6840" y="3551040"/>
            <a:ext cx="8458200" cy="27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as líderes deben ser persona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nfiables 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Deben ser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abiertas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en su comunicación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El trabajo será mucho más eficiente si se realiza en 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quip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9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4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64008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ork"/>
                <a:ea typeface="SimSun"/>
              </a:rPr>
              <a:t>“ 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iderazgo es la presentación de una meta o visión de un estado futuro que la gente puede desear; presentado por una persona, y la generación de una buena voluntad dentro de aquellas personas, para seguir al líder hacia esa meta, a lo largo de un curso de acción socialmente responsable y mutuamente beneficioso”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235560" y="3102120"/>
            <a:ext cx="2908440" cy="2917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5181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El entusiasmo es uno  de los mejores comportamientos para l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otivación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Todas las líderes tienen que hacer frente 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roblemas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en algún momento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Sin los problemas no habría  mejoras.</a:t>
            </a:r>
            <a:r>
              <a:rPr b="0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48320" y="838080"/>
            <a:ext cx="4038480" cy="4057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971800" y="380520"/>
            <a:ext cx="5867280" cy="574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a  líder debe ser capaz d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municarse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bien  y también d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scuchar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bien .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Parte del liderazgo es estar siempre avanzando hacia un blanco futuro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a líder eficiente necesita ser una administrador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ficiente 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del tiempo y ser organizada. Necesita tener la mente centrada en las personas y  en la tarea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2587680" cy="5133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4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4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4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4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4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4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457200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66"/>
                </a:solidFill>
                <a:latin typeface="Tork"/>
                <a:ea typeface="SimSun"/>
              </a:rPr>
              <a:t>Crecimiento Persona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Es importante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jercitarse </a:t>
            </a: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 regularmente:</a:t>
            </a: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Físicamente</a:t>
            </a: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Mentalmente</a:t>
            </a: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Emocionalmente</a:t>
            </a: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Espiritualmente.</a:t>
            </a:r>
            <a:endParaRPr b="0" lang="en-US" sz="24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724280" y="1143000"/>
            <a:ext cx="4038840" cy="4437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190760" y="579600"/>
            <a:ext cx="4647960" cy="582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Usted es una líder si la gente desea seguirla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ork"/>
                <a:ea typeface="SimSun"/>
              </a:rPr>
              <a:t>“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Liderazgo es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ovilizar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 a los otros hacia un blanco compartido por el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líder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y los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seguidores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”.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Tor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31920" y="1143000"/>
            <a:ext cx="3630600" cy="4068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8224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ork"/>
                <a:ea typeface="SimSun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iderazgo es el ejercicio de lo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ones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spirituales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bajo el llamado de Dios a servir a un cierto grupo de personas, para alcanzar las metas que Dios les ha dado, con el fin d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glorificar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a Cristo”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90920" y="2712960"/>
            <a:ext cx="4038480" cy="3306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14400" y="685800"/>
            <a:ext cx="769608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Cambios observados en el liderazgo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íder como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lega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Influencia por medio de l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ersuasión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operativ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(justicia)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lectivism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(primero el equipo)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Inclusivist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(comparte el poder)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4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4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4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57600" y="380880"/>
            <a:ext cx="5334120" cy="606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be0e3"/>
                </a:solidFill>
                <a:latin typeface="Arial"/>
                <a:ea typeface="SimSun"/>
              </a:rPr>
              <a:t>Las características de un buen liderazgo en estos días, tienden a reflejar los atributos que se encuentran normalmente en mujeres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be0e3"/>
                </a:solidFill>
                <a:latin typeface="Arial"/>
                <a:ea typeface="SimSun"/>
              </a:rPr>
              <a:t>En el promedio ... los líderes está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be0e3"/>
                </a:solidFill>
                <a:latin typeface="Arial"/>
                <a:ea typeface="SimSun"/>
              </a:rPr>
              <a:t>adoptando comportamientos y tácticas que enfatizan un cambio para el comportamiento cooperativo... tales co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be0e3"/>
                </a:solidFill>
                <a:latin typeface="Arial"/>
                <a:ea typeface="SimSun"/>
              </a:rPr>
              <a:t>capacitación, comunicación abierta, confianza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ork"/>
                <a:ea typeface="SimSun"/>
              </a:rPr>
              <a:t>Ser líder en la iglesia de Dios significa estar dispuesto a ser  </a:t>
            </a:r>
            <a:r>
              <a:rPr b="1" lang="es-ES" sz="36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siervo</a:t>
            </a:r>
            <a:r>
              <a:rPr b="1" lang="es-ES" sz="36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105520" y="838080"/>
            <a:ext cx="361944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48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66"/>
                </a:solidFill>
                <a:latin typeface="Tork"/>
                <a:ea typeface="SimSun"/>
              </a:rPr>
              <a:t>Isaías 42 – Modelo de Liderazgo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ependenci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de Dio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Dios S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eleit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en usted!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odestia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Jesús evitó las oportunidades de llamar l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atención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  hacia sí mismo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mpatía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erseverancia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nsagración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2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5" dur="2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0" dur="2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480" y="-36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66"/>
                </a:solidFill>
                <a:latin typeface="Tork"/>
                <a:ea typeface="SimSun"/>
              </a:rPr>
              <a:t>ADMINISTRADOR versus LÍDER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32640"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Los líderes se ocupan  de l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irección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, el 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administrador de l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velocidad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El líder se ocupa de la 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visión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– manteniedo siempre l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isión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en vista, ...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otivando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a las personas a trabajar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El administrador se ocupa de establecer estructuras y sistemas para conseguir esos resultados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6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23:20:51Z</dcterms:created>
  <dc:creator>Heather Dawn Small</dc:creator>
  <dc:description/>
  <dc:language>en-US</dc:language>
  <cp:lastModifiedBy>Sede Administrativa</cp:lastModifiedBy>
  <dcterms:modified xsi:type="dcterms:W3CDTF">2003-05-13T13:58:20Z</dcterms:modified>
  <cp:revision>48</cp:revision>
  <dc:subject/>
  <dc:title>Principles of Effective Leadership</dc:title>
</cp:coreProperties>
</file>