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A26-AF66-41DB-BD0D-73DFCDFD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F85-9CE7-4C23-9AA5-751AB90D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014-27F2-4707-B22C-4A03CBB3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444-71C5-4BF0-9942-CF85E58A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E9C7-35EA-438F-AFF7-7A9C92A8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0C9D-24F2-42D2-B614-EDB33FD2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504D-A953-4043-9485-C78B32C4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2EE2-41D3-407E-8E99-B43D70B0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ACD6-D0B2-4B7D-A118-01E2400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8F70-6B21-421B-B331-E98B0036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759E-3498-44BE-8A0B-8300D736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9B1-6354-48A1-9231-451C6BC8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5BC8-F70E-4A37-9229-0EF90AB8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2D67-E50A-4855-9544-24A9C74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B9CA-1D92-4051-836E-A4A66516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940D-981E-4675-8B30-A45EB5C1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312A-180A-4F36-A3E5-E229D814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D7C-20E6-441C-A2B0-54F134B7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D3F-335A-4782-A121-C7D41CF9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102-A022-4808-B0E0-2EC5D241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6BB-1865-4000-88AF-30B7130E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D80-EF97-402F-83AF-EF735052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D05-00AA-4603-AAF7-B50E1B5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BA5-178F-4381-B3F3-DCDBF55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710E-4B1A-4A59-AB4F-048E95209C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251B-618C-4DA8-AE79-7BA64D209E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Técnicas de</a:t>
            </a:r>
            <a:br>
              <a:rPr sz="6600"/>
            </a:b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Comunicació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rso de Liderazgo – Ni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ff99"/>
                </a:solidFill>
                <a:latin typeface="Garamond"/>
              </a:rPr>
              <a:t>Los cuatro encuentros de Jesú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La mujer junto al pozo (Juan 4:4-26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l  joven rico (Lucas 18:18-25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Zaqueo (Lucas 29:1-9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Nicodemo, cuan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buscó a  Jesús de n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(Juan 3:1-15)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65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entury Gothic"/>
                <a:ea typeface="SimSun"/>
              </a:rPr>
              <a:t>PRINCIPIOS PARA ENTENDER Y USAR LA INFORMACIÓ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.   El “tiempo de demora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.  Congrue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I. Brecha interperson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V. Lenguaje corpo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ANQUE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ACTITUD DEFENS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OPE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NERVIOSISM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UST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V.   Esté atenta al pedido de auxil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258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VI.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Técnicas específicas para oí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476080"/>
            <a:ext cx="80769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aramond"/>
                <a:ea typeface="SimSun"/>
              </a:rPr>
              <a:t>1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aga la pregunta correc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2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haga preguntas indiscreta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3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tenga temor del silenci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9560" y="3733920"/>
            <a:ext cx="2584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Compruebe los sentimient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410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24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814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882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3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R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ER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76696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20720" y="1600200"/>
            <a:ext cx="27608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xpresión directa de sentimie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laraciones que comienzan con “yo”, y no con “usted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99"/>
                </a:solidFill>
                <a:latin typeface="Garamond"/>
                <a:ea typeface="SimSun"/>
              </a:rPr>
              <a:t>VIII.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ominio del Lengua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Auditivo - palabras relacionadas con son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Visual - palabras relacionadas con la vi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Sentimental - palabras relacionadas con  sent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4533840"/>
          <a:ext cx="8077320" cy="21956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AUDI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SENTIM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Deta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xa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Meticulo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O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Rui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scu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o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To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pre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bra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blan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838080"/>
            <a:ext cx="7010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Garamond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  <a:ea typeface="SimSun"/>
              </a:rPr>
              <a:t>Escucha las histo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Conozco a  alguien que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vocada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nseñ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Transferenc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Yo se lo que usted está sintien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X.</a:t>
            </a: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es-ES" sz="4800" spc="-1" strike="noStrike">
                <a:solidFill>
                  <a:srgbClr val="b9efee"/>
                </a:solidFill>
                <a:latin typeface="Garamond"/>
                <a:ea typeface="SimSun"/>
              </a:rPr>
              <a:t>Mandamientos del Buen oido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2428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9:36:02Z</dcterms:created>
  <dc:creator>Dan &amp; Lynnetta Hamstra</dc:creator>
  <dc:description/>
  <dc:language>en-US</dc:language>
  <cp:lastModifiedBy>Sede Administrativa</cp:lastModifiedBy>
  <dcterms:modified xsi:type="dcterms:W3CDTF">2003-05-13T13:53:13Z</dcterms:modified>
  <cp:revision>52</cp:revision>
  <dc:subject/>
  <dc:title>Communication Skills</dc:title>
</cp:coreProperties>
</file>