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2AB4-6C85-425C-99FB-604753332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BAC1-9988-4605-9F7C-9ED768D8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F079-1801-4E3A-9F5C-0B0392285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2C5E-52E8-4F47-AA31-CBEB3174F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4A5D-580D-4A54-97A0-E674972B6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5598-F659-485B-B753-B52AE70C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957A-5DAA-47EC-A5A9-C5DCBB7A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DA1D-F752-4C0B-BE1E-1709D316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8896-3B73-4446-B3EE-A06DD6C6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CDCC-FE97-4717-847F-1B62FBE4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A680-4167-486A-B148-D71BD14B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E799-662B-4E2C-A34F-ECCBBEC3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40B3-9EEC-47FC-8228-2D89E8C2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67F9-03FA-4B1E-B611-71F15866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77AA-2DE7-45D3-B0A3-973595E2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5827-CE6F-4C96-9DA0-3FCAB1D12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F874-DB8B-41FB-B223-234B60A2A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04B1-2CA0-4724-9C2A-74161173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A2FB-328B-4941-8230-3C81437B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CE5B-B2C7-44AF-9F8D-B27E0E22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C990-39FD-4DC4-97EF-3BD5A075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9E25-5D09-4965-8F0B-49CC7F61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89B6-F524-4F2C-B739-E10EA639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EF0A-38E4-4A0F-AE2C-B01893FA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875C-EC17-472C-9406-D3269F4AAAF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110E-EAD5-4E71-8F83-7BC0314AB50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0769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Técnicas de</a:t>
            </a:r>
            <a:br>
              <a:rPr sz="6600"/>
            </a:b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Comunicación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56386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Curso de Liderazgo – Nivel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ff99"/>
                </a:solidFill>
                <a:latin typeface="Garamond"/>
              </a:rPr>
              <a:t>Los cuatro encuentros de Jesú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La mujer junto al pozo (Juan 4:4-26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El  joven rico (Lucas 18:18-25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Zaqueo (Lucas 29:1-9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Nicodemo, cuand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     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buscó a  Jesús de noch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     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(Juan 3:1-15).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952880" y="2438280"/>
            <a:ext cx="3765600" cy="4267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b9efee"/>
                </a:solidFill>
                <a:latin typeface="Century Gothic"/>
                <a:ea typeface="SimSun"/>
              </a:rPr>
              <a:t>PRINCIPIOS PARA ENTENDER Y USAR LA INFORMACIÓN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604440" indent="-60444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  <a:ea typeface="SimSun"/>
              </a:rPr>
              <a:t>I.   El “tiempo de demora”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4440" indent="-60444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  <a:ea typeface="SimSun"/>
              </a:rPr>
              <a:t>II.  Congruencia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4440" indent="-60444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  <a:ea typeface="SimSun"/>
              </a:rPr>
              <a:t>III. Brecha interpersonal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4440" indent="-60444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  <a:ea typeface="SimSun"/>
              </a:rPr>
              <a:t>IV. Lenguaje corpor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FRANQUEZ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ACTITUD DEFENSIV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EVALUACIÓ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DESCONFIANZ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INSEGURIDAD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COOPERACIÓ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CONFIANZ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NERVIOSISMO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FRUSTRACIÓ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4440" indent="-60444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  <a:ea typeface="SimSun"/>
              </a:rPr>
              <a:t>V.   Esté atenta al pedido de auxili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638680" y="2362320"/>
            <a:ext cx="302580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b9efee"/>
                </a:solidFill>
                <a:latin typeface="Garamond"/>
                <a:ea typeface="SimSun"/>
              </a:rPr>
              <a:t>VI.</a:t>
            </a:r>
            <a:r>
              <a:rPr b="1" lang="pt-BR" sz="4400" spc="-1" strike="noStrike">
                <a:solidFill>
                  <a:srgbClr val="b9efee"/>
                </a:solidFill>
                <a:latin typeface="Garamond"/>
                <a:ea typeface="SimSun"/>
              </a:rPr>
              <a:t>	</a:t>
            </a:r>
            <a:r>
              <a:rPr b="1" lang="pt-BR" sz="4400" spc="-1" strike="noStrike">
                <a:solidFill>
                  <a:srgbClr val="b9efee"/>
                </a:solidFill>
                <a:latin typeface="Garamond"/>
                <a:ea typeface="SimSun"/>
              </a:rPr>
              <a:t>Técnicas específicas para oí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2476080"/>
            <a:ext cx="807696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Garamond"/>
                <a:ea typeface="SimSun"/>
              </a:rPr>
              <a:t>1.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Haga la pregunta correct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2.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No haga preguntas indiscreta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3.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No tenga temor del silenci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9560" y="3733920"/>
            <a:ext cx="258444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Compruebe los sentimiento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54100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ELI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5880" y="54244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RI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2881440" cy="3657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288288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133720" y="5181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URIO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5181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EMERO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2766960" cy="3505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620720" y="1600200"/>
            <a:ext cx="276084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796320" indent="-7963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roman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Expresión directa de sentimient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         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Declaraciones que comienzan con “yo”, y no con “usted”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99"/>
                </a:solidFill>
                <a:latin typeface="Garamond"/>
                <a:ea typeface="SimSun"/>
              </a:rPr>
              <a:t>VIII.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Dominio del Lenguaj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-7963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Auditivo - palabras relacionadas con sonid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-7963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Visual - palabras relacionadas con la visió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-7963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Sentimental - palabras relacionadas con  sentimient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09480" y="4533840"/>
          <a:ext cx="8077320" cy="21956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42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99"/>
                          </a:solidFill>
                          <a:latin typeface="Century Gothic"/>
                          <a:ea typeface="SimSun"/>
                        </a:rPr>
                        <a:t>VISU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99"/>
                          </a:solidFill>
                          <a:latin typeface="Century Gothic"/>
                          <a:ea typeface="SimSun"/>
                        </a:rPr>
                        <a:t>AUDITIV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99"/>
                          </a:solidFill>
                          <a:latin typeface="Century Gothic"/>
                          <a:ea typeface="SimSun"/>
                        </a:rPr>
                        <a:t>SENTIMEN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Detal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Cara a ca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Examin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Meticulos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Oy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Rui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Escuch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Suavid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Soni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Sua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To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Apret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Abraz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blan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19320" y="838080"/>
            <a:ext cx="70102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755640" indent="-75564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Garamond"/>
              <a:buAutoNum type="romanU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Garamond"/>
                <a:ea typeface="SimSun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  <a:ea typeface="SimSun"/>
              </a:rPr>
              <a:t>Escucha las histori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Conozco a  alguien que 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Historia evocada ..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Historia enseñad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Transferencia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Yo se lo que usted está sintiend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b9efee"/>
                </a:solidFill>
                <a:latin typeface="Garamond"/>
                <a:ea typeface="SimSun"/>
              </a:rPr>
              <a:t>X.</a:t>
            </a:r>
            <a:r>
              <a:rPr b="1" lang="pt-BR" sz="4800" spc="-1" strike="noStrike">
                <a:solidFill>
                  <a:srgbClr val="b9efee"/>
                </a:solidFill>
                <a:latin typeface="Garamond"/>
                <a:ea typeface="SimSun"/>
              </a:rPr>
              <a:t>	</a:t>
            </a:r>
            <a:r>
              <a:rPr b="1" lang="es-ES" sz="4800" spc="-1" strike="noStrike">
                <a:solidFill>
                  <a:srgbClr val="b9efee"/>
                </a:solidFill>
                <a:latin typeface="Garamond"/>
                <a:ea typeface="SimSun"/>
              </a:rPr>
              <a:t>Mandamientos del Buen oidor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2924280" cy="4334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1T19:36:02Z</dcterms:created>
  <dc:creator>Dan &amp; Lynnetta Hamstra</dc:creator>
  <dc:description/>
  <dc:language>en-US</dc:language>
  <cp:lastModifiedBy>Sede Administrativa</cp:lastModifiedBy>
  <dcterms:modified xsi:type="dcterms:W3CDTF">2003-05-13T13:53:13Z</dcterms:modified>
  <cp:revision>52</cp:revision>
  <dc:subject/>
  <dc:title>Communication Skills</dc:title>
</cp:coreProperties>
</file>