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E13F-53D1-4E2B-ACE5-18CCB126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A9F-69DE-4217-B400-4A65DC50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FA95-4789-4499-9601-1218307F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4F5C-5807-42FE-80F0-4C5CCDC0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7CA7-3BDC-4428-875A-591D1CEA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EB65-1C7F-4643-9C62-38E429B6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7281-6E9A-4DFB-B109-73567DA0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3FF9-378A-4534-BBF9-54FE173E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7FB2-58DC-4E99-B46D-564DCF12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B8F6-887F-438E-9208-F0CD04E1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67F8-84C2-4D8F-935E-94680A60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8C1-877E-4E1D-88B2-A9A9A429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AFF6-2474-402B-A45B-D6032645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FBC6-4926-47B8-8B51-B9DB6B44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FCDC-A169-42DD-B582-7DD8E954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61A0-7B12-46B8-A247-59F8025E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401E-EC73-4927-9902-29D0BF26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B4F-E160-48EB-9341-4785625E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BE9-A4C0-4416-9DC7-3FDCB2A2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05A-E02D-436A-987B-12D987B5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2E6-CF0D-4C26-82AE-D9A45D0C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923-54C3-45FE-9BAD-566D00C3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FF0-DB07-43BC-BCE7-BBFC544C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4457-55CA-4B4B-9431-F047FF61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4C04-C683-4EE3-8AAE-B2DCAE19E85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E4FD-43D4-4D70-9D17-6ABF32A11DC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Técnicas de</a:t>
            </a:r>
            <a:br>
              <a:rPr sz="6600"/>
            </a:b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Comunicación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5638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urso de Liderazgo – Nivel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ff99"/>
                </a:solidFill>
                <a:latin typeface="Garamond"/>
              </a:rPr>
              <a:t>Los cuatro encuentros de Jesú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La mujer junto al pozo (Juan 4:4-26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El  joven rico (Lucas 18:18-25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Zaqueo (Lucas 29:1-9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Nicodemo, cuand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buscó a  Jesús de noch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(Juan 3:1-15).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76560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9efee"/>
                </a:solidFill>
                <a:latin typeface="Century Gothic"/>
                <a:ea typeface="SimSun"/>
              </a:rPr>
              <a:t>PRINCIPIOS PARA ENTENDER Y USAR LA INFORMACIÓN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.   El “tiempo de demora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I.  Congruencia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II. Brecha interpersonal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V. Lenguaje corpor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FRANQUE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ACTITUD DEFENSIV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DESCONFIAN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INSEGURIDA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COOPER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CONFIAN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NERVIOSISMO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FRUSTR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V.   Esté atenta al pedido de auxili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30258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VI.</a:t>
            </a: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	</a:t>
            </a: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Técnicas específicas para oí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476080"/>
            <a:ext cx="80769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aramond"/>
                <a:ea typeface="SimSun"/>
              </a:rPr>
              <a:t>1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aga la pregunta correct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2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No haga preguntas indiscreta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3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No tenga temor del silenci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9560" y="3733920"/>
            <a:ext cx="25844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Compruebe los sentimient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410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L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4244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RI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288144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28828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33720" y="5181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RI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181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EMER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766960" cy="3505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20720" y="1600200"/>
            <a:ext cx="27608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Expresión directa de sentimien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Declaraciones que comienzan con “yo”, y no con “usted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99"/>
                </a:solidFill>
                <a:latin typeface="Garamond"/>
                <a:ea typeface="SimSun"/>
              </a:rPr>
              <a:t>VIII.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Dominio del Lengua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Auditivo - palabras relacionadas con soni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Visual - palabras relacionadas con la vis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Sentimental - palabras relacionadas con  sentimien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4533840"/>
          <a:ext cx="8077320" cy="21956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VIS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AUDIT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SENTIMEN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Deta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Cara a ca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Examin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Meticulos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Oy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Rui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Escuch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uav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on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ua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To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Apret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Abraz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blan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838080"/>
            <a:ext cx="70102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755640" indent="-75564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Garamond"/>
              <a:buAutoNum type="romanU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  <a:ea typeface="SimSun"/>
              </a:rPr>
              <a:t>Escucha las histori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Conozco a  alguien que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istoria evocada ..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istoria enseñad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Transferenci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Yo se lo que usted está sintiend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b9efee"/>
                </a:solidFill>
                <a:latin typeface="Garamond"/>
                <a:ea typeface="SimSun"/>
              </a:rPr>
              <a:t>X.</a:t>
            </a:r>
            <a:r>
              <a:rPr b="1" lang="pt-BR" sz="4800" spc="-1" strike="noStrike">
                <a:solidFill>
                  <a:srgbClr val="b9efee"/>
                </a:solidFill>
                <a:latin typeface="Garamond"/>
                <a:ea typeface="SimSun"/>
              </a:rPr>
              <a:t>	</a:t>
            </a:r>
            <a:r>
              <a:rPr b="1" lang="es-ES" sz="4800" spc="-1" strike="noStrike">
                <a:solidFill>
                  <a:srgbClr val="b9efee"/>
                </a:solidFill>
                <a:latin typeface="Garamond"/>
                <a:ea typeface="SimSun"/>
              </a:rPr>
              <a:t>Mandamientos del Buen oidor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2924280" cy="4334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9:36:02Z</dcterms:created>
  <dc:creator>Dan &amp; Lynnetta Hamstra</dc:creator>
  <dc:description/>
  <dc:language>en-US</dc:language>
  <cp:lastModifiedBy>Sede Administrativa</cp:lastModifiedBy>
  <dcterms:modified xsi:type="dcterms:W3CDTF">2003-05-13T13:53:13Z</dcterms:modified>
  <cp:revision>52</cp:revision>
  <dc:subject/>
  <dc:title>Communication Skills</dc:title>
</cp:coreProperties>
</file>