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31B2-5F7E-44C0-8C5C-FEF3DA98F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9284-6E12-4CCB-923D-27EF8ED61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F5F2-EF3F-4BEA-AF75-2E6756640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2BE7-A5F1-4E37-8CB0-076323CB9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D8F83-EBAD-4857-BDD3-6082C83CE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6D93C-ABA5-4AA2-AC8A-3BFA2047D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0C48A-2963-448B-AFD1-9D6593250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FC7C0-80DB-469B-BA98-6399E03A7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4E5E2-74FB-44E4-A115-0F309D19C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4721F-8559-4243-8CD6-266809F45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F38FB-6A65-42D5-B3E6-19788D9F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5291-A614-4061-B683-F966BE616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F811B-A122-4E7B-8918-46D96292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9C431-8131-47B9-AC7F-6132B4A5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807ED-97B4-48A7-91F3-2030CF2B6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BF38D-895E-47A0-86E7-E127B7820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A60E4-132C-4E26-89D0-001968C24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12E7-DBA4-47D2-9F10-B1D4D9C5E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B19E-3FD9-4B82-BCD7-BA21A5AE2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8574-E713-4DB3-82CB-A0D88B8D1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D3DC-97F0-4AB6-AEB9-5E934B6D3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2368-C423-484F-A184-2089BA54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3FD4-1E1D-418E-91AD-76415308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6377-3F90-4632-AD70-82C9F8A5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5194E-FCE4-471B-8FE4-6458BED167D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4C606-2D68-4903-818D-5275D8C6CB4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e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0769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ff"/>
                </a:solidFill>
                <a:latin typeface="Garamond"/>
              </a:rPr>
              <a:t>Técnicas de</a:t>
            </a:r>
            <a:br>
              <a:rPr sz="6600"/>
            </a:br>
            <a:r>
              <a:rPr b="1" lang="es-ES" sz="6600" spc="-1" strike="noStrike">
                <a:solidFill>
                  <a:srgbClr val="ffffff"/>
                </a:solidFill>
                <a:latin typeface="Garamond"/>
              </a:rPr>
              <a:t>Comunicación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56386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Curso de Liderazgo – Nivel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e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ff99"/>
                </a:solidFill>
                <a:latin typeface="Garamond"/>
              </a:rPr>
              <a:t>Los cuatro encuentros de Jesús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7315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La mujer junto al pozo (Juan 4:4-26)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El  joven rico (Lucas 18:18-25)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Zaqueo (Lucas 29:1-9)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Nicodemo, cuando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      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buscó a  Jesús de noch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      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(Juan 3:1-15).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952880" y="2438280"/>
            <a:ext cx="3765600" cy="42674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e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b9efee"/>
                </a:solidFill>
                <a:latin typeface="Century Gothic"/>
                <a:ea typeface="SimSun"/>
              </a:rPr>
              <a:t>PRINCIPIOS PARA ENTENDER Y USAR LA INFORMACIÓN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6781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604440" indent="-604440">
              <a:lnSpc>
                <a:spcPct val="100000"/>
              </a:lnSpc>
              <a:spcBef>
                <a:spcPts val="499"/>
              </a:spcBef>
              <a:buClr>
                <a:srgbClr val="00ff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entury Gothic"/>
                <a:ea typeface="SimSun"/>
              </a:rPr>
              <a:t>I.   El “tiempo de demora”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4440" indent="-604440">
              <a:lnSpc>
                <a:spcPct val="100000"/>
              </a:lnSpc>
              <a:spcBef>
                <a:spcPts val="499"/>
              </a:spcBef>
              <a:buClr>
                <a:srgbClr val="00ff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entury Gothic"/>
                <a:ea typeface="SimSun"/>
              </a:rPr>
              <a:t>II.  Congruencia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4440" indent="-604440">
              <a:lnSpc>
                <a:spcPct val="100000"/>
              </a:lnSpc>
              <a:spcBef>
                <a:spcPts val="499"/>
              </a:spcBef>
              <a:buClr>
                <a:srgbClr val="00ff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entury Gothic"/>
                <a:ea typeface="SimSun"/>
              </a:rPr>
              <a:t>III. Brecha interpersonal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4440" indent="-604440">
              <a:lnSpc>
                <a:spcPct val="100000"/>
              </a:lnSpc>
              <a:spcBef>
                <a:spcPts val="499"/>
              </a:spcBef>
              <a:buClr>
                <a:srgbClr val="00ff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entury Gothic"/>
                <a:ea typeface="SimSun"/>
              </a:rPr>
              <a:t>IV. Lenguaje corpora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208880" indent="-431640">
              <a:lnSpc>
                <a:spcPct val="100000"/>
              </a:lnSpc>
              <a:spcBef>
                <a:spcPts val="400"/>
              </a:spcBef>
              <a:buClr>
                <a:srgbClr val="b9efee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entury Gothic"/>
                <a:ea typeface="SimSun"/>
              </a:rPr>
              <a:t>FRANQUEZA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1208880" indent="-431640">
              <a:lnSpc>
                <a:spcPct val="100000"/>
              </a:lnSpc>
              <a:spcBef>
                <a:spcPts val="400"/>
              </a:spcBef>
              <a:buClr>
                <a:srgbClr val="b9efee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entury Gothic"/>
                <a:ea typeface="SimSun"/>
              </a:rPr>
              <a:t>ACTITUD DEFENSIVA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1208880" indent="-431640">
              <a:lnSpc>
                <a:spcPct val="100000"/>
              </a:lnSpc>
              <a:spcBef>
                <a:spcPts val="400"/>
              </a:spcBef>
              <a:buClr>
                <a:srgbClr val="b9efee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entury Gothic"/>
                <a:ea typeface="SimSun"/>
              </a:rPr>
              <a:t>EVALUACIÓN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1208880" indent="-431640">
              <a:lnSpc>
                <a:spcPct val="100000"/>
              </a:lnSpc>
              <a:spcBef>
                <a:spcPts val="400"/>
              </a:spcBef>
              <a:buClr>
                <a:srgbClr val="b9efee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entury Gothic"/>
                <a:ea typeface="SimSun"/>
              </a:rPr>
              <a:t>DESCONFIANZA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1208880" indent="-431640">
              <a:lnSpc>
                <a:spcPct val="100000"/>
              </a:lnSpc>
              <a:spcBef>
                <a:spcPts val="400"/>
              </a:spcBef>
              <a:buClr>
                <a:srgbClr val="b9efee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entury Gothic"/>
                <a:ea typeface="SimSun"/>
              </a:rPr>
              <a:t>INSEGURIDAD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1208880" indent="-431640">
              <a:lnSpc>
                <a:spcPct val="100000"/>
              </a:lnSpc>
              <a:spcBef>
                <a:spcPts val="400"/>
              </a:spcBef>
              <a:buClr>
                <a:srgbClr val="b9efee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entury Gothic"/>
                <a:ea typeface="SimSun"/>
              </a:rPr>
              <a:t>COOPERACIÓN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1208880" indent="-431640">
              <a:lnSpc>
                <a:spcPct val="100000"/>
              </a:lnSpc>
              <a:spcBef>
                <a:spcPts val="400"/>
              </a:spcBef>
              <a:buClr>
                <a:srgbClr val="b9efee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entury Gothic"/>
                <a:ea typeface="SimSun"/>
              </a:rPr>
              <a:t>CONFIANZA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1208880" indent="-431640">
              <a:lnSpc>
                <a:spcPct val="100000"/>
              </a:lnSpc>
              <a:spcBef>
                <a:spcPts val="400"/>
              </a:spcBef>
              <a:buClr>
                <a:srgbClr val="b9efee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entury Gothic"/>
                <a:ea typeface="SimSun"/>
              </a:rPr>
              <a:t>NERVIOSISMO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1208880" indent="-431640">
              <a:lnSpc>
                <a:spcPct val="100000"/>
              </a:lnSpc>
              <a:spcBef>
                <a:spcPts val="400"/>
              </a:spcBef>
              <a:buClr>
                <a:srgbClr val="b9efee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entury Gothic"/>
                <a:ea typeface="SimSun"/>
              </a:rPr>
              <a:t>FRUSTRACIÓN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4440" indent="-604440">
              <a:lnSpc>
                <a:spcPct val="100000"/>
              </a:lnSpc>
              <a:spcBef>
                <a:spcPts val="499"/>
              </a:spcBef>
              <a:buClr>
                <a:srgbClr val="00ff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entury Gothic"/>
                <a:ea typeface="SimSun"/>
              </a:rPr>
              <a:t>V.   Esté atenta al pedido de auxilio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638680" y="2362320"/>
            <a:ext cx="3025800" cy="31240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e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 anchorCtr="1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b9efee"/>
                </a:solidFill>
                <a:latin typeface="Garamond"/>
                <a:ea typeface="SimSun"/>
              </a:rPr>
              <a:t>VI.</a:t>
            </a:r>
            <a:r>
              <a:rPr b="1" lang="pt-BR" sz="4400" spc="-1" strike="noStrike">
                <a:solidFill>
                  <a:srgbClr val="b9efee"/>
                </a:solidFill>
                <a:latin typeface="Garamond"/>
                <a:ea typeface="SimSun"/>
              </a:rPr>
              <a:t>	</a:t>
            </a:r>
            <a:r>
              <a:rPr b="1" lang="pt-BR" sz="4400" spc="-1" strike="noStrike">
                <a:solidFill>
                  <a:srgbClr val="b9efee"/>
                </a:solidFill>
                <a:latin typeface="Garamond"/>
                <a:ea typeface="SimSun"/>
              </a:rPr>
              <a:t>Técnicas específicas para oír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2476080"/>
            <a:ext cx="807696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Garamond"/>
                <a:ea typeface="SimSun"/>
              </a:rPr>
              <a:t>1.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	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Haga la pregunta correct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2.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	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No haga preguntas indiscreta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3.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	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No tenga temor del silenci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9560" y="3733920"/>
            <a:ext cx="2584440" cy="27432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Garamond"/>
              </a:rPr>
              <a:t>Compruebe los sentimiento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"/>
          <p:cNvSpPr/>
          <p:nvPr/>
        </p:nvSpPr>
        <p:spPr>
          <a:xfrm>
            <a:off x="2057400" y="54100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ELI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95880" y="54244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RIS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257800" y="1676520"/>
            <a:ext cx="2881440" cy="36576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295280" y="1676520"/>
            <a:ext cx="288288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e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133720" y="51814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URIO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1320" y="51814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EMERO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334120" y="1523880"/>
            <a:ext cx="2766960" cy="35053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620720" y="1600200"/>
            <a:ext cx="2760840" cy="350532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e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796320" indent="-79632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romanU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Expresión directa de sentimient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96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          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Declaraciones que comienzan con “yo”, y no con “usted”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96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96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ff99"/>
                </a:solidFill>
                <a:latin typeface="Garamond"/>
                <a:ea typeface="SimSun"/>
              </a:rPr>
              <a:t>VIII.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Dominio del Lenguaj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96320" indent="-79632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Auditivo - palabras relacionadas con sonido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96320" indent="-79632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Visual - palabras relacionadas con la visió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96320" indent="-79632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  <a:ea typeface="SimSun"/>
              </a:rPr>
              <a:t>Sentimental - palabras relacionadas con  sentimiento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09480" y="4533840"/>
          <a:ext cx="8077320" cy="219564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42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99"/>
                          </a:solidFill>
                          <a:latin typeface="Century Gothic"/>
                          <a:ea typeface="SimSun"/>
                        </a:rPr>
                        <a:t>VISU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99"/>
                          </a:solidFill>
                          <a:latin typeface="Century Gothic"/>
                          <a:ea typeface="SimSun"/>
                        </a:rPr>
                        <a:t>AUDITIV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99"/>
                          </a:solidFill>
                          <a:latin typeface="Century Gothic"/>
                          <a:ea typeface="SimSun"/>
                        </a:rPr>
                        <a:t>SENTIMEN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0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Detall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Cara a car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Examina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Meticulos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Oy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Ruid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Escuch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Suavid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Sonid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Sua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To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Apreta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Abraza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1143000"/>
                          <a:tab algn="r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entury Gothic"/>
                          <a:ea typeface="SimSun"/>
                        </a:rPr>
                        <a:t>bland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219320" y="838080"/>
            <a:ext cx="701028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755640" indent="-755640">
              <a:lnSpc>
                <a:spcPct val="100000"/>
              </a:lnSpc>
              <a:spcBef>
                <a:spcPts val="1001"/>
              </a:spcBef>
              <a:buClr>
                <a:srgbClr val="00ff99"/>
              </a:buClr>
              <a:buFont typeface="Garamond"/>
              <a:buAutoNum type="romanU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Garamond"/>
                <a:ea typeface="SimSun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  <a:ea typeface="SimSun"/>
              </a:rPr>
              <a:t>Escucha las histori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55640" indent="-755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55640" indent="-755640">
              <a:lnSpc>
                <a:spcPct val="10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Conozco a  alguien que .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55640" indent="-755640">
              <a:lnSpc>
                <a:spcPct val="10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Historia evocada ..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55640" indent="-755640">
              <a:lnSpc>
                <a:spcPct val="10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Historia enseñad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55640" indent="-755640">
              <a:lnSpc>
                <a:spcPct val="10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Transferencia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55640" indent="-755640">
              <a:lnSpc>
                <a:spcPct val="10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  <a:ea typeface="SimSun"/>
              </a:rPr>
              <a:t>Yo se lo que usted está sintiend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e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 anchorCtr="1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b9efee"/>
                </a:solidFill>
                <a:latin typeface="Garamond"/>
                <a:ea typeface="SimSun"/>
              </a:rPr>
              <a:t>X.</a:t>
            </a:r>
            <a:r>
              <a:rPr b="1" lang="pt-BR" sz="4800" spc="-1" strike="noStrike">
                <a:solidFill>
                  <a:srgbClr val="b9efee"/>
                </a:solidFill>
                <a:latin typeface="Garamond"/>
                <a:ea typeface="SimSun"/>
              </a:rPr>
              <a:t>	</a:t>
            </a:r>
            <a:r>
              <a:rPr b="1" lang="es-ES" sz="4800" spc="-1" strike="noStrike">
                <a:solidFill>
                  <a:srgbClr val="b9efee"/>
                </a:solidFill>
                <a:latin typeface="Garamond"/>
                <a:ea typeface="SimSun"/>
              </a:rPr>
              <a:t>Mandamientos del Buen oidor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971800" y="1828800"/>
            <a:ext cx="2924280" cy="4334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1T19:36:02Z</dcterms:created>
  <dc:creator>Dan &amp; Lynnetta Hamstra</dc:creator>
  <dc:description/>
  <dc:language>en-US</dc:language>
  <cp:lastModifiedBy>Sede Administrativa</cp:lastModifiedBy>
  <dcterms:modified xsi:type="dcterms:W3CDTF">2003-05-13T13:53:13Z</dcterms:modified>
  <cp:revision>52</cp:revision>
  <dc:subject/>
  <dc:title>Communication Skills</dc:title>
</cp:coreProperties>
</file>