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B63-8A2E-4CFB-9730-8758C198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4644-32A3-40D8-A8F4-7647A1BB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5F1-78A9-428E-8EFD-5A6D36F8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358-BBCB-4F26-8786-98E1692B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2101-F6A2-4F35-812D-0EF4783F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43A0-4CDC-4B02-A869-7FDEC415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80FA-624E-4AA4-8035-815E9DF2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C806-CB12-4388-8FE5-C684BDE9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B3F0-DF42-482D-B282-7FE946F8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2049-789C-4AFE-A962-5D8C17D3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93F7-242F-4ED4-8E4E-A6C56A37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1971-3E9F-4395-8CCC-5F782E8F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FB83-647D-448F-87D4-14DCCBAB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7FAA-939A-4E61-B84C-6E0E7066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5B66-9E9E-48B3-8535-485DCD00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8BEE-38C4-4951-95C3-5F6F4CBF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FE29-01AC-4B26-A5F8-F1D8965F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3546-63C1-4C1A-B23F-A7E6AA70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064-B8EF-4BB1-A424-499CA208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958-CDEB-4D89-932F-41FAB690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A57-0207-4F30-A9FE-9EFDCD68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0FA-1806-435B-8872-44DB96F6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A194-FB4F-49F1-8C1F-E00823F3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73A-E0FB-4B90-AC1E-8413EFF9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484A-9BB4-4B24-95A2-DF03453636E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0FA5-38EE-403E-8889-595A14F065D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Técnicas de</a:t>
            </a:r>
            <a:br>
              <a:rPr sz="6600"/>
            </a:b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Comunicación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5638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Curso de Liderazgo – Nivel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ff99"/>
                </a:solidFill>
                <a:latin typeface="Garamond"/>
              </a:rPr>
              <a:t>Los cuatro encuentros de Jesú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La mujer junto al pozo (Juan 4:4-26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El  joven rico (Lucas 18:18-25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Zaqueo (Lucas 29:1-9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Nicodemo, cuand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buscó a  Jesús de noch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(Juan 3:1-15).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76560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9efee"/>
                </a:solidFill>
                <a:latin typeface="Century Gothic"/>
                <a:ea typeface="SimSun"/>
              </a:rPr>
              <a:t>PRINCIPIOS PARA ENTENDER Y USAR LA INFORMACIÓN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.   El “tiempo de demora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I.  Congruencia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II. Brecha interpersonal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V. Lenguaje corpor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FRANQUE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ACTITUD DEFENSIV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DESCONFIAN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INSEGURIDA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COOPER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CONFIAN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NERVIOSISMO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FRUSTR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V.   Esté atenta al pedido de auxili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30258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VI.</a:t>
            </a: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	</a:t>
            </a: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Técnicas específicas para oí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476080"/>
            <a:ext cx="807696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aramond"/>
                <a:ea typeface="SimSun"/>
              </a:rPr>
              <a:t>1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aga la pregunta correct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2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No haga preguntas indiscreta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3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No tenga temor del silenci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9560" y="3733920"/>
            <a:ext cx="258444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Compruebe los sentimient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410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ELI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54244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RI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2881440" cy="3657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28828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33720" y="5181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RI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5181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EMER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766960" cy="3505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20720" y="1600200"/>
            <a:ext cx="27608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Expresión directa de sentimient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Declaraciones que comienzan con “yo”, y no con “usted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99"/>
                </a:solidFill>
                <a:latin typeface="Garamond"/>
                <a:ea typeface="SimSun"/>
              </a:rPr>
              <a:t>VIII.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Dominio del Lengua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Auditivo - palabras relacionadas con soni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Visual - palabras relacionadas con la vis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Sentimental - palabras relacionadas con  sentimien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4533840"/>
          <a:ext cx="8077320" cy="21956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VIS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AUDIT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SENTIMEN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Deta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Cara a ca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Examin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Meticulos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Oy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Rui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Escuch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uav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oni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ua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To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Apret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Abraz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blan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9320" y="838080"/>
            <a:ext cx="70102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755640" indent="-75564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Garamond"/>
              <a:buAutoNum type="romanU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  <a:ea typeface="SimSun"/>
              </a:rPr>
              <a:t>Escucha las histori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Conozco a  alguien que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istoria evocada ..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istoria enseñad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Transferenci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Yo se lo que usted está sintiend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b9efee"/>
                </a:solidFill>
                <a:latin typeface="Garamond"/>
                <a:ea typeface="SimSun"/>
              </a:rPr>
              <a:t>X.</a:t>
            </a:r>
            <a:r>
              <a:rPr b="1" lang="pt-BR" sz="4800" spc="-1" strike="noStrike">
                <a:solidFill>
                  <a:srgbClr val="b9efee"/>
                </a:solidFill>
                <a:latin typeface="Garamond"/>
                <a:ea typeface="SimSun"/>
              </a:rPr>
              <a:t>	</a:t>
            </a:r>
            <a:r>
              <a:rPr b="1" lang="es-ES" sz="4800" spc="-1" strike="noStrike">
                <a:solidFill>
                  <a:srgbClr val="b9efee"/>
                </a:solidFill>
                <a:latin typeface="Garamond"/>
                <a:ea typeface="SimSun"/>
              </a:rPr>
              <a:t>Mandamientos del Buen oidor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2924280" cy="4334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9:36:02Z</dcterms:created>
  <dc:creator>Dan &amp; Lynnetta Hamstra</dc:creator>
  <dc:description/>
  <dc:language>en-US</dc:language>
  <cp:lastModifiedBy>Sede Administrativa</cp:lastModifiedBy>
  <dcterms:modified xsi:type="dcterms:W3CDTF">2003-05-13T13:53:13Z</dcterms:modified>
  <cp:revision>52</cp:revision>
  <dc:subject/>
  <dc:title>Communication Skills</dc:title>
</cp:coreProperties>
</file>