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AB2D-C4BD-491C-AB58-6A726C2F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B8C5-AC51-4B17-95B8-CD3BA463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FFF5-35E3-4229-BAD0-AD3C9FDE2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CAE7-B4C2-4E7B-9F89-E438A0D8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F153-CC67-4271-B730-4CF4DCB6B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8250-B0FD-4D77-8BBA-36D75099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A861-D782-400F-826C-42C5542F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7F63-0C4E-45F3-A71B-3D9518E7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FB56-5B20-484E-B497-AD9D8F06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D344-149D-4DBA-AA63-C241E814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7DE0-FB1E-4289-8922-3CED35E7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E601-1239-44E7-BE77-D399BB5E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2B60-D214-4D1F-869D-6CB86FD1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E7BE-A444-472C-B49A-D4BC970E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3E11-48F8-499D-A533-FD795182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D45D-14FC-4B9C-AF8B-12AF152CA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3684-992D-495F-ABF9-A00355ABD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6B87-46A9-4280-94CB-4CC09CEC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5C18-CC7A-40E1-9391-F923ED9A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8B67-FAF6-4A84-A539-DCC502C1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6D0C-5A73-47F4-8762-42B9C78D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E826-1358-427B-8CF1-0CF2DCE9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9A8B-8B79-44BF-8196-BC39829E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FF44-15AF-4773-A0F4-364AD23C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BA9F-C13D-4CFD-ACAF-785F7D0FD7F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DDA9-A412-4B28-8A2E-3B3FA6789FB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0769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Técnicas de</a:t>
            </a:r>
            <a:br>
              <a:rPr sz="6600"/>
            </a:b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Comunicación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56386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Curso de Liderazgo – Nivel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ff99"/>
                </a:solidFill>
                <a:latin typeface="Garamond"/>
              </a:rPr>
              <a:t>Los cuatro encuentros de Jesú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La mujer junto al pozo (Juan 4:4-26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El  joven rico (Lucas 18:18-25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Zaqueo (Lucas 29:1-9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Nicodemo, cuand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     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buscó a  Jesús de noch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     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(Juan 3:1-15).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952880" y="2438280"/>
            <a:ext cx="3765600" cy="4267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b9efee"/>
                </a:solidFill>
                <a:latin typeface="Century Gothic"/>
                <a:ea typeface="SimSun"/>
              </a:rPr>
              <a:t>PRINCIPIOS PARA ENTENDER Y USAR LA INFORMACIÓN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604440" indent="-60444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  <a:ea typeface="SimSun"/>
              </a:rPr>
              <a:t>I.   El “tiempo de demora”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4440" indent="-60444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  <a:ea typeface="SimSun"/>
              </a:rPr>
              <a:t>II.  Congruencia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4440" indent="-60444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  <a:ea typeface="SimSun"/>
              </a:rPr>
              <a:t>III. Brecha interpersonal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4440" indent="-60444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  <a:ea typeface="SimSun"/>
              </a:rPr>
              <a:t>IV. Lenguaje corpor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FRANQUEZ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ACTITUD DEFENSIV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EVALUACIÓ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DESCONFIANZ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INSEGURIDAD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COOPERACIÓ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CONFIANZ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NERVIOSISMO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FRUSTRACIÓ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4440" indent="-60444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  <a:ea typeface="SimSun"/>
              </a:rPr>
              <a:t>V.   Esté atenta al pedido de auxili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638680" y="2362320"/>
            <a:ext cx="302580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b9efee"/>
                </a:solidFill>
                <a:latin typeface="Garamond"/>
                <a:ea typeface="SimSun"/>
              </a:rPr>
              <a:t>VI.</a:t>
            </a:r>
            <a:r>
              <a:rPr b="1" lang="pt-BR" sz="4400" spc="-1" strike="noStrike">
                <a:solidFill>
                  <a:srgbClr val="b9efee"/>
                </a:solidFill>
                <a:latin typeface="Garamond"/>
                <a:ea typeface="SimSun"/>
              </a:rPr>
              <a:t>	</a:t>
            </a:r>
            <a:r>
              <a:rPr b="1" lang="pt-BR" sz="4400" spc="-1" strike="noStrike">
                <a:solidFill>
                  <a:srgbClr val="b9efee"/>
                </a:solidFill>
                <a:latin typeface="Garamond"/>
                <a:ea typeface="SimSun"/>
              </a:rPr>
              <a:t>Técnicas específicas para oí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2476080"/>
            <a:ext cx="807696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Garamond"/>
                <a:ea typeface="SimSun"/>
              </a:rPr>
              <a:t>1.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Haga la pregunta correct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2.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No haga preguntas indiscreta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3.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No tenga temor del silenci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9560" y="3733920"/>
            <a:ext cx="258444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Compruebe los sentimiento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54100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ELI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5880" y="54244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RI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2881440" cy="3657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288288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133720" y="5181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URIO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5181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EMERO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2766960" cy="3505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620720" y="1600200"/>
            <a:ext cx="276084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796320" indent="-7963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roman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Expresión directa de sentimient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         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Declaraciones que comienzan con “yo”, y no con “usted”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99"/>
                </a:solidFill>
                <a:latin typeface="Garamond"/>
                <a:ea typeface="SimSun"/>
              </a:rPr>
              <a:t>VIII.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Dominio del Lenguaj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-7963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Auditivo - palabras relacionadas con sonid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-7963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Visual - palabras relacionadas con la visió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-7963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Sentimental - palabras relacionadas con  sentimient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09480" y="4533840"/>
          <a:ext cx="8077320" cy="21956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42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99"/>
                          </a:solidFill>
                          <a:latin typeface="Century Gothic"/>
                          <a:ea typeface="SimSun"/>
                        </a:rPr>
                        <a:t>VISU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99"/>
                          </a:solidFill>
                          <a:latin typeface="Century Gothic"/>
                          <a:ea typeface="SimSun"/>
                        </a:rPr>
                        <a:t>AUDITIV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99"/>
                          </a:solidFill>
                          <a:latin typeface="Century Gothic"/>
                          <a:ea typeface="SimSun"/>
                        </a:rPr>
                        <a:t>SENTIMEN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Detal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Cara a ca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Examin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Meticulos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Oy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Rui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Escuch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Suavid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Soni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Sua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To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Apret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Abraz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blan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19320" y="838080"/>
            <a:ext cx="70102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755640" indent="-75564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Garamond"/>
              <a:buAutoNum type="romanU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Garamond"/>
                <a:ea typeface="SimSun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  <a:ea typeface="SimSun"/>
              </a:rPr>
              <a:t>Escucha las histori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Conozco a  alguien que 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Historia evocada ..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Historia enseñad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Transferencia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Yo se lo que usted está sintiend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b9efee"/>
                </a:solidFill>
                <a:latin typeface="Garamond"/>
                <a:ea typeface="SimSun"/>
              </a:rPr>
              <a:t>X.</a:t>
            </a:r>
            <a:r>
              <a:rPr b="1" lang="pt-BR" sz="4800" spc="-1" strike="noStrike">
                <a:solidFill>
                  <a:srgbClr val="b9efee"/>
                </a:solidFill>
                <a:latin typeface="Garamond"/>
                <a:ea typeface="SimSun"/>
              </a:rPr>
              <a:t>	</a:t>
            </a:r>
            <a:r>
              <a:rPr b="1" lang="es-ES" sz="4800" spc="-1" strike="noStrike">
                <a:solidFill>
                  <a:srgbClr val="b9efee"/>
                </a:solidFill>
                <a:latin typeface="Garamond"/>
                <a:ea typeface="SimSun"/>
              </a:rPr>
              <a:t>Mandamientos del Buen oidor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2924280" cy="4334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1T19:36:02Z</dcterms:created>
  <dc:creator>Dan &amp; Lynnetta Hamstra</dc:creator>
  <dc:description/>
  <dc:language>en-US</dc:language>
  <cp:lastModifiedBy>Sede Administrativa</cp:lastModifiedBy>
  <dcterms:modified xsi:type="dcterms:W3CDTF">2003-05-13T13:53:13Z</dcterms:modified>
  <cp:revision>52</cp:revision>
  <dc:subject/>
  <dc:title>Communication Skills</dc:title>
</cp:coreProperties>
</file>