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EEF-397F-4EC9-85E6-8E6E6190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A9A-D39F-4721-878B-C1FA2F53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22E-B044-49BD-89CC-60279C37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BD4-113D-4AED-B051-E4B4A59B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015B-DE0F-4160-A760-3DC970FE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C4F8-640C-42DD-A1A9-F6FAC100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9A9E-662E-4E9B-8C81-16AFBF6E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8D15-5C59-491F-8DAE-5B5EBC32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7128-64E9-467E-99FA-ADABF783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FA4B-F6F6-4637-BB3E-EA434C5F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14C9-02F9-4A54-8E0E-C84321F9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B88-30FA-47AE-847F-0D497687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9EBD-A31F-434B-93C2-409A73CD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4B92-DFD0-4F77-8B99-6E73FC6B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E7B4-BB0D-4619-84D9-D880F221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D154-DE8F-49B5-83D6-864F99D8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111A-510A-438B-8BDD-5C60FBCD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7CD-AB97-4CF5-9C5F-6C40B86C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F0C9-ACAC-4066-ABDE-3DDC2489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0F5-B156-4804-8289-B7E26167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A96-FE47-4ED4-83B5-C58298EC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9D2-CBDD-4473-9CE1-4B1ABDF4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40F1-CD58-4FA1-8F12-7BAEC591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5E95-9522-44A3-B954-6307F2FD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1470-D0D9-47FC-9F03-097CA5D15B5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9025-AE8B-49AB-994A-4606C3610F0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Técnicas de</a:t>
            </a:r>
            <a:br>
              <a:rPr sz="6600"/>
            </a:b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Comunicación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5638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urso de Liderazgo – Nivel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ff99"/>
                </a:solidFill>
                <a:latin typeface="Garamond"/>
              </a:rPr>
              <a:t>Los cuatro encuentros de Jesú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La mujer junto al pozo (Juan 4:4-26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El  joven rico (Lucas 18:18-25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Zaqueo (Lucas 29:1-9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Nicodemo, cuand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buscó a  Jesús de noch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(Juan 3:1-15).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76560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9efee"/>
                </a:solidFill>
                <a:latin typeface="Century Gothic"/>
                <a:ea typeface="SimSun"/>
              </a:rPr>
              <a:t>PRINCIPIOS PARA ENTENDER Y USAR LA INFORMACIÓN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.   El “tiempo de demora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I.  Congruencia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II. Brecha interpersonal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V. Lenguaje corpor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FRANQUE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ACTITUD DEFENSIV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DESCONFIAN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INSEGURIDA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COOPER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CONFIAN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NERVIOSISMO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FRUSTR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V.   Esté atenta al pedido de auxili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30258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VI.</a:t>
            </a: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	</a:t>
            </a: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Técnicas específicas para oí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476080"/>
            <a:ext cx="80769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aramond"/>
                <a:ea typeface="SimSun"/>
              </a:rPr>
              <a:t>1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aga la pregunta correct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2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No haga preguntas indiscreta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3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No tenga temor del silenci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9560" y="3733920"/>
            <a:ext cx="25844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Compruebe los sentimient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410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L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4244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RI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288144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28828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33720" y="5181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RI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181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EMER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766960" cy="3505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20720" y="1600200"/>
            <a:ext cx="27608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Expresión directa de sentimien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Declaraciones que comienzan con “yo”, y no con “usted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99"/>
                </a:solidFill>
                <a:latin typeface="Garamond"/>
                <a:ea typeface="SimSun"/>
              </a:rPr>
              <a:t>VIII.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Dominio del Lengua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Auditivo - palabras relacionadas con soni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Visual - palabras relacionadas con la vis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Sentimental - palabras relacionadas con  sentimien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4533840"/>
          <a:ext cx="8077320" cy="21956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VIS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AUDIT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SENTIMEN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Deta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Cara a ca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Examin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Meticulos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Oy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Rui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Escuch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uav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on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ua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To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Apret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Abraz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blan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838080"/>
            <a:ext cx="70102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755640" indent="-75564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Garamond"/>
              <a:buAutoNum type="romanU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  <a:ea typeface="SimSun"/>
              </a:rPr>
              <a:t>Escucha las histori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Conozco a  alguien que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istoria evocada ..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istoria enseñad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Transferenci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Yo se lo que usted está sintiend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b9efee"/>
                </a:solidFill>
                <a:latin typeface="Garamond"/>
                <a:ea typeface="SimSun"/>
              </a:rPr>
              <a:t>X.</a:t>
            </a:r>
            <a:r>
              <a:rPr b="1" lang="pt-BR" sz="4800" spc="-1" strike="noStrike">
                <a:solidFill>
                  <a:srgbClr val="b9efee"/>
                </a:solidFill>
                <a:latin typeface="Garamond"/>
                <a:ea typeface="SimSun"/>
              </a:rPr>
              <a:t>	</a:t>
            </a:r>
            <a:r>
              <a:rPr b="1" lang="es-ES" sz="4800" spc="-1" strike="noStrike">
                <a:solidFill>
                  <a:srgbClr val="b9efee"/>
                </a:solidFill>
                <a:latin typeface="Garamond"/>
                <a:ea typeface="SimSun"/>
              </a:rPr>
              <a:t>Mandamientos del Buen oidor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2924280" cy="4334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9:36:02Z</dcterms:created>
  <dc:creator>Dan &amp; Lynnetta Hamstra</dc:creator>
  <dc:description/>
  <dc:language>en-US</dc:language>
  <cp:lastModifiedBy>Sede Administrativa</cp:lastModifiedBy>
  <dcterms:modified xsi:type="dcterms:W3CDTF">2003-05-13T13:53:13Z</dcterms:modified>
  <cp:revision>52</cp:revision>
  <dc:subject/>
  <dc:title>Communication Skills</dc:title>
</cp:coreProperties>
</file>