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8F3-3665-4BD8-8FB4-25DE1254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F9F-50E0-4C8B-AFA5-6F26CE4D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E34-BF93-4EA9-BBCF-63F89B0D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A99-048C-4D6B-BB89-F5EC4C0E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7AE0-34FA-4772-8357-B6BCAA8C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60E3-6FEE-40E2-9C2E-043F1AFF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64F3-ACE7-46AE-8D87-372A65E3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4A93-FBAF-4FAC-828D-611C5E9F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72DC-DDA8-46F7-BFB3-EA79069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AE9F-D9B8-4EE5-9E4A-75803B83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4CF4-C1B6-4D7E-BF90-3708146B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36A-071C-451C-AD35-CDD961BC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E17-B023-44BD-9074-EE75426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A10E-41E5-4C2C-BEEC-C146952F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793F-51E7-4343-9D15-D3623825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5936-EC5D-481C-95AB-9F604639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C24C-8BFC-4F88-9CBE-FEC06193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57A-3194-469A-8BCB-50D2B525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192-7B94-4B87-9136-A9BA6ADF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E79-389E-4863-A40B-751BA273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2D5-4A5B-4DE0-AB0A-6276C20E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4B1-9B51-4BED-A9DF-10C6EDD9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B72-21D9-4D9D-A214-1EB00F0B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761-60B5-4438-AFF7-C793D8EF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CB0B-5D21-4D6F-8FFF-4E9D7B7E431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A27A-84F6-49BA-B880-4746BBC0C2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Técnicas de</a:t>
            </a:r>
            <a:br>
              <a:rPr sz="6600"/>
            </a:b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Comunicació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rso de Liderazgo – Ni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ff99"/>
                </a:solidFill>
                <a:latin typeface="Garamond"/>
              </a:rPr>
              <a:t>Los cuatro encuentros de Jesú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La mujer junto al pozo (Juan 4:4-26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l  joven rico (Lucas 18:18-25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Zaqueo (Lucas 29:1-9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Nicodemo, cuan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buscó a  Jesús de n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(Juan 3:1-15)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65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entury Gothic"/>
                <a:ea typeface="SimSun"/>
              </a:rPr>
              <a:t>PRINCIPIOS PARA ENTENDER Y USAR LA INFORMACIÓ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.   El “tiempo de demora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.  Congrue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I. Brecha interperson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V. Lenguaje corpo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ANQUE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ACTITUD DEFENS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OPE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NERVIOSISM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UST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V.   Esté atenta al pedido de auxil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258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VI.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Técnicas específicas para oí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476080"/>
            <a:ext cx="80769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aramond"/>
                <a:ea typeface="SimSun"/>
              </a:rPr>
              <a:t>1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aga la pregunta correc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2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haga preguntas indiscreta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3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tenga temor del silenci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9560" y="3733920"/>
            <a:ext cx="2584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Compruebe los sentimient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410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24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814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882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3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R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ER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76696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20720" y="1600200"/>
            <a:ext cx="27608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xpresión directa de sentimie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laraciones que comienzan con “yo”, y no con “usted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99"/>
                </a:solidFill>
                <a:latin typeface="Garamond"/>
                <a:ea typeface="SimSun"/>
              </a:rPr>
              <a:t>VIII.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ominio del Lengua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Auditivo - palabras relacionadas con son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Visual - palabras relacionadas con la vi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Sentimental - palabras relacionadas con  sent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4533840"/>
          <a:ext cx="8077320" cy="21956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AUDI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SENTIM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Deta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xa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Meticulo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O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Rui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scu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o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To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pre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bra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blan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838080"/>
            <a:ext cx="7010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Garamond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  <a:ea typeface="SimSun"/>
              </a:rPr>
              <a:t>Escucha las histo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Conozco a  alguien que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vocada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nseñ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Transferenc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Yo se lo que usted está sintien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X.</a:t>
            </a: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es-ES" sz="4800" spc="-1" strike="noStrike">
                <a:solidFill>
                  <a:srgbClr val="b9efee"/>
                </a:solidFill>
                <a:latin typeface="Garamond"/>
                <a:ea typeface="SimSun"/>
              </a:rPr>
              <a:t>Mandamientos del Buen oido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2428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9:36:02Z</dcterms:created>
  <dc:creator>Dan &amp; Lynnetta Hamstra</dc:creator>
  <dc:description/>
  <dc:language>en-US</dc:language>
  <cp:lastModifiedBy>Sede Administrativa</cp:lastModifiedBy>
  <dcterms:modified xsi:type="dcterms:W3CDTF">2003-05-13T13:53:13Z</dcterms:modified>
  <cp:revision>52</cp:revision>
  <dc:subject/>
  <dc:title>Communication Skills</dc:title>
</cp:coreProperties>
</file>