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510-D174-444C-AB2B-BBE86078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FA7-32F7-4514-9040-5188608F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374-2F3F-4372-B4F1-B3B28261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E49-C488-4FE5-8013-769058E2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44E-5BB4-4399-BE73-B6244B6C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1AF-F414-46E9-AFCE-A2D0A63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104-0F9F-49AD-9102-41A7486D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CA5-7565-4FAD-B942-6C949E0D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CD8-5606-444D-A2C7-7EE1C798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ED6-D4F4-4C5C-B795-17FC5532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594-6C1F-478D-8238-5978DCA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99F-DC68-4C99-9D2C-9397DCC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D0C0-D473-43DE-AADC-ADD658F74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0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losofía de los Ministerios de la Mujer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1:35Z</dcterms:modified>
  <cp:revision>3</cp:revision>
  <dc:subject/>
  <dc:title>Slide 1</dc:title>
</cp:coreProperties>
</file>