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14B-C4AA-4442-B8E3-5C74F6E1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307-EFB8-48FE-8180-3C2468BA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5A0-85F3-41F8-A49E-B5B18278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73E-1604-4DBA-B91D-FB276118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BA9-569A-40E0-836C-3FAC19D2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E20-4ED4-4D5A-86FC-4839A4DE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29A-6869-4538-A64D-4AECA63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1FF-B8CE-4C05-8BB9-83BDD6EF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492-394D-4221-A1DC-756CFD13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702-096B-494B-B8F7-D08E01C9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050-89C3-4502-A5A7-013EA7F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92D-C08F-4780-9C3E-3A8939A0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606C-15B1-4FBD-BB3E-281BDB836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0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losofía de los Ministerios de la Mujer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1:35Z</dcterms:modified>
  <cp:revision>3</cp:revision>
  <dc:subject/>
  <dc:title>Slide 1</dc:title>
</cp:coreProperties>
</file>