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1301EB7-8556-40FC-AA49-F14EE93B7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GLAMENTOS, DECLARACIÓN DE MISIÓN Y OTROS DOCUMEN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ntes de mirar las posibilidades para el ministerio, miremos rápidamente los reglamentos, declaración de misión y otros documentos que nos pueden dar una gu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o tomaremos el tiempo de leer cada uno en detalle ahora, pero los tienen en su paquete y deberían leerlos y familiarizarse con ellos. [Presentador: algunas de las secciones más importantes que debes mencionar están subray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entury Gothic"/>
                <a:ea typeface="Arial"/>
              </a:rPr>
              <a:t>Reglamentos de trabajo de la Asociación General 2003-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los </a:t>
            </a:r>
            <a:r>
              <a:rPr b="0" lang="es-ES" sz="1200" spc="-1" strike="noStrike">
                <a:solidFill>
                  <a:srgbClr val="000000"/>
                </a:solidFill>
                <a:latin typeface="Century Gothic"/>
                <a:ea typeface="Arial"/>
              </a:rPr>
              <a:t>Reglamentos de trabajo de la Asociación General 2003-2004</a:t>
            </a:r>
            <a:r>
              <a:rPr b="0" lang="es-E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05 Filosofía</a:t>
            </a:r>
            <a:r>
              <a:rPr b="1"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ver PowerPoint)</a:t>
            </a:r>
            <a:br>
              <a:rPr sz="1200"/>
            </a:b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El Señor tiene una obra tanto para las mujeres como para los hombres. Las mujeres pueden ocupar su lugar en la Obra de Dios en esta crisis, y él obrará por medio de ellas... Las mujeres pueden hacer dentro de las familias una obra que los hombres no pueden hacer, una obra que puede penetrar hasta la intimidad de la vida. Las mujeres pueden llegar más cerca de los corazones de aquellas personas a las cuales los hombres no pueden llegar. Se necesita su obra” (</a:t>
            </a:r>
            <a:r>
              <a:rPr b="0" i="1" lang="es-ES" sz="1200" spc="-1" strike="noStrike">
                <a:solidFill>
                  <a:srgbClr val="000000"/>
                </a:solidFill>
                <a:latin typeface="Century Gothic"/>
                <a:ea typeface="Times New Roman"/>
              </a:rPr>
              <a:t>El ministerio de la bondad</a:t>
            </a:r>
            <a:r>
              <a:rPr b="0" lang="es-ES" sz="1200" spc="-1" strike="noStrike">
                <a:solidFill>
                  <a:srgbClr val="000000"/>
                </a:solidFill>
                <a:latin typeface="Century Gothic"/>
                <a:ea typeface="Times New Roman"/>
              </a:rPr>
              <a:t>, p. 15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10 Propósito</a:t>
            </a:r>
            <a:br>
              <a:rPr sz="1200"/>
            </a:br>
            <a:r>
              <a:rPr b="0" lang="es-ES" sz="1200" spc="-1" strike="noStrike" u="sng">
                <a:solidFill>
                  <a:srgbClr val="000000"/>
                </a:solidFill>
                <a:uFillTx/>
                <a:latin typeface="Century Gothic"/>
                <a:ea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Podemos hacer una gran obra para Dios si queremos. La mujer no conoce su poder... Hay un propósito más elevado para la mujer, un destino más grandioso. Debe desarrollar y cultivar sus facultades, para que Dios pueda emplearlas en la gran obra de salvar a las personas de la ruina eterna” (</a:t>
            </a:r>
            <a:r>
              <a:rPr b="0" i="1" lang="es-ES" sz="1200" spc="-1" strike="noStrike">
                <a:solidFill>
                  <a:srgbClr val="000000"/>
                </a:solidFill>
                <a:latin typeface="Century Gothic"/>
                <a:ea typeface="Times New Roman"/>
              </a:rPr>
              <a:t>Joyas de los testimonios</a:t>
            </a:r>
            <a:r>
              <a:rPr b="0" lang="es-ES" sz="1200" spc="-1" strike="noStrike">
                <a:solidFill>
                  <a:srgbClr val="000000"/>
                </a:solidFill>
                <a:latin typeface="Century Gothic"/>
                <a:ea typeface="Times New Roman"/>
              </a:rPr>
              <a:t>, t. 1, p. 59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Arial"/>
              </a:rPr>
              <a:t>El departamento de Ministerios de la Mujer enfocará los siguientes seis asuntos críticos identificados como barreras que impiden a las mujeres alcanzar su pleno potencial: analfabetismo, pobreza, riesgos de salud, abuso, carga excesiva de trabajo, malas condiciones de trabajo y la necesidad de entrenamiento y seguimiento para una mayor participación en la misión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Times New Roman"/>
              </a:rPr>
              <a:t>F</a:t>
            </a:r>
            <a:r>
              <a:rPr b="1" lang="es-ES" sz="1200" spc="-1" strike="noStrike">
                <a:solidFill>
                  <a:srgbClr val="000000"/>
                </a:solidFill>
                <a:latin typeface="Century Gothic"/>
                <a:ea typeface="Times New Roman"/>
              </a:rPr>
              <a:t>W 15</a:t>
            </a:r>
            <a:r>
              <a:rPr b="1" lang="es-ES" sz="1200" spc="-1" strike="noStrike">
                <a:solidFill>
                  <a:srgbClr val="535353"/>
                </a:solidFill>
                <a:latin typeface="Century Gothic"/>
                <a:ea typeface="Times New Roman"/>
              </a:rPr>
              <a:t> </a:t>
            </a:r>
            <a:r>
              <a:rPr b="1" lang="es-ES" sz="1200" spc="-1" strike="noStrike">
                <a:solidFill>
                  <a:srgbClr val="000000"/>
                </a:solidFill>
                <a:latin typeface="Century Gothic"/>
                <a:ea typeface="Times New Roman"/>
              </a:rPr>
              <a:t>Objetivos</a:t>
            </a:r>
            <a:br>
              <a:rPr sz="1200"/>
            </a:br>
            <a:r>
              <a:rPr b="0" lang="es-ES" sz="1200" spc="-1" strike="noStrike">
                <a:solidFill>
                  <a:srgbClr val="000000"/>
                </a:solidFill>
                <a:latin typeface="Century Gothic"/>
                <a:ea typeface="Times New Roman"/>
              </a:rPr>
              <a:t>Con el fin de cumplir el propósito del departamento de Ministerios de la Mujer se han identificado ocho objetivos que las mujeres pueden utilizar para compartir las buenas nuevas con sus familiares, sus hermanos de iglesia, y expandir, incluso, los círculos de su influencia al mundo no salvad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Arial"/>
              </a:rPr>
              <a:t>FW 15 10 Objetivos—</a:t>
            </a:r>
            <a:r>
              <a:rPr b="0" lang="es-ES" sz="1000" spc="-1" strike="noStrike">
                <a:solidFill>
                  <a:srgbClr val="000000"/>
                </a:solidFill>
                <a:latin typeface="Century Gothic"/>
                <a:ea typeface="Arial"/>
              </a:rPr>
              <a:t> </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ignificar a las mujeres como personas de valor inestimable en virtud de su creación y redenc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apacitarlas para profundizar su fe y crecer y renovarse espiritualmente.</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stacar, desde una perspectiva multicultural y multiétnica, el abanico de las diferentes necesidades y preocupaciones que las mujeres, como tales, tienen a lo largo de sus vida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Century Gothic"/>
                <a:ea typeface="Arial"/>
              </a:rPr>
              <a:t>Unirse y cooperar con otros departamentos especializados de la iglesia para atender las necesidades de las mujeres</a:t>
            </a:r>
            <a:r>
              <a:rPr b="0" lang="es-ES" sz="1000" spc="-1" strike="noStrike">
                <a:solidFill>
                  <a:srgbClr val="000000"/>
                </a:solidFill>
                <a:latin typeface="Century Gothic"/>
                <a:ea typeface="Arial"/>
              </a:rPr>
              <a:t>. (Único que no forma parte de la declaración de m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rear medios de comunicación entre las mujeres de la División Sudamericana para crear lazos de amistad, apoyo mutuo e intercambio creativo de ideas e informacion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Guiar y animar a las jóvenes adventistas para que, a medida que van desarrollándose en su experiencia cristiana, vayan involucrándose en las actividades y responsabilidades de la iglesia local.</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sentar las singulares perspectivas de las mujeres sobre los diversos asuntos de interés de la iglesia ante los cuerpos deliberativos de la misma.</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ar de ampliar las oportunidades que las mujeres tienen para prestar un servicio cristiano dinámico, y desafiarlas, en el cumplimiento de la misión global de la Iglesia Adventista del Séptimo Día, a usar sus dones para complementar los talentos de los demá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1000" spc="-1" strike="noStrike">
                <a:solidFill>
                  <a:srgbClr val="000000"/>
                </a:solidFill>
                <a:latin typeface="Century Gothic"/>
                <a:ea typeface="Arial"/>
              </a:rPr>
              <a:t>Personal del departamento</a:t>
            </a:r>
            <a:br>
              <a:rPr sz="1000"/>
            </a:br>
            <a:r>
              <a:rPr b="1" lang="es-ES" sz="1000" spc="-1" strike="noStrike">
                <a:solidFill>
                  <a:srgbClr val="000000"/>
                </a:solidFill>
                <a:latin typeface="Century Gothic"/>
                <a:ea typeface="Arial"/>
              </a:rPr>
              <a:t>FW 20 05 Director y directores asociados</a:t>
            </a:r>
            <a:br>
              <a:rPr sz="1000"/>
            </a:br>
            <a:r>
              <a:rPr b="0" lang="es-ES" sz="1000" spc="-1" strike="noStrike">
                <a:solidFill>
                  <a:srgbClr val="000000"/>
                </a:solidFill>
                <a:latin typeface="Century Gothic"/>
                <a:ea typeface="Arial"/>
              </a:rPr>
              <a:t>El director/secretario del departamento de Ministerios de la Mujer trabajará bajo la dirección del presidente y de la Junta Directiva de la División. Es responsable ante el presidente por la promoción de los planes y programas votados por la Junta Directiva de la Div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Gothic"/>
                <a:ea typeface="Times New Roman"/>
              </a:rPr>
              <a:t>F</a:t>
            </a:r>
            <a:r>
              <a:rPr b="1" lang="es-ES" sz="1000" spc="-1" strike="noStrike">
                <a:solidFill>
                  <a:srgbClr val="000000"/>
                </a:solidFill>
                <a:latin typeface="Century Gothic"/>
                <a:ea typeface="Times New Roman"/>
              </a:rPr>
              <a:t>W 20 10</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específicas</a:t>
            </a:r>
            <a:br>
              <a:rPr sz="1000"/>
            </a:br>
            <a:r>
              <a:rPr b="0" lang="es-ES" sz="1000" spc="-1" strike="noStrike">
                <a:solidFill>
                  <a:srgbClr val="000000"/>
                </a:solidFill>
                <a:latin typeface="Century Gothic"/>
                <a:ea typeface="Times New Roman"/>
              </a:rPr>
              <a:t>Cada individuo tendrá responsabilidades y tareas específicas, que serán dadas a conocer a los demás niveles apropiados de la organización de la Iglesia. </a:t>
            </a:r>
            <a:br>
              <a:rPr sz="1000"/>
            </a:br>
            <a:r>
              <a:rPr b="1" lang="es-ES" sz="1000" spc="-1" strike="noStrike">
                <a:solidFill>
                  <a:srgbClr val="000000"/>
                </a:solidFill>
                <a:latin typeface="Century Gothic"/>
                <a:ea typeface="Times New Roman"/>
              </a:rPr>
              <a:t>FW 20 15</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del director</a:t>
            </a:r>
            <a:r>
              <a:rPr b="0" lang="es-ES" sz="1000" spc="-1" strike="noStrike">
                <a:solidFill>
                  <a:srgbClr val="000000"/>
                </a:solidFill>
                <a:latin typeface="Century Gothic"/>
                <a:ea typeface="Times New Roman"/>
              </a:rPr>
              <a:t> -1. El director departamental presidirá la consejería del ministerio de la mujer. El director mantendrá un contacto continuo con el personal y coordinará las funciones de los mism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00400"/>
          </a:xfrm>
          <a:prstGeom prst="rect">
            <a:avLst/>
          </a:prstGeom>
          <a:noFill/>
          <a:ln w="0">
            <a:noFill/>
          </a:ln>
        </p:spPr>
        <p:txBody>
          <a:bodyPr lIns="93600" rIns="936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r PowerPoin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u="sng">
                <a:solidFill>
                  <a:srgbClr val="000000"/>
                </a:solidFill>
                <a:uFillTx/>
                <a:latin typeface="Century Gothic"/>
                <a:ea typeface="Times New Roman"/>
              </a:rPr>
              <a:t>Manual de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a:t>
            </a:r>
            <a:r>
              <a:rPr b="0" i="1" lang="es-ES" sz="800" spc="-1" strike="noStrike">
                <a:solidFill>
                  <a:srgbClr val="000000"/>
                </a:solidFill>
                <a:latin typeface="Century Gothic"/>
                <a:ea typeface="Times New Roman"/>
              </a:rPr>
              <a:t>Manual de Iglesia</a:t>
            </a:r>
            <a:r>
              <a:rPr b="0" lang="es-ES" sz="800" spc="-1" strike="noStrike">
                <a:solidFill>
                  <a:srgbClr val="000000"/>
                </a:solidFill>
                <a:latin typeface="Century Gothic"/>
                <a:ea typeface="Times New Roman"/>
              </a:rPr>
              <a:t> del año 2000 también tiene una sección sobre  el ministerio de la mujer que nos puede dar una guía en cuanto a los roles y objetivos del departamento. Muchas de las ideas son las mismas que se han expresado en el libro de reglamentos. Por favor léanlos del material para entregar. Ahora hablaremos únicamente acerca de la comisión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 La misión del departamento de Ministerios de la Mujer es, en un sentido amplio, común a todos los cristianos: ensalzar a Cristo en la iglesia y en el mundo. Este ministerio de propon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omentar el crecimiento espiritual y la renovación entr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firmar que las mujeres son de inestimable valor en virtud de su creación y redención, y capacitarlas para servir en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rar al amplio abanico de necesidades que las mujeres tienen a lo largo de la vida, siendo sensibles a las perspectivas multiculturales y multiétnic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irse y cooperar con otros departamentos especializados de la iglesia para facilitar el ministerio para las mujeres y d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rear buena voluntad entre las mujeres en la iglesia mundial que propicie lazos de amistad, apoyo mutuo, e intercambio creativo de ideas e informacion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Guiar y animar a las mujeres adventistas, creando las condiciones para que vayan involucrándose en las actividades de la iglesia local a medida que alcanzan su potencial en Cri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contrar medios y maneras para desafiar a cada mujer adventista a usar sus dones para complementar los talentos de otros, a medida que trabajan lado a lado para promover la misión global de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L</a:t>
            </a:r>
            <a:r>
              <a:rPr b="1" lang="es-ES" sz="800" spc="-1" strike="noStrike">
                <a:solidFill>
                  <a:srgbClr val="000000"/>
                </a:solidFill>
                <a:latin typeface="Arial"/>
                <a:ea typeface="Arial"/>
              </a:rPr>
              <a:t>íder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de Ministerios de la Mujer es elegida por la iglesia para desarrollar ministerios específicos que nutran a las mujeres y las capaciten para el servicio a Dios y a la iglesia. La directora es presidente de la comisión directiva del departamento de Ministerios de la Mujer, y promueve ideas y planes que maximicen las contribuciones de las mujeres a la misión de la iglesia. Como presidente, es responsable de presentar la agenda, moderar la discusión, y desarrollar la cohesión del grupo a través de la participación personal, la oración y el compañerism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sirve como miembro de la junta directiva de la iglesia, integrando las actividades y programas de las mujeres dentro de los planes generales del programa de la iglesia. Es responsable de mantener a la iglesia informada acerca de la contribución de Ministerios de la Mujer a la vida de la iglesia. El contacto de la directora para capacitación y fuente de materiales es la directora de Ministerios de la Mujer de la Asociación/Misión/Campo loc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Century Gothic"/>
                <a:ea typeface="Times New Roman"/>
              </a:rPr>
              <a:t>Calificaciones de la directora</a:t>
            </a:r>
            <a:r>
              <a:rPr b="0" lang="es-ES" sz="800" spc="-1" strike="noStrike">
                <a:solidFill>
                  <a:srgbClr val="000000"/>
                </a:solidFill>
                <a:latin typeface="Century Gothic"/>
                <a:ea typeface="Times New Roman"/>
              </a:rPr>
              <a:t>: La directora de Ministerios de la Mujer debe ser una mujer con sensibilidad, naturaleza solícita, con una carga por el ministerio y preocupaciones de las mujeres, equilibrada en sus perspectivas 119-126 y 127al representar el amplio abanico de las mujeres, y habilidad para animar a otras mujeres a cultivar sus dones espirituales. Debe ser capaz de relacionarse y trabajar bien con las mujeres de la iglesia, el pastor, y la junta directiva de la igles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misión del ministerio de la mujer</a:t>
            </a:r>
            <a:r>
              <a:rPr b="0" lang="en-US" sz="1200" spc="-1" strike="noStrike">
                <a:solidFill>
                  <a:srgbClr val="000000"/>
                </a:solidFill>
                <a:latin typeface="Times New Roman"/>
              </a:rPr>
              <a:t> – (ver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DECLARACIÓN DE MISIÓN DEL departamento DEL MINISTERIO DE LA MUJ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uego está la declaración de misión del departamento del ministerio de la mujer, con la que cualquier líder del ministerio de la mujer, en cualquier nivel, debería estar familiarizad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Century Gothic"/>
                <a:ea typeface="Times New Roman"/>
              </a:rPr>
              <a:t>Declaración de mis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partamento del ministerio de la mujer de la Asociación Gener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a misión del departamento de Ministerios de la Mujer es, en un sentido amplio, común a todos los cristianos: ensalzar a Cristo en la iglesia y en el mundo.</a:t>
            </a:r>
            <a:r>
              <a:rPr b="0" lang="es-ES" sz="900" spc="-1" strike="noStrike">
                <a:solidFill>
                  <a:srgbClr val="000000"/>
                </a:solidFill>
                <a:latin typeface="Century Gothic"/>
              </a:rPr>
              <a:t> Pero en forma más específica somos llamadas a:</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Elevar a las mujeres como personas de valor inestimables pues han sido creadas y redimida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Habilitar a las mujeres a profundizar su fe y a experimentar el crecimiento y la renovación espiritu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rear redes entre las mujeres en la iglesia mundial que propicien lasos de amistad, apoyo mutuo e intercambio creativo de ideas e informacione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Guiar a las mujeres adventistas, animándolas a que se involucren y creando los senderos necesarios a medida que alcanzan su potencial en Crist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ferirse a las preocupaciones de las mujeres en un contexto glob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er las perspectivas únicas de las mujeres a la problemática que enfrenta la iglesia mundial hoy</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uscar avenidas en expansión de servicio cristiano dinámico para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saviar a cada mujer adventista con su potencial para complementar los dones dados a otros hombres y mujeres a medida que trabajan lado a lado para promover la misión global de la Iglesia Adventista del Séptimo Día, que por medio de la plenitud que como mujeres hemos encontrado personalmente en Jesucristo, podamos ser habilitadas para compartir las buenas nuevas dentro de nuestras familias, nuestros hermanos creyentes y los círculos en expansión del mundo perdid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stos documentos forman el fundamento para nuestra filosofía y dan una guía para nuestros roles y objetivos.</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Filosofía de acuerdo al </a:t>
            </a:r>
            <a:r>
              <a:rPr b="0" i="1" lang="es-ES" sz="1000" spc="-1" strike="noStrike">
                <a:solidFill>
                  <a:srgbClr val="000000"/>
                </a:solidFill>
                <a:latin typeface="Century Gothic"/>
                <a:ea typeface="Times New Roman"/>
              </a:rPr>
              <a:t>Webster’s II New Riverside University Dictionary </a:t>
            </a:r>
            <a:r>
              <a:rPr b="0" lang="es-ES" sz="1000" spc="-1" strike="noStrike">
                <a:solidFill>
                  <a:srgbClr val="000000"/>
                </a:solidFill>
                <a:latin typeface="Century Gothic"/>
                <a:ea typeface="Times New Roman"/>
              </a:rPr>
              <a:t>(Definiciones seleccionadas)</a:t>
            </a:r>
            <a:r>
              <a:rPr b="0" i="1" lang="es-ES" sz="1000" spc="-1" strike="noStrike">
                <a:solidFill>
                  <a:srgbClr val="000000"/>
                </a:solidFill>
                <a:latin typeface="Century Gothic"/>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A</a:t>
            </a:r>
            <a:r>
              <a:rPr b="0" lang="es-ES" sz="1000" spc="-1" strike="noStrike">
                <a:solidFill>
                  <a:srgbClr val="000000"/>
                </a:solidFill>
                <a:latin typeface="Century Gothic"/>
              </a:rPr>
              <a:t>mor y búsqueda de sabiduría por medio de la investigación intelectual y la auto disciplina mo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de las leyes  que fundamentan la realid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en la naturaleza de las cosas basándose en el razonamiento lógico en lugar de los métodos empír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álisis y crítica de las creencias fundamentales mientras se conceptualizan y formula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UPOSICIONES QUE AFECTAN LA FILOSOFÍA</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Suposiciones sobre las mujeres en gener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Orientadas en torno a las relac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Quieren y necesitan compañerismo y amigo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Se sienten solas si estas necesidades no son satisfech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Necesitan apoyo y refuerzo de otras mujeres en situaciones simila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ienden hacia la intimidad</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es gusta hablar y compartir opin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Quieren sentirse necesarias, respetadas y apreciad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menudo sufren de baja auto estima y confianza prop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enudo son competitivas y comparativas, especialmente hacia otras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ambién hay algunas suposiciones de orientación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se interesa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Jesucristo es el ejemplo de cómo deben ser tratadas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on sensitivas al alimento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es la solución máxima de sus problemas y actitud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Iglesia Adventista del Séptimo día le interesan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e encuentran en una variedad de niveles de crecimiento espiritual</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han estado involucradas con la misión de la iglesia en el pasado. Su liderazgo y participación no son algo nue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gunos puntos que deben ser considerados al desarrollar ministerios de la mujer viabl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mundo ha cambiado y muchas mujeres ya no tienen del apoyo cercano y la guía/entrenamiento que recibían antes de la familia nu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ayudar a las mujeres a encontrar sus dones espirituales, y motivarlas a presionar un poco más allá de sus zonas de con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ser creativos al ayudar a las mujeres a encontrar ministerios. Considera todas las edades, habilidades físicas, finanzas y transporte, tiempo y circunstancias. Recuerda que los ministerios pueden ser realizados individualmente y en muchos lugares—los ministerios de la mujer no deberían conformarse con una reunión en la iglesia o un re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us ministerios deberían estar basados en las necesidades. Averigua cuáles son las necesidades de las mujeres en tu congregación, al igual que las de tu comunidad. Las mujeres se encuentran en varios estados de la vida y tienen diversas necesidades. Encuentra mujeres que pueden ministrar esas necesida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460520" y="695160"/>
            <a:ext cx="3919680" cy="2940120"/>
          </a:xfrm>
          <a:prstGeom prst="rect">
            <a:avLst/>
          </a:prstGeom>
          <a:ln w="0">
            <a:noFill/>
          </a:ln>
        </p:spPr>
      </p:sp>
      <p:sp>
        <p:nvSpPr>
          <p:cNvPr id="210" name="PlaceHolder 2"/>
          <p:cNvSpPr>
            <a:spLocks noGrp="1"/>
          </p:cNvSpPr>
          <p:nvPr>
            <p:ph type="body"/>
          </p:nvPr>
        </p:nvSpPr>
        <p:spPr>
          <a:xfrm>
            <a:off x="855720" y="3712680"/>
            <a:ext cx="5595840" cy="580068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s importante proveer entrenamiento de liderazgo, tutoría, alimentación y dar mucho, mucho ánim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l ministerio de la mujer consiste de todo lo que hacen las mujeres en la iglesia: enseñar una clase de Escuela Sabática, cantar en un coro, trabajar en la cocina, enseñar un estudio bíblico, dirigir un grupo de oración o cocinar una cena para alguien que acaba de salir del hospital. La lista puede ir tan lejos como tu mente lo permita, pero intenten asegurarse que las mujeres están realizando estos ministerios por elección y que sean felices al hacerlo. No deberían simplemente estar “haciendo lo que las mujeres deben hacer”, y no tener la posibilidad de probar cosas nuevas y expandir sus horizontes. Ayúdelas a obtener las habilidades que necesitan y las oportunidades que desean para el ministe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grupos de ministerio, grupos pequeños, eventos especiales, clases y seminarios y ministerios individuales pueden formar parte de la satisfacción de necesidades y el alcance del ministerio de la mujer. Algunos ejemplos de estos podrían s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ide sugerencias—algunas ya han sido mencionadas—sugiere otros que han pasado por al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Grupos de apoyo para madres sol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studios bíblicos durante el almuerzo de mujeres que trabaja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a los minusválidos</a:t>
            </a:r>
            <a:r>
              <a:rPr b="0" lang="es-ES_tradnl" sz="1000" spc="-1" strike="noStrike">
                <a:solidFill>
                  <a:srgbClr val="000000"/>
                </a:solidFill>
                <a:latin typeface="Century Gothic"/>
                <a:ea typeface="Times New Roman"/>
              </a:rPr>
              <a:t>, C</a:t>
            </a:r>
            <a:r>
              <a:rPr b="0" lang="es-ES" sz="1000" spc="-1" strike="noStrike">
                <a:solidFill>
                  <a:srgbClr val="000000"/>
                </a:solidFill>
                <a:latin typeface="Century Gothic"/>
                <a:ea typeface="Times New Roman"/>
              </a:rPr>
              <a:t>lases de manejo financi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ubes de libros religios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y oración p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nfermos de cánce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sistencia con cenas de fune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vangelismo de even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Visitación hospitalar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Tutorí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 mujeres jóven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de abus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de cárce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formar discípul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ieta y nutri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gimna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Banco de vestiment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operativa de cuidado de niñ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ía de la madr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alfabetiza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 abstinencia sexual para adolescent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escribi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editaciones matinales u otros materia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yudar con la visitación pasto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lanes para dejar de fumar par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uje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yuda para adic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para recuperación del dol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edicación </a:t>
            </a:r>
            <a:r>
              <a:rPr b="0" lang="es-ES_tradnl" sz="1000" spc="-1" strike="noStrike">
                <a:solidFill>
                  <a:srgbClr val="000000"/>
                </a:solidFill>
                <a:latin typeface="Century Gothic"/>
                <a:ea typeface="Times New Roman"/>
              </a:rPr>
              <a:t>y </a:t>
            </a:r>
            <a:r>
              <a:rPr b="0" lang="es-ES" sz="1000" spc="-1" strike="noStrike">
                <a:solidFill>
                  <a:srgbClr val="000000"/>
                </a:solidFill>
                <a:latin typeface="Century Gothic"/>
                <a:ea typeface="Times New Roman"/>
              </a:rPr>
              <a:t>evangelismo públic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educación y cuidado de VIH/SID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la hospitalidad</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sarrollar pequeños emprendimientos para mujeres pob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servir en las comisiones y juntas de Igle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reclamar feligreses que apostataro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apreciación del cl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l transpor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ómo apoyar los proyectos misioneros del MM</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específicos para mujeres no cristianas del áre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Budist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Musulman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Judí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Humanistas secula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ea typeface="Times New Roman"/>
              </a:rPr>
              <a:t>     </a:t>
            </a:r>
            <a:r>
              <a:rPr b="0" lang="es-ES_tradnl" sz="1000" spc="-1" strike="noStrike">
                <a:solidFill>
                  <a:srgbClr val="000000"/>
                </a:solidFill>
                <a:latin typeface="Century Gothic"/>
                <a:ea typeface="Times New Roman"/>
              </a:rPr>
              <a:t>A</a:t>
            </a:r>
            <a:r>
              <a:rPr b="0" lang="es-ES" sz="1000" spc="-1" strike="noStrike">
                <a:solidFill>
                  <a:srgbClr val="000000"/>
                </a:solidFill>
                <a:latin typeface="Century Gothic"/>
                <a:ea typeface="Times New Roman"/>
              </a:rPr>
              <a:t>te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TEMÁTICAS DIFÍCILES QUE ENFRENTAN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y seis desafíos que enfrentan las mujeres alrededor del mundo que forman parte de la filosofía del ministerio de la mujer. Los vemos no como temáticas de evangelio social, sino como una oportunidad de testificación. Si volvemos a mirar un punto que vimos ante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petición de </a:t>
            </a:r>
            <a:r>
              <a:rPr b="1" lang="es-ES" sz="1200" spc="-1" strike="noStrike">
                <a:solidFill>
                  <a:srgbClr val="000000"/>
                </a:solidFill>
                <a:latin typeface="Century Gothic"/>
                <a:ea typeface="Times New Roman"/>
              </a:rPr>
              <a:t>(RP-20)</a:t>
            </a:r>
            <a:r>
              <a:rPr b="0" lang="es-ES" sz="1200" spc="-1" strike="noStrike">
                <a:solidFill>
                  <a:srgbClr val="000000"/>
                </a:solidFill>
                <a:latin typeface="Century Gothic"/>
                <a:ea typeface="Times New Roman"/>
              </a:rPr>
              <a:t>] </a:t>
            </a:r>
            <a:r>
              <a:rPr b="0" lang="es-ES_tradnl" sz="1200" spc="-1" strike="noStrike">
                <a:solidFill>
                  <a:srgbClr val="000000"/>
                </a:solidFill>
                <a:latin typeface="Century Gothic"/>
                <a:ea typeface="Times New Roman"/>
              </a:rPr>
              <a:t>(ver PowerPoint) </a:t>
            </a: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 necesitamos ministrar a las necesidades de nuestras mujeres. También necesitamos ministrar las necesidades de las mujeres que nos rodean. Y como dice la cita, si hemos de ministrar como lo hizo Cristo, debemos conocer las necesidades de las mujer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Pobreza: La mayoría de las personas desesperadamente pobres o refugiadas en el mundo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iesgos de salud: Las mujeres sufren casi las mismas enfermedades que los hombres, sumándole todas aquellas relacionadas con la salud reproductiva. Como ejemplo, a diario mueren 1600 mujeres al dar a luz, y el dar a luz ni siquiera es una enfermed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lfabetización: En el mundo entero, casi 1 billón de adultos no saben leer; casi ¾ de ellos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arga laboral: En todas partes del mundo las mujeres están increíblemente ocupados. Muchas de ellas ahora tienen trabajos de tiempo completo, pero aún tienen responsabilidades para con sus hogares y familias. Solo piensa en lo que es puede significar si deben buscar leña o traer agua desde grandes distanci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buso: El abuso es un gran problema en todas las culturas y en todos los niveles económicos, y sí, en la Iglesia cristiana también, incluyendo la nuestr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utoría y entrenamiento de liderazgo: Las mujeres aún siguen siendo la minoría en el liderazgo de las sociedades, la política, economía e Iglesia. A fin de que las mujeres puedan tomar sus lugares y hacer una diferencia, necesitan entrenamiento de liderazgo y tutoría.</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r>
              <a:rPr b="1" lang="en-US" sz="1000" spc="-1" strike="noStrike">
                <a:solidFill>
                  <a:srgbClr val="000000"/>
                </a:solidFill>
                <a:latin typeface="Times New Roman"/>
              </a:rPr>
              <a:t> co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a síntesis de todo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das las ciencias menos artes prácticas y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Un sistema de principios fundamentales o motivadores: base de acción o creenc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valores generales por los que uno vi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sto sintetiza lo que queremos hablar en este seminario. Se trata de qué es el Ministerio de la Mujer y, a pesar de lo que algunos dicen irónicamente sobre las mujeres, puede ser lógico, auto disciplinado y práctico (si, incluso podría incluir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FUNDA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gunas personas se preguntan porqué fue establecido el ministerio de la mujer. “¿Porqué las mujeres quieren irse y tener su propio ministerio? ¿Porqué no pueden trabajar con el resto de la Iglesia?”dic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filosofía del ministerio de la mujer es complementar otros ministerios y ayudar a las mujeres a involucrarse en todas las áreas de la vida eclesiástica y su misió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uestra Iglesia ahora tiene más de 14 millones de miembros. Alrededor del 70 % de ellos son mujeres. Éstas son mujeres con necesidades y habilidades muy variadas. Tenemos una obra tremenda que enfrentar. Una obra imposible sin la ayuda del Espíritu Santo. Afortunadamente, esto es prometido tanto a hombres como a muje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ver PowerPoint)</a:t>
            </a: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se ha de realizar la tarea que se nos ha dado, necesitamos tanto hombres como mujeres involucrados activamente en todos los niveles y virtualmente en todas las áreas. Por esta razón, si no es por otra, necesitamos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desafío más grande para nosotros como departamento es ayudar a las mujeres, y los hombres, a comprender que no se un club social, no es una sociedad femenina, sino un ministe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Ministerio de la Mujer es un ministerio que nutre, apoya e inspira a las mujeres de una manera única y personal. Muchas mujeres son lo que se podría llamar “donantes”. Ellas dan a sus esposos, hijos, padres, su trabajo, a su Iglesia, y rara vez se preocupan por si mismas, emocional, espiritual o físicamente. El ministerio de la mujer ayuda a satisfacer esas necesidades desde una perspectiva espiritual y femeni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por supuesto, han estado involucradas en la vida de la Iglesia desde el principio, pero debido a que la mayor parte del liderazgo ha sido masculino, y como la mayoría de los sermones y servicios de adoración han sido conducidos por hombres, la nutrición ha llegado a tener un punto de vista masculino. Por supuesto, no hay nada malo con ese punto de vista. Simplemente hay también un punto de vista femenino que es importante para las mujeres. En el mundo demandante y estresado de hoy en día, ¿no es correcto y ventajoso que la Iglesia alcance con amor a sus mujeres? Y luego, ¿no pueden esas mujeres ministrar a los demás? ¿No es el tiempo apropiado de recordarles a las mujeres que son importantes, que la Iglesia las quiere y las necesita? ¿De ayudarles a llegar a ser todo lo que pueden ser? ¿Y que tienen algo especial para compartir con su Iglesia? Como mujeres cristianas, debemos reclamar nuestra herencia extraordinaria de ministerio público y privado—un modelo para el ministerio que está enraizado en las enseñanzas de Jesú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NISTERIO A QUIÉ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echemos un vistazo a la variedad de mujeres que hay en la Iglesia y luego podremos comenzar a hablar acerca del ministerio a y por medio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ántas categorías de mujeres puedes nombrar? (Deja que las concurrentes enumeren mientras tu agregas las categorías que falta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FDD5E-006A-4208-9A9A-A06834FE1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6806B-D7A6-41C4-A0BD-5ACF945AD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A6317-7FF6-46E1-899B-71432FF7F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CB31E-BA4A-47DA-A619-30CD4A8FA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0234F-9740-47A1-A2B1-A61FAC211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8EA15-6A80-4F74-8354-DC8A82AB8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989B1-C8E9-4059-A49E-01D988977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D9DD3-1D65-4813-9F96-0A52D5A7D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8D2F7-1559-4ACD-9F5D-C154CC0DA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0A33B-E795-4BF9-8992-FB91C067B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5A934-F0A2-4837-9122-829BFEE5A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CAA6C-D1EC-43BD-A1E8-7F604925A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6BEE3-1E08-4BC7-ABE0-DD431ADA9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78068-1574-4403-B580-9CBF2E831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B1D52-EFFF-494A-B8AC-3796E645B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64D0D-2027-404E-A702-097134498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A71AB-64CB-430A-9EBC-63D96A7E4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88936-475E-4501-AF73-656715527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764B-F9EF-40FA-ADD3-A79033D88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AF35A-4603-4E5A-80AC-745DA5F3A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67C24-8C17-4C0D-9B06-59AB74BEF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080E-58E3-4B8B-AB9B-B4F5101ED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FE389-4813-4068-A039-7D204C387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3F85-E90A-4A8B-8D88-E690D4DF5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341E-A431-4C58-AB76-02FC64133AA8}"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B896-586C-4064-9CD0-0F52987FB7D2}"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m.gc.adventist.org/" TargetMode="External"/><Relationship Id="rId3" Type="http://schemas.openxmlformats.org/officeDocument/2006/relationships/image" Target="../media/image11.jpe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29528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Georgia"/>
              </a:rPr>
              <a:t>Filosofía de los Ministerios de la mujer: Roles y objetivos</a:t>
            </a:r>
            <a:endParaRPr b="1" lang="en-US" sz="4000" spc="-1" strike="noStrike">
              <a:solidFill>
                <a:srgbClr val="eff6ef"/>
              </a:solidFill>
              <a:latin typeface="Georgia"/>
            </a:endParaRPr>
          </a:p>
        </p:txBody>
      </p:sp>
      <p:sp>
        <p:nvSpPr>
          <p:cNvPr id="90" name="PlaceHolder 2"/>
          <p:cNvSpPr>
            <a:spLocks noGrp="1"/>
          </p:cNvSpPr>
          <p:nvPr>
            <p:ph/>
          </p:nvPr>
        </p:nvSpPr>
        <p:spPr>
          <a:xfrm>
            <a:off x="1905120" y="297144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ff6ef"/>
                </a:solidFill>
                <a:latin typeface="Georgia"/>
              </a:rPr>
              <a:t>Por</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Curso de liderazgo ni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Asociación General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Ministerios de la mujer</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05 Filosofía</a:t>
            </a:r>
            <a:endParaRPr b="1" lang="en-US" sz="5400" spc="-1" strike="noStrike">
              <a:solidFill>
                <a:srgbClr val="eff6ef"/>
              </a:solidFill>
              <a:latin typeface="Georgia"/>
            </a:endParaRPr>
          </a:p>
        </p:txBody>
      </p:sp>
      <p:sp>
        <p:nvSpPr>
          <p:cNvPr id="108"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departamento de Ministerios de la Mujer tiene como misión animar, desafiar, equipar y capacitar a las mujeres adventistas del séptimo día en su tarea de llevar el mensaje del evangelio al mundo.</a:t>
            </a:r>
            <a:endParaRPr b="0" lang="en-US" sz="3600" spc="-1" strike="noStrike">
              <a:solidFill>
                <a:srgbClr val="eff6ef"/>
              </a:solidFill>
              <a:latin typeface="Georgia"/>
            </a:endParaRPr>
          </a:p>
        </p:txBody>
      </p:sp>
      <p:pic>
        <p:nvPicPr>
          <p:cNvPr id="109"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10 Propósito</a:t>
            </a:r>
            <a:endParaRPr b="1" lang="en-US" sz="5400" spc="-1" strike="noStrike">
              <a:solidFill>
                <a:srgbClr val="eff6ef"/>
              </a:solidFill>
              <a:latin typeface="Georgia"/>
            </a:endParaRPr>
          </a:p>
        </p:txBody>
      </p:sp>
      <p:sp>
        <p:nvSpPr>
          <p:cNvPr id="111" name="PlaceHolder 2"/>
          <p:cNvSpPr>
            <a:spLocks noGrp="1"/>
          </p:cNvSpPr>
          <p:nvPr>
            <p:ph type="subTitle"/>
          </p:nvPr>
        </p:nvSpPr>
        <p:spPr>
          <a:xfrm>
            <a:off x="838080" y="1904760"/>
            <a:ext cx="7772400" cy="556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066680"/>
            <a:ext cx="716292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departamento de Ministerios de la Mujer enfocará los siguientes seis asuntos críticos identificados como barreras que impiden a las mujeres alcanzar su pleno potencial: </a:t>
            </a:r>
            <a:br>
              <a:rPr sz="2800"/>
            </a:br>
            <a:r>
              <a:rPr b="1" lang="es-ES" sz="2800" spc="-1" strike="noStrike">
                <a:solidFill>
                  <a:srgbClr val="eff6ef"/>
                </a:solidFill>
                <a:latin typeface="Arial"/>
              </a:rPr>
              <a:t> </a:t>
            </a:r>
            <a:br>
              <a:rPr sz="2800"/>
            </a:br>
            <a:r>
              <a:rPr b="1" lang="es-ES" sz="2800" spc="-1" strike="noStrike">
                <a:solidFill>
                  <a:srgbClr val="eff6ef"/>
                </a:solidFill>
                <a:latin typeface="Arial"/>
              </a:rPr>
              <a:t>1. Analfabetismo, </a:t>
            </a:r>
            <a:br>
              <a:rPr sz="2800"/>
            </a:br>
            <a:r>
              <a:rPr b="1" lang="es-ES" sz="2800" spc="-1" strike="noStrike">
                <a:solidFill>
                  <a:srgbClr val="eff6ef"/>
                </a:solidFill>
                <a:latin typeface="Arial"/>
              </a:rPr>
              <a:t>2. Pobreza,</a:t>
            </a:r>
            <a:br>
              <a:rPr sz="2800"/>
            </a:br>
            <a:r>
              <a:rPr b="1" lang="es-ES" sz="2800" spc="-1" strike="noStrike">
                <a:solidFill>
                  <a:srgbClr val="eff6ef"/>
                </a:solidFill>
                <a:latin typeface="Arial"/>
              </a:rPr>
              <a:t>3. Riesgos de salud, </a:t>
            </a:r>
            <a:br>
              <a:rPr sz="2800"/>
            </a:br>
            <a:r>
              <a:rPr b="1" lang="es-ES" sz="2800" spc="-1" strike="noStrike">
                <a:solidFill>
                  <a:srgbClr val="eff6ef"/>
                </a:solidFill>
                <a:latin typeface="Arial"/>
              </a:rPr>
              <a:t>4. Abuso,</a:t>
            </a:r>
            <a:br>
              <a:rPr sz="2800"/>
            </a:br>
            <a:r>
              <a:rPr b="1" lang="es-ES" sz="2800" spc="-1" strike="noStrike">
                <a:solidFill>
                  <a:srgbClr val="eff6ef"/>
                </a:solidFill>
                <a:latin typeface="Arial"/>
              </a:rPr>
              <a:t>5. Carga excesiva de trabajo, </a:t>
            </a:r>
            <a:br>
              <a:rPr sz="2800"/>
            </a:br>
            <a:r>
              <a:rPr b="1" lang="es-ES" sz="2800" spc="-1" strike="noStrike">
                <a:solidFill>
                  <a:srgbClr val="eff6ef"/>
                </a:solidFill>
                <a:latin typeface="Arial"/>
              </a:rPr>
              <a:t>6. Malas condiciones de trabajo y la necesidad de entrenamiento y seguimiento para una mayor participación en la misión de la Iglesia.</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609480"/>
            <a:ext cx="5943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100" spc="-1" strike="noStrike">
                <a:solidFill>
                  <a:srgbClr val="ffff00"/>
                </a:solidFill>
                <a:latin typeface="Centaur"/>
              </a:rPr>
              <a:t>FW 15 10 Objetivos</a:t>
            </a:r>
            <a:endParaRPr b="1" lang="en-US" sz="5100" spc="-1" strike="noStrike">
              <a:solidFill>
                <a:srgbClr val="eff6ef"/>
              </a:solidFill>
              <a:latin typeface="Georgia"/>
            </a:endParaRPr>
          </a:p>
        </p:txBody>
      </p:sp>
      <p:sp>
        <p:nvSpPr>
          <p:cNvPr id="114" name="PlaceHolder 2"/>
          <p:cNvSpPr>
            <a:spLocks noGrp="1"/>
          </p:cNvSpPr>
          <p:nvPr>
            <p:ph type="subTitle"/>
          </p:nvPr>
        </p:nvSpPr>
        <p:spPr>
          <a:xfrm>
            <a:off x="1447920" y="2209680"/>
            <a:ext cx="3504960" cy="3276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Unirse y cooperar con otros departamentos especializados de la iglesia para atender las necesidades de las mujeres.</a:t>
            </a:r>
            <a:endParaRPr b="0" lang="en-US" sz="3200" spc="-1" strike="noStrike">
              <a:solidFill>
                <a:srgbClr val="eff6ef"/>
              </a:solidFill>
              <a:latin typeface="Georgia"/>
            </a:endParaRPr>
          </a:p>
        </p:txBody>
      </p:sp>
      <p:pic>
        <p:nvPicPr>
          <p:cNvPr id="115" name="" descr=""/>
          <p:cNvPicPr/>
          <p:nvPr/>
        </p:nvPicPr>
        <p:blipFill>
          <a:blip r:embed="rId2"/>
          <a:stretch/>
        </p:blipFill>
        <p:spPr>
          <a:xfrm>
            <a:off x="5181480" y="2133720"/>
            <a:ext cx="3632400" cy="43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609120"/>
            <a:ext cx="60962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FW 20 15 Responsabilidades de la directora</a:t>
            </a:r>
            <a:endParaRPr b="1" lang="en-US" sz="4400" spc="-1" strike="noStrike">
              <a:solidFill>
                <a:srgbClr val="eff6ef"/>
              </a:solidFill>
              <a:latin typeface="Georgia"/>
            </a:endParaRPr>
          </a:p>
        </p:txBody>
      </p:sp>
      <p:sp>
        <p:nvSpPr>
          <p:cNvPr id="117" name="PlaceHolder 2"/>
          <p:cNvSpPr>
            <a:spLocks noGrp="1"/>
          </p:cNvSpPr>
          <p:nvPr>
            <p:ph type="subTitle"/>
          </p:nvPr>
        </p:nvSpPr>
        <p:spPr>
          <a:xfrm>
            <a:off x="609120" y="2209320"/>
            <a:ext cx="7543800" cy="4343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representará y servirá de abogado de los objetivos, programas y actividades del departamento ante los cuerpos administrativos de la Iglesia; representará los puntos de vista administrativos con el personal del departamento, y servirá de enlace entre otros departamentos y el departamento de los Ministerio de la Mujer.</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La comisión del MM</a:t>
            </a:r>
            <a:endParaRPr b="1" lang="en-US" sz="4400" spc="-1" strike="noStrike">
              <a:solidFill>
                <a:srgbClr val="eff6ef"/>
              </a:solidFill>
              <a:latin typeface="Georgia"/>
            </a:endParaRPr>
          </a:p>
        </p:txBody>
      </p:sp>
      <p:pic>
        <p:nvPicPr>
          <p:cNvPr id="119" name="" descr=""/>
          <p:cNvPicPr/>
          <p:nvPr/>
        </p:nvPicPr>
        <p:blipFill>
          <a:blip r:embed="rId2"/>
          <a:srcRect l="0" t="21280" r="5518" b="0"/>
          <a:stretch/>
        </p:blipFill>
        <p:spPr>
          <a:xfrm>
            <a:off x="5802480" y="1905120"/>
            <a:ext cx="3149280" cy="3886200"/>
          </a:xfrm>
          <a:prstGeom prst="rect">
            <a:avLst/>
          </a:prstGeom>
          <a:ln w="0">
            <a:noFill/>
          </a:ln>
        </p:spPr>
      </p:pic>
      <p:sp>
        <p:nvSpPr>
          <p:cNvPr id="120" name="PlaceHolder 2"/>
          <p:cNvSpPr>
            <a:spLocks noGrp="1"/>
          </p:cNvSpPr>
          <p:nvPr>
            <p:ph type="subTitle"/>
          </p:nvPr>
        </p:nvSpPr>
        <p:spPr>
          <a:xfrm>
            <a:off x="761760" y="2057400"/>
            <a:ext cx="5181480" cy="556272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de los MM trabaja con el pastor y la junta directiva de la iglesia para establecer una comisión directiva del departamento con el objeto de fomentar el ministerio para las mujeres de la iglesia.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447920" y="1295280"/>
            <a:ext cx="64008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Centaur"/>
              </a:rPr>
              <a:t>Determinar las necesidades de las mujeres en la iglesia local y en la comunidad, utilizando encuestas y entrevistas, y buscando el consejo del pastor y de los líderes de la iglesia.</a:t>
            </a:r>
            <a:endParaRPr b="0"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752480"/>
            <a:ext cx="7924680" cy="487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sta comisión debe estar compuesta de personas interesadas en el amplio espectro de las necesidades y servicios de las mujeres. Para formar un equipo equilibrado, los miembros deben ser personas con talentos  y experiencia variados. </a:t>
            </a:r>
            <a:endParaRPr b="0" lang="en-US" sz="3600" spc="-1" strike="noStrike">
              <a:solidFill>
                <a:srgbClr val="eff6e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95280" y="1371240"/>
            <a:ext cx="6553440" cy="44197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Sugerir ideas, desarrollar estrategias, y cooperar con otros departamentos especializados de la iglesia para promover programas y actividades en las que ministren las mujeres.</a:t>
            </a:r>
            <a:endParaRPr b="0" lang="en-US" sz="2800" spc="-1" strike="noStrike">
              <a:solidFill>
                <a:srgbClr val="eff6ef"/>
              </a:solidFill>
              <a:latin typeface="Georgia"/>
            </a:endParaRPr>
          </a:p>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Planificar y ejecutar estas y otras iniciativas relacionadas con las específicas y variadas necesidades de las mujeres, en cooperación con el pastor, los especialistas de los departamentos, y otros líderes de la iglesia.</a:t>
            </a:r>
            <a:endParaRPr b="0" lang="en-US" sz="2800" spc="-1" strike="noStrike">
              <a:solidFill>
                <a:srgbClr val="eff6ef"/>
              </a:solidFill>
              <a:latin typeface="Georgi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3712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Centaur"/>
              </a:rPr>
              <a:t>Facilitar la participación de la iglesia local en los programas anuales y actividades iniciadas por el campo/misión/asociación/unión/división/ Asociación General, tales como el día internacional de oración de las mujeres, el día de Ministerios de la Mujer, y los pequeños grupos para ministrar y apoyar a las mujeres y animarlas en el servicio.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9094" r="3793" b="2274"/>
          <a:stretch/>
        </p:blipFill>
        <p:spPr>
          <a:xfrm>
            <a:off x="5867280" y="2133720"/>
            <a:ext cx="2735280" cy="3809880"/>
          </a:xfrm>
          <a:prstGeom prst="rect">
            <a:avLst/>
          </a:prstGeom>
          <a:ln w="0">
            <a:noFill/>
          </a:ln>
        </p:spPr>
      </p:pic>
      <p:sp>
        <p:nvSpPr>
          <p:cNvPr id="92" name="PlaceHolder 1"/>
          <p:cNvSpPr>
            <a:spLocks noGrp="1"/>
          </p:cNvSpPr>
          <p:nvPr>
            <p:ph type="title"/>
          </p:nvPr>
        </p:nvSpPr>
        <p:spPr>
          <a:xfrm>
            <a:off x="1447920" y="83772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Definición de Filosofía</a:t>
            </a:r>
            <a:endParaRPr b="1" lang="en-US" sz="4800" spc="-1" strike="noStrike">
              <a:solidFill>
                <a:srgbClr val="eff6ef"/>
              </a:solidFill>
              <a:latin typeface="Georgia"/>
            </a:endParaRPr>
          </a:p>
        </p:txBody>
      </p:sp>
      <p:sp>
        <p:nvSpPr>
          <p:cNvPr id="93" name="PlaceHolder 2"/>
          <p:cNvSpPr>
            <a:spLocks noGrp="1"/>
          </p:cNvSpPr>
          <p:nvPr>
            <p:ph/>
          </p:nvPr>
        </p:nvSpPr>
        <p:spPr>
          <a:xfrm>
            <a:off x="1219320" y="2666520"/>
            <a:ext cx="41148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Amor y búsqueda de sabiduría por medio de la investigación intelectual y la auto disciplina moral</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Investigación de las leyes  que fundamentan la realidad</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320" y="304920"/>
            <a:ext cx="62485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la filosofía</a:t>
            </a:r>
            <a:endParaRPr b="1" lang="en-US" sz="4400" spc="-1" strike="noStrike">
              <a:solidFill>
                <a:srgbClr val="eff6ef"/>
              </a:solidFill>
              <a:latin typeface="Georgia"/>
            </a:endParaRPr>
          </a:p>
        </p:txBody>
      </p:sp>
      <p:sp>
        <p:nvSpPr>
          <p:cNvPr id="126" name="PlaceHolder 2"/>
          <p:cNvSpPr>
            <a:spLocks noGrp="1"/>
          </p:cNvSpPr>
          <p:nvPr>
            <p:ph/>
          </p:nvPr>
        </p:nvSpPr>
        <p:spPr>
          <a:xfrm>
            <a:off x="990720" y="1752120"/>
            <a:ext cx="7238880" cy="5410440"/>
          </a:xfrm>
          <a:prstGeom prst="rect">
            <a:avLst/>
          </a:prstGeom>
          <a:noFill/>
          <a:ln w="0">
            <a:noFill/>
          </a:ln>
        </p:spPr>
        <p:txBody>
          <a:bodyPr lIns="90000" rIns="90000" tIns="46800" bIns="46800" anchor="t">
            <a:normAutofit/>
          </a:bodyPr>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Suposiciones sobre las mujeres en general:</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1.</a:t>
            </a:r>
            <a:r>
              <a:rPr b="1" lang="es-ES" sz="3200" spc="-1" strike="noStrike">
                <a:solidFill>
                  <a:srgbClr val="eff6ef"/>
                </a:solidFill>
                <a:latin typeface="Arial"/>
              </a:rPr>
              <a:t>	</a:t>
            </a:r>
            <a:r>
              <a:rPr b="1" lang="es-ES" sz="3200" spc="-1" strike="noStrike">
                <a:solidFill>
                  <a:srgbClr val="eff6ef"/>
                </a:solidFill>
                <a:latin typeface="Arial"/>
              </a:rPr>
              <a:t>Orientadas en torno a las relacion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2.</a:t>
            </a:r>
            <a:r>
              <a:rPr b="1" lang="es-ES" sz="3200" spc="-1" strike="noStrike">
                <a:solidFill>
                  <a:srgbClr val="eff6ef"/>
                </a:solidFill>
                <a:latin typeface="Arial"/>
              </a:rPr>
              <a:t>	</a:t>
            </a:r>
            <a:r>
              <a:rPr b="1" lang="es-ES" sz="3200" spc="-1" strike="noStrike">
                <a:solidFill>
                  <a:srgbClr val="eff6ef"/>
                </a:solidFill>
                <a:latin typeface="Arial"/>
              </a:rPr>
              <a:t>Necesitan apoyo y refuerzo de otras mujeres en situaciones similar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3.</a:t>
            </a:r>
            <a:r>
              <a:rPr b="1" lang="es-ES" sz="3200" spc="-1" strike="noStrike">
                <a:solidFill>
                  <a:srgbClr val="eff6ef"/>
                </a:solidFill>
                <a:latin typeface="Arial"/>
              </a:rPr>
              <a:t>	</a:t>
            </a:r>
            <a:r>
              <a:rPr b="1" lang="es-ES" sz="3200" spc="-1" strike="noStrike">
                <a:solidFill>
                  <a:srgbClr val="eff6ef"/>
                </a:solidFill>
                <a:latin typeface="Arial"/>
              </a:rPr>
              <a:t>Tienden hacia la intimida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360" y="1371240"/>
            <a:ext cx="7010280" cy="44197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Les gusta hablar y compartir opinion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Quieren sentirse necesarias, respetadas y apreciada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A menudo sufren de baja auto estima y confianza propia</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A menudo son competitivas y comparativas, especialmente hacia otras mujer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8. </a:t>
            </a:r>
            <a:r>
              <a:rPr b="1" lang="es-ES" sz="2800" spc="-1" strike="noStrike">
                <a:solidFill>
                  <a:srgbClr val="eff6ef"/>
                </a:solidFill>
                <a:latin typeface="Arial"/>
              </a:rPr>
              <a:t>	</a:t>
            </a:r>
            <a:r>
              <a:rPr b="1" lang="es-ES" sz="2800" spc="-1" strike="noStrike">
                <a:solidFill>
                  <a:srgbClr val="eff6ef"/>
                </a:solidFill>
                <a:latin typeface="Arial"/>
              </a:rPr>
              <a:t>Pueden chismear y quejarse a menos que se las dirija constructivamente</a:t>
            </a:r>
            <a:endParaRPr b="0" lang="en-US" sz="2800" spc="-1" strike="noStrike">
              <a:solidFill>
                <a:srgbClr val="eff6ef"/>
              </a:solidFill>
              <a:latin typeface="Georgi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fontScale="95000"/>
          </a:bodyPr>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9.</a:t>
            </a:r>
            <a:r>
              <a:rPr b="1" lang="es-ES" sz="2800" spc="-1" strike="noStrike">
                <a:solidFill>
                  <a:srgbClr val="eff6ef"/>
                </a:solidFill>
                <a:latin typeface="Arial"/>
              </a:rPr>
              <a:t>	</a:t>
            </a:r>
            <a:r>
              <a:rPr b="1" lang="es-ES" sz="2800" spc="-1" strike="noStrike">
                <a:solidFill>
                  <a:srgbClr val="eff6ef"/>
                </a:solidFill>
                <a:latin typeface="Arial"/>
              </a:rPr>
              <a:t>Orientadas hacia el auto perfeccionamient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0.</a:t>
            </a:r>
            <a:r>
              <a:rPr b="1" lang="es-ES" sz="2800" spc="-1" strike="noStrike">
                <a:solidFill>
                  <a:srgbClr val="eff6ef"/>
                </a:solidFill>
                <a:latin typeface="Arial"/>
              </a:rPr>
              <a:t>	</a:t>
            </a:r>
            <a:r>
              <a:rPr b="1" lang="es-ES" sz="2800" spc="-1" strike="noStrike">
                <a:solidFill>
                  <a:srgbClr val="eff6ef"/>
                </a:solidFill>
                <a:latin typeface="Arial"/>
              </a:rPr>
              <a:t>Necesitan modelos de role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1.</a:t>
            </a:r>
            <a:r>
              <a:rPr b="1" lang="es-ES" sz="2800" spc="-1" strike="noStrike">
                <a:solidFill>
                  <a:srgbClr val="eff6ef"/>
                </a:solidFill>
                <a:latin typeface="Arial"/>
              </a:rPr>
              <a:t>	</a:t>
            </a:r>
            <a:r>
              <a:rPr b="1" lang="es-ES" sz="2800" spc="-1" strike="noStrike">
                <a:solidFill>
                  <a:srgbClr val="eff6ef"/>
                </a:solidFill>
                <a:latin typeface="Arial"/>
              </a:rPr>
              <a:t>Están ocupadas: responsabilidades familiares, personales y de trabaj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2.</a:t>
            </a:r>
            <a:r>
              <a:rPr b="1" lang="es-ES" sz="2800" spc="-1" strike="noStrike">
                <a:solidFill>
                  <a:srgbClr val="eff6ef"/>
                </a:solidFill>
                <a:latin typeface="Arial"/>
              </a:rPr>
              <a:t>	</a:t>
            </a:r>
            <a:r>
              <a:rPr b="1" lang="es-ES" sz="2800" spc="-1" strike="noStrike">
                <a:solidFill>
                  <a:srgbClr val="eff6ef"/>
                </a:solidFill>
                <a:latin typeface="Arial"/>
              </a:rPr>
              <a:t>Quieren relevancia—se unirán si un ministerio les interesa</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3.</a:t>
            </a:r>
            <a:r>
              <a:rPr b="1" lang="es-ES" sz="2800" spc="-1" strike="noStrike">
                <a:solidFill>
                  <a:srgbClr val="eff6ef"/>
                </a:solidFill>
                <a:latin typeface="Arial"/>
              </a:rPr>
              <a:t>	</a:t>
            </a:r>
            <a:r>
              <a:rPr b="1" lang="es-ES" sz="2800" spc="-1" strike="noStrike">
                <a:solidFill>
                  <a:srgbClr val="eff6ef"/>
                </a:solidFill>
                <a:latin typeface="Arial"/>
              </a:rPr>
              <a:t>Tienen necesidades práctica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4.</a:t>
            </a:r>
            <a:r>
              <a:rPr b="1" lang="es-ES" sz="2800" spc="-1" strike="noStrike">
                <a:solidFill>
                  <a:srgbClr val="eff6ef"/>
                </a:solidFill>
                <a:latin typeface="Arial"/>
              </a:rPr>
              <a:t>	</a:t>
            </a:r>
            <a:r>
              <a:rPr b="1" lang="es-ES" sz="2800" spc="-1" strike="noStrike">
                <a:solidFill>
                  <a:srgbClr val="eff6ef"/>
                </a:solidFill>
                <a:latin typeface="Arial"/>
              </a:rPr>
              <a:t>Tienen necesidades específicas cambiantes en varias etapas se sus vidas</a:t>
            </a:r>
            <a:endParaRPr b="0" lang="en-US" sz="2800" spc="-1" strike="noStrike">
              <a:solidFill>
                <a:srgbClr val="eff6ef"/>
              </a:solidFill>
              <a:latin typeface="Georgia"/>
            </a:endParaRPr>
          </a:p>
          <a:p>
            <a:pPr marL="70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129" name="" descr=""/>
          <p:cNvPicPr/>
          <p:nvPr/>
        </p:nvPicPr>
        <p:blipFill>
          <a:blip r:embed="rId2"/>
          <a:stretch/>
        </p:blipFill>
        <p:spPr>
          <a:xfrm>
            <a:off x="7086600" y="7621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2057040"/>
            <a:ext cx="7467840" cy="5715000"/>
          </a:xfrm>
          <a:prstGeom prst="rect">
            <a:avLst/>
          </a:prstGeom>
          <a:noFill/>
          <a:ln w="0">
            <a:noFill/>
          </a:ln>
        </p:spPr>
        <p:txBody>
          <a:bodyPr lIns="90000" rIns="90000" tIns="46800" bIns="46800" anchor="t">
            <a:noAutofit/>
          </a:bodyPr>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También hay algunas suposiciones de orientación espiritual:</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1.</a:t>
            </a:r>
            <a:r>
              <a:rPr b="0" lang="es-ES" sz="3600" spc="-1" strike="noStrike">
                <a:solidFill>
                  <a:srgbClr val="eff6ef"/>
                </a:solidFill>
                <a:latin typeface="Centaur"/>
              </a:rPr>
              <a:t>	</a:t>
            </a:r>
            <a:r>
              <a:rPr b="0" lang="es-ES" sz="3600" spc="-1" strike="noStrike">
                <a:solidFill>
                  <a:srgbClr val="eff6ef"/>
                </a:solidFill>
                <a:latin typeface="Centaur"/>
              </a:rPr>
              <a:t>Dios se interesa por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2.</a:t>
            </a:r>
            <a:r>
              <a:rPr b="0" lang="es-ES" sz="3600" spc="-1" strike="noStrike">
                <a:solidFill>
                  <a:srgbClr val="eff6ef"/>
                </a:solidFill>
                <a:latin typeface="Centaur"/>
              </a:rPr>
              <a:t>	</a:t>
            </a:r>
            <a:r>
              <a:rPr b="0" lang="es-ES" sz="3600" spc="-1" strike="noStrike">
                <a:solidFill>
                  <a:srgbClr val="eff6ef"/>
                </a:solidFill>
                <a:latin typeface="Centaur"/>
              </a:rPr>
              <a:t>Jesucristo es el ejemplo de cómo deben ser tratadas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3.</a:t>
            </a:r>
            <a:r>
              <a:rPr b="0" lang="es-ES" sz="3600" spc="-1" strike="noStrike">
                <a:solidFill>
                  <a:srgbClr val="eff6ef"/>
                </a:solidFill>
                <a:latin typeface="Centaur"/>
              </a:rPr>
              <a:t>	</a:t>
            </a:r>
            <a:r>
              <a:rPr b="0" lang="es-ES" sz="3600" spc="-1" strike="noStrike">
                <a:solidFill>
                  <a:srgbClr val="eff6ef"/>
                </a:solidFill>
                <a:latin typeface="Centaur"/>
              </a:rPr>
              <a:t>Las mujeres son sensibles al alimento espiritual</a:t>
            </a:r>
            <a:endParaRPr b="0" lang="en-US" sz="3600" spc="-1" strike="noStrike">
              <a:solidFill>
                <a:srgbClr val="eff6ef"/>
              </a:solidFill>
              <a:latin typeface="Georgia"/>
            </a:endParaRPr>
          </a:p>
        </p:txBody>
      </p:sp>
      <p:sp>
        <p:nvSpPr>
          <p:cNvPr id="131" name=""/>
          <p:cNvSpPr/>
          <p:nvPr/>
        </p:nvSpPr>
        <p:spPr>
          <a:xfrm>
            <a:off x="2209680" y="457200"/>
            <a:ext cx="5791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a las  mujeres</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1905120"/>
            <a:ext cx="731520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Dios es la solución máxima de sus problemas y actitud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A la Iglesia Adventista del Séptimo día le interesan las mujer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Las mujeres se encuentran en una variedad de niveles de crecimiento espiritual</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Las mujeres han estado involucradas con la misión de la iglesia en el pasado. Su liderazgo y participación no son algo nuevo.</a:t>
            </a:r>
            <a:endParaRPr b="0" lang="en-US" sz="2800" spc="-1" strike="noStrike">
              <a:solidFill>
                <a:srgbClr val="eff6ef"/>
              </a:solidFill>
              <a:latin typeface="Georg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1523520"/>
            <a:ext cx="7543800" cy="434340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rPr>
              <a:t>  </a:t>
            </a:r>
            <a:r>
              <a:rPr b="1" lang="es-ES" sz="3200" spc="-1" strike="noStrike">
                <a:solidFill>
                  <a:srgbClr val="ffff00"/>
                </a:solidFill>
                <a:latin typeface="Centaur"/>
              </a:rPr>
              <a:t>Todo creyente nacido de nuevo debería tener un ministerio. </a:t>
            </a: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ff6ef"/>
                </a:solidFill>
                <a:latin typeface="Centaur"/>
              </a:rPr>
              <a:t>“</a:t>
            </a:r>
            <a:r>
              <a:rPr b="1" i="1" lang="es-ES" sz="3200" spc="-1" strike="noStrike">
                <a:solidFill>
                  <a:srgbClr val="eff6ef"/>
                </a:solidFill>
                <a:latin typeface="Centaur"/>
              </a:rPr>
              <a:t>Por tanto id, y haced discípulos a todas las naciones, bautizándolos en el nombre del Padre, y del Hijo, y del Espíritu Santo; enseñándoles que guarden todas las cosas que os he mandado; y he aquí yo estoy con vosotros todos los días, hasta el fin del mundo</a:t>
            </a:r>
            <a:r>
              <a:rPr b="1" lang="es-ES" sz="3200" spc="-1" strike="noStrike">
                <a:solidFill>
                  <a:srgbClr val="eff6ef"/>
                </a:solidFill>
                <a:latin typeface="Centaur"/>
              </a:rPr>
              <a:t>”.</a:t>
            </a:r>
            <a:r>
              <a:rPr b="1" i="1" lang="es-ES" sz="3200" spc="-1" strike="noStrike">
                <a:solidFill>
                  <a:srgbClr val="eff6ef"/>
                </a:solidFill>
                <a:latin typeface="Centaur"/>
              </a:rPr>
              <a:t> Amén</a:t>
            </a:r>
            <a:r>
              <a:rPr b="1" lang="en-US" sz="3200" spc="-1" strike="noStrike">
                <a:solidFill>
                  <a:srgbClr val="eff6ef"/>
                </a:solidFill>
                <a:latin typeface="Centaur"/>
              </a:rPr>
              <a:t>.   Mateo 28:19, 20.</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iglesia adventista enseña el sacerdocio de todos los creyentes</a:t>
            </a:r>
            <a:r>
              <a:rPr b="1" lang="en-US" sz="3600" spc="-1" strike="noStrike">
                <a:solidFill>
                  <a:srgbClr val="ffff00"/>
                </a:solidFill>
                <a:latin typeface="Centaur"/>
              </a:rPr>
              <a:t>:</a:t>
            </a:r>
            <a:r>
              <a:rPr b="0"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Mas vosotros sois linaje escogido, real sacerdocio, nación santa, pueblo adquirido por Dios, para que anunciéis las virtudes de aquel que os llamó de las tinieblas a su luz admirable</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f6ef"/>
                </a:solidFill>
                <a:latin typeface="Centaur"/>
              </a:rPr>
              <a:t>1 Pedro 2:9.</a:t>
            </a:r>
            <a:r>
              <a:rPr b="0" lang="en-US" sz="3600" spc="-1" strike="noStrike">
                <a:solidFill>
                  <a:srgbClr val="eff6ef"/>
                </a:solidFill>
                <a:latin typeface="Georgia"/>
              </a:rPr>
              <a:t> </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Biblia ordena a las mujeres a ministrar unas a otras</a:t>
            </a:r>
            <a:r>
              <a:rPr b="1" lang="en-US" sz="3600" spc="-1" strike="noStrike">
                <a:solidFill>
                  <a:srgbClr val="ffff00"/>
                </a:solidFill>
                <a:latin typeface="Centaur"/>
              </a:rPr>
              <a:t>:</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Las ancianas asimismo sean reverentes en su porte; no calumniadoras, no esclavas del vino, maestras del bien; que enseñen a las mujeres jóvenes a amar a sus maridos y a sus hijos, a ser prudentes, castas, cuidadosas de su casa, buenas, sujetas a sus maridos, para que la palabra de Dios no sea blasfemada</a:t>
            </a:r>
            <a:r>
              <a:rPr b="1" i="1" lang="en-US" sz="3600" spc="-1" strike="noStrike">
                <a:solidFill>
                  <a:srgbClr val="eff6ef"/>
                </a:solidFill>
                <a:latin typeface="Centaur"/>
              </a:rPr>
              <a:t>.</a:t>
            </a:r>
            <a:r>
              <a:rPr b="0" i="1" lang="en-US" sz="3600" spc="-1" strike="noStrike">
                <a:solidFill>
                  <a:srgbClr val="eff6ef"/>
                </a:solidFill>
                <a:latin typeface="Centaur"/>
              </a:rPr>
              <a:t> </a:t>
            </a:r>
            <a:r>
              <a:rPr b="0" lang="en-US" sz="3600" spc="-1" strike="noStrike">
                <a:solidFill>
                  <a:srgbClr val="eff6ef"/>
                </a:solidFill>
                <a:latin typeface="Centaur"/>
              </a:rPr>
              <a:t>Tito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7720" y="1523520"/>
            <a:ext cx="8077320" cy="6248520"/>
          </a:xfrm>
          <a:prstGeom prst="rect">
            <a:avLst/>
          </a:prstGeom>
          <a:noFill/>
          <a:ln w="0">
            <a:noFill/>
          </a:ln>
        </p:spPr>
        <p:txBody>
          <a:bodyPr lIns="90000" rIns="90000" tIns="46800" bIns="46800" anchor="t">
            <a:noAutofit/>
          </a:bodyPr>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El mundo ha cambiado para las mujeres</a:t>
            </a:r>
            <a:endParaRPr b="0" lang="en-US" sz="3200" spc="-1" strike="noStrike">
              <a:solidFill>
                <a:srgbClr val="eff6ef"/>
              </a:solidFill>
              <a:latin typeface="Georgia"/>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ayudar a las mujeres a encontrar sus dones espirituale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ser creativos al desarrollar ministerio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05120"/>
            <a:ext cx="70866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os ministerios deberían estar basados en las necesidades</a:t>
            </a:r>
            <a:endParaRPr b="0" lang="en-US" sz="3200" spc="-1" strike="noStrike">
              <a:solidFill>
                <a:srgbClr val="eff6ef"/>
              </a:solidFill>
              <a:latin typeface="Georg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a mayoría de las mujeres no tienen tiempo para otra reunión</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838080" y="1980720"/>
            <a:ext cx="411480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Investigación en la naturaleza de las cosas basándose en el razonamiento lógico en lugar de los métodos empíricos</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nálisis y crítica de las creencias fundamentales mientras se conceptúan y formulan.</a:t>
            </a:r>
            <a:endParaRPr b="0" lang="en-US" sz="2400" spc="-1" strike="noStrike">
              <a:solidFill>
                <a:srgbClr val="eff6ef"/>
              </a:solidFill>
              <a:latin typeface="Georg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6ef"/>
              </a:solidFill>
              <a:latin typeface="Georgia"/>
            </a:endParaRPr>
          </a:p>
        </p:txBody>
      </p:sp>
      <p:pic>
        <p:nvPicPr>
          <p:cNvPr id="95" name="" descr=""/>
          <p:cNvPicPr/>
          <p:nvPr/>
        </p:nvPicPr>
        <p:blipFill>
          <a:blip r:embed="rId2"/>
          <a:srcRect l="0" t="9094" r="3793" b="2274"/>
          <a:stretch/>
        </p:blipFill>
        <p:spPr>
          <a:xfrm>
            <a:off x="5686560" y="2057400"/>
            <a:ext cx="282240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a:t>
            </a:r>
            <a:r>
              <a:rPr b="1" lang="es-ES" sz="4400" spc="-1" strike="noStrike">
                <a:solidFill>
                  <a:srgbClr val="eff6ef"/>
                </a:solidFill>
                <a:latin typeface="Centaur"/>
              </a:rPr>
              <a:t> </a:t>
            </a:r>
            <a:r>
              <a:rPr b="0" lang="es-ES" sz="3200" spc="-1" strike="noStrike">
                <a:solidFill>
                  <a:srgbClr val="eff6ef"/>
                </a:solidFill>
                <a:latin typeface="Arial"/>
              </a:rPr>
              <a:t>Ministerio de curación,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76520" y="533520"/>
            <a:ext cx="5486400" cy="5867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s importante proveer entrenamiento de liderazgo y tutoría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l ministerio de la mujer consiste en todo lo que hacen las mujeres en la Iglesia</a:t>
            </a:r>
            <a:endParaRPr b="0" lang="en-US" sz="3200" spc="-1" strike="noStrike">
              <a:solidFill>
                <a:srgbClr val="eff6ef"/>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xiste una gran variedad de ministerios disponibles</a:t>
            </a:r>
            <a:endParaRPr b="0" lang="en-US" sz="3200" spc="-1" strike="noStrike">
              <a:solidFill>
                <a:srgbClr val="eff6ef"/>
              </a:solidFill>
              <a:latin typeface="Georgia"/>
            </a:endParaRPr>
          </a:p>
        </p:txBody>
      </p:sp>
      <p:pic>
        <p:nvPicPr>
          <p:cNvPr id="140"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 </a:t>
            </a:r>
            <a:r>
              <a:rPr b="1" i="1" lang="es-ES" sz="3200" spc="-1" strike="noStrike">
                <a:solidFill>
                  <a:srgbClr val="eff6ef"/>
                </a:solidFill>
                <a:latin typeface="Arial"/>
              </a:rPr>
              <a:t>Ministerio de curación</a:t>
            </a:r>
            <a:r>
              <a:rPr b="1" lang="es-ES" sz="3200" spc="-1" strike="noStrike">
                <a:solidFill>
                  <a:srgbClr val="eff6ef"/>
                </a:solidFill>
                <a:latin typeface="Arial"/>
              </a:rPr>
              <a:t>,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523880" y="525780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3" name="" descr=""/>
          <p:cNvPicPr/>
          <p:nvPr/>
        </p:nvPicPr>
        <p:blipFill>
          <a:blip r:embed="rId3"/>
          <a:stretch/>
        </p:blipFill>
        <p:spPr>
          <a:xfrm>
            <a:off x="6629400" y="1905120"/>
            <a:ext cx="1990800" cy="3657600"/>
          </a:xfrm>
          <a:prstGeom prst="rect">
            <a:avLst/>
          </a:prstGeom>
          <a:ln w="0">
            <a:noFill/>
          </a:ln>
        </p:spPr>
      </p:pic>
      <p:sp>
        <p:nvSpPr>
          <p:cNvPr id="144" name=""/>
          <p:cNvSpPr/>
          <p:nvPr/>
        </p:nvSpPr>
        <p:spPr>
          <a:xfrm>
            <a:off x="457200" y="2286000"/>
            <a:ext cx="579132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eff6ef"/>
                </a:solidFill>
                <a:latin typeface="Centaur"/>
              </a:rPr>
              <a:t>Seis temáticas difíciles que enfrentan las mujeres</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400" y="1752120"/>
            <a:ext cx="5029200" cy="4419720"/>
          </a:xfrm>
          <a:prstGeom prst="rect">
            <a:avLst/>
          </a:prstGeom>
          <a:noFill/>
          <a:ln w="0">
            <a:noFill/>
          </a:ln>
        </p:spPr>
        <p:txBody>
          <a:bodyPr lIns="90000" rIns="90000" tIns="46800" bIns="46800" anchor="t">
            <a:normAutofit/>
          </a:bodyPr>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Pobreza </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Riesgos de salud</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lfabetización</a:t>
            </a:r>
            <a:endParaRPr b="0" lang="en-US" sz="3600" spc="-1" strike="noStrike">
              <a:solidFill>
                <a:srgbClr val="eff6ef"/>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05120"/>
            <a:ext cx="4953240" cy="4495680"/>
          </a:xfrm>
          <a:prstGeom prst="rect">
            <a:avLst/>
          </a:prstGeom>
          <a:noFill/>
          <a:ln w="0">
            <a:noFill/>
          </a:ln>
        </p:spPr>
        <p:txBody>
          <a:bodyPr lIns="90000" rIns="90000" tIns="46800" bIns="46800" anchor="t">
            <a:normAutofit/>
          </a:bodyPr>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Carga laboral</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buso</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ntrenamiento de liderazgo y tutoría</a:t>
            </a:r>
            <a:endParaRPr b="0" lang="en-US" sz="3600" spc="-1" strike="noStrike">
              <a:solidFill>
                <a:srgbClr val="eff6ef"/>
              </a:solidFill>
              <a:latin typeface="Georgia"/>
            </a:endParaRPr>
          </a:p>
        </p:txBody>
      </p:sp>
      <p:sp>
        <p:nvSpPr>
          <p:cNvPr id="147"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8"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9"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0"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2"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Cuando ha de realizarse una obra grande y decisiva, Dios escoge a hombres y mujeres para hacer su obra, y esta obra sentirá la pérdida si los talentos de ambas clases no son combinados” </a:t>
            </a:r>
            <a:br>
              <a:rPr sz="3200"/>
            </a:br>
            <a:r>
              <a:rPr b="1" i="1" lang="es-ES" sz="3200" spc="-1" strike="noStrike">
                <a:solidFill>
                  <a:srgbClr val="eff6ef"/>
                </a:solidFill>
                <a:latin typeface="Arial"/>
              </a:rPr>
              <a:t>El Evangelismo</a:t>
            </a:r>
            <a:r>
              <a:rPr b="1" lang="es-ES" sz="3200" spc="-1" strike="noStrike">
                <a:solidFill>
                  <a:srgbClr val="eff6ef"/>
                </a:solidFill>
                <a:latin typeface="Arial"/>
              </a:rPr>
              <a:t> p. 343.</a:t>
            </a:r>
            <a:endParaRPr b="1" lang="en-US" sz="3200" spc="-1" strike="noStrike">
              <a:solidFill>
                <a:srgbClr val="eff6ef"/>
              </a:solidFill>
              <a:latin typeface="Georgia"/>
            </a:endParaRPr>
          </a:p>
        </p:txBody>
      </p:sp>
      <p:pic>
        <p:nvPicPr>
          <p:cNvPr id="154" name="" descr=""/>
          <p:cNvPicPr/>
          <p:nvPr/>
        </p:nvPicPr>
        <p:blipFill>
          <a:blip r:embed="rId2"/>
          <a:stretch/>
        </p:blipFill>
        <p:spPr>
          <a:xfrm>
            <a:off x="1143000" y="28195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Nunca hubo un tiempo en que se necesitaran más obreros que ahora.  Hay hermanos y hermanas en todas nuestras filas que deben disciplinarse para dedicarse a esta obra; algo debe hacerse en todas nuestras iglesias para esparcir la verdad.  Es deber de todos estudiar los diversos puntos de nuestra fe.”  </a:t>
            </a:r>
            <a:br>
              <a:rPr sz="3200"/>
            </a:br>
            <a:r>
              <a:rPr b="1" i="1" lang="es-ES" sz="3200" spc="-1" strike="noStrike">
                <a:solidFill>
                  <a:srgbClr val="eff6ef"/>
                </a:solidFill>
                <a:latin typeface="Arial"/>
              </a:rPr>
              <a:t>El colportor evangélico</a:t>
            </a:r>
            <a:r>
              <a:rPr b="1" lang="es-ES" sz="3200" spc="-1" strike="noStrike">
                <a:solidFill>
                  <a:srgbClr val="eff6ef"/>
                </a:solidFill>
                <a:latin typeface="Arial"/>
              </a:rPr>
              <a:t>, p. 3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7720" y="2361960"/>
            <a:ext cx="7696440" cy="647676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Arial"/>
              </a:rPr>
              <a:t>  </a:t>
            </a:r>
            <a:r>
              <a:rPr b="1" lang="en-US" sz="2800" spc="-1" strike="noStrike">
                <a:solidFill>
                  <a:srgbClr val="eff6ef"/>
                </a:solidFill>
                <a:latin typeface="Arial"/>
              </a:rPr>
              <a:t>“</a:t>
            </a:r>
            <a:r>
              <a:rPr b="1" lang="es-ES" sz="2800" spc="-1" strike="noStrike">
                <a:solidFill>
                  <a:srgbClr val="eff6ef"/>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1523880"/>
            <a:ext cx="4800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Todas las ciencias menos artes prácticas y preceptos tecnológicos</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Un sistema de principios fundamentales o motivadores: base de acción o creencia</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a síntesis de todo aprendizaje</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os valores generales por los que uno vive</a:t>
            </a:r>
            <a:endParaRPr b="0" lang="en-US" sz="2800" spc="-1" strike="noStrike">
              <a:solidFill>
                <a:srgbClr val="eff6ef"/>
              </a:solidFill>
              <a:latin typeface="Georgi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7" name="" descr=""/>
          <p:cNvPicPr/>
          <p:nvPr/>
        </p:nvPicPr>
        <p:blipFill>
          <a:blip r:embed="rId2"/>
          <a:srcRect l="0" t="9094" r="3793" b="2274"/>
          <a:stretch/>
        </p:blipFill>
        <p:spPr>
          <a:xfrm>
            <a:off x="5715000" y="1676520"/>
            <a:ext cx="3019320" cy="47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523520" y="1599840"/>
            <a:ext cx="6324840" cy="4419720"/>
          </a:xfrm>
          <a:prstGeom prst="rect">
            <a:avLst/>
          </a:prstGeom>
          <a:noFill/>
          <a:ln w="0">
            <a:noFill/>
          </a:ln>
        </p:spPr>
        <p:txBody>
          <a:bodyPr lIns="90000" rIns="90000" tIns="46800" bIns="46800" anchor="t">
            <a:normAutofit/>
          </a:bodyPr>
          <a:p>
            <a:pPr marL="343080" indent="-343080" algn="ctr">
              <a:lnSpc>
                <a:spcPct val="8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Llama a mujeres perseverantes, que aparten su atención del yo y la conveniencia personal, y la concentren en Cristo, hablando palabras de verdad, orando con las personas a las cuales tienen acceso, trabajando por la conversión de las almas.” </a:t>
            </a:r>
            <a:r>
              <a:rPr b="1" i="1" lang="es-ES" sz="3200" spc="-1" strike="noStrike">
                <a:solidFill>
                  <a:srgbClr val="eff6ef"/>
                </a:solidFill>
                <a:latin typeface="Arial"/>
              </a:rPr>
              <a:t>Joyas de los testimonios</a:t>
            </a:r>
            <a:r>
              <a:rPr b="1" lang="es-ES" sz="3200" spc="-1" strike="noStrike">
                <a:solidFill>
                  <a:srgbClr val="eff6ef"/>
                </a:solidFill>
                <a:latin typeface="Arial"/>
              </a:rPr>
              <a:t>, T. 2, p. 405.</a:t>
            </a:r>
            <a:endParaRPr b="0" lang="en-US" sz="3200" spc="-1" strike="noStrike">
              <a:solidFill>
                <a:srgbClr val="eff6ef"/>
              </a:solidFill>
              <a:latin typeface="Georgi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4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a:t>
            </a:r>
            <a:br>
              <a:rPr sz="3200"/>
            </a:br>
            <a:r>
              <a:rPr b="1" i="1" lang="es-ES" sz="3600" spc="-1" strike="noStrike">
                <a:solidFill>
                  <a:srgbClr val="eff6ef"/>
                </a:solidFill>
                <a:latin typeface="Arial"/>
              </a:rPr>
              <a:t>El Evangelismo</a:t>
            </a:r>
            <a:r>
              <a:rPr b="1" lang="es-ES" sz="3600" spc="-1" strike="noStrike">
                <a:solidFill>
                  <a:srgbClr val="eff6ef"/>
                </a:solidFill>
                <a:latin typeface="Arial"/>
              </a:rPr>
              <a:t>, p 34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62120"/>
            <a:ext cx="777240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eñor tiene una obra tanto para las mujeres como para los hombres.  Ellas pueden hacer una buena obra para Dios si quieren aprender primero en la escuela de Cristo la preciosa  e importantísima lección de la mansedumbre.  No sólo deben llevar el nombre de Cristo, sino poseer su Espíritu.  Deben andar como él anduvo, purificando su alma de todo lo que contamina.  Entonces podrán beneficiar a otros presentando la suma suficiencia de Jesús.” </a:t>
            </a:r>
            <a:r>
              <a:rPr b="1" i="1" lang="es-ES" sz="2800" spc="-1" strike="noStrike">
                <a:solidFill>
                  <a:srgbClr val="eff6ef"/>
                </a:solidFill>
                <a:latin typeface="Arial"/>
              </a:rPr>
              <a:t>Joyas de los testimonios</a:t>
            </a:r>
            <a:r>
              <a:rPr b="1" lang="es-ES" sz="2800" spc="-1" strike="noStrike">
                <a:solidFill>
                  <a:srgbClr val="eff6ef"/>
                </a:solidFill>
                <a:latin typeface="Arial"/>
              </a:rPr>
              <a:t>, T. 2, p. 404.</a:t>
            </a:r>
            <a:br>
              <a:rPr sz="2800"/>
            </a:b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304560"/>
            <a:ext cx="701028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uscitará hombres y mujeres entre la gente corriente para hacer su obra, así como en la antigüedad llamó a pescadores para que fuesen sus discípulos.  Pronto habrá un despertar que sorprenderá a muchos.  Aquellos que no comprenden la necesidad de lo que debe hacerse, serán pasados por alto, y los mensajeros celestiales trabajarán con aquellos que son llamados gente común, capacitándolos para llevar la verdad a muchos lugares.”</a:t>
            </a:r>
            <a:br>
              <a:rPr sz="2800"/>
            </a:br>
            <a:r>
              <a:rPr b="1" lang="es-ES" sz="2800" spc="-1" strike="noStrike">
                <a:solidFill>
                  <a:srgbClr val="eff6ef"/>
                </a:solidFill>
                <a:latin typeface="Arial"/>
              </a:rPr>
              <a:t>Eventos de los últimos días, p. 208.</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Las mujeres que tienen la obra en el corazón, pueden realizar una tarea en los distritos en que residen.  Cristo habla de las mujeres que lo ayudaron a presentar la verdad a los demás, y Pablo habla también de mujeres que trabajaron con él en el Evangelio.  Pero cuan limitada es la obra hecha por las que podrían hacer un gran trabajo si quisieran”</a:t>
            </a:r>
            <a:br>
              <a:rPr sz="2800"/>
            </a:br>
            <a:r>
              <a:rPr b="1" i="1" lang="es-ES" sz="2800" spc="-1" strike="noStrike">
                <a:solidFill>
                  <a:srgbClr val="eff6ef"/>
                </a:solidFill>
                <a:latin typeface="Arial"/>
                <a:ea typeface="Times New Roman"/>
              </a:rPr>
              <a:t>El evangelismo</a:t>
            </a:r>
            <a:r>
              <a:rPr b="1" lang="es-ES" sz="2800" spc="-1" strike="noStrike">
                <a:solidFill>
                  <a:srgbClr val="eff6ef"/>
                </a:solidFill>
                <a:latin typeface="Arial"/>
                <a:ea typeface="Times New Roman"/>
              </a:rPr>
              <a:t>, p. 340.</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2133360"/>
            <a:ext cx="7925040" cy="2895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Y en los postreros días, dice Dios,</a:t>
            </a:r>
            <a:endParaRPr b="0" lang="en-US" sz="2800" spc="-1" strike="noStrike">
              <a:solidFill>
                <a:srgbClr val="eff6ef"/>
              </a:solidFill>
              <a:latin typeface="Georgi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ea typeface="Times New Roman"/>
              </a:rPr>
              <a:t>derramaré de mi Espíritu sobre toda carne, y vuestros hijos y vuestras hijas profetizarán; vuestros jóvenes verán visiones, y vuestros ancianos soñarán sueños; y de cierto sobre mis siervos y sobre mis siervas en aquellos días derramaré de mi espíritu y profetizarán.”</a:t>
            </a:r>
            <a:endParaRPr b="0" lang="en-US" sz="28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ea typeface="Times New Roman"/>
              </a:rPr>
              <a:t>Hechos 2: 17, 18.</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85440"/>
            <a:ext cx="73152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ff6ef"/>
                </a:solidFill>
                <a:latin typeface="Arial"/>
              </a:rPr>
              <a:t>El desafío más grande es ayudar a las mujeres, y los hombres, a comprender que no es un club social, no es una sociedad femenina, sino un ministerio.</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Ministerio de la Mujer es un ministerio que nutre, apoya e inspira a las mujeres de una manera única y personal.</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9907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00"/>
                </a:solidFill>
                <a:latin typeface="Centaur"/>
              </a:rPr>
              <a:t>¿Ministrar a quién?</a:t>
            </a:r>
            <a:endParaRPr b="1" lang="en-US" sz="6000" spc="-1" strike="noStrike">
              <a:solidFill>
                <a:srgbClr val="eff6ef"/>
              </a:solidFill>
              <a:latin typeface="Georgia"/>
            </a:endParaRPr>
          </a:p>
        </p:txBody>
      </p:sp>
      <p:sp>
        <p:nvSpPr>
          <p:cNvPr id="101" name="PlaceHolder 2"/>
          <p:cNvSpPr>
            <a:spLocks noGrp="1"/>
          </p:cNvSpPr>
          <p:nvPr>
            <p:ph/>
          </p:nvPr>
        </p:nvSpPr>
        <p:spPr>
          <a:xfrm>
            <a:off x="2438280" y="3429000"/>
            <a:ext cx="5105520" cy="2286000"/>
          </a:xfrm>
          <a:prstGeom prst="rect">
            <a:avLst/>
          </a:prstGeom>
          <a:noFill/>
          <a:ln w="0">
            <a:noFill/>
          </a:ln>
        </p:spPr>
        <p:txBody>
          <a:bodyPr lIns="90000" rIns="90000" tIns="46800" bIns="46800" anchor="t">
            <a:normAutofit fontScale="9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ff6ef"/>
                </a:solidFill>
                <a:latin typeface="Centaur"/>
              </a:rPr>
              <a:t>Hagan una lista de todas las categorías que se les ocurran:</a:t>
            </a:r>
            <a:endParaRPr b="0" lang="en-US" sz="4400" spc="-1" strike="noStrike">
              <a:solidFill>
                <a:srgbClr val="eff6ef"/>
              </a:solidFill>
              <a:latin typeface="Georgia"/>
            </a:endParaRPr>
          </a:p>
        </p:txBody>
      </p:sp>
      <p:pic>
        <p:nvPicPr>
          <p:cNvPr id="102" name="" descr=""/>
          <p:cNvPicPr/>
          <p:nvPr/>
        </p:nvPicPr>
        <p:blipFill>
          <a:blip r:embed="rId2"/>
          <a:stretch/>
        </p:blipFill>
        <p:spPr>
          <a:xfrm>
            <a:off x="1600200" y="20574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a:t>
            </a:r>
            <a:endParaRPr b="1" lang="en-US" sz="4800" spc="-1" strike="noStrike">
              <a:solidFill>
                <a:srgbClr val="eff6ef"/>
              </a:solidFill>
              <a:latin typeface="Georgia"/>
            </a:endParaRPr>
          </a:p>
        </p:txBody>
      </p:sp>
      <p:sp>
        <p:nvSpPr>
          <p:cNvPr id="104" name="PlaceHolder 2"/>
          <p:cNvSpPr>
            <a:spLocks noGrp="1"/>
          </p:cNvSpPr>
          <p:nvPr>
            <p:ph/>
          </p:nvPr>
        </p:nvSpPr>
        <p:spPr>
          <a:xfrm>
            <a:off x="837720" y="1752480"/>
            <a:ext cx="449604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solter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profesionale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Obreros laico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mpleadas de Iglesia</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Viudas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minusváli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divorcia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sposas de pastor</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adres jóven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 </a:t>
            </a:r>
            <a:r>
              <a:rPr b="1" lang="es-ES" sz="2800" spc="-1" strike="noStrike">
                <a:solidFill>
                  <a:srgbClr val="ffff00"/>
                </a:solidFill>
                <a:latin typeface="Centaur"/>
              </a:rPr>
              <a:t>continuación</a:t>
            </a:r>
            <a:endParaRPr b="1" lang="en-US" sz="2800" spc="-1" strike="noStrike">
              <a:solidFill>
                <a:srgbClr val="eff6ef"/>
              </a:solidFill>
              <a:latin typeface="Georgia"/>
            </a:endParaRPr>
          </a:p>
        </p:txBody>
      </p:sp>
      <p:sp>
        <p:nvSpPr>
          <p:cNvPr id="106" name="PlaceHolder 2"/>
          <p:cNvSpPr>
            <a:spLocks noGrp="1"/>
          </p:cNvSpPr>
          <p:nvPr>
            <p:ph/>
          </p:nvPr>
        </p:nvSpPr>
        <p:spPr>
          <a:xfrm>
            <a:off x="837720" y="1980720"/>
            <a:ext cx="48769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abus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Voluntarias de iglesia agot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cuidando tanto padres como hijo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que se sienten culpables porque sus hijos se han ido de la Iglesia</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dolescentes y mujeres universitari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adres soltera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Sede Administrativa</cp:lastModifiedBy>
  <dcterms:modified xsi:type="dcterms:W3CDTF">2005-09-14T13:11:32Z</dcterms:modified>
  <cp:revision>48</cp:revision>
  <dc:subject/>
  <dc:title>PowerPoint Presentation</dc:title>
</cp:coreProperties>
</file>