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8A93-A1DC-45AC-AD6D-6342D40BF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1112-0102-455D-9B00-907FE88EC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A7E6-E591-4B60-8C70-0BF281C28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950E-A951-4F70-A68D-E36A58CD3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4BEE-10C1-42C7-8856-5A446B2D7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8EE0-A3BA-411C-961A-7A287C33C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82C0-03BB-44D7-9B90-4CDA22CB6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793E-D678-46F9-824D-6977A3C4B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23C1-C1E8-499D-A26F-90CB42AB6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F6CE-3742-488B-8F96-87F6752B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FC3F-7C0A-49B3-AB8F-59CFF307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A5AE-4276-48D5-85F5-F734AF36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4A0B4-F05B-4CD4-9920-A9791E04E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07920" y="7164360"/>
            <a:ext cx="51055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Filosofía de los Ministerios de la Mujer</a:t>
            </a:r>
            <a:endParaRPr b="1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3T16:28:11Z</dcterms:created>
  <dc:creator>Sede Administrativa</dc:creator>
  <dc:description/>
  <dc:language>en-US</dc:language>
  <cp:lastModifiedBy>Sede Administrativa</cp:lastModifiedBy>
  <dcterms:modified xsi:type="dcterms:W3CDTF">2005-06-13T16:41:35Z</dcterms:modified>
  <cp:revision>3</cp:revision>
  <dc:subject/>
  <dc:title>Slide 1</dc:title>
</cp:coreProperties>
</file>