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D41-0F19-4F37-A04D-9AE3598A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C24-7392-46E8-922B-0133497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0B4-9FDF-46CB-8CB2-33937BC9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72B-4DFD-4AD2-89D7-5C1AB3A3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317-1C4B-471F-A859-62D2813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820-35CC-451B-8FB0-2E171D8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41E-0674-465A-A7C5-185564F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C76-2289-4B7D-A273-B343770B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4F9-2994-4313-A73D-1FDA51E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59C-4AC3-497E-A77B-727B5B9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B94-E649-4515-906B-B908221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CD2-CDD3-458A-9280-0681DB0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CBA2-7005-4AE4-AC1D-A7B2FABC1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0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losofía de los Ministerios de la Mujer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1:35Z</dcterms:modified>
  <cp:revision>3</cp:revision>
  <dc:subject/>
  <dc:title>Slide 1</dc:title>
</cp:coreProperties>
</file>