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2CD-D1D2-42E1-8629-BE291F90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CC6-64A2-4572-97D7-A5B4655D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921-60EA-4EC2-A603-0852D339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F30-7C8D-48D0-B1E6-9AF0EE6E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D7E-EF4C-4296-9DD1-1CD8DE90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F34-69FF-42E4-9B00-AA5010ED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E97-B55F-4139-A797-43AB7762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CCD-A389-40F6-8F4D-B497C072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031-A894-4A2F-BF7C-95EA2B93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9A5-C4AF-42F3-B1A6-19767595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2C1-746A-442E-A0AC-FCCA6CFF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E66-6CB4-40E8-AB4A-0BFC7FE7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7BC6-E154-49BE-9A1B-E0202AD3F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7164360"/>
            <a:ext cx="5105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losofía de los Ministerios de la Mujer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41:35Z</dcterms:modified>
  <cp:revision>3</cp:revision>
  <dc:subject/>
  <dc:title>Slide 1</dc:title>
</cp:coreProperties>
</file>