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A29-33C8-4B19-95AA-8FA625C3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859-7256-47B1-B01F-4B71B7DF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F10-0A2C-49B6-A0F4-692AA35A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FE9-889F-479B-AA8A-74357405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852-748E-47C6-89AD-E928BA16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508-7E41-492F-9EB2-15350802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A64-694A-4CB8-A9B5-A83653FD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B62-0041-42DC-A49F-402F45DD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41A-9EEB-4A28-B5AA-57CB3F77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115-7CDE-42FF-A8BC-444005B5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1C2-14EF-407C-A42E-63EC7CF1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2EA-7EDC-4186-83E0-92D0A236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3B5C-B626-4787-BBE2-33032C423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05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losofía de los Ministerios de la Mujer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1:35Z</dcterms:modified>
  <cp:revision>3</cp:revision>
  <dc:subject/>
  <dc:title>Slide 1</dc:title>
</cp:coreProperties>
</file>