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7978-784A-4332-9917-BCEAF72F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668-B462-4C3E-BA4D-E7FA3473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C4E1-DA48-40DE-9B48-6982BDF3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28E1-E441-4211-B52F-C4B7C4FD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D897-EAC5-40F7-9E7A-592077F7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C8E9-EE3E-4ED0-B30F-F9F96B9D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C2E2-AF9C-4986-982C-5C5E7F55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B00B-B84E-435D-AE13-53CFF1D3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FFBC-CCC2-47A0-9ED7-401E6BF0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8E2A-C9A4-4B97-86E8-1E5F42BD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CD00-129B-4982-995A-5D60D3B8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3D5C-85AE-4836-970E-60538149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51C2-B6D0-4FAE-BDA0-C5AA19B17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7920" y="7164360"/>
            <a:ext cx="51055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ilosofía de los Ministerios de la Mujer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41:35Z</dcterms:modified>
  <cp:revision>3</cp:revision>
  <dc:subject/>
  <dc:title>Slide 1</dc:title>
</cp:coreProperties>
</file>