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109-9DD1-45AC-A307-6849FA56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7FB-635E-4D30-9D10-65AB6150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6E6-92E5-418A-8467-CD0504E8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19C-8F20-4B66-891A-DD2B0916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E02-687E-4D0A-BE60-2CA2CE63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694-D97C-45F2-B8DB-1FF6E1C4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0D4-14D2-45D0-A307-3818667B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58A-A458-40B5-993F-089B7C8A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883-E225-46D6-8206-F256B072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478-CCD5-42E7-B958-BF259312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DEC-8722-4EE2-925C-1CA065B7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533-2881-4F75-AA12-474F26EF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BC81-3080-42B6-ABA3-C7ABB57BE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38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upos Pequeñ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1:16Z</dcterms:modified>
  <cp:revision>3</cp:revision>
  <dc:subject/>
  <dc:title>Slide 1</dc:title>
</cp:coreProperties>
</file>