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53B3-99E6-4569-AD38-9FED9A62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23BE-BE08-42F6-AB94-C7A59D77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EF44-C96E-44C8-A720-354E95E52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DC69-9327-4687-B053-88B68305E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BB96-1A53-4816-997A-98AFE078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5B82-1DA6-43DA-B999-E9364E8F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46B2-F1FA-499A-86C0-D29458F4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0BB2-1A73-4450-98A0-64CE9324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F63F-203C-4559-9FA5-2E9C5C8D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C214-62DC-424B-AF87-8B10C7D1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2C76-E5E6-4108-BFD0-4A989E99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83A6-8D84-4D6B-8BC6-08934220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290F-C97D-4698-95DE-89DF2C520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13000" y="7164360"/>
            <a:ext cx="3816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rupos Pequeños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6-13T16:31:16Z</dcterms:modified>
  <cp:revision>3</cp:revision>
  <dc:subject/>
  <dc:title>Slide 1</dc:title>
</cp:coreProperties>
</file>