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788-1107-4076-AC85-CDEFA51A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A85-8710-4BCE-8E5F-DBCD29BF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0EB-5804-48DC-B445-54ED565D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B4A-42E3-43D0-B93F-5F1C6274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38B-73B2-4DF8-91D9-0A8C4350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349-F14D-4880-8CF7-F70F8F0B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004-63C7-4716-B45D-4CA22A46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C55-E99E-4120-8861-EF48714C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DBE-A35A-4FD2-8E90-07E20F3B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5D2-78D7-4F9F-99D5-69B7FD94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A06B-105A-4D49-AFD0-9044615B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0846-8C92-41F7-8EED-6CCA621F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A663-7CAA-4147-86C8-85896DB03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38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rupos Pequeño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1:16Z</dcterms:modified>
  <cp:revision>3</cp:revision>
  <dc:subject/>
  <dc:title>Slide 1</dc:title>
</cp:coreProperties>
</file>