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2F04-D94B-4E15-9DF8-568A29967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5B05-A8DB-4855-B8F7-4BBC829F1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BA1B-F0D7-4131-8573-FA3E6FAE8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76FA-CF80-4C45-B0F9-805D048CC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A7EA-01FC-439A-9055-E3C1F90E1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5A40-8BAB-4855-9B0F-213BA0747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58E8-129E-4C4C-8504-AB5650482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7213-56F8-4D2C-97C0-4F311930C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FF3C-6552-442D-BBB7-7A807D361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741C-8DD3-4967-A056-CB06AC78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065A-8BB2-4C11-A770-B56B3B2D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055F-D08D-45D3-8897-671F81A8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E7AA3-99D7-499D-8D46-8C2E71054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13000" y="7164360"/>
            <a:ext cx="3816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Grupos Pequeños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3T16:28:11Z</dcterms:created>
  <dc:creator>Sede Administrativa</dc:creator>
  <dc:description/>
  <dc:language>en-US</dc:language>
  <cp:lastModifiedBy>Sede Administrativa</cp:lastModifiedBy>
  <dcterms:modified xsi:type="dcterms:W3CDTF">2005-06-13T16:31:16Z</dcterms:modified>
  <cp:revision>3</cp:revision>
  <dc:subject/>
  <dc:title>Slide 1</dc:title>
</cp:coreProperties>
</file>