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C3D-705C-40E7-A6F3-8A71D1AF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8EFB-0EB8-4E0D-BDFB-36922CC5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18A-D5F3-41BF-8197-5E2A1A4D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96B-A124-4909-BC97-ACBC0B9C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7F0E-BDCB-4CEC-AEC1-7531B557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60A-04B9-45D4-988F-2B4EE704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DD3-C029-48CF-AC3A-9EBD0EE1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E4F9-8899-489C-8BF6-4A7FA4F6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B95-395C-4C96-92C1-5087A19F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55D9-2966-4417-9CC7-FBEFB420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6B1-82B4-4573-806E-AEEBB51F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1815-C5F9-4516-B3C8-7BC27307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4C52-55AC-47AE-AE88-9DDDF204D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38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rupos Pequeño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1:16Z</dcterms:modified>
  <cp:revision>3</cp:revision>
  <dc:subject/>
  <dc:title>Slide 1</dc:title>
</cp:coreProperties>
</file>