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98E-15E3-4B67-99B1-E2405E7B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F3A-5E5E-4C45-81B3-B4FA25AD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901-F2EB-4062-AC3E-BC553460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2E6-8371-4290-BE63-0E270C27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8B5-C6E8-4B5C-BF51-C9E8A653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82F-5459-4176-A290-3F38F21D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F91-3D2C-4256-81A8-3F9EA828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500-E441-43CE-8CF1-97AFCBDE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D9D-3174-45B2-B46B-3BA48AD6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388-FA2A-478C-9DF5-685F516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248-6BF7-4289-995C-4B580726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B49-0178-4FCA-9524-C8069E3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3107-30D2-4EF2-99F9-E6B6AA7AA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38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upos Pequeñ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1:16Z</dcterms:modified>
  <cp:revision>3</cp:revision>
  <dc:subject/>
  <dc:title>Slide 1</dc:title>
</cp:coreProperties>
</file>