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2B51-46C7-43C0-B144-6C4B727C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4AB1-CD26-444A-901D-1BB0B3CF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702F-61BF-44B2-A11F-83FD2D7F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E446-9342-42FD-84D3-7031D730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AB39-E28E-4D06-B316-698236B7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FE04-4EC5-4143-90BE-19BBBC91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BBEF-4C0D-483D-AC8B-ED2AA657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57C1-7D1B-4DCA-B5F5-37DE4773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C459-C7E2-4DE8-8BA2-3C0FE0DA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DA38-9B37-4958-8F04-8A1A6B24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48E0-C3E8-4AF2-9BCA-1F1A2F5A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8516-B499-4E7C-8E4D-BED40801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5857-4556-41DC-8481-83DE8076B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13000" y="716436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ujeres del Antiguo Testamento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48:49Z</dcterms:modified>
  <cp:revision>5</cp:revision>
  <dc:subject/>
  <dc:title>Slide 1</dc:title>
</cp:coreProperties>
</file>