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4561-FA11-4139-9B9C-69C27268C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2D3B-3C4D-45CB-A09B-E5AD2BE50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5895-A919-46F2-9681-875634DB7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6058-12F9-4E9B-B4BB-8F82CE7A9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FB18-5F19-43A3-A964-078BA51B5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DD77-3589-476D-AFC3-A8BDED280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2B1B-2C43-4A34-9D3A-DC9A6743A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2E58-CDE9-4107-8EA9-27B4003FC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C934-4A40-4B35-82AF-71F6A96BB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E736-DCD8-46D6-BF06-84B1248F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9606-E52A-4A18-BCD8-6CDF7A2A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A4EE-7A68-4A83-BB7A-0D44F66E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77FDA-2AA3-4619-86E8-FE88C6A34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13000" y="7164360"/>
            <a:ext cx="4248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Mujeres del Antiguo Testamento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3T16:28:11Z</dcterms:created>
  <dc:creator>Sede Administrativa</dc:creator>
  <dc:description/>
  <dc:language>en-US</dc:language>
  <cp:lastModifiedBy>Sede Administrativa</cp:lastModifiedBy>
  <dcterms:modified xsi:type="dcterms:W3CDTF">2005-06-13T16:48:49Z</dcterms:modified>
  <cp:revision>5</cp:revision>
  <dc:subject/>
  <dc:title>Slide 1</dc:title>
</cp:coreProperties>
</file>