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CC3-3359-4E87-A9F7-68A9B81A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315-D900-49AE-8596-603F3D63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58C-5584-41FB-B401-CF7998B3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39C-2AB7-4249-838F-45F4FD08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DAF-E8AD-484E-9D26-2B98283A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6E1-878D-41CA-9229-ED803986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FEF-A12C-40DD-8FAB-3E896F3B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EC4-1EE9-477F-8701-5D00CD4A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B0E-CF29-471C-B600-6C0DC51E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3B5-7A1A-464A-BC73-8386532E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37E-F407-4011-AEFF-385343AA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89D-DC7B-4859-8FF2-B818FEFF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1DC1-DCA2-44E5-8DC8-642D853B8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ujeres del Antiguo Testamento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48:49Z</dcterms:modified>
  <cp:revision>5</cp:revision>
  <dc:subject/>
  <dc:title>Slide 1</dc:title>
</cp:coreProperties>
</file>