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C6A234-538C-4070-A44E-FEEB7EC64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95160"/>
            <a:ext cx="4641840" cy="3481560"/>
          </a:xfrm>
          <a:prstGeom prst="rect">
            <a:avLst/>
          </a:prstGeom>
          <a:ln w="0">
            <a:noFill/>
          </a:ln>
        </p:spPr>
      </p:sp>
      <p:sp>
        <p:nvSpPr>
          <p:cNvPr id="14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Introducció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del vientre de una mujer bendecida por Dios que descendió la raza humana. Fue la mano de una mujer que se alargó y tomó el fruto prohibido de la ciencia del bien y del mal. Fueron sus labios los que presionaron contra la fruta mientras, en desobediencia a Dios, probaba el fruto, y fue por ese acto único que el pecado en toda su maldad clavó sus garras en la creación más grandiosa y amada de Dios: la humanidad. Pero también fue el vientre de una mujer, que no conoció varón, que Dios utilizó para criar y traer al mundo al Salvador del mund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han seguido siendo las mismas desde Eva – a menudo nos encontramos a nosotras mismas en grandes cosas – a veces en forma positiva – a veces en forma negativa. Pero siempre encontramos mujeres que están profundamente comprometidas con Dios y a menudo son las primeras en estar listas para esparcir las buenas nuevas o correr algún riesgo en Su fa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lo largo de las páginas de las escrituras encontramos historias de mujeres que le han dado forma a la historia humana. Conocemos los nombres de algunas, pero de otras solo encontramos alguna línea o dos que no menciona ningún nombre. Pero siempre encontramos rastros de alguna mujer que ha ido antes que nosotras, creando un camino para nosotros en nuestro camino hacia Dios. Aunque echaremos un vistazo a las vidas de varias mujeres en nuestro estudio, habrá muchas mujeres cuya historia no tendremos tiempo de cubr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ayudaron a reconstruir las murallas de Jerusalén con sus propias manos (Neh  3: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guiaron a la nación en adoración (Sal. 68:25, Eze. 15:20,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abogaron exitosamente a favor de cambios políticos (Num. 27:1-1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sirvieron como profetas, jueces y reinas (Eze. 15:20; Jueces 4: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engendraron y criaron hombres y mujeres que sirvieron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una era en la que las mujeres eran algo más que una posesión encontramos mujeres que se pararon valientes contra la oposición, siendo fieles a Dios y rescatando a su familia. Ver 1Sam.2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una niña israelita en cautiverio quien tuvo compasión de su captor (Naamán) y le contó acerca del profeta que podía traer san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tomaron los votos de Nazareo junto con los hombres (Num 6:2) y se separaron de los caminos del mundo para vivir una vida dedicada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el nuevo Faraón de Egipto, que no conocía a José, ordenó la muerte de todo niño varón israelita mientras nacía, las dos parteras hebreas, poniendo en riesgo sus vidas, rehusaron cooperar y la nación de Israel nuevamente fue asegurada (Ex. 1:1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como si camináramos sobre tierra santa al comenzar este estudio sobre las mujeres de los tiempos del Antiguo Testamento. Dentro de cada historia, bajo cada palabra, encontramos un destello del corazón de Dios. Qué cosas amaba, qué cosas despreció, su disposición para trabajar a través de las vidas de mujeres comprometidas con su Palabra.</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7920" y="695160"/>
            <a:ext cx="4641840" cy="3481560"/>
          </a:xfrm>
          <a:prstGeom prst="rect">
            <a:avLst/>
          </a:prstGeom>
          <a:ln w="0">
            <a:noFill/>
          </a:ln>
        </p:spPr>
      </p:sp>
      <p:sp>
        <p:nvSpPr>
          <p:cNvPr id="16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BZAN EL CASAMENTERO</a:t>
            </a:r>
            <a:r>
              <a:rPr b="1" lang="es-ES" sz="1000" spc="-1" strike="noStrike">
                <a:solidFill>
                  <a:srgbClr val="000000"/>
                </a:solidFill>
                <a:latin typeface="Century Gothic"/>
                <a:ea typeface="Times New Roman"/>
              </a:rPr>
              <a:t> (RP-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Rodeando la historia de Jefté hay un grupo de cortas narrativas llamadas los jueces mnores. En lugar de contar las historias de actos heroicos como vemos en los jueces mayores, son escritos más como un libro mayor o un diario de los gobernantes que vivieron una vida de paz y prosperidad. Normalmente, estas historias nos cuentan donde vivía una persona, cuánto tiempo gobernó, que murió y donde fue sepultado. Estos son los acontecimientos comunes de una vida pacífica. Nos dan una pista de vidas fructíferas y prósperas, construyendo ciudades y familias. A menudo, en el medio de estos registros, encontramos detalles de la vida famili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memos la historia de Ibzan de Belén como ejemplo (12:8-10). Su historia sigue inmediatamente a la de Jefté. La información básica es que vivió en Belén, juzgó a Israel 7 años, murió y fue sepultado en Belén. Entre medio de estos eventos hay 60 bodas. Él es el gran casamentero. Él trae a 30 mujeres jóvenes de afuera de su clan para casarse con sus hijos; y arregla matrimonios fuera de su clan para sus 30 hij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dos estos casamientos fortalecen su familia. Cada contacto matrimonial es diseñado con alguien de afuera de su clan para aumentar las alianzas del clan. Así como Caleb, él piensa cuidadosamente acerca de los matrimonios de la siguiente generación. Como Gedeón, tiene muchas esposas para establecer su familia; contrariamente a Gedeón, no compromete la unidad y coherencia de la familia con influencias exteri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matrimonio es una preocupación integral en las historias de los jueces. Al principio del libro, las semillas de la discordia son atribuibles a matrimonios pobremente seleccionados de afuera de las tribus de Israel. “Tomaron de sus hijas por mujeres, y dieron sus hijas a los hijos de ellos, y sirvieron a sus dioses” (3:5-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Jefté también entra en este patrón. Su historia termina con el patrón de los jueces men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Y Jefté juzgó a Israel seis años; y murió Jefté galaadita, y fue sepultado en una de las ciudades de Galaad” (12:7).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no hay ninguna historia de su rica prole, como los 60 hijos e hijas de Ibzan. Él tuvo solo una hija, y le arruinó su vida por causa de su necio vo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7920" y="695160"/>
            <a:ext cx="4641840" cy="3481560"/>
          </a:xfrm>
          <a:prstGeom prst="rect">
            <a:avLst/>
          </a:prstGeom>
          <a:ln w="0">
            <a:noFill/>
          </a:ln>
        </p:spPr>
      </p:sp>
      <p:sp>
        <p:nvSpPr>
          <p:cNvPr id="16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SAMSÓN Y SU MADRE </a:t>
            </a:r>
            <a:r>
              <a:rPr b="0" lang="es-ES" sz="1000" spc="-1" strike="noStrike">
                <a:solidFill>
                  <a:srgbClr val="000000"/>
                </a:solidFill>
                <a:latin typeface="Arial"/>
                <a:ea typeface="Arial"/>
              </a:rPr>
              <a:t>(Jueces 13-16) </a:t>
            </a:r>
            <a:r>
              <a:rPr b="1" lang="es-ES" sz="1000" spc="-1" strike="noStrike">
                <a:solidFill>
                  <a:srgbClr val="000000"/>
                </a:solidFill>
                <a:latin typeface="Arial"/>
                <a:ea typeface="Arial"/>
              </a:rPr>
              <a:t>(RP-1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vida de Sansón gira alrededor de las mujeres en su vida. Ahora, en lugar de una relación padre-hija, tenemos una relación madre-hijo. La primer y más importante mujer en la vida de Sansón es su madre, la esposa sin nombre de Manoa. Como muchas de las matriarcas de Israel, ella era estéril. Pero es nunca es un problema para Dios. Es más, parece casi como un preludio para el nacimiento maravilloso de un gran líder. La historia de Sansón brilla con mucha esperanza. Un ángel se le aparece a su madre, anunciando su nacimiento e instruyéndola sobre la manera en que debía criarlo en la vida de Nazareo, como uno dedicado a Dios, no por un periodo corto de tiempo, como la mayoría de los Nazareo, sino durante toda su v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uando ella le cuenta a su esposo de la maravillosa visitación, él le ruega al Señor que deje que el ángel descienda y les enseñe qué hacer. Pero, eso es lo que acaba de ocurrir. Un ángel ha venido y le ha dicho a la madre la manera en que debe criar al niño. Por lo tanto ¿Cuál es la pregunta? ¿Puede ser que él no le cree a ella? ¿No es capaz de oír el testimonio de una mujer? Cualquiera sea la razón de para su oración, Dios la responde y envía el ángel, pero nuevamente él viene a la mujer y espera mientras ella busca a su esposo. En respuesta a su pregunta sobr qué debían hacer por el niño, él únicamente dice, “la mujer se guardará de todas las cosas que yo le dije.” Luego agrega alcunos ejemplos parciales de su instrucción, pero no repite su comunicación completa. Las instrucciones son para ella. Ella es la responsable de enseñarle las leyes de Dios a su hijo. Y ella acepta las intrucciones de Dios sin preguntar. Ella sabe que él es un mensajero de Dios y no pregunta su nombre. Pero Manoa indaga sobre su identidad y le pregunta su nombre y lo invita a comer, como si fuera un mensajero común en lugar de un emisario divino. Cuando el ángel desaparece en la llama de fuego, Manoa finalmente se da cuenta de con quién ha estado hablando y está convencido de que morirá. Pero su esposa lo razona de otra manera. Si el Señor los habría de matar, no hubiera aceptado la ofrenda ni hubiera anunciado el nacimiento. La mujer ha recibido la palabra del Señor y conoce al Señor que la envió. Con razón fue elegida como la madre de un líder en Isra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Sansón no es el líder de ejércitos que hemos visto antes en los héroes de Jueces. Es un picarón, y cuando sí libera a Israel, parece casi por accidente, y siempre en conexión con su propio deseo de venganza person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7920" y="695160"/>
            <a:ext cx="4641840" cy="3481560"/>
          </a:xfrm>
          <a:prstGeom prst="rect">
            <a:avLst/>
          </a:prstGeom>
          <a:ln w="0">
            <a:noFill/>
          </a:ln>
        </p:spPr>
      </p:sp>
      <p:sp>
        <p:nvSpPr>
          <p:cNvPr id="16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RP-11) </a:t>
            </a:r>
            <a:r>
              <a:rPr b="0" lang="es-ES" sz="1000" spc="-1" strike="noStrike">
                <a:solidFill>
                  <a:srgbClr val="000000"/>
                </a:solidFill>
                <a:latin typeface="Century Gothic"/>
                <a:ea typeface="Times New Roman"/>
              </a:rPr>
              <a:t>Las historias de Sansón, contadas alrededor de las fogatas del antiguo Israel, son historias de su relación con las mujeres filisteas. Él no provee un modelo de un buen matrimonio como hemos visto antes. Le pide a sus padres que hagan los arreglos para casarse con una mujer Timnita, “y su padre y su madre le dijeron: ¿No hay mujer entre las hijas de tus hermanos, ni en todo nuestro pueblo para que vayas tú a tomar mujer de los filisteos incircuncisos?” Pero ese matrimonio resulta en una tragedia para la novia y su familia y la ciudad entera. La novia pareciera ser un peón inocente en las rivalidades entre los homb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alila es diferente. No es un peón inocente, es la Jael filistea. Aunque Sansón es el héroe, Dalila ocupa el escenario principal. Su relación con Sansón tiene un propósito. Ella descubrirá la fuente de su fuerza sobrehumana, para que los filisteos puedan enfrentar este ejército de un solo hombre que tienen en su medio. Ella realiza su propio trato con los príncipes de los filiste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no se menciona a su padre. Ella habla por sí misma. Su propósito es claro, incluso para Sansón. No hace ningún intento para engañarlo. Ella es directa en su propósito de descubrir su fuerza para que pueda ser atado. Es un juego. Él le juega ese juego por un tiempo y finalmente parece perder de vista su propio propósito. Él le cuenta sus pensamientos acerca de ello. Pero el juego es muy serio. Esta vez Sansón pierde. En lugar de arrancarse las ataduras como antes, está atrapado e impotente, su gran fuerza se ha ido. Dalila ha cumplido su propósito. Pero Dios aún puede cumplir su propósito a través de Sansón, y aunque el propósito de Sansón es simplemente el de vengar la pérdida de su vista, el resultado es la liberación de Israel.</a:t>
            </a:r>
            <a:r>
              <a:rPr b="0" lang="es-E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7920" y="695160"/>
            <a:ext cx="4641840" cy="3481560"/>
          </a:xfrm>
          <a:prstGeom prst="rect">
            <a:avLst/>
          </a:prstGeom>
          <a:ln w="0">
            <a:noFill/>
          </a:ln>
        </p:spPr>
      </p:sp>
      <p:sp>
        <p:nvSpPr>
          <p:cNvPr id="16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CAÍA Y SU MADRE </a:t>
            </a:r>
            <a:r>
              <a:rPr b="0" lang="es-ES" sz="1200" spc="-1" strike="noStrike">
                <a:solidFill>
                  <a:srgbClr val="000000"/>
                </a:solidFill>
                <a:latin typeface="Arial"/>
                <a:ea typeface="Arial"/>
              </a:rPr>
              <a:t>(Jueces 17:1-4) </a:t>
            </a:r>
            <a:r>
              <a:rPr b="1" lang="es-ES" sz="1200" spc="-1" strike="noStrike">
                <a:solidFill>
                  <a:srgbClr val="000000"/>
                </a:solidFill>
                <a:latin typeface="Arial"/>
                <a:ea typeface="Arial"/>
              </a:rPr>
              <a:t>(RP-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nmediatamente después de la historia de Sansón encontramos otra historia de una madre y un hijo. La historia es una introducción para el caos y la barbarie de la sección final. Ya no estamos hablando acerca de jueces y liberación. Ahora, todo el pueblo hace lo que le parece bien a sus propios ojos. Micaía le roba una fortuna de plata a su madre; su madre maldice a quien quiera lo haya robado, y Micaía, al oír la maldición, rápidamente devuelve el dinero y confesa su robo. La madre, a su vez, lo bendice y consagra una porción de la fortuna para hacer un ídolo y se lo regala a Micaía para el relicario de la familia. Así era en Israel. Los hijos le roban a sus madres. Las madres, en lugar de enseñarle a sus hijos los caminos de Dios, los guían hacia la idolatría. En lugar de hablar sobre las leyes de Dios, hablan bendiciones y maldiciones. Dios parece muy lejano. La historia del colapso de la familia, de la comunidad y el colapso en la religión es una buena introducción para la última historia trágica del libro de Juec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7920" y="695160"/>
            <a:ext cx="4641840" cy="3481560"/>
          </a:xfrm>
          <a:prstGeom prst="rect">
            <a:avLst/>
          </a:prstGeom>
          <a:ln w="0">
            <a:noFill/>
          </a:ln>
        </p:spPr>
      </p:sp>
      <p:sp>
        <p:nvSpPr>
          <p:cNvPr id="17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LEVITA Y SU CONCUBINA </a:t>
            </a:r>
            <a:r>
              <a:rPr b="0" lang="es-ES" sz="1000" spc="-1" strike="noStrike">
                <a:solidFill>
                  <a:srgbClr val="000000"/>
                </a:solidFill>
                <a:latin typeface="Arial"/>
                <a:ea typeface="Arial"/>
              </a:rPr>
              <a:t>(Jueces 19) </a:t>
            </a:r>
            <a:r>
              <a:rPr b="1" lang="es-ES" sz="1000" spc="-1" strike="noStrike">
                <a:solidFill>
                  <a:srgbClr val="000000"/>
                </a:solidFill>
                <a:latin typeface="Arial"/>
                <a:ea typeface="Arial"/>
              </a:rPr>
              <a:t>(RP-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storia  del levita y su esposa es casi demasiado dolorosa para leer. Es realmente horrorosa. Todo tipo de relación es destruido</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adre e hija, esposo y esposa, hospedador y huésped, tribu y tribu. Israel ha tocado fondo. Nadie recibe ningún nombre. Cada persona es conocida únicamente por lo que debería ser una relación honrada con alguien más. El personaje principal es un levita, alguien que parece no conocer nada acerca de Dios. El toma una concubina, que es una esposa secundaria, pero una esposa al fin. El matrimonio no va bien, y ella vuelve a su padre. Luego de cuatro meses su esposo va a la casa de su suegro para galantearla y “hablarle amorosamente”. Pero las únicas palabras que se hablan son entre hombres. A lo largo de la historia ella nunca habla, y se le habla solo una vez. La hospitalidad del suegro es inflexible. Luego de una estadía de tres días, se preparan para partir, pero su padre le ruega, “conforta tu corazón con un bocado de pan, y después os iréis. Y se sentaron ellos dos juntos, y comieron y bebieron.” ¿Dónde está la mujer a la que había venido a galantear? No aparece. Este es un ejercicio de confraternización masculina. Demora su partida por cinco días, hasta tarde el quinto día; comienzan su viaje a casa, demasiado tarde para encontrar alojamient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llegar a Gabaa se quedan en la plaza de la ciudad hasta que un hombre anciano los invita a su casa, a otra escena de hospitalidad. La obligación del hospedador de proveer seguridad y protección para sus huéspedes se extiende solo a los hombres. En una historia que hace remite a la historia de Lot y sus hijas, el hospedador le ruega a la turba que ha rodeado su casa demandando tener acceso al levita. Él dice, “No, hermanos míos, os ruego que no cometáis este mal; ya que este hombre ha entrado en mi casa, no hagáis esta maldad. He aquí mi hija virgen, y la concubina de él; yo os las sacaré ahora; humilladlas y haced con ellas como os parezca, y no hagáis a este hombre cosa tan infame.” No es el hospedador el que arroja a la esposa del levita por la puerta. Es el mismo levita: “por lo que tomando aquel hombre a su concubina, la sacó; y entraron a ella, y abusaron de ella toda la noche hasta la mañan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95160"/>
            <a:ext cx="4641840" cy="3481560"/>
          </a:xfrm>
          <a:prstGeom prst="rect">
            <a:avLst/>
          </a:prstGeom>
          <a:ln w="0">
            <a:noFill/>
          </a:ln>
        </p:spPr>
      </p:sp>
      <p:sp>
        <p:nvSpPr>
          <p:cNvPr id="14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ientras Israel se detiene en los límites de la tierra prometida enfrenta una tarea pesada. Este grupo de nómades debe entrar en la tierra de Palestina, conquistarla y colonizarla. El libro de Jueces cuenta la historia de este periodo de colonización entre el Éxodo y la Monarquía. Aquí encontramos las historias de Aod, Débora, Gedeón, Jefté y Sansón. Estas son las historias contadas alrededor de las fogatas del Israel primitivo, historias de heroísmo y conquista, historias de la época en que los jueces gobernab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ra una época de guerra. Las historias de guerra tienden a ser historias de hombres. Normalmente no se espera que las mujeres sean caracteres prominentes en las historias de guerra. Pero en Jueces 1, Acsa, la hija inmediata de Caleb, realiza una sorpresiva aparición sobre el escenario de acción, la primera de muchas mujeres en hacerlo. Es más, el hecho de comprender el rol prominente que las mujeres toman en el mundo de guerras y conquistas del hombre se ha convertido en la clave para comprender el libro. Aquí leemos las historias de Acsa, Débora, Jael, la Cierta Mujer de la historia de Abimelec, la hija de Jefté, las muchas mujeres de la vida de Sansón, la madre de Micaía, la concubina del Levita, y la hueste de mujeres e hijas que pueblan las historias de los jueces. Como veremos, el paradero de estas mujeres está íntimamente conectado con el paradero de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7920" y="695160"/>
            <a:ext cx="4641840" cy="3481560"/>
          </a:xfrm>
          <a:prstGeom prst="rect">
            <a:avLst/>
          </a:prstGeom>
          <a:ln w="0">
            <a:noFill/>
          </a:ln>
        </p:spPr>
      </p:sp>
      <p:sp>
        <p:nvSpPr>
          <p:cNvPr id="17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4) </a:t>
            </a:r>
            <a:r>
              <a:rPr b="0" lang="es-ES" sz="1200" spc="-1" strike="noStrike">
                <a:solidFill>
                  <a:srgbClr val="000000"/>
                </a:solidFill>
                <a:latin typeface="Century Gothic"/>
                <a:ea typeface="Times New Roman"/>
              </a:rPr>
              <a:t>La breve descripción de la concubina arrastrándose nuevamente a la casa del hombre y cayendo delante de la puerta representa lo depravada que es la historia. En esa escena todas las relaciones sagradas son violadas. El levita, ahora llamado su señor en lugar de esposo, se levanta de mañana, abre la puerta de la casa, sale por la puerta, y la ve “tendida delante de la puerta de la casa, con las manos sobre el umbral,” le dice, “levántate, y vámonos.” Estas son las únicas palabras que le dirige a la muj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corta descripción que sigue no solamente captura el horror de la historia, sino que también nos invita a compararla con la primer mujer que hemos encontrado en el libro de Jueces. Al no recibir respuesta, el levita la coloca sobre el asno y parte rumbo a su hogar. Recuerden a Acsa sentada sobre un asno, acompañada por su esposo, de camino a su nuevo hogar. Qué diferencia. Acsa habla libremente con su esposo y su padre y es oída. La concubina permanece en silencio, nunca habla, se le dirige la palabra solo una vez, aunque no estamos seguros si lo pudo escuchar. Tampoco sabemos si permanece con vida mientras cabalga sobre el asno. Su esposo la corta en 12 partes, pero la historia nunca nos dice cuando murió. Sin embargo ahora su cuerpo muerto y desmembrado habla mucho. Llama a Israel a la guerra, no en contra de enemigos invasores, sino contra la tribu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una guerra civil</a:t>
            </a:r>
            <a:r>
              <a:rPr b="0" lang="es-ES" sz="1200" spc="-1" strike="noStrike">
                <a:solidFill>
                  <a:srgbClr val="000000"/>
                </a:solidFill>
                <a:latin typeface="Symbol"/>
                <a:ea typeface="Symbol"/>
              </a:rPr>
              <a:t></a:t>
            </a:r>
            <a:r>
              <a:rPr b="0" lang="es-ES" sz="1200" spc="-1" strike="noStrike">
                <a:solidFill>
                  <a:srgbClr val="000000"/>
                </a:solidFill>
                <a:latin typeface="Century Gothic"/>
                <a:ea typeface="Times New Roman"/>
              </a:rPr>
              <a:t>tribu contra tribu en Israel. Y casi hacen desaparecer la tribu de Benjamín. Solamente sobreviven 600 homb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5160"/>
            <a:ext cx="4641840" cy="3481560"/>
          </a:xfrm>
          <a:prstGeom prst="rect">
            <a:avLst/>
          </a:prstGeom>
          <a:ln w="0">
            <a:noFill/>
          </a:ln>
        </p:spPr>
      </p:sp>
      <p:sp>
        <p:nvSpPr>
          <p:cNvPr id="17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5) </a:t>
            </a:r>
            <a:r>
              <a:rPr b="0" lang="es-ES" sz="1200" spc="-1" strike="noStrike">
                <a:solidFill>
                  <a:srgbClr val="000000"/>
                </a:solidFill>
                <a:latin typeface="Century Gothic"/>
                <a:ea typeface="Times New Roman"/>
              </a:rPr>
              <a:t>El resto ha muerto, incluyendo las mujeres y los niños. Ahora, hay un problema. Los israelitas se dan cuenta de que una de las tribus de Israel está al borde de la extinción. Se les ocurre un plan para evitar que esto suceda. Debido a que la ciudad de Jabes-Galaad no respondió a la reunión, destruirán ese pueblo, todos los hombres, mujeres y niños, y secuestrarán las vírgenes jóvenes como esposas para los hombres de Benjamín que quedan. Casi funcionó, pero solamente sobrevivieron 400 vírgenes jóvenes, por lo tanto necesitan otras 200. Hay un problema adicional. Todos los hombres de Israel habían jurado que nunca darían sus hijas como esposas a los hombres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sí que se preguntan, “¿Qué haremos respecto de mujeres para los que han quedado? Y dijeron: Tenga Benjamín herencia en los que han escapado, y no sea exterminada una tribu de Israel. Pero nosotros no les podemos dar mujeres de nuestras hij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95160"/>
            <a:ext cx="4641840" cy="3481560"/>
          </a:xfrm>
          <a:prstGeom prst="rect">
            <a:avLst/>
          </a:prstGeom>
          <a:ln w="0">
            <a:noFill/>
          </a:ln>
        </p:spPr>
      </p:sp>
      <p:sp>
        <p:nvSpPr>
          <p:cNvPr id="17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6) </a:t>
            </a:r>
            <a:r>
              <a:rPr b="0" lang="es-ES" sz="1200" spc="-1" strike="noStrike">
                <a:solidFill>
                  <a:srgbClr val="000000"/>
                </a:solidFill>
                <a:latin typeface="Century Gothic"/>
                <a:ea typeface="Times New Roman"/>
              </a:rPr>
              <a:t>El problema se resuelve en Silo. Una fiesta anual para el Señor se celebra allí. El plan es simple. “Cuando veáis salir a las hijas de Silo a bailar en corros, salid de las viñas, y arrebatad cada uno mujer para sí de las hijas de Silo, e idos a tierra de Benjamín. Y si vinieren los padres de ellas o sus hermanos a demandárnoslas, nosotros les diremos: Hacednos la merced de concedérnoslas, pues que nosotros en la guerra no tomamos mujeres para todos; además, no sois vosotros los que se las disteis, para que ahora seáis culpados.” La violación de una mujer se ha convertido en la violación de 600. Israel se encuentra en su punto más bajo. El refrán de los últimos capítulos es que “en estos días no había rey en Israel; cada uno hacía lo que bien le parecí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590840" y="695160"/>
            <a:ext cx="3817800" cy="2864160"/>
          </a:xfrm>
          <a:prstGeom prst="rect">
            <a:avLst/>
          </a:prstGeom>
          <a:ln w="0">
            <a:noFill/>
          </a:ln>
        </p:spPr>
      </p:sp>
      <p:sp>
        <p:nvSpPr>
          <p:cNvPr id="179" name="PlaceHolder 2"/>
          <p:cNvSpPr>
            <a:spLocks noGrp="1"/>
          </p:cNvSpPr>
          <p:nvPr>
            <p:ph type="body"/>
          </p:nvPr>
        </p:nvSpPr>
        <p:spPr>
          <a:xfrm>
            <a:off x="700200" y="3635280"/>
            <a:ext cx="5595840" cy="495144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SDE ACSA HASTA LA CONCUBINA (RP-1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a menudo se ve en el resto del libro de jueces. Al igual que la historia de Otoniel, que se toma como patrón para el resto de los jueces mayores, la historia de Acsa es un modelo para las mujeres en el libro. El modelo que ella provee a menudo se da vuelta. La historia de Acsa, la novia israelita que le trae riqueza a su esposo, se pone en contraposición a la historia de Sansón, cuyas esposas extranjeras le traen desastres. El casamiento de Acsa con un héroe de la tribu se compara con el casamiento de Gedeón a una concubina, que produce al villano Abimelec, quien destruye la familia y casi destruye a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historia de la concubina parece la contradicción máxima de la historia de Acsa. Las imágenes contrastantes de ambas mujeres cabalgando sobre un asno, una como novia, otra como concubina; una hablando con su esposo y su padre, la otra en silencio; una estableciendo un nuevo hogar en una tierra fértil; la otra muerta y cortada en 12 pedazos para incitar una guerra civ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se ve invertido en estas historias, con sus imágenes de violencia y temas de traición. Sin embargo, el espíritu de Acsa vive a través del libro, también. Ella vive en la “cierta mujer” anónima que deja caer una piedra de molino sobre la cabeza de Abimelec. Su ataque es específicamente contra sus sembradíos. Él ataca cuando las personas de la ciudad salen a trabajar en los campos. Las mujeres pueden ser una presencia extrañan en la batalla, pero, cuando un ataque viene en contra de sus hogares y campos, los defenderán con cualquier arma que puedan agarrar. La “cierta mujer” es una extensión lógica de Acsa. Acsa ha plantado sus sembradíos y dejará caer piedras de molino sobre cualquier persona que los amen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 su espíritu vive, también, en las historias pacíficas de los jueces menores. Éstas narrativas evocan imágenes de novias, hijas, hijos, y bodas. En forma más particular, Ibzán da en matrimonio a sus treinta hijas y trae treinta hijas para sus treinta hijos. Sesenta bodas realizadas para construir el clan. Y las historias traen consigo imágenes de asnos y viajes a ciudades adquiridas recientemente. La libertad para poder realizar los negocios personales sobre el camino público es crucial para la paz y la prosperidad. El canto de Débora pone una distinción entre los días de opresión cuando “quedaron abandonados los caminos” y los días de paz cuadno “los que cabalgáis en asnas blancas” y “los que viajáis” reciben la invitación de cantar “los triunfos de Jehová.” Hay días de paz en el libro de Jueces. En el medio de historias de liberación que dan piel de gallina, historias de paz que recorren todo el libro de Jueces, emergiendo y re-emergiendo a lo largo del texto. Estas historias se encuentran en el espíritu de Acsa. Nos recuerdan la forma en que deberían ser las cosas en Isra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a debe ser la razón por la que Acsa se destaca tan distintivamente. Su historia es una historia de la forma en que las cosas deberían ser, pero no lo son. La cooperación entre padre e hija se desvanece en la historia de Jefté. La paz de entre esposo y esposa desaparece en la historia de Sansón y la historia de la concubina. El apoyo entre hermano y hermano desaparece en la historia de Abimelec. E Israel se defiende constantemente contra la agresión. Las demás tribus no conquistan su tierra en forma tan definitiva como Caleb y Otoniel lo hicieron, para que las Acsas pudieran prosper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resto del libro repite un ritmo constante mientras Israel pierde y reestablece su posesión de la tierra. Las demás mujeres que encontramos no estarán cabalgando sobre asnas con sus nuevos esposo y hacia sus nuevos hogares. Estarán defendiendo sus hogares contra la agresión extranjera o muriendo en bajas de guerra, no en manos de sus enemigos, sino en manos de sus propios conciudadanos y parientes, víctimas de fuego amig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Acsa no está en estas historias. No la busques en el cuerpo muerto y desmembrado de la concubina. Ella no está allí. Ella sobrevive más adelante, en la historia de Rut, una historia que ocurrió “en los días que gobernaban los jueces” y una sequía había destruido la tierra. Allí, nuevamente, encontramos una historia de paz. Los hombres y las mujeres viven en paz entre ellos y con la tierra. La generación mayor cuida de los más jóvenes. Los padres y los hijos, esposos y esposas, e incluso los consuegros, todos viven en armonía unos con otros. La tierra es fértil, brindando una cosecha abundante. La ciudad está en paz, sus hombres realizan sus negocios a la puerta de la ciudad. Aquí, también, una mujer joven pide la bendición del patriarca familiar y recibe más de lo que p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emos de buscar un marco de trabajo para el libro de Jueces, lo encontramos aquí. Los hombres de Benjamín no tienen la última palabra. Aunque la violencia y la traición llenan las historias de los jueces, la preocupación por la paz se abre paso en y alrededor de las historias mayores, recordándonos la razón por la que fue prometida la tierra en primer lugar. Cuando lo hacen, vemos nuevamente la sabiduría de Acsa, que sabe lo que necesita para establecerse en la tierra y hacer que fructifique, y la estrategia de Caleb, quien mira en el más allá por la seguridad de la próxima generación.</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95160"/>
            <a:ext cx="4641840" cy="3481560"/>
          </a:xfrm>
          <a:prstGeom prst="rect">
            <a:avLst/>
          </a:prstGeom>
          <a:ln w="0">
            <a:noFill/>
          </a:ln>
        </p:spPr>
      </p:sp>
      <p:sp>
        <p:nvSpPr>
          <p:cNvPr id="14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LA SABIDURÍA DE ACSA</a:t>
            </a:r>
            <a:r>
              <a:rPr b="0" lang="es-ES" sz="900" spc="-1" strike="noStrike">
                <a:solidFill>
                  <a:srgbClr val="000000"/>
                </a:solidFill>
                <a:latin typeface="Arial"/>
                <a:ea typeface="Arial"/>
              </a:rPr>
              <a:t>   (Jueces 1:11-15) </a:t>
            </a:r>
            <a:r>
              <a:rPr b="1" lang="es-ES" sz="900" spc="-1" strike="noStrike">
                <a:solidFill>
                  <a:srgbClr val="000000"/>
                </a:solidFill>
                <a:latin typeface="Arial"/>
                <a:ea typeface="Arial"/>
              </a:rPr>
              <a:t>(RP-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Acsa, como las demás mujeres del libro, aparece en el lugar donde menos esperaríamos encontrarla. El primer capítulo de Jueces es un informe, o un reinforme, de la división de la tierra que se describe en el libro de Josué. Describe las ciudades tomadas y los límites establecidos, y establece el contexto para las historias de héroes que siguen. Forma un telón de fondo inesperado para la historia de un casamiento. Mas bien, nos traslada desde las temáticas de conquista hacia la temática de colonización, del mundo de guerra al de paz, de la generación de Caleb a la de Otonie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historia posee un aire de cuento de hadas, con los motivos conocidos de reyes y retos, hijas y héroes, batallas y casamientos. Uno podría esperar que comenzara con “Había una vez un gran caudillo que tenía una hija hermosa” y que terminara con “vivieron muy felices”. Entremedio, simplemente tiene que haber un casamiento. La historia presenta un problema que debe ser resuelto. Un caudillo envejecido debe conquistar una ciudad y arreglar el futuro de su hija en una tierra nueva y deshabitada. ¿Puede hacer ambas cosas al mismo tiemp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L</a:t>
            </a:r>
            <a:r>
              <a:rPr b="0" lang="es-ES" sz="900" spc="-1" strike="noStrike">
                <a:solidFill>
                  <a:srgbClr val="000000"/>
                </a:solidFill>
                <a:latin typeface="Century Gothic"/>
                <a:ea typeface="Times New Roman"/>
              </a:rPr>
              <a:t>a historia comienza cuando Caleb presenta un desafío que conecta ambas preocupaciones. La historia de una hija dada como premio para la victoria puede llegar a sorprender a un lector moderno. Pero de esto están hechas las buenas historias. ¿Quién puede ganarse la mano de la hermosa hija? Solo aquél que mata al dragón y salva al reino puede tener su mano. Ella no es el premio de un torneo trivial o un juego caprichoso. Ella es un símbolo de máximo valor. Mi reino. Mi hija. La seguridad y la continuidad del reino están ligados a ella. El hecho de ganar su mano requiere hazañas de valor, que benefician a la comunidad. Aquí el reto es una de las grandes ciudades Cananitas. ¿Quién tomará la ciudad de Debir? Solamente el hombre más sabio y fuerte de la tierra. ¿Quién es digno de casarse con la hija del caudillo? Únicamente el hombre más sabio y fuerte de la tierra. “¿Quieres casarte con mi hija? Tráeme una ciudad y entonces hablaremo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elección de Caleb de un esposo para su hija termina siendo buena. Otoniel es el primero de los jueces mayores, y un juez modelo. Él no asume el liderazgo por algún derecho de sucesión. Él es elegido por el Espíritu de Yahweh. Pero al instaurar su tarea y conceder un buen premio, Caleb se asegura que los hombres de valor sean puestos en posiciones de influencia. La historia podría haber terminado en el versículo 12. Caleb propone el reto; Otoniel toma la ciudad y se casa con la hija del caudillo. La acción terminó.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Pero en este punto Acsa ingresa en la historia, y comienza una nueva historia. Ella no es una mujer callada que se transfiere de un custodio masculino a otro. Ella tiene líneas. No solamente posee un nombre y una heredad, sino que también tiene opiniones y una parte hablada en este escenario masculino.</a:t>
            </a:r>
            <a:r>
              <a:rPr b="0" lang="es-E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95160"/>
            <a:ext cx="4641840" cy="3481560"/>
          </a:xfrm>
          <a:prstGeom prst="rect">
            <a:avLst/>
          </a:prstGeom>
          <a:ln w="0">
            <a:noFill/>
          </a:ln>
        </p:spPr>
      </p:sp>
      <p:sp>
        <p:nvSpPr>
          <p:cNvPr id="15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ÉBORA Y JAEL </a:t>
            </a:r>
            <a:r>
              <a:rPr b="0" lang="es-ES" sz="1000" spc="-1" strike="noStrike">
                <a:solidFill>
                  <a:srgbClr val="000000"/>
                </a:solidFill>
                <a:latin typeface="Arial"/>
                <a:ea typeface="Arial"/>
              </a:rPr>
              <a:t>(Jueces 4:5) </a:t>
            </a:r>
            <a:r>
              <a:rPr b="1" lang="es-ES" sz="1000" spc="-1" strike="noStrike">
                <a:solidFill>
                  <a:srgbClr val="000000"/>
                </a:solidFill>
                <a:latin typeface="Arial"/>
                <a:ea typeface="Arial"/>
              </a:rPr>
              <a:t>(RP-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siguiente mujer que encontramos en el libro de Jueces es Débora, mujer de Lapidot, que también se traduce como “mujer de la llama”. Débora es la única jueza mayor que se compromete con lo que tradicionalmente consideraríamos como la actividad de juzgar. Ella se sentaba para juzgar bajo la palmera de Débora, y el pueblo de Israel venía a ella para resolver sus disputas. Y ella también era una profetisa, una que tenía comunicación directa con Dios. El cántico la llama una “madre en Israel”.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n esta historia Débora llama a Israel a la guerra y le transmite a Barac, el líder militar, la estrategia que Dios le ha dado para vencer los carruajes de hierro de Sísara. Barac es dubitativo. No sabemos porqué. Barac es uno de los héroes renuentes de Jueces. Quizá está probando a Débora para ver cuánto cree ella misma en su propio mensaje; quizá desea la seguridad de la profetisa de Dios con él a la hora de enfrentar el gran poder de los Cananitas. Cualquiera sea su razón, la historia nos arma una sorpresa. Ella irá con él, dice, pero Dios no le dará a él la gloria, si no que entregará a Sísara en manos de una mujer. Pero la mujer no es Débora. La mujer ni siquiera es Israelita. La libertadora sorpresiva de Israel es Jael, la esposa de Heber el Ceneo.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Su historia es relatada dos veces, una vez en la historia en forma de prosa del caítulo cuatro y una vez más en el cántico de Débora del día de la victoria. Jael es uno de lo héroes imprevistos del libro de Jueces. Su clan estaba en paz con el rey Cananita Jabín de Azor. Pero ahora Sísara, el comandante de los ejércitos, está escapando. Él había reunido todas sus tropas y sus 900 carruajes de hierro en el Wadi Cisón, listos para atacar. Justo cuando tenía todos sus hombres y carruajes listos para la batalla, Débora reanimó a los israelitas en el nombre del Señor. Ella dijo a Barac: “Levántate, porque este es el día en que Jehová ha entregado a Sísara en tus manos. ¿No ha salido Jehová delante de ti?” Entonces, Barac y diez mil guerreros bajan corriendo del monte Tabor, y “Jehocá quebrantó a Sísara, a todos sus carros y a todo su ejército a filo de espada delante de Barac.” Al concluir el día, no queda ni uno de las fuerzas Cananitas excepto Sísar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95160"/>
            <a:ext cx="4641840" cy="3481560"/>
          </a:xfrm>
          <a:prstGeom prst="rect">
            <a:avLst/>
          </a:prstGeom>
          <a:ln w="0">
            <a:noFill/>
          </a:ln>
        </p:spPr>
      </p:sp>
      <p:sp>
        <p:nvSpPr>
          <p:cNvPr id="15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P-4) </a:t>
            </a:r>
            <a:r>
              <a:rPr b="0" lang="es-ES" sz="800" spc="-1" strike="noStrike">
                <a:solidFill>
                  <a:srgbClr val="000000"/>
                </a:solidFill>
                <a:latin typeface="Century Gothic"/>
                <a:ea typeface="Times New Roman"/>
              </a:rPr>
              <a:t>Entra Jaél. Sísara se encamina hacia su tienda. Ella sale a recibirlo. “Ven señor mío, ven a mí, no tengas temor.” Así que entró. Y ella cubrió. Y ella lo cubrió con una frazada, probablemente una que ella misma había tejido, le trajo leche para tomar, probablemente de sus propias cabras, y lo escuchó mientras le ordenaba que se parara a la puerta y re-orientara a cualquier persona que pudiera estar buscándolo. Luego, ella actúa para cumplir la profecía de Débora: “Pero Jael mujer de Heber tomó una estaca de la tienda, y poniendo un mazo en su mano, se le acercó calladamente y le metió la estaca por las sienes, y la enclavó en la tierra, pues él estaba cargado de sueño y cansado; y así muri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omo muchos de los héroes de Jueces, ella utilizó objetos del hogar en lugar de armas. Por ejemplo, Samgar (3:31) mató 600 Filisteos con una aguijada de bueyes. Jael sabía cómo utilizar un martillo y una estaca de carpa. Ella sabría cómo armar la carpa y mantenerla en pie. Veremos otros objetos del hogar que se transformarán en armas de guerra también. Las mujeres no salen a la guerra, pero cuando la batalla llega a las puertas de sus casas, ellas pelean con sabiduría y valentía, y con cualquier herramienta que tengan a mano. Es entonces cuando los instrumentos de paz se convierten en instrumentos de guerra. Y Dios obra a través de ellos: “Así abatió Dios aquel día a Jabín rey de Canaán, delante de los hijos de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versión en prosa de Jueces 4 es historia, mientras que el cántico del capítulo 5 es una celebración de victoria. Débora y Barac lo cantan el día de la batalla, celebrando la victoria de Dios sobre sus enemigos “En los días de Samgar... en los días de Jael”. (5:6) Esta es la batalla de Dios. El sale marchando de las estepas rocosas de Edom, y “los montes temblaron delante de Jehová, aquél Sinaí” (5:5) ¿Recuerdan el Wadi Cisón donde Sísara congregó sus 900 carruajes? Imagina la sorpresa de Sísara al ver el lecho del río seco en la base del Mte. Tabor comenzar a desbordar con agua de lluvia. ¿Qué sucede con los carruajes de hierro cuando el suelo se vuelve barroso y reblandecido? Imagina el regocijo de los israelitas al cantar de la victoria de Dios: “Desde los cielos pelearon las estrellas; desde sus órbitas pelearon contra Sísara. Los barrió el torrente de Cisón, el antiguo torrente, el torrente de Cisón. Marcha, oh alma mía, con poder” (5:20-2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Dios trabaja a través de agentes humanos, y el pueblo de Israel es generoso en su alabanza de la mujer vecina, Jael: “Bendita sea entre las mujeres Jael, mujer de Heber ceneo; sobre las mujeres bendita sea en su tienda.” (5:24) Con alegría cuentan la historia de su conquista del guerrero enemigo. Los detalles de la historia son cantados y complementados: “El pidió agua, y ella le dio leche; en tazón de nobles le presentó crema.” La acción se despliega, y podemos observar todos sus movimientos, mientras “golpeó a Sísara.” Y escuchen la exhuberancia mientras cantan de la caída de Sísar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ayó encorvado entre sus p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Quedó tendi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ntre sus pies cayó encorv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onde se encorvó, allí cay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Muerto.  </a:t>
            </a:r>
            <a:r>
              <a:rPr b="0" lang="es-ES" sz="800" spc="-1" strike="noStrike">
                <a:solidFill>
                  <a:srgbClr val="000000"/>
                </a:solidFill>
                <a:latin typeface="Century Gothic"/>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5:27)</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84200" y="695160"/>
            <a:ext cx="4229280" cy="3171960"/>
          </a:xfrm>
          <a:prstGeom prst="rect">
            <a:avLst/>
          </a:prstGeom>
          <a:ln w="0">
            <a:noFill/>
          </a:ln>
        </p:spPr>
      </p:sp>
      <p:sp>
        <p:nvSpPr>
          <p:cNvPr id="155" name="PlaceHolder 2"/>
          <p:cNvSpPr>
            <a:spLocks noGrp="1"/>
          </p:cNvSpPr>
          <p:nvPr>
            <p:ph type="body"/>
          </p:nvPr>
        </p:nvSpPr>
        <p:spPr>
          <a:xfrm>
            <a:off x="700200" y="4021200"/>
            <a:ext cx="5595840" cy="45655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MADRE DE SÍSARA </a:t>
            </a:r>
            <a:r>
              <a:rPr b="0" lang="es-ES" sz="1000" spc="-1" strike="noStrike">
                <a:solidFill>
                  <a:srgbClr val="000000"/>
                </a:solidFill>
                <a:latin typeface="Arial"/>
                <a:ea typeface="Arial"/>
              </a:rPr>
              <a:t>(Jueces 5:28-30) </a:t>
            </a:r>
            <a:r>
              <a:rPr b="1" lang="es-ES" sz="1000" spc="-1" strike="noStrike">
                <a:solidFill>
                  <a:srgbClr val="000000"/>
                </a:solidFill>
                <a:latin typeface="Arial"/>
                <a:ea typeface="Arial"/>
              </a:rPr>
              <a:t>(RP-5)</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a mujer más realiza su aparición en el cántico de Débora. Un motivo frecuente en el arte del Antiguo Cercano Oriente es la figura de una mujer asomando la cabeza por una ventana. Me pregunto de los cantantes de Israel estaban pensando esto mientras cantaban sobre la madre de Sísar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madre de Sísar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soma a la ventan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Y por entre las celosí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5:2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o podría sentir un poco de simpatía hacia una madre que espera que su hijo regrese a casa de la guerra. Cualquiera sean las diferencias de nacionalidad o política, las madres son universales y las mujeres de todas partes aman a sus hijos. Y como cualquier madre que espera ansiosamente la llegada de un hijo que tarda en venir, ella se pregunta, “¿Por qué tarda su carro en venir? ¿Por qué las ruedas de sus carros se detienen? Cualquier madre simpatizaría con ella, pero qué pensaría una madre Israelita al oír lo que está pensando la madre de Sísara? Sus sabias damas de la corte responden su pregunta; ellas afirman lo que ella misma está pensando. Sísara está ocupado. ¿En qué está ocupado? Está repartiendo el botín. Es más, está eligiendo algunos bienes particularmente hermosos para ella, vestiduras bordadas, bordadas cuidadosamente por las mujeres israelitas, algo especial para ell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eso no es todo. Qué otra cosa se imagina ella que su hijo está dividiendo? Las mismas mujeres israelitas, “a cada uno una doncella, o dos.” Ella conoce las costumbres de la época. Las leyes de Moisés intentaron erradicar esta costumbre al decretar que las mujeres de un pueblo conquistado debían ser tratadas con respeto (Deut 21:10-14), pero la madre de Sísara no conoce tal ley. Ella ni siquiera tiene la simpatía natural de una mujer hacia otra. Por lo tanto, los israelitas no tienen compasión de ella. Es más, ellos saben algo que ella no sabe. Le espera una sorpresa. Las damas sabias de la corte Cananita están equivocadas. Las mujeres no están echadas a los pies de Sísara. Por supuesto que no. Sísara está echado a los pies de una mujer. Y una vez más la heroína del momento es alabada. Dios es alabado. Él es la victoria. Pero su instrumento es la mujer Jael.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95160"/>
            <a:ext cx="4641840" cy="3481560"/>
          </a:xfrm>
          <a:prstGeom prst="rect">
            <a:avLst/>
          </a:prstGeom>
          <a:ln w="0">
            <a:noFill/>
          </a:ln>
        </p:spPr>
      </p:sp>
      <p:sp>
        <p:nvSpPr>
          <p:cNvPr id="15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 FAMILIA DE GEDEÓN </a:t>
            </a:r>
            <a:r>
              <a:rPr b="0" lang="es-ES" sz="1200" spc="-1" strike="noStrike">
                <a:solidFill>
                  <a:srgbClr val="000000"/>
                </a:solidFill>
                <a:latin typeface="Arial"/>
                <a:ea typeface="Arial"/>
              </a:rPr>
              <a:t>(Jueces 6-8) </a:t>
            </a:r>
            <a:r>
              <a:rPr b="1" lang="es-ES" sz="1200" spc="-1" strike="noStrike">
                <a:solidFill>
                  <a:srgbClr val="000000"/>
                </a:solidFill>
                <a:latin typeface="Arial"/>
                <a:ea typeface="Arial"/>
              </a:rPr>
              <a:t>(RP-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juegan un rol privado en la historia de Gedeón. Uno podría leer la historia entera y no darse cuenta de ello. Conocemos el llamado de Gedeón, la prueba con el vellón, la prueba de los soldados tomando del arroyo, y la victoria con las antorchas y jarras. Es una gran historia. Sin embargo, inclusive esta historia nos dice algo acerca de las mujeres del Israel primitivo. Luego de la muerte de Gedeón, el libro nos dice que “tuvo Gedeón setenta hijos que constituyeron su descendencia, porque tuvo muchas mujeres. También su concubina que estaba en Siquem le dio un hijo, y le puso por nombre Abimelec” (8:30-3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vida familiar de Gedeón con sus 70 hijos y muchas esposas es muy diferente del matrimonio que Dios diseñó en el Edén. Es más como los matrimonios de Salomón, construyendo un reino con muchas mujeres. No es como la boda planificada cuidadosamente por Caleb para su hija, uniéndola con un héroe y el primer juez mayor. Y hay otra esposa en la escena, una concubina de Siquém. El hijo de esta esposa hará caer la casa de Gedeón y traerá destrucción en todo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7920" y="695160"/>
            <a:ext cx="4641840" cy="3481560"/>
          </a:xfrm>
          <a:prstGeom prst="rect">
            <a:avLst/>
          </a:prstGeom>
          <a:ln w="0">
            <a:noFill/>
          </a:ln>
        </p:spPr>
      </p:sp>
      <p:sp>
        <p:nvSpPr>
          <p:cNvPr id="15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IEDRA POR PIEDRA: LA CIERTA MUJER DE TEBES </a:t>
            </a:r>
            <a:r>
              <a:rPr b="0" lang="es-ES" sz="1000" spc="-1" strike="noStrike">
                <a:solidFill>
                  <a:srgbClr val="000000"/>
                </a:solidFill>
                <a:latin typeface="Arial"/>
                <a:ea typeface="Arial"/>
              </a:rPr>
              <a:t>(Jueces 9:50-55) </a:t>
            </a:r>
            <a:r>
              <a:rPr b="1" lang="es-ES" sz="1000" spc="-1" strike="noStrike">
                <a:solidFill>
                  <a:srgbClr val="000000"/>
                </a:solidFill>
                <a:latin typeface="Arial"/>
                <a:ea typeface="Arial"/>
              </a:rPr>
              <a:t>(RP-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uego de la muerte de Gedeón, Abimelec, el hijo de la esposa secundaria, se levanta en contra de los 70 hijos de Gedeón. Conspirando con su parentela en Siquem, mata a todos sus hermanos “sobre una misma piedra.” Luego sale en una rabieta destruyendo ciudades y quemando campos. Los israelitas han peleado contra muchos reyes extranjeros, pero este enemigo es uno de los suyos. Incluso quema su propia ciudad, Siquém, matando alrededor de mil hombres y muje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acercarse al pueblo vecino de Tebes, su intención es destruirla, de la misma manera que las otras ciudades. Se aproxima a la gente mientras trabaja pacíficamente en los campos, destruyendo tanto personas como sembradíos y ciudades. Pero esta historia es diferente. El pueblo, “todos los hombres y las mujeres, y todos los señores de la ciudad” huyen a una torre. Cuando Abimelec se acerca para prenderle fuego a la torre, al igual que en Siquem, “una mujer dejó caer un pedazo  de una rueda de molino sobre la cabeza de Abimelec, y le rompió el cráneo.” Otra heroína no esperada aparece en la escena. No conocemos su nombre. Únicamente se la conoce como “una mujer,” pero su acto libró a Israel de un reinado de terror. Hizo más que eso. Castigó a Abimelec por el asesinato de sus 70 hermanos </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 sobre una misma piedra. Fue el castigo de Di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iedra por piedra. El texto dice, “Así pagó Dios a Abimelec el mal que hizo contra su padre, matando a sus setenta hermanos.” Y lo hizo por medio del coraje y los recursos de “cierta mujer” que utilizó una herramienta común del hogar para rescatar su ciudad. Abimelec es un villano. Es un destructor de hogares, familias, campos y ciudades, e incluso las mujeres se levantan contra él. Al morir Abimelec, el pueblo de Tebes puede volver a sus hogares a trabajar en paz. “Cuando los israelitas vieron muerto a Abimelec, se fueron cada uno a su cas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e la mujer de Tebes, distintamente de Acsa, Débora y Jael, no conocemos su nombre. Pero israel la recuerda bien. Es otra de las heroínas inesperadas del libro de Jueces. E Israel recuerda a Abimelec, para su desilusión. Él era conciente de su lugar en la historia, y antes de su muerte llamó a su escudero y le dijo, “Saca tu espada y mátame, para que no se diga de mí: Una mujer lo mató. Y su escudero le atravesó, y murió.” Su intento de construir su imagen no le ayudó en nada. Eso es lo que la gente recordó de él (Ver 2 Samuel 11:21).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7920" y="695160"/>
            <a:ext cx="4641840" cy="3481560"/>
          </a:xfrm>
          <a:prstGeom prst="rect">
            <a:avLst/>
          </a:prstGeom>
          <a:ln w="0">
            <a:noFill/>
          </a:ln>
        </p:spPr>
      </p:sp>
      <p:sp>
        <p:nvSpPr>
          <p:cNvPr id="16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HIJA DE JEFTÉ </a:t>
            </a:r>
            <a:r>
              <a:rPr b="0" lang="es-ES" sz="1000" spc="-1" strike="noStrike">
                <a:solidFill>
                  <a:srgbClr val="000000"/>
                </a:solidFill>
                <a:latin typeface="Arial"/>
                <a:ea typeface="Arial"/>
              </a:rPr>
              <a:t>(Jueces 11) </a:t>
            </a:r>
            <a:r>
              <a:rPr b="1" lang="es-ES" sz="1000" spc="-1" strike="noStrike">
                <a:solidFill>
                  <a:srgbClr val="000000"/>
                </a:solidFill>
                <a:latin typeface="Arial"/>
                <a:ea typeface="Arial"/>
              </a:rPr>
              <a:t>(RP-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 partir de aquí, las historias de las mujeres en el libro de Jueces nos dejan cada vez más perplejos. La hija de Jefté es otro ejemplo de las relaciones padre-hija. Tanto Caleb como Jefté pronuncian palabras poderosas que afectan el futuro de sus hijas, pero qué diferencia en los resultados. Jefté regresa victorioso a su hogar de la guerra contra los Amonitas. Su regreso debería ser un gran motivo de celebración. Típicamente, como lo vemos en la historia de David y Saúl, las mujeres de Israel saldrán para darles la bienvenida a los guerreros que regresan a casa con tamboriles y cánticos (1 Samuel 18:5-7). Pero el hogar al que regresa Jefté está aislado, en el norte de Galaad. Él es el hijo de una prostituta y ha sido exiliado por los hijos legítimos de su padre. Ahora, al regresar a su hogar, la única mujer que sale a recibirlo con tamboriles y danzas es su hija, su única hija. Lo que debería ser una reunión alegre es una tragedia. Él ha hecho un voto que “cualquiera que saliere de las puertas de mi casa a recibirme, cuando regrese victorioso de los amonitas, será de Jehová, y lo ofreceré en holocausto.” (11:30-31). Un voto es un pacto realizado con Dios. Es irrevocable. Una vez que las palabras salen de su boca, no pueden ser cambiad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ja sabe esto. Al estar de pie ante su padre y escuchar su condenación de que ella es la causa de su problema, ella responde, “Padre mío, si le has dado palabra a Jehová, haz de mí conforme a lo que prometiste.” Sin embargo ella pide tiempo. Una postergación de dos meses, tiempo para estar con sus compañeras, tiempo para endechar su vida perdida. Su nombre es olvidado. Pero las hijas de Israel lo recordaron, y durante cuatro días cada año, recordaron a su amiga. Tan importante fue este recuerdo que se convirtió en una costumbre en Israe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80B35-CCE2-45EB-B75A-3C6C40B6F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EB961-E87E-4456-9C89-A620329FC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3E8D7-5A44-4DEE-9C16-E6C93105A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04AE4-C387-4DC2-8A12-DDCBF2049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EEC53-5210-4E0C-AA6D-DFA2CF63F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40E37-6493-44B9-9B28-519681A59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640A1-5112-4A9B-B902-8FE295492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94921-8003-41CE-AF4A-56B689F77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93C1F-B9BD-4810-BDA1-D80A78DA8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DDC27-D486-4EDF-889B-A4889B586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032C7-4463-4B82-A25C-F3B3433D7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0B782-A024-456D-B867-5786D3115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AA3B8-AC54-4319-A8F9-AC63D03F7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3B1F2-9DFC-4305-9368-854027DDD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1C317-5FAB-4F43-A609-B1D5AC84A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3EAFC-ED5A-41D0-8653-628FBF95B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0092B-0565-438C-9041-0A8ED2528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92540-D55A-41DF-9E25-DCB252080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7548F-AA4B-44DC-8FA1-BA73BCEF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0DD2B-ACF3-44C4-AFED-C2CB6C349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5373C-B4ED-4C38-8667-E29627548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54840-F828-4C13-9397-D32417036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66981-6DDC-40C6-A0A5-EEE36B398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68389-AC88-4C52-ACD6-4373BC5BC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3FA1-6E13-4D8B-8853-C8F03531DEC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E62B-C29A-47E5-9F84-ED671F322CC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Mujeres del Antiguo Testamento</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Por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entaur"/>
              </a:rPr>
              <a:t>Curso de Liderazgo  ni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Asociación Gener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Ministerios de la Muj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95280" y="1599840"/>
            <a:ext cx="3772080" cy="39625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so lo entristeció mucho porque el había jurado sacrificar a Dios lo primero que saliera a su encuentro cuando volviera victorioso</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u hija le dijo que honrara su juramento, pero pidió dos meses para hacer duelo antes de que la matara</a:t>
            </a: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 descr=""/>
          <p:cNvPicPr/>
          <p:nvPr/>
        </p:nvPicPr>
        <p:blipFill>
          <a:blip r:embed="rId2"/>
          <a:stretch/>
        </p:blipFill>
        <p:spPr>
          <a:xfrm>
            <a:off x="5181480" y="1295280"/>
            <a:ext cx="373392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casamentero de Ibzán</a:t>
            </a:r>
            <a:endParaRPr b="0" lang="en-US" sz="4400" spc="-1" strike="noStrike">
              <a:solidFill>
                <a:srgbClr val="ccecff"/>
              </a:solidFill>
              <a:latin typeface="Arial Black"/>
            </a:endParaRPr>
          </a:p>
        </p:txBody>
      </p:sp>
      <p:sp>
        <p:nvSpPr>
          <p:cNvPr id="116" name="PlaceHolder 2"/>
          <p:cNvSpPr>
            <a:spLocks noGrp="1"/>
          </p:cNvSpPr>
          <p:nvPr>
            <p:ph/>
          </p:nvPr>
        </p:nvSpPr>
        <p:spPr>
          <a:xfrm>
            <a:off x="838080" y="1295280"/>
            <a:ext cx="7315200" cy="50292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ueces tiene muchas historias cortas de jueces menore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Ellas nos dicen donde vivía un juez, cuánto tiempo gobernó, que murió, y donde fue sepultado</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Ibzan era un juez menor que tuvo 30 hijos y 30 hij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9320" y="1447920"/>
            <a:ext cx="6324480" cy="3962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Él arregló cuidadosamente sus bodas con cónyuges de fuera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a planificación cuidadosa aumentó las alianzas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o contrasta mucho con el voto necio de Jefté que terminó con su línea familiar</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304920"/>
            <a:ext cx="6172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19" name="PlaceHolder 2"/>
          <p:cNvSpPr>
            <a:spLocks noGrp="1"/>
          </p:cNvSpPr>
          <p:nvPr>
            <p:ph/>
          </p:nvPr>
        </p:nvSpPr>
        <p:spPr>
          <a:xfrm>
            <a:off x="914400" y="1294920"/>
            <a:ext cx="6477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ansón es estéril hasta que un ángel anuncia su nacimiento y le da instrucciones especiales para su crianza</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ebe ser criado como Nazare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su madre le cuenta a su padre, su padre le pide a Dios otra visita del ángel para darle a él las instrucciones</a:t>
            </a:r>
            <a:endParaRPr b="0" lang="en-US" sz="2800" spc="-1" strike="noStrike">
              <a:solidFill>
                <a:srgbClr val="ffffff"/>
              </a:solidFill>
              <a:latin typeface="Arial"/>
            </a:endParaRPr>
          </a:p>
        </p:txBody>
      </p:sp>
      <p:pic>
        <p:nvPicPr>
          <p:cNvPr id="120" name="" descr=""/>
          <p:cNvPicPr/>
          <p:nvPr/>
        </p:nvPicPr>
        <p:blipFill>
          <a:blip r:embed="rId2"/>
          <a:stretch/>
        </p:blipFill>
        <p:spPr>
          <a:xfrm>
            <a:off x="7391520" y="198108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19320" y="1447920"/>
            <a:ext cx="4952880" cy="449568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aparece nuevamente a la madre de Sansón, quien busca a su padr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únicamente dice que su madre debe seguir las instrucciones que ya le fueron dada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ansón no es exactamente un líder modelo</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 descr=""/>
          <p:cNvPicPr/>
          <p:nvPr/>
        </p:nvPicPr>
        <p:blipFill>
          <a:blip r:embed="rId2"/>
          <a:stretch/>
        </p:blipFill>
        <p:spPr>
          <a:xfrm>
            <a:off x="6172200" y="1676520"/>
            <a:ext cx="170820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920"/>
            <a:ext cx="60962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24" name="PlaceHolder 2"/>
          <p:cNvSpPr>
            <a:spLocks noGrp="1"/>
          </p:cNvSpPr>
          <p:nvPr>
            <p:ph/>
          </p:nvPr>
        </p:nvSpPr>
        <p:spPr>
          <a:xfrm>
            <a:off x="990360" y="1523880"/>
            <a:ext cx="739116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relacionaba mucho con las mujeres filisteas</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pide a sus padres que hagan los arreglos para su boda con una mujer Timnita, que termina desastrosamente</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alila es un peón inocente entre los hombres</a:t>
            </a:r>
            <a:endParaRPr b="0" lang="en-US" sz="2800" spc="-1" strike="noStrike">
              <a:solidFill>
                <a:srgbClr val="ffffff"/>
              </a:solidFill>
              <a:latin typeface="Arial"/>
            </a:endParaRPr>
          </a:p>
        </p:txBody>
      </p:sp>
      <p:pic>
        <p:nvPicPr>
          <p:cNvPr id="125" name="" descr=""/>
          <p:cNvPicPr/>
          <p:nvPr/>
        </p:nvPicPr>
        <p:blipFill>
          <a:blip r:embed="rId2"/>
          <a:stretch/>
        </p:blipFill>
        <p:spPr>
          <a:xfrm>
            <a:off x="2895480" y="4267080"/>
            <a:ext cx="3124440" cy="227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040" y="1219320"/>
            <a:ext cx="762012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Hace los arreglos personalmente con los líderes filisteos para descubrir el secreto de Sansón</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nunca le miente a Sansón - el sabe que ella busca su secreto para destruirlo</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tiene éxito, pero Dios utiliza igual a Sansón para librar a Israel</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
          <p:cNvPicPr/>
          <p:nvPr/>
        </p:nvPicPr>
        <p:blipFill>
          <a:blip r:embed="rId2"/>
          <a:stretch/>
        </p:blipFill>
        <p:spPr>
          <a:xfrm>
            <a:off x="3276720" y="4495680"/>
            <a:ext cx="2743200" cy="20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400" y="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Micaía y su madre</a:t>
            </a:r>
            <a:endParaRPr b="0" lang="en-US" sz="4800" spc="-1" strike="noStrike">
              <a:solidFill>
                <a:srgbClr val="ccecff"/>
              </a:solidFill>
              <a:latin typeface="Arial Black"/>
            </a:endParaRPr>
          </a:p>
        </p:txBody>
      </p:sp>
      <p:sp>
        <p:nvSpPr>
          <p:cNvPr id="129"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roba una fortuna en plata de su madre</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maldice a quienquiera lo robó</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al oír la maldición, devuelve la plata y confiesa</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entonces lo bendice y hace un ídolo para él con parte de la pl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304560"/>
            <a:ext cx="64767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Centaur"/>
              </a:rPr>
              <a:t>El levita y su concubina</a:t>
            </a:r>
            <a:endParaRPr b="0" lang="en-US" sz="4400" spc="-1" strike="noStrike">
              <a:solidFill>
                <a:srgbClr val="ccecff"/>
              </a:solidFill>
              <a:latin typeface="Arial Black"/>
            </a:endParaRPr>
          </a:p>
        </p:txBody>
      </p:sp>
      <p:sp>
        <p:nvSpPr>
          <p:cNvPr id="131" name="PlaceHolder 2"/>
          <p:cNvSpPr>
            <a:spLocks noGrp="1"/>
          </p:cNvSpPr>
          <p:nvPr>
            <p:ph/>
          </p:nvPr>
        </p:nvSpPr>
        <p:spPr>
          <a:xfrm>
            <a:off x="685800" y="1599840"/>
            <a:ext cx="769608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concubina del levita regresa a la casa de su padre</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levite va para traer de regreso a su concubin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Su viaje de regreso comienza tarde en el día, y no consiguen alojamiento</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 anciano les ofrece hospitalidad</a:t>
            </a: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a turba se junta alrededor de la casa del anciano queriendo que les entregue al levita para tener actividades sexuales</a:t>
            </a:r>
            <a:endParaRPr b="0" lang="en-US" sz="3000" spc="-1" strike="noStrike">
              <a:solidFill>
                <a:srgbClr val="ffffff"/>
              </a:solidFill>
              <a:latin typeface="Arial"/>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n lugar de eso el levita arroja a la concubina afuera y abusan de ella toda la noche</a:t>
            </a:r>
            <a:endParaRPr b="0" lang="en-US" sz="3000" spc="-1" strike="noStrike">
              <a:solidFill>
                <a:srgbClr val="ffffff"/>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920" y="457200"/>
            <a:ext cx="4876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Black"/>
              </a:rPr>
              <a:t>  </a:t>
            </a:r>
            <a:r>
              <a:rPr b="1" lang="es-ES_tradnl" sz="4400" spc="-1" strike="noStrike">
                <a:solidFill>
                  <a:srgbClr val="000099"/>
                </a:solidFill>
                <a:latin typeface="Centaur"/>
              </a:rPr>
              <a:t>Las mujeres fogosas de jueces</a:t>
            </a:r>
            <a:endParaRPr b="0" lang="en-US" sz="4400" spc="-1" strike="noStrike">
              <a:solidFill>
                <a:srgbClr val="ccecff"/>
              </a:solidFill>
              <a:latin typeface="Arial Black"/>
            </a:endParaRPr>
          </a:p>
        </p:txBody>
      </p:sp>
      <p:sp>
        <p:nvSpPr>
          <p:cNvPr id="91"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historia primitiva de Israel frecuentemente presenta guerra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generalmente no son prominentes en las historias de guerra</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 clave comprender el rol de las mujeres en las guerras de Israel para entender el libro de juece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paradero de las mujeres descriptas está íntimamente conectado en el paradero de Israel</a:t>
            </a:r>
            <a:endParaRPr b="0" lang="en-US" sz="2800" spc="-1" strike="noStrike">
              <a:solidFill>
                <a:srgbClr val="ffffff"/>
              </a:solidFill>
              <a:latin typeface="Arial"/>
            </a:endParaRPr>
          </a:p>
        </p:txBody>
      </p:sp>
      <p:pic>
        <p:nvPicPr>
          <p:cNvPr id="92"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3160" y="1371600"/>
            <a:ext cx="70866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llega la mañana ella se arrastra hasta la puerta del ancia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el levita está listo para partir la pone sobre un as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Al llegar a casa se da cuenta que está muerta y corta su cuerpo en 12 pedazos</a:t>
            </a:r>
            <a:endParaRPr b="0" lang="en-US" sz="3000" spc="-1" strike="noStrike">
              <a:solidFill>
                <a:srgbClr val="ffffff"/>
              </a:solidFill>
              <a:latin typeface="Arial"/>
            </a:endParaRPr>
          </a:p>
        </p:txBody>
      </p:sp>
      <p:pic>
        <p:nvPicPr>
          <p:cNvPr id="134"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3360" y="380880"/>
            <a:ext cx="60195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6" name="PlaceHolder 2"/>
          <p:cNvSpPr>
            <a:spLocks noGrp="1"/>
          </p:cNvSpPr>
          <p:nvPr>
            <p:ph/>
          </p:nvPr>
        </p:nvSpPr>
        <p:spPr>
          <a:xfrm>
            <a:off x="1066680" y="1218960"/>
            <a:ext cx="7467840" cy="5638680"/>
          </a:xfrm>
          <a:prstGeom prst="rect">
            <a:avLst/>
          </a:prstGeom>
          <a:noFill/>
          <a:ln w="0">
            <a:noFill/>
          </a:ln>
        </p:spPr>
        <p:txBody>
          <a:bodyPr lIns="90000" rIns="90000" tIns="46800" bIns="46800" anchor="t">
            <a:normAutofit/>
          </a:bodyPr>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os israelitas no quieren que una de sus tribus desaparezca por completo, por lo que necesitan nuevas esposas para los 600 hombres</a:t>
            </a:r>
            <a:endParaRPr b="0" lang="en-US" sz="3400" spc="-1" strike="noStrike">
              <a:solidFill>
                <a:srgbClr val="ffffff"/>
              </a:solidFill>
              <a:latin typeface="Arial"/>
            </a:endParaRPr>
          </a:p>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Se dan cuenta que la ciudad de Jabes-Galaad no participó en la guerra, así que los israelitas los atacan</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os israelitas matan a todos menos las mujeres vírgenes</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De este modo consiguen 400 esposas para los benjamitas, pero aún quedan 200 hombres sin esposa</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problema es que todos los israelitas juraron nunca dar sus hijas en casamiento a los benjamitas</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0" y="45720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9"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israelitas les dicen a los benjamitas que vayan a Silo, donde estaba ocurriendo una fiesta religi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Debían esconderse a la orilla del camino, y mientras las mujeres jóvenes pasaban debían secuestrar la que querían por esp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líderes israelitas calmarían a los padres de las mujeres recordándoles que los benjamitas necesitaban esposas, y como no habían “dado” a las mujeres no habían roto sus juramento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80880"/>
            <a:ext cx="5257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Desde Acsa hasta la concubina</a:t>
            </a:r>
            <a:endParaRPr b="0" lang="en-US" sz="3600" spc="-1" strike="noStrike">
              <a:solidFill>
                <a:srgbClr val="ccecff"/>
              </a:solidFill>
              <a:latin typeface="Arial Black"/>
            </a:endParaRPr>
          </a:p>
        </p:txBody>
      </p:sp>
      <p:sp>
        <p:nvSpPr>
          <p:cNvPr id="141" name="PlaceHolder 2"/>
          <p:cNvSpPr>
            <a:spLocks noGrp="1"/>
          </p:cNvSpPr>
          <p:nvPr>
            <p:ph/>
          </p:nvPr>
        </p:nvSpPr>
        <p:spPr>
          <a:xfrm>
            <a:off x="914400" y="1676520"/>
            <a:ext cx="7315200" cy="495288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Acsa es un patrón para las demás historias de mujeres en el libro de los Jueces</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la concubina es la contradicción máxima de la historia de Acsa</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Muchas de las mujeres de Jueces hacen eco de la inteligencia y el espíritu independiente de Acsa</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42" name="" descr=""/>
          <p:cNvPicPr/>
          <p:nvPr/>
        </p:nvPicPr>
        <p:blipFill>
          <a:blip r:embed="rId2"/>
          <a:stretch/>
        </p:blipFill>
        <p:spPr>
          <a:xfrm>
            <a:off x="8062920" y="4114800"/>
            <a:ext cx="1081080" cy="243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523520"/>
            <a:ext cx="7696080" cy="3962520"/>
          </a:xfrm>
          <a:prstGeom prst="rect">
            <a:avLst/>
          </a:prstGeom>
          <a:noFill/>
          <a:ln w="0">
            <a:noFill/>
          </a:ln>
        </p:spPr>
        <p:txBody>
          <a:bodyPr lIns="90000" rIns="90000" tIns="46800" bIns="46800" anchor="t">
            <a:normAutofit fontScale="99000"/>
          </a:bodyPr>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Acsa muestra cómo deberían ser las cosas</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la concubina muestra las cosas en su peor estado</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Rut es otro ejemplo de cómo deberían ser las cosas</a:t>
            </a:r>
            <a:endParaRPr b="0" lang="en-US" sz="3400" spc="-1" strike="noStrike">
              <a:solidFill>
                <a:srgbClr val="ffffff"/>
              </a:solidFill>
              <a:latin typeface="Arial"/>
            </a:endParaRPr>
          </a:p>
          <a:p>
            <a:pPr marL="3394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Centaur"/>
              </a:rPr>
              <a:t>La sabiduría de Acsa</a:t>
            </a:r>
            <a:endParaRPr b="0" lang="en-US" sz="3600" spc="-1" strike="noStrike">
              <a:solidFill>
                <a:srgbClr val="ccecff"/>
              </a:solidFill>
              <a:latin typeface="Arial Black"/>
            </a:endParaRPr>
          </a:p>
        </p:txBody>
      </p:sp>
      <p:sp>
        <p:nvSpPr>
          <p:cNvPr id="94"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es la hija de Caleb</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hombre que conquiste Debir la recibirá como espos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Otoniel conquista Debir</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una dote grande de tierra desértic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se da cuenta que necesita recursos de agua para hacer productiva su tierr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le pide a Caleb una bendición espec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dos fuentes</a:t>
            </a:r>
            <a:endParaRPr b="0" lang="en-US" sz="2800" spc="-1" strike="noStrike">
              <a:solidFill>
                <a:srgbClr val="ffffff"/>
              </a:solidFill>
              <a:latin typeface="Arial"/>
            </a:endParaRPr>
          </a:p>
        </p:txBody>
      </p:sp>
      <p:pic>
        <p:nvPicPr>
          <p:cNvPr id="95"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a:t>
            </a:r>
            <a:endParaRPr b="0" lang="en-US" sz="4800" spc="-1" strike="noStrike">
              <a:solidFill>
                <a:srgbClr val="ccecff"/>
              </a:solidFill>
              <a:latin typeface="Arial Black"/>
            </a:endParaRPr>
          </a:p>
        </p:txBody>
      </p:sp>
      <p:sp>
        <p:nvSpPr>
          <p:cNvPr id="97"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es una jueza</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da a Barac, el líder militar, instrucciones de pelea de parte de Dios</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Barac no quiere pelear a menos que Débora lo acompañe</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acepta, pero dice que por causa de esto Dios le dará la gloria de la victoria a una mujer</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Únicamente el comandante del ejército enemigo, Sísara, sobrevive a la bata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 </a:t>
            </a:r>
            <a:r>
              <a:rPr b="0" lang="en-US" sz="3200" spc="-1" strike="noStrike">
                <a:solidFill>
                  <a:srgbClr val="000099"/>
                </a:solidFill>
                <a:latin typeface="Centaur"/>
              </a:rPr>
              <a:t>cont.</a:t>
            </a:r>
            <a:endParaRPr b="0" lang="en-US" sz="3200" spc="-1" strike="noStrike">
              <a:solidFill>
                <a:srgbClr val="ccecff"/>
              </a:solidFill>
              <a:latin typeface="Arial Black"/>
            </a:endParaRPr>
          </a:p>
        </p:txBody>
      </p:sp>
      <p:sp>
        <p:nvSpPr>
          <p:cNvPr id="99"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Jael lo invita a entrar y le da leche para tomar</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Mientras Sísara duerme, Jael lo mata al martillarle una estaca de la carpa en la cabeza</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y Barac cantan un cántico de victoria</a:t>
            </a:r>
            <a:endParaRPr b="0" lang="en-US" sz="2800" spc="-1" strike="noStrike">
              <a:solidFill>
                <a:srgbClr val="ffffff"/>
              </a:solidFill>
              <a:latin typeface="Arial"/>
            </a:endParaRPr>
          </a:p>
        </p:txBody>
      </p:sp>
      <p:pic>
        <p:nvPicPr>
          <p:cNvPr id="100" name="" descr=""/>
          <p:cNvPicPr/>
          <p:nvPr/>
        </p:nvPicPr>
        <p:blipFill>
          <a:blip r:embed="rId2">
            <a:lum contrast="-6000"/>
          </a:blip>
          <a:srcRect l="0" t="0" r="0" b="45884"/>
          <a:stretch/>
        </p:blipFill>
        <p:spPr>
          <a:xfrm>
            <a:off x="380880" y="457200"/>
            <a:ext cx="3270240" cy="2743200"/>
          </a:xfrm>
          <a:prstGeom prst="rect">
            <a:avLst/>
          </a:prstGeom>
          <a:ln w="0">
            <a:noFill/>
          </a:ln>
        </p:spPr>
      </p:pic>
      <p:sp>
        <p:nvSpPr>
          <p:cNvPr id="101"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  </a:t>
            </a:r>
            <a:r>
              <a:rPr b="1" lang="es-ES_tradnl" sz="3200" spc="-1" strike="noStrike">
                <a:solidFill>
                  <a:srgbClr val="ffffff"/>
                </a:solidFill>
                <a:latin typeface="Centaur"/>
              </a:rPr>
              <a:t>Mientras Sísara escapa de la batalla pasa por la tienda de una mujer llamada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La madre de Sísara</a:t>
            </a:r>
            <a:endParaRPr b="0" lang="en-US" sz="4800" spc="-1" strike="noStrike">
              <a:solidFill>
                <a:srgbClr val="ccecff"/>
              </a:solidFill>
              <a:latin typeface="Arial Black"/>
            </a:endParaRPr>
          </a:p>
        </p:txBody>
      </p:sp>
      <p:sp>
        <p:nvSpPr>
          <p:cNvPr id="103" name="PlaceHolder 2"/>
          <p:cNvSpPr>
            <a:spLocks noGrp="1"/>
          </p:cNvSpPr>
          <p:nvPr>
            <p:ph/>
          </p:nvPr>
        </p:nvSpPr>
        <p:spPr>
          <a:xfrm>
            <a:off x="837720" y="1371240"/>
            <a:ext cx="769644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ísara se menciona en al cántico de victoria de Débora y Barac.</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está asomándose por la ventana y preguntándose porqué no ha regresado su hijo de la batalla.</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damas de la corte le dicen que debe haberse tardado al repartir el botín.</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imaginan que está recogiendo ropa fina y “una niña o dos” para todos sus hombres.</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Pero Sísara no está repartiendo el botín, está muerto e Israel está seguro gracias a Dios y una muj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1960" y="380880"/>
            <a:ext cx="55623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eac"/>
                </a:solidFill>
                <a:latin typeface="Centaur"/>
              </a:rPr>
              <a:t>La familia de Gedeón</a:t>
            </a:r>
            <a:endParaRPr b="0" lang="en-US" sz="4400" spc="-1" strike="noStrike">
              <a:solidFill>
                <a:srgbClr val="ccecff"/>
              </a:solidFill>
              <a:latin typeface="Arial Black"/>
            </a:endParaRPr>
          </a:p>
        </p:txBody>
      </p:sp>
      <p:sp>
        <p:nvSpPr>
          <p:cNvPr id="105" name="PlaceHolder 2"/>
          <p:cNvSpPr>
            <a:spLocks noGrp="1"/>
          </p:cNvSpPr>
          <p:nvPr>
            <p:ph/>
          </p:nvPr>
        </p:nvSpPr>
        <p:spPr>
          <a:xfrm>
            <a:off x="1447560" y="2361960"/>
            <a:ext cx="6095880" cy="2895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en la vida de Gedeón no son muy conocidos, pero sí significativ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Gedeón tuvo 70 hijos a través de muchas espos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u concubina de Siquem le dio un hijo que fue llamado Abimelec</a:t>
            </a:r>
            <a:endParaRPr b="0" lang="en-US" sz="2800" spc="-1" strike="noStrike">
              <a:solidFill>
                <a:srgbClr val="ffffff"/>
              </a:solidFill>
              <a:latin typeface="Arial"/>
            </a:endParaRPr>
          </a:p>
        </p:txBody>
      </p:sp>
      <p:pic>
        <p:nvPicPr>
          <p:cNvPr id="106"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240" y="380520"/>
            <a:ext cx="5257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Centaur"/>
              </a:rPr>
              <a:t>Piedra por piedra: la cierta mujer de Tebes</a:t>
            </a:r>
            <a:r>
              <a:rPr b="0" lang="en-US" sz="4800" spc="-1" strike="noStrike">
                <a:solidFill>
                  <a:srgbClr val="ffffcc"/>
                </a:solidFill>
                <a:latin typeface="Centaur"/>
              </a:rPr>
              <a:t> </a:t>
            </a:r>
            <a:endParaRPr b="0" lang="en-US" sz="4800" spc="-1" strike="noStrike">
              <a:solidFill>
                <a:srgbClr val="ccecff"/>
              </a:solidFill>
              <a:latin typeface="Arial Black"/>
            </a:endParaRPr>
          </a:p>
        </p:txBody>
      </p:sp>
      <p:sp>
        <p:nvSpPr>
          <p:cNvPr id="108" name="PlaceHolder 2"/>
          <p:cNvSpPr>
            <a:spLocks noGrp="1"/>
          </p:cNvSpPr>
          <p:nvPr>
            <p:ph/>
          </p:nvPr>
        </p:nvSpPr>
        <p:spPr>
          <a:xfrm>
            <a:off x="533160" y="1752120"/>
            <a:ext cx="7848360" cy="44197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de la muerte de Gedeón, Abimelec asesina sus 70 hermano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lleva a un ejército por Israel destruyendo ciudades y sembradíos y matando todos los habitante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n el pueblo de Tebes toda la gente se reúne en una torre y se protegen</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Abimelec ataca, “una mujer” arroja una piedra de molino sobre su cabeza y lo mata</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Nuevamente, Israel está a salvo gracias a las acciones de una mujer</a:t>
            </a:r>
            <a:endParaRPr b="0" lang="en-US" sz="2800" spc="-1" strike="noStrike">
              <a:solidFill>
                <a:srgbClr val="ffffff"/>
              </a:solidFill>
              <a:latin typeface="Arial"/>
            </a:endParaRPr>
          </a:p>
        </p:txBody>
      </p:sp>
      <p:pic>
        <p:nvPicPr>
          <p:cNvPr id="109" name="" descr=""/>
          <p:cNvPicPr/>
          <p:nvPr/>
        </p:nvPicPr>
        <p:blipFill>
          <a:blip r:embed="rId2"/>
          <a:srcRect l="20689" t="24144" r="17244" b="17244"/>
          <a:stretch/>
        </p:blipFill>
        <p:spPr>
          <a:xfrm>
            <a:off x="7238880" y="510552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867280" y="1447920"/>
            <a:ext cx="3276720" cy="4271760"/>
          </a:xfrm>
          <a:prstGeom prst="rect">
            <a:avLst/>
          </a:prstGeom>
          <a:ln w="0">
            <a:noFill/>
          </a:ln>
        </p:spPr>
      </p:pic>
      <p:sp>
        <p:nvSpPr>
          <p:cNvPr id="111" name="PlaceHolder 1"/>
          <p:cNvSpPr>
            <a:spLocks noGrp="1"/>
          </p:cNvSpPr>
          <p:nvPr>
            <p:ph type="title"/>
          </p:nvPr>
        </p:nvSpPr>
        <p:spPr>
          <a:xfrm>
            <a:off x="2971800" y="304920"/>
            <a:ext cx="5029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La hija de Jefté</a:t>
            </a:r>
            <a:endParaRPr b="0" lang="en-US" sz="3600" spc="-1" strike="noStrike">
              <a:solidFill>
                <a:srgbClr val="ccecff"/>
              </a:solidFill>
              <a:latin typeface="Arial Black"/>
            </a:endParaRPr>
          </a:p>
        </p:txBody>
      </p:sp>
      <p:sp>
        <p:nvSpPr>
          <p:cNvPr id="112" name="PlaceHolder 2"/>
          <p:cNvSpPr>
            <a:spLocks noGrp="1"/>
          </p:cNvSpPr>
          <p:nvPr>
            <p:ph/>
          </p:nvPr>
        </p:nvSpPr>
        <p:spPr>
          <a:xfrm>
            <a:off x="761760" y="1600200"/>
            <a:ext cx="518148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La madre de Jefté era una prostituta, por lo que sus hermanos lo desheredar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efté regresó de una victoria en la batalla, y su única hija salió a recibir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dc:language>en-US</dc:language>
  <cp:lastModifiedBy>Sede Administrativa</cp:lastModifiedBy>
  <dcterms:modified xsi:type="dcterms:W3CDTF">2005-06-15T14:47:12Z</dcterms:modified>
  <cp:revision>48</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