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7F7-283C-4C5C-BF06-A25C2AF0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763-D3B2-4FDE-9BD5-EBD7A397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B7B-D8BE-44A8-8546-5BEAB1BB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6CE4-C5A2-481F-ADB9-CE905680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B6BF-6F1F-46D9-BF98-0B5B2553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4FF1-E683-4FC2-8654-04638EFF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517B-B6E1-45C9-89DD-5BC20B86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AD08-8C33-41B7-BB07-12CE382B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625-3C21-4F0E-AFA2-E2BEC1C1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5280-39C1-4517-84B2-5938BF5F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17E6-D2A4-493A-BC0F-10E61682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0BE-AE19-43F8-A897-BFAAA476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8341-D0DC-4F2B-9DC7-9D8DECDB3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ujeres del Antiguo Testamento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48:49Z</dcterms:modified>
  <cp:revision>5</cp:revision>
  <dc:subject/>
  <dc:title>Slide 1</dc:title>
</cp:coreProperties>
</file>