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C48-DD23-4979-8867-4EEBCF0E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ED7-1261-4EC5-85EA-C36E02AA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437-0492-444F-8194-900229CF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195-C176-468B-A891-79E84C9D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646-1042-4F3C-A290-15A191B8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FAF-7CDB-48D7-916A-1D83E464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BD9-2B58-4788-B370-E828B651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27D-A1A0-473A-ACCA-D7A188DE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3CC5-C227-48F1-B690-07FE2896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645-AAEC-4E12-8753-E3871891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D7D-3124-4920-AE9C-A06E66E6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545-1572-4926-A89B-51F842B5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C074-A50C-4324-9B55-459B05CA2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ujeres del Antiguo Testamento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48:49Z</dcterms:modified>
  <cp:revision>5</cp:revision>
  <dc:subject/>
  <dc:title>Slide 1</dc:title>
</cp:coreProperties>
</file>