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F8AEA-7822-4CC2-9BEB-EE3171840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7D8DF-6580-4ACD-A107-5872EAC72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4E7FF-FB2F-4B16-AA94-7BCC52C77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B8AE6-1235-4E09-A9E8-A67E9ECB1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E3780-72D1-4C80-B440-251D0601B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04A77-F871-4F51-BD16-ED2F69EB7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1D591-29F0-46F6-A8C9-1279B3AD6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AF230-CC5A-4458-BBFF-1D010FD0E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A0712-1C4C-4AD1-8358-D75CD8ACD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BE190-0071-4FBD-8778-625F8FC98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D0BC2-75AC-45D9-A0C4-ACBEF2B1A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866F5-3237-4F2C-95A7-9750BF383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6AD57-FCC4-4789-8B83-064EAE4D56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413000" y="7164360"/>
            <a:ext cx="424800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Mujeres del Antiguo Testamento</a:t>
            </a:r>
            <a:endParaRPr b="0" lang="en-US" sz="24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3T16:28:11Z</dcterms:created>
  <dc:creator>Sede Administrativa</dc:creator>
  <dc:description/>
  <dc:language>en-US</dc:language>
  <cp:lastModifiedBy>Sede Administrativa</cp:lastModifiedBy>
  <dcterms:modified xsi:type="dcterms:W3CDTF">2005-06-13T16:48:49Z</dcterms:modified>
  <cp:revision>5</cp:revision>
  <dc:subject/>
  <dc:title>Slide 1</dc:title>
</cp:coreProperties>
</file>