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C3F-ED48-469C-968A-554EBF70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DC4-1516-47DA-A65C-6D982076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714-A145-4D0E-9542-964ED337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427-B01B-4E69-98B3-9E86489A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5D7-AA2E-4F22-94B4-F5E1C914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9E3-0416-4BE5-8C8E-3815C595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026-962A-4F6A-BDF4-917A1DC4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DE6-92C9-4444-B5AF-9AB58C3E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4ED-914B-4CAE-A202-8827B0B5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73F-B078-4A89-B286-AECDD988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CD4-AE70-4719-8261-0D5B07E3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13E-B716-42DF-ADFF-74F2AAA4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FA10-AED7-4CAB-BF2A-3E0B1C7AA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paración y Redacción de Informe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4:57Z</dcterms:modified>
  <cp:revision>5</cp:revision>
  <dc:subject/>
  <dc:title>Slide 1</dc:title>
</cp:coreProperties>
</file>