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99A6-0D9C-4560-9B1A-AD442DC73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65EC-18F4-435F-BB00-2A637C5E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1B90-1469-4E54-A7A3-29C47449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CF3B-866C-4A5D-96FB-C185EE0E5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C379-0689-4900-BFEC-76C15874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17AD-10F4-468A-BB38-92965D5C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9266-7AC3-444A-82AB-37EAE2C9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F156-1D6D-465D-9B53-0BC832C5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F114-6143-4F0C-A8C9-E759260D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F7A1-542E-48B3-BBA3-ABF56FE5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CEE2-8802-4DAB-828B-BB5F27E2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68E0-CA46-47FE-9518-8DC3EB7A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A45C-A694-4D91-B3B5-02B08E384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13000" y="7164360"/>
            <a:ext cx="42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eparación y Redacción de Informes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34:57Z</dcterms:modified>
  <cp:revision>5</cp:revision>
  <dc:subject/>
  <dc:title>Slide 1</dc:title>
</cp:coreProperties>
</file>