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2.gif" ContentType="image/gi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5.wmf" ContentType="image/x-wmf"/>
  <Override PartName="/ppt/media/image10.wmf" ContentType="image/x-wmf"/>
  <Override PartName="/ppt/media/image3.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BACD53B-7898-46EA-AA16-FFB761F95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7920" y="695160"/>
            <a:ext cx="4641840" cy="3481560"/>
          </a:xfrm>
          <a:prstGeom prst="rect">
            <a:avLst/>
          </a:prstGeom>
          <a:ln w="0">
            <a:noFill/>
          </a:ln>
        </p:spPr>
      </p:sp>
      <p:sp>
        <p:nvSpPr>
          <p:cNvPr id="15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rrector de pruebas</a:t>
            </a:r>
            <a:r>
              <a:rPr b="0" lang="es-ES" sz="1200" spc="-1" strike="noStrike">
                <a:solidFill>
                  <a:srgbClr val="000000"/>
                </a:solidFill>
                <a:latin typeface="Century Gothic"/>
                <a:ea typeface="Times New Roman"/>
              </a:rPr>
              <a:t>—El editor tiene la responsable final de corrección de pruebas y edición. El editor, y / o al menos un miembro del grupo debería analizar detenidamente la copia final corrigiendo errores antes de que la última copia sea impresa, observándola crítica y cuidadosamente buscando errores tipográficos, errores de puntuación, palabras mal escritas y estructuras de oración pobres. Los correctores de pruebas deberían ser muy meticulosos de principio a fin, utilizando consejos como leer al revés las oraciones, leerlo con otra persona, leer en voz alta o utilizar lupas para encontrar los errores. Además es esencial tener a mano un buen libro de corrección de prueb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corrector de pruebas también debería tomarse el tiempo de acomodar las hojas que van una al lado de la otra. ¿Tiene el aspecto correcto el boletín informativo? ¿Está muy amontonado? ¿Se leen bien los títulos? ¿Hay demasiadas secciones de numeración, fotos o gráficos / cuadros de texto? Cuando se ha logrado el aspecto deseado, es hora de la próxima fase, la impresió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Vas a querer sentirte orgullosa de tu boletín informativo, y vas a querer que el mismo cumpla tus expectativ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Quizá quieras contratar a un consultor con experiencia en producción de boletines informativos durante el proceso de diseño y desarrollo de tu boletín. Ellos pueden proveer consejos útiles, y podría ser útil aprovechar la experiencia de alguien que sabe más que vos, especialmente cuando estás iniciando este tipo de trabajo</a:t>
            </a:r>
            <a:r>
              <a:rPr b="0" lang="es-ES_tradnl" sz="1200" spc="-1" strike="noStrike">
                <a:solidFill>
                  <a:srgbClr val="000000"/>
                </a:solidFill>
                <a:latin typeface="Century Gothic"/>
                <a:ea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7920" y="695160"/>
            <a:ext cx="4641840" cy="3481560"/>
          </a:xfrm>
          <a:prstGeom prst="rect">
            <a:avLst/>
          </a:prstGeom>
          <a:ln w="0">
            <a:noFill/>
          </a:ln>
        </p:spPr>
      </p:sp>
      <p:sp>
        <p:nvSpPr>
          <p:cNvPr id="15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BASES DE UN BOLETÍN INFORMATIVO: QUE TENER EN CUENT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Tus expectativas (o las expectativas de tu organización)</a:t>
            </a:r>
            <a:r>
              <a:rPr b="0" lang="es-ES" sz="1000" spc="-1" strike="noStrike">
                <a:solidFill>
                  <a:srgbClr val="000000"/>
                </a:solidFill>
                <a:latin typeface="Century Gothic"/>
                <a:ea typeface="Times New Roman"/>
              </a:rPr>
              <a:t>—¿Qué deseas que el boletín informativo realice para tu audiencia? ¿Qué estás dispuesta a hacer para que esto ocurra? ¿Qué deseas que haga tu equipo para que esto ocurra? ¿Cuánto estás dispuesta a permitir que haga tu equipo para que esto ocurra? Revisa la misión y visión de tu organización a la luz de las expectativas que tienes para tu boletí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ómo presupuestar y otros asuntos aburridos (pero necesarios)</a:t>
            </a:r>
            <a:r>
              <a:rPr b="0" lang="es-ES" sz="1000" spc="-1" strike="noStrike">
                <a:solidFill>
                  <a:srgbClr val="000000"/>
                </a:solidFill>
                <a:latin typeface="Century Gothic"/>
                <a:ea typeface="Times New Roman"/>
              </a:rPr>
              <a:t>—Decide cuánto dinero está disponible para el boletín informativo, y luego realiza un presupuesto realista. Toma tiempo para priorizar cada aspecto de tu sueño de producción de un boletín informativo. Reduce si es necesario pero mantén tu visión. La cantidad de dinero disponible afecta el producto final.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Software, papel, suministros</a:t>
            </a:r>
            <a:r>
              <a:rPr b="0" lang="es-ES" sz="1000" spc="-1" strike="noStrike">
                <a:solidFill>
                  <a:srgbClr val="000000"/>
                </a:solidFill>
                <a:latin typeface="Century Gothic"/>
                <a:ea typeface="Times New Roman"/>
              </a:rPr>
              <a:t>—¿Qué tipos de programas de computadora necesitas para producir un boletín del que te puedas sentir orgullosa? ¿Qué tipo de papel le dará el aspecto deseado a tu boletín informativo? ¿Qué suministros necesitarás? Algunas ideas: libros de clip art, herramientas para correctores de pruebas, cartuchos de impresión, o cinta para máquinas de escribir, solo para mencionar alguno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Equipo de trabajo</a:t>
            </a:r>
            <a:r>
              <a:rPr b="0" lang="es-ES" sz="1000" spc="-1" strike="noStrike">
                <a:solidFill>
                  <a:srgbClr val="000000"/>
                </a:solidFill>
                <a:latin typeface="Century Gothic"/>
                <a:ea typeface="Times New Roman"/>
              </a:rPr>
              <a:t>—¿Está compuesto por una persona (vos), o un grupo de cinco? ¿Trabajarán medio tiempo o tiempo completo, a sueldo o voluntarios? ¿Cuánto dinero está asignado a los miembros del equipo? ¿Tienen su tiempo destinado exclusivamente al boletín informativo, o tienen otras responsabilidad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Planes de producción </a:t>
            </a:r>
            <a:r>
              <a:rPr b="0" lang="es-ES" sz="1000" spc="-1" strike="noStrike">
                <a:solidFill>
                  <a:srgbClr val="000000"/>
                </a:solidFill>
                <a:latin typeface="Century Gothic"/>
                <a:ea typeface="Times New Roman"/>
              </a:rPr>
              <a:t>– ¿Cuántas páginas tendrá el boletín informativo? ¿Estás planificando un boletín a todo color o en blanco y negro? ¿Tienes suficientes ayudantes para suplir todos los puntos de producción? SI no es así, ¿Cómo cubrirás las áreas que son deficientes? ¿Cómo y a quienes será distribuido el boletín informativo? ¿Posees el equipo, software, libros o suministros para comenzar la producció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ostos de producción (impresión)</a:t>
            </a:r>
            <a:r>
              <a:rPr b="0" lang="es-ES" sz="1000" spc="-1" strike="noStrike">
                <a:solidFill>
                  <a:srgbClr val="000000"/>
                </a:solidFill>
                <a:latin typeface="Century Gothic"/>
                <a:ea typeface="Times New Roman"/>
              </a:rPr>
              <a:t>—¿EL boletín será a color o en blanco y negro? ¿Será dactilografiado en computadora o máquina de escribir? ¿Estará completamente listo (de tal manera que solo haga falta duplicarlo) o se necesitará de un departamento extra, ya sea interno o de una imprenta externa, para fijar los títulos, agregar fotos, etc.? Éstas decisiones pueden hacer diferencias de miles de pesos anualment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Distribución</a:t>
            </a:r>
            <a:r>
              <a:rPr b="0" lang="es-ES" sz="1000" spc="-1" strike="noStrike">
                <a:solidFill>
                  <a:srgbClr val="000000"/>
                </a:solidFill>
                <a:latin typeface="Century Gothic"/>
                <a:ea typeface="Times New Roman"/>
              </a:rPr>
              <a:t>—¿Cómo será enviado por correo el boletín informativo—en primera clase, sin fines de lucro, encomienda, o DHL? Debes tener un conocimiento general de los diversos servicios de correo disponibles y del tiempo que tarda en llegar cada servicio antes de decidir cuál es el mejor servicio para ti. Además, deberás determinar la cantidad de copias que se enviarán por correo. Los costos finales del boletín serán hechos sobre la base de todas estas cosa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7920" y="695160"/>
            <a:ext cx="4641840" cy="3481560"/>
          </a:xfrm>
          <a:prstGeom prst="rect">
            <a:avLst/>
          </a:prstGeom>
          <a:ln w="0">
            <a:noFill/>
          </a:ln>
        </p:spPr>
      </p:sp>
      <p:sp>
        <p:nvSpPr>
          <p:cNvPr id="16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LAS NOTICIAS—EL CORAZÓN DE TU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 pueden utilizar dos tipos de artículos en tu boletín informativo—noticias informativas y relatos de vida. Las </a:t>
            </a:r>
            <a:r>
              <a:rPr b="0" lang="es-ES" sz="1200" spc="-1" strike="noStrike" u="sng">
                <a:solidFill>
                  <a:srgbClr val="000000"/>
                </a:solidFill>
                <a:uFillTx/>
                <a:latin typeface="Century Gothic"/>
                <a:ea typeface="Times New Roman"/>
              </a:rPr>
              <a:t>noticias informativas</a:t>
            </a:r>
            <a:r>
              <a:rPr b="0" lang="es-ES" sz="1200" spc="-1" strike="noStrike">
                <a:solidFill>
                  <a:srgbClr val="000000"/>
                </a:solidFill>
                <a:latin typeface="Century Gothic"/>
                <a:ea typeface="Times New Roman"/>
              </a:rPr>
              <a:t> deberían tener un párrafo explicativo que brinda la información más importante, o que responda preguntas de quién, qué, donde, cuando, porqué y cómo de la historia. Los párrafos que siguen van disminuyendo en orden de importancia. El </a:t>
            </a:r>
            <a:r>
              <a:rPr b="0" lang="es-ES" sz="1200" spc="-1" strike="noStrike" u="sng">
                <a:solidFill>
                  <a:srgbClr val="000000"/>
                </a:solidFill>
                <a:uFillTx/>
                <a:latin typeface="Century Gothic"/>
                <a:ea typeface="Times New Roman"/>
              </a:rPr>
              <a:t>relato de vida</a:t>
            </a:r>
            <a:r>
              <a:rPr b="0" lang="es-ES" sz="1200" spc="-1" strike="noStrike">
                <a:solidFill>
                  <a:srgbClr val="000000"/>
                </a:solidFill>
                <a:latin typeface="Century Gothic"/>
                <a:ea typeface="Times New Roman"/>
              </a:rPr>
              <a:t> en realidad es una noticia informativa, pero con más profundidad y de mayor contenid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todos los artícu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Utiliza noticias recientes no pasadas de mo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Verifica la exactitud de todos los hechos y estadísticas utilizadas, al igual que su procedenc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Provee variedad para animar, educar, estimular e impulsar al lector a entrar en ac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Times New Roman"/>
              </a:rPr>
              <a:t>Que tus artículos hablen acerca de quién, qué, cuando, donde, cóm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y porqu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Varía la longitud de tus historias informativ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Utiliza diferentes estilos de redacción en cada núme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Provee títulos interesantes que capten la atención del lec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Escribe historias que progresen bien y que sean sucintas y al pu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No seas redunda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No simplifiques por demás la inform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Times New Roman"/>
              </a:rPr>
              <a:t>Evita ser condescendiente para con cualquier grupo racial, étnico 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religios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7920" y="695160"/>
            <a:ext cx="4641840" cy="3481560"/>
          </a:xfrm>
          <a:prstGeom prst="rect">
            <a:avLst/>
          </a:prstGeom>
          <a:ln w="0">
            <a:noFill/>
          </a:ln>
        </p:spPr>
      </p:sp>
      <p:sp>
        <p:nvSpPr>
          <p:cNvPr id="16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RONOGRAMA DE PRODUC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Organización es la palabra clave a la hora de planificar un boletín informativo. Esto ayuda a asegurar el éxito de cada número. El hecho de organizar cada número por adelantado le da tiempo al editor para considerar la gente correcta para cada tarea y para dialogar con ellos acerca de lo que se espera de ellos. De esta manera, el editor puede asignar tareas de una manera puntual y a tiempo. Aquí presentamos algunos pasos a segu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lanifica cada número</a:t>
            </a:r>
            <a:r>
              <a:rPr b="0" lang="es-ES" sz="800" spc="-1" strike="noStrike">
                <a:solidFill>
                  <a:srgbClr val="000000"/>
                </a:solidFill>
                <a:latin typeface="Century Gothic"/>
                <a:ea typeface="Times New Roman"/>
              </a:rPr>
              <a:t>—Diagrama todo los que saldrá en cada número con por lo menos dos meses de anticipación. Si lo deseas puedes bosquejar cada historia y comenzar a buscar las fotos y elementos gráficos que resaltarían el artículo. También se puede hacer un esquema sugerente de cada págin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Reparte las tareas y síguelas de cerca</a:t>
            </a:r>
            <a:r>
              <a:rPr b="0" lang="es-ES" sz="800" spc="-1" strike="noStrike">
                <a:solidFill>
                  <a:srgbClr val="000000"/>
                </a:solidFill>
                <a:latin typeface="Century Gothic"/>
                <a:ea typeface="Times New Roman"/>
              </a:rPr>
              <a:t>—El editor debería decirle a cada miembro del equipo qué artículos son su responsabilidad, su extensión aproximada (cuántas palabras), el enfoque principal de cada historia junto con información adicional que puedan llegar a necesitar, y el vencimiento de la copia final. Sería bueno dar un recordatorio o llamada a los redactores alrededor de dos semanas antes del vencimiento del artículo, especialmente a los miembros del equipo que tienen un problema crónico de tardanza en tareas anteriores, para ver cómo está progresando el artícul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Vencimientos</a:t>
            </a:r>
            <a:r>
              <a:rPr b="0" lang="es-ES" sz="800" spc="-1" strike="noStrike">
                <a:solidFill>
                  <a:srgbClr val="000000"/>
                </a:solidFill>
                <a:latin typeface="Century Gothic"/>
                <a:ea typeface="Times New Roman"/>
              </a:rPr>
              <a:t>—Los vencimientos fijados por el editor hasta cierto punto dependen de si los miembros del equipo también están ocupados con otras responsabilidades. Los cronogramas deberán ser programados correctamente, ya que puede llegar a necesitarse un tiempo más largo si es que hay un sobre cargo de actividades. Si el editor y su equipo están trabajando únicamente con el boletín informativo, se puede requerir menos tiempo. Los vencimientos también dependen de la forma en que será publicado el boletín (impresión en casa, de la casa a un departamento de impresión, a una publicadora externa, etc.) y el sistema de distribución que será utilizado para enviar por corre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Un cronograma típico podría parecerse a es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lanificar el número / asignación de tareas: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Llamada de seguimient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14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Vencimiento (de la recepción de cada tarea):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28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Dactilografiad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 - Marzo 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dición electrónica, si se utiliza):</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8 </a:t>
            </a:r>
            <a:r>
              <a:rPr b="1" lang="es-ES_tradnl" sz="800" spc="-1" strike="noStrike">
                <a:solidFill>
                  <a:srgbClr val="000000"/>
                </a:solidFill>
                <a:latin typeface="Century Gothic"/>
                <a:ea typeface="Times New Roman"/>
              </a:rPr>
              <a:t>y</a:t>
            </a:r>
            <a:r>
              <a:rPr b="1" lang="es-ES" sz="800" spc="-1" strike="noStrike">
                <a:solidFill>
                  <a:srgbClr val="000000"/>
                </a:solidFill>
                <a:latin typeface="Century Gothic"/>
                <a:ea typeface="Times New Roman"/>
              </a:rPr>
              <a:t> 9</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orrección de pruebas:</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0 – 1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dición y corrección final, si es necesaria:</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Impresión:</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reparación de enví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2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nvío por corre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2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EPARACIÓN DEL BOLETÍN INFORMATIV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preparar el boletín informativo, mantén en mente su propósito y la audiencia a la que va dirigido. Luego recopila la información pertinente y comienza a escribir. Algunas secciones sugerentes para tu boletín podrían ser: Editorial, Calendario de eventos, Qué está sucediendo, Noticias informativas, Reseñas críticas de libros, El especial del mes, etc. Una vez que haz determinado las secciones, asígnale una extensión diferente a cada una para que no se vean todos iguales los artícul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Hay numerosos componentes que merecen nuestra aten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Letreros y rótulos o cabeceras</a:t>
            </a:r>
            <a:r>
              <a:rPr b="0" lang="es-ES" sz="1000" spc="-1" strike="noStrike">
                <a:solidFill>
                  <a:srgbClr val="000000"/>
                </a:solidFill>
                <a:latin typeface="Century Gothic"/>
                <a:ea typeface="Times New Roman"/>
              </a:rPr>
              <a:t>—El letrero brinda el nombre de tu boletín informativo, publicadora, fecha y número, nombre del publicador y posiblemente una declaración de propósito (también llamado línea de rotulado). Esto te identifica y generalmente aparece en la parte superior de la primera págin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l rótulo o cabecera posee la información editorial (editor y miembros del equipo). Es bueno dejarles saber a los lectores quienes son los responsables de la producción del boletín informativo. Esto puede aparecer en la parte interna de la tapa o en la contra tapa. Podría ser cuestión de una sola línea, pero si el espacio lo permite, un cuadro que contenga la información sería preferib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Títulos y subtítulos</a:t>
            </a:r>
            <a:r>
              <a:rPr b="0" lang="es-ES" sz="1000" spc="-1" strike="noStrike">
                <a:solidFill>
                  <a:srgbClr val="000000"/>
                </a:solidFill>
                <a:latin typeface="Century Gothic"/>
                <a:ea typeface="Times New Roman"/>
              </a:rPr>
              <a:t>—Los títulos atraen al lector a determinado artículo. Que sean cortos y al punto. La elección de la fuente para los títulos y subtítulos es bastante importante. El tamaño de fuente de un título debería estar entre 16 y 22 puntos. No debería ocupar toda la página, pero sí captar la atención del lector. Debería sobresalir del resto del texto. Un subtítulo es un poco más pequeño que el título y provee un poco más de información, para mejorar el título o proveer información adicional que podrá encontrar en el relato. Deberías variar la extensión de los títulos y subtítulos en cada boletín informativo—una línea corta, varios títulos de línea doble, un título junto con un subtítul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olumnas</a:t>
            </a:r>
            <a:r>
              <a:rPr b="0" lang="es-ES" sz="1000" spc="-1" strike="noStrike">
                <a:solidFill>
                  <a:srgbClr val="000000"/>
                </a:solidFill>
                <a:latin typeface="Century Gothic"/>
                <a:ea typeface="Times New Roman"/>
              </a:rPr>
              <a:t>—¿Será mejor una, dos, tres o cuatro columnas para que tu boletín sea más apelativo para tus lectores? Dedica tiempo para observar diferentes boletines para seleccionar lo que te gusta, para luego comentar la presentación con tu editor electrónico. Debes ser algo consistente cada vez que publiques el boletín, permitiendo un poco de creatividad en el diseño para que la vista general no se vuelva un poco aburr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Fuente del cuerpo de texto</a:t>
            </a:r>
            <a:r>
              <a:rPr b="0" lang="es-ES" sz="1000" spc="-1" strike="noStrike">
                <a:solidFill>
                  <a:srgbClr val="000000"/>
                </a:solidFill>
                <a:latin typeface="Century Gothic"/>
                <a:ea typeface="Times New Roman"/>
              </a:rPr>
              <a:t>—Muchos editores pueden concentrarse en obtener las noticias y dejar a un lado la fuente o el tipo y tamaño de letra que utilizan, del título o del cuerpo de texto, elección de gráficos, fotos o imágenes prediseñadas. La forma en que será recibido tu boletín dependerá en parte de estas eleccione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25680" y="695160"/>
            <a:ext cx="3714480" cy="2786400"/>
          </a:xfrm>
          <a:prstGeom prst="rect">
            <a:avLst/>
          </a:prstGeom>
          <a:ln w="0">
            <a:noFill/>
          </a:ln>
        </p:spPr>
      </p:sp>
      <p:sp>
        <p:nvSpPr>
          <p:cNvPr id="166" name="PlaceHolder 2"/>
          <p:cNvSpPr>
            <a:spLocks noGrp="1"/>
          </p:cNvSpPr>
          <p:nvPr>
            <p:ph type="body"/>
          </p:nvPr>
        </p:nvSpPr>
        <p:spPr>
          <a:xfrm>
            <a:off x="700200" y="3558960"/>
            <a:ext cx="5595840" cy="502740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IMPRES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el boletín se imprime en casa, tendrás una idea de cuánto tardarías en imprimirlo. Cuando lo llevas a imprimir a una imprenta deberás preguntar aproximadamente cuánto tardará en estar listo, y si pasa demasiado tiempo puedes regresar para cerciorarte de que todo está marchando bien. Quizá quieras hacer imprimir una copia de muestra antes de encargar todo el material, para que estés segura que el boletín se parece a lo que imprimiste en tu casa. A veces, al cambiar de programas de computadora, pueden haber conflictos que cambian las fuentes, el espaciado y el diseño general del boletín informativ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l tratar con agencias de afuera, deberás considerar más tiempo para el envío, la impresión y el regreso del material nuevamente a tus manos. En algunos casos una semana puede ser el tiempo adecuado, pero esto depende de la cantidad de trabajos antes del tuyo, el equipo, personal y el carácter cumplidor a la hora de imprimir boletines informativos. Pide un tiempo estimado para el envío del trabajo cuando lo encargues. Deberás estar preparada para esperar dos o más semanas si la imprenta tiene muchos trabajos antes que el tuy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método utilizado para imprimir, como fue dicho anteriormente, dependerá de la disponibilidad d fondos. Generalmente una semana o más deberá ser planificada para la impresión profesional fuera de casa, una semana para impresión en casa, y uno o dos días para duplicaciones en una copiador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EPARACIÓN PARA EL ENVÍ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boletín será doblado? ¿Se utilizarán etiquetas o las direcciones serán escritas a mano? ¿Qué tipo de envío por correo será utilizado? Estas cosas determinan el tiempo que necesitarás para tener lista la lista de correo. Naturalmente, cuanto más nueva sea tu tecnología,  se requerirá menos tiempo de preparación, y más pronto podrá tu boletín estar en manos de los lector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DISTRIBUCIÓN DE LA CORRESPONDENC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boletín puede ser enviado de diversas maneras: entre casa, por correo de primera clase, correo sin fines de lucro, encomienda o DHL. La diseminación del boletín informativo depende en última instancia del servicio que elegiste para enviar por correo y el sistema postal. Quizá quieras revisar esto antes de decid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mejor estipular tiempo más que amplio para la producción general, de manera que el tiempo asignado al envío por correo sea el adecu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OMOCIÓN Y DISTRIBUCIÓ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hecho que tu boletín realmente llegue al público debería estar entre tus primeras prioridades. Asegúrate de tener tu libreta de direcciones al día. Tu organización pierde tiempo cada vez que un boletín se descarta por falta de una dirección correcta, o cuando vuelve al origen para ser reenviado por causa de una dirección incorrec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demás de tu lista de correo regular, deberás solicitar más nombres. Si tu boletín informativo se encarga únicamente por suscripción, pon a disposición de algunas personas importantes o involucradas con tu organización alguna copia gratis, para que puedan mantenerse informados de las noticias pertinen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OPAGAND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tu boletín tiene espacio de sobra, o si estás interesada en ayudar a que tu boletín se auto sustente, puedas considerar tener algunas propagandas simples en él. Recuerda que deberás tener una publicación de buena calidad con un público al que le interesará el tipo de propagandas que puedas llegar a colocar. Ten en mente la forma en que quedará el diseño de tu hoja. Podrías considerar el hecho de asistir a la persona con un diseño (a un costo determinado), o pídeles que te proporcionen un aviso publicitario ya preparado para ser escaneado o duplic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UTILIZAR MATERIALES PROTEGIDOS CON DERECHOS DE AU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preferible utilizar materiales originales antes que copiar materiales que otras personas han escrito. A veces, sin embargo, se utilizan artículos o fotos que fueron publicados anteriormente. No se debe utilizar ningún material sin pedir permiso al autor bajo ninguna circunstancia. Esto no es ético y podría meterte en líos con el sistema legal si has violado los derechos de autor. Deberás conocer la fuente de los materiales que utilizas, obteniendo primeramente el permiso para utilizarlo, o de lo contrario no lo podrás utiliza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APRENDER MÁS ACERCA DE LA PRODUCCIÓN DE UN BOLETÍ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ay muchos aspectos de la producción de un boletín informativo. Hay muchos libros que pueden ayudarte a aprender. Esta información puede ayudarte a comenzar. Para recibir ayuda adicional al construir tus conocimientos y habilidades, puedes tomar una clase o seminario disponible en tu área. Éstas clases pueden aumentar tu eficiencia y pueden inspirarte a ser más creativa en la producción de tu boletín informativ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NCLUS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 modo de cierre recuerda estas cosas al preparar tu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1. Escribe para el público al que va dirigido el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2. Mantén el propósito de tu boletín en la perspectiva correc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 Produce tus noticias de la mejor manera con el dinero que tie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4. Elige el equipo de tu boletín en base a su habilidad, conocimiento y dedicación para con los objetivos de la organiz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5. Debes asignar tareas y vencimientos para cada núm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6. Utiliza un diseño atractivo y utiliza fuentes que sean fáciles de le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7. Los gráficos y fotos deberían ayudar a contar la histor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8. Los cuadros de texto pueden destacar parte e un artículo o proveer información adic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9. Corrige, corrige y vuelve a correg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10.  No utilices información ajena sin pedir permiso.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77920" y="695160"/>
            <a:ext cx="4641840" cy="3481560"/>
          </a:xfrm>
          <a:prstGeom prst="rect">
            <a:avLst/>
          </a:prstGeom>
          <a:ln w="0">
            <a:noFill/>
          </a:ln>
        </p:spPr>
      </p:sp>
      <p:sp>
        <p:nvSpPr>
          <p:cNvPr id="14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realizar un boletín informativo </a:t>
            </a:r>
            <a:r>
              <a:rPr b="1" lang="es-ES" sz="1200" spc="-1" strike="noStrike">
                <a:solidFill>
                  <a:srgbClr val="000000"/>
                </a:solidFill>
                <a:latin typeface="Century Gothic"/>
                <a:ea typeface="Arial"/>
              </a:rPr>
              <a:t>(RP-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hecho de realizar un boletín informativo realmente es un objetivo digno de admiración, pero ¿no podrías simplemente levantar el tubo del teléfono o enviar un correo electrónico? Algunas de las preguntas que vienen a la mente son: ¿Cómo te beneficiará a ti y a tu organización el hecho de tener la información por escrito? ¿Tienes (o posee alguien en tu equipo) el conocimiento necesario para diseñar un boletín informativo de aspecto profesional? ¿Tienes a disposición personal adicional que pueda manejar la producción de un boletín informativo, o de lo contrario, hay alguna persona u organización profesional que pueda encargarse de esto? ¿Están incluidos los gastos de un boletín informativo en tu presupuesto? ¿Conoces la audiencia a la que irá dirigido el boletín informativo? Éstas son preguntas muy importantes que responderemos a lo largo de este seminari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77920" y="695160"/>
            <a:ext cx="4641840" cy="3481560"/>
          </a:xfrm>
          <a:prstGeom prst="rect">
            <a:avLst/>
          </a:prstGeom>
          <a:ln w="0">
            <a:noFill/>
          </a:ln>
        </p:spPr>
      </p:sp>
      <p:sp>
        <p:nvSpPr>
          <p:cNvPr id="14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SAS IMPORTANTES A TENER EN CUENT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l contemplar la posibilidad de producir un boletín informativo, deberías considerar el propósito del boletín, la audiencia a la que va dirigido, cuán a menudo lo planeas publicar, el tipo de información que será compartida, la cantidad de personas en la lista de envío, y más también. Comenten estas cosas con tu equipo. Es vital que tengas un equipo de producción capaz, que pueda planificar adecuadamente y crear una base sólida. Esto es importante para el éxito general del boletín informativo. Algunas cosas para comentar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opósito del boletín informativo—</a:t>
            </a:r>
            <a:r>
              <a:rPr b="0" lang="es-AR" sz="1200" spc="-1" strike="noStrike">
                <a:solidFill>
                  <a:srgbClr val="000000"/>
                </a:solidFill>
                <a:latin typeface="Times New Roman"/>
              </a:rPr>
              <a:t>¿Tienes un cuadro claro de porqué quieres publicar el boletín, y qué dirás que será digno de atención, diferente o que impresione bien? ¿Estás publicando el boletín informativo para educar, entrenar, motivar, promover, compartir información, informar hechos concretos, brindar reconocimiento o pedir ayuda y asesorami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l público—</a:t>
            </a:r>
            <a:r>
              <a:rPr b="0" lang="es-AR" sz="1200" spc="-1" strike="noStrike">
                <a:solidFill>
                  <a:srgbClr val="000000"/>
                </a:solidFill>
                <a:latin typeface="Times New Roman"/>
              </a:rPr>
              <a:t>El hecho de identificar el público, brinda la seguridad de que tu boletín informativo se adecuará al público deseado. Aquí hay algunas preguntas que deberías reali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Serán amas de casa, solteros, adultos mayores o parejas casa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Están en edad universitaria, edad mediana o avanz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Son similares los intereses de ellos y los de tu organ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Tu boletín es secular y está basado en temas eclesiás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Han estado pidiendo un boletín informa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dica tiempo para entender las necesidades del público; realiza una encuesta de intereses si es necesario, y utiliza esa información para decidir lo que realmente quiere leer el público, de tu boletín informativo. Una vez que identificaste el público de tu boletín y enfocaste la información a sus necesidades, aumentará el interés por tu boletín informa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ipos de noticias—</a:t>
            </a:r>
            <a:r>
              <a:rPr b="0" lang="es-AR" sz="1200" spc="-1" strike="noStrike">
                <a:solidFill>
                  <a:srgbClr val="000000"/>
                </a:solidFill>
                <a:latin typeface="Times New Roman"/>
              </a:rPr>
              <a:t>Información, hechos concretos, recursos educacionales y material de capacitación; deben formar parte de todo boletín informativo. Las fotografías pueden ser un recurso para informar, o proveer información adicional, de un punto informativo. El hecho de proveer el tipo de noticias que tu audiencia requiere determinará el interés con que se leerá tu boletín informativo, si se lee simplemente porque les llega por correo o si lo dejan a un lado sin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antidad de lectores—</a:t>
            </a:r>
            <a:r>
              <a:rPr b="0" lang="es-AR" sz="1200" spc="-1" strike="noStrike">
                <a:solidFill>
                  <a:srgbClr val="000000"/>
                </a:solidFill>
                <a:latin typeface="Times New Roman"/>
              </a:rPr>
              <a:t>Debes conocer aproximadamente el número de lectores que tendrás. ¿Son 50, 250 o 2500? Esto puede, hasta cierto punto, afectar la forma en que brindas la información—el número de páginas; tipo de información que compartes; tamaño y cantidad de fotografías y elementos de arte que utilizas; si el boletín será en colores o en blanco y negro; si utilizarás una impresora de hogar o lo enviarás a imprimir a una imprenta; y la cantidad de miembros de tu equipo de p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Frecuencia de publicación—</a:t>
            </a:r>
            <a:r>
              <a:rPr b="0" lang="es-AR" sz="1200" spc="-1" strike="noStrike">
                <a:solidFill>
                  <a:srgbClr val="000000"/>
                </a:solidFill>
                <a:latin typeface="Times New Roman"/>
              </a:rPr>
              <a:t>¿Se imprimirá semanal, mensual o anualmente tu boletín? ¿Puedes tu o tu equipo realizar un cronograma de producción, para poder hacer llegar el boletín informativo a tus lectores mientras las noticias todavía estén actualizadas, y ajustarse a ese cronograma? ¿Hay suficiente información para poder llenar cómodamente el espacio, dentro del cronograma de tiempo seleccionado? ¿Hay fondos suficientes para lanzar y mantener la producción? Estas cosas determinan el número de veces al año, que debe ser producido tu boletín informativo.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77920" y="695160"/>
            <a:ext cx="4641840" cy="3481560"/>
          </a:xfrm>
          <a:prstGeom prst="rect">
            <a:avLst/>
          </a:prstGeom>
          <a:ln w="0">
            <a:noFill/>
          </a:ln>
        </p:spPr>
      </p:sp>
      <p:sp>
        <p:nvSpPr>
          <p:cNvPr id="14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EMBROS DEL EQUIP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 necesita un equipo de obreros dedicados para producir un boletín de calidad. Debes tener en cuenta cualidades, experiencia, talentos, intereses y el rol que cada trabajador tendrá. Algunos de los puestos claves s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Editor</a:t>
            </a:r>
            <a:r>
              <a:rPr b="0" lang="es-ES" sz="1200" spc="-1" strike="noStrike">
                <a:solidFill>
                  <a:srgbClr val="000000"/>
                </a:solidFill>
                <a:latin typeface="Century Gothic"/>
                <a:ea typeface="Times New Roman"/>
              </a:rPr>
              <a:t>—Esta persona es la responsable de planificar cada número del boletín, asignando el editorial, los artículos y determinando las necesidades fotográficas; fijar los vencimientos del cronograma de producción; liderar el equipo; editar; corrección de pruebas; obtener derechos de autor si es necesario y verificar la exactitud de la información. Esta persona debe poseer habilidades para manejar estas tareas y tener objetivos y valores consistentes con la organización (o al menos ser flexible y abierto). Deberían orar mucho al considerar la experiencia general de la persona que tengan en vista y si el boletín será mejorado si él / ella es eleg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77920" y="695160"/>
            <a:ext cx="4641840" cy="3481560"/>
          </a:xfrm>
          <a:prstGeom prst="rect">
            <a:avLst/>
          </a:prstGeom>
          <a:ln w="0">
            <a:noFill/>
          </a:ln>
        </p:spPr>
      </p:sp>
      <p:sp>
        <p:nvSpPr>
          <p:cNvPr id="14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edactor(es)</a:t>
            </a:r>
            <a:r>
              <a:rPr b="0" lang="es-ES" sz="1200" spc="-1" strike="noStrike">
                <a:solidFill>
                  <a:srgbClr val="000000"/>
                </a:solidFill>
                <a:latin typeface="Century Gothic"/>
                <a:ea typeface="Times New Roman"/>
              </a:rPr>
              <a:t>—Las habilidades de escritura son esenciales ya sea que tengas uno o varios escritores. Los escritores necesitan la habilidad de construir bien las oraciones y párrafos y que las palabras prácticamente salten desde las páginas para los lectores. Toma el tiempo necesario para leer varias muestras escritas de los escritores que estás considerando. Pide referencias a diversas organizaciones en relación con sus habilidades de escritura. Incluso podrías desarrollar varias tareas de muestra para evaluar sus habilidades de escritura. Artículos bien redactados—ése es tu objetivo final.</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7920" y="695160"/>
            <a:ext cx="4641840" cy="3481560"/>
          </a:xfrm>
          <a:prstGeom prst="rect">
            <a:avLst/>
          </a:prstGeom>
          <a:ln w="0">
            <a:noFill/>
          </a:ln>
        </p:spPr>
      </p:sp>
      <p:sp>
        <p:nvSpPr>
          <p:cNvPr id="14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Fotógrafo(s)</a:t>
            </a:r>
            <a:r>
              <a:rPr b="0" lang="es-ES" sz="1200" spc="-1" strike="noStrike">
                <a:solidFill>
                  <a:srgbClr val="000000"/>
                </a:solidFill>
                <a:latin typeface="Century Gothic"/>
                <a:ea typeface="Times New Roman"/>
              </a:rPr>
              <a:t>—Los fotógrafos deberían ser cautivantes, que tomen vistas de primer plano, que enfoquen bien, y deberían poder contar una historia aunque no haya palabras que acompañen. ¿Estás pensando en contratar a un fotógrafo profesional? Bueno, coméntale tus necesidades fotográficas particulares. Pídele un álbum de muestra para determinar si la persona posee las habilidades que requieres. Un fotógrafo habilidoso debería poder adaptarse a tus necesidades. Si no tienes el presupuesto para un fotógrafo profesional, quizá uno de los miembros de tu equipo posee habilidades fotográficas o un interés por aprender y estaría dispuesto a tomar clases. Además, recuerda que existen surtidos de fotografías que pueden ser adquiridos y que podrían ser útiles para artículos informativos. Podrían haber algunos gratuitos disponibles en varios sitios web, pero los de mejor calidad generalmente cuestan din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77920" y="695160"/>
            <a:ext cx="4641840" cy="3481560"/>
          </a:xfrm>
          <a:prstGeom prst="rect">
            <a:avLst/>
          </a:prstGeom>
          <a:ln w="0">
            <a:noFill/>
          </a:ln>
        </p:spPr>
      </p:sp>
      <p:sp>
        <p:nvSpPr>
          <p:cNvPr id="15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Dactilógrafo</a:t>
            </a:r>
            <a:r>
              <a:rPr b="0" lang="es-ES" sz="1200" spc="-1" strike="noStrike">
                <a:solidFill>
                  <a:srgbClr val="000000"/>
                </a:solidFill>
                <a:latin typeface="Century Gothic"/>
                <a:ea typeface="Times New Roman"/>
              </a:rPr>
              <a:t>—Quien dactilografiará tu boletín informativo—¿un asistente de oficina, empleado contratado, un voluntario, o vos misma? ¿Cuál es su velocidad y nivel de exactitud? Es esencial tener un dactilógrafo calificado que pueda dactilografiar las noticias a un formato fácil de editar. Incluso, alguien que pueda ser corrector de pruebas—identificar y corregir errores gramaticales, es invalorable.</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77920" y="695160"/>
            <a:ext cx="4641840" cy="3481560"/>
          </a:xfrm>
          <a:prstGeom prst="rect">
            <a:avLst/>
          </a:prstGeom>
          <a:ln w="0">
            <a:noFill/>
          </a:ln>
        </p:spPr>
      </p:sp>
      <p:sp>
        <p:nvSpPr>
          <p:cNvPr id="15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Diseñador gráfico</a:t>
            </a:r>
            <a:r>
              <a:rPr b="0" lang="es-ES" sz="1200" spc="-1" strike="noStrike">
                <a:solidFill>
                  <a:srgbClr val="000000"/>
                </a:solidFill>
                <a:latin typeface="Century Gothic"/>
                <a:ea typeface="Times New Roman"/>
              </a:rPr>
              <a:t>—Ésta persona deberá ser un experto en visualizar la hoja impresa, crear gráficos (o encontrar gráficos excelentes) y diseñar el boletín informativo. El hecho de diseñar las noticias, fotografías y gráficos de una manera interesante invitará al público a leer el boletín informativo. Títulos cautivantes, fuentes legibles y elementos de arte o fotos con gracia son algunas de las cosas que pueden ayudar a producir un boletín informativo exitoso, y ésta persona debe estar conciente de la manera en que todas estas cosas pueden ser utilizadas para producir un buen boletín informativ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7920" y="695160"/>
            <a:ext cx="4641840" cy="3481560"/>
          </a:xfrm>
          <a:prstGeom prst="rect">
            <a:avLst/>
          </a:prstGeom>
          <a:ln w="0">
            <a:noFill/>
          </a:ln>
        </p:spPr>
      </p:sp>
      <p:sp>
        <p:nvSpPr>
          <p:cNvPr id="15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Editor electrónico</a:t>
            </a:r>
            <a:r>
              <a:rPr b="0" lang="es-ES" sz="1200" spc="-1" strike="noStrike">
                <a:solidFill>
                  <a:srgbClr val="000000"/>
                </a:solidFill>
                <a:latin typeface="Century Gothic"/>
                <a:ea typeface="Times New Roman"/>
              </a:rPr>
              <a:t>—El editor electrónico utiliza programas de computadora para ordenar el boletín informativo. Ésta persona debe tener conocimientos sobre espaciado, fuentes de títulos y textos, diseño, cuadros informativos y gráficos. (Éstas cosas serán explicadas brevemente más adelante). Alguien con buen manejo de diseños y esquemas sería el indicado. Sería invalorable permitirle a esta persona asistir a cursos sobre edición electrónica. El editor electrónico y el diseñador gráfico muchas veces pueden ser una sola person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A6895-1994-42C7-838D-8891FA6E3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8565F-5369-467B-97B8-7ACB5793C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6FB0B-438F-4F79-AF22-0F90B4562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B3F5C-B7B6-47D9-957B-1EE6ADBE2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D564E-48F6-449E-BDEB-75EEBEA692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66051-B29B-4B5C-AEC3-779D98CFA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D5979-CB16-4D28-A22F-1A51EF489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DC704-1DCD-48DB-92FE-37111E02B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DFC6D-7C72-40AF-A669-BC4BAE129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98D5E-4163-4EB6-B636-8790B0EA4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8B575-7B1B-405D-9B13-695A79EDA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5C454-776C-4BD2-872D-E69FE67FE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F59D6-8283-43F0-8614-8F771A6D7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15615-CAB8-4F34-8AC2-D2EA2ECE8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29F0A-D339-4BCA-86BD-AFB120569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370C3-4536-4D9F-896C-DA62D2A252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0FF50B-D96A-49E3-8ACF-FD953559D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4AE9D-BF1C-4B28-BCE4-F8446D8FC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76562-0800-4CEC-AD94-A0B37BCC3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B0A6E-C5A2-4A57-BD50-AEA05EE89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27BB6-B58F-4D52-B69B-7B8BF041F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D3762-3D18-43C7-9F68-24ED368E3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9732B-7296-471D-9966-AA7E32058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B1085-0ADB-4425-B8EB-9F0921A40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7F48-6E5C-490B-A885-FEB669601F8E}"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00D5-30FB-44F7-BC8A-B262A44BE951}"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0"/>
            <a:ext cx="6629400" cy="13716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Impact"/>
              </a:rPr>
              <a:t>Cómo escribir y producir un boletín informativo</a:t>
            </a:r>
            <a:endParaRPr b="0" lang="en-US" sz="4400" spc="-1" strike="noStrike">
              <a:solidFill>
                <a:srgbClr val="594717"/>
              </a:solidFill>
              <a:latin typeface="Impact"/>
            </a:endParaRPr>
          </a:p>
        </p:txBody>
      </p:sp>
      <p:sp>
        <p:nvSpPr>
          <p:cNvPr id="90" name="PlaceHolder 2"/>
          <p:cNvSpPr>
            <a:spLocks noGrp="1"/>
          </p:cNvSpPr>
          <p:nvPr>
            <p:ph/>
          </p:nvPr>
        </p:nvSpPr>
        <p:spPr>
          <a:xfrm>
            <a:off x="1219320" y="2514240"/>
            <a:ext cx="7315200" cy="3809880"/>
          </a:xfrm>
          <a:prstGeom prst="rect">
            <a:avLst/>
          </a:prstGeom>
          <a:noFill/>
          <a:ln w="0">
            <a:noFill/>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c2531"/>
                </a:solidFill>
                <a:latin typeface="Georgia"/>
              </a:rPr>
              <a:t>Por</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c2531"/>
                </a:solidFill>
                <a:latin typeface="Georgia"/>
              </a:rPr>
              <a:t>Iris Stovall</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Curso de liderazgo nivel 2</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Asociación General</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Ministerio de la mujer</a:t>
            </a:r>
            <a:endParaRPr b="0" lang="en-US" sz="32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7" name="PlaceHolder 2"/>
          <p:cNvSpPr>
            <a:spLocks noGrp="1"/>
          </p:cNvSpPr>
          <p:nvPr>
            <p:ph type="subTitle"/>
          </p:nvPr>
        </p:nvSpPr>
        <p:spPr>
          <a:xfrm>
            <a:off x="2057040" y="2361960"/>
            <a:ext cx="5638680" cy="4190760"/>
          </a:xfrm>
          <a:prstGeom prst="rect">
            <a:avLst/>
          </a:prstGeom>
          <a:noFill/>
          <a:ln w="0">
            <a:noFill/>
          </a:ln>
        </p:spPr>
        <p:txBody>
          <a:bodyPr lIns="90000" rIns="90000" tIns="46800" bIns="46800" anchor="t">
            <a:noAutofit/>
          </a:bodyPr>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Corrector de </a:t>
            </a:r>
            <a:r>
              <a:rPr b="0" lang="es-ES" sz="4400" spc="-1" strike="noStrike">
                <a:solidFill>
                  <a:srgbClr val="7c2531"/>
                </a:solidFill>
                <a:latin typeface="Georgia"/>
              </a:rPr>
              <a:t>pruebas</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 editor, y / o al menos un miembro del grupo debería analizar el producto final detenida y críticamente buscando errores tipográficos, de puntuación, palabras mal escritas y estructuras pobre de oración.</a:t>
            </a:r>
            <a:endParaRPr b="0" lang="en-US" sz="2800" spc="-1" strike="noStrike">
              <a:solidFill>
                <a:srgbClr val="3e310f"/>
              </a:solidFill>
              <a:latin typeface="Georgia"/>
            </a:endParaRPr>
          </a:p>
        </p:txBody>
      </p:sp>
      <p:pic>
        <p:nvPicPr>
          <p:cNvPr id="118" name="" descr=""/>
          <p:cNvPicPr/>
          <p:nvPr/>
        </p:nvPicPr>
        <p:blipFill>
          <a:blip r:embed="rId2"/>
          <a:stretch/>
        </p:blipFill>
        <p:spPr>
          <a:xfrm>
            <a:off x="1600200" y="2133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228240"/>
            <a:ext cx="66294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a5776"/>
                </a:solidFill>
                <a:latin typeface="Impact"/>
              </a:rPr>
              <a:t>Bases de un boletín: Qué tener en cuenta</a:t>
            </a:r>
            <a:endParaRPr b="0" lang="en-US" sz="4400" spc="-1" strike="noStrike">
              <a:solidFill>
                <a:srgbClr val="594717"/>
              </a:solidFill>
              <a:latin typeface="Impact"/>
            </a:endParaRPr>
          </a:p>
        </p:txBody>
      </p:sp>
      <p:sp>
        <p:nvSpPr>
          <p:cNvPr id="120" name="PlaceHolder 2"/>
          <p:cNvSpPr>
            <a:spLocks noGrp="1"/>
          </p:cNvSpPr>
          <p:nvPr>
            <p:ph/>
          </p:nvPr>
        </p:nvSpPr>
        <p:spPr>
          <a:xfrm>
            <a:off x="1828440" y="1980720"/>
            <a:ext cx="5638680" cy="4496040"/>
          </a:xfrm>
          <a:prstGeom prst="rect">
            <a:avLst/>
          </a:prstGeom>
          <a:noFill/>
          <a:ln w="0">
            <a:noFill/>
          </a:ln>
        </p:spPr>
        <p:txBody>
          <a:bodyPr lIns="90000" rIns="90000" tIns="46800" bIns="46800" anchor="t">
            <a:normAutofit/>
          </a:bodyPr>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Tus expectativas (o las de tu organizac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resupuestos y otros asuntos aburridos (pero necesarios)</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Software, papel, suministros</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ersonal</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lanes de producc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stos de producción (impres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istribución</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304560"/>
            <a:ext cx="6477120" cy="16002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3a5776"/>
                </a:solidFill>
                <a:latin typeface="Impact"/>
              </a:rPr>
              <a:t>Las noticias—El corazón de tu boletín</a:t>
            </a:r>
            <a:endParaRPr b="0" lang="en-US" sz="5700" spc="-1" strike="noStrike">
              <a:solidFill>
                <a:srgbClr val="594717"/>
              </a:solidFill>
              <a:latin typeface="Impact"/>
            </a:endParaRPr>
          </a:p>
        </p:txBody>
      </p:sp>
      <p:sp>
        <p:nvSpPr>
          <p:cNvPr id="122" name="PlaceHolder 2"/>
          <p:cNvSpPr>
            <a:spLocks noGrp="1"/>
          </p:cNvSpPr>
          <p:nvPr>
            <p:ph type="subTitle"/>
          </p:nvPr>
        </p:nvSpPr>
        <p:spPr>
          <a:xfrm>
            <a:off x="1599840" y="2666520"/>
            <a:ext cx="5791320" cy="1676520"/>
          </a:xfrm>
          <a:prstGeom prst="rect">
            <a:avLst/>
          </a:prstGeom>
          <a:noFill/>
          <a:ln w="0">
            <a:noFill/>
          </a:ln>
        </p:spPr>
        <p:txBody>
          <a:bodyPr lIns="90000" rIns="90000" tIns="46800" bIns="46800" anchor="t">
            <a:noAutofit/>
          </a:bodyPr>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c2531"/>
                </a:solidFill>
                <a:latin typeface="Georgia"/>
              </a:rPr>
              <a:t>Noticias informativas</a:t>
            </a:r>
            <a:endParaRPr b="0" lang="en-US" sz="4000" spc="-1" strike="noStrike">
              <a:solidFill>
                <a:srgbClr val="3e310f"/>
              </a:solidFill>
              <a:latin typeface="Georgia"/>
            </a:endParaRPr>
          </a:p>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c2531"/>
                </a:solidFill>
                <a:latin typeface="Georgia"/>
              </a:rPr>
              <a:t>Relatos de vida</a:t>
            </a:r>
            <a:endParaRPr b="0" lang="en-US" sz="4000" spc="-1" strike="noStrike">
              <a:solidFill>
                <a:srgbClr val="3e310f"/>
              </a:solidFill>
              <a:latin typeface="Georgia"/>
            </a:endParaRPr>
          </a:p>
        </p:txBody>
      </p:sp>
      <p:pic>
        <p:nvPicPr>
          <p:cNvPr id="123" name="" descr=""/>
          <p:cNvPicPr/>
          <p:nvPr/>
        </p:nvPicPr>
        <p:blipFill>
          <a:blip r:embed="rId2"/>
          <a:stretch/>
        </p:blipFill>
        <p:spPr>
          <a:xfrm>
            <a:off x="5638680" y="4038480"/>
            <a:ext cx="2210040" cy="203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380880"/>
            <a:ext cx="6400800" cy="9115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ronograma de producción</a:t>
            </a:r>
            <a:endParaRPr b="0" lang="en-US" sz="4800" spc="-1" strike="noStrike">
              <a:solidFill>
                <a:srgbClr val="594717"/>
              </a:solidFill>
              <a:latin typeface="Impact"/>
            </a:endParaRPr>
          </a:p>
        </p:txBody>
      </p:sp>
      <p:sp>
        <p:nvSpPr>
          <p:cNvPr id="125" name="PlaceHolder 2"/>
          <p:cNvSpPr>
            <a:spLocks noGrp="1"/>
          </p:cNvSpPr>
          <p:nvPr>
            <p:ph/>
          </p:nvPr>
        </p:nvSpPr>
        <p:spPr>
          <a:xfrm>
            <a:off x="2057400" y="1981080"/>
            <a:ext cx="5105520" cy="2819520"/>
          </a:xfrm>
          <a:prstGeom prst="rect">
            <a:avLst/>
          </a:prstGeom>
          <a:noFill/>
          <a:ln w="0">
            <a:noFill/>
          </a:ln>
        </p:spPr>
        <p:txBody>
          <a:bodyPr lIns="90000" rIns="90000" tIns="46800" bIns="46800" anchor="t">
            <a:normAutofit/>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Planifica el número</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Reparte tareas y síguelas de cerca.</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Vencimientos</a:t>
            </a:r>
            <a:endParaRPr b="0" lang="en-US" sz="3600" spc="-1" strike="noStrike">
              <a:solidFill>
                <a:srgbClr val="3e310f"/>
              </a:solidFill>
              <a:latin typeface="Georgia"/>
            </a:endParaRPr>
          </a:p>
        </p:txBody>
      </p:sp>
      <p:pic>
        <p:nvPicPr>
          <p:cNvPr id="126" name="" descr=""/>
          <p:cNvPicPr/>
          <p:nvPr/>
        </p:nvPicPr>
        <p:blipFill>
          <a:blip r:embed="rId2"/>
          <a:stretch/>
        </p:blipFill>
        <p:spPr>
          <a:xfrm>
            <a:off x="6400800" y="4114800"/>
            <a:ext cx="2144880" cy="22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09320" y="228600"/>
            <a:ext cx="4343400" cy="13716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3a5776"/>
                </a:solidFill>
                <a:latin typeface="Impact"/>
              </a:rPr>
              <a:t>Preparación de un boletín</a:t>
            </a:r>
            <a:endParaRPr b="0" lang="en-US" sz="5700" spc="-1" strike="noStrike">
              <a:solidFill>
                <a:srgbClr val="594717"/>
              </a:solidFill>
              <a:latin typeface="Impact"/>
            </a:endParaRPr>
          </a:p>
        </p:txBody>
      </p:sp>
      <p:sp>
        <p:nvSpPr>
          <p:cNvPr id="128" name="PlaceHolder 2"/>
          <p:cNvSpPr>
            <a:spLocks noGrp="1"/>
          </p:cNvSpPr>
          <p:nvPr>
            <p:ph/>
          </p:nvPr>
        </p:nvSpPr>
        <p:spPr>
          <a:xfrm>
            <a:off x="1371240" y="1752120"/>
            <a:ext cx="3505320" cy="4496040"/>
          </a:xfrm>
          <a:prstGeom prst="rect">
            <a:avLst/>
          </a:prstGeom>
          <a:noFill/>
          <a:ln w="0">
            <a:noFill/>
          </a:ln>
        </p:spPr>
        <p:txBody>
          <a:bodyPr lIns="90000" rIns="90000" tIns="46800" bIns="46800" anchor="t">
            <a:normAutofit/>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etreros y rótulos o cabecer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lumn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uentes (tipo de letra)</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lip Art</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uadros de texto</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iagrama y diseño</a:t>
            </a:r>
            <a:endParaRPr b="0" lang="en-US" sz="2800" spc="-1" strike="noStrike">
              <a:solidFill>
                <a:srgbClr val="3e310f"/>
              </a:solidFill>
              <a:latin typeface="Georgia"/>
            </a:endParaRPr>
          </a:p>
        </p:txBody>
      </p:sp>
      <p:sp>
        <p:nvSpPr>
          <p:cNvPr id="129" name="PlaceHolder 3"/>
          <p:cNvSpPr>
            <a:spLocks noGrp="1"/>
          </p:cNvSpPr>
          <p:nvPr>
            <p:ph/>
          </p:nvPr>
        </p:nvSpPr>
        <p:spPr>
          <a:xfrm>
            <a:off x="4952520" y="1752120"/>
            <a:ext cx="3505320" cy="4496040"/>
          </a:xfrm>
          <a:prstGeom prst="rect">
            <a:avLst/>
          </a:prstGeom>
          <a:noFill/>
          <a:ln w="0">
            <a:noFill/>
          </a:ln>
        </p:spPr>
        <p:txBody>
          <a:bodyPr lIns="90000" rIns="90000" tIns="46800" bIns="46800" anchor="t">
            <a:normAutofit fontScale="97000"/>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Títulos y subtítulo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uente del cuerpo de texto</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otografías y cuadros informativo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otografí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Gráficos y esquemas</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28600"/>
            <a:ext cx="8001000" cy="58672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a5776"/>
                </a:solidFill>
                <a:latin typeface="Georgia"/>
              </a:rPr>
              <a:t>Impresión</a:t>
            </a:r>
            <a:r>
              <a:rPr b="0" lang="es-ES" sz="1600" spc="-1" strike="noStrike">
                <a:solidFill>
                  <a:srgbClr val="3a5776"/>
                </a:solidFill>
                <a:latin typeface="Georgia"/>
              </a:rPr>
              <a:t>  </a:t>
            </a:r>
            <a:br>
              <a:rPr sz="1800"/>
            </a:br>
            <a:br>
              <a:rPr sz="1800"/>
            </a:br>
            <a:r>
              <a:rPr b="0" lang="es-ES" sz="4000" spc="-1" strike="noStrike">
                <a:solidFill>
                  <a:srgbClr val="7c2531"/>
                </a:solidFill>
                <a:latin typeface="Georgia"/>
              </a:rPr>
              <a:t>Preparación para el envío</a:t>
            </a:r>
            <a:r>
              <a:rPr b="0" lang="es-ES" sz="1600" spc="-1" strike="noStrike">
                <a:solidFill>
                  <a:srgbClr val="3a5776"/>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3a5776"/>
                </a:solidFill>
                <a:latin typeface="Georgia"/>
              </a:rPr>
              <a:t>Distribución de la correspondencia</a:t>
            </a:r>
            <a:r>
              <a:rPr b="0" lang="es-ES" sz="1600" spc="-1" strike="noStrike">
                <a:solidFill>
                  <a:srgbClr val="3a5776"/>
                </a:solidFill>
                <a:latin typeface="Georgia"/>
              </a:rPr>
              <a:t> </a:t>
            </a:r>
            <a:br>
              <a:rPr sz="1800"/>
            </a:br>
            <a:br>
              <a:rPr sz="1800"/>
            </a:br>
            <a:r>
              <a:rPr b="0" lang="es-ES" sz="4000" spc="-1" strike="noStrike">
                <a:solidFill>
                  <a:srgbClr val="7c2531"/>
                </a:solidFill>
                <a:latin typeface="Georgia"/>
              </a:rPr>
              <a:t>Promoción y distribución</a:t>
            </a:r>
            <a:r>
              <a:rPr b="0" lang="es-ES" sz="1600" spc="-1" strike="noStrike">
                <a:solidFill>
                  <a:srgbClr val="3a5776"/>
                </a:solidFill>
                <a:latin typeface="Georgia"/>
              </a:rPr>
              <a:t> </a:t>
            </a:r>
            <a:br>
              <a:rPr sz="1800"/>
            </a:br>
            <a:br>
              <a:rPr sz="1800"/>
            </a:br>
            <a:r>
              <a:rPr b="0" lang="es-ES" sz="4000" spc="-1" strike="noStrike">
                <a:solidFill>
                  <a:srgbClr val="3a5776"/>
                </a:solidFill>
                <a:latin typeface="Georgia"/>
              </a:rPr>
              <a:t>Propaganda</a:t>
            </a:r>
            <a:r>
              <a:rPr b="0" lang="es-ES" sz="1600" spc="-1" strike="noStrike">
                <a:solidFill>
                  <a:srgbClr val="3a5776"/>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7c2531"/>
                </a:solidFill>
                <a:latin typeface="Georgia"/>
              </a:rPr>
              <a:t>Cómo utilizar materiales protegidos con derechos de autor</a:t>
            </a:r>
            <a:r>
              <a:rPr b="0" lang="es-ES" sz="1600" spc="-1" strike="noStrike">
                <a:solidFill>
                  <a:srgbClr val="7c2531"/>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3a5776"/>
                </a:solidFill>
                <a:latin typeface="Georgia"/>
              </a:rPr>
              <a:t>Cómo aprender más sobre la producción de un boletín</a:t>
            </a:r>
            <a:endParaRPr b="0" lang="en-US" sz="4000" spc="-1" strike="noStrike">
              <a:solidFill>
                <a:srgbClr val="594717"/>
              </a:solidFill>
              <a:latin typeface="Impact"/>
            </a:endParaRPr>
          </a:p>
        </p:txBody>
      </p:sp>
      <p:pic>
        <p:nvPicPr>
          <p:cNvPr id="131" name="" descr=""/>
          <p:cNvPicPr/>
          <p:nvPr/>
        </p:nvPicPr>
        <p:blipFill>
          <a:blip r:embed="rId2"/>
          <a:stretch/>
        </p:blipFill>
        <p:spPr>
          <a:xfrm>
            <a:off x="1066680" y="609480"/>
            <a:ext cx="1067040" cy="909720"/>
          </a:xfrm>
          <a:prstGeom prst="rect">
            <a:avLst/>
          </a:prstGeom>
          <a:ln w="0">
            <a:noFill/>
          </a:ln>
        </p:spPr>
      </p:pic>
      <p:pic>
        <p:nvPicPr>
          <p:cNvPr id="132" name="" descr=""/>
          <p:cNvPicPr/>
          <p:nvPr/>
        </p:nvPicPr>
        <p:blipFill>
          <a:blip r:embed="rId3"/>
          <a:stretch/>
        </p:blipFill>
        <p:spPr>
          <a:xfrm>
            <a:off x="7818480" y="5405400"/>
            <a:ext cx="1249200" cy="13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520" y="457200"/>
            <a:ext cx="640080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nclusión</a:t>
            </a:r>
            <a:endParaRPr b="0" lang="en-US" sz="4800" spc="-1" strike="noStrike">
              <a:solidFill>
                <a:srgbClr val="594717"/>
              </a:solidFill>
              <a:latin typeface="Impact"/>
            </a:endParaRPr>
          </a:p>
        </p:txBody>
      </p:sp>
      <p:sp>
        <p:nvSpPr>
          <p:cNvPr id="134" name="PlaceHolder 2"/>
          <p:cNvSpPr>
            <a:spLocks noGrp="1"/>
          </p:cNvSpPr>
          <p:nvPr>
            <p:ph/>
          </p:nvPr>
        </p:nvSpPr>
        <p:spPr>
          <a:xfrm>
            <a:off x="1523520" y="1676160"/>
            <a:ext cx="7162920" cy="4724280"/>
          </a:xfrm>
          <a:prstGeom prst="rect">
            <a:avLst/>
          </a:prstGeom>
          <a:noFill/>
          <a:ln w="0">
            <a:noFill/>
          </a:ln>
        </p:spPr>
        <p:txBody>
          <a:bodyPr lIns="90000" rIns="90000" tIns="46800" bIns="46800" anchor="t">
            <a:normAutofit/>
          </a:bodyPr>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cribe para el público al que va dirigido el boletín informativo.</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Mantén el propósito de tu boletín en la perspectiva correcta.</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roduce tus noticias de la mejor manera con el dinero que tienes.</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ige el equipo de tu boletín en base a su habilidad, conocimiento y dedicación para con los objetivos de la organización.</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ebes asignar tareas y vencimientos para cada número.</a:t>
            </a:r>
            <a:endParaRPr b="0" lang="en-US" sz="2800" spc="-1" strike="noStrike">
              <a:solidFill>
                <a:srgbClr val="3e310f"/>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10f"/>
              </a:solidFill>
              <a:latin typeface="Georgia"/>
            </a:endParaRPr>
          </a:p>
        </p:txBody>
      </p:sp>
      <p:pic>
        <p:nvPicPr>
          <p:cNvPr id="135" name="" descr=""/>
          <p:cNvPicPr/>
          <p:nvPr/>
        </p:nvPicPr>
        <p:blipFill>
          <a:blip r:embed="rId2"/>
          <a:stretch/>
        </p:blipFill>
        <p:spPr>
          <a:xfrm>
            <a:off x="1676520" y="152280"/>
            <a:ext cx="401400" cy="121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8280" y="457200"/>
            <a:ext cx="563904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nclusión  </a:t>
            </a:r>
            <a:r>
              <a:rPr b="0" lang="es-ES" sz="2000" spc="-1" strike="noStrike">
                <a:solidFill>
                  <a:srgbClr val="3a5776"/>
                </a:solidFill>
                <a:latin typeface="Impact"/>
              </a:rPr>
              <a:t>(cont)</a:t>
            </a:r>
            <a:endParaRPr b="0" lang="en-US" sz="2000" spc="-1" strike="noStrike">
              <a:solidFill>
                <a:srgbClr val="594717"/>
              </a:solidFill>
              <a:latin typeface="Impact"/>
            </a:endParaRPr>
          </a:p>
        </p:txBody>
      </p:sp>
      <p:sp>
        <p:nvSpPr>
          <p:cNvPr id="137" name="PlaceHolder 2"/>
          <p:cNvSpPr>
            <a:spLocks noGrp="1"/>
          </p:cNvSpPr>
          <p:nvPr>
            <p:ph/>
          </p:nvPr>
        </p:nvSpPr>
        <p:spPr>
          <a:xfrm>
            <a:off x="1523880" y="1676160"/>
            <a:ext cx="7010640" cy="4724280"/>
          </a:xfrm>
          <a:prstGeom prst="rect">
            <a:avLst/>
          </a:prstGeom>
          <a:noFill/>
          <a:ln w="0">
            <a:noFill/>
          </a:ln>
        </p:spPr>
        <p:txBody>
          <a:bodyPr lIns="90000" rIns="90000" tIns="46800" bIns="46800" anchor="t">
            <a:normAutofit/>
          </a:bodyPr>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Utiliza un diseño atractivo y utiliza fuentes que sean fáciles de leer.</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os gráficos y fotos deberían ayudar a contar la historia.</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os cuadros de texto pueden destacar parte e un artículo o proveer información adicional.</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rrige, corrige y vuelve a corregir.</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No utilices información ajena sin pedir permiso.</a:t>
            </a:r>
            <a:endParaRPr b="0" lang="en-US" sz="2800" spc="-1" strike="noStrike">
              <a:solidFill>
                <a:srgbClr val="3e310f"/>
              </a:solidFill>
              <a:latin typeface="Georgia"/>
            </a:endParaRPr>
          </a:p>
        </p:txBody>
      </p:sp>
      <p:pic>
        <p:nvPicPr>
          <p:cNvPr id="138" name="" descr=""/>
          <p:cNvPicPr/>
          <p:nvPr/>
        </p:nvPicPr>
        <p:blipFill>
          <a:blip r:embed="rId2"/>
          <a:stretch/>
        </p:blipFill>
        <p:spPr>
          <a:xfrm>
            <a:off x="1676520" y="228600"/>
            <a:ext cx="3762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304560"/>
            <a:ext cx="6400800" cy="10666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a5776"/>
                </a:solidFill>
                <a:latin typeface="Impact"/>
              </a:rPr>
              <a:t>Cómo producir un boletín informativo</a:t>
            </a:r>
            <a:endParaRPr b="0" lang="en-US" sz="4400" spc="-1" strike="noStrike">
              <a:solidFill>
                <a:srgbClr val="594717"/>
              </a:solidFill>
              <a:latin typeface="Impact"/>
            </a:endParaRPr>
          </a:p>
        </p:txBody>
      </p:sp>
      <p:sp>
        <p:nvSpPr>
          <p:cNvPr id="92" name="PlaceHolder 2"/>
          <p:cNvSpPr>
            <a:spLocks noGrp="1"/>
          </p:cNvSpPr>
          <p:nvPr>
            <p:ph/>
          </p:nvPr>
        </p:nvSpPr>
        <p:spPr>
          <a:xfrm>
            <a:off x="1523520" y="1600200"/>
            <a:ext cx="5715000" cy="4572000"/>
          </a:xfrm>
          <a:prstGeom prst="rect">
            <a:avLst/>
          </a:prstGeom>
          <a:noFill/>
          <a:ln w="0">
            <a:noFill/>
          </a:ln>
        </p:spPr>
        <p:txBody>
          <a:bodyPr lIns="90000" rIns="90000" tIns="46800" bIns="46800" anchor="t">
            <a:normAutofit fontScale="92000"/>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Georgia"/>
              </a:rPr>
              <a:t>El hecho de preparar un boletín informativo, realmente es un objetivo digno de admiración, pero ¿no podrías simplemente levantar el tubo del teléfono o enviar un correo electrónico? ¿Cómo te beneficiará a ti y a tu organización el hecho de tener la información por escrito?</a:t>
            </a:r>
            <a:endParaRPr b="0" lang="en-US" sz="3200" spc="-1" strike="noStrike">
              <a:solidFill>
                <a:srgbClr val="3e310f"/>
              </a:solidFill>
              <a:latin typeface="Georgia"/>
            </a:endParaRPr>
          </a:p>
        </p:txBody>
      </p:sp>
      <p:pic>
        <p:nvPicPr>
          <p:cNvPr id="93" name="" descr=""/>
          <p:cNvPicPr/>
          <p:nvPr/>
        </p:nvPicPr>
        <p:blipFill>
          <a:blip r:embed="rId2"/>
          <a:stretch/>
        </p:blipFill>
        <p:spPr>
          <a:xfrm>
            <a:off x="7162920" y="5975280"/>
            <a:ext cx="1981080" cy="8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609120"/>
            <a:ext cx="68580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sas importantes a tener en cuenta</a:t>
            </a:r>
            <a:endParaRPr b="0" lang="en-US" sz="4800" spc="-1" strike="noStrike">
              <a:solidFill>
                <a:srgbClr val="594717"/>
              </a:solidFill>
              <a:latin typeface="Impact"/>
            </a:endParaRPr>
          </a:p>
        </p:txBody>
      </p:sp>
      <p:sp>
        <p:nvSpPr>
          <p:cNvPr id="95" name="PlaceHolder 2"/>
          <p:cNvSpPr>
            <a:spLocks noGrp="1"/>
          </p:cNvSpPr>
          <p:nvPr>
            <p:ph/>
          </p:nvPr>
        </p:nvSpPr>
        <p:spPr>
          <a:xfrm>
            <a:off x="1294920" y="2285640"/>
            <a:ext cx="5867640" cy="3505320"/>
          </a:xfrm>
          <a:prstGeom prst="rect">
            <a:avLst/>
          </a:prstGeom>
          <a:noFill/>
          <a:ln w="0">
            <a:noFill/>
          </a:ln>
        </p:spPr>
        <p:txBody>
          <a:bodyPr lIns="90000" rIns="90000" tIns="46800" bIns="46800" anchor="t">
            <a:normAutofit fontScale="95000"/>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Propósito del boletín</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Tu audiencia</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Tipo de noticia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Cantidad de lectore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Frecuencia de publicación</a:t>
            </a:r>
            <a:endParaRPr b="0" lang="en-US" sz="3600" spc="-1" strike="noStrike">
              <a:solidFill>
                <a:srgbClr val="3e310f"/>
              </a:solidFill>
              <a:latin typeface="Georgia"/>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pic>
        <p:nvPicPr>
          <p:cNvPr id="96" name="" descr=""/>
          <p:cNvPicPr/>
          <p:nvPr/>
        </p:nvPicPr>
        <p:blipFill>
          <a:blip r:embed="rId2"/>
          <a:stretch/>
        </p:blipFill>
        <p:spPr>
          <a:xfrm>
            <a:off x="6553080" y="2286000"/>
            <a:ext cx="2082960" cy="331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98"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Edito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ta persona es la responsable de planificar cada número; fijar cronogramas y vencimientos; liderar; editar; realizar la corrección de pruebas; obtener derechos de autor; y verificar la veracidad de la información.</a:t>
            </a:r>
            <a:endParaRPr b="0" lang="en-US" sz="2800" spc="-1" strike="noStrike">
              <a:solidFill>
                <a:srgbClr val="3e310f"/>
              </a:solidFill>
              <a:latin typeface="Georgia"/>
            </a:endParaRPr>
          </a:p>
        </p:txBody>
      </p:sp>
      <p:pic>
        <p:nvPicPr>
          <p:cNvPr id="99" name="" descr=""/>
          <p:cNvPicPr/>
          <p:nvPr/>
        </p:nvPicPr>
        <p:blipFill>
          <a:blip r:embed="rId2">
            <a:grayscl/>
          </a:blip>
          <a:stretch/>
        </p:blipFill>
        <p:spPr>
          <a:xfrm>
            <a:off x="1752480" y="2057400"/>
            <a:ext cx="122724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1"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Redactor (e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Son esenciales las habilidades de redacción; el redactor necesita la habilidad de construir bien las oraciones y párrafos y que las páginas prácticamente salten hacia los lectores.</a:t>
            </a:r>
            <a:endParaRPr b="0" lang="en-US" sz="2800" spc="-1" strike="noStrike">
              <a:solidFill>
                <a:srgbClr val="3e310f"/>
              </a:solidFill>
              <a:latin typeface="Georgia"/>
            </a:endParaRPr>
          </a:p>
        </p:txBody>
      </p:sp>
      <p:pic>
        <p:nvPicPr>
          <p:cNvPr id="102" name="" descr=""/>
          <p:cNvPicPr/>
          <p:nvPr/>
        </p:nvPicPr>
        <p:blipFill>
          <a:blip r:embed="rId2"/>
          <a:stretch/>
        </p:blipFill>
        <p:spPr>
          <a:xfrm>
            <a:off x="1828800" y="2057400"/>
            <a:ext cx="969840" cy="1295280"/>
          </a:xfrm>
          <a:prstGeom prst="rect">
            <a:avLst/>
          </a:prstGeom>
          <a:ln w="0">
            <a:noFill/>
          </a:ln>
        </p:spPr>
      </p:pic>
      <p:pic>
        <p:nvPicPr>
          <p:cNvPr id="103" name="" descr=""/>
          <p:cNvPicPr/>
          <p:nvPr/>
        </p:nvPicPr>
        <p:blipFill>
          <a:blip r:embed="rId3"/>
          <a:stretch/>
        </p:blipFill>
        <p:spPr>
          <a:xfrm>
            <a:off x="6553080" y="2209680"/>
            <a:ext cx="1185840" cy="108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5"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Fotógrafo</a:t>
            </a:r>
            <a:r>
              <a:rPr b="0" lang="en-US" sz="4400" spc="-1" strike="noStrike">
                <a:solidFill>
                  <a:srgbClr val="7c2531"/>
                </a:solidFill>
                <a:latin typeface="Georgia"/>
              </a:rPr>
              <a:t> (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as fotografías deberían ser cautivantes, de primer plano, bien enfocadas, y deberían poder contar la historia aún si no hay palabras.</a:t>
            </a:r>
            <a:endParaRPr b="0" lang="en-US" sz="2800" spc="-1" strike="noStrike">
              <a:solidFill>
                <a:srgbClr val="3e310f"/>
              </a:solidFill>
              <a:latin typeface="Georgia"/>
            </a:endParaRPr>
          </a:p>
        </p:txBody>
      </p:sp>
      <p:pic>
        <p:nvPicPr>
          <p:cNvPr id="106" name="" descr=""/>
          <p:cNvPicPr/>
          <p:nvPr/>
        </p:nvPicPr>
        <p:blipFill>
          <a:blip r:embed="rId2"/>
          <a:stretch/>
        </p:blipFill>
        <p:spPr>
          <a:xfrm>
            <a:off x="1523880" y="1981080"/>
            <a:ext cx="116208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8" name="PlaceHolder 2"/>
          <p:cNvSpPr>
            <a:spLocks noGrp="1"/>
          </p:cNvSpPr>
          <p:nvPr>
            <p:ph type="subTitle"/>
          </p:nvPr>
        </p:nvSpPr>
        <p:spPr>
          <a:xfrm>
            <a:off x="2057040" y="2362320"/>
            <a:ext cx="5638680" cy="35049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Dactilógrafo</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 esencial tener un dactilógrafo calificado que pueda dactilografiar la información a un formato fácil de editar.</a:t>
            </a:r>
            <a:endParaRPr b="0" lang="en-US" sz="2800" spc="-1" strike="noStrike">
              <a:solidFill>
                <a:srgbClr val="3e310f"/>
              </a:solidFill>
              <a:latin typeface="Georgia"/>
            </a:endParaRPr>
          </a:p>
        </p:txBody>
      </p:sp>
      <p:pic>
        <p:nvPicPr>
          <p:cNvPr id="109" name="" descr=""/>
          <p:cNvPicPr/>
          <p:nvPr/>
        </p:nvPicPr>
        <p:blipFill>
          <a:blip r:embed="rId2"/>
          <a:stretch/>
        </p:blipFill>
        <p:spPr>
          <a:xfrm>
            <a:off x="1600200" y="2133720"/>
            <a:ext cx="1204920" cy="121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1" name="PlaceHolder 2"/>
          <p:cNvSpPr>
            <a:spLocks noGrp="1"/>
          </p:cNvSpPr>
          <p:nvPr>
            <p:ph type="subTitle"/>
          </p:nvPr>
        </p:nvSpPr>
        <p:spPr>
          <a:xfrm>
            <a:off x="2057040" y="2362320"/>
            <a:ext cx="5638680" cy="3962160"/>
          </a:xfrm>
          <a:prstGeom prst="rect">
            <a:avLst/>
          </a:prstGeom>
          <a:noFill/>
          <a:ln w="0">
            <a:noFill/>
          </a:ln>
        </p:spPr>
        <p:txBody>
          <a:bodyPr lIns="90000" rIns="90000" tIns="46800" bIns="4680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Diseñador gráfico</a:t>
            </a:r>
            <a:r>
              <a:rPr b="0" lang="en-US" sz="4400" spc="-1" strike="noStrike">
                <a:solidFill>
                  <a:srgbClr val="7c2531"/>
                </a:solidFill>
                <a:latin typeface="Georgia"/>
              </a:rPr>
              <a:t>—   </a:t>
            </a:r>
            <a:endParaRPr b="0" lang="en-US" sz="4400" spc="-1" strike="noStrike">
              <a:solidFill>
                <a:srgbClr val="3e310f"/>
              </a:solidFill>
              <a:latin typeface="Georgi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Ésta persona deberá ser un experto en visualizar la hoja impresa, crear gráficos (o encontrar gráficos excelentes), y diseñar un boletín informativo.</a:t>
            </a:r>
            <a:endParaRPr b="0" lang="en-US" sz="2800" spc="-1" strike="noStrike">
              <a:solidFill>
                <a:srgbClr val="3e310f"/>
              </a:solidFill>
              <a:latin typeface="Georgia"/>
            </a:endParaRPr>
          </a:p>
        </p:txBody>
      </p:sp>
      <p:pic>
        <p:nvPicPr>
          <p:cNvPr id="112" name="" descr=""/>
          <p:cNvPicPr/>
          <p:nvPr/>
        </p:nvPicPr>
        <p:blipFill>
          <a:blip r:embed="rId2"/>
          <a:stretch/>
        </p:blipFill>
        <p:spPr>
          <a:xfrm>
            <a:off x="1371600" y="2057400"/>
            <a:ext cx="1103400" cy="11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4" name="PlaceHolder 2"/>
          <p:cNvSpPr>
            <a:spLocks noGrp="1"/>
          </p:cNvSpPr>
          <p:nvPr>
            <p:ph type="subTitle"/>
          </p:nvPr>
        </p:nvSpPr>
        <p:spPr>
          <a:xfrm>
            <a:off x="2057040" y="2361960"/>
            <a:ext cx="5715000" cy="38098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Editor </a:t>
            </a:r>
            <a:r>
              <a:rPr b="0" lang="es-ES" sz="4400" spc="-1" strike="noStrike">
                <a:solidFill>
                  <a:srgbClr val="7c2531"/>
                </a:solidFill>
                <a:latin typeface="Georgia"/>
              </a:rPr>
              <a:t>electrónico</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 editor electrónico utiliza programas de computadora para organizar el boletín. Esta persona debe comprender el espaciado entre líneas, títulos y fuentes de texto, diseño, cuadros informativos y gráficos.</a:t>
            </a:r>
            <a:endParaRPr b="0" lang="en-US" sz="2800" spc="-1" strike="noStrike">
              <a:solidFill>
                <a:srgbClr val="3e310f"/>
              </a:solidFill>
              <a:latin typeface="Georgia"/>
            </a:endParaRPr>
          </a:p>
        </p:txBody>
      </p:sp>
      <p:pic>
        <p:nvPicPr>
          <p:cNvPr id="115" name="" descr=""/>
          <p:cNvPicPr/>
          <p:nvPr/>
        </p:nvPicPr>
        <p:blipFill>
          <a:blip r:embed="rId2">
            <a:grayscl/>
          </a:blip>
          <a:stretch/>
        </p:blipFill>
        <p:spPr>
          <a:xfrm>
            <a:off x="1447920" y="2209680"/>
            <a:ext cx="1066680" cy="75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5T15:09:19Z</dcterms:created>
  <dc:creator>Roland J. Penner</dc:creator>
  <dc:description/>
  <dc:language>en-US</dc:language>
  <cp:lastModifiedBy>Sede Administrativa</cp:lastModifiedBy>
  <dcterms:modified xsi:type="dcterms:W3CDTF">2005-09-16T14:08:41Z</dcterms:modified>
  <cp:revision>29</cp:revision>
  <dc:subject> </dc:subject>
  <dc:title>Slide 1</dc:title>
</cp:coreProperties>
</file>