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41D-DC74-4AF2-BCA8-0B1F6383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BF7-117A-46CC-9B12-24CBBA43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B58-26B9-46E3-AAF7-B3BF8116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C4B-BE65-4918-800D-FC32201B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E68-FC3C-4FDC-AD1C-C39E6B9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A99-3F54-4C78-8C5C-A1FE3DE3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DC0-ECD1-4030-B587-728DCD1F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FBE-AE0E-4223-8BBE-DEE2AB66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F23-F352-4535-98CC-B2349FB0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94D-F8E4-42F0-AA9C-5D56B013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725-7D42-43C2-8129-1FD53949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F8C-502B-4558-AC07-D687C4A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3EDF-794E-48BB-BA4E-B23DD4713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paración y Redacción de Informe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4:57Z</dcterms:modified>
  <cp:revision>5</cp:revision>
  <dc:subject/>
  <dc:title>Slide 1</dc:title>
</cp:coreProperties>
</file>