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9A0-2EB0-4351-9EAA-9C3B8C29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2BD-501B-4485-996B-21A000BA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CB2-0FA4-438A-BA67-0346E596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5DB-53E3-4E35-824D-9843E2A6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4F9-2605-4AB8-BEE8-3004B68C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50C-EB5E-42A5-A04B-34895F86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9DB0-E74B-4E87-AC16-2005E050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401-ECDA-4355-9218-E465E7F7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9155-DA5A-478B-A27A-648CDDF3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CB3-3336-432F-A1EF-E9DD5F69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7BC-FF69-4288-84EC-3284755A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F9A-5F90-4292-A718-2B7F07F4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E652-E73E-4813-8120-CB8F5FD88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paración y Redacción de Informe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4:57Z</dcterms:modified>
  <cp:revision>5</cp:revision>
  <dc:subject/>
  <dc:title>Slide 1</dc:title>
</cp:coreProperties>
</file>