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A3B-544C-4E52-9220-6AF50001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AF2-9CE0-4C7F-8303-C941D8C9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ED2-8682-4C78-8903-378F5AD1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6E8-91CC-44F5-884F-FE6F2DB8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F62-EF93-49BA-9ED4-48E57EC8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BABE-87FE-4A97-969B-344E11ED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8C0-1C83-48FD-A625-5E46C758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FF7-6EB9-4576-B171-83AEBB22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4602-FC5B-4B63-AB50-588273AA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9B5B-F696-4639-B7F1-C892235C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03C-AB5F-4B5B-93BB-5AFFE78B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E34-7127-4FB9-A9CC-50DF8F2E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97A9-6C26-4491-AE1F-9A7CD9568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1125360"/>
            <a:ext cx="55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upuestos para Ministerios de la Mu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2492280"/>
            <a:ext cx="6769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Linda de León y Lisa Rasmu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rso de liderazgo Ni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isterios de la Mujer de la Asociac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56000" y="119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ómo guardar reg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2421000"/>
            <a:ext cx="73454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 tu libro mayor – una hoja de papel para cada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hoja debería incluir el nombre del proyecto, número de cuenta (opcional) y fecha de in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16000" y="1628640"/>
            <a:ext cx="6553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a superior incluye: fecha, descripción, depósitos, (créditos) y gastos (débi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el libro diario para entradas de todos los d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a la semana o al mes ingresa tus entradas al 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3528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50911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85880"/>
                <a:gridCol w="1604880"/>
                <a:gridCol w="164628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Recur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escrip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Créd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éb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dar án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es para Mar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1979640" y="189000"/>
            <a:ext cx="3097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bre de tu Igle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 núm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udad, código pos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h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ero 1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71640" y="1700280"/>
          <a:ext cx="7704000" cy="4270320"/>
        </p:xfrm>
        <a:graphic>
          <a:graphicData uri="http://schemas.openxmlformats.org/drawingml/2006/table">
            <a:tbl>
              <a:tblPr/>
              <a:tblGrid>
                <a:gridCol w="1657440"/>
                <a:gridCol w="3363840"/>
                <a:gridCol w="1293840"/>
                <a:gridCol w="1388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Créd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éb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Flor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$10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Transferencia de fon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rtículos de almacé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368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$47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5651640" y="83664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404640"/>
            <a:ext cx="3024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bre de tu Igl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 nú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udad, código pos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bre del proyecto: Brindar áni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 de cuenta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ch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16000" y="2133720"/>
            <a:ext cx="6912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orero de iglesia maneja las transacciones mone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da todos los reci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as iglesias dan dinero antes, otras reembol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765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o de di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5280" y="2349360"/>
            <a:ext cx="4681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 gastos grandes informa al tesorero antes de ga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7280" y="1341360"/>
            <a:ext cx="71298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resupuesto de iglesia está basado en el tamaño de la iglesia y la benevolencia de sus miem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ingreso de la iglesia local proviene del presupuesto de igl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diezmo no forma parte del presupuesto de iglesia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476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zas de iglesias lo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68360" y="6206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lección de fo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1989000"/>
            <a:ext cx="5832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ces tu presupuesto no es el adecu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lección es una opción: pagarés, vender comida o artesanías, programa musical, lavar aut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40000" y="83664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s Int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2205000"/>
            <a:ext cx="7128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quea y balanc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gura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a pocas personas juntar o gastar d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87280" y="2060640"/>
            <a:ext cx="612144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ntrar errores de co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ne el sobre ga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ne el mal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e difícil el ro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35280" y="1773360"/>
            <a:ext cx="4824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A ES LA PLATA, Y MÍO ES EL ORO, DICE JEHOVÁ DE LOS EJÉRCITOS.” Hageo 2:8 R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000" y="1844640"/>
            <a:ext cx="741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que ¿Quién de vosotros, queriendo edificar una torre, no se sienta primero y calcula los gastos, a ver si tiene lo que necesita para acabarla? No sea que después que haya puesto el cimiento, y no pueda acabarla, todos los que lo vean comiencen a hacer burla de él, diciendo: Este hombre comenzó a edificar, y no pudo acabar” Luke 14:28-30 (RV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24000" y="119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ósito de un presu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7842240" y="292104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565360"/>
            <a:ext cx="7200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gura que las entradas suplirán las neces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reflejar la misión de tus Ministerios de la Muj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nticipar problemas financieros futuros y realizar aju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ve de motivación para alcanzar tus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yudar a controlar tus gast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71640" y="90792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os para establecer el tamaño de tu presu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781360"/>
            <a:ext cx="504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tus 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a al tesor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a los gastos y entradas del pas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7280" y="1341360"/>
            <a:ext cx="72010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tus gastos e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upueste para lo inesp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tus gastos no superen tus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 tu presupuesto para recibir aprob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úa tu rendimiento al finalizar el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4360" y="1413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ápiz o compu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2421000"/>
            <a:ext cx="532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ienza la planificación de tu presupuesto con papel y láp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ideas y gastos aproxim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32000" y="1700280"/>
            <a:ext cx="4608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o tienes computadora utiliza un libro diario y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 utilizar un programa de computadora de hojas de cálculo. Ej.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2:12:30Z</dcterms:created>
  <dc:creator>Sede Administrativa</dc:creator>
  <dc:description/>
  <dc:language>en-US</dc:language>
  <cp:lastModifiedBy>Sede Administrativa</cp:lastModifiedBy>
  <dcterms:modified xsi:type="dcterms:W3CDTF">2005-06-15T18:58:23Z</dcterms:modified>
  <cp:revision>6</cp:revision>
  <dc:subject/>
  <dc:title>Slide 1</dc:title>
</cp:coreProperties>
</file>