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E5C-2FC5-466D-96C2-3A5C82F8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B09-F500-4E2C-AE88-7004CE4C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BA9-0264-4BB3-8AE2-49A0FF1D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9C2-CF1D-4E3F-A24E-34AEC1D0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5E2-91CC-4E44-9109-A2985C2F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B53-F9F9-4038-953B-D6F1FB26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DF1-4E58-4BEC-B279-3B346303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05A-FABC-4CE0-B94D-CB94945D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3CA-BE37-40F5-96C5-59FC8607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024-5766-4A57-B019-A82B88C5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F90-CEFA-4769-9D26-3332C6D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A03-1394-497D-9761-BFF12AA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8839-C017-47CA-93AD-9332D1C75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12536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upuestos para Ministerios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492280"/>
            <a:ext cx="676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inda de León y Lisa Rasmu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de liderazgo Ni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sterios de la Mujer de la Asoci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6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mo guardar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421000"/>
            <a:ext cx="7345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 tu libro mayor – una hoja de papel para cada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hoja debería incluir el nombre del proyecto, número de cuenta (opcional) y fecha de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628640"/>
            <a:ext cx="65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 superior incluye: fecha, descripción, depósitos, (créditos) y gastos (débi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el libro diario para entradas de todos los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a la semana o al mes ingresa tus entradas al 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án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es para M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79640" y="189000"/>
            <a:ext cx="309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ero 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71640" y="1700280"/>
          <a:ext cx="7704000" cy="4270320"/>
        </p:xfrm>
        <a:graphic>
          <a:graphicData uri="http://schemas.openxmlformats.org/drawingml/2006/table">
            <a:tbl>
              <a:tblPr/>
              <a:tblGrid>
                <a:gridCol w="1657440"/>
                <a:gridCol w="3363840"/>
                <a:gridCol w="1293840"/>
                <a:gridCol w="138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l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10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ransferencia de fo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rtículos de almacé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36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47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836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04640"/>
            <a:ext cx="302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l proyecto: Brindar án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uen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2133720"/>
            <a:ext cx="691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orero de iglesia maneja las transacciones mone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a todos los reci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iglesias dan dinero antes, otras reembol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76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o de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2349360"/>
            <a:ext cx="468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gastos grandes informa al tesorero antes de ga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1341360"/>
            <a:ext cx="7129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supuesto de iglesia está basado en el tamaño de la iglesia y la benevolencia de sus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reso de la iglesia local proviene del presupuesto de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ezmo no forma parte del presupuesto de iglesi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as de iglesia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620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lección de fo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989000"/>
            <a:ext cx="5832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es tu presupuesto no es el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lección es una opción: pagarés, vender comida o artesanías, programa musical, lavar au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83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s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2205000"/>
            <a:ext cx="712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quea y bala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 pocas personas juntar o gast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2060640"/>
            <a:ext cx="6121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ntrar errores de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sobre ga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mal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difícil el r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1773360"/>
            <a:ext cx="482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A ES LA PLATA, Y MÍO ES EL ORO, DICE JEHOVÁ DE LOS EJÉRCITOS.” Hageo 2:8 R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84464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¿Quién de vosotros, queriendo edificar una torre, no se sienta primero y calcula los gastos, a ver si tiene lo que necesita para acabarla? No sea que después que haya puesto el cimiento, y no pueda acabarla, todos los que lo vean comiencen a hacer burla de él, diciendo: Este hombre comenzó a edificar, y no pudo acabar” Luke 14:28-30 (R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ósito de un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842240" y="292104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565360"/>
            <a:ext cx="7200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que las entradas suplirán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eflejar la misión de tus Ministerios de la 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nticipar problemas financieros futuros y realizar aju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de motivación para alcanzar tus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yudar a controlar tus gast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90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os para establecer el tamaño de tu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781360"/>
            <a:ext cx="504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a al teso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 los gastos y entradas del pa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341360"/>
            <a:ext cx="7201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gastos 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e para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us gastos no superen tus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 tu presupuesto para recibir aprob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úa tu rendimiento al finalizar el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41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ápiz o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421000"/>
            <a:ext cx="53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enza la planificación de tu presupuesto con papel y láp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ideas y gastos aproxi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1700280"/>
            <a:ext cx="460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s computadora utiliza un libro diario y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 utilizar un programa de computadora de hojas de cálculo. Ej.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12:30Z</dcterms:created>
  <dc:creator>Sede Administrativa</dc:creator>
  <dc:description/>
  <dc:language>en-US</dc:language>
  <cp:lastModifiedBy>Sede Administrativa</cp:lastModifiedBy>
  <dcterms:modified xsi:type="dcterms:W3CDTF">2005-06-15T18:58:23Z</dcterms:modified>
  <cp:revision>6</cp:revision>
  <dc:subject/>
  <dc:title>Slide 1</dc:title>
</cp:coreProperties>
</file>