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5CC-070C-430F-A689-84F40DB8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18F-A1B2-4ECC-8141-EEF220C2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48C-8D8E-42EC-AA88-142C36F1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FCC-A5AA-494D-ABC5-D08F73CE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64C-C276-4385-B674-D20955D6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C71-A36B-4547-A8D2-8C4C3D02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B85-B3FF-4D4E-9EB9-C9FE266B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E19-FD5F-404A-A13A-4508BFDD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C2F-EC36-4113-9821-70500D64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8C9-13C5-4D8B-B61F-15C9271C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652-EC6F-4C35-B7D6-5D0AB497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499-B8E7-4809-8FDA-A1571E5D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ED44-23F3-4059-9583-C61D18C6B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8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supuesto para Ministerios de la Mujer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7:04Z</dcterms:modified>
  <cp:revision>7</cp:revision>
  <dc:subject/>
  <dc:title>Slide 1</dc:title>
</cp:coreProperties>
</file>