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D93-F1EB-45A4-B369-B08A3194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23B-EB94-4E78-AEE6-DFBA81B4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A5E-515B-4D5B-9085-102DA68E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864-BDF3-4F71-87D7-842F1CE9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E44-E1BB-4106-AD07-4DD66F4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4AE-B30E-4495-8865-A366D376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2E5-A85E-4702-B0A7-DBAA181B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F0A-F023-4167-9CC0-8E8B30AC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750-F935-48E3-99B0-4C5EA7B7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2D3-CEB7-47CC-925C-14F88386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DF6-EA56-4923-9CAB-777984E8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576-D789-4C59-9179-720A9950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4079-6D4B-4672-9EF8-D27FDF44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8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supuesto para Ministerios de la Mujer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7:04Z</dcterms:modified>
  <cp:revision>7</cp:revision>
  <dc:subject/>
  <dc:title>Slide 1</dc:title>
</cp:coreProperties>
</file>