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9FE-AECC-47D9-ABC3-334B3B21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F340-2C4D-49E8-847C-7D4CC698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E40-1D39-47C4-AC20-60ABAF95E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CE2-3DD3-4C43-A14A-C1107404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B34-F07F-4166-B148-53FD7C1D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3A93-8EBB-4C30-978B-AB459B08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1775-86C8-4749-9858-6A8FA213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112-12B2-459D-B455-E6DD410F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E671-7C82-4DFA-969B-890C0BD8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D78F-34A6-422F-A73E-BEEDF8D8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232-C38A-4503-BACA-91619244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519-B3F8-448A-9041-085AB30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D047-B558-47D8-B6E8-30D7F0242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7920" y="7164360"/>
            <a:ext cx="5185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esupuesto para Ministerios de la Mujer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7:04Z</dcterms:modified>
  <cp:revision>7</cp:revision>
  <dc:subject/>
  <dc:title>Slide 1</dc:title>
</cp:coreProperties>
</file>