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6FA-FCF8-4575-8D70-42A2D9D5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67B7-E351-464D-9ED9-B0D9E922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90F-FA5C-4BD1-AC7F-2E261B7A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941C-DAA0-4E50-B893-BDD55721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527-1B71-4BA2-8B4D-3EC611CC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BF13-88AC-4FC3-916F-A514D29C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E23-DDF1-438E-B24F-728DC4B4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C86-6267-4C62-9630-049D393E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1FE-73E4-4066-8481-6B348799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135-913B-4BC3-B447-29ED48E0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6E2-80B6-4AE5-977C-9442E6D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C871-88AE-441B-BD1A-93176DD0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14C3-2A9E-464F-8232-C68483FFD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1125360"/>
            <a:ext cx="55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upuestos para Ministerios de la Muj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2492280"/>
            <a:ext cx="6769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inda de León y Lisa Rasmu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rso de liderazgo Ni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inisterios de la Mujer de la Asoci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556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ómo guardar 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2421000"/>
            <a:ext cx="7345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 tu libro mayor – una hoja de papel para cada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hoja debería incluir el nombre del proyecto, número de cuenta (opcional) y fecha de in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6000" y="1628640"/>
            <a:ext cx="6553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a superior incluye: fecha, descripción, depósitos, (créditos) y gastos (débi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el libro diario para entradas de todos los d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a la semana o al mes ingresa tus entradas al 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35280" y="2743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0911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85880"/>
                <a:gridCol w="1604880"/>
                <a:gridCol w="1646280"/>
              </a:tblGrid>
              <a:tr h="56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Recur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ndar áni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es para Mar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1979640" y="189000"/>
            <a:ext cx="30970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ero 1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71640" y="1700280"/>
          <a:ext cx="7704000" cy="4270320"/>
        </p:xfrm>
        <a:graphic>
          <a:graphicData uri="http://schemas.openxmlformats.org/drawingml/2006/table">
            <a:tbl>
              <a:tblPr/>
              <a:tblGrid>
                <a:gridCol w="1657440"/>
                <a:gridCol w="3363840"/>
                <a:gridCol w="1293840"/>
                <a:gridCol w="138888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M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Créd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Débi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4e8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Flor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10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Transferencia de fo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Artículos de almacé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368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To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$473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5651640" y="83664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04640"/>
            <a:ext cx="302400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 tu Igl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 núm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udad, código pos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mbre del proyecto: Brindar áni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 de cuenta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h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16000" y="2133720"/>
            <a:ext cx="6912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orero de iglesia maneja las transacciones mone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a todos los reci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unas iglesias dan dinero antes, otras reembol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0360" y="76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sto de din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2349360"/>
            <a:ext cx="4681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 gastos grandes informa al tesorero antes de ga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7280" y="1341360"/>
            <a:ext cx="71298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presupuesto de iglesia está basado en el tamaño de la iglesia y la benevolencia de sus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ingreso de la iglesia local proviene del presupuesto de igl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diezmo no forma parte del presupuesto de iglesia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62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nzas de iglesias lo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68360" y="62064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lección de fo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1989000"/>
            <a:ext cx="5832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veces tu presupuesto no es el adecu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lección es una opción: pagarés, vender comida o artesanías, programa musical, lavar auto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40000" y="836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es Inter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16000" y="2205000"/>
            <a:ext cx="7128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quea y balan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respons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 pocas personas juntar o gastar d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87280" y="2060640"/>
            <a:ext cx="6121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ntrar errores de con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sobre ga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ne el mal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ce difícil el rob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35280" y="1773360"/>
            <a:ext cx="4824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ÍA ES LA PLATA, Y MÍO ES EL ORO, DICE JEHOVÁ DE LOS EJÉRCITOS.” Hageo 2:8 RV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6000" y="1844640"/>
            <a:ext cx="7416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que ¿Quién de vosotros, queriendo edificar una torre, no se sienta primero y calcula los gastos, a ver si tiene lo que necesita para acabarla? No sea que después que haya puesto el cimiento, y no pueda acabarla, todos los que lo vean comiencen a hacer burla de él, diciendo: Este hombre comenzó a edificar, y no pudo acabar” Luke 14:28-30 (RV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24000" y="119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ósito de un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7842240" y="292104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565360"/>
            <a:ext cx="7200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gura que las entradas suplirán las neces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reflejar la misión de tus Ministerios de la Muj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4256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nticipar problemas financieros futuros y realizar aju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ve de motivación para alcanzar tus 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ayudar a controlar tus gast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71640" y="907920"/>
            <a:ext cx="52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os para establecer el tamaño de tu presupu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781360"/>
            <a:ext cx="504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ita al teso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a los gastos y entradas del pas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87280" y="1341360"/>
            <a:ext cx="72010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tus gastos e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upueste para lo inespe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tus gastos no superen tus ingr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 tu presupuesto para recibir aprob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úa tu rendimiento al finalizar el a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484360" y="1413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ápiz o computa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32000" y="2421000"/>
            <a:ext cx="532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enza la planificación de tu presupuesto con papel y láp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 una lista de ideas y gastos aproxi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32000" y="1700280"/>
            <a:ext cx="4608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o tienes computadora utiliza un libro diario y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 utilizar un programa de computadora de hojas de cálculo. Ej.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2:12:30Z</dcterms:created>
  <dc:creator>Sede Administrativa</dc:creator>
  <dc:description/>
  <dc:language>en-US</dc:language>
  <cp:lastModifiedBy>Sede Administrativa</cp:lastModifiedBy>
  <dcterms:modified xsi:type="dcterms:W3CDTF">2005-06-15T18:58:23Z</dcterms:modified>
  <cp:revision>6</cp:revision>
  <dc:subject/>
  <dc:title>Slide 1</dc:title>
</cp:coreProperties>
</file>