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BC3-6CEC-4F69-A496-5636C0E9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E8E-2A5D-470B-B81B-052AFF5A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560-F258-49F3-B512-40B34E35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A56-F839-476F-A7AE-FC30DB8D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A47-4751-4ED9-8B02-77CEE670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8C6-0F3E-4DF8-AC7B-009A1905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254-0272-4086-95C7-D5C92C7C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C98F-A858-4530-9F3D-48FBCCF1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7E1-0BB7-4409-8063-BE46367E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721-C0F4-46A1-90F6-BAE5EC05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204-AAB7-47DF-BBC1-62BC03CE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366-50C0-4CF5-BB78-D5B055F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109E-CAD9-4461-80F5-275F48BD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8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supuesto para Ministerios de la Mujer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7:04Z</dcterms:modified>
  <cp:revision>7</cp:revision>
  <dc:subject/>
  <dc:title>Slide 1</dc:title>
</cp:coreProperties>
</file>