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A20-B28E-4D4F-B9E5-1D1B0314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BB2-9F27-4783-B887-808E9FF0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CF7-9699-4E72-A017-D22EAF98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E933-FF62-49C0-81EF-54443D6D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ABC6-3D36-46E4-A000-3A0B9F05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4D3-55B2-409B-BC3E-9E2734A0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9FB-0209-4606-B03E-CA0AEABA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049-48F2-4820-B175-C1D74BEC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10F-D02C-4231-951D-264C75B4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C5B-7CB5-45B0-8366-99DA3EAA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41A-AA2C-450B-8608-DF6DC432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1FD-F929-4DFD-8BFD-40ECF6A1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67A8-BF70-4E90-AFD5-5B1EC6D97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7920" y="7164360"/>
            <a:ext cx="518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supuesto para Ministerios de la Mujer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7:04Z</dcterms:modified>
  <cp:revision>7</cp:revision>
  <dc:subject/>
  <dc:title>Slide 1</dc:title>
</cp:coreProperties>
</file>