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CDC-8A61-4AC0-846C-94ECF090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015-68F9-4DF2-946E-ADE18D46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3F9-511C-425D-90D4-B94C6F11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F53-F2E3-406A-BD38-74ABFA22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B8B-23DF-48B8-B511-34D3A6B6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DCD-A745-4EAC-A5A6-FD337FF4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FD9-1145-4C48-B008-D40A52CA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017-78B3-4CFF-B91F-B25B04F8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353-7C2B-4672-B46C-13D72286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BC6-71AF-4971-8B79-8F9AB122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BE5-99EC-462B-AD76-FA24AF90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29C-243A-4753-84E1-BD3C67FE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11F6-4CF3-4604-8DE2-D08D40675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8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supuesto para Ministerios de la Mujer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7:04Z</dcterms:modified>
  <cp:revision>7</cp:revision>
  <dc:subject/>
  <dc:title>Slide 1</dc:title>
</cp:coreProperties>
</file>