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97D8-92DA-49F3-87DC-DFE7A448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CD67-BEDF-42AC-B6C4-468D1D36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E0E5-E6BD-4DFA-9020-05A85637C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A253-E92B-467E-BBCC-1C3F1EBC5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B894-C43E-4AED-854F-8DF3453C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F07F-3CC9-47A6-B7EE-DFEF0D2E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C9DF-F204-48AF-BF0C-C8C88F7C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17CC-2910-487A-8366-5151A124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495F-D07F-4AD2-949F-BD58F0DE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0F45-E3D2-4E1F-956D-FDDBE8CF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0230-6310-4E04-916D-9DE1E85B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0CA1-1891-4173-BECF-63D94E5D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F133-9117-44C4-8E54-4E9C5709D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7920" y="7164360"/>
            <a:ext cx="5185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esupuesto para Ministerios de la Mujer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37:04Z</dcterms:modified>
  <cp:revision>7</cp:revision>
  <dc:subject/>
  <dc:title>Slide 1</dc:title>
</cp:coreProperties>
</file>