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547-C182-4CA6-81EF-3B32C7A1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E61-7FE1-44A3-9CE3-515930DB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BD11-3CDD-4897-912E-562ADD47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A75-3843-4377-ADEA-000FBA8B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BF6-E926-4F41-B78C-26CE4B2A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317-0507-417B-960D-03FBF84F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A78-1B72-43B7-A69E-E3F940F3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159-811E-444C-8858-89E724D2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8207-1115-47FF-9679-E2A2F25E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905-2889-42B8-8B4A-D5449A7A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9F6-8252-430F-91E7-71E3BBBA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8BE-6658-4180-AEC9-58CDA030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7D2F-EA08-4AC3-96C3-F00438B8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cipios de Consejería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5:59Z</dcterms:modified>
  <cp:revision>6</cp:revision>
  <dc:subject/>
  <dc:title>Slide 1</dc:title>
</cp:coreProperties>
</file>