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CD7-39FA-4B12-B424-D06FD901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B84-6A82-41C4-B85E-91F3CB9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D5E-34AD-4C5A-990A-D775C181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198-15CE-4B92-8E05-44089583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F05-3015-4543-91CF-40E86E28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AB0-6F09-497B-9C3B-494F3559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AB5-2BC1-4491-8D42-4B33A4EB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FC5-F045-47AE-A64A-9EB7580C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5AD-17B7-4FD7-9AED-98AE5476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2A4-A664-4544-9E45-133CB63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C26-C670-491C-AF7E-7534851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621-47CD-44DC-9A9F-92569EC9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3ED3-1F7B-4A25-94A0-18793AD3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incipios de Consejería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5:59Z</dcterms:modified>
  <cp:revision>6</cp:revision>
  <dc:subject/>
  <dc:title>Slide 1</dc:title>
</cp:coreProperties>
</file>