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3C4-1D78-4D7A-B3CB-ADC04347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AA1-48FA-4C32-848C-EF9EF5D8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BA5-2249-4870-A81F-7965FB73E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4D2-03C6-499D-8572-6B2014F0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CDB-611D-4FA8-BF19-580F0AC5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8E0-D775-4226-A80B-93F4D096A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3F7-5B87-4E9E-8F86-CD3840A3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08DB-51F8-45D5-B09F-1392CEB9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74E-F6E1-4FAB-9973-7130F957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DD2-B61D-4A22-BF9F-594F0D1D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BEEC-829B-46DD-8C9F-076012BBF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DDD-D053-449D-BD12-92489699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B212-D630-4CEE-ABBB-52A89C036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13000" y="7164360"/>
            <a:ext cx="424800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rincipios de Consejería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6:28:11Z</dcterms:created>
  <dc:creator>Sede Administrativa</dc:creator>
  <dc:description/>
  <dc:language>en-US</dc:language>
  <cp:lastModifiedBy>Sede Administrativa</cp:lastModifiedBy>
  <dcterms:modified xsi:type="dcterms:W3CDTF">2005-06-13T16:35:59Z</dcterms:modified>
  <cp:revision>6</cp:revision>
  <dc:subject/>
  <dc:title>Slide 1</dc:title>
</cp:coreProperties>
</file>