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ABB-A176-479E-B8D3-27082225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2E4-6C0A-4A92-85C8-0B532A86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801-2E54-4E62-9F54-F412C418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7DF-DF5F-4239-8FE2-ABA5A17F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CD09-1E75-4FE0-9DA3-106E5743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BA95-90AC-49E7-8EA0-2855C12D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E06-3CD6-4A29-84E9-4FB87823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05CA-D584-4CEF-B096-9AECC503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58C-15F0-458F-8C01-3D7B5088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6BC5-BFD7-42B7-AE33-3864918F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B10D-3E00-453D-96B9-49D07A32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67E-3315-42C3-BD94-517DC8B0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88B9-40D2-4A47-9665-3E2F66947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incipios de Consejería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5:59Z</dcterms:modified>
  <cp:revision>6</cp:revision>
  <dc:subject/>
  <dc:title>Slide 1</dc:title>
</cp:coreProperties>
</file>