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0FE0-A11C-4936-94CA-819A57364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2629-0CD3-402C-9A47-A40ADB357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5CD6-55F0-4482-895C-E92A8FA9B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01F8-853C-48D9-AB9F-AB56F2E76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8A8A-35E1-4F6E-8CE9-5C823AFD4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60DF-159F-4411-BCC9-D0B18A980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BB82-ECF6-4C57-B922-183586919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4C4D-F0B1-43E5-A444-FCD6A00D7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C172-CE83-465E-A024-612620909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E3F3-8B93-4F3F-A6F8-539E585AE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069A-4FAF-4D2E-8905-FDE3D741A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BD75-942E-4485-8A23-B622D8CB1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3376D-605E-4BA1-B4DE-1BECEC9CE2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413000" y="7164360"/>
            <a:ext cx="424800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Principios de Consejería</a:t>
            </a:r>
            <a:endParaRPr b="0" lang="en-US" sz="24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3T16:28:11Z</dcterms:created>
  <dc:creator>Sede Administrativa</dc:creator>
  <dc:description/>
  <dc:language>en-US</dc:language>
  <cp:lastModifiedBy>Sede Administrativa</cp:lastModifiedBy>
  <dcterms:modified xsi:type="dcterms:W3CDTF">2005-06-13T16:35:59Z</dcterms:modified>
  <cp:revision>6</cp:revision>
  <dc:subject/>
  <dc:title>Slide 1</dc:title>
</cp:coreProperties>
</file>