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667-7946-4E0A-9C33-38552E9D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F69-3A37-45CD-A730-1AB4A7B9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E54-DB1C-4D9E-9E0E-B61AF7BC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67B-351B-4992-92E0-958802C6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AD5-63EE-4867-9922-07BF1832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4CC-CB97-4D63-9B39-A6197F8B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63E-4BF3-475E-9CB0-44D2662B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F54-4276-4A82-8584-F64E2BB8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235-B775-4778-9809-D0D4A6C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1F3-231D-47D6-BBC9-1E31DD2E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342-8BBD-42F4-9342-B8E98CC9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C66-283D-427B-B9EF-D4412D66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A296-2654-4E3A-ABB8-00B20C42B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7000" y="73087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cate de Ex- miembr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9-19T12:59:30Z</dcterms:modified>
  <cp:revision>9</cp:revision>
  <dc:subject/>
  <dc:title>Slide 1</dc:title>
</cp:coreProperties>
</file>