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88D1-6A47-45F2-89DA-847EC664C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9399-2FAF-44DC-8B2D-A64149F1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14F7-ECD2-4AE2-8096-2BA2B10ED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3FF5-FB76-445A-A4B2-5FFD54CC2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6D79-F326-42ED-9FED-AA2CDC04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477A-9976-4C43-B22E-96A1F059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A66E-9180-454F-B226-5AE5139A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B7CA-7745-4741-9520-B0462604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9287-6EE0-4658-B2CD-1A423BF1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81FF-A9EC-485A-BB21-CDEFBE7B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EEA6-BD61-4526-903B-8AEA0D05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3071-89B3-4F29-91A9-AF84599D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8E35-498D-4404-8CAE-93B314C0F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97000" y="7308720"/>
            <a:ext cx="4537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Rescate de Ex- miembros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6:28:11Z</dcterms:created>
  <dc:creator>Sede Administrativa</dc:creator>
  <dc:description/>
  <dc:language>en-US</dc:language>
  <cp:lastModifiedBy>Sede Administrativa</cp:lastModifiedBy>
  <dcterms:modified xsi:type="dcterms:W3CDTF">2005-09-19T12:59:30Z</dcterms:modified>
  <cp:revision>9</cp:revision>
  <dc:subject/>
  <dc:title>Slide 1</dc:title>
</cp:coreProperties>
</file>