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CE1F-0C7A-4D01-A2B4-FB74C546D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B5FB-EA37-4475-8A5B-90D2DDEA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AB61-1915-4713-80F2-E8DCA41EA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3F5-BC95-4013-A3DB-F0CE4296D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6CFA-E91F-4519-AF48-C927535A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7DC-374C-45AB-B7EF-257B1AF1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A998-0C25-4E3D-A6D5-293A9C30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8EF3-D0FF-409F-AB08-3058005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386-ABA4-4BF2-AFF8-A93B48AA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495-2502-41D1-9FE1-44452D6A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33A-0296-42A5-B341-B848F60B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848A-F760-4BC2-8AEA-5CCC60A7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BA19-B480-447F-ABA1-2D86FAAC6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97000" y="7308720"/>
            <a:ext cx="453708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scate de Ex- miembros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9-19T12:59:30Z</dcterms:modified>
  <cp:revision>9</cp:revision>
  <dc:subject/>
  <dc:title>Slide 1</dc:title>
</cp:coreProperties>
</file>