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2A13-0B0C-45B3-B2E3-E181679F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1EB7-6994-4875-B4BC-78507C62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3635-B3A2-42E5-8C32-4C0FE239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2AB3-81F6-4D60-BC52-CC090278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77D0-B434-4393-B639-4EDE5A73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4D3A-D165-4427-B563-1158351F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C5E5-A73A-449D-A074-F497BC4D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B374-C4F9-424B-9007-58BFB6D2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8DBF-653B-4576-B5D2-7309F467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5077-A9FF-48F1-8BDC-3DC0FBD6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249D-D7FD-4048-BF52-574EA06A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1900-65D2-47F5-83A6-129CABCE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EAB0-7681-48B1-A460-B9937C819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97000" y="7308720"/>
            <a:ext cx="4537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escate de Ex- miembros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9-19T12:59:30Z</dcterms:modified>
  <cp:revision>9</cp:revision>
  <dc:subject/>
  <dc:title>Slide 1</dc:title>
</cp:coreProperties>
</file>