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89E0-97E1-4E0E-AA16-BB5C281ED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EBF4-EAE6-4D02-A77D-56EFF5E8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2E72-17B1-40A9-AFD8-5034B787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D428-F75E-4078-B012-D59EBA482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EFE4-75C6-4864-B2B2-9A1DA9EE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2993-BCCB-4899-B702-F882060C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21F1-5427-4999-A5CD-C9C2447E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7D5F-8A91-474A-A192-E1C159D0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A913-4955-4715-BE7D-462E4E17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E570-4F7C-4B87-B4F8-F4D87923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1859-76F7-4377-BC68-8877086F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B04B-028A-46AF-BCA2-5B35BF52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A46C-D90E-4BEA-B0C4-8FC40644F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97000" y="7308720"/>
            <a:ext cx="4537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Rescate de Ex- miembros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9-19T12:59:30Z</dcterms:modified>
  <cp:revision>9</cp:revision>
  <dc:subject/>
  <dc:title>Slide 1</dc:title>
</cp:coreProperties>
</file>