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55E4-F948-4652-B040-13932BEC0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083C-E061-4308-87DE-0C9285D5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6657-2AC1-4CE2-91D3-6C4D15710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D803-D2E1-49C8-939A-DF5F47DEB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4B18-827B-45E4-A0CC-9805DAD1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A0EF-8176-4309-BDA9-3C03D566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1C3F-0D9B-45BB-98F6-68B0C7E6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8FBA-33BA-41E9-979B-BC970850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8AC0-C428-4847-91F6-34B445BA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C8AF-6775-453C-AEAA-F4504AF8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39F8-4F44-457B-89E4-A2C29FB1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3D85-FADB-48DE-9AF9-E9D24CE0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021D-6E85-461B-96A0-6EBF91FE4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97000" y="7308720"/>
            <a:ext cx="4537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Rescate de Ex- miembros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9-19T12:59:30Z</dcterms:modified>
  <cp:revision>9</cp:revision>
  <dc:subject/>
  <dc:title>Slide 1</dc:title>
</cp:coreProperties>
</file>