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8CBF-A5AC-48C0-AED7-318219EEA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ecesita un recurso? </a:t>
            </a:r>
            <a:br>
              <a:rPr sz="1200"/>
            </a:br>
            <a:r>
              <a:rPr b="0" lang="es-ES" sz="1200" spc="-1" strike="noStrike">
                <a:solidFill>
                  <a:srgbClr val="000000"/>
                </a:solidFill>
                <a:latin typeface="Times New Roman"/>
              </a:rPr>
              <a:t>Usted sabe exactamente lo que desea. Ya sea un sermón, un seminario, una representación, o un evento de entrenamiento. ¿En qué condición se encuentra para encontrar el recurso? O necesitará desarrollarlo usted mism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79320"/>
            <a:ext cx="4533840" cy="3400560"/>
          </a:xfrm>
          <a:prstGeom prst="rect">
            <a:avLst/>
          </a:prstGeom>
          <a:ln w="0">
            <a:noFill/>
          </a:ln>
        </p:spPr>
      </p:sp>
      <p:sp>
        <p:nvSpPr>
          <p:cNvPr id="15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REDACCIÓN Y CORRECCIÓN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se hizo la investigación, el primer paso es organizar el material. </a:t>
            </a:r>
            <a:r>
              <a:rPr b="0" lang="en-US" sz="1200" spc="-1" strike="noStrike">
                <a:solidFill>
                  <a:srgbClr val="000000"/>
                </a:solidFill>
                <a:latin typeface="Times New Roman"/>
              </a:rPr>
              <a:t>Comience escribiendo un bosquejo de lo que desea lograr. </a:t>
            </a:r>
            <a:r>
              <a:rPr b="0" lang="es-ES" sz="1200" spc="-1" strike="noStrike">
                <a:solidFill>
                  <a:srgbClr val="000000"/>
                </a:solidFill>
                <a:latin typeface="Times New Roman"/>
              </a:rPr>
              <a:t>¿Cuáles son los aspectos importantes que se cubrirán? ¿Qué puntos importantes desea asegurarse que se presenten con claridad? Mantenga un bosquejo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0" lang="es-ES" sz="1200" spc="-1" strike="noStrike">
                <a:solidFill>
                  <a:srgbClr val="000000"/>
                </a:solidFill>
                <a:latin typeface="Times New Roman"/>
              </a:rPr>
              <a:t>Introducción o resumen del tema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 Cuer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Bosqueje cada punto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Complete los aspectos importantes de cada pu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Si el material es largo, utilice capítulos, un con un aspecto diferente en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osqueje los aspectos importantes de cada punto en cada capítu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Incluya las referencias de los versículos y de cualquier otra 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el material es un seminario o sermón cortos, defina su tema en la primera oración del párrafo y construya sobre ese punto el resto del párraf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i. Conclusión; consistirá en un resumen de lo que ha comentado, que describa claramente los principales aspe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osquejo sólido y  conciso, cubrirá todos los aspectos importantes del recurso. Del bosquejo, un orador debiera poder hacer la presentación de las ideas más importantes. </a:t>
            </a:r>
            <a:r>
              <a:rPr b="0" lang="en-US" sz="1200" spc="-1" strike="noStrike">
                <a:solidFill>
                  <a:srgbClr val="000000"/>
                </a:solidFill>
                <a:latin typeface="Times New Roman"/>
              </a:rPr>
              <a:t>Un bosquejo mostrará claramente lo que cubrirá el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escrito el bosquejo, es la hora de comenzar a escribir el material. Sus notas debieran estar organizadas de tal manera que vayan juntas con el bosque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 el bosquejo como guía, comience a escribir el cuerpo del material.</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en un estilo informal, utilizando palabras que sean fáciles de ent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resulta apropiado para el material que está escribiendo, emplee historias para ilustrar los aspectos que quiere destacar. La gene gusta de las histor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l recurso será utilizado por otros, evite utilizar relatos en primera pers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ite un tono sermoneador y juzg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enga su presentación positiva y elevadora, no crítica y neg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vez que haya terminado de escribir, vuelva a leer el material.  </a:t>
            </a:r>
            <a:r>
              <a:rPr b="0" lang="es-ES" sz="1200" spc="-1" strike="noStrike">
                <a:solidFill>
                  <a:srgbClr val="000000"/>
                </a:solidFill>
                <a:latin typeface="Times New Roman"/>
              </a:rPr>
              <a:t>Analice cada punto,  asegurándose de que está claramente expuesto. ¿Ha construido suficientemente el contenido para que sea compren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érdese a sí misma el objetivo de este recurso y léalo para asegurarse de que se haya cumplido. Si mantiene en mente la audiencia a la cual va dirigido, intente observar el material desde sus ojos. Después de haberlo leído ¿Tendrán todavía alguna pregunta sin contestar? ¿Saldrán de allí con una nueva inspiración y con un desafí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vise y vuelva a redactar el material cuantas veces sea necesario.</a:t>
            </a:r>
            <a:r>
              <a:rPr b="0" lang="es-ES" sz="1200" spc="-1" strike="noStrike">
                <a:solidFill>
                  <a:srgbClr val="000000"/>
                </a:solidFill>
                <a:latin typeface="Times New Roman"/>
              </a:rPr>
              <a:t> Pídale a Dios que lo guíe, ore para que le muestre qué más se puede hacer para que quede bien editado. Continúe re escribiendo y re leyendo hasta que el recurso es lo que usted desea que sea. Dios le concederá tranquilidad cuando esté list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RABAJAR CON VENCIMIENTOS/ CÓMO MANTENER UN CRONOGRAM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mayoría de los casos, usted deseará el recurso terminado o listo para cierta fecha. Una manera de crear vencimientos para mantener todo marchando en una forma organizada, es  trabajar desde atrás hacia adelante, comenzando con la fecha de vencimiento, calculando cuánto tiempo llevará cada parte del proceso, y dejando una reserva para cualquier vencimiento que no se pueda cumpl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ceso inclui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de la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ción y redacción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ción de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ción/producción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a o distribuir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cida cuánto tiempo le llevará el proceso de cada parte. Entonces comience a establecer vencimientos, dejando un colchón de tiempo cuand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ejemplo, digamos que está trabajando en un proyecto que desea emplear el 1 de mayo. </a:t>
            </a:r>
            <a:r>
              <a:rPr b="0" lang="en-US" sz="1200" spc="-1" strike="noStrike">
                <a:solidFill>
                  <a:srgbClr val="000000"/>
                </a:solidFill>
                <a:latin typeface="Times New Roman"/>
              </a:rPr>
              <a:t>Esa es su fecha de conclusión. </a:t>
            </a:r>
            <a:r>
              <a:rPr b="0" lang="es-ES" sz="1200" spc="-1" strike="noStrike">
                <a:solidFill>
                  <a:srgbClr val="000000"/>
                </a:solidFill>
                <a:latin typeface="Times New Roman"/>
              </a:rPr>
              <a:t>Primero decida cuánto tiempo le llevará cada parte del proc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dición de los materiales – dos seman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blicación/producción del recurs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á o distribuirá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jando una semana extra antes del vencimiento como colchón, podrá trabajar en retroceso para establecer los vencimi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utilizará y distribuirá el material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semana de tiempo adicional – la fecha de vencimiento será24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de la publicación/producción del recurso – una semana antes del 17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para la edición del material – dos semanas antes del 3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 antes del 3 de mar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y desarrollo de la idea – una semana antes del 24 de febrero; así que el proceso necesita comenzar el 24 de febr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ya pasó el 24 de febrero y todavía no desarrolló la idea, entonces deberá acortar el proceso que puede llevar cada parte. </a:t>
            </a:r>
            <a:r>
              <a:rPr b="0" lang="en-US" sz="1200" spc="-1" strike="noStrike">
                <a:solidFill>
                  <a:srgbClr val="000000"/>
                </a:solidFill>
                <a:latin typeface="Times New Roman"/>
              </a:rPr>
              <a:t>Asegúrese siempre de que contará con suficiente tiempo para investigar y escribir los materiales. </a:t>
            </a:r>
            <a:r>
              <a:rPr b="0" lang="es-ES" sz="1200" spc="-1" strike="noStrike">
                <a:solidFill>
                  <a:srgbClr val="000000"/>
                </a:solidFill>
                <a:latin typeface="Times New Roman"/>
              </a:rPr>
              <a:t>Otros aspectos pueden llevar menos tiempo, pero siempre conceda suficiente tiempo a la investigación y redacción. Esto le permitirá contar con un recurso que tenga algo que ofrecer real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insegura acerca del tiempo que le llevará cada parte? Posiblemente necesite hacer un cálculo estimativo. Si tiene diferentes personas trabajando en cada parte, pregúnteles cuánto tiempo necesitarán. Si no tiene una fecha de vencimiento real, y solo le interesa que el proyecto salga cuando sea posible, asigne una cantidad razonable de tiempo para cada parte del proceso, pero establezca vencimientos. Muchas personas no trabajan bien sin ellos y usted podría quedar sin su recurs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79320"/>
            <a:ext cx="4533840" cy="3400560"/>
          </a:xfrm>
          <a:prstGeom prst="rect">
            <a:avLst/>
          </a:prstGeom>
          <a:ln w="0">
            <a:noFill/>
          </a:ln>
        </p:spPr>
      </p:sp>
      <p:sp>
        <p:nvSpPr>
          <p:cNvPr id="15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MANEJAR VARIOS PROYECTOS AL MISMO TIEMPO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eneralmente, trabajamos con más de un proyecto al mismo tiempo para poder organizar recursos, planificar eventos, proveer información etc. ¿Cómo podemos mantenernos a flote con todo esto al mismo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fectiva de utilizar una agenda o calend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 calendario de pared o escritorio grande o en una agenda, escriba los vencimientos tan pronto como los haya establ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rque las fechas dos días antes de un vencimiento para recordarle a  quién esté trabajando en el proyecto, o revisar su propio progreso si lo está haciendo usted mis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trabaja usted misma en el proyecto, podría ser de ayuda demarcar ciertos blancos. ¿Qué partes del proyecto desea que estén terminadas y cuá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un horario para trabajar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ría interesarle marcar el calendario dos días después del vencimiento para revisar cómo sigue el proyecto..  ¿Ha cumplido con el vencimiento establecido?  ¿Necesita alguien un empujoncito, o tiene todo lo que se había propuesto para ese ven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se encuentra trabajando en más e un proyecto a la vez y desea estar especialmente organizada, trate de escribir notas acerca de cada proyecto en un color diferente</a:t>
            </a:r>
            <a:r>
              <a:rPr b="0" lang="es-ES" sz="1200" spc="-1" strike="noStrike">
                <a:solidFill>
                  <a:srgbClr val="000000"/>
                </a:solidFill>
                <a:latin typeface="Times New Roman"/>
              </a:rPr>
              <a:t>; un color para cada proyecto. Entonces, podrá de una mirada a la agenda, cuál es el proyecto que necesita revi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toda la información de cada proyecto en una carpeta, claramente etiquetado con el nombre del proyecto. </a:t>
            </a:r>
            <a:r>
              <a:rPr b="0" lang="es-ES" sz="1200" spc="-1" strike="noStrike">
                <a:solidFill>
                  <a:srgbClr val="000000"/>
                </a:solidFill>
                <a:latin typeface="Times New Roman"/>
              </a:rPr>
              <a:t>Igual que en el caso anterior, podrá coordinar sus papeles por colores de manera que sepa qué carpeta corresponde a cada proyecto con solo una mirada. (Si desea estar realmente organizada, haga coincidir el color de la carpeta del archivo con el color de las marcas de vencimientos en su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dría ser útil incluir los nombres de las personas y sus teléfonos en los días en que necesita chequear los vencimientos</a:t>
            </a:r>
            <a:r>
              <a:rPr b="0" lang="es-ES" sz="1200" spc="-1" strike="noStrike">
                <a:solidFill>
                  <a:srgbClr val="000000"/>
                </a:solidFill>
                <a:latin typeface="Times New Roman"/>
              </a:rPr>
              <a:t>. Esto le permitirá manejar la información en la punta de sus dedos No necesitará buscar los números telefónicos. Póngase en contacto con la gente que está trabajando en el proyecto de tanto en tanto, para ver como van las cosas y ofrecerles ánimo y apoyo. También, escriba sus nombres e información de contactos en la parte exterior de las carpetas de archivo del proyec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necesita recordatorios adicionales, muchos programas de correo electrónico son capaces de enviarle un correo electrónico para recordarle. Solamente necesitará escribir el mensaje para usted misma y dejar que la computadora se lo envíe en la fecha indi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arte unos pocos minutos cada día para evaluar por dónde va con cada proyecto. </a:t>
            </a:r>
            <a:r>
              <a:rPr b="0" lang="es-ES" sz="1200" spc="-1" strike="noStrike">
                <a:solidFill>
                  <a:srgbClr val="000000"/>
                </a:solidFill>
                <a:latin typeface="Times New Roman"/>
              </a:rPr>
              <a:t>Lleva cinco minutos repasar su agenda y proyectos.  Observe en qué etapa está cada uno y qué se necesita hacer todavía.  </a:t>
            </a:r>
            <a:r>
              <a:rPr b="0" lang="en-US" sz="1200" spc="-1" strike="noStrike">
                <a:solidFill>
                  <a:srgbClr val="000000"/>
                </a:solidFill>
                <a:latin typeface="Times New Roman"/>
              </a:rPr>
              <a:t>Esto la mantendrá en control de todos los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a gente tiene su propio estilo o método de organizarse. No existe una forma correcta o incorrecta de hacerlo. Decida cuál es el método que le funciona mejor a usted y utilícel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79320"/>
            <a:ext cx="4533840" cy="3400560"/>
          </a:xfrm>
          <a:prstGeom prst="rect">
            <a:avLst/>
          </a:prstGeom>
          <a:ln w="0">
            <a:noFill/>
          </a:ln>
        </p:spPr>
      </p:sp>
      <p:sp>
        <p:nvSpPr>
          <p:cNvPr id="15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LOS MATERIALES ADICIONAL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 recurso incluye más que solo información para que sea un proyecto completo. </a:t>
            </a:r>
            <a:r>
              <a:rPr b="0" lang="es-ES" sz="1200" spc="-1" strike="noStrike">
                <a:solidFill>
                  <a:srgbClr val="000000"/>
                </a:solidFill>
                <a:latin typeface="Times New Roman"/>
              </a:rPr>
              <a:t>Si el material será presentado  como un seminario, será de ayuda  tener también materiales para repartir a los participantes. Podrán tomar notas encima del mismo y recordar de esta manera, lo que han aprendido más adelante.  A menudo, los seminarios ofrecen más información de lo que somos capaces de asimilar de una sentada. Si se cuenta con materiales para repartir o con un sílabo, esto nos dará una referencia para repasar 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la diferencia entre un sílabo y un material para repartir; El material para repartir consiste en una o dos páginas que contienen  solamente los pensamientos clave y las ideas presentadas.  Un sílabo contiene la presentación completa en forma escr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stá presentando el material a un grupo considere la posibilidad de utilizar retro proyector  o presentaciones en Power Point.</a:t>
            </a:r>
            <a:r>
              <a:rPr b="0" lang="es-ES" sz="1200" spc="-1" strike="noStrike">
                <a:solidFill>
                  <a:srgbClr val="000000"/>
                </a:solidFill>
                <a:latin typeface="Times New Roman"/>
              </a:rPr>
              <a:t> Muchos pastores están utilizando PowerPoint como una parte regular de sus sermones. Al contar con un medio audiovisual del material que se está presentando le permite a la gente no solamente escuchar la información, sino también verla. Esto es un aspecto importante para aquellos que tienen memoria vis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necesita colocar toda la información en los medios visuales. Incluya las citas y versículos a los que se estará refiriendo. Incluya los puntos clave; esta información puede obtenerse directamente del bosquejo, que puede utilizarse para crear las retro proyecciones o diapositivas para PowerPoint.  Incluya gráficos o ilustraciones apropiadas.  Evite el empleo de una presentación de Power Point que incluya solament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prepara un sermón que será utilizado por otros, incluya ambos, el bosquejo y el manuscrito del sermón. </a:t>
            </a:r>
            <a:r>
              <a:rPr b="0" lang="es-ES" sz="1200" spc="-1" strike="noStrike">
                <a:solidFill>
                  <a:srgbClr val="000000"/>
                </a:solidFill>
                <a:latin typeface="Times New Roman"/>
              </a:rPr>
              <a:t>Algunas personas prefieren predicar a partir del bosquejo; otras desearán utilizar el manuscrito completo. También incluya todas la información para hacer el servicio de adoración completo; lectura de textos, himnos sugerentes, relato para los niños, y cualquier otra lectura o material que realzará la experiencia de adoración. Puede ser que la gente no utilice todo los materiales extras, pero la mayoría de ellos van a apreciar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final del material, incluya una biografía de las referencias y materiales que utilizó. </a:t>
            </a:r>
            <a:r>
              <a:rPr b="0" lang="es-ES" sz="1200" spc="-1" strike="noStrike">
                <a:solidFill>
                  <a:srgbClr val="000000"/>
                </a:solidFill>
                <a:latin typeface="Times New Roman"/>
              </a:rPr>
              <a:t> Incluya el nombre del libro, revista, sitio web, el título del material si es que lo hay, el autor, la página o dirección del sitio web, los editores, y la información de los derechos de autor. (Los títulos se escriben en cursiva sin comi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a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ena G. de White, </a:t>
            </a:r>
            <a:r>
              <a:rPr b="0" i="1" lang="es-ES" sz="1200" spc="-1" strike="noStrike">
                <a:solidFill>
                  <a:srgbClr val="000000"/>
                </a:solidFill>
                <a:latin typeface="Times New Roman"/>
              </a:rPr>
              <a:t>Obreros evangélicos </a:t>
            </a:r>
            <a:r>
              <a:rPr b="0" lang="es-ES" sz="1200" spc="-1" strike="noStrike">
                <a:solidFill>
                  <a:srgbClr val="000000"/>
                </a:solidFill>
                <a:latin typeface="Times New Roman"/>
              </a:rPr>
              <a:t>(Florida, Buenos Aires: Asociación Casa Editora Sudamericana, 1971), p. 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referencias debieran estar incluidas en el material donde se hace referencia a una cita directa. Coloque el nombre del autor y lel número de página entre paréntesis a continuación de la cita. Evite colocar la referencia completa en el cuerpo del material. Utilice un pie de página para colocarlas al final en la bibliografía</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752480" y="679320"/>
            <a:ext cx="3354480" cy="2516400"/>
          </a:xfrm>
          <a:prstGeom prst="rect">
            <a:avLst/>
          </a:prstGeom>
          <a:ln w="0">
            <a:noFill/>
          </a:ln>
        </p:spPr>
      </p:sp>
      <p:sp>
        <p:nvSpPr>
          <p:cNvPr id="158"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ERMINAR EL PROYECTO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royecto está casi terminado. Es el momento de prepararlo para su reproducción.  Hay un par de cosas que debe recordar cuando lo está publicando para luzca como un trabajo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mero, edite el material otra vez para descubrir cualquier error de tipograf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a más de una persona para editar y corregir cualquier error del material. Es clave que lo revise más de una persona. Es fácil pensar que usted ha leído correctamente algo. Cuando más de una persona revisa un material se asegura que se hayan encontrado todos los errores. Lea cada oración cuidadosamente, controlando que esté completa y que sea comprensible. A menudo los escritores saben lo que desean decir, pero no les resulta igual a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 continuación, obsérvelo como un paquete general. </a:t>
            </a:r>
            <a:r>
              <a:rPr b="0" lang="en-US" sz="1200" spc="-1" strike="noStrike">
                <a:solidFill>
                  <a:srgbClr val="000000"/>
                </a:solidFill>
                <a:latin typeface="Times New Roman"/>
              </a:rPr>
              <a:t>¿Es fácil de leer? </a:t>
            </a:r>
            <a:r>
              <a:rPr b="0" lang="es-ES" sz="1200" spc="-1" strike="noStrike">
                <a:solidFill>
                  <a:srgbClr val="000000"/>
                </a:solidFill>
                <a:latin typeface="Times New Roman"/>
              </a:rPr>
              <a:t>La mayoría de la gente le da un vistazo a los materiales de lectura; así que escriba los pensamientos clave en negrita para que resalte lo más importante. Elimine frases innecesarias, que no añaden nada valioso o que sean repeti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tas con viñetas ayudan a darle un diseño a la información que sea posible captar de un vistazo. Pueden transformar un párrafo largo, que la mayoría de la gente saltearía al leer, en un material más amistoso para el l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cuidadoso de no utilizar demasiadas ilustraciones, fotos, o clip art.</a:t>
            </a:r>
            <a:r>
              <a:rPr b="0" lang="es-ES" sz="1200" spc="-1" strike="noStrike">
                <a:solidFill>
                  <a:srgbClr val="000000"/>
                </a:solidFill>
                <a:latin typeface="Times New Roman"/>
              </a:rPr>
              <a:t> Pueden distraer, mientras que una buena ilustración realzará el proyecto, demasiadas ilustraciones podrían distraer la atención. Nuestros son atraídos por los espacios en blanco. Pero recuerde, “una lámina vale más que mil palabras”, así que ejerza un uso apropiado de fotos, ilustraciones, o arte cuando podrá realzar el significado del tex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coja tipos de letra claros y fáciles de leer. </a:t>
            </a:r>
            <a:r>
              <a:rPr b="0" lang="es-ES" sz="1200" spc="-1" strike="noStrike">
                <a:solidFill>
                  <a:srgbClr val="000000"/>
                </a:solidFill>
                <a:latin typeface="Times New Roman"/>
              </a:rPr>
              <a:t>Nuestras computadoras de hoy en día, tienen cientos de tipos de letras. Los tipos Arial y Times New Roman son muy populares. Letras como la Arial o Century Gothic, son claros y limpios. Le gusta a la gente demás edad r porque les resulta más fácil de leer. A lla generación X le gusta porque luce limpia y común. Si sus materiales están destinados a adolescentes tal vez podría considerar un tipo como la Teckton. </a:t>
            </a:r>
            <a:r>
              <a:rPr b="0" lang="en-US" sz="1200" spc="-1" strike="noStrike">
                <a:solidFill>
                  <a:srgbClr val="000000"/>
                </a:solidFill>
                <a:latin typeface="Times New Roman"/>
              </a:rPr>
              <a:t>Para jóvenes adultos, pruebe la Mead Bold. Pero no use muchos tipos diferentes de letras. </a:t>
            </a:r>
            <a:r>
              <a:rPr b="0" lang="es-ES" sz="1200" spc="-1" strike="noStrike">
                <a:solidFill>
                  <a:srgbClr val="000000"/>
                </a:solidFill>
                <a:latin typeface="Times New Roman"/>
              </a:rPr>
              <a:t>Manténgase alejado de tipos de letras llamativas, porque pueden parecer lindas, pueden ser buenas para encabezamientos o propagandas pero no para el cuerpo de un trabajo. Distraerán de la información. Cuando se trata de tipos de letra, si preferible que sea abur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s pocas reglas básicas para recordar al mecanografiar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solamente un espacio después de cada signo de puntuación,  incluyendo los puntos. Antes de la llegada de las computadoras, se nos enseñaba a dejar dos espacios al terminar cada oración.  El espaciado es diferente entre las computadoras y máquinas de escribir porque las computadoras utilizan un “tipo proporcional” en lugar del mono tipo de las máquinas de escribir, que siempre utiliza la misma cantidad de espacio no importa dónde es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facilitar la lectura del texto, haga espaciado doble entre cada párrafo. El material lucirá más limpio y no parecerá tan sobrecargado a alguien que está planificando la lectura completa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oque sus mensajes clave en negrita o utilícelos como  títulos en el material. El ochenta por ciento de la gente no leerá el material.  Tan solo le darán un vistazo leyendo lo más resalt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l recurso no está por escrito, pero se encuentra en exposición, limite el número de puntos expuestos. </a:t>
            </a:r>
            <a:r>
              <a:rPr b="0" lang="es-ES" sz="1200" spc="-1" strike="noStrike">
                <a:solidFill>
                  <a:srgbClr val="000000"/>
                </a:solidFill>
                <a:latin typeface="Times New Roman"/>
              </a:rPr>
              <a:t>Escoja cuidadosamente los puntos que exponen lo que usted desea compartir. Demasiadas cosas harán que lo expuesto luzca confuso Recuerde que nuestros ojos son atraídos por los “espacios blancos”, arregle las frases con suficiente espacio alrededor, dando una apariencia limpia y clara, en lugar de una amontonada y confusa. Si es posible, cuente con un número limitado de materiales para repartir sobre una mesa y repóngalos a mediada que se van necesitando, en lugar de apilar todo a la vez.  (Sería bueno revisar la exposición periódicamente, no solo para reponer materiales, sino para recoger basuras que hayan quedado y para mantenerlo atrac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uego de haber revisado el proyecto por última vez, es el momento de imprimirlo. </a:t>
            </a:r>
            <a:r>
              <a:rPr b="0" lang="es-ES" sz="1200" spc="-1" strike="noStrike">
                <a:solidFill>
                  <a:srgbClr val="000000"/>
                </a:solidFill>
                <a:latin typeface="Times New Roman"/>
              </a:rPr>
              <a:t>Si tiene acceso a una fotocopiadora, podrá terminar el proyecto usted misma con facilidad. Sino podrá dejarlo para hacerlo duplicar en un centro de fotocop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su material será compartido con otros, considera la posibilidad de anillarlos para facilitar la entrega. </a:t>
            </a:r>
            <a:r>
              <a:rPr b="0" lang="es-ES" sz="1200" spc="-1" strike="noStrike">
                <a:solidFill>
                  <a:srgbClr val="000000"/>
                </a:solidFill>
                <a:latin typeface="Times New Roman"/>
              </a:rPr>
              <a:t>En caso de que sea un proyecto pequeño podrá engraparl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recurso quedó terminado y listo para ser utilizado. Continúe orando para que Dios lo utilice para sus propósito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contactando a su directora de los Ministerios de la Mujer. </a:t>
            </a:r>
            <a:r>
              <a:rPr b="0" lang="es-ES" sz="1200" spc="-1" strike="noStrike">
                <a:solidFill>
                  <a:srgbClr val="000000"/>
                </a:solidFill>
                <a:latin typeface="Times New Roman"/>
              </a:rPr>
              <a:t> Las líderes locales se contactarán con las directoras de sus asociaciones/misiones; las directoras de las asociaciones/misiones, se contactarán con sus directoras de la unión, y continuará la cadena. El lugar para comenzar es el siguiente nivel de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íderes locales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asociación </a:t>
            </a:r>
            <a:r>
              <a:rPr b="0" lang="en-US" sz="1200" spc="-1" strike="noStrike">
                <a:solidFill>
                  <a:srgbClr val="000000"/>
                </a:solidFill>
                <a:latin typeface="Wingdings"/>
                <a:ea typeface="Wingdings"/>
              </a:rPr>
              <a:t></a:t>
            </a:r>
            <a:r>
              <a:rPr b="0" lang="es-ES" sz="1200" spc="-1" strike="noStrike">
                <a:solidFill>
                  <a:srgbClr val="000000"/>
                </a:solidFill>
                <a:latin typeface="Times New Roman"/>
              </a:rPr>
              <a:t> directora de 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un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div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divis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la 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su directora del MM podrá ayudarla a encontrar los recursos que usted está buscando o la pondrá en contacto con alguien que podrá ayudarla a desarrollar ese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los MM de la Asociación General, los MM de la División Norteamericana, y los MM de la División Sudamericana, todos tienen sitios web que también tienen listas de recursos obte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Departamento de los MM de la Asociación General es </a:t>
            </a:r>
            <a:r>
              <a:rPr b="0" lang="es-ES" sz="1200" spc="-1" strike="noStrike" u="sng">
                <a:solidFill>
                  <a:srgbClr val="000000"/>
                </a:solidFill>
                <a:uFillTx/>
                <a:latin typeface="Times New Roman"/>
              </a:rPr>
              <a:t>http:wm.gc.adventist.org.</a:t>
            </a:r>
            <a:r>
              <a:rPr b="0" lang="es-ES" sz="1200" spc="-1" strike="noStrike">
                <a:solidFill>
                  <a:srgbClr val="000000"/>
                </a:solidFill>
                <a:latin typeface="Times New Roman"/>
              </a:rPr>
              <a:t>  la dirección del sitio web de la DSA es</a:t>
            </a:r>
            <a:r>
              <a:rPr b="0" lang="en-US" sz="1200" spc="-1" strike="noStrike" u="sng">
                <a:solidFill>
                  <a:srgbClr val="000000"/>
                </a:solidFill>
                <a:uFillTx/>
                <a:latin typeface="Times New Roman"/>
              </a:rPr>
              <a:t> </a:t>
            </a:r>
            <a:r>
              <a:rPr b="0" lang="en-US" sz="1200" spc="-1" strike="noStrike">
                <a:solidFill>
                  <a:srgbClr val="000000"/>
                </a:solidFill>
                <a:latin typeface="Times New Roman"/>
              </a:rPr>
              <a:t> </a:t>
            </a:r>
            <a:r>
              <a:rPr b="0" lang="es-ES" sz="1200" spc="-1" strike="noStrike">
                <a:solidFill>
                  <a:srgbClr val="000000"/>
                </a:solidFill>
                <a:latin typeface="Times New Roman"/>
              </a:rPr>
              <a:t>www.adventista.org.br/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vent Source es otro lugar para contactarse.</a:t>
            </a:r>
            <a:r>
              <a:rPr b="0" lang="es-ES" sz="1200" spc="-1" strike="noStrike">
                <a:solidFill>
                  <a:srgbClr val="000000"/>
                </a:solidFill>
                <a:latin typeface="Times New Roman"/>
              </a:rPr>
              <a:t> Es un ministerio que provee recursos para líderes del ministerio. Usted puede navegar en su sitio web, </a:t>
            </a:r>
            <a:r>
              <a:rPr b="0" lang="es-ES" sz="1200" spc="-1" strike="noStrike" u="sng">
                <a:solidFill>
                  <a:srgbClr val="000000"/>
                </a:solidFill>
                <a:uFillTx/>
                <a:latin typeface="Times New Roman"/>
              </a:rPr>
              <a:t>www.adventsource.org,</a:t>
            </a:r>
            <a:r>
              <a:rPr b="0" lang="es-ES" sz="1200" spc="-1" strike="noStrike">
                <a:solidFill>
                  <a:srgbClr val="000000"/>
                </a:solidFill>
                <a:latin typeface="Times New Roman"/>
              </a:rPr>
              <a:t> o contactarlos por teléfono al número, 402-386-2519, por correo a, Advent Source, 5040 Prescott Ave, Lincoln NE 68506, o a través del correo electrónico a </a:t>
            </a:r>
            <a:r>
              <a:rPr b="0" lang="es-ES" sz="1200" spc="-1" strike="noStrike" u="sng">
                <a:solidFill>
                  <a:srgbClr val="000000"/>
                </a:solidFill>
                <a:uFillTx/>
                <a:latin typeface="Times New Roman"/>
              </a:rPr>
              <a:t>service@adventsource.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usLine es un ministerio diseñado para ayudar a líderes en sus ministerios.</a:t>
            </a:r>
            <a:r>
              <a:rPr b="0" lang="es-ES" sz="1200" spc="-1" strike="noStrike">
                <a:solidFill>
                  <a:srgbClr val="000000"/>
                </a:solidFill>
                <a:latin typeface="Times New Roman"/>
              </a:rPr>
              <a:t> Los puede contactar llamando a los siguientes teléfonos, 800-732-7587, o visitando su sitio web,  </a:t>
            </a:r>
            <a:r>
              <a:rPr b="0" lang="es-ES" sz="1200" spc="-1" strike="noStrike" u="sng">
                <a:solidFill>
                  <a:srgbClr val="000000"/>
                </a:solidFill>
                <a:uFillTx/>
                <a:latin typeface="Times New Roman"/>
              </a:rPr>
              <a:t>www.plusline.org</a:t>
            </a:r>
            <a:r>
              <a:rPr b="0" lang="es-ES" sz="1200" spc="-1" strike="noStrike">
                <a:solidFill>
                  <a:srgbClr val="000000"/>
                </a:solidFill>
                <a:latin typeface="Times New Roman"/>
              </a:rPr>
              <a:t>.</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publicaciones de las iglesias donde se ofrecen los materiales de ACES es otro lugar importante para proveer recursos.</a:t>
            </a:r>
            <a:br>
              <a:rPr sz="1200"/>
            </a:br>
            <a:r>
              <a:rPr b="1" lang="es-ES" sz="1200" spc="-1" strike="noStrike">
                <a:solidFill>
                  <a:srgbClr val="000000"/>
                </a:solidFill>
                <a:latin typeface="Times New Roman"/>
              </a:rPr>
              <a:t>Si usted encuentra un recurso que no es justamente lo que estaba buscando pero lo puede adaptar, y necesita publicarlo.  </a:t>
            </a:r>
            <a:r>
              <a:rPr b="0" lang="en-US" sz="1200" spc="-1" strike="noStrike">
                <a:solidFill>
                  <a:srgbClr val="000000"/>
                </a:solidFill>
                <a:latin typeface="Times New Roman"/>
              </a:rPr>
              <a:t>Asegúrese de dárle crédito a la fuente correspondiente. </a:t>
            </a:r>
            <a:r>
              <a:rPr b="0" lang="es-ES" sz="1200" spc="-1" strike="noStrike">
                <a:solidFill>
                  <a:srgbClr val="000000"/>
                </a:solidFill>
                <a:latin typeface="Times New Roman"/>
              </a:rPr>
              <a:t>Incluya una nota diciendo que el material ha sido adaptado del material de otro autor. Cite al autor, título de la fuente, editorial, y la fecha de copy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ES" sz="1200" spc="-1" strike="noStrike">
                <a:solidFill>
                  <a:srgbClr val="000000"/>
                </a:solidFill>
                <a:latin typeface="Times New Roman"/>
              </a:rPr>
              <a:t>Pero si después de buscar todos los recursos posibles, no puede encontrar lo que está buscando, sería bueno considerar la posibilidad de desarrollar el recurso usted misma.</a:t>
            </a:r>
            <a:r>
              <a:rPr b="0" lang="es-ES" sz="1200" spc="-1" strike="noStrike">
                <a:solidFill>
                  <a:srgbClr val="000000"/>
                </a:solidFill>
                <a:latin typeface="Times New Roman"/>
              </a:rPr>
              <a:t> </a:t>
            </a:r>
            <a:r>
              <a:rPr b="0" lang="en-US" sz="1200" spc="-1" strike="noStrike">
                <a:solidFill>
                  <a:srgbClr val="000000"/>
                </a:solidFill>
                <a:latin typeface="Times New Roman"/>
              </a:rPr>
              <a:t>¿Le resulta abrumador? ¿Imposible? No se asuste.  Las líderes de los MM desarrollan recursos hasta cierto grado todo el tiempo. </a:t>
            </a:r>
            <a:r>
              <a:rPr b="0" lang="es-ES" sz="1200" spc="-1" strike="noStrike">
                <a:solidFill>
                  <a:srgbClr val="000000"/>
                </a:solidFill>
                <a:latin typeface="Times New Roman"/>
              </a:rPr>
              <a:t>Cada vez que usted le pide a alguien que provea un seminario específico para un retiro o para su iglesia,  está en esencia, desarrollando un recurso necesario. Puede parecerle una gran tarea, pero es posible atravesar el proceso con facilidad y concluir un proyecto que podrá emplear con éxito en su ministerio; y que podría ser una fuente de ayuda para otras tambié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049480" y="679320"/>
            <a:ext cx="2759040" cy="2070360"/>
          </a:xfrm>
          <a:prstGeom prst="rect">
            <a:avLst/>
          </a:prstGeom>
          <a:ln w="0">
            <a:noFill/>
          </a:ln>
        </p:spPr>
      </p:sp>
      <p:sp>
        <p:nvSpPr>
          <p:cNvPr id="142"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IFICACIÓN DE SU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imer paso para desarrollar su recurso es decidir lo que necesita. Existen un número de detalles que necesita conocer por adelantado que la ayudarán a decidir cuál es el mejor recurso que debiera desarrol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empre comience con oración. </a:t>
            </a:r>
            <a:r>
              <a:rPr b="0" lang="en-US" sz="1200" spc="-1" strike="noStrike">
                <a:solidFill>
                  <a:srgbClr val="000000"/>
                </a:solidFill>
                <a:latin typeface="Times New Roman"/>
              </a:rPr>
              <a:t> Pídale a Dios que lo guíe. </a:t>
            </a:r>
            <a:r>
              <a:rPr b="0" lang="es-ES" sz="1200" spc="-1" strike="noStrike">
                <a:solidFill>
                  <a:srgbClr val="000000"/>
                </a:solidFill>
                <a:latin typeface="Times New Roman"/>
              </a:rPr>
              <a:t>Ore para que le conceda sabiduría, discernimiento para evaluar a la audiencia, fuerza para la tarea, y una visión de lo que él desea para este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su planificación escribiendo una breve declaración de “misión”. </a:t>
            </a:r>
            <a:r>
              <a:rPr b="0" lang="es-ES" sz="1200" spc="-1" strike="noStrike">
                <a:solidFill>
                  <a:srgbClr val="000000"/>
                </a:solidFill>
                <a:latin typeface="Times New Roman"/>
              </a:rPr>
              <a:t> H</a:t>
            </a:r>
            <a:r>
              <a:rPr b="0" lang="en-US" sz="1200" spc="-1" strike="noStrike">
                <a:solidFill>
                  <a:srgbClr val="000000"/>
                </a:solidFill>
                <a:latin typeface="Times New Roman"/>
              </a:rPr>
              <a:t>ágase preguntas como las sigu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el propósito/blanco de este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qué es necesario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quiere que la gente se lleve de é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se propon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elemento importante para mantener el recurso encaminado. Cuanto más definido tenga el propósito, más concisos pueden ser los materiales. Su declaración de misión debiera encajar dentro de un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idere a quién va dirigido el recurso y qué uso harán del mismo </a:t>
            </a:r>
            <a:r>
              <a:rPr b="0" lang="es-ES" sz="1200" spc="-1" strike="noStrike">
                <a:solidFill>
                  <a:srgbClr val="000000"/>
                </a:solidFill>
                <a:latin typeface="Times New Roman"/>
              </a:rPr>
              <a:t>. Algunas preguntas que debieran considerarse son las sigu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desarrollando este recurso para utilizarlo como entrenamiento o como un seminario para el cual invitará a los particip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stirá en materiales que enviará para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las necesidades de los benefici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expectativas tendrán 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los hará desear participar en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ómo se beneficiará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qué saldrán de este semin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  familiarizados están con el tema que estará compar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observar a la gente; quiénes son, que tipo de vida viven, qué están buscando, etc., para determinar cómo desarrollar mejor un recurso. Las vidas de las personas están tan ocupadas, hoy en día. Están organizando su tiempo de acuerdo a sus prioridades y beneficios. Tendrán que convencerse del beneficio que recibirán de su programa antes de acceder a utiliz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planificar su recurso, es importante determinar cómo se utilizará el material. ¿Será enviado para que otros lo utilicen? Por ejemplo: ¿Será un programa de adoración para que lo utilicen los líderes locales? Si el material será utilizado por otros; necesitará una explicación clara para que el que lo quiera aplicar pueda hacerlo por sí solo. Considere quiénes serán los destinatarios del material; su cultura, necesidades, intereses, diversidad,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xcelente de “hablar” a través de su recurso es hacer un “torbellino de ideas” con un grupo de personas.</a:t>
            </a:r>
            <a:r>
              <a:rPr b="0" lang="es-ES" sz="1200" spc="-1" strike="noStrike">
                <a:solidFill>
                  <a:srgbClr val="000000"/>
                </a:solidFill>
                <a:latin typeface="Times New Roman"/>
              </a:rPr>
              <a:t> Podría hacerlo con su comisión, si está trabajando con una,  o elegir  un grupo semejante al que estará dirigido.  Averigüe sus opiniones e ideas como también sus necesidades y qué esperan del proyecto. Pregunte a otros líderes lo que han hecho, o sus opiniones al respecto. Al reunir una variedad de ideas le ayudará a que su recurso resulte más efectivo. Muchas veces otros tendrán ideas  que a usted no se le habían ocurrido. </a:t>
            </a:r>
            <a:r>
              <a:rPr b="0" lang="en-US" sz="1200" spc="-1" strike="noStrike">
                <a:solidFill>
                  <a:srgbClr val="000000"/>
                </a:solidFill>
                <a:latin typeface="Times New Roman"/>
              </a:rPr>
              <a:t>¡n “torbellino de ideas” puede ser diver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observar el recurso desde el punto de vista de aquellos a quienes estará ministrando o del de aquellos que lo utilizarán para ministrar, tendrá una mejor comprensión del contenido que necesitará desarrollar, cuán extenso será,  y qué materiales adicionales habrá que inclui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erde que usted desea proveer un recurso que sea conciso y de ayuda sin llegar a ser sobre abundante. </a:t>
            </a:r>
            <a:r>
              <a:rPr b="0" lang="es-ES" sz="1200" spc="-1" strike="noStrike">
                <a:solidFill>
                  <a:srgbClr val="000000"/>
                </a:solidFill>
                <a:latin typeface="Times New Roman"/>
              </a:rPr>
              <a:t>Pero también desea asegurarse de que el material tiene todo lo necesario para impactar vidas. 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á el recurso utilizado en forma escrita solamente, presentado como un seminario, o ambas co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un seminario, ¿Estarán todos asistiendo al seminario, o habrá otros que también recibirá los materiales pero no les será posible asistir a las clases? Si es así, el sílabo necesitará ser más compl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qué longitud, o cuán grande será el recurso? Si es escrito, de cuántas páginas? ¿Desea preparar materiales para desarrollar un taller o materiales para repartir? Si es una exposición oral, ¿Con cuánto tiempo contará el orado? ¿consistirá en una o más presentaciones? ¿Necesitarán desarrollar actividades d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la presentación sea más efectiva, ¿Será necesario preparar transparencias o diapositivas para retro proyector o presentación de power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dicar tiempo a considerar sus metas, propósitos, y el público al que estará ministrando, le ayudará a desarrollar un recurso conciso y necesario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u recurso será utilizado en otra cultura, recuerde no emplear palabras de la jerga común que no podrá ser bien traducido.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79320"/>
            <a:ext cx="4533840" cy="3400560"/>
          </a:xfrm>
          <a:prstGeom prst="rect">
            <a:avLst/>
          </a:prstGeom>
          <a:ln w="0">
            <a:noFill/>
          </a:ln>
        </p:spPr>
      </p:sp>
      <p:sp>
        <p:nvSpPr>
          <p:cNvPr id="14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RECUR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M son tan variados como aquellos que participan en el mismo. Los recursos necesarios pueden variar tanto como los beneficiados. Presentamos a continuación algunas ideas de recursos que podría desarrollar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m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s mision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ses de arte culi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ias de sal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de salud de la muj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relacionados con el es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para pad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enriquecimiento matrimo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gimn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as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namiento en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e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s en el di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adores de libros, pensamientos inspiradores, etc. Para utilizar como materiales para repart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ciones teatrales, sketc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 lista de posibles 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de meditación que se pueden emplear en progra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sto donde exponer materiales en reuniones espe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ción de cómo comenz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s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 cantos lemas para ev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APA DE INVESTIGACIÓN</a:t>
            </a:r>
            <a:r>
              <a:rPr b="0" lang="en-US" sz="1200" spc="-1" strike="noStrike">
                <a:solidFill>
                  <a:srgbClr val="000000"/>
                </a:solidFill>
                <a:latin typeface="Times New Roman"/>
              </a:rPr>
              <a:t>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la idea bosquejada con su objetivo, la audiencia a la cual se dirige, cómo podrá suplir mejor sus necesidades y los parámetros de la longitud y el contenido, es el momento de comenzar a investi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net ha abierto un tremendo mundo de información.</a:t>
            </a:r>
            <a:r>
              <a:rPr b="0" lang="es-ES" sz="1200" spc="-1" strike="noStrike">
                <a:solidFill>
                  <a:srgbClr val="000000"/>
                </a:solidFill>
                <a:latin typeface="Times New Roman"/>
              </a:rPr>
              <a:t> Si no tiene una computadora propia, a menudo se pueden utilizar las de las bibliotecas y universidades locales. Necesitará escribir el tema en el buscador de Internet ye instantáneamente estará conectada con la información de una variedad de fuentes. Internet facilita la búsqueda de información y se puede copiar o imprimir solamente lo que desee u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libros son otra fuente de información importante.</a:t>
            </a:r>
            <a:r>
              <a:rPr b="0" lang="es-ES" sz="1200" spc="-1" strike="noStrike">
                <a:solidFill>
                  <a:srgbClr val="000000"/>
                </a:solidFill>
                <a:latin typeface="Times New Roman"/>
              </a:rPr>
              <a:t> Muchos oradores reúnen todo el material que necesitan, obteniéndolo de los libros que han leído y que los ha impactado.  Analizan el libro y terminan con un bosquejo que contiene los elementos importantes  para incluir y construir desd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libros en sí, son una gran fuente para la  investigación. Busque en su biblioteca local. A menudo, cuentan con un archivo de búsqueda en la computadora, o pueden pedir asistencia al bibliotecario para encontrar libros sobre el tema que están buscando. Retiren dos o tres;  demasiados libros podrían confundirla, y comiencen desde allí. Lea los libros, tomando notas sobre la información importante que le gustaría utilizar. Asegures de que copia las citas completas, incluyendo el título, autor del libro, número de página, editorial, y la fecha de publ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gente constituye un gran recurso también. </a:t>
            </a:r>
            <a:r>
              <a:rPr b="0" lang="es-ES" sz="1200" spc="-1" strike="noStrike">
                <a:solidFill>
                  <a:srgbClr val="000000"/>
                </a:solidFill>
                <a:latin typeface="Times New Roman"/>
              </a:rPr>
              <a:t>Haga una cita para una entrevista. Hable con gente que está familiarizada con el tema que está investigando. Si está armando una feria de salud, y está buscando imateriales para un puesto de información en diferentes aspectos de la salud importantes para la mujer de hoy, contacte su médico local o el hospital. Haga preguntas. Contacte organizaciones que pueden proveerle la información necesaria.  Para una feria  o charla de salud, podría ser interesante contactar la Asociación de enfermedades cardíacas o la Liga contra el cáncer. Si está investigando sobre un punto en particular como ser la depresión; trate de encontrar psicólogos o consejeros cristianos. Para un seminario en liderazgo, contacte las líderes del MM y también profesionales en su comunidad que sean reconocidos por su liderazgo. </a:t>
            </a:r>
            <a:r>
              <a:rPr b="0" lang="en-US" sz="1200" spc="-1" strike="noStrike">
                <a:solidFill>
                  <a:srgbClr val="000000"/>
                </a:solidFill>
                <a:latin typeface="Times New Roman"/>
              </a:rPr>
              <a:t>Pregúnteles. </a:t>
            </a:r>
            <a:r>
              <a:rPr b="0" lang="es-ES" sz="1200" spc="-1" strike="noStrike">
                <a:solidFill>
                  <a:srgbClr val="000000"/>
                </a:solidFill>
                <a:latin typeface="Times New Roman"/>
              </a:rPr>
              <a:t>Para un seminario sobre liderazgo, podría ser interesante incluir una presentación sobre la apariencia profesional. Podría contactar a un consultor en imagen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900080" y="679320"/>
            <a:ext cx="3059280" cy="2293920"/>
          </a:xfrm>
          <a:prstGeom prst="rect">
            <a:avLst/>
          </a:prstGeom>
          <a:ln w="0">
            <a:noFill/>
          </a:ln>
        </p:spPr>
      </p:sp>
      <p:sp>
        <p:nvSpPr>
          <p:cNvPr id="148"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LEGAR: CÓMO ENCONTRAR REDACTORES E INVESTIGADORE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utilizará a la gente no solo como fuente de información, sino también ¡Para delegar el proyecto! Esto es particularmente útil si se encuentra demasiado ocupada con un calendario completo. Delegar el proyecto a alguna otra persona con más tiempo y experiencia, es una manera eficiente de desarrollar juntos un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líderes del MM, ya estamos recurriendo a esto. Al planear eventos y retiros, servicios de adoración o seminarios, delegamos mucha de la responsabilidad. Podemos pedir a otras que se encarguen de la decoración, música, alimento, y promoción del evento. Todos estos son tipos de recursos necesarios para el éxito de un evento. Muchas veces podremos pedir a gente que planifique un seminario para nosotros con un tema específico como ser: pintura, salud, matrimonio, crecimiento espiritual, oración periodismo, etc. Estas personas estarán desarrollando recursos para nosotras, haciendo la investigación y /o redactando para nosot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Qué delegar, a quién?”</a:t>
            </a:r>
            <a:r>
              <a:rPr b="0" lang="es-ES" sz="1200" spc="-1" strike="noStrike">
                <a:solidFill>
                  <a:srgbClr val="000000"/>
                </a:solidFill>
                <a:latin typeface="Times New Roman"/>
              </a:rPr>
              <a:t> ¿Cómo encontrar a las personas adecu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nzamos con oración. </a:t>
            </a:r>
            <a:r>
              <a:rPr b="0" lang="en-US" sz="1200" spc="-1" strike="noStrike">
                <a:solidFill>
                  <a:srgbClr val="000000"/>
                </a:solidFill>
                <a:latin typeface="Times New Roman"/>
              </a:rPr>
              <a:t>Le pedimos a Dios que nos guíe a la persona correcta. Entonces pedimos ideas a otras.  </a:t>
            </a:r>
            <a:r>
              <a:rPr b="0" lang="es-ES" sz="1200" spc="-1" strike="noStrike">
                <a:solidFill>
                  <a:srgbClr val="000000"/>
                </a:solidFill>
                <a:latin typeface="Times New Roman"/>
              </a:rPr>
              <a:t>Las líderes locales pueden  pedirle a su pastor y/o asociación o misión nombres de personas en su área que puedan tener experiencia en el tema. Las directoras de Asociaciones o misiones pueden averiguar con sus líderes de uniones como también con los pastores o administradores de sus asociaciones. Muchas veces podrán referirnos a profesionales con habilidades y conocimiento para hacer una gran tarea. Lo mismo puede darse con líderes de la unión y div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universidad adventista, un colegio o academia en su área es otra posibilidad.</a:t>
            </a:r>
            <a:r>
              <a:rPr b="0" lang="es-ES" sz="1200" spc="-1" strike="noStrike">
                <a:solidFill>
                  <a:srgbClr val="000000"/>
                </a:solidFill>
                <a:latin typeface="Times New Roman"/>
              </a:rPr>
              <a:t> Los profesores y alumnos podrían desear participar en proyectos para los cuales tengan materiales ya prepar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s casas editoras o editores de publicaciones podrían contactarlos con autores que escribieron sobre un tema que esté buscando</a:t>
            </a:r>
            <a:r>
              <a:rPr b="0" lang="es-ES" sz="1200" spc="-1" strike="noStrike">
                <a:solidFill>
                  <a:srgbClr val="000000"/>
                </a:solidFill>
                <a:latin typeface="Times New Roman"/>
              </a:rPr>
              <a:t>. Podría ser que usted ya esté familiarizada con los nombres de autores cuyas obras hayan apreciado. El editor de la publicación lo podrá poner en contacto con ellos tambié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el trabajo en red con las demás líderes de los MM de su nivel. </a:t>
            </a:r>
            <a:r>
              <a:rPr b="0" lang="en-US" sz="1200" spc="-1" strike="noStrike">
                <a:solidFill>
                  <a:srgbClr val="000000"/>
                </a:solidFill>
                <a:latin typeface="Times New Roman"/>
              </a:rPr>
              <a:t>Póngase en contacto con iglesias y asociaciones vecinas.  </a:t>
            </a:r>
            <a:r>
              <a:rPr b="0" lang="es-ES" sz="1200" spc="-1" strike="noStrike">
                <a:solidFill>
                  <a:srgbClr val="000000"/>
                </a:solidFill>
                <a:latin typeface="Times New Roman"/>
              </a:rPr>
              <a:t>Tal vez cuenten con el material que está buscando o sepan de alguien que puede escribir materiales para satisfacer su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recurso que muchas líderes de los MM, especialmente las de nivel local, a menudo solicitan es una lista de oradores. El trabajo en red con otras líderes locales y directoras de asociaciones puede darnos nombres de muchos oradores que son nuevos para ministrar y estará deseosos de venir y presentar un seminario o retiro para su iglesia o asociación. Cuando con oración, considera la posibilidad de un orador, hable a otros que ya lo han escuchado y pidan una grabación, si es posible, para escucharla y evaluarla  personalmente.  Guarde una lista de buenos oradores que ya conozca, los títulos de sus presentaciones, y sus números telefónicos, así podrá compartir esta lista con otros que estén buscando a algu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ubicada a la persona, pásenle tanta información como sea posible de lo que está necesitando. Si le provee información escrita, asegúrese de incluir lo sigu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que desean para la presen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a:t>
            </a:r>
            <a:r>
              <a:rPr b="0" lang="en-US" sz="1200" spc="-1" strike="noStrike">
                <a:solidFill>
                  <a:srgbClr val="000000"/>
                </a:solidFill>
                <a:latin typeface="Times New Roman"/>
              </a:rPr>
              <a:t>l propósito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lquier cosa que desee añadir, como ser materiales para repartir o para retro proy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tarán presentando un seminario tipo charla, asegúrese de que se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 cuánto tiempo cuen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oximadamente cuánte gente estará asis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estilo de presentación están buscando; interactiva, o estilo ex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usted espera que se repartan materiales o un sílab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zca una fecha de vencimiento para la preparación de materiales que sea razonable.</a:t>
            </a:r>
            <a:r>
              <a:rPr b="0" lang="es-ES" sz="1200" spc="-1" strike="noStrike">
                <a:solidFill>
                  <a:srgbClr val="000000"/>
                </a:solidFill>
                <a:latin typeface="Times New Roman"/>
              </a:rPr>
              <a:t> Considere la posibilidad de establecer un vencimiento adelantado a la fecha en que realmente lo necesita, porque la gente generalmente no está lista cuando llega la fecha en que realmente es necesario el material. Esto le permitirá tener un almohadón de tiempo en caso de que el proyecto se  retarde. Asegúrese de que la persona trabajando en el proyecto sepa qué es lo que se espera y para cuando. Decida la forma más sencilla de producir el recurso una vez que cuenta con él. Dígale a la persona que se encuentra trabajando en el proyecto cómo desea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solamente una copia en pa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el archivo en un disqu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berían enviar el material por correo electrón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 necesita formateado para un programa especial de computado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a los materiales no solamente en un disquete o por correo electrónico, sino también una copia en papel. </a:t>
            </a:r>
            <a:r>
              <a:rPr b="0" lang="es-ES" sz="1200" spc="-1" strike="noStrike">
                <a:solidFill>
                  <a:srgbClr val="000000"/>
                </a:solidFill>
                <a:latin typeface="Times New Roman"/>
              </a:rPr>
              <a:t>Si lo recibe de diversas formas, estará segura de poder leer el material por lo menos en un formato si el resto no funcion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0451E-50B4-41AB-8EA9-325FD814E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68642-1462-4231-AAE5-F44253E6A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B9430-2131-469D-B76C-8D95675E1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11098-26C5-4865-819E-0B2D3AD70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AF922-8557-42B8-B7AE-FFF2DCD78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96FBD-6988-4190-95E6-477082992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5D624-8509-48E7-9E70-74DEC014F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63855-CF17-43B7-A63E-759CE03EF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76A2F-AE38-464C-B501-D50ABFDCB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D53B9-B94E-4A48-A138-589EAF49C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C422E-4318-413D-9E08-950371A35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BC89F-0D68-4D4F-84E9-86DB5D300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4AA01-3A54-4ABD-8092-9807A2A11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A6CF4-B80A-4F1C-9E07-05F66D7D0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A4EDE-3618-4F41-85DA-2557C8FF7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AABE2-3944-4020-AFE1-E758CFEF7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A8879-363D-418D-AA8F-69275410D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DB599-7B7A-4073-B443-465A65A30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D7C18-30B2-4ED0-8096-8630A17C2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49FAC-7FE6-409B-9A1A-E175410FA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DE414-89C2-4C6B-8D15-A20494484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C261-5BB0-4B66-B0D0-BD34329CC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633EE-A43A-43A6-BBCE-452816E42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70FC5-A303-4460-B326-AA309210C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084A-14B9-4BA3-AFD1-43B1FB46E360}"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0745-9F77-405D-96FD-44AD2B9E4CE0}"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057040" y="4190760"/>
            <a:ext cx="5257800" cy="205740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Po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80"/>
                </a:solidFill>
                <a:latin typeface="Times New Roman"/>
              </a:rPr>
              <a:t>Tamyra Horst</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rso de Certificación en Liderazgo</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Nivel 2</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Ministerios de la Muje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Asociación General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057400" y="533520"/>
            <a:ext cx="678168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Redacción y corrección</a:t>
            </a:r>
            <a:endParaRPr b="0" lang="en-US" sz="4000" spc="-1" strike="noStrike">
              <a:solidFill>
                <a:srgbClr val="dde3dc"/>
              </a:solidFill>
              <a:latin typeface="Times New Roman"/>
            </a:endParaRPr>
          </a:p>
        </p:txBody>
      </p:sp>
      <p:sp>
        <p:nvSpPr>
          <p:cNvPr id="114"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a:t>
            </a:r>
            <a:r>
              <a:rPr b="0" lang="es-ES" sz="3200" spc="-1" strike="noStrike">
                <a:solidFill>
                  <a:srgbClr val="2c223a"/>
                </a:solidFill>
                <a:latin typeface="Arial Rounded MT Bold"/>
              </a:rPr>
              <a:t> </a:t>
            </a:r>
            <a:r>
              <a:rPr b="1" lang="es-ES" sz="3200" spc="-1" strike="noStrike">
                <a:solidFill>
                  <a:srgbClr val="2c223a"/>
                </a:solidFill>
                <a:latin typeface="Arial Rounded MT Bold"/>
              </a:rPr>
              <a:t>Introducción</a:t>
            </a:r>
            <a:r>
              <a:rPr b="0" lang="es-ES" sz="3200" spc="-1" strike="noStrike">
                <a:solidFill>
                  <a:srgbClr val="2c223a"/>
                </a:solidFill>
                <a:latin typeface="Arial Rounded MT Bold"/>
              </a:rPr>
              <a:t> – un resumen del tema del recurs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uerp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onclusión</a:t>
            </a:r>
            <a:r>
              <a:rPr b="0" lang="es-ES" sz="3200" spc="-1" strike="noStrike">
                <a:solidFill>
                  <a:srgbClr val="2c223a"/>
                </a:solidFill>
                <a:latin typeface="Arial Rounded MT Bold"/>
              </a:rPr>
              <a:t> – consistirá en un resumen de lo que ha comentado, que describa claramente los principales puntos.</a:t>
            </a:r>
            <a:endParaRPr b="0" lang="en-US" sz="3200" spc="-1" strike="noStrike">
              <a:solidFill>
                <a:srgbClr val="dde3dc"/>
              </a:solidFill>
              <a:latin typeface="Times New Roman"/>
            </a:endParaRPr>
          </a:p>
        </p:txBody>
      </p:sp>
      <p:sp>
        <p:nvSpPr>
          <p:cNvPr id="115" name=""/>
          <p:cNvSpPr/>
          <p:nvPr/>
        </p:nvSpPr>
        <p:spPr>
          <a:xfrm>
            <a:off x="1600200" y="152388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3" presetSubtype="16">
                                  <p:stCondLst>
                                    <p:cond delay="0"/>
                                  </p:stCondLst>
                                  <p:childTnLst>
                                    <p:set>
                                      <p:cBhvr>
                                        <p:cTn id="54" dur="1" fill="hold">
                                          <p:stCondLst>
                                            <p:cond delay="0"/>
                                          </p:stCondLst>
                                        </p:cTn>
                                        <p:tgtEl>
                                          <p:spTgt spid="114">
                                            <p:txEl>
                                              <p:pRg st="0" end="0"/>
                                            </p:txEl>
                                          </p:spTgt>
                                        </p:tgtEl>
                                        <p:attrNameLst>
                                          <p:attrName>style.visibility</p:attrName>
                                        </p:attrNameLst>
                                      </p:cBhvr>
                                      <p:to>
                                        <p:strVal val="visible"/>
                                      </p:to>
                                    </p:set>
                                    <p:animEffect filter="plus(in)" transition="in">
                                      <p:cBhvr additive="repl">
                                        <p:cTn id="55" dur="1000"/>
                                        <p:tgtEl>
                                          <p:spTgt spid="11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3" presetSubtype="16">
                                  <p:stCondLst>
                                    <p:cond delay="0"/>
                                  </p:stCondLst>
                                  <p:childTnLst>
                                    <p:set>
                                      <p:cBhvr>
                                        <p:cTn id="59" dur="1" fill="hold">
                                          <p:stCondLst>
                                            <p:cond delay="0"/>
                                          </p:stCondLst>
                                        </p:cTn>
                                        <p:tgtEl>
                                          <p:spTgt spid="114">
                                            <p:txEl>
                                              <p:pRg st="2" end="2"/>
                                            </p:txEl>
                                          </p:spTgt>
                                        </p:tgtEl>
                                        <p:attrNameLst>
                                          <p:attrName>style.visibility</p:attrName>
                                        </p:attrNameLst>
                                      </p:cBhvr>
                                      <p:to>
                                        <p:strVal val="visible"/>
                                      </p:to>
                                    </p:set>
                                    <p:animEffect filter="plus(in)" transition="in">
                                      <p:cBhvr additive="repl">
                                        <p:cTn id="60" dur="1000"/>
                                        <p:tgtEl>
                                          <p:spTgt spid="114">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3" presetSubtype="16">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plus(in)" transition="in">
                                      <p:cBhvr additive="repl">
                                        <p:cTn id="65" dur="1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057400" y="457200"/>
            <a:ext cx="678168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 </a:t>
            </a:r>
            <a:endParaRPr b="0" lang="en-US" sz="3200" spc="-1" strike="noStrike">
              <a:solidFill>
                <a:srgbClr val="dde3dc"/>
              </a:solidFill>
              <a:latin typeface="Times New Roman"/>
            </a:endParaRPr>
          </a:p>
        </p:txBody>
      </p:sp>
      <p:sp>
        <p:nvSpPr>
          <p:cNvPr id="117" name=""/>
          <p:cNvSpPr/>
          <p:nvPr/>
        </p:nvSpPr>
        <p:spPr>
          <a:xfrm>
            <a:off x="609480" y="2590920"/>
            <a:ext cx="807732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Torbellino y desarrollo de idea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vestigación y redacción de los materiale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dición de los materiales</a:t>
            </a:r>
            <a:endParaRPr b="0" lang="en-US" sz="3200" spc="-1" strike="noStrike">
              <a:solidFill>
                <a:srgbClr val="dde3dc"/>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sp>
        <p:nvSpPr>
          <p:cNvPr id="118" name=""/>
          <p:cNvSpPr/>
          <p:nvPr/>
        </p:nvSpPr>
        <p:spPr>
          <a:xfrm>
            <a:off x="1295280" y="182880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3" presetSubtype="16">
                                  <p:stCondLst>
                                    <p:cond delay="0"/>
                                  </p:stCondLst>
                                  <p:childTnLst>
                                    <p:set>
                                      <p:cBhvr>
                                        <p:cTn id="71" dur="1" fill="hold">
                                          <p:stCondLst>
                                            <p:cond delay="0"/>
                                          </p:stCondLst>
                                        </p:cTn>
                                        <p:tgtEl>
                                          <p:spTgt spid="117">
                                            <p:txEl>
                                              <p:pRg st="0" end="0"/>
                                            </p:txEl>
                                          </p:spTgt>
                                        </p:tgtEl>
                                        <p:attrNameLst>
                                          <p:attrName>style.visibility</p:attrName>
                                        </p:attrNameLst>
                                      </p:cBhvr>
                                      <p:to>
                                        <p:strVal val="visible"/>
                                      </p:to>
                                    </p:set>
                                    <p:animEffect filter="plus(in)" transition="in">
                                      <p:cBhvr additive="repl">
                                        <p:cTn id="72" dur="1000"/>
                                        <p:tgtEl>
                                          <p:spTgt spid="117">
                                            <p:txEl>
                                              <p:pRg st="0" end="0"/>
                                            </p:txEl>
                                          </p:spTgt>
                                        </p:tgtEl>
                                      </p:cBhvr>
                                    </p:animEffect>
                                  </p:childTnLst>
                                </p:cTn>
                              </p:par>
                              <p:par>
                                <p:cTn id="73" nodeType="withEffect" fill="hold" presetClass="entr" presetID="13" presetSubtype="16">
                                  <p:stCondLst>
                                    <p:cond delay="0"/>
                                  </p:stCondLst>
                                  <p:childTnLst>
                                    <p:set>
                                      <p:cBhvr>
                                        <p:cTn id="74" dur="1" fill="hold">
                                          <p:stCondLst>
                                            <p:cond delay="0"/>
                                          </p:stCondLst>
                                        </p:cTn>
                                        <p:tgtEl>
                                          <p:spTgt spid="117">
                                            <p:txEl>
                                              <p:pRg st="2" end="2"/>
                                            </p:txEl>
                                          </p:spTgt>
                                        </p:tgtEl>
                                        <p:attrNameLst>
                                          <p:attrName>style.visibility</p:attrName>
                                        </p:attrNameLst>
                                      </p:cBhvr>
                                      <p:to>
                                        <p:strVal val="visible"/>
                                      </p:to>
                                    </p:set>
                                    <p:animEffect filter="plus(in)" transition="in">
                                      <p:cBhvr additive="repl">
                                        <p:cTn id="75" dur="1000"/>
                                        <p:tgtEl>
                                          <p:spTgt spid="117">
                                            <p:txEl>
                                              <p:pRg st="2" end="2"/>
                                            </p:txEl>
                                          </p:spTgt>
                                        </p:tgtEl>
                                      </p:cBhvr>
                                    </p:animEffect>
                                  </p:childTnLst>
                                </p:cTn>
                              </p:par>
                              <p:par>
                                <p:cTn id="76" nodeType="withEffect" fill="hold" presetClass="entr" presetID="13" presetSubtype="16">
                                  <p:stCondLst>
                                    <p:cond delay="0"/>
                                  </p:stCondLst>
                                  <p:childTnLst>
                                    <p:set>
                                      <p:cBhvr>
                                        <p:cTn id="77" dur="1" fill="hold">
                                          <p:stCondLst>
                                            <p:cond delay="0"/>
                                          </p:stCondLst>
                                        </p:cTn>
                                        <p:tgtEl>
                                          <p:spTgt spid="117">
                                            <p:txEl>
                                              <p:pRg st="4" end="4"/>
                                            </p:txEl>
                                          </p:spTgt>
                                        </p:tgtEl>
                                        <p:attrNameLst>
                                          <p:attrName>style.visibility</p:attrName>
                                        </p:attrNameLst>
                                      </p:cBhvr>
                                      <p:to>
                                        <p:strVal val="visible"/>
                                      </p:to>
                                    </p:set>
                                    <p:animEffect filter="plus(in)" transition="in">
                                      <p:cBhvr additive="repl">
                                        <p:cTn id="78" dur="10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0" y="457200"/>
            <a:ext cx="64771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a:t>
            </a:r>
            <a:endParaRPr b="1" lang="en-US" sz="3200" spc="-1" strike="noStrike">
              <a:solidFill>
                <a:srgbClr val="ffffff"/>
              </a:solidFill>
              <a:latin typeface="Trebuchet MS"/>
            </a:endParaRPr>
          </a:p>
        </p:txBody>
      </p:sp>
      <p:sp>
        <p:nvSpPr>
          <p:cNvPr id="120" name="PlaceHolder 2"/>
          <p:cNvSpPr>
            <a:spLocks noGrp="1"/>
          </p:cNvSpPr>
          <p:nvPr>
            <p:ph/>
          </p:nvPr>
        </p:nvSpPr>
        <p:spPr>
          <a:xfrm>
            <a:off x="914040" y="2362320"/>
            <a:ext cx="7467480" cy="4419360"/>
          </a:xfrm>
          <a:prstGeom prst="rect">
            <a:avLst/>
          </a:prstGeom>
          <a:noFill/>
          <a:ln w="0">
            <a:noFill/>
          </a:ln>
        </p:spPr>
        <p:txBody>
          <a:bodyPr lIns="90000" rIns="90000" tIns="46800" bIns="46800" anchor="t">
            <a:normAutofit/>
          </a:bodyPr>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ublicación/producción del recurso</a:t>
            </a:r>
            <a:endParaRPr b="0" lang="en-US" sz="36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Fecha en que utilizará o distribuirá el material </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1" name=""/>
          <p:cNvSpPr/>
          <p:nvPr/>
        </p:nvSpPr>
        <p:spPr>
          <a:xfrm>
            <a:off x="1295280" y="1905120"/>
            <a:ext cx="72392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828800" y="457200"/>
            <a:ext cx="7086600" cy="10666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0" lang="en-US" sz="3600" spc="-1" strike="noStrike">
              <a:solidFill>
                <a:srgbClr val="dde3dc"/>
              </a:solidFill>
              <a:latin typeface="Times New Roman"/>
            </a:endParaRPr>
          </a:p>
        </p:txBody>
      </p:sp>
      <p:sp>
        <p:nvSpPr>
          <p:cNvPr id="123" name=""/>
          <p:cNvSpPr/>
          <p:nvPr/>
        </p:nvSpPr>
        <p:spPr>
          <a:xfrm>
            <a:off x="457200" y="182880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Rounded MT Bold"/>
              </a:rPr>
              <a:t>¿Cómo ser organizada?</a:t>
            </a:r>
            <a:endParaRPr b="0" lang="en-US" sz="3000" spc="-1" strike="noStrike">
              <a:solidFill>
                <a:srgbClr val="dde3d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Utilice un calendario</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Asigne un color de código para cada proyecto </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Mantenga la información en una carpeta</a:t>
            </a:r>
            <a:endParaRPr b="0" lang="en-US" sz="2800" spc="-1" strike="noStrike">
              <a:solidFill>
                <a:srgbClr val="dde3dc"/>
              </a:solidFill>
              <a:latin typeface="Times New Roman"/>
            </a:endParaRPr>
          </a:p>
        </p:txBody>
      </p:sp>
      <p:sp>
        <p:nvSpPr>
          <p:cNvPr id="124" name=""/>
          <p:cNvSpPr/>
          <p:nvPr/>
        </p:nvSpPr>
        <p:spPr>
          <a:xfrm>
            <a:off x="1295280" y="167652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85" dur="1000"/>
                                        <p:tgtEl>
                                          <p:spTgt spid="123">
                                            <p:txEl>
                                              <p:pRg st="2" end="2"/>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88" dur="1000"/>
                                        <p:tgtEl>
                                          <p:spTgt spid="123">
                                            <p:txEl>
                                              <p:pRg st="3" end="3"/>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91"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3360" y="609480"/>
            <a:ext cx="66294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1" lang="en-US" sz="3600" spc="-1" strike="noStrike">
              <a:solidFill>
                <a:srgbClr val="ffffff"/>
              </a:solidFill>
              <a:latin typeface="Trebuchet MS"/>
            </a:endParaRPr>
          </a:p>
        </p:txBody>
      </p:sp>
      <p:sp>
        <p:nvSpPr>
          <p:cNvPr id="126" name="PlaceHolder 2"/>
          <p:cNvSpPr>
            <a:spLocks noGrp="1"/>
          </p:cNvSpPr>
          <p:nvPr>
            <p:ph/>
          </p:nvPr>
        </p:nvSpPr>
        <p:spPr>
          <a:xfrm>
            <a:off x="838080" y="2438280"/>
            <a:ext cx="73152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Guarde los nombres y teléfonos de las person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serve tiempo cada día para evaluar.</a:t>
            </a:r>
            <a:endParaRPr b="0" lang="en-US" sz="3200" spc="-1" strike="noStrike">
              <a:solidFill>
                <a:srgbClr val="ffffff"/>
              </a:solidFill>
              <a:latin typeface="Trebuchet MS"/>
            </a:endParaRPr>
          </a:p>
        </p:txBody>
      </p:sp>
      <p:sp>
        <p:nvSpPr>
          <p:cNvPr id="127" name=""/>
          <p:cNvSpPr/>
          <p:nvPr/>
        </p:nvSpPr>
        <p:spPr>
          <a:xfrm>
            <a:off x="1447920" y="1828800"/>
            <a:ext cx="71625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120760" y="914400"/>
            <a:ext cx="687096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No olvide los materiales adicionales!</a:t>
            </a:r>
            <a:r>
              <a:rPr b="1" lang="es-ES" sz="4400" spc="-1" strike="noStrike">
                <a:solidFill>
                  <a:srgbClr val="333399"/>
                </a:solidFill>
                <a:latin typeface="Arial Rounded MT Bold"/>
              </a:rPr>
              <a:t> </a:t>
            </a:r>
            <a:endParaRPr b="0" lang="en-US" sz="4400" spc="-1" strike="noStrike">
              <a:solidFill>
                <a:srgbClr val="dde3dc"/>
              </a:solidFill>
              <a:latin typeface="Times New Roman"/>
            </a:endParaRPr>
          </a:p>
        </p:txBody>
      </p:sp>
      <p:sp>
        <p:nvSpPr>
          <p:cNvPr id="129" name=""/>
          <p:cNvSpPr/>
          <p:nvPr/>
        </p:nvSpPr>
        <p:spPr>
          <a:xfrm>
            <a:off x="762120" y="2057400"/>
            <a:ext cx="7696080" cy="3962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ateriales para repartir/ Sílabo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tro proyecciones/PowerPoint</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cluya bosquejo y manuscrito para sermone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Bibliografía</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ferencias en el material</a:t>
            </a:r>
            <a:endParaRPr b="0" lang="en-US" sz="3200" spc="-1" strike="noStrike">
              <a:solidFill>
                <a:srgbClr val="dde3dc"/>
              </a:solidFill>
              <a:latin typeface="Times New Roman"/>
            </a:endParaRPr>
          </a:p>
        </p:txBody>
      </p:sp>
      <p:sp>
        <p:nvSpPr>
          <p:cNvPr id="130" name=""/>
          <p:cNvSpPr/>
          <p:nvPr/>
        </p:nvSpPr>
        <p:spPr>
          <a:xfrm>
            <a:off x="1371600" y="1752480"/>
            <a:ext cx="72388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587600" y="68580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Cómo terminar el proyecto</a:t>
            </a:r>
            <a:endParaRPr b="0" lang="en-US" sz="4400" spc="-1" strike="noStrike">
              <a:solidFill>
                <a:srgbClr val="dde3dc"/>
              </a:solidFill>
              <a:latin typeface="Times New Roman"/>
            </a:endParaRPr>
          </a:p>
        </p:txBody>
      </p:sp>
      <p:sp>
        <p:nvSpPr>
          <p:cNvPr id="132" name="PlaceHolder 1"/>
          <p:cNvSpPr>
            <a:spLocks noGrp="1"/>
          </p:cNvSpPr>
          <p:nvPr>
            <p:ph/>
          </p:nvPr>
        </p:nvSpPr>
        <p:spPr>
          <a:xfrm>
            <a:off x="533520" y="1752120"/>
            <a:ext cx="8229600" cy="487692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rimero, revise el material nuevamente para encontrar los errores.</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 continuación, obsérvelo como idea de conjunto.</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Sea cuidadosa de no abusar en el empleo de ilustraciones, fotos, o clip-art.</a:t>
            </a:r>
            <a:endParaRPr b="0" lang="en-US" sz="3600" spc="-1" strike="noStrike">
              <a:solidFill>
                <a:srgbClr val="ffffff"/>
              </a:solidFill>
              <a:latin typeface="Trebuchet MS"/>
            </a:endParaRPr>
          </a:p>
        </p:txBody>
      </p:sp>
      <p:sp>
        <p:nvSpPr>
          <p:cNvPr id="133" name=""/>
          <p:cNvSpPr/>
          <p:nvPr/>
        </p:nvSpPr>
        <p:spPr>
          <a:xfrm>
            <a:off x="1447920" y="167652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33720" y="609480"/>
            <a:ext cx="6324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terminar el proyecto</a:t>
            </a:r>
            <a:endParaRPr b="1" lang="en-US" sz="4000" spc="-1" strike="noStrike">
              <a:solidFill>
                <a:srgbClr val="ffffff"/>
              </a:solidFill>
              <a:latin typeface="Trebuchet MS"/>
            </a:endParaRPr>
          </a:p>
        </p:txBody>
      </p:sp>
      <p:sp>
        <p:nvSpPr>
          <p:cNvPr id="135" name="PlaceHolder 2"/>
          <p:cNvSpPr>
            <a:spLocks noGrp="1"/>
          </p:cNvSpPr>
          <p:nvPr>
            <p:ph/>
          </p:nvPr>
        </p:nvSpPr>
        <p:spPr>
          <a:xfrm>
            <a:off x="1142640" y="2514600"/>
            <a:ext cx="7467480" cy="320040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Escoja tipos de letra claros y fáciles de leer.</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lgunas ideas básicas.</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Revise otra vez, e imprima.</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36" name=""/>
          <p:cNvSpPr/>
          <p:nvPr/>
        </p:nvSpPr>
        <p:spPr>
          <a:xfrm>
            <a:off x="1905120" y="1828800"/>
            <a:ext cx="6705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22824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Necesita un Recurso?</a:t>
            </a:r>
            <a:endParaRPr b="1" lang="en-US" sz="3200" spc="-1" strike="noStrike">
              <a:solidFill>
                <a:srgbClr val="ffffff"/>
              </a:solidFill>
              <a:latin typeface="Trebuchet MS"/>
            </a:endParaRPr>
          </a:p>
        </p:txBody>
      </p:sp>
      <p:sp>
        <p:nvSpPr>
          <p:cNvPr id="90" name="PlaceHolder 2"/>
          <p:cNvSpPr>
            <a:spLocks noGrp="1"/>
          </p:cNvSpPr>
          <p:nvPr>
            <p:ph/>
          </p:nvPr>
        </p:nvSpPr>
        <p:spPr>
          <a:xfrm>
            <a:off x="914040" y="1523520"/>
            <a:ext cx="8458200" cy="4800600"/>
          </a:xfrm>
          <a:prstGeom prst="rect">
            <a:avLst/>
          </a:prstGeom>
          <a:noFill/>
          <a:ln w="0">
            <a:noFill/>
          </a:ln>
        </p:spPr>
        <p:txBody>
          <a:bodyPr lIns="90000" rIns="90000" tIns="46800" bIns="46800" anchor="t">
            <a:normAutofit fontScale="99000"/>
          </a:bodyPr>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C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wm.gc.adventist.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nadwm.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rPr>
              <a:t>www.adventista.org.br/M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 Source www.adventsourc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lus Line www.pluslin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ist Book Centers www.adventistbookcenter.co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view and Herald Publishing Association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hlinkClick r:id="rId2"/>
              </a:rPr>
              <a:t>www.rhpa.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acific Press Publishing Association</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www.pacificpress.com</a:t>
            </a:r>
            <a:endParaRPr b="0" lang="en-US" sz="2400" spc="-1" strike="noStrike">
              <a:solidFill>
                <a:srgbClr val="ffffff"/>
              </a:solidFill>
              <a:latin typeface="Trebuchet MS"/>
            </a:endParaRPr>
          </a:p>
        </p:txBody>
      </p:sp>
      <p:sp>
        <p:nvSpPr>
          <p:cNvPr id="91" name=""/>
          <p:cNvSpPr/>
          <p:nvPr/>
        </p:nvSpPr>
        <p:spPr>
          <a:xfrm>
            <a:off x="2209680" y="1219320"/>
            <a:ext cx="64771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400" y="457200"/>
            <a:ext cx="6858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planificar su recurso</a:t>
            </a:r>
            <a:endParaRPr b="1" lang="en-US" sz="3600" spc="-1" strike="noStrike">
              <a:solidFill>
                <a:srgbClr val="ffffff"/>
              </a:solidFill>
              <a:latin typeface="Trebuchet MS"/>
            </a:endParaRPr>
          </a:p>
        </p:txBody>
      </p:sp>
      <p:sp>
        <p:nvSpPr>
          <p:cNvPr id="93" name="PlaceHolder 2"/>
          <p:cNvSpPr>
            <a:spLocks noGrp="1"/>
          </p:cNvSpPr>
          <p:nvPr>
            <p:ph/>
          </p:nvPr>
        </p:nvSpPr>
        <p:spPr>
          <a:xfrm>
            <a:off x="685440" y="1980720"/>
            <a:ext cx="8077320" cy="4038840"/>
          </a:xfrm>
          <a:prstGeom prst="rect">
            <a:avLst/>
          </a:prstGeom>
          <a:noFill/>
          <a:ln w="0">
            <a:noFill/>
          </a:ln>
        </p:spPr>
        <p:txBody>
          <a:bodyPr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Siempre comience con una ora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scriba una breve declaración de misión para los material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Considere a quién va dirigido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l recurso y cómo será utilizad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609480"/>
            <a:ext cx="62485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planificar su recurso</a:t>
            </a:r>
            <a:endParaRPr b="1" lang="en-US" sz="4000" spc="-1" strike="noStrike">
              <a:solidFill>
                <a:srgbClr val="ffffff"/>
              </a:solidFill>
              <a:latin typeface="Trebuchet MS"/>
            </a:endParaRPr>
          </a:p>
        </p:txBody>
      </p:sp>
      <p:sp>
        <p:nvSpPr>
          <p:cNvPr id="95" name="PlaceHolder 2"/>
          <p:cNvSpPr>
            <a:spLocks noGrp="1"/>
          </p:cNvSpPr>
          <p:nvPr>
            <p:ph/>
          </p:nvPr>
        </p:nvSpPr>
        <p:spPr>
          <a:xfrm>
            <a:off x="837720" y="2362320"/>
            <a:ext cx="76201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Haga un torbellino de ide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Determine que materiales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adicionales necesitará.</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97" name="PlaceHolder 2"/>
          <p:cNvSpPr>
            <a:spLocks noGrp="1"/>
          </p:cNvSpPr>
          <p:nvPr>
            <p:ph/>
          </p:nvPr>
        </p:nvSpPr>
        <p:spPr>
          <a:xfrm>
            <a:off x="533520" y="2286000"/>
            <a:ext cx="4038480" cy="3276720"/>
          </a:xfrm>
          <a:prstGeom prst="rect">
            <a:avLst/>
          </a:prstGeom>
          <a:noFill/>
          <a:ln w="0">
            <a:noFill/>
          </a:ln>
        </p:spPr>
        <p:txBody>
          <a:bodyPr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rm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minari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rogramas misioner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Entrenamiento en liderazgo </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Materiales para repartir</a:t>
            </a:r>
            <a:endParaRPr b="0" lang="en-US" sz="2400" spc="-1" strike="noStrike">
              <a:solidFill>
                <a:srgbClr val="ffffff"/>
              </a:solidFill>
              <a:latin typeface="Trebuchet MS"/>
            </a:endParaRPr>
          </a:p>
        </p:txBody>
      </p:sp>
      <p:sp>
        <p:nvSpPr>
          <p:cNvPr id="98" name="PlaceHolder 3"/>
          <p:cNvSpPr>
            <a:spLocks noGrp="1"/>
          </p:cNvSpPr>
          <p:nvPr>
            <p:ph/>
          </p:nvPr>
        </p:nvSpPr>
        <p:spPr>
          <a:xfrm>
            <a:off x="4723920" y="2286000"/>
            <a:ext cx="3886200" cy="2666880"/>
          </a:xfrm>
          <a:prstGeom prst="rect">
            <a:avLst/>
          </a:prstGeom>
          <a:noFill/>
          <a:ln w="0">
            <a:noFill/>
          </a:ln>
        </p:spPr>
        <p:txBody>
          <a:bodyPr lIns="90000" rIns="90000" tIns="46800" bIns="46800"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Representaci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Lista de orador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Boletín informativ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Columna en el diari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ublicidad</a:t>
            </a:r>
            <a:endParaRPr b="0" lang="en-US" sz="2400" spc="-1" strike="noStrike">
              <a:solidFill>
                <a:srgbClr val="ffffff"/>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9" name=""/>
          <p:cNvSpPr/>
          <p:nvPr/>
        </p:nvSpPr>
        <p:spPr>
          <a:xfrm>
            <a:off x="2209680" y="144792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560" y="4572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101" name="PlaceHolder 2"/>
          <p:cNvSpPr>
            <a:spLocks noGrp="1"/>
          </p:cNvSpPr>
          <p:nvPr>
            <p:ph/>
          </p:nvPr>
        </p:nvSpPr>
        <p:spPr>
          <a:xfrm>
            <a:off x="762120" y="198108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Locales de exposi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editacion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formación: cómo comenzar</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deas para los MM </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Música – lema para eventos</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2" name=""/>
          <p:cNvSpPr/>
          <p:nvPr/>
        </p:nvSpPr>
        <p:spPr>
          <a:xfrm>
            <a:off x="1981080" y="152388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81080" y="609480"/>
            <a:ext cx="701064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3399"/>
                </a:solidFill>
                <a:latin typeface="Arial Rounded MT Bold"/>
              </a:rPr>
              <a:t>Etapa de </a:t>
            </a:r>
            <a:br>
              <a:rPr sz="4800"/>
            </a:br>
            <a:r>
              <a:rPr b="1" lang="es-ES" sz="4800" spc="-1" strike="noStrike">
                <a:solidFill>
                  <a:srgbClr val="333399"/>
                </a:solidFill>
                <a:latin typeface="Arial Rounded MT Bold"/>
              </a:rPr>
              <a:t>Investigación</a:t>
            </a:r>
            <a:endParaRPr b="0" lang="en-US" sz="4800" spc="-1" strike="noStrike">
              <a:solidFill>
                <a:srgbClr val="dde3dc"/>
              </a:solidFill>
              <a:latin typeface="Times New Roman"/>
            </a:endParaRPr>
          </a:p>
        </p:txBody>
      </p:sp>
      <p:sp>
        <p:nvSpPr>
          <p:cNvPr id="104" name=""/>
          <p:cNvSpPr/>
          <p:nvPr/>
        </p:nvSpPr>
        <p:spPr>
          <a:xfrm>
            <a:off x="1676520" y="2438280"/>
            <a:ext cx="464796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libros y revistas</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Internet</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Personas</a:t>
            </a:r>
            <a:endParaRPr b="0" lang="en-US" sz="3600" spc="-1" strike="noStrike">
              <a:solidFill>
                <a:srgbClr val="dde3dc"/>
              </a:solidFill>
              <a:latin typeface="Times New Roman"/>
            </a:endParaRPr>
          </a:p>
        </p:txBody>
      </p:sp>
      <p:sp>
        <p:nvSpPr>
          <p:cNvPr id="105" name=""/>
          <p:cNvSpPr/>
          <p:nvPr/>
        </p:nvSpPr>
        <p:spPr>
          <a:xfrm>
            <a:off x="1905120" y="1523880"/>
            <a:ext cx="70484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p:txBody>
      </p:sp>
      <p:sp>
        <p:nvSpPr>
          <p:cNvPr id="106" name=""/>
          <p:cNvSpPr/>
          <p:nvPr/>
        </p:nvSpPr>
        <p:spPr>
          <a:xfrm>
            <a:off x="1828800" y="1600200"/>
            <a:ext cx="6705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057400" y="762120"/>
            <a:ext cx="6705720" cy="6094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   </a:t>
            </a:r>
            <a:r>
              <a:rPr b="1" lang="es-ES" sz="3200" spc="-1" strike="noStrike">
                <a:solidFill>
                  <a:srgbClr val="333399"/>
                </a:solidFill>
                <a:latin typeface="Arial Rounded MT Bold"/>
              </a:rPr>
              <a:t>Delegar: Cómo encontrar redactores e investigadores</a:t>
            </a:r>
            <a:endParaRPr b="0" lang="en-US" sz="3200" spc="-1" strike="noStrike">
              <a:solidFill>
                <a:srgbClr val="dde3dc"/>
              </a:solidFill>
              <a:latin typeface="Times New Roman"/>
            </a:endParaRPr>
          </a:p>
        </p:txBody>
      </p:sp>
      <p:sp>
        <p:nvSpPr>
          <p:cNvPr id="108" name=""/>
          <p:cNvSpPr/>
          <p:nvPr/>
        </p:nvSpPr>
        <p:spPr>
          <a:xfrm>
            <a:off x="3048120" y="2286000"/>
            <a:ext cx="579096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mience orando!</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Pastore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Administradores de campo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legios y Universidades Adventistas</a:t>
            </a:r>
            <a:endParaRPr b="0" lang="en-US" sz="3000" spc="-1" strike="noStrike">
              <a:solidFill>
                <a:srgbClr val="dde3dc"/>
              </a:solidFill>
              <a:latin typeface="Times New Roman"/>
            </a:endParaRPr>
          </a:p>
        </p:txBody>
      </p:sp>
      <p:sp>
        <p:nvSpPr>
          <p:cNvPr id="109" name=""/>
          <p:cNvSpPr/>
          <p:nvPr/>
        </p:nvSpPr>
        <p:spPr>
          <a:xfrm>
            <a:off x="2057400" y="1676520"/>
            <a:ext cx="65530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1000"/>
                                        <p:tgtEl>
                                          <p:spTgt spid="108">
                                            <p:txEl>
                                              <p:pRg st="0" end="0"/>
                                            </p:txEl>
                                          </p:spTgt>
                                        </p:tgtEl>
                                      </p:cBhvr>
                                    </p:animEffect>
                                    <p:animScale>
                                      <p:cBhvr>
                                        <p:cTn id="33" dur="500" autoRev="1" fill="hold"/>
                                        <p:tgtEl>
                                          <p:spTgt spid="108">
                                            <p:txEl>
                                              <p:pRg st="0" end="0"/>
                                            </p:txEl>
                                          </p:spTgt>
                                        </p:tgtEl>
                                      </p:cBhvr>
                                      <p:to x="105000" y="105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26">
                                  <p:stCondLst>
                                    <p:cond delay="0"/>
                                  </p:stCondLst>
                                  <p:childTnLst>
                                    <p:animEffect filter="fade" transition="out">
                                      <p:cBhvr additive="repl">
                                        <p:cTn id="37" dur="1000"/>
                                        <p:tgtEl>
                                          <p:spTgt spid="108">
                                            <p:txEl>
                                              <p:pRg st="1" end="1"/>
                                            </p:txEl>
                                          </p:spTgt>
                                        </p:tgtEl>
                                      </p:cBhvr>
                                    </p:animEffect>
                                    <p:animScale>
                                      <p:cBhvr>
                                        <p:cTn id="38" dur="500" autoRev="1" fill="hold"/>
                                        <p:tgtEl>
                                          <p:spTgt spid="108">
                                            <p:txEl>
                                              <p:pRg st="1" end="1"/>
                                            </p:txEl>
                                          </p:spTgt>
                                        </p:tgtEl>
                                      </p:cBhvr>
                                      <p:to x="105000" y="105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26">
                                  <p:stCondLst>
                                    <p:cond delay="0"/>
                                  </p:stCondLst>
                                  <p:childTnLst>
                                    <p:animEffect filter="fade" transition="out">
                                      <p:cBhvr additive="repl">
                                        <p:cTn id="42" dur="1000"/>
                                        <p:tgtEl>
                                          <p:spTgt spid="108">
                                            <p:txEl>
                                              <p:pRg st="2" end="2"/>
                                            </p:txEl>
                                          </p:spTgt>
                                        </p:tgtEl>
                                      </p:cBhvr>
                                    </p:animEffect>
                                    <p:animScale>
                                      <p:cBhvr>
                                        <p:cTn id="43" dur="500" autoRev="1" fill="hold"/>
                                        <p:tgtEl>
                                          <p:spTgt spid="108">
                                            <p:txEl>
                                              <p:pRg st="2" end="2"/>
                                            </p:txEl>
                                          </p:spTgt>
                                        </p:tgtEl>
                                      </p:cBhvr>
                                      <p:to x="105000" y="105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26">
                                  <p:stCondLst>
                                    <p:cond delay="0"/>
                                  </p:stCondLst>
                                  <p:childTnLst>
                                    <p:animEffect filter="fade" transition="out">
                                      <p:cBhvr additive="repl">
                                        <p:cTn id="47" dur="1000"/>
                                        <p:tgtEl>
                                          <p:spTgt spid="108">
                                            <p:txEl>
                                              <p:pRg st="3" end="3"/>
                                            </p:txEl>
                                          </p:spTgt>
                                        </p:tgtEl>
                                      </p:cBhvr>
                                    </p:animEffect>
                                    <p:animScale>
                                      <p:cBhvr>
                                        <p:cTn id="48" dur="500" autoRev="1" fill="hold"/>
                                        <p:tgtEl>
                                          <p:spTgt spid="108">
                                            <p:txEl>
                                              <p:pRg st="3" end="3"/>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680" y="457200"/>
            <a:ext cx="65534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Delegar: Cómo encontrar redactores e investigadores</a:t>
            </a:r>
            <a:endParaRPr b="1" lang="en-US" sz="3200" spc="-1" strike="noStrike">
              <a:solidFill>
                <a:srgbClr val="ffffff"/>
              </a:solidFill>
              <a:latin typeface="Trebuchet MS"/>
            </a:endParaRPr>
          </a:p>
        </p:txBody>
      </p:sp>
      <p:sp>
        <p:nvSpPr>
          <p:cNvPr id="111" name="PlaceHolder 2"/>
          <p:cNvSpPr>
            <a:spLocks noGrp="1"/>
          </p:cNvSpPr>
          <p:nvPr>
            <p:ph/>
          </p:nvPr>
        </p:nvSpPr>
        <p:spPr>
          <a:xfrm>
            <a:off x="3200040" y="2438280"/>
            <a:ext cx="5181480" cy="2438640"/>
          </a:xfrm>
          <a:prstGeom prst="rect">
            <a:avLst/>
          </a:prstGeom>
          <a:noFill/>
          <a:ln w="0">
            <a:noFill/>
          </a:ln>
        </p:spPr>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Editoriales y editores de publicaciones</a:t>
            </a:r>
            <a:endParaRPr b="0" lang="en-US" sz="3000" spc="-1" strike="noStrike">
              <a:solidFill>
                <a:srgbClr val="ffffff"/>
              </a:solidFill>
              <a:latin typeface="Trebuchet MS"/>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Líderes de los MM (local, asociación, unión, división)</a:t>
            </a:r>
            <a:endParaRPr b="0" lang="en-US" sz="3000" spc="-1" strike="noStrike">
              <a:solidFill>
                <a:srgbClr val="ffffff"/>
              </a:solidFill>
              <a:latin typeface="Trebuchet MS"/>
            </a:endParaRPr>
          </a:p>
        </p:txBody>
      </p:sp>
      <p:sp>
        <p:nvSpPr>
          <p:cNvPr id="112" name=""/>
          <p:cNvSpPr/>
          <p:nvPr/>
        </p:nvSpPr>
        <p:spPr>
          <a:xfrm>
            <a:off x="1981080" y="1600200"/>
            <a:ext cx="66294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Nelida Leguizamon</cp:lastModifiedBy>
  <dcterms:modified xsi:type="dcterms:W3CDTF">2006-04-05T11:39:39Z</dcterms:modified>
  <cp:revision>35</cp:revision>
  <dc:subject/>
  <dc:title>PowerPoint Presentation</dc:title>
</cp:coreProperties>
</file>