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F1A95-7D3C-4864-8A44-CBCE79E88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01760" y="679320"/>
            <a:ext cx="4332240" cy="3249720"/>
          </a:xfrm>
          <a:prstGeom prst="rect">
            <a:avLst/>
          </a:prstGeom>
          <a:ln w="0">
            <a:noFill/>
          </a:ln>
        </p:spPr>
      </p:sp>
      <p:sp>
        <p:nvSpPr>
          <p:cNvPr id="115" name="PlaceHolder 2"/>
          <p:cNvSpPr>
            <a:spLocks noGrp="1"/>
          </p:cNvSpPr>
          <p:nvPr>
            <p:ph type="body"/>
          </p:nvPr>
        </p:nvSpPr>
        <p:spPr>
          <a:xfrm>
            <a:off x="685800" y="4079880"/>
            <a:ext cx="5486400" cy="4308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a:t>
            </a:r>
            <a:r>
              <a:rPr b="1" lang="es-ES" sz="1200" spc="-1" strike="noStrike">
                <a:solidFill>
                  <a:srgbClr val="000000"/>
                </a:solidFill>
                <a:latin typeface="Arial"/>
              </a:rPr>
              <a:t>	</a:t>
            </a:r>
            <a:r>
              <a:rPr b="1" lang="es-ES" sz="1200" spc="-1" strike="noStrike">
                <a:solidFill>
                  <a:srgbClr val="000000"/>
                </a:solidFill>
                <a:latin typeface="Arial"/>
              </a:rPr>
              <a:t>Materiales para re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quier material que se distribuya en un seminario es generalmente gratuito para los asistentes. Aunque la gente venga para escucharla hablar, los materiales pueden contribuir al éxito general de su seminario. Es más fácil lograr una buena evaluación si los materiales repartidos están bien hechos y complementan lo que está diciendo. Y aquellas que han asistido a seminarios antes, esperan recibir materiales. Si no lo consiguen, podrían desilusiona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e resulta corto el tiempo y sus materiales son detallados, puede referir a las participantes a lo que tienen escrito si desea pasar por alto un módulo en particular. Más que esto, los materiales repartidos proveen a la gente de ayuda después que hayan terminado el seminario. Esté segura de que su nombre e información para contactarse con usted aparece en todos los materiales repartidos. Esto le permitirá a la gente contactarse con usted después del semi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incluyen a menudo combinaciones de lo siguiente: </a:t>
            </a:r>
            <a:r>
              <a:rPr b="1" lang="es-ES" sz="1200" spc="-1" strike="noStrike">
                <a:solidFill>
                  <a:srgbClr val="000000"/>
                </a:solidFill>
                <a:latin typeface="Arial"/>
              </a:rPr>
              <a:t>(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Bosquejo. </a:t>
            </a:r>
            <a:r>
              <a:rPr b="0" lang="es-ES" sz="1200" spc="-1" strike="noStrike">
                <a:solidFill>
                  <a:srgbClr val="000000"/>
                </a:solidFill>
                <a:latin typeface="Arial"/>
              </a:rPr>
              <a:t> Un bosquejo, resume los puntos principales de su presentación.  Sigue el flujo de lo que está diciendo, módulo por módulo. Se debiera dejar espacio para que se puedan tomar apu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ara llenar los espacios en blanco</a:t>
            </a:r>
            <a:r>
              <a:rPr b="0" lang="es-ES" sz="1200" spc="-1" strike="noStrike">
                <a:solidFill>
                  <a:srgbClr val="000000"/>
                </a:solidFill>
                <a:latin typeface="Arial"/>
              </a:rPr>
              <a:t>.  Este tipo de material anima la participación de la audiencia, requiriéndoles que escriban una respuesta. A menudo la gente lo tomará como un juego para adivinar qué palabra va en el espacio en blan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uebas,evaluaciones cortas y auto evaluaciones. </a:t>
            </a:r>
            <a:r>
              <a:rPr b="0" lang="es-ES" sz="1200" spc="-1" strike="noStrike">
                <a:solidFill>
                  <a:srgbClr val="000000"/>
                </a:solidFill>
                <a:latin typeface="Arial"/>
              </a:rPr>
              <a:t>.  Todas éstas animan la participación cuando se las aplica sin oblig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ista de recursos</a:t>
            </a:r>
            <a:r>
              <a:rPr b="0" lang="es-ES" sz="1200" spc="-1" strike="noStrike">
                <a:solidFill>
                  <a:srgbClr val="000000"/>
                </a:solidFill>
                <a:latin typeface="Arial"/>
              </a:rPr>
              <a:t>.  Se les puede entregar a los participantes una lista de organizaciones donde pueden obtener más información sobre su tema presentado.</a:t>
            </a:r>
            <a:r>
              <a:rPr b="0" i="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Reimpresión de artículos</a:t>
            </a:r>
            <a:r>
              <a:rPr b="0" lang="es-ES" sz="1200" spc="-1" strike="noStrike">
                <a:solidFill>
                  <a:srgbClr val="000000"/>
                </a:solidFill>
                <a:latin typeface="Arial"/>
              </a:rPr>
              <a:t>.  Un artículo que usted haya escrito o alguno que sea relevante para su seminario también puede ser un buen material para repartir. Esté segura de obtener los derechos de autor o permisos requeri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Bibliografía.</a:t>
            </a:r>
            <a:r>
              <a:rPr b="0" lang="es-ES" sz="1200" spc="-1" strike="noStrike">
                <a:solidFill>
                  <a:srgbClr val="000000"/>
                </a:solidFill>
                <a:latin typeface="Arial"/>
              </a:rPr>
              <a:t> Alguien en su audiencia puede sentirse suficientemente motivada sobre su tema como para consultar otros libros y artículos. Una bilbiografía sobre el tema es casi siempre bienven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apel extra. </a:t>
            </a:r>
            <a:r>
              <a:rPr b="0" lang="es-ES" sz="1200" spc="-1" strike="noStrike">
                <a:solidFill>
                  <a:srgbClr val="000000"/>
                </a:solidFill>
                <a:latin typeface="Arial"/>
              </a:rPr>
              <a:t> Si desea que los participantes tomen apuntes o escriban algo, considere la posiblidad de utilizar y repartir hojas en blanco como parte del material que reparta o como lo único que va a repar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a:t>
            </a:r>
            <a:r>
              <a:rPr b="1" lang="es-ES" sz="1200" spc="-1" strike="noStrike">
                <a:solidFill>
                  <a:srgbClr val="000000"/>
                </a:solidFill>
                <a:latin typeface="Arial"/>
              </a:rPr>
              <a:t>	</a:t>
            </a:r>
            <a:r>
              <a:rPr b="1" lang="es-ES" sz="1200" spc="-1" strike="noStrike">
                <a:solidFill>
                  <a:srgbClr val="000000"/>
                </a:solidFill>
                <a:latin typeface="Arial"/>
              </a:rPr>
              <a:t>Formatos de materiales para re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yormente, la longitud de su seminario determina cuánto material deberá repartir. Un seminario de tres días requiere más materiales que un seminario de una hora. Sus materiales debieran reunirse para que correspondan con el orden en el cual presentará el seminario. La forma más simple y económica de enganchar los hojas es con grapas. Las grapas funcionan mejor cuando hay menos de 20 pági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uede conseguir una variedad de carpetas de diferentes estilos en las cuales se pueden insertar páginas sueltas. Esto hará que su material luzca más profesional y permitirá flexibilidad. Otra posibilidad es una carpeta con tres anillos para hojas sueltas que le puede dar a cada participante. Esto también permite flexibilidad y añade ventajas cuando se presenta un seminario en muchos módulos de modo que se pueden hacer cambios con facilidad y quitar o añadir un módolo cuando se desee. Sin embargo,esto aumentará el factor co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para repartir pueden entregarse a la gente en la puerta de entrada o ser distribuídos cuando se los necesiten. Las hojas sueltas se pueden repartir con facilidad contándolas y distribuyéndolas en pilas de a cuerdo al número de gente sentada en cada hilera o en cada mesa. Luego pida una ayudante o a unas pocas participantes que le ayuden a repartir los material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62080" y="679320"/>
            <a:ext cx="4533840" cy="3400560"/>
          </a:xfrm>
          <a:prstGeom prst="rect">
            <a:avLst/>
          </a:prstGeom>
          <a:ln w="0">
            <a:noFill/>
          </a:ln>
        </p:spPr>
      </p:sp>
      <p:sp>
        <p:nvSpPr>
          <p:cNvPr id="11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F.</a:t>
            </a:r>
            <a:r>
              <a:rPr b="1" i="1" lang="es-ES" sz="1200" spc="-1" strike="noStrike">
                <a:solidFill>
                  <a:srgbClr val="000000"/>
                </a:solidFill>
                <a:latin typeface="Arial"/>
              </a:rPr>
              <a:t>	</a:t>
            </a:r>
            <a:r>
              <a:rPr b="1" i="1" lang="es-ES" sz="1200" spc="-1" strike="noStrike">
                <a:solidFill>
                  <a:srgbClr val="000000"/>
                </a:solidFill>
                <a:latin typeface="Arial"/>
              </a:rPr>
              <a:t>Propaganda exitosa (RP-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dentifique la audiencia a la que va dirgjido el seminario.  Identificar a su  audiencia es la clave para una propaganda exitosa del seminario. Definir su audiencia la ayudará a hacer decisiones en relación con la selección, diseño de materiales (si los hay), meriendas, propaganda, métodos, estilo de folleto, y casi cualquier otra cosa. Al utilizar lcomo referencia la audiencia a la que va dirigido el seminario, automáticamente tomará decisiones sab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fácil diseñar una propaganda concisa y efeciente basada en la audiencia. Utilicemos como ejemplo el seminario  Cómo organizarses.  Por la naturaleza del seminario, apelará primariamente a mujeres jóvenes; aquellas que son amas de casa en el momento como también a aquellas que trabajan tiempo completo fuera del hogar. Con esta información en mano, puede hacer ahora decisiones inteligentes para hacer propaganda para su seminario. Algunos criterios para definir su audiencia podrían incl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Sexo</a:t>
            </a:r>
            <a:r>
              <a:rPr b="0" lang="es-ES" sz="1200" spc="-1" strike="noStrike">
                <a:solidFill>
                  <a:srgbClr val="000000"/>
                </a:solidFill>
                <a:latin typeface="Arial"/>
              </a:rPr>
              <a:t>. Identifique el radiio de hombres y mujeres. Hacer propaganda del seminario  Cómo organizarse, en la sección de deportes de un diario sería ridículo. La sección de acontecimientos de un diario sería más apropi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Edad</a:t>
            </a:r>
            <a:r>
              <a:rPr b="0" lang="es-ES" sz="1200" spc="-1" strike="noStrike">
                <a:solidFill>
                  <a:srgbClr val="000000"/>
                </a:solidFill>
                <a:latin typeface="Arial"/>
              </a:rPr>
              <a:t>.  ¿Cuál es la edad de la mayoría de las mujeres que desean aprender a organizar mejor sus vidas?  Ciertas palabras y frases pueden representar distintas cosas para diferentes grupos de edad.  Lo que puede ser perfecto para una mujer en sus cuarenta, podría ser totalmente inefectivo para la siguiente gene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a:t>
            </a:r>
            <a:r>
              <a:rPr b="1" lang="es-ES" sz="1200" spc="-1" strike="noStrike">
                <a:solidFill>
                  <a:srgbClr val="000000"/>
                </a:solidFill>
                <a:latin typeface="Arial"/>
              </a:rPr>
              <a:t>. Lugar de residencia</a:t>
            </a:r>
            <a:r>
              <a:rPr b="0" lang="es-ES" sz="1200" spc="-1" strike="noStrike">
                <a:solidFill>
                  <a:srgbClr val="000000"/>
                </a:solidFill>
                <a:latin typeface="Arial"/>
              </a:rPr>
              <a:t>.   ¿Dónde viven estas mujeres?  Si su audiencia consiste mayormente en gente de la ciudad,  puede resultar efectivo colocar calteres en los alrededores en la ciudad. Los carteles de la ciudad, serán menos efectivos para las mujeres que vivan en los suburbios o en áreas rur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1" lang="es-ES" sz="1200" spc="-1" strike="noStrike">
                <a:solidFill>
                  <a:srgbClr val="000000"/>
                </a:solidFill>
                <a:latin typeface="Arial"/>
              </a:rPr>
              <a:t>Ocupación</a:t>
            </a:r>
            <a:r>
              <a:rPr b="0" lang="es-ES" sz="1200" spc="-1" strike="noStrike">
                <a:solidFill>
                  <a:srgbClr val="000000"/>
                </a:solidFill>
                <a:latin typeface="Arial"/>
              </a:rPr>
              <a:t>.  Si el blanco de su seminario son enfermeras, por ejemplo, coloque los carteles en hospitales podría funcionar. También se debe considerar los horarios de trabajo de las enfermeras, las horas de entrenamiento profesional que se les requiere a las enfermeras anualmente, como también, elegir una hubicación donde las enfermeras puedan llegar con rapide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lang="es-ES" sz="1200" spc="-1" strike="noStrike">
                <a:solidFill>
                  <a:srgbClr val="000000"/>
                </a:solidFill>
                <a:latin typeface="Arial"/>
              </a:rPr>
              <a:t>Educación</a:t>
            </a:r>
            <a:r>
              <a:rPr b="0" lang="es-ES" sz="1200" spc="-1" strike="noStrike">
                <a:solidFill>
                  <a:srgbClr val="000000"/>
                </a:solidFill>
                <a:latin typeface="Arial"/>
              </a:rPr>
              <a:t>.  Aunque usted pueda poseer un doctorado de una universidad prestigiosa, su audiencia posiblemente no lo tenga. Su estrategia de propaganda  podría fallar completamente si usted no habla con el lenguaje de la audiencia a la que va dirigido el semi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lang="es-ES" sz="1200" spc="-1" strike="noStrike">
                <a:solidFill>
                  <a:srgbClr val="000000"/>
                </a:solidFill>
                <a:latin typeface="Arial"/>
              </a:rPr>
              <a:t>Nivel económico</a:t>
            </a:r>
            <a:r>
              <a:rPr b="0" lang="es-ES" sz="1200" spc="-1" strike="noStrike">
                <a:solidFill>
                  <a:srgbClr val="000000"/>
                </a:solidFill>
                <a:latin typeface="Arial"/>
              </a:rPr>
              <a:t>.  Puede ser difícil diseñar un  seminario que va dirigido a los ricos porque muy pocas personas que corresponden a este grupo asisten a seminarios públicos. Si desea alcanzar a la gente rica,  deberá ir donde ellos van. Por ejemplo a los Clubes finos o a lugares costosos de recreación  (s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uchos casos, uno o dos de estos factores pesarán más que otros. Pero no importa lo que haga, identifique claramente su audiencia.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t>
            </a:r>
            <a:r>
              <a:rPr b="1" lang="es-ES" sz="1200" spc="-1" strike="noStrike">
                <a:solidFill>
                  <a:srgbClr val="000000"/>
                </a:solidFill>
                <a:latin typeface="Arial"/>
              </a:rPr>
              <a:t>	</a:t>
            </a:r>
            <a:r>
              <a:rPr b="1" lang="es-ES" sz="1200" spc="-1" strike="noStrike">
                <a:solidFill>
                  <a:srgbClr val="000000"/>
                </a:solidFill>
                <a:latin typeface="Arial"/>
              </a:rPr>
              <a:t>Folletos/Volantes (R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mporta qué tipo de seminario esté presentando, es necesario imprimir anuncios de propaganda de su programa.  Hay dos maneras de repartir folletos o volantes. Puede crear uno propio o enviar copias modelo a la organización auspiciante o permitir que ellos creen uno propio. Yo recomiendo fuertemente que usted cree su propio folleto o volante y provea los modelos. Esto le dará control sobre lo que se promueve acerca de su seminario. Recuerde, su folleto o volante la representa ante su audiencia. Que el folleto de promoción o volante esté bien hecho o no, puede significar una gran diferencia en quiénes y cuántos vend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uede ahorrar dinero y cosechar beneficios creando su propio folleto informativo, observando lo que otros profesionales han producido.  Compañías de seminarios exitosos han desarrollado sus folletos como resultado de años de prueba y error y gastando miles de dólares en estudios de investigación de mercado. Coleccione tantos de estos como pueda y estúdielos cuidadosamente para notar el color, tipo de papel, tipo de carátula, tamaño, gráficos, contenido y est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stá diseñando un folleto de propaganda, usted debe una vez más considerar la audiencia a la que va dirigido. Si su seminario es sobre un tema de salud, diseñado específicamente para mujeres que no pueden pagar el importe para matricularse, el folleto debe reflejarlo. Si, sin embargo, usted está ofreciendo un seminario caro para seleccionar un grupo como ser de médicos, sería apropiado desarrollar un folleto caro, de buena calidad y multicol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aciones sobre recomendaciones para la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ipo de papel. </a:t>
            </a:r>
            <a:r>
              <a:rPr b="0" lang="es-ES" sz="1200" spc="-1" strike="noStrike">
                <a:solidFill>
                  <a:srgbClr val="000000"/>
                </a:solidFill>
                <a:latin typeface="Arial"/>
              </a:rPr>
              <a:t> El papel viene en una amplia variedad de colores y estilos. El que se utiliza normalmente para fotocopias o impresoras, es el más barato y funciona bien en la mayoría de los casos. Otros tipos de papel especial, incluyendo los que se utilizan para tapas (más brillantes) añadirán una cantidad considerable a los costos de impre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lor del papel.</a:t>
            </a:r>
            <a:r>
              <a:rPr b="0" lang="es-ES" sz="1200" spc="-1" strike="noStrike">
                <a:solidFill>
                  <a:srgbClr val="000000"/>
                </a:solidFill>
                <a:latin typeface="Arial"/>
              </a:rPr>
              <a:t> El papel para copias viene de colores muy variados. Piense cuidadosamente qué color podrá atraer mejor a su audiencia. Si su seminario va dirigido a ambos hombres y mujeres, el rosado más bien no atraerá a los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lor de tinta.  Si tiene la intención de utilizar un color y hacer gráficos, es preferible utilizar solamente el negro. Siempre que sea posible utilice dos colores. Utilizar dos o más colores puede resultar muy efectivo, pero cada color aumenta los costos de impres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amaño. </a:t>
            </a:r>
            <a:r>
              <a:rPr b="0" lang="es-ES" sz="1200" spc="-1" strike="noStrike">
                <a:solidFill>
                  <a:srgbClr val="000000"/>
                </a:solidFill>
                <a:latin typeface="Arial"/>
              </a:rPr>
              <a:t>El tamaño debiera ser el más común del país en el cual reside o donde presentará el seminario. Nuevamente, el costo jugara una gran parte en su decisión. También debiera considerar si los folletos o volantes serán de una página sin dobleces, doblados por la mitad, trípticos o cualquier otra configur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Tipos de letra</a:t>
            </a:r>
            <a:r>
              <a:rPr b="0" lang="es-ES" sz="1200" spc="-1" strike="noStrike">
                <a:solidFill>
                  <a:srgbClr val="000000"/>
                </a:solidFill>
                <a:latin typeface="Arial"/>
              </a:rPr>
              <a:t>.  Existen literalmente cientos de tipos de estilos. Elija uno que sea simple y fácil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G</a:t>
            </a:r>
            <a:r>
              <a:rPr b="0" i="1" lang="es-ES" sz="1200" spc="-1" strike="noStrike">
                <a:solidFill>
                  <a:srgbClr val="000000"/>
                </a:solidFill>
                <a:latin typeface="Arial"/>
              </a:rPr>
              <a:t>ráficos.</a:t>
            </a:r>
            <a:r>
              <a:rPr b="0" lang="es-ES" sz="1200" spc="-1" strike="noStrike">
                <a:solidFill>
                  <a:srgbClr val="000000"/>
                </a:solidFill>
                <a:latin typeface="Arial"/>
              </a:rPr>
              <a:t> Tiene dos elecciones. Contrate un profesional o elija los gráficos usted misma. Con un poquito de investigación de su tema y la multiplicidad de gráficos que se encuentran en la arena pública hoy en día, debiera poder encontrar gráficos que puedan crear un mensaje directo. Recuerde, ¡Una lámina vale más que mil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tecnología actual le permite tener un folleto de presentación profesionalmente diseñado por una impresora y reproducido en un disco que se puede enviar con anticipación o por correo electrónico para que el grupo auspiciante lo imprim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62080" y="679320"/>
            <a:ext cx="4533840" cy="3400560"/>
          </a:xfrm>
          <a:prstGeom prst="rect">
            <a:avLst/>
          </a:prstGeom>
          <a:ln w="0">
            <a:noFill/>
          </a:ln>
        </p:spPr>
      </p:sp>
      <p:sp>
        <p:nvSpPr>
          <p:cNvPr id="12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I.</a:t>
            </a:r>
            <a:r>
              <a:rPr b="1" i="1" lang="es-ES" sz="1200" spc="-1" strike="noStrike">
                <a:solidFill>
                  <a:srgbClr val="000000"/>
                </a:solidFill>
                <a:latin typeface="Arial"/>
              </a:rPr>
              <a:t>	</a:t>
            </a:r>
            <a:r>
              <a:rPr b="1" i="1" lang="es-ES" sz="1200" spc="-1" strike="noStrike">
                <a:solidFill>
                  <a:srgbClr val="000000"/>
                </a:solidFill>
                <a:latin typeface="Arial"/>
              </a:rPr>
              <a:t>Recomendaciones para el texto: (RP-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el trabajo corto y enérgico.  La gente no piensa en oraciones completas. El propósito del folleto o volante de propaganda es persuadir a la gente para que asista a su seminario. Observe el estilo corto y preciso que ve en todos los folletos o volantes que haya coleccionado. Utilice este estilo como un modelo para su folle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lare los beneficios.  Los participantes recibirán información que los ayudará a mejorar sus vidas. No importa cuán elocuente sean sus habilidades para hablar, ellos no están interesados en escuchar su charla. Los asistentes buscan los beneficios que usted ofr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tilice palabras poderosas, orientadas a la acción.  Usted puede armar frases dinámicas combinando palabra de los folletos que haya coleccionado. Por ejemplo:  cree actitudes efectivas, logre un ambiente de confianza y domine las habilidades de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oja un título que sea claro y directo.  Un título que comienza con : “Cómo lograr. . .” funciona bien en una variedad de situaciones. Si es posible, incluya un beneficio en su título. Por ejemplo el seminario  Cómo organizarse, ofrece  “Siete secretos  para que las mujeres estresadas puedan mantenerse cuerdas”  El subtítulo delinea claramente los beneficios y provee un “gancho” para atraer la gente al seminario prometienddo “secretos de cord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ea fecha, hora y ubicación.  Un folleto sin esta información es inú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ita los beneficios ampliamente en el folleto.  Coloque los beneficios derivados del seminario en cada lugar donde se le pueda ocurrir. Comience con el título y continúe a través de resto del texto. Se le debe recordar a la gente de cuánto mejor se sentirán, o cuánto mejorará su vida personal gracias a su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fina quiénes debieran asistir.  Identifique la audiencia exacta que se beneficiará como resultado de su seminario. Esto le permite a los lectores conocer el programa y y estará dirigido a sus necesidades.  Por ejemplo, el seminario Cómo organizarse está dirigido particularmente a las mujeres, pero se establecerá claramente en el seminario que está abierto a los hombres. Un seminario acerca del matrimonio está dirigido principalmente a las parejas, pero el volante claramente establece que el programa está abierto también para solteros, separados, divorciados, o viudos que estén interesados en conocer las diferencias entre los sexos y aprender a relacionarse mejor con el sexo opu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ga qué aprenderán los participantes. Algunas agencias de propaganda construyen la información de sus folletos alrededor de la persona que presenta el seminario. Esto no es efectivo. Las personas quieren saber qué aprenderán y cómo serán beneficiados. Trabaje diligentemente para producir títulos y frases para despertar el interés de la gente. Por ejemplo, el volante del seminario acerca del matrimonio dice que las personas aprende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vivir con una persona imperfect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mi cónyuge no entiende lo que dig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una mujer no puede ser como un h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Frases como estas atraen la atención y generan curiosid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62080" y="679320"/>
            <a:ext cx="4533840" cy="3400560"/>
          </a:xfrm>
          <a:prstGeom prst="rect">
            <a:avLst/>
          </a:prstGeom>
          <a:ln w="0">
            <a:noFill/>
          </a:ln>
        </p:spPr>
      </p:sp>
      <p:sp>
        <p:nvSpPr>
          <p:cNvPr id="12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glas para comenzar bien su seminario (RP-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1" i="1" lang="es-ES" sz="1200" spc="-1" strike="noStrike">
                <a:solidFill>
                  <a:srgbClr val="000000"/>
                </a:solidFill>
                <a:latin typeface="Arial"/>
              </a:rPr>
              <a:t>Comenzar a tiempo.</a:t>
            </a:r>
            <a:r>
              <a:rPr b="0" lang="es-ES" sz="1200" spc="-1" strike="noStrike">
                <a:solidFill>
                  <a:srgbClr val="000000"/>
                </a:solidFill>
                <a:latin typeface="Arial"/>
              </a:rPr>
              <a:t>  ¡No espere a los que llegan tarde antes de empezar!  Esto anima a las personas a llegar temprano y penaliza a los que no llegan a tiem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1" i="1" lang="es-ES" sz="1200" spc="-1" strike="noStrike">
                <a:solidFill>
                  <a:srgbClr val="000000"/>
                </a:solidFill>
                <a:latin typeface="Arial"/>
              </a:rPr>
              <a:t>Mostrar energía desde el principio</a:t>
            </a:r>
            <a:r>
              <a:rPr b="0" lang="es-ES" sz="1200" spc="-1" strike="noStrike">
                <a:solidFill>
                  <a:srgbClr val="000000"/>
                </a:solidFill>
                <a:latin typeface="Arial"/>
              </a:rPr>
              <a:t>.  Si demuestra energía al comenzar, su entusiasmo contagiará al grupo. Esta actitud establecerá el tono para el seminario ent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1" i="1" lang="es-ES" sz="1200" spc="-1" strike="noStrike">
                <a:solidFill>
                  <a:srgbClr val="000000"/>
                </a:solidFill>
                <a:latin typeface="Arial"/>
              </a:rPr>
              <a:t>Prepare muy bien el comienzo.</a:t>
            </a:r>
            <a:r>
              <a:rPr b="0" lang="es-ES" sz="1200" spc="-1" strike="noStrike">
                <a:solidFill>
                  <a:srgbClr val="000000"/>
                </a:solidFill>
                <a:latin typeface="Arial"/>
              </a:rPr>
              <a:t>  Sea cual sea la técnica que elija para el comienzo, debería estar bien ensayada y ser dada con pocas notas y mucho contacto visual. Un chiste cuidadosamente probado o el sentido del humor puede conseguir respuestas positivas desde el primer minuto si se maneja bien. Esto la coloca al control, donde necesita estar durante el resto del seminario, y da confianza en usted y en lo que presenta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lang="es-ES" sz="1200" spc="-1" strike="noStrike">
                <a:solidFill>
                  <a:srgbClr val="000000"/>
                </a:solidFill>
                <a:latin typeface="Arial"/>
              </a:rPr>
              <a:t>	</a:t>
            </a:r>
            <a:r>
              <a:rPr b="1" i="1" lang="es-ES" sz="1200" spc="-1" strike="noStrike">
                <a:solidFill>
                  <a:srgbClr val="000000"/>
                </a:solidFill>
                <a:latin typeface="Arial"/>
              </a:rPr>
              <a:t>Que la introducción sea breve</a:t>
            </a:r>
            <a:r>
              <a:rPr b="0" lang="es-ES" sz="1200" spc="-1" strike="noStrike">
                <a:solidFill>
                  <a:srgbClr val="000000"/>
                </a:solidFill>
                <a:latin typeface="Arial"/>
              </a:rPr>
              <a:t>.  Ya sea si alguien la introduce o se introduce a sí misma, sea breve. Comunique inmediatamente a la gente que está contenta de estar allí, que está feliz por la presencia de ellos, y que le importan. Es más probable que las personas respondan positivamente si saben que le impor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0" lang="es-ES" sz="1200" spc="-1" strike="noStrike">
                <a:solidFill>
                  <a:srgbClr val="000000"/>
                </a:solidFill>
                <a:latin typeface="Arial"/>
              </a:rPr>
              <a:t>	</a:t>
            </a:r>
            <a:r>
              <a:rPr b="1" i="1" lang="es-ES" sz="1200" spc="-1" strike="noStrike">
                <a:solidFill>
                  <a:srgbClr val="000000"/>
                </a:solidFill>
                <a:latin typeface="Arial"/>
              </a:rPr>
              <a:t>Cucardas.  </a:t>
            </a:r>
            <a:r>
              <a:rPr b="0" lang="es-ES" sz="1200" spc="-1" strike="noStrike">
                <a:solidFill>
                  <a:srgbClr val="000000"/>
                </a:solidFill>
                <a:latin typeface="Arial"/>
              </a:rPr>
              <a:t>El sonido más dulce para cualquier persona es su propio nombre. Las cucardas suelen ser muy útiles para crear una atmósfera tranquila. En algunos seminarios solamente se exhiben los primeros nombres, para que las personas bien conocidas se mezclen mejor con el grupo y nadie esté susurrando que fulano y mengano están pres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0" lang="es-ES" sz="1200" spc="-1" strike="noStrike">
                <a:solidFill>
                  <a:srgbClr val="000000"/>
                </a:solidFill>
                <a:latin typeface="Arial"/>
              </a:rPr>
              <a:t>	</a:t>
            </a:r>
            <a:r>
              <a:rPr b="1" i="1" lang="es-ES" sz="1200" spc="-1" strike="noStrike">
                <a:solidFill>
                  <a:srgbClr val="000000"/>
                </a:solidFill>
                <a:latin typeface="Arial"/>
              </a:rPr>
              <a:t>Recreos</a:t>
            </a:r>
            <a:r>
              <a:rPr b="0" lang="es-ES" sz="1200" spc="-1" strike="noStrike">
                <a:solidFill>
                  <a:srgbClr val="000000"/>
                </a:solidFill>
                <a:latin typeface="Arial"/>
              </a:rPr>
              <a:t>.  Deberían hacerse recreos cada hora o cada hora y media. Los recreos no necesariamente necesitan durar 20 o 30 minutos. A veces puede simplemente pedirles a los participantes que se pongan de pie para estirarse un poco.  Si anuncia un recreo de 10 minutos, hágalo cumplir. Comience a hablar en 10 minutos a quienes estén, aunque la sala esté medio vacía. Una vez que el grupo aprende que hablas en serio, estarán más dispuestos a volver a tiemp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NECESITA TRADUCCIÓN (RP-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seminario y el tema que presenta han resultado tan vitales que otros fuera de su esfera inmediata se pueden beneficiar, se la podría invitar a presentarlo en un área donde sea necesario traducirlo a otro idioma. Esto será especialmente real si usted escribe un libro sobre el tema. Los autores son vistos como autoridades en el tema del cual escriben. Cuando se necesita una traducción, recuerde las siguientes recomendac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a:t>
            </a:r>
            <a:r>
              <a:rPr b="0" lang="es-ES" sz="1000" spc="-1" strike="noStrike">
                <a:solidFill>
                  <a:srgbClr val="000000"/>
                </a:solidFill>
                <a:latin typeface="Arial"/>
              </a:rPr>
              <a:t>	</a:t>
            </a:r>
            <a:r>
              <a:rPr b="0" lang="es-ES" sz="1000" spc="-1" strike="noStrike">
                <a:solidFill>
                  <a:srgbClr val="000000"/>
                </a:solidFill>
                <a:latin typeface="Arial"/>
              </a:rPr>
              <a:t>Evitar expresiones idiomáticas. Resultan difíciles sino imposibles de traducir.  Por ejemplo, tomemos del idioma inglés, “Well, that was an off-the-wall remark” (“Bueno, esa afirmación salió de la pared) queriendo decir que la afirmación estaba descolgada o no era apropiada. Usted y yo podríamos estar familiarizadas con una expresión así, pero un traductor generalmente no lo estará y podría tratar de darle una traducción literal que no tendrá sentido para una audiencia y podría terminar en risas o confusió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a:t>
            </a:r>
            <a:r>
              <a:rPr b="0" lang="es-ES" sz="1000" spc="-1" strike="noStrike">
                <a:solidFill>
                  <a:srgbClr val="000000"/>
                </a:solidFill>
                <a:latin typeface="Arial"/>
              </a:rPr>
              <a:t>	</a:t>
            </a:r>
            <a:r>
              <a:rPr b="0" lang="es-ES" sz="1000" spc="-1" strike="noStrike">
                <a:solidFill>
                  <a:srgbClr val="000000"/>
                </a:solidFill>
                <a:latin typeface="Arial"/>
              </a:rPr>
              <a:t>Hable en frases u oraciones cortas, más bien que párrafos.  Cuanto mas largo hable antes de esperar una traducción, se acrecienta la posibilidad de que su traductor olvide algo de lo que se dijo. Esto incrementa las posibilidades de cometer errores y se presta a malas comprens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a:t>
            </a:r>
            <a:r>
              <a:rPr b="0" lang="es-ES" sz="1000" spc="-1" strike="noStrike">
                <a:solidFill>
                  <a:srgbClr val="000000"/>
                </a:solidFill>
                <a:latin typeface="Arial"/>
              </a:rPr>
              <a:t>	</a:t>
            </a:r>
            <a:r>
              <a:rPr b="0" lang="es-ES" sz="1000" spc="-1" strike="noStrike">
                <a:solidFill>
                  <a:srgbClr val="000000"/>
                </a:solidFill>
                <a:latin typeface="Arial"/>
              </a:rPr>
              <a:t>Utilice lenguaje común más bien que terminología técnica.  Aunque su traductor pueda conocer bien el idioma inglés, esto no significa que conocerá o entenderá palabras difíciles o poco conocidas. Tanto como sea posible, exponga su presentación en lenguaje sencillo, de todos los día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a:t>
            </a:r>
            <a:r>
              <a:rPr b="0" lang="es-ES" sz="1000" spc="-1" strike="noStrike">
                <a:solidFill>
                  <a:srgbClr val="000000"/>
                </a:solidFill>
                <a:latin typeface="Arial"/>
              </a:rPr>
              <a:t>	</a:t>
            </a:r>
            <a:r>
              <a:rPr b="0" lang="es-ES" sz="1000" spc="-1" strike="noStrike">
                <a:solidFill>
                  <a:srgbClr val="000000"/>
                </a:solidFill>
                <a:latin typeface="Arial"/>
              </a:rPr>
              <a:t>Anime a su traductor a leer sus notas del tema con anticipación.  Esto le dará tiempo al traductor para buscar y pensar palabras o frases no conocidas o que tal vez no comprenda bien, le dará a ambos más confianza de que el mensaje pueda ser transmitido con facilidad, y fácilmente comprendido aún en una cultura difer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a:t>
            </a:r>
            <a:r>
              <a:rPr b="0" lang="es-ES" sz="1000" spc="-1" strike="noStrike">
                <a:solidFill>
                  <a:srgbClr val="000000"/>
                </a:solidFill>
                <a:latin typeface="Arial"/>
              </a:rPr>
              <a:t>	</a:t>
            </a:r>
            <a:r>
              <a:rPr b="0" lang="es-ES" sz="1000" spc="-1" strike="noStrike">
                <a:solidFill>
                  <a:srgbClr val="000000"/>
                </a:solidFill>
                <a:latin typeface="Arial"/>
              </a:rPr>
              <a:t>Sea cuidadoso con el humor.  Algunas veces lo que es divertido en su país, puede que no lo sea en Ucrania o Japón. Es recomendable que se cerciore anticipadamente con el traductor, cuando va a contar algún chiste, anécdota o cuent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a:t>
            </a:r>
            <a:r>
              <a:rPr b="0" lang="es-ES" sz="1000" spc="-1" strike="noStrike">
                <a:solidFill>
                  <a:srgbClr val="000000"/>
                </a:solidFill>
                <a:latin typeface="Arial"/>
              </a:rPr>
              <a:t>	</a:t>
            </a:r>
            <a:r>
              <a:rPr b="0" lang="es-ES" sz="1000" spc="-1" strike="noStrike">
                <a:solidFill>
                  <a:srgbClr val="000000"/>
                </a:solidFill>
                <a:latin typeface="Arial"/>
              </a:rPr>
              <a:t>Envíe sus  materiales  de powerPoints, filminas de retro proyector, y materiales para repartir a la organización auspiciante, con anticipación, así pueden prepararlas en el idioma de la gen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79320"/>
            <a:ext cx="4533840" cy="3400560"/>
          </a:xfrm>
          <a:prstGeom prst="rect">
            <a:avLst/>
          </a:prstGeom>
          <a:ln w="0">
            <a:noFill/>
          </a:ln>
        </p:spPr>
      </p:sp>
      <p:sp>
        <p:nvSpPr>
          <p:cNvPr id="9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INTRODUCCIÓN (RP-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es un seminario y cómo difiere de una charla de meditación, un sermón, o una conferencia? Un seminario difiere en que es un intercambio de información que está confinada a un tema específico. La información presentada contesta preguntas y normalmente resuelve problemas específicos. Un seminario bien diseñado puede afectar profundamente a la vida personal, profesional, o espiritual del participante. Los seminarios pueden durar entre una hora y varios días. Cubren en profundidad un tema específico, pero no son tan extensos o completos como una cátedra universit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u éxito como presentadora de seminarios involucra el dominio de dos aptitudes. La primera se trata de pararse delante de un grupo de personas y tratar con habilidad un tema específico con contenido y estructura. Cuando está preparada para dar un seminario fantástico, su reputación la precederá. La calidad hará que lleguen invitaciones para hablar. Así habrán participantes que anhelan escuchar lo que tiene para compartir, y refer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segunda aptitud involucra llevarla frente a un grupo de personas. También incluye la promoción del seminario. El mejor seminario del mundo carece de valor si nadie está presente para recibir la información. Trataremos más adelante con esta segunda aptitud.</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62080" y="679320"/>
            <a:ext cx="4533840" cy="3400560"/>
          </a:xfrm>
          <a:prstGeom prst="rect">
            <a:avLst/>
          </a:prstGeom>
          <a:ln w="0">
            <a:noFill/>
          </a:ln>
        </p:spPr>
      </p:sp>
      <p:sp>
        <p:nvSpPr>
          <p:cNvPr id="12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H-1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0" lang="es-ES" sz="1000" spc="-1" strike="noStrike">
                <a:solidFill>
                  <a:srgbClr val="000000"/>
                </a:solidFill>
                <a:latin typeface="Arial"/>
              </a:rPr>
              <a:t>7. </a:t>
            </a:r>
            <a:r>
              <a:rPr b="0" lang="es-ES" sz="1000" spc="-1" strike="noStrike">
                <a:solidFill>
                  <a:srgbClr val="000000"/>
                </a:solidFill>
                <a:latin typeface="Arial"/>
              </a:rPr>
              <a:t>	</a:t>
            </a:r>
            <a:r>
              <a:rPr b="0" lang="es-ES" sz="1000" spc="-1" strike="noStrike">
                <a:solidFill>
                  <a:srgbClr val="000000"/>
                </a:solidFill>
                <a:latin typeface="Arial"/>
              </a:rPr>
              <a:t>Consiga un ritmo de traducción correcto.  No trate de hablar encimado con su traductor.  Espere hasta que el traductor haya terminado de hablar antes de comenzar. Sin embargo, no permita que su presentación quede retraza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8. </a:t>
            </a:r>
            <a:r>
              <a:rPr b="0" lang="es-ES" sz="1000" spc="-1" strike="noStrike">
                <a:solidFill>
                  <a:srgbClr val="000000"/>
                </a:solidFill>
                <a:latin typeface="Arial"/>
              </a:rPr>
              <a:t>	</a:t>
            </a:r>
            <a:r>
              <a:rPr b="0" lang="es-ES" sz="1000" spc="-1" strike="noStrike">
                <a:solidFill>
                  <a:srgbClr val="000000"/>
                </a:solidFill>
                <a:latin typeface="Arial"/>
              </a:rPr>
              <a:t>Permanezca concentrada.  Puede resultar que mientras su traductor está traduciendo lo que acaba de decir, su mente comience a dispersarse. De pronto se calla el traductor, se da cuenta de que es su turno de hablar otra vez, ¡Pero usted no puede recordar lo último que ha dicho!  Perder el  hilo de pensamiento y comenzar a balbucear es todo menos profesional. Manténgase concentrada, sosteniendo el último pensamiento expresado de modo que en el instante en que su traductor se detiene, usted puede transmitir su siguiente pensamiento sin perder el ritm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9.  </a:t>
            </a:r>
            <a:r>
              <a:rPr b="0" lang="es-ES" sz="1000" spc="-1" strike="noStrike">
                <a:solidFill>
                  <a:srgbClr val="000000"/>
                </a:solidFill>
                <a:latin typeface="Arial"/>
              </a:rPr>
              <a:t>	</a:t>
            </a:r>
            <a:r>
              <a:rPr b="0" lang="es-ES" sz="1000" spc="-1" strike="noStrike">
                <a:solidFill>
                  <a:srgbClr val="000000"/>
                </a:solidFill>
                <a:latin typeface="Arial"/>
              </a:rPr>
              <a:t>Acorte su presentación a la mitad.  La traducción a menudo lleva más palabras para clarificar los pensamientos. Por lo tanto, usted no puede presentar todos los puntos que tenía en un módulo. Puede ser necesario recortar su presentación casi a la mit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  </a:t>
            </a:r>
            <a:r>
              <a:rPr b="0" lang="es-ES" sz="1000" spc="-1" strike="noStrike">
                <a:solidFill>
                  <a:srgbClr val="000000"/>
                </a:solidFill>
                <a:latin typeface="Arial"/>
              </a:rPr>
              <a:t>	</a:t>
            </a:r>
            <a:r>
              <a:rPr b="0" lang="es-ES" sz="1000" spc="-1" strike="noStrike">
                <a:solidFill>
                  <a:srgbClr val="000000"/>
                </a:solidFill>
                <a:latin typeface="Arial"/>
              </a:rPr>
              <a:t>Pídale a su traductor que permanezca con usted luego de la presentación.  La gente puede desear hacerle preguntas al terminar su presentación.  Si no puede comunicarse en su idioma, será imposible que pueda responder a las pregunt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1.  </a:t>
            </a:r>
            <a:r>
              <a:rPr b="0" lang="es-ES" sz="1000" spc="-1" strike="noStrike">
                <a:solidFill>
                  <a:srgbClr val="000000"/>
                </a:solidFill>
                <a:latin typeface="Arial"/>
              </a:rPr>
              <a:t>	</a:t>
            </a:r>
            <a:r>
              <a:rPr b="0" lang="es-ES" sz="1000" spc="-1" strike="noStrike">
                <a:solidFill>
                  <a:srgbClr val="000000"/>
                </a:solidFill>
                <a:latin typeface="Arial"/>
              </a:rPr>
              <a:t>Averigüe con anticipación para saber si hay diferencias culturales  que necesitan que se las tome en cuenta antes de su charla, o cualquier asunto delicado que deba evit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2.  </a:t>
            </a:r>
            <a:r>
              <a:rPr b="0" lang="es-ES" sz="1000" spc="-1" strike="noStrike">
                <a:solidFill>
                  <a:srgbClr val="000000"/>
                </a:solidFill>
                <a:latin typeface="Arial"/>
              </a:rPr>
              <a:t>	</a:t>
            </a:r>
            <a:r>
              <a:rPr b="0" lang="es-ES" sz="1000" spc="-1" strike="noStrike">
                <a:solidFill>
                  <a:srgbClr val="000000"/>
                </a:solidFill>
                <a:latin typeface="Arial"/>
              </a:rPr>
              <a:t>Al concluir el seminario, agradezca a su traductor públicamente. La mayoría de las veces, los traductores no reciben remuneración por sus servicios.  Sería lindo hacerle un pequeño regalo a su traduct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62080" y="679320"/>
            <a:ext cx="4533840" cy="3400560"/>
          </a:xfrm>
          <a:prstGeom prst="rect">
            <a:avLst/>
          </a:prstGeom>
          <a:ln w="0">
            <a:noFill/>
          </a:ln>
        </p:spPr>
      </p:sp>
      <p:sp>
        <p:nvSpPr>
          <p:cNvPr id="12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L TERMINAR UN SEMINARIO (RP-17)</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egúrese al terminar su seminario de resumir los puntos principales.  Antes de sentarse, recuerde de agradecer a aquellos que lo han auspiciado y ayudado con los detalles. También extienda un agradecimiento a aquellos que han asistido al seminario. ¡Sin ellos no hubiera sido posible llevar a cabo su seminari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Una de las cosas más importante a considerar; es la de dejar un desafío, que coloque sobre los asistentes, la responsabilidad de producir cambio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u objetivo, al cerrar el seminario es que cada uno que se retire, se sienta bien acerca de su experiencia con usted y lo que han aprendido.  Utilice humor, inventiva, citas chistosas o motivadoras, o un relato de éxito; cualquier cosa que haga sentir bien a la gente. Prepare cuidadosamente esta parte del seminario. EL cierre debe ser bien pulido y diseñado especialmente para producir resultados positivo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 último, pero no por eso menos importante, termine a tiempo.  Una presentadora efectiva de seminarios comienza y termina a tiempo. Aquellos que asisten han arreglado las cosas de acuerdo a los horarios anunciados. Terminar tarde es una falta de cortesía para con los asistentes. Después del cierre del seminario, siéntase libre para pasearse y hablar entre la gente personalmente o de responder a pregunta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n el momento de clausura de su seminario, posiblemente se sentirá en la “cumbre”. Y así debiera ser. Una presentadora efectiva de seminarios se asemeja mucho a un actor en el escenario. Ha transmitido lo mejor. Cualquier retroalimentación positiva que reciba alimentará esa sensación de estar en la “cumbre”.  Además usted ha hecho una contribución positiva a las vidas de otros, lo que le ha exigido una increíble cantidad de creatividad de su parte. Haga intentos constantes de ponerse al día con la información mientras experimenta, modifica, e intenta mejorar sus habilidades. Presentar seminarios ofrece increíbles recompensas mientras intenta mejorar las vidas de aquellos que la escuche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FORMULARIOS DE EVALUACIÓ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os formularios de evaluación se pueden incluir con el resto del material que se entregue; pero siempre debe estar en una hoja separada, siendo que se deben devolver. Mediante una evaluación bien diseñada, usted puede recibir información que le será útil para mejorar su seminario. Cuando las esté leyendo, busque los comentarios similares. Si varias personas le dicen de una u otra forma que no pudieron leer su presentación visual, usted sabrá que esa área del seminario necesita que se la mejor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 perita que algún comentario negativo la destruya; lo que puede suceder a menudo luego de haber trabajado diligentemente para preparar un seminario efectivo.  Puede ser que esta persona haya estado en un mal día. Solicite a las asistentes que coloquen su nombre en la evaluación, aunque no lo exija. Las participantes serán generalmente más amables cuando tienen que identificars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62080" y="679320"/>
            <a:ext cx="4533840" cy="3400560"/>
          </a:xfrm>
          <a:prstGeom prst="rect">
            <a:avLst/>
          </a:prstGeom>
          <a:ln w="0">
            <a:noFill/>
          </a:ln>
        </p:spPr>
      </p:sp>
      <p:sp>
        <p:nvSpPr>
          <p:cNvPr id="10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REQUISITOS PARA EL ÉXITO (RP-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y tres requisitos para el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a:t>
            </a:r>
            <a:r>
              <a:rPr b="0" lang="es-AR" sz="1200" spc="-1" strike="noStrike">
                <a:solidFill>
                  <a:srgbClr val="000000"/>
                </a:solidFill>
                <a:latin typeface="Arial"/>
              </a:rPr>
              <a:t>	</a:t>
            </a:r>
            <a:r>
              <a:rPr b="1" lang="es-AR" sz="1200" spc="-1" strike="noStrike">
                <a:solidFill>
                  <a:srgbClr val="000000"/>
                </a:solidFill>
                <a:latin typeface="Arial"/>
              </a:rPr>
              <a:t>Conocimiento.</a:t>
            </a:r>
            <a:r>
              <a:rPr b="0" lang="es-AR" sz="1200" spc="-1" strike="noStrike">
                <a:solidFill>
                  <a:srgbClr val="000000"/>
                </a:solidFill>
                <a:latin typeface="Arial"/>
              </a:rPr>
              <a:t> Debe conocer bien su tema. Idealmente, debería poder llamarse una autoridad en el tema. Aunque ya posea las credenciales que establecen su credibilidad, debe trabajar continuamente para actualizar su conocimiento. Lea tantos libros como pueda que se relacionen con el tema. Además, mire videos y escuche casetes. Puede aprender de sus colegas asistiendo a sus seminarios. Para mantenerse al tanto del tema, puede subscribirse a periódicos que provean información actualizada. Únase a organizaciones que tratan el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a:t>
            </a:r>
            <a:r>
              <a:rPr b="1" lang="es-AR" sz="1200" spc="-1" strike="noStrike">
                <a:solidFill>
                  <a:srgbClr val="000000"/>
                </a:solidFill>
                <a:latin typeface="Arial"/>
              </a:rPr>
              <a:t>	</a:t>
            </a:r>
            <a:r>
              <a:rPr b="1" lang="es-AR" sz="1200" spc="-1" strike="noStrike">
                <a:solidFill>
                  <a:srgbClr val="000000"/>
                </a:solidFill>
                <a:latin typeface="Arial"/>
              </a:rPr>
              <a:t>Actitud.</a:t>
            </a:r>
            <a:r>
              <a:rPr b="0" lang="es-AR" sz="1200" spc="-1" strike="noStrike">
                <a:solidFill>
                  <a:srgbClr val="000000"/>
                </a:solidFill>
                <a:latin typeface="Arial"/>
              </a:rPr>
              <a:t>  El segundo requisito es su actitud. Así como en todas las cosas, logrará muy poco al menos que posea el compromiso para vencer todos los obstáculos que obstruyen su progreso. La confianza sigue al compromiso a su tarea. La confianza es crítica para obtener el apoyo de los demás. Quizá no siempre esté confiada, pero siempre es posible exhibir confianza. Cuando está comprometida y confiada, tiene un sentido de misión y propósito al crear y presentar su progra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siente que el seminario que ha creado beneficiará a los demás, y que lo que tiene para compartir es más vocación que trabajo, su potencial para el éxito es casi ilimitado. Sin embargo, a lo largo del camino enfrentará numerosos desafíos y posiblemente algún fracaso. De manera que es imperativo tener la habilidad de recuperarse y conservar el rumbo con una mentalidad 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Y recuerde: si no sabe lo que desea, no es probable que lo obtenga. Por lo tanto, poner metas debe convertirse en un hábito, no un pensamiento ocasional. Las metas deberían ser a corto, mediano o largo plazo e incluir fechas tentativas para alcanzarlas. Una meta a corto plazo podría ser escribir el resumen de un nuevo tema de seminario. Una meta a mediano plazo puede  consistir en completar notas y preparar ayudas visuales para el seminario. La meta a largo plazo sería conseguir la invitación para presentar el nuevo tema. Lograr estas metas requiere la inversión de muchas formas de energía. La energía creativa es necesaria para armar el programa y la energía mental para investigar la información. Debe tener energía física para presentar el seminario y soportar los ritmos agitados de viaje. Y para que las personas participantes realmente nos importen, necesitamos energía emo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a:t>
            </a:r>
            <a:r>
              <a:rPr b="1" lang="es-AR" sz="1200" spc="-1" strike="noStrike">
                <a:solidFill>
                  <a:srgbClr val="000000"/>
                </a:solidFill>
                <a:latin typeface="Arial"/>
              </a:rPr>
              <a:t>	</a:t>
            </a:r>
            <a:r>
              <a:rPr b="1" lang="es-AR" sz="1200" spc="-1" strike="noStrike">
                <a:solidFill>
                  <a:srgbClr val="000000"/>
                </a:solidFill>
                <a:latin typeface="Arial"/>
              </a:rPr>
              <a:t>Habilidades</a:t>
            </a:r>
            <a:r>
              <a:rPr b="0" lang="es-AR" sz="1200" spc="-1" strike="noStrike">
                <a:solidFill>
                  <a:srgbClr val="000000"/>
                </a:solidFill>
                <a:latin typeface="Arial"/>
              </a:rPr>
              <a:t>.  El tercer requisito es la habilidad. Aunque la palabra hablada es su método básico de comunicación, también se requieren habilidades para escribir. Quizá no sea una autora famosa, pero si no posee la habilidad de escribir persuasivamente, debería leer libros acerca del tema o atender a clases para conseguir la habilidad. Si habrá de influenciar a las personas sus cartas, cuadernos de actividades, folletos y otros materiales deben ser de alt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abilidad de presentar un seminario profesional requiere más que pararse en frente de un grupo y exponer un tema. Hoy en día, usted debe poder transmitir humor e incluir audiovisuales y alguna representación en su presentación. Aún si ya posee habilidades para hablar en público, no se quede con eso. Apunte a lograr habilidades superiores, luchando constantemente por mejorar de manera que pueda sobresal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os tiempos les casi obligatorio manejar la computadora y procesador de palabras, de manera que pueda escribir cartas y crear materiales para entregar y libros de trabajo. Una computadora le ahorrará tiempo y dinero a largo plazo.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62080" y="679320"/>
            <a:ext cx="4533840" cy="3400560"/>
          </a:xfrm>
          <a:prstGeom prst="rect">
            <a:avLst/>
          </a:prstGeom>
          <a:ln w="0">
            <a:noFill/>
          </a:ln>
        </p:spPr>
      </p:sp>
      <p:sp>
        <p:nvSpPr>
          <p:cNvPr id="10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RATEGIAS PARA ARMAR UN SEMINARIO (RP-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fácil diseñar un seminario si recuerda tres recomendaciones si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i="1" lang="es-ES" sz="1200" spc="-1" strike="noStrike">
                <a:solidFill>
                  <a:srgbClr val="000000"/>
                </a:solidFill>
                <a:latin typeface="Arial"/>
              </a:rPr>
              <a:t>Adáptese al nivel de su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encuentra su audiencia en un nivel principiante, intermedio o avanzado de su tema?  Un error común es crear un seminario que es ya sea, muy avanzado o demasiado elemental para aquellos a quien va dirigido. Cualquiera de las dos formas resultará en frustración, y los asistentes no obtendrán lo que vinieron a buscar. Por ejemplo, si usted está presentando un seminario sobre liderazgo para flamantes líderes de los MM, su seminario debiera ser muy amplio. Ellas necesitan una comprensión básica de su nueva posición. Por otro lado, si su grupo consiste en líderes de experiencia, se aburrirían con materiales de los cuales han escuchado antes posibl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0" i="1" lang="es-ES" sz="1200" spc="-1" strike="noStrike">
                <a:solidFill>
                  <a:srgbClr val="000000"/>
                </a:solidFill>
                <a:latin typeface="Arial"/>
              </a:rPr>
              <a:t>Descubra lo que necesita aprender su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beneficios esperan sus participantes? Un tema de interés para las líderes de los MM; es cómo planificar eventos exitosos.  Tendrá garantizados bueno comentarios, si las ayuda a lograr esta m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0" i="1" lang="es-ES" sz="1200" spc="-1" strike="noStrike">
                <a:solidFill>
                  <a:srgbClr val="000000"/>
                </a:solidFill>
                <a:latin typeface="Arial"/>
              </a:rPr>
              <a:t>Enfóquese en habilidades útiles.</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las líderes de los MM, desearán aprender cómo conducir reuniones de juntas, preparar una agenda, y manejar mociones ante el grupo. Las habilidades que su grupo necesita serán sus objetivos.  Al lograr los obejtivos citados, el grupo podrá llegar a donde desean 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ya ha presentado su seminario, puede re definir y diseñar su seminario con información que reciba de las asistentes. La información proviene de la retroalimentación de las asistentes ya sea verba o a través de evaluaciones que se hayan hecho al terminar el seminari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603440" y="679320"/>
            <a:ext cx="3728880" cy="2797200"/>
          </a:xfrm>
          <a:prstGeom prst="rect">
            <a:avLst/>
          </a:prstGeom>
          <a:ln w="0">
            <a:noFill/>
          </a:ln>
        </p:spPr>
      </p:sp>
      <p:sp>
        <p:nvSpPr>
          <p:cNvPr id="105" name="PlaceHolder 2"/>
          <p:cNvSpPr>
            <a:spLocks noGrp="1"/>
          </p:cNvSpPr>
          <p:nvPr>
            <p:ph type="body"/>
          </p:nvPr>
        </p:nvSpPr>
        <p:spPr>
          <a:xfrm>
            <a:off x="685800" y="3627000"/>
            <a:ext cx="5486400" cy="4761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SEÑO DE PRESENTACIÓN MODULAR (DPM)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os módulos hacen posible que los participantes puedan digerir grandes cantidades de información.  Se podría comparar con cortar su alimento en bocados tragables más bien que tratar de tragarlo ent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Utilizar el diseño modular, le permitirá readaptarse; proveyendo mayor confiabilidad al seminario.  También podrá adaptar el diseño a los clientes de un grupo específico. Por ejemplo, si su grupo ya sabe cómo dirigir reuniones de juntas, se puede abandonar ese módulo e invertir el tiempo cubriendo otro tópico necesario de liderazgo. Un módulo de Administración del tiempo para las líderes de los Ministerios de la Mujer podrá incluir “Cómo estar al día con citas y responsabilidades”.  Cuando utiliza la presentación modular; descubrirá que la investigación y preparación de su tema es más fácil.  Cada módulo se transforma en un mini seminario con una apertura, una parte central y un cier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sta preparación por módulos facilita el diseño de materiales para repartir, manuales de trabajos, capítulos de un libro y hasta los programas de audio o videos.  También descubrirá que las participantes aprecian el sentimiento de logro que se obtiene al progresar de un módulo al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demás, usted puede crear programas que se desgranan de una idea original.  Por ejemplo, uno podría escoger de hacer un seminario para mujeres sobre administración del tiempo en el hogar titulado “Organización del hogar para mujeres ocupadas.”   Mientras estas ideas se lanzan para ser valoradas por madres ocupadas con pequeños niños, se puede desarrollar una lista de preocupaciones que aparecerán de paso.  Esta lista podría parecerse a lo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manejar albor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hacer las comp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Preparación de com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El método más rápido de hacer las tarea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Las mejores técnicas de limpie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encontrar tiempo para usted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conseguir que su esposo y sus hijos la ayuden con las tareas y a mantener las cosas en 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stos puntos enlistados se transformaran en bloques para construir los módulos en el seminario. Se debe investigar cada punto independientemente con estrategias que funcionen. Se citan ejemplos y podrá nacer un nuevo seminario de tres horas. Está partido en siete módulos. El primer módulo se vuelve a dividir de la siguiente man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Secreto N° 1 para mantenerse cuerda: Un plan personal diario para lograr que se hagan las tarea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1.  Administración del hogar: una tremenda responsabilidad y un desafí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2. ¿Por dónde comen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3. Planificar: una clave para mantenerse cue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4. El plan personal di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5. Cinco pasos para crear su propio plan personal di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mo podrá ver de este ejemplo, el diseño modular simplifica el proceso de preparación de un seminario efectivo y completo.  Con un poco de práctica, usted también podrá volverse experta en la presentación modular para crear sus propios seminarios rápida y fáci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628640" y="679320"/>
            <a:ext cx="3829320" cy="2872080"/>
          </a:xfrm>
          <a:prstGeom prst="rect">
            <a:avLst/>
          </a:prstGeom>
          <a:ln w="0">
            <a:noFill/>
          </a:ln>
        </p:spPr>
      </p:sp>
      <p:sp>
        <p:nvSpPr>
          <p:cNvPr id="107" name="PlaceHolder 2"/>
          <p:cNvSpPr>
            <a:spLocks noGrp="1"/>
          </p:cNvSpPr>
          <p:nvPr>
            <p:ph type="body"/>
          </p:nvPr>
        </p:nvSpPr>
        <p:spPr>
          <a:xfrm>
            <a:off x="685800" y="3778200"/>
            <a:ext cx="5486400" cy="461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ESCOGER UN TEMA QUE ASEGURE EL ÉXITO (RP-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tema exitoso debe incluir cuatro rasgos import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lang="es-ES" sz="1200" spc="-1" strike="noStrike">
                <a:solidFill>
                  <a:srgbClr val="000000"/>
                </a:solidFill>
                <a:latin typeface="Arial"/>
              </a:rPr>
              <a:t>	</a:t>
            </a:r>
            <a:r>
              <a:rPr b="0" lang="es-ES" sz="1200" spc="-1" strike="noStrike">
                <a:solidFill>
                  <a:srgbClr val="000000"/>
                </a:solidFill>
                <a:latin typeface="Arial"/>
              </a:rPr>
              <a:t>Escoja un tema que la apasi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ema le resulta fascinante?  ¿Qué información importante le gustaría compartir con otras?  El eminente educador Dale Carnegie dijo una vez que una persona nunca obtendrá éxito verdadero a menos que le guste lo que está haciendo.”  Esto se vuelve crítico a la hora de escoger un tema. Debe ser un tema que la entusiasme. ¿La razón? Nadie se sentirá entusiasmado con su tema hasta qué usted lo esté. Cuando usted se entusiasma, llegará a ser contagiosa y entonces estará en una posición que motivará a las participantes. La habilidad de motivar es esencial para cualquier líder de seminarios y constituye la diferencia entre recibir comentarios buenos o excel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e encanta su tema, naturalmente se mantendrá al día e informada acerca del mismo. Cuando usted está bien informada, presentará su seminario en una forma más relajad y segura. Esto dará como resultado que un grupo sea realmente inspirado por lo que usted presente. Recuerde sin embargo, en definitiva, serán las participantes las que decidan si el tema que ha escogido es bueno o no, y no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0" lang="es-ES" sz="1200" spc="-1" strike="noStrike">
                <a:solidFill>
                  <a:srgbClr val="000000"/>
                </a:solidFill>
                <a:latin typeface="Arial"/>
              </a:rPr>
              <a:t>Escoja un tema que provea información difícil de encontrar que se pueda aplicar fácil y rápi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vimos en una época donde la información se difunde velozmente a través de la televisión, correo electrónico y teléfonos celulares. La gente es capaz de pagar enormes sumas de dinero para conseguir respuestas inmediatas que puedan traer alivio instantáneo a sus d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requisito que debe llenar el tema que elija debe ser el de responder a las preguntas: ¿Necesita la gente y desea desesperadamente la información que ha elegido para presentar? ¿Se están presentando en este momento otros seminarios similares a éste tema? ¿Se han presentado anteriormente seminarios sobre este tema? ¿Es un tema de interés actual y al que se le presta atención en los medios de comunicación?  Si ya se ha presentado exitosamente en el pasado, podrá ser presentado probablemente con éxito similar. Si nunca se ha presentado antes, su seminario ¡Tiene asegurado el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0" lang="es-ES" sz="1200" spc="-1" strike="noStrike">
                <a:solidFill>
                  <a:srgbClr val="000000"/>
                </a:solidFill>
                <a:latin typeface="Arial"/>
              </a:rPr>
              <a:t>Escoja un seminario con un enfoque específ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formas de seleccionar un enfoque: ya sea por tema o por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 ambos).  Digamos que el tema  seleccionado es valioso en sí mismo. Es un tema amplio. Para enfocarlo hacia la audiencia, podría ser el de autoestima para las mujeres. Si queremos un enfoque más específico, podríamos elegir la autoestima de las mujeres divorciadas o viudas. Y todavía se lo podría llevar un paso más allá, enfocándose en la autoestima de las mujeres divorciadas o viudas menores de 35 años que tienen niñ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lang="es-ES" sz="1200" spc="-1" strike="noStrike">
                <a:solidFill>
                  <a:srgbClr val="000000"/>
                </a:solidFill>
                <a:latin typeface="Arial"/>
              </a:rPr>
              <a:t>	</a:t>
            </a:r>
            <a:r>
              <a:rPr b="0" lang="es-ES" sz="1200" spc="-1" strike="noStrike">
                <a:solidFill>
                  <a:srgbClr val="000000"/>
                </a:solidFill>
                <a:latin typeface="Arial"/>
              </a:rPr>
              <a:t>Elija un tema que provea recompensas específ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ente invierte la mayor parte de cada día, consciente o inconscientemente, intentando obtener recompensas y evitar castigos. La gente no desea seminarios por tomar seminarios.  Están buscando los beneficios que los seminarios puedan ofr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compensas que la gente busca incluy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horro de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Reconoc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al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Vivir cóm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utoesti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Incremento de pl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er aceptados soci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Diverti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Mejo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astigos que la gente trata de evitar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Enferm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Perder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In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ol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Mue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Gastar din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real al diseñar un seminario exitoso se encuentra en identificar correctamente los beneficios que cualquier audiencia dada podría desear y entonces proveerles lo que están busc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62080" y="679320"/>
            <a:ext cx="4533840" cy="3400560"/>
          </a:xfrm>
          <a:prstGeom prst="rect">
            <a:avLst/>
          </a:prstGeom>
          <a:ln w="0">
            <a:noFill/>
          </a:ln>
        </p:spPr>
      </p:sp>
      <p:sp>
        <p:nvSpPr>
          <p:cNvPr id="10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a:solidFill>
                  <a:srgbClr val="000000"/>
                </a:solidFill>
                <a:latin typeface="Arial"/>
              </a:rPr>
              <a:t>	</a:t>
            </a:r>
            <a:r>
              <a:rPr b="1" lang="es-ES" sz="1200" spc="-1" strike="noStrike">
                <a:solidFill>
                  <a:srgbClr val="000000"/>
                </a:solidFill>
                <a:latin typeface="Arial"/>
              </a:rPr>
              <a:t>Contenido (R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seminario exitoso no sale por casualidad. Una líder de seminarios debe hacer primero sus tareas. Esto significa identificar primero las necesidades de las partiicipantes, y luego investigar cuidadosamente el tema. Hay tres fuentes primarias de información. La primera es su propia experiencia, que le provee credibilidad; la segunda, hablar con expertos para conseguir otras perspectivas de primera fuente; la tercera, investigar libros, artículos e internet.  El contenido no debiera incluir más que lo siguiente para que se le de créd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i="1" lang="es-ES" sz="1200" spc="-1" strike="noStrike">
                <a:solidFill>
                  <a:srgbClr val="000000"/>
                </a:solidFill>
                <a:latin typeface="Arial"/>
              </a:rPr>
              <a:t> </a:t>
            </a:r>
            <a:r>
              <a:rPr b="1" i="1" lang="es-ES" sz="1200" spc="-1" strike="noStrike">
                <a:solidFill>
                  <a:srgbClr val="000000"/>
                </a:solidFill>
                <a:latin typeface="Arial"/>
              </a:rPr>
              <a:t>Stadísticas. </a:t>
            </a:r>
            <a:r>
              <a:rPr b="0" lang="es-ES" sz="1200" spc="-1" strike="noStrike">
                <a:solidFill>
                  <a:srgbClr val="000000"/>
                </a:solidFill>
                <a:latin typeface="Arial"/>
              </a:rPr>
              <a:t>Su contenido puede ser más sólide e interesanto si utiliza cuadros y estadísticas. Las estadísticas dan crédito y apoyan lo que usted está dicie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 </a:t>
            </a:r>
            <a:r>
              <a:rPr b="1" i="1" lang="es-ES" sz="1200" spc="-1" strike="noStrike">
                <a:solidFill>
                  <a:srgbClr val="000000"/>
                </a:solidFill>
                <a:latin typeface="Arial"/>
              </a:rPr>
              <a:t>Investigación</a:t>
            </a:r>
            <a:r>
              <a:rPr b="0" i="1" lang="es-ES" sz="1200" spc="-1" strike="noStrike">
                <a:solidFill>
                  <a:srgbClr val="000000"/>
                </a:solidFill>
                <a:latin typeface="Arial"/>
              </a:rPr>
              <a:t>.</a:t>
            </a:r>
            <a:r>
              <a:rPr b="0" lang="es-ES" sz="1200" spc="-1" strike="noStrike">
                <a:solidFill>
                  <a:srgbClr val="000000"/>
                </a:solidFill>
                <a:latin typeface="Arial"/>
              </a:rPr>
              <a:t>   La investigación le da credibilidad a su conten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i="1" lang="es-ES" sz="1200" spc="-1" strike="noStrike">
                <a:solidFill>
                  <a:srgbClr val="000000"/>
                </a:solidFill>
                <a:latin typeface="Arial"/>
              </a:rPr>
              <a:t>Hechos.  </a:t>
            </a:r>
            <a:r>
              <a:rPr b="0" i="1" lang="es-ES" sz="1200" spc="-1" strike="noStrike">
                <a:solidFill>
                  <a:srgbClr val="000000"/>
                </a:solidFill>
                <a:latin typeface="Arial"/>
              </a:rPr>
              <a:t>Los hechos apoyan su tema. Por ejemplo, en un seminario para matrimonios,de les podría pedir a las parejas que le den a su esposo /a un beso de 10 segundos</a:t>
            </a:r>
            <a:r>
              <a:rPr b="0" lang="es-ES" sz="1200" spc="-1" strike="noStrike">
                <a:solidFill>
                  <a:srgbClr val="000000"/>
                </a:solidFill>
                <a:latin typeface="Arial"/>
              </a:rPr>
              <a:t>.  Entonces se les podría decir que lo hicieron fácil porque en el </a:t>
            </a:r>
            <a:r>
              <a:rPr b="0" i="1" lang="es-ES" sz="1200" spc="-1" strike="noStrike">
                <a:solidFill>
                  <a:srgbClr val="000000"/>
                </a:solidFill>
                <a:latin typeface="Arial"/>
              </a:rPr>
              <a:t>Guinness Book of World Records</a:t>
            </a:r>
            <a:r>
              <a:rPr b="0" lang="es-ES" sz="1200" spc="-1" strike="noStrike">
                <a:solidFill>
                  <a:srgbClr val="000000"/>
                </a:solidFill>
                <a:latin typeface="Arial"/>
              </a:rPr>
              <a:t> (Libro de records mundiales Guinness) el beso más largo registrado duró 419 segundos y a ellos se les pidió solo por ¡10 segun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1" i="1" lang="es-ES" sz="1200" spc="-1" strike="noStrike">
                <a:solidFill>
                  <a:srgbClr val="000000"/>
                </a:solidFill>
                <a:latin typeface="Arial"/>
              </a:rPr>
              <a:t>Definciones</a:t>
            </a:r>
            <a:r>
              <a:rPr b="0" i="1" lang="es-ES" sz="1200" spc="-1" strike="noStrike">
                <a:solidFill>
                  <a:srgbClr val="000000"/>
                </a:solidFill>
                <a:latin typeface="Arial"/>
              </a:rPr>
              <a:t>.</a:t>
            </a:r>
            <a:r>
              <a:rPr b="0" lang="es-ES" sz="1200" spc="-1" strike="noStrike">
                <a:solidFill>
                  <a:srgbClr val="000000"/>
                </a:solidFill>
                <a:latin typeface="Arial"/>
              </a:rPr>
              <a:t>   Defina cualquier término con el cual no esté familiarizado su audiencia. Las definiciones ayudan a clarificar significados, y pueden utilizarse abiertamente en el seminario o módulo de seminario y enfocar más claramente el conten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i="1" lang="es-ES" sz="1200" spc="-1" strike="noStrike">
                <a:solidFill>
                  <a:srgbClr val="000000"/>
                </a:solidFill>
                <a:latin typeface="Arial"/>
              </a:rPr>
              <a:t>Anécdotas y ejemplos. </a:t>
            </a:r>
            <a:r>
              <a:rPr b="0" lang="es-ES" sz="1200" spc="-1" strike="noStrike">
                <a:solidFill>
                  <a:srgbClr val="000000"/>
                </a:solidFill>
                <a:latin typeface="Arial"/>
              </a:rPr>
              <a:t>Las anécdotas e historias proveen la oportunidad de hacer el contenido intensamente interesante. A todos les gusta una historia interesante.  Coleccione historias relacionadas con su tema. Lo mismo se aplica a ejemplos concretos mientras los participantes aprenden a aplicar el contenido de su seminario a sus propias situ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i="1" lang="es-ES" sz="1200" spc="-1" strike="noStrike">
                <a:solidFill>
                  <a:srgbClr val="000000"/>
                </a:solidFill>
                <a:latin typeface="Arial"/>
              </a:rPr>
              <a:t>Cestudios de casos.</a:t>
            </a:r>
            <a:r>
              <a:rPr b="0" lang="es-ES" sz="1200" spc="-1" strike="noStrike">
                <a:solidFill>
                  <a:srgbClr val="000000"/>
                </a:solidFill>
                <a:latin typeface="Arial"/>
              </a:rPr>
              <a:t> Los estudios de casos pueden ayudar a los participantes a transeferir la situación a su propia exper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1" i="1" lang="es-ES" sz="1200" spc="-1" strike="noStrike">
                <a:solidFill>
                  <a:srgbClr val="000000"/>
                </a:solidFill>
                <a:latin typeface="Arial"/>
              </a:rPr>
              <a:t> Citas de expertos</a:t>
            </a:r>
            <a:r>
              <a:rPr b="0" lang="es-ES" sz="1200" spc="-1" strike="noStrike">
                <a:solidFill>
                  <a:srgbClr val="000000"/>
                </a:solidFill>
                <a:latin typeface="Arial"/>
              </a:rPr>
              <a:t>.   Algo que acaba de decir puede ser reforzado por una cita de uuna autoridad en la materia. Pero más bien que decir: “un experto dice…” diga la fuente el nombre y el título. Escoja sus autoridades con cuidado y esté segura de que se conocen como autoridades realment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62080" y="679320"/>
            <a:ext cx="4533840" cy="3400560"/>
          </a:xfrm>
          <a:prstGeom prst="rect">
            <a:avLst/>
          </a:prstGeom>
          <a:ln w="0">
            <a:noFill/>
          </a:ln>
        </p:spPr>
      </p:sp>
      <p:sp>
        <p:nvSpPr>
          <p:cNvPr id="11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	</a:t>
            </a:r>
            <a:r>
              <a:rPr b="1" lang="es-ES" sz="1200" spc="-1" strike="noStrike">
                <a:solidFill>
                  <a:srgbClr val="000000"/>
                </a:solidFill>
                <a:latin typeface="Arial"/>
              </a:rPr>
              <a:t>Ayudas visuales  (RP-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incluir ayudas visuales, pero no se comentarán aquí porque han sido concienzudamente desarrolladas en el Nivel uno de los cursos de Certificación de Liderazgo.  Aquí damos una lista de ayudas visuales populares que usted puede utili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ta fol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zarra para marcad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tro proyec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ciones en Powe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d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62080" y="679320"/>
            <a:ext cx="4533840" cy="3400560"/>
          </a:xfrm>
          <a:prstGeom prst="rect">
            <a:avLst/>
          </a:prstGeom>
          <a:ln w="0">
            <a:noFill/>
          </a:ln>
        </p:spPr>
      </p:sp>
      <p:sp>
        <p:nvSpPr>
          <p:cNvPr id="11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a:solidFill>
                  <a:srgbClr val="000000"/>
                </a:solidFill>
                <a:latin typeface="Arial"/>
              </a:rPr>
              <a:t>	</a:t>
            </a:r>
            <a:r>
              <a:rPr b="1" lang="es-ES" sz="1200" spc="-1" strike="noStrike">
                <a:solidFill>
                  <a:srgbClr val="000000"/>
                </a:solidFill>
                <a:latin typeface="Arial"/>
              </a:rPr>
              <a:t>Participación (RP-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ce un antiguo axi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Olvido lo que escu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cuerdo lo que v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o que entiendo lo h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participantes necesitan involucrarse para aprender. Más importante aún, las investigaciones en aprendizaje de adultos ha comprobado que los adultos retienen más cuando se encuentran activamente involucrados. Por lo tanto, cada líder de seminario debería mantener su seminario dinámico y vivo. Debe pensar en formas creativas, entusiastas y divertidas de involucrar a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ácticas para obtener la participación de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i="1" lang="es-ES" sz="1200" spc="-1" strike="noStrike">
                <a:solidFill>
                  <a:srgbClr val="000000"/>
                </a:solidFill>
                <a:latin typeface="Arial"/>
              </a:rPr>
              <a:t>Pruebitas.</a:t>
            </a:r>
            <a:r>
              <a:rPr b="0" lang="es-ES" sz="1200" spc="-1" strike="noStrike">
                <a:solidFill>
                  <a:srgbClr val="000000"/>
                </a:solidFill>
                <a:latin typeface="Arial"/>
              </a:rPr>
              <a:t>  Evaluaciones cortas que son especialmente efectivas cuando prueban el conocimiento de los participantes o sus nivel de habilidades sobre cierto tema. También puede incluir rimas o acertijos que abrirán la puerta a comentarios y particip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i="1" lang="es-ES" sz="1200" spc="-1" strike="noStrike">
                <a:solidFill>
                  <a:srgbClr val="000000"/>
                </a:solidFill>
                <a:latin typeface="Arial"/>
              </a:rPr>
              <a:t>Preguntas. </a:t>
            </a:r>
            <a:r>
              <a:rPr b="0" lang="es-ES" sz="1200" spc="-1" strike="noStrike">
                <a:solidFill>
                  <a:srgbClr val="000000"/>
                </a:solidFill>
                <a:latin typeface="Arial"/>
              </a:rPr>
              <a:t> Una de las técnicas más fáciles de preguntar es pedir que levanten las manos.  “¿Cuántas de ustedes han experimentado un día cuando…?”  Presentar una pregunta abierta provee la oportunidad para que la gente se involucre. Esto funciona mejor en grupos menores de 30 personas pero se puede utilizar con cualquier tamaño de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i="1" lang="es-ES" sz="1200" spc="-1" strike="noStrike">
                <a:solidFill>
                  <a:srgbClr val="000000"/>
                </a:solidFill>
                <a:latin typeface="Arial"/>
              </a:rPr>
              <a:t>Torbellino de ideas. </a:t>
            </a:r>
            <a:r>
              <a:rPr b="0" lang="es-ES" sz="1200" spc="-1" strike="noStrike">
                <a:solidFill>
                  <a:srgbClr val="000000"/>
                </a:solidFill>
                <a:latin typeface="Arial"/>
              </a:rPr>
              <a:t>  Pedir que el grupo de una respuesta rápida, un tema, o problema es otro método de involucrarlos en el tema. Sus respuestas pueden ser registradas en una pizarra o en un rotafol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a:t>
            </a:r>
            <a:r>
              <a:rPr b="1" lang="es-ES" sz="1200" spc="-1" strike="noStrike">
                <a:solidFill>
                  <a:srgbClr val="000000"/>
                </a:solidFill>
                <a:latin typeface="Arial"/>
              </a:rPr>
              <a:t>.  </a:t>
            </a:r>
            <a:r>
              <a:rPr b="1" i="1" lang="es-ES" sz="1200" spc="-1" strike="noStrike">
                <a:solidFill>
                  <a:srgbClr val="000000"/>
                </a:solidFill>
                <a:latin typeface="Arial"/>
              </a:rPr>
              <a:t>Pares o trías. </a:t>
            </a:r>
            <a:r>
              <a:rPr b="0" lang="es-ES" sz="1200" spc="-1" strike="noStrike">
                <a:solidFill>
                  <a:srgbClr val="000000"/>
                </a:solidFill>
                <a:latin typeface="Arial"/>
              </a:rPr>
              <a:t>  Cualquier tamaño de grupo puede ser dividido en pares o tríos para una actividad. Después de enseñar técnicas para escuchar en un seminario para padres, el grupo puede dividirse en grupos de dos o de a tres y se les pide que practiquen la técnica que acaban de apr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i="1" lang="es-ES" sz="1200" spc="-1" strike="noStrike">
                <a:solidFill>
                  <a:srgbClr val="000000"/>
                </a:solidFill>
                <a:latin typeface="Arial"/>
              </a:rPr>
              <a:t>Grpos pequeños</a:t>
            </a:r>
            <a:r>
              <a:rPr b="0" lang="es-ES" sz="1200" spc="-1" strike="noStrike">
                <a:solidFill>
                  <a:srgbClr val="000000"/>
                </a:solidFill>
                <a:latin typeface="Arial"/>
              </a:rPr>
              <a:t>.  Dividir un grupo grande en grupos de 5 - 8 personas puede resultar efectivo cuando desea que cada grupo trabaja sobre un tema específico y de un informe para todo 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i="1" lang="es-ES" sz="1200" spc="-1" strike="noStrike">
                <a:solidFill>
                  <a:srgbClr val="000000"/>
                </a:solidFill>
                <a:latin typeface="Arial"/>
              </a:rPr>
              <a:t>Práctica de habilidades</a:t>
            </a:r>
            <a:r>
              <a:rPr b="0" i="1" lang="es-ES" sz="1200" spc="-1" strike="noStrike">
                <a:solidFill>
                  <a:srgbClr val="000000"/>
                </a:solidFill>
                <a:latin typeface="Arial"/>
              </a:rPr>
              <a:t>.</a:t>
            </a:r>
            <a:r>
              <a:rPr b="0" lang="es-ES" sz="1200" spc="-1" strike="noStrike">
                <a:solidFill>
                  <a:srgbClr val="000000"/>
                </a:solidFill>
                <a:latin typeface="Arial"/>
              </a:rPr>
              <a:t>  Dos o más participantes pueden actuar o representar un rol de cualquier situación dada.  Esto permite que el grupo internalice la situación desde una perspectiva diferente. También se pueden utilizar grabaciones de vid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1" i="1" lang="es-ES" sz="1200" spc="-1" strike="noStrike">
                <a:solidFill>
                  <a:srgbClr val="000000"/>
                </a:solidFill>
                <a:latin typeface="Arial"/>
              </a:rPr>
              <a:t>Juegos. </a:t>
            </a:r>
            <a:r>
              <a:rPr b="0" lang="es-ES" sz="1200" spc="-1" strike="noStrike">
                <a:solidFill>
                  <a:srgbClr val="000000"/>
                </a:solidFill>
                <a:latin typeface="Arial"/>
              </a:rPr>
              <a:t> Se pueden usar muchos juegos para ilustrar un punto. Premiar con algo simple y barato puede añadir entusiasmo e inter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a:t>
            </a:r>
            <a:r>
              <a:rPr b="1" i="1" lang="es-ES" sz="1200" spc="-1" strike="noStrike">
                <a:solidFill>
                  <a:srgbClr val="000000"/>
                </a:solidFill>
                <a:latin typeface="Arial"/>
              </a:rPr>
              <a:t>Refuerzo</a:t>
            </a:r>
            <a:r>
              <a:rPr b="0" i="1" lang="es-ES" sz="1200" spc="-1" strike="noStrike">
                <a:solidFill>
                  <a:srgbClr val="000000"/>
                </a:solidFill>
                <a:latin typeface="Arial"/>
              </a:rPr>
              <a:t>.  </a:t>
            </a:r>
            <a:r>
              <a:rPr b="0" lang="es-ES" sz="1200" spc="-1" strike="noStrike">
                <a:solidFill>
                  <a:srgbClr val="000000"/>
                </a:solidFill>
                <a:latin typeface="Arial"/>
              </a:rPr>
              <a:t>Permitir que su audiencia toque algo los ayudará a involucra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9. </a:t>
            </a:r>
            <a:r>
              <a:rPr b="1" lang="es-ES" sz="1200" spc="-1" strike="noStrike">
                <a:solidFill>
                  <a:srgbClr val="000000"/>
                </a:solidFill>
                <a:latin typeface="Arial"/>
              </a:rPr>
              <a:t>Un período de preguntas y respuestas</a:t>
            </a:r>
            <a:r>
              <a:rPr b="0" i="1" lang="es-ES" sz="1200" spc="-1" strike="noStrike">
                <a:solidFill>
                  <a:srgbClr val="000000"/>
                </a:solidFill>
                <a:latin typeface="Arial"/>
              </a:rPr>
              <a:t>.</a:t>
            </a:r>
            <a:r>
              <a:rPr b="0" lang="es-ES" sz="1200" spc="-1" strike="noStrike">
                <a:solidFill>
                  <a:srgbClr val="000000"/>
                </a:solidFill>
                <a:latin typeface="Arial"/>
              </a:rPr>
              <a:t>  Esté segura de permitir un período de tiempo para preguntas y respuestas al finalizar cada módulo que presente, o al final del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  </a:t>
            </a:r>
            <a:r>
              <a:rPr b="1" i="1" lang="es-ES" sz="1200" spc="-1" strike="noStrike">
                <a:solidFill>
                  <a:srgbClr val="000000"/>
                </a:solidFill>
                <a:latin typeface="Arial"/>
              </a:rPr>
              <a:t>Música.</a:t>
            </a:r>
            <a:r>
              <a:rPr b="0" lang="es-ES" sz="1200" spc="-1" strike="noStrike">
                <a:solidFill>
                  <a:srgbClr val="000000"/>
                </a:solidFill>
                <a:latin typeface="Arial"/>
              </a:rPr>
              <a:t> Un canto o unas pocas palabras de un canto se pueden utilizar para ilustrar un punto, o para estimular pensamientos sobre un tem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8E341-D199-4320-BF61-2FDA1B517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75217-B8D4-4E00-BCF1-CF16C56DE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1D6D5-1666-4A38-9210-DDFD8E584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823AB-571D-4AD1-A6DE-EDF7B6012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A6B98-23FE-4866-982C-D306D62F2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C9180-9488-4AB6-88EC-E19C2A7EE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128CE-AF2E-4842-8E47-D0F20C641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AF947-139A-455D-A462-528D9D504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AF43D-F31F-4DE5-970A-1464F981C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A48E9-29A5-4EA8-979D-1C40791DB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0C9F2-07C0-4DAB-93B7-F30DA1E7F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A61EF-0FC6-4100-958F-508ACB364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8711-CDE4-49D8-97FE-6B4E49B64A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3352680"/>
            <a:ext cx="6400800" cy="2438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Georgia"/>
              </a:rPr>
              <a:t>Por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99ff"/>
                </a:solidFill>
                <a:latin typeface="Georgia"/>
              </a:rPr>
              <a:t>Nancy Van Pelt</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Curso de Certificación en Liderazgo</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Nivel 2</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Ministerios de la Mujer</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Asociación Gener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849400" y="456120"/>
            <a:ext cx="424836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Tipos de material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para repartir</a:t>
            </a:r>
            <a:endParaRPr b="0" lang="en-US" sz="3200" spc="-1" strike="noStrike">
              <a:solidFill>
                <a:srgbClr val="000000"/>
              </a:solidFill>
              <a:latin typeface="Arial"/>
            </a:endParaRPr>
          </a:p>
        </p:txBody>
      </p:sp>
      <p:sp>
        <p:nvSpPr>
          <p:cNvPr id="71" name=""/>
          <p:cNvSpPr/>
          <p:nvPr/>
        </p:nvSpPr>
        <p:spPr>
          <a:xfrm>
            <a:off x="609480" y="2254680"/>
            <a:ext cx="876312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1.  Bosquej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2.  Espacios en blanco para rellen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3.  Exámenes, pruebitas, y auto  evaluacion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4.  Listas de recurs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5.  Reimpresión de artícul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6.  Bibliografí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7.  Papel en bl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139120" y="669240"/>
            <a:ext cx="568008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971800"/>
                <a:tab algn="l" pos="3657600"/>
                <a:tab algn="l" pos="4572000"/>
                <a:tab algn="l" pos="5486400"/>
                <a:tab algn="l" pos="6400800"/>
                <a:tab algn="l" pos="7315200"/>
                <a:tab algn="l" pos="8229600"/>
                <a:tab algn="l" pos="9144000"/>
                <a:tab algn="l" pos="10058400"/>
              </a:tabLst>
            </a:pPr>
            <a:r>
              <a:rPr b="0" lang="es-ES" sz="4000" spc="-1" strike="noStrike">
                <a:solidFill>
                  <a:srgbClr val="ff99ff"/>
                </a:solidFill>
                <a:latin typeface="Arial Rounded MT Bold"/>
                <a:ea typeface="Times New Roman"/>
              </a:rPr>
              <a:t>	</a:t>
            </a:r>
            <a:r>
              <a:rPr b="1" lang="es-ES" sz="4000" spc="-1" strike="noStrike">
                <a:solidFill>
                  <a:srgbClr val="ff99ff"/>
                </a:solidFill>
                <a:latin typeface="Arial Rounded MT Bold"/>
                <a:ea typeface="Times New Roman"/>
              </a:rPr>
              <a:t>Propaganda exitosa</a:t>
            </a:r>
            <a:endParaRPr b="0" lang="en-US" sz="4000" spc="-1" strike="noStrike">
              <a:solidFill>
                <a:srgbClr val="000000"/>
              </a:solidFill>
              <a:latin typeface="Arial"/>
            </a:endParaRPr>
          </a:p>
          <a:p>
            <a:pPr>
              <a:lnSpc>
                <a:spcPct val="100000"/>
              </a:lnSpc>
              <a:tabLst>
                <a:tab algn="l" pos="0"/>
                <a:tab algn="ctr" pos="29718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
          <p:cNvSpPr/>
          <p:nvPr/>
        </p:nvSpPr>
        <p:spPr>
          <a:xfrm>
            <a:off x="1905120" y="1907640"/>
            <a:ext cx="5715000" cy="375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ea typeface="Times New Roman"/>
              </a:rPr>
              <a:t>Sexo</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ea typeface="Times New Roman"/>
              </a:rPr>
              <a:t>Edad</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Residencia</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Ocupación</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Educación</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Nivel económ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274320"/>
            <a:ext cx="6553080" cy="114300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ff"/>
                </a:solidFill>
                <a:latin typeface="Arial Rounded MT Bold"/>
              </a:rPr>
              <a:t>Elija la Fecha </a:t>
            </a:r>
            <a:endParaRPr b="0" lang="en-US" sz="4400" spc="-1" strike="noStrike">
              <a:solidFill>
                <a:srgbClr val="ffffff"/>
              </a:solidFill>
              <a:latin typeface="Arial"/>
            </a:endParaRPr>
          </a:p>
        </p:txBody>
      </p:sp>
      <p:sp>
        <p:nvSpPr>
          <p:cNvPr id="75" name=""/>
          <p:cNvSpPr/>
          <p:nvPr/>
        </p:nvSpPr>
        <p:spPr>
          <a:xfrm>
            <a:off x="2514600" y="2065320"/>
            <a:ext cx="5867280" cy="3121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41360" indent="-441360">
              <a:lnSpc>
                <a:spcPct val="100000"/>
              </a:lnSpc>
              <a:spcAft>
                <a:spcPts val="751"/>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1. Evite feriados.</a:t>
            </a:r>
            <a:endParaRPr b="0" lang="en-US" sz="3000" spc="-1" strike="noStrike">
              <a:solidFill>
                <a:srgbClr val="000000"/>
              </a:solidFill>
              <a:latin typeface="Arial"/>
            </a:endParaRPr>
          </a:p>
          <a:p>
            <a:pPr marL="441360" indent="-441360">
              <a:lnSpc>
                <a:spcPct val="100000"/>
              </a:lnSpc>
              <a:spcAft>
                <a:spcPts val="751"/>
              </a:spcAft>
              <a:buClr>
                <a:srgbClr val="ffffff"/>
              </a:buClr>
              <a:buFont typeface="Arial Rounded MT Bold"/>
              <a:buAutoNum type="arabicPeriod" startAt="2"/>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vite épocas donde acontecen eventos. nacionales principales.</a:t>
            </a:r>
            <a:endParaRPr b="0" lang="en-US" sz="3000" spc="-1" strike="noStrike">
              <a:solidFill>
                <a:srgbClr val="000000"/>
              </a:solidFill>
              <a:latin typeface="Arial"/>
            </a:endParaRPr>
          </a:p>
          <a:p>
            <a:pPr marL="441360" indent="-441360">
              <a:lnSpc>
                <a:spcPct val="100000"/>
              </a:lnSpc>
              <a:spcAft>
                <a:spcPts val="751"/>
              </a:spcAft>
              <a:buClr>
                <a:srgbClr val="ffffff"/>
              </a:buClr>
              <a:buFont typeface="Arial Rounded MT Bold"/>
              <a:buAutoNum type="arabicPeriod" startAt="3"/>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vite el período de eventos </a:t>
            </a:r>
            <a:endParaRPr b="0" lang="en-US" sz="3000" spc="-1" strike="noStrike">
              <a:solidFill>
                <a:srgbClr val="000000"/>
              </a:solidFill>
              <a:latin typeface="Arial"/>
            </a:endParaRPr>
          </a:p>
          <a:p>
            <a:pPr marL="441360" indent="-441360">
              <a:lnSpc>
                <a:spcPct val="100000"/>
              </a:lnSpc>
              <a:spcAft>
                <a:spcPts val="751"/>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	</a:t>
            </a:r>
            <a:r>
              <a:rPr b="1" lang="es-ES" sz="3000" spc="-1" strike="noStrike">
                <a:solidFill>
                  <a:srgbClr val="ffffff"/>
                </a:solidFill>
                <a:latin typeface="Arial Rounded MT Bold"/>
                <a:ea typeface="Times New Roman"/>
              </a:rPr>
              <a:t>principales loc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0" y="27432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ff"/>
                </a:solidFill>
                <a:latin typeface="Arial Rounded MT Bold"/>
              </a:rPr>
              <a:t>Elija la Fecha</a:t>
            </a:r>
            <a:endParaRPr b="0" lang="en-US" sz="4400" spc="-1" strike="noStrike">
              <a:solidFill>
                <a:srgbClr val="ffffff"/>
              </a:solidFill>
              <a:latin typeface="Arial"/>
            </a:endParaRPr>
          </a:p>
        </p:txBody>
      </p:sp>
      <p:sp>
        <p:nvSpPr>
          <p:cNvPr id="77" name="PlaceHolder 2"/>
          <p:cNvSpPr>
            <a:spLocks noGrp="1"/>
          </p:cNvSpPr>
          <p:nvPr>
            <p:ph/>
          </p:nvPr>
        </p:nvSpPr>
        <p:spPr>
          <a:xfrm>
            <a:off x="2133720" y="1600200"/>
            <a:ext cx="678168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Aténgase a las condiciones climática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Elija prudentemente los días de semana.</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Elija la mejor hora del día.</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Los seminarios de desarrollo personal se enseñan mejor de noch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914400" y="76320"/>
            <a:ext cx="762012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Folletos y volant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
          <p:cNvSpPr/>
          <p:nvPr/>
        </p:nvSpPr>
        <p:spPr>
          <a:xfrm>
            <a:off x="762120" y="2057760"/>
            <a:ext cx="3200400" cy="26535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Tipo de papel</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Color de papel</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Color de tinta</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p:nvPr/>
        </p:nvSpPr>
        <p:spPr>
          <a:xfrm>
            <a:off x="3962520" y="2133720"/>
            <a:ext cx="3429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Tamaño de papel</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Tipos de letra</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Gráfi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495520" y="455760"/>
            <a:ext cx="4900680" cy="1922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Recomendacion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     </a:t>
            </a:r>
            <a:r>
              <a:rPr b="1" lang="es-ES" sz="4000" spc="-1" strike="noStrike">
                <a:solidFill>
                  <a:srgbClr val="ff99ff"/>
                </a:solidFill>
                <a:latin typeface="Arial Rounded MT Bold"/>
                <a:ea typeface="Times New Roman"/>
              </a:rPr>
              <a:t>para el texto</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 name=""/>
          <p:cNvSpPr/>
          <p:nvPr/>
        </p:nvSpPr>
        <p:spPr>
          <a:xfrm>
            <a:off x="533520" y="2430360"/>
            <a:ext cx="8305560" cy="28350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Haga un trabajo corto y dinámic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xponga los beneficios .</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Utilice palabras dinámicas, orientadas a la acción.</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scoja un título claro y direct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Informe fecha, hora y ubic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Recomendaciones </a:t>
            </a:r>
            <a:br>
              <a:rPr sz="4000"/>
            </a:br>
            <a:r>
              <a:rPr b="1" lang="es-ES" sz="4000" spc="-1" strike="noStrike">
                <a:solidFill>
                  <a:srgbClr val="ff99ff"/>
                </a:solidFill>
                <a:latin typeface="Arial Rounded MT Bold"/>
              </a:rPr>
              <a:t>     para el texto</a:t>
            </a:r>
            <a:endParaRPr b="0" lang="en-US" sz="4000" spc="-1" strike="noStrike">
              <a:solidFill>
                <a:srgbClr val="ffffff"/>
              </a:solidFill>
              <a:latin typeface="Arial"/>
            </a:endParaRPr>
          </a:p>
        </p:txBody>
      </p:sp>
      <p:sp>
        <p:nvSpPr>
          <p:cNvPr id="84" name="PlaceHolder 2"/>
          <p:cNvSpPr>
            <a:spLocks noGrp="1"/>
          </p:cNvSpPr>
          <p:nvPr>
            <p:ph/>
          </p:nvPr>
        </p:nvSpPr>
        <p:spPr>
          <a:xfrm>
            <a:off x="990720" y="2819520"/>
            <a:ext cx="7162560" cy="266688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Repita los beneficio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Defina a quién va dirigido</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Mencione lo que aprenderá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905120" y="592920"/>
            <a:ext cx="64008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Reglas para comenzar bien su seminario</a:t>
            </a:r>
            <a:endParaRPr b="0" lang="en-US" sz="4000" spc="-1" strike="noStrike">
              <a:solidFill>
                <a:srgbClr val="000000"/>
              </a:solidFill>
              <a:latin typeface="Arial"/>
            </a:endParaRPr>
          </a:p>
        </p:txBody>
      </p:sp>
      <p:sp>
        <p:nvSpPr>
          <p:cNvPr id="86" name=""/>
          <p:cNvSpPr/>
          <p:nvPr/>
        </p:nvSpPr>
        <p:spPr>
          <a:xfrm>
            <a:off x="907560" y="2133000"/>
            <a:ext cx="6716160" cy="37191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Comience a tiemp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fffff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Demuestre energía</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epare muy bien el comienz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4.  Que la presentación sea brev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5.  Cucarda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6.  Recre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52280" y="1752480"/>
            <a:ext cx="8686800" cy="5105520"/>
          </a:xfrm>
          <a:prstGeom prst="rect">
            <a:avLst/>
          </a:prstGeom>
          <a:noFill/>
          <a:ln w="0">
            <a:noFill/>
          </a:ln>
        </p:spPr>
        <p:txBody>
          <a:bodyPr lIns="90000" rIns="90000" tIns="46800" bIns="46800" anchor="t">
            <a:normAutofit/>
          </a:bodyPr>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Evite expresiones idiomáticas.</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Hable en frases y oraciones cortas   </a:t>
            </a:r>
            <a:r>
              <a:rPr b="1" lang="es-ES" sz="2600" spc="-1" strike="noStrike">
                <a:solidFill>
                  <a:srgbClr val="ffffff"/>
                </a:solidFill>
                <a:latin typeface="Arial Rounded MT Bold"/>
              </a:rPr>
              <a:t>	</a:t>
            </a:r>
            <a:r>
              <a:rPr b="1" lang="es-ES" sz="2600" spc="-1" strike="noStrike">
                <a:solidFill>
                  <a:srgbClr val="ffffff"/>
                </a:solidFill>
                <a:latin typeface="Arial Rounded MT Bold"/>
              </a:rPr>
              <a:t>  más bien que en párrafos.                                                                  </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Utilice lenguaje común, evite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terminología técnica.</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Anime a su traductor a leer sus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notas con anticipación. </a:t>
            </a:r>
            <a:endParaRPr b="0" lang="en-US" sz="2600" spc="-1" strike="noStrike">
              <a:solidFill>
                <a:srgbClr val="ffffff"/>
              </a:solidFill>
              <a:latin typeface="Arial"/>
            </a:endParaRPr>
          </a:p>
        </p:txBody>
      </p:sp>
      <p:sp>
        <p:nvSpPr>
          <p:cNvPr id="88" name="PlaceHolder 2"/>
          <p:cNvSpPr>
            <a:spLocks noGrp="1"/>
          </p:cNvSpPr>
          <p:nvPr>
            <p:ph type="title"/>
          </p:nvPr>
        </p:nvSpPr>
        <p:spPr>
          <a:xfrm>
            <a:off x="19807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 traducció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60912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 </a:t>
            </a:r>
            <a:br>
              <a:rPr sz="3600"/>
            </a:br>
            <a:r>
              <a:rPr b="1" lang="es-ES" sz="3600" spc="-1" strike="noStrike">
                <a:solidFill>
                  <a:srgbClr val="ff99ff"/>
                </a:solidFill>
                <a:latin typeface="Arial Rounded MT Bold"/>
              </a:rPr>
              <a:t>traducción</a:t>
            </a:r>
            <a:endParaRPr b="0" lang="en-US" sz="3600" spc="-1" strike="noStrike">
              <a:solidFill>
                <a:srgbClr val="ffffff"/>
              </a:solidFill>
              <a:latin typeface="Arial"/>
            </a:endParaRPr>
          </a:p>
        </p:txBody>
      </p:sp>
      <p:sp>
        <p:nvSpPr>
          <p:cNvPr id="90" name="PlaceHolder 2"/>
          <p:cNvSpPr>
            <a:spLocks noGrp="1"/>
          </p:cNvSpPr>
          <p:nvPr>
            <p:ph/>
          </p:nvPr>
        </p:nvSpPr>
        <p:spPr>
          <a:xfrm>
            <a:off x="457200" y="2514240"/>
            <a:ext cx="8229600" cy="2438280"/>
          </a:xfrm>
          <a:prstGeom prst="rect">
            <a:avLst/>
          </a:prstGeom>
          <a:noFill/>
          <a:ln w="0">
            <a:noFill/>
          </a:ln>
        </p:spPr>
        <p:txBody>
          <a:bodyPr lIns="90000" rIns="90000" tIns="46800" bIns="46800" anchor="t">
            <a:normAutofit fontScale="92000"/>
          </a:bodyPr>
          <a:p>
            <a:pPr lvl="3" marL="1472040" indent="-21024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Sea cuidadoso con el humor.</a:t>
            </a:r>
            <a:endParaRPr b="0" lang="en-US" sz="3200" spc="-1" strike="noStrike">
              <a:solidFill>
                <a:srgbClr val="ffffff"/>
              </a:solidFill>
              <a:latin typeface="Arial"/>
            </a:endParaRPr>
          </a:p>
          <a:p>
            <a:pPr lvl="3" marL="1472040" indent="-21024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Envíe a los auspiciantes los materiales en  PowerPoint, filminas, y materiales para repartir con anticip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286000"/>
            <a:ext cx="8229600" cy="32004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Rounded MT Bold"/>
              </a:rPr>
              <a:t> </a:t>
            </a:r>
            <a:r>
              <a:rPr b="1" lang="es-ES" sz="4000" spc="-1" strike="noStrike">
                <a:solidFill>
                  <a:srgbClr val="ffffff"/>
                </a:solidFill>
                <a:latin typeface="Arial Rounded MT Bold"/>
              </a:rPr>
              <a:t> </a:t>
            </a:r>
            <a:r>
              <a:rPr b="1" lang="es-ES" sz="4000" spc="-1" strike="noStrike">
                <a:solidFill>
                  <a:srgbClr val="ffffff"/>
                </a:solidFill>
                <a:latin typeface="Arial Rounded MT Bold"/>
              </a:rPr>
              <a:t>Un seminario bien diseñado puede afectar profundamente la vida profesional, personal o espiritual del participan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a:t>
            </a:r>
            <a:br>
              <a:rPr sz="3600"/>
            </a:br>
            <a:r>
              <a:rPr b="1" lang="es-ES" sz="3600" spc="-1" strike="noStrike">
                <a:solidFill>
                  <a:srgbClr val="ff99ff"/>
                </a:solidFill>
                <a:latin typeface="Arial Rounded MT Bold"/>
              </a:rPr>
              <a:t> traducción</a:t>
            </a:r>
            <a:endParaRPr b="0" lang="en-US" sz="3600" spc="-1" strike="noStrike">
              <a:solidFill>
                <a:srgbClr val="ffffff"/>
              </a:solidFill>
              <a:latin typeface="Arial"/>
            </a:endParaRPr>
          </a:p>
        </p:txBody>
      </p:sp>
      <p:sp>
        <p:nvSpPr>
          <p:cNvPr id="92" name="PlaceHolder 2"/>
          <p:cNvSpPr>
            <a:spLocks noGrp="1"/>
          </p:cNvSpPr>
          <p:nvPr>
            <p:ph/>
          </p:nvPr>
        </p:nvSpPr>
        <p:spPr>
          <a:xfrm>
            <a:off x="0" y="1874520"/>
            <a:ext cx="8686800" cy="3382920"/>
          </a:xfrm>
          <a:prstGeom prst="rect">
            <a:avLst/>
          </a:prstGeom>
          <a:noFill/>
          <a:ln w="0">
            <a:noFill/>
          </a:ln>
        </p:spPr>
        <p:txBody>
          <a:bodyPr lIns="90000" rIns="90000" tIns="46800" bIns="46800" anchor="t">
            <a:normAutofit fontScale="93000"/>
          </a:bodyPr>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Logre un ritmo de traducción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decuado.</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Permanezca concentrado.</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Recorte su presentación a la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t>
            </a:r>
            <a:r>
              <a:rPr b="1" lang="es-ES" sz="3000" spc="-1" strike="noStrike">
                <a:solidFill>
                  <a:srgbClr val="ffffff"/>
                </a:solidFill>
                <a:latin typeface="Arial Rounded MT Bold"/>
              </a:rPr>
              <a:t>  mitad.</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Pida al traductor que permanezca </a:t>
            </a:r>
            <a:r>
              <a:rPr b="1" lang="es-ES" sz="3000" spc="-1" strike="noStrike">
                <a:solidFill>
                  <a:srgbClr val="ffffff"/>
                </a:solidFill>
                <a:latin typeface="Arial Rounded MT Bold"/>
              </a:rPr>
              <a:t>	</a:t>
            </a:r>
            <a:r>
              <a:rPr b="1" lang="es-ES" sz="3000" spc="-1" strike="noStrike">
                <a:solidFill>
                  <a:srgbClr val="ffffff"/>
                </a:solidFill>
                <a:latin typeface="Arial Rounded MT Bold"/>
              </a:rPr>
              <a:t>al terminar la presentació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53316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a:t>
            </a:r>
            <a:br>
              <a:rPr sz="3600"/>
            </a:br>
            <a:r>
              <a:rPr b="1" lang="es-ES" sz="3600" spc="-1" strike="noStrike">
                <a:solidFill>
                  <a:srgbClr val="ff99ff"/>
                </a:solidFill>
                <a:latin typeface="Arial Rounded MT Bold"/>
              </a:rPr>
              <a:t> traducción</a:t>
            </a:r>
            <a:endParaRPr b="0" lang="en-US" sz="3600" spc="-1" strike="noStrike">
              <a:solidFill>
                <a:srgbClr val="ffffff"/>
              </a:solidFill>
              <a:latin typeface="Arial"/>
            </a:endParaRPr>
          </a:p>
        </p:txBody>
      </p:sp>
      <p:sp>
        <p:nvSpPr>
          <p:cNvPr id="94" name="PlaceHolder 2"/>
          <p:cNvSpPr>
            <a:spLocks noGrp="1"/>
          </p:cNvSpPr>
          <p:nvPr>
            <p:ph/>
          </p:nvPr>
        </p:nvSpPr>
        <p:spPr>
          <a:xfrm>
            <a:off x="685800" y="2819520"/>
            <a:ext cx="8229600" cy="2133360"/>
          </a:xfrm>
          <a:prstGeom prst="rect">
            <a:avLst/>
          </a:prstGeom>
          <a:noFill/>
          <a:ln w="0">
            <a:noFill/>
          </a:ln>
        </p:spPr>
        <p:txBody>
          <a:bodyPr lIns="90000" rIns="90000" tIns="46800" bIns="46800" anchor="t">
            <a:normAutofit fontScale="99000"/>
          </a:bodyPr>
          <a:p>
            <a:pPr lvl="3" marL="1584000" indent="-22608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verigüe con anticipación </a:t>
            </a:r>
            <a:r>
              <a:rPr b="1" lang="es-ES" sz="3200" spc="-1" strike="noStrike">
                <a:solidFill>
                  <a:srgbClr val="ffffff"/>
                </a:solidFill>
                <a:latin typeface="Arial Rounded MT Bold"/>
              </a:rPr>
              <a:t>	</a:t>
            </a:r>
            <a:r>
              <a:rPr b="1" lang="es-ES" sz="3200" spc="-1" strike="noStrike">
                <a:solidFill>
                  <a:srgbClr val="ffffff"/>
                </a:solidFill>
                <a:latin typeface="Arial Rounded MT Bold"/>
              </a:rPr>
              <a:t> cualquier diferencia cultural.</a:t>
            </a:r>
            <a:endParaRPr b="0" lang="en-US" sz="3200" spc="-1" strike="noStrike">
              <a:solidFill>
                <a:srgbClr val="ffffff"/>
              </a:solidFill>
              <a:latin typeface="Arial"/>
            </a:endParaRPr>
          </a:p>
          <a:p>
            <a:pPr lvl="3" marL="1584000" indent="-22608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Agradezca al traductor al termin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981080" y="466560"/>
            <a:ext cx="56390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Al terminar un  </a:t>
            </a: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     seminario</a:t>
            </a:r>
            <a:endParaRPr b="0" lang="en-US" sz="3600" spc="-1" strike="noStrike">
              <a:solidFill>
                <a:srgbClr val="000000"/>
              </a:solidFill>
              <a:latin typeface="Arial"/>
            </a:endParaRPr>
          </a:p>
        </p:txBody>
      </p:sp>
      <p:sp>
        <p:nvSpPr>
          <p:cNvPr id="96" name=""/>
          <p:cNvSpPr/>
          <p:nvPr/>
        </p:nvSpPr>
        <p:spPr>
          <a:xfrm>
            <a:off x="838080" y="2422440"/>
            <a:ext cx="7620120" cy="2378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1.  Resuma los puntos principales.</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2.  Deje un desafí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Asegúrese de que todos se vayan contentos.</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Termine a tiempo.</a:t>
            </a:r>
            <a:endParaRPr b="0" lang="en-US" sz="3000" spc="-1" strike="noStrike">
              <a:solidFill>
                <a:srgbClr val="000000"/>
              </a:solidFill>
              <a:latin typeface="Arial"/>
            </a:endParaRPr>
          </a:p>
        </p:txBody>
      </p:sp>
      <p:sp>
        <p:nvSpPr>
          <p:cNvPr id="97" name=""/>
          <p:cNvSpPr/>
          <p:nvPr/>
        </p:nvSpPr>
        <p:spPr>
          <a:xfrm>
            <a:off x="457200" y="3610800"/>
            <a:ext cx="46483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Georgia"/>
                <a:ea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85800" y="2007360"/>
            <a:ext cx="702468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1.  Conocimient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2.  Actitu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3.  Habilidades</a:t>
            </a:r>
            <a:endParaRPr b="0" lang="en-US" sz="3600" spc="-1" strike="noStrike">
              <a:solidFill>
                <a:srgbClr val="000000"/>
              </a:solidFill>
              <a:latin typeface="Arial"/>
            </a:endParaRPr>
          </a:p>
        </p:txBody>
      </p:sp>
      <p:sp>
        <p:nvSpPr>
          <p:cNvPr id="51" name=""/>
          <p:cNvSpPr/>
          <p:nvPr/>
        </p:nvSpPr>
        <p:spPr>
          <a:xfrm>
            <a:off x="457200" y="4106160"/>
            <a:ext cx="525780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
          <p:cNvSpPr/>
          <p:nvPr/>
        </p:nvSpPr>
        <p:spPr>
          <a:xfrm>
            <a:off x="-1374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 name=""/>
          <p:cNvSpPr/>
          <p:nvPr/>
        </p:nvSpPr>
        <p:spPr>
          <a:xfrm>
            <a:off x="2362320" y="685800"/>
            <a:ext cx="6019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rPr>
              <a:t>Tres requisitos par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rPr>
              <a:t>tener éxi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1066680"/>
            <a:ext cx="822960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Rounded MT Bold"/>
              </a:rPr>
              <a:t>     </a:t>
            </a:r>
            <a:r>
              <a:rPr b="1" lang="en-US" sz="3600" spc="-1" strike="noStrike">
                <a:solidFill>
                  <a:srgbClr val="ffffff"/>
                </a:solidFill>
                <a:latin typeface="Arial Rounded MT Bold"/>
              </a:rPr>
              <a:t>	</a:t>
            </a:r>
            <a:r>
              <a:rPr b="1" lang="en-US" sz="3600" spc="-1" strike="noStrike">
                <a:solidFill>
                  <a:srgbClr val="ffffff"/>
                </a:solidFill>
                <a:latin typeface="Arial Rounded MT Bold"/>
              </a:rPr>
              <a:t>	</a:t>
            </a:r>
            <a:r>
              <a:rPr b="1" lang="es-ES" sz="3600" spc="-1" strike="noStrike">
                <a:solidFill>
                  <a:srgbClr val="ff99ff"/>
                </a:solidFill>
                <a:latin typeface="Arial Rounded MT Bold"/>
              </a:rPr>
              <a:t>Estrategias para armar su </a:t>
            </a:r>
            <a:r>
              <a:rPr b="1" lang="es-ES" sz="3600" spc="-1" strike="noStrike">
                <a:solidFill>
                  <a:srgbClr val="ff99ff"/>
                </a:solidFill>
                <a:latin typeface="Arial Rounded MT Bold"/>
              </a:rPr>
              <a:t>	</a:t>
            </a:r>
            <a:r>
              <a:rPr b="1" lang="es-ES" sz="3600" spc="-1" strike="noStrike">
                <a:solidFill>
                  <a:srgbClr val="ff99ff"/>
                </a:solidFill>
                <a:latin typeface="Arial Rounded MT Bold"/>
              </a:rPr>
              <a:t>	</a:t>
            </a:r>
            <a:r>
              <a:rPr b="1" lang="es-ES" sz="3600" spc="-1" strike="noStrike">
                <a:solidFill>
                  <a:srgbClr val="ff99ff"/>
                </a:solidFill>
                <a:latin typeface="Arial Rounded MT Bold"/>
              </a:rPr>
              <a:t>seminario:</a:t>
            </a:r>
            <a:br>
              <a:rPr sz="3600"/>
            </a:br>
            <a:br>
              <a:rPr sz="3600"/>
            </a:br>
            <a:r>
              <a:rPr b="1" lang="es-ES" sz="3600" spc="-1" strike="noStrike">
                <a:solidFill>
                  <a:srgbClr val="ffffff"/>
                </a:solidFill>
                <a:latin typeface="Arial Rounded MT Bold"/>
              </a:rPr>
              <a:t>1.</a:t>
            </a:r>
            <a:r>
              <a:rPr b="1" lang="es-ES" sz="3600" spc="-1" strike="noStrike">
                <a:solidFill>
                  <a:srgbClr val="ffffff"/>
                </a:solidFill>
                <a:latin typeface="Arial Rounded MT Bold"/>
              </a:rPr>
              <a:t>	</a:t>
            </a:r>
            <a:r>
              <a:rPr b="1" lang="es-ES" sz="3600" spc="-1" strike="noStrike">
                <a:solidFill>
                  <a:srgbClr val="ffffff"/>
                </a:solidFill>
                <a:latin typeface="Arial Rounded MT Bold"/>
              </a:rPr>
              <a:t>Adáptese al nivel de su </a:t>
            </a:r>
            <a:r>
              <a:rPr b="1" lang="es-ES" sz="3600" spc="-1" strike="noStrike">
                <a:solidFill>
                  <a:srgbClr val="ffffff"/>
                </a:solidFill>
                <a:latin typeface="Arial Rounded MT Bold"/>
              </a:rPr>
              <a:t>	</a:t>
            </a:r>
            <a:r>
              <a:rPr b="1" lang="es-ES" sz="3600" spc="-1" strike="noStrike">
                <a:solidFill>
                  <a:srgbClr val="ffffff"/>
                </a:solidFill>
                <a:latin typeface="Arial Rounded MT Bold"/>
              </a:rPr>
              <a:t>audiencia. </a:t>
            </a:r>
            <a:br>
              <a:rPr sz="3600"/>
            </a:br>
            <a:r>
              <a:rPr b="1" lang="es-ES" sz="3600" spc="-1" strike="noStrike">
                <a:solidFill>
                  <a:srgbClr val="ffffff"/>
                </a:solidFill>
                <a:latin typeface="Arial Rounded MT Bold"/>
              </a:rPr>
              <a:t>2.   Descubra lo que necesita </a:t>
            </a:r>
            <a:r>
              <a:rPr b="1" lang="es-ES" sz="3600" spc="-1" strike="noStrike">
                <a:solidFill>
                  <a:srgbClr val="ffffff"/>
                </a:solidFill>
                <a:latin typeface="Arial Rounded MT Bold"/>
              </a:rPr>
              <a:t>	</a:t>
            </a:r>
            <a:r>
              <a:rPr b="1" lang="es-ES" sz="3600" spc="-1" strike="noStrike">
                <a:solidFill>
                  <a:srgbClr val="ffffff"/>
                </a:solidFill>
                <a:latin typeface="Arial Rounded MT Bold"/>
              </a:rPr>
              <a:t>	</a:t>
            </a:r>
            <a:r>
              <a:rPr b="1" lang="es-ES" sz="3600" spc="-1" strike="noStrike">
                <a:solidFill>
                  <a:srgbClr val="ffffff"/>
                </a:solidFill>
                <a:latin typeface="Arial Rounded MT Bold"/>
              </a:rPr>
              <a:t>aprender su audiencia.</a:t>
            </a:r>
            <a:br>
              <a:rPr sz="3600"/>
            </a:br>
            <a:r>
              <a:rPr b="1" lang="es-ES" sz="3600" spc="-1" strike="noStrike">
                <a:solidFill>
                  <a:srgbClr val="ffffff"/>
                </a:solidFill>
                <a:latin typeface="Arial Rounded MT Bold"/>
              </a:rPr>
              <a:t>3.    Enfóquese en habilidades </a:t>
            </a:r>
            <a:r>
              <a:rPr b="1" lang="es-ES" sz="3600" spc="-1" strike="noStrike">
                <a:solidFill>
                  <a:srgbClr val="ffffff"/>
                </a:solidFill>
                <a:latin typeface="Arial Rounded MT Bold"/>
              </a:rPr>
              <a:t>	</a:t>
            </a:r>
            <a:r>
              <a:rPr b="1" lang="es-ES" sz="3600" spc="-1" strike="noStrike">
                <a:solidFill>
                  <a:srgbClr val="ffffff"/>
                </a:solidFill>
                <a:latin typeface="Arial Rounded MT Bold"/>
              </a:rPr>
              <a:t>útiles.  </a:t>
            </a:r>
            <a:br>
              <a:rPr sz="3600"/>
            </a:br>
            <a:r>
              <a:rPr b="1" lang="en-US" sz="3600" spc="-1" strike="noStrike">
                <a:solidFill>
                  <a:srgbClr val="ffffff"/>
                </a:solidFill>
                <a:latin typeface="Arial Rounded MT Bold"/>
              </a:rPr>
              <a:t>	</a:t>
            </a:r>
            <a:r>
              <a:rPr b="1" lang="en-US" sz="2800" spc="-1" strike="noStrike">
                <a:solidFill>
                  <a:srgbClr val="ffffff"/>
                </a:solidFill>
                <a:latin typeface="Arial Rounded MT Bol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897200" y="502200"/>
            <a:ext cx="67752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Diseño de presentación modul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
          <p:cNvSpPr/>
          <p:nvPr/>
        </p:nvSpPr>
        <p:spPr>
          <a:xfrm>
            <a:off x="380880" y="1765800"/>
            <a:ext cx="8001000" cy="39333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Los participantes pueden recibir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grandes cantidades de información.</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Usted puede reacomodar la secuencia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del seminario </a:t>
            </a:r>
            <a:r>
              <a:rPr b="1" lang="es-ES" sz="2800" spc="-1" strike="noStrike">
                <a:solidFill>
                  <a:srgbClr val="ffffff"/>
                </a:solidFill>
                <a:latin typeface="Arial Rounded MT Bold"/>
              </a:rPr>
              <a:t>con facilidad.</a:t>
            </a:r>
            <a:r>
              <a:rPr b="0" lang="es-ES" sz="1800" spc="-1" strike="noStrike">
                <a:solidFill>
                  <a:srgbClr val="000000"/>
                </a:solidFill>
                <a:latin typeface="Arial Rounded MT Bold"/>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Facilita la preparación de audiovisuales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y de materiales para repart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838080" y="1136160"/>
            <a:ext cx="7766280" cy="5227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Rounded MT Bold"/>
              </a:rPr>
              <a:t>	</a:t>
            </a:r>
            <a:r>
              <a:rPr b="1" lang="es-ES" sz="3600" spc="-1" strike="noStrike">
                <a:solidFill>
                  <a:srgbClr val="000000"/>
                </a:solidFill>
                <a:latin typeface="Arial Rounded MT Bold"/>
              </a:rPr>
              <a:t>	</a:t>
            </a:r>
            <a:r>
              <a:rPr b="1" lang="es-ES" sz="3600" spc="-1" strike="noStrike">
                <a:solidFill>
                  <a:srgbClr val="000000"/>
                </a:solidFill>
                <a:latin typeface="Arial Rounded MT Bold"/>
              </a:rPr>
              <a:t>	</a:t>
            </a:r>
            <a:endParaRPr b="0" lang="en-US" sz="36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Escoja un tema que la apasione.</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rovea material difícil de encontrar.</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Tenga un enfoque específico.</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Un tema que provea recompensas específicas.</a:t>
            </a:r>
            <a:endParaRPr b="0" lang="en-US" sz="3200" spc="-1" strike="noStrike">
              <a:solidFill>
                <a:srgbClr val="000000"/>
              </a:solidFill>
              <a:latin typeface="Arial"/>
            </a:endParaRPr>
          </a:p>
        </p:txBody>
      </p:sp>
      <p:sp>
        <p:nvSpPr>
          <p:cNvPr id="58" name=""/>
          <p:cNvSpPr/>
          <p:nvPr/>
        </p:nvSpPr>
        <p:spPr>
          <a:xfrm>
            <a:off x="1752480" y="289080"/>
            <a:ext cx="6477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Cómo escoger un tema que asegure el éxi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905120" y="380880"/>
            <a:ext cx="66862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Una mirada rápida al contenido</a:t>
            </a:r>
            <a:endParaRPr b="0" lang="en-US" sz="3600" spc="-1" strike="noStrike">
              <a:solidFill>
                <a:srgbClr val="000000"/>
              </a:solidFill>
              <a:latin typeface="Arial"/>
            </a:endParaRPr>
          </a:p>
        </p:txBody>
      </p:sp>
      <p:sp>
        <p:nvSpPr>
          <p:cNvPr id="60" name=""/>
          <p:cNvSpPr/>
          <p:nvPr/>
        </p:nvSpPr>
        <p:spPr>
          <a:xfrm>
            <a:off x="990720" y="2131200"/>
            <a:ext cx="2971800" cy="35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Estadísticas</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Investigación</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Hechos</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Definiciones</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
          <p:cNvSpPr/>
          <p:nvPr/>
        </p:nvSpPr>
        <p:spPr>
          <a:xfrm>
            <a:off x="4724280" y="2114640"/>
            <a:ext cx="358164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Anécdot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ejemplos</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Estudio de casos</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Citas de expertos</a:t>
            </a:r>
            <a:endParaRPr b="0" lang="en-US" sz="2800" spc="-1" strike="noStrike">
              <a:solidFill>
                <a:srgbClr val="000000"/>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3071160" y="516960"/>
            <a:ext cx="42526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Ayudas Visuales</a:t>
            </a:r>
            <a:endParaRPr b="0" lang="en-US" sz="4000" spc="-1" strike="noStrike">
              <a:solidFill>
                <a:srgbClr val="000000"/>
              </a:solidFill>
              <a:latin typeface="Arial"/>
            </a:endParaRPr>
          </a:p>
        </p:txBody>
      </p:sp>
      <p:sp>
        <p:nvSpPr>
          <p:cNvPr id="63" name=""/>
          <p:cNvSpPr/>
          <p:nvPr/>
        </p:nvSpPr>
        <p:spPr>
          <a:xfrm>
            <a:off x="1600200" y="2180160"/>
            <a:ext cx="670572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Rota folios</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izarrones</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Retroproyector</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resentaciones en PowerPoint</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Vide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p:cNvSpPr/>
          <p:nvPr/>
        </p:nvSpPr>
        <p:spPr>
          <a:xfrm>
            <a:off x="395280" y="33408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5" name=""/>
          <p:cNvSpPr/>
          <p:nvPr/>
        </p:nvSpPr>
        <p:spPr>
          <a:xfrm>
            <a:off x="459000" y="431208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66" name="" descr=""/>
          <p:cNvPicPr/>
          <p:nvPr/>
        </p:nvPicPr>
        <p:blipFill>
          <a:blip r:embed="rId2"/>
          <a:stretch/>
        </p:blipFill>
        <p:spPr>
          <a:xfrm>
            <a:off x="6172200" y="4343400"/>
            <a:ext cx="2043000" cy="17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590920" y="-380520"/>
            <a:ext cx="4952880" cy="2377080"/>
          </a:xfrm>
          <a:prstGeom prst="rect">
            <a:avLst/>
          </a:prstGeom>
          <a:noFill/>
          <a:ln w="0">
            <a:noFill/>
          </a:ln>
        </p:spPr>
        <p:style>
          <a:lnRef idx="0"/>
          <a:fillRef idx="0"/>
          <a:effectRef idx="0"/>
          <a:fontRef idx="minor"/>
        </p:style>
        <p:txBody>
          <a:bodyPr lIns="914040" rIns="914040" tIns="914040" bIns="9140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Participación</a:t>
            </a:r>
            <a:endParaRPr b="0" lang="en-US" sz="3600" spc="-1" strike="noStrike">
              <a:solidFill>
                <a:srgbClr val="000000"/>
              </a:solidFill>
              <a:latin typeface="Arial"/>
            </a:endParaRPr>
          </a:p>
        </p:txBody>
      </p:sp>
      <p:sp>
        <p:nvSpPr>
          <p:cNvPr id="68" name=""/>
          <p:cNvSpPr/>
          <p:nvPr/>
        </p:nvSpPr>
        <p:spPr>
          <a:xfrm>
            <a:off x="739800" y="1996560"/>
            <a:ext cx="4060800" cy="3136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uebitas cor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egun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Torbellino de ide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Grupos de a pares o de a tre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equeños grup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
          <p:cNvSpPr/>
          <p:nvPr/>
        </p:nvSpPr>
        <p:spPr>
          <a:xfrm>
            <a:off x="5181480" y="1828800"/>
            <a:ext cx="4038840" cy="3080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áctica de habilidade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Jueg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Refuerz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eguntas y respues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Mús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9:47:17Z</dcterms:created>
  <dc:creator>Gilda Almeida</dc:creator>
  <dc:description/>
  <dc:language>en-US</dc:language>
  <cp:lastModifiedBy>Nelida Leguizamon</cp:lastModifiedBy>
  <dcterms:modified xsi:type="dcterms:W3CDTF">2006-06-12T14:35:28Z</dcterms:modified>
  <cp:revision>41</cp:revision>
  <dc:subject/>
  <dc:title>Slide 1</dc:title>
</cp:coreProperties>
</file>