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Andy"/>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5"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B2E3-2A3F-44A1-8B1E-312AC2FC8496}" type="slidenum">
              <a:rPr b="0" lang="en-US" sz="1200" spc="-1" strike="noStrike">
                <a:solidFill>
                  <a:srgbClr val="000000"/>
                </a:solidFill>
                <a:latin typeface="Times New Roman"/>
              </a:rPr>
              <a:t>&lt;number&gt;</a:t>
            </a:fld>
            <a:endParaRPr b="0" lang="en-US" sz="12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6D22-BD8F-4388-A8E2-8E1423A6380E}"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LA ALFABETIZACIÓN ES IMPORTANTE PARA LOS MM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l billón de adultos que no pueden leer, la mayoría son mujeres, se calculan unos 650.000.000. Desde que comenzó la escritura, las mujeres han tenido menos acceso a leer y escribir que los hombres. Es cierto aún hoy en muchas áreas del mundo. En algunos países la situación se está empeorando, sin embargo, en lugar de mejorar. De hecho, el número de mujeres analfabetas en el mundo continuará creciendo hasta algún momento dentro de dos décadas, cuando los esfuerzos por expandir el acceso a la escuela primaria puedan proveer una educación para la mayoría de los niños. Estas mujeres constituyen un grupo natural por el cual trabajar y testificar con los Ministerios de la Mujer. Cuando una mujer aprende a leer, toda su familia tiene una mejor oportunidad de alfabetizarse. Mientras de les enseña a leer, a estas mujeres se les pueden presentar los materiales de enseñanza cristiana para padres, salud, estilo y filosofía de vida. “Cuando se educa a un hombre, simplemente se educa a un individuo, pero cuando se educa a una mujer, estará educando a un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estas mujeres viven en lo que la Misión Global describe como la  “ventana 10-40,” o la parte del mundo que se encuentra a  10 grados al norte y 40 grados al sur del ecuador, el foco de los mayores esfuerzos de nuestra Misión Global. La mayoría de estas mujeres son musulmanas. No solamente se trata de un grupo difícil de gente por la cual trabajar, pero también es casi imposible para un hombre trabajar con cualquiera de estas mujeres. Por lo tanto, es un trabajo importante que las mujeres pueden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os programas de alfabetización de los MM serán dirigidos por mujeres, sería un mal servicio excluir a los hombres que deseen participar también, o limitar nuestras clases solo para mujeres. Algunos estudios muestran que tanto hombres como mujeres pueden aprender mejor, cuando ambos están involucrados en las clases. En otras sociedades, las mujeres no desean participar en clases junto con los hombres. Los líderes en cada área del mundo tendrán que tomar sus propias decisiones con respecto de esto, pero en la medida de las posibilidades tratemos siempre de ser inclusiv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F82C-D615-4AC7-BB42-650F1B94076F}"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7" name="PlaceHolder 1"/>
          <p:cNvSpPr>
            <a:spLocks noGrp="1"/>
          </p:cNvSpPr>
          <p:nvPr>
            <p:ph type="sldImg"/>
          </p:nvPr>
        </p:nvSpPr>
        <p:spPr>
          <a:xfrm>
            <a:off x="1162080" y="679320"/>
            <a:ext cx="4533840" cy="3400560"/>
          </a:xfrm>
          <a:prstGeom prst="rect">
            <a:avLst/>
          </a:prstGeom>
          <a:ln w="0">
            <a:noFill/>
          </a:ln>
        </p:spPr>
      </p:sp>
      <p:sp>
        <p:nvSpPr>
          <p:cNvPr id="24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EF73-F7AA-4131-8BA5-276F0D1C0D3A}"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D2DE-B0C2-48AA-B348-B855495E3E6E}"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3" name="PlaceHolder 1"/>
          <p:cNvSpPr>
            <a:spLocks noGrp="1"/>
          </p:cNvSpPr>
          <p:nvPr>
            <p:ph type="sldImg"/>
          </p:nvPr>
        </p:nvSpPr>
        <p:spPr>
          <a:xfrm>
            <a:off x="1162080" y="679320"/>
            <a:ext cx="4533840" cy="3400560"/>
          </a:xfrm>
          <a:prstGeom prst="rect">
            <a:avLst/>
          </a:prstGeom>
          <a:ln w="0">
            <a:noFill/>
          </a:ln>
        </p:spPr>
      </p:sp>
      <p:sp>
        <p:nvSpPr>
          <p:cNvPr id="254"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STÁCULOS PARA LAS MUJER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os gobiernos no sienten todavía que la educación es de tremenda importancia para las mujeres. Como resultado, se ha hecho muy poco para auspiciar o promover, programas de alfabetización para mujeres. Antes de que estos gobiernos promuevan la alfabetización femenina, requerirá que se ejerza presión, de parte de las personas dedicadas a los cambios sociales a gran esc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Muchas mujeres tienen dificultad para encontrar el tiempo y la energía para asistir a la escuela, aunque se les brindara la oportunidad. Además les falta concentración porque deben traer a sus hijos más pequeños con ellas a las clases. Por esta razón, cuando se planifica un programa de alfabetización, sería beneficioso también, planificar un programa separado para los niños o proveer gente para cuidarlos. Muchas mujeres no cuentan con el apoyo de los hombres en las familias; padres o esposos analfabetos pueden mostrarse negativos a permitir que sus esposas o hijas participen. Sin embargo, los hombres a menudo apoyan más cuando descubren que la lectura aumenta las posibilidades de ganancias de la mujer. La falta de material de lectura relevante para la lengua nativa es a menudo desalentador para las mujeres, especialmente con los materiales de seguimiento y enriquecimiento. Muchas mujeres se sienten avergonzadas también por su falta de educación, por lo tanto no deben sentirse amenazadas por un programa y necesitan recibir mucho apoyo, respetando a estas mujeres por lo que saben y pueden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La educadora tendrá que planificar el programa de manera que se tomen en cuenta las necesidades. Por ejemplo, podría llevarse a cabo en los alrededores del lugar donde las mujeres lavan la ropa. Podría llevarse a cabo mientras están cosiendo o realizando un trabajo en conexión con la preparación de sus alimentos. Las clases tendrán que ser de menor duración pero con más sesiones. La cantidad de trabajo puede ser más pesada en cierta época del año, como ser, las épocas de sembrar y cosec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numerosos obstáculos, pero ninguno que no se pueda superar si el programa está bien planificado y diseñ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os que enseñan a otros, disfrutar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s estrellas en los cielos, brillarán para siemp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Porque nunca saben h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 </a:t>
            </a:r>
            <a:r>
              <a:rPr b="0" i="1" lang="es-ES" sz="1200" spc="-1" strike="noStrike">
                <a:solidFill>
                  <a:srgbClr val="000000"/>
                </a:solidFill>
                <a:latin typeface="Times New Roman"/>
              </a:rPr>
              <a:t>dónde alcanzará su influ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t>
            </a:r>
            <a:r>
              <a:rPr b="0" i="1" lang="es-ES" sz="1200" spc="-1" strike="noStrike">
                <a:solidFill>
                  <a:srgbClr val="000000"/>
                </a:solidFill>
                <a:latin typeface="Times New Roman"/>
              </a:rPr>
              <a:t>Anónim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7AA9-797C-44F1-A562-632B192D1421}"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SÍ QUE DESEA COMENZAR UN PROGRAMA DE ALFABETIZACIÓN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licitaciones. Está queriendo hacer algo que puede marcar una diferencia y suplir una gran necesidad. Pero probablemente tenga un montón de preguntas acerca de este programa. ¿Cómo comenzar y que materiales se necesit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este programa es ayudarla a comenzar. No contestará todas las preguntas que pueden surgir en cada rincón de este mundo donde hay necesidades de alfabetización, pero la ayudará a comenzar a descubrir qué información necesita, y la ayudará a encontrar algunas respuestas. El propósito es ayudarla a entender suficiente como para planificar y comenzar el progr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no se enseña aquí son instrucciones específicas. No se dice nada acerca de con qué letra del alfabeto comenzar y qué enseñar en cada clase. La razón: cada idioma necesita la adaptación apropiada. Algunos idiomas, por supuesto, no tienen un alfabeto que se asemeje a los originados en el latín, así que enseñar métodos será algo difer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Dios la bendiga al diseñar y planificar un programa de alfabetizació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D601-5B76-4C0B-BFF1-C8BA45AA5E23}"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ES ALFABETIZACIÓN?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istóricamente, una persona era considerada como alfabetizada si podía firmar su nombre. Entonces en 1951, la UNESCO expresó que una persona estaba alfabetizada, si podía leer y escribir con entendimiento una frase corta y simple acerca de la vida diaria. En años recientes, el ejército de los Estados Unidos comenzó a requerir un diploma de escuela secundaria (o de enseñanza general básica). En este momento, la mayoría de las organizaciones de alfabetización definan la alfabetización como la posibilidad de utilizar información impresa y escrita para funcionar en sociedad para llevar a cabo las metas y desarrollar su propio conocimiento y potencial. En varias partes del mundo, se utilizan diferentes niveles de lectura y escritura para definir la alfabetización, pero nosotros podemos concordar que si una persona puede leer y escribir suficientemente bien como para poder hacer lo que desean, no necesitan más alfabet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r leer y escribir o ser analfabeto no son polos opuestos, sino un continuo. Para poder ser verdaderamente educada, una persona necesita poder funcionar al nivel, cualquiera que sea, que se haya propuesto como blanco. Por ejemplo, en un estudio de un programa de alfabetización en Tanzania, se descubrió que la mayoría de las estudiantes, eran mujeres de mediana edad de los grupos más pobres de la sociedad. Dos tercios habían asistido a la escuela, la mayoría por más de cuatro años. Pero eran incapaces de cumplir con sus metas, así que necesitaban más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a:t>
            </a:r>
            <a:r>
              <a:rPr b="0" i="1" lang="es-ES" sz="1200" spc="-1" strike="noStrike">
                <a:solidFill>
                  <a:srgbClr val="000000"/>
                </a:solidFill>
                <a:latin typeface="Times New Roman"/>
              </a:rPr>
              <a:t>Programas de alfabetización para adultos </a:t>
            </a:r>
            <a:r>
              <a:rPr b="0" lang="es-ES" sz="1200" spc="-1" strike="noStrike">
                <a:solidFill>
                  <a:srgbClr val="000000"/>
                </a:solidFill>
                <a:latin typeface="Times New Roman"/>
              </a:rPr>
              <a:t>(1995), Comings, Smith y Shrestha dic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l nivel de habilidad en alfabetización que debiera considerarse severamente limitado en una región rural de Lesotho es muy diferente del nivel en América urbana; de hecho, la única definición útil de alfabetización es una que se establece dentro del contexto de la vida de un individuo. En cualquier contexto, sin embargo, la falta de habilidad para leer un texto simple, como los utilizados en el primer grado de la escuela primaria, debieran ser considerados completamente analfabetos, y la UNESCO estima que unos 950 millones de personas encajan  dentro de esta definición de analfabetos. Si se considera a la alfabetización en una forma más amplia como la eficiencia para leer, escribir, y poder comprender matemáticas lo suficiente como para poder competir por buenos trabajos y participar plenamente en una vida social y política, el número de adultos, mundialmente hablando, que podrían beneficiarse con este entrenamiento podría llegar a los 2 billones. Si la definición incluye trabajadores que podrían ganar un salario más alto si mejoraran sus habilidades básicas, el total podría ser de 3 billones. Porque aproximadamente 100 millones de niños del mundo en edad de escuela primaria no están asistiendo a la escuela y muchos que asisten, abandonan durante los primeros dos años. La población analfabeta del mundo no disminuirá dramáticamente en los próximos diez años, sin un esfuerzo mayor por educar a los adulto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sea exitoso un programa de alfabetización no debiera limitarse solamente a leer y escribir. Este tipo de educación debiera abordarse considerando al ser humano como un todo, incluyendo conversación, comprensión auditiva, lectura y escrit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ducación en matemáticas, requiere de habilidades semejantes a la lectura y escritura, pero también requiere de habilidades propias y separadas. Los estudiantes en un programa de alfabetización básica, pueden aprender a escribir y comprender los símbolos numéricos contando objetos y marcas en un pape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ult Literacy Programs, Design, Implementation and Evaluation,” John P. Comings, Cristine Smith and Chij K. Shrestha, 1995, manuscript draf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DDED-977C-4A4D-9D7D-6819DFCD38E6}"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9" name="PlaceHolder 1"/>
          <p:cNvSpPr>
            <a:spLocks noGrp="1"/>
          </p:cNvSpPr>
          <p:nvPr>
            <p:ph type="sldImg"/>
          </p:nvPr>
        </p:nvSpPr>
        <p:spPr>
          <a:xfrm>
            <a:off x="1162080" y="679320"/>
            <a:ext cx="4533840" cy="3400560"/>
          </a:xfrm>
          <a:prstGeom prst="rect">
            <a:avLst/>
          </a:prstGeom>
          <a:ln w="0">
            <a:noFill/>
          </a:ln>
        </p:spPr>
      </p:sp>
      <p:sp>
        <p:nvSpPr>
          <p:cNvPr id="26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IÉNES LO NECESITA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encuentran varios grupos a los cuales serv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adultos que no pueden funcionar a un nivel promedio de lectura y escri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ellos que necesitan mejorar su nivel de habilidad para poder conseguir un trabajo mej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de segunda lengua; no pueden leer o escribir en el idioma del gobierno y comercio nac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vios a la alfabetización; niñ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áreas pobres o donde los padres son analfabetos, muy a menudo los niños reciben una educación pobre, y una ayuda especial para ellos puede ayudar a asegurar que puedan ser alfabetizados. Otra área necesitada es la de educar y ayudar a los niños que están luchando con sus tareas escolares y la  comprensión de sus clases. Las escuelas locales y los maestros pueden ayudar a planificar programas para estos dos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personas son analfabetas, no porque nunca tuvieron la oportunidad de asistir a una escuela, sino por otras razones tales como: problemas auditivos, problemas visuales, problemas de aprendizaje como ser: dislexia, deficiencia de atención, o imposibilidad para trabajar en grupo. Otros tuvieron que abandonar por razones de salud, salir a trabajar para sostener la familia, falta de motivación, no estaban preparados cuando comenzaron la escuela, falta de modelos de rol, no tenían la documentación necesaria, o provenían de familias inmigrantes y se mudaban demasiado a menudo como para recibir una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existe un lenguaje nacional y un número de dialectos locales. Para muchos, la pregunta es qué idioma debería utilizarse para el programa de alfabetización. Aprender en un lenguaje local es más fácil para los estudiantes porque el vocabulario les resulta más familiar. Les refuerza la cultura, historia, identidad, y sentimiento de su propio valor. A menudo los materiales de lectura y alfabetización en el lenguaje local son limitados y no beneficiarán a los estudiantes tanto como en el comercio o empleo. Un idioma nacional puede ser una fuerza unificadora que contribuye a construir la unidad na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se planifican programas de alfabetización, podría ser bueno considerar desarrollar programas en el sistema de prisiones, ya que un alto porcentaje de carcelarios son analfabetos. Una de las razones por las que muchos se tornan al crimen se debe al ciclo de fracasos en el aprendizaje y la inhabilidad para mantener un buen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áreas, especialmente en los centros urbanos de los países en muchas áreas, especialmente en centros urbanos en países desarrollados, puede ser más necesario desarrollar programas más sofisticados que el de alfabetización básica.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E610-631B-4187-9A63-8FB2B2562D8F}"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APRENDEN LOS ADULTOS (RP-13)</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cuatro factores principales en la educación de adultos: </a:t>
            </a:r>
            <a:r>
              <a:rPr b="1" lang="en-US" sz="900" spc="-1" strike="noStrike">
                <a:solidFill>
                  <a:srgbClr val="000000"/>
                </a:solidFill>
                <a:latin typeface="Times New Roman"/>
              </a:rPr>
              <a:t>(ver PowerPoin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os adultos se sienten avergonzados por el hecho de no poder leer. Si se los trata con condescendencia como a un niño, abandonan rápidamente. La maestra debe entender y manejar el hecho de que aunque el adulo analfabeto no pueda leer, él o ella es una persona muy inteligente que posee otras habilidades y conocimientos que hasta el maestro no po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peto puede manifestarse de muchas maneras. Un ejemplo sería que el maestro no diga: “Te estoy ayudando a aprender a leer” sino “te estoy ayudando a mejorar tu habilidad de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señar a adultos es muy diferente que enseñar a niños. Por esta razón,  los maestros profesionales no están mejor preparados para alfabetizar a un adulto que otros que reciben entrenamiento en alfabetización. En sociedades pobres, se hicieron estudios que mostraron que las maestras locales, pobres, (no las de clase media) fueron las más exitosas en motivar la participación en los programas de lec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adulto viene para aprender por voluntad propia. Muchas veces estos adultos se sienten fracasados; La mayoría del mundo puede leer y ellos no. Quizá nunca tuvieron la oportunidad, o este individuo se tenido que enfrentar con un número de obstáculos que han impedido su aprendizaje. Así que animarlo, motivarlo, construir su auto estima y aumentar su confianza, constituirán una parte importante del trabajo del maestro.  Sería bueno ayudar al estudiante a sentirse exitoso desde el mismo comienzo y en cada clase. La clave para enseñar a alguien a leer no depende tanto la técnica o los materiales, sino de una actitud de mutua cooperación y apoyo entre el docente y el flamante l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recordar una vez más, que los adultos que no pueden leer no son analfabetos porque sean estúpidos. Generalmente, los adultos que no pueden leer son muy inteligentes; deben ser muy hábiles para funcionar en un mundo en el que se lee. Necesitan escuchar y recordar todas las cosas; ¡No pueden anotarse o la información que podrían olvi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desean aprender rápido. Ya se encuentran completamente ocupados, a menudo con un trabajo de tiempo completo y una familia, así que dedicar tiempo para ir a clases y hacer las tareas requiere dedicación y compromi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ducadores se han dado cuenta de que todos aprendemos más haciendo que simplemente escuchando. Ponga al alumno en el programa de alfabetización, a leer cosas que desee, tanto como sea posible. Entonces téngalo activamente envuelto en el ambiente de la clase utilizando las cosas que ha aprendido en materiales que le interesen. Si enseña en forma grupal, ponerlos a ayudarse unos a otros aumentará su retención.  Un diálogo sobre lo que han leído los ayudará, y escribir sobre el tema como tarea enriquecerá aún más su aprendizaje. Tratar temas de la comunidad, o de interés personal, hará que la práctica sea más significativa aún. También puede pedirles a los estudiantes que ilustren el material que leen, o hacerlos leer y que representen lo que han leído. Por ejemplo, las mujeres podrían demostrar lo que han aprendido a leer, preparando un alimento a partir de una receta escrita.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6F68-B243-4592-8911-D95CDE2F90F2}"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5" name="PlaceHolder 1"/>
          <p:cNvSpPr>
            <a:spLocks noGrp="1"/>
          </p:cNvSpPr>
          <p:nvPr>
            <p:ph type="sldImg"/>
          </p:nvPr>
        </p:nvSpPr>
        <p:spPr>
          <a:xfrm>
            <a:off x="1162080" y="679320"/>
            <a:ext cx="4533840" cy="3400560"/>
          </a:xfrm>
          <a:prstGeom prst="rect">
            <a:avLst/>
          </a:prstGeom>
          <a:ln w="0">
            <a:noFill/>
          </a:ln>
        </p:spPr>
      </p:sp>
      <p:sp>
        <p:nvSpPr>
          <p:cNvPr id="26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se muestran estrategias institucionales y el promedio de retención para los diferentes tipos de aprendizaje: </a:t>
            </a:r>
            <a:r>
              <a:rPr b="1" lang="es-ES" sz="1200" spc="-1" strike="noStrike">
                <a:solidFill>
                  <a:srgbClr val="000000"/>
                </a:solidFill>
                <a:latin typeface="Times New Roman"/>
              </a:rPr>
              <a:t>(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91DE-3988-4DA2-90BB-66F86704991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hay algunos lineamientos que pueden seguir los maestros para ayudar a los adultos a aprender a leer y escribir. </a:t>
            </a:r>
            <a:r>
              <a:rPr b="1" lang="es-ES" sz="1200" spc="-1" strike="noStrike">
                <a:solidFill>
                  <a:srgbClr val="000000"/>
                </a:solidFill>
                <a:latin typeface="Times New Roman"/>
              </a:rPr>
              <a:t>(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e suave. Sea cortés y respetu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ime siempre a su alumna No se olvide de alabarla a menudo por sus esfuerzos. Nunca se impaciente con sus err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éngase humilde, mostrando honra a su alumna. Trátela como a una igual; nunca aparente superior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nca se ría de los errores ni permita que los demás lo hagan. No las sobrecargue de trabajo, no permita que sienta que está aprendiendo demasiado l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e a su alumna y dígale que está segura de que ella puede aprender rápido. Haga el aprendizaje tan feliz e interesante com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no pueda asistir a clase, encuentre una suplente o arregle con sus alumnas con suficiente anticipación un nuevo horario para recuperar la cl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éntese al lado de su alumna. Trate de hacerla sentir como una igual, no superior. Trate de ser más semejante a Jesús para ella, que cualquier persona que haya conocido ante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ienzo del curso, es bueno decirles a las estudiantes que se espera que ellas enseñen por lo menos a una persona a leer tan pronto como hayan aprendido a hacerlo. Esto las ayudará a darse cuenta de que se confía que tengan éxito y que ellas son personas dignas y capaces. También ayudará  a extender el programa más allá de su alcance ini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br>
              <a:rPr sz="1200"/>
            </a:b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apted from </a:t>
            </a:r>
            <a:r>
              <a:rPr b="0" i="1" lang="es-ES" sz="1200" spc="-1" strike="noStrike">
                <a:solidFill>
                  <a:srgbClr val="000000"/>
                </a:solidFill>
                <a:latin typeface="Times New Roman"/>
              </a:rPr>
              <a:t>Teaching Guide</a:t>
            </a:r>
            <a:r>
              <a:rPr b="0" lang="es-ES" sz="1200" spc="-1" strike="noStrike">
                <a:solidFill>
                  <a:srgbClr val="000000"/>
                </a:solidFill>
                <a:latin typeface="Times New Roman"/>
              </a:rPr>
              <a:t>, Literacy and Evangelism International, 1993.</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74F7-DC41-4440-83EE-89DDA06245FA}"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1" name="PlaceHolder 1"/>
          <p:cNvSpPr>
            <a:spLocks noGrp="1"/>
          </p:cNvSpPr>
          <p:nvPr>
            <p:ph type="sldImg"/>
          </p:nvPr>
        </p:nvSpPr>
        <p:spPr>
          <a:xfrm>
            <a:off x="1162080" y="679320"/>
            <a:ext cx="4533840" cy="3400560"/>
          </a:xfrm>
          <a:prstGeom prst="rect">
            <a:avLst/>
          </a:prstGeom>
          <a:ln w="0">
            <a:noFill/>
          </a:ln>
        </p:spPr>
      </p:sp>
      <p:sp>
        <p:nvSpPr>
          <p:cNvPr id="272"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MENZAR (RP-1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comenzar, es importante comprender lo que se requiere para tener un programa exitoso. No se desanime cuando no está yendo tan bien como esperaba. Planifique para tener un 100 &amp; de éxito pero no renuncie si no lo logra, porque un programa de alfabetización ha sido definido por alguien como un programa donde alrededor del 50 % de los participantes adquieren cierto nivel de alfabetización suficiente para utilizar y retener al pasar el tiempo.  Por la naturaleza de la educación de adultos, algunos de los elementos importantes en un programa como este son: </a:t>
            </a:r>
            <a:endParaRPr b="0" lang="en-US" sz="12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 adulto promedio, se necesitan de 200 a 300 horas de instrucción para adquirir un nivel de habilidad satisfactorio para emplear y retener al pasar el tiempo. En parte dependerá si se desarrollará bajo una base de uno-a-uno con un asistente por alumno o en ambiente de clase grup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ásicamente, existen dos tipos de programas de alfabetización. En primer lugar, un tutor se reúne privadamente con un alumno en un horario y lugar establecido de mutuo acuerdo. El trabajo de la clase se centra solamente en los intereses y habilidades de este alumno. Este tipo es probablemente el más común en lugares como los Estados Unidos, donde los analfabetos están muy desparramados entre la población. El segundo tipo es en una clase o grupo pequeño dentro de una escuela, iglesia, o hasta al aire libre. Todos en el grupo trabajan con el mismo tipo de material en general. Para ser más exitosos, la mayoría de los expertos dicen que el tamaño del grupo debiera limitarse entre 8 a 12 alumn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qué hace uno para presentar suficientes horas y material a los alumnos para que obtengan un nivel de éxito?  ¡Debe comenzar investigando! Es imperativo que usted sepa exactamente quiénes serán sus estudiantes, cuántos son analfabetos, y si son totalmente analfabetos o analfabetos funciona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siguiente paso es descubrir porqué son analfabetos estos individuos. ¿Cuáles son los obstáculos para poder cambiar la situación? ¿Encuentra algunos que prefieren permanecer analfabetos? ¿Qué recursos se pueden conseguir para superar estos obstácul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ará saber el nivel de interés en su iglesia. ¿Han esto involucrados en un programa de alfabetización antes? ¿Cuáles fueron los resultados? Utiliza la iglesia local activamente la Biblia y ánima su lectura? ¿Qué impacto tienen otras religiones locales en la alfabetización? ¿Comprende su iglesia los problemas que produce la falta de alfabetización en la iglesia y en la comun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necesitará investigar los materiales escritos que pueda conseguir sobre el tema. ¿Qué materiales se pueden conseguir de otros planes de alfabetización o del gobierno? ¿Cuántos materiales se pueden conseguir como lectura suplementaria o de seguimiento? ¿Es material fácil y suficientemente barato como  para adquirir? ¿Se puede conseguir la Biblia o porciones de la Escritura, legibles en el idioma loc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ién es el autor del material que está planeando utilizar? ¿Cuál es el contenido de los libros? ¿Desde qué perspectiva o ideología provienen? ¿Trata el material sobre necesidades locales y puede la gente identificarse con el mismo?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6558-6E8F-47B2-964E-467C5AF0FC86}"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las respuestas a estas preguntas la ayudarán a saber que tipo de programa necesita planificar. Una vez hecho el pronóstico, comience a planific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da cuál será el idioma de instrucción. ¿Será el idioma local, indígena, el lenguaje comercial o de negocios, o una segunda lengua como el ingl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ncuentre materiales para alfabetización. Se pueden obtener de organizaciones para la alfabetización, del gobierno, de universidades y colegios. Como  cada área en el mundo es diferente, usted debe hacer esta búsqueda por sí misma. Hable con el director de ADRA; ¿Han participado en algún programa de alfabetización antes; Contáctese con el ministro de educación o alguna otra organización no gubernamental, especialmente aquellas que están relacionadas con el desarrollo de la ecuación. Podrían contar con fondos monetarios, materiales o consej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sonidos de  las vocales en el idioma son regulares (en inglés no lo son) es bastante fácil comenzar enseñando los sonidos de las vocales y entonces introducir las consonantes mientras la alumna indica qué palabras desea aprender a leer. Podría no necesitar un libro para este programa. Usted puede utilizar toda clase de materiales que se pueden conseguir gratis fácilmente: diarios, panfletos gubernamentales sobre salud y educación, formularios de solicitud de empleo, propagandas.  También puede usar materiales tan simples como ser una canción que resulte familiar para la alumna. La repetición en esto es excelente. (Ver “Teaching Without a Book,” página 19.) (</a:t>
            </a:r>
            <a:r>
              <a:rPr b="0" i="1" lang="es-ES" sz="1200" spc="-1" strike="noStrike">
                <a:solidFill>
                  <a:srgbClr val="000000"/>
                </a:solidFill>
                <a:latin typeface="Times New Roman"/>
              </a:rPr>
              <a:t>Cómo enseñar sin un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que tutores. Probablemente será mujeres del grupo de los Ministerios de la Mujer locales, o podría invitar a otras que estén interesadas en unírsele en este proyecto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Encuentre a alguien que pueda entrenar las tutoras o asistentes. Las mismas fuentes que suplirán materiales de alfabetización son buenas posibilidades. Hable otra vez con el departamento de educación para adultos de la universidad y con el directo de ADRA para obtener consejo y ayu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os Estados Unidos, y en algunas otras áreas del mundo, se puede obtener entrenamiento  para tutores o instructores en alfabetización  contactándose con la biblioteca local. Si ya cuenta con un numero de instructoras voluntarias que desean ser entrenadas, la biblioteca y las organizaciones para la alfabetización que cuentan con gente que ya trabaja en ésta área, podrían estar dispuestos a venir a su iglesia o escuela y hacer el entrenamiento en un horario conveniente para su grupo. Estudie las páginas amarillas o blancas bajo “alfabetización” o contáctese con  Laubach Literacy International or Literacy Volunteers of America (vea la lista en el Apéndic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areció en un diario de cierta ciudad: ¿Analfabeto? Escriba hoy pidiendo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Decida cuándo comenzar a reclutar alumnos. Organice un programa de propaganda. Recuerde, ¡Los posibles alumnos no pueden leer la propaganda! Investigue cómo recibe la información la sociedad en que vive la gente analfabeta. Utilice cada recurso que pueda descubri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1ADE-988C-495D-A1EF-50400E76129A}"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9" name="PlaceHolder 1"/>
          <p:cNvSpPr>
            <a:spLocks noGrp="1"/>
          </p:cNvSpPr>
          <p:nvPr>
            <p:ph type="sldImg"/>
          </p:nvPr>
        </p:nvSpPr>
        <p:spPr>
          <a:xfrm>
            <a:off x="1162080" y="679320"/>
            <a:ext cx="4533840" cy="3400560"/>
          </a:xfrm>
          <a:prstGeom prst="rect">
            <a:avLst/>
          </a:prstGeom>
          <a:ln w="0">
            <a:noFill/>
          </a:ln>
        </p:spPr>
      </p:sp>
      <p:sp>
        <p:nvSpPr>
          <p:cNvPr id="23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cristian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68CE-0351-4A55-A9FE-3DFD1F22C7F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7" name="PlaceHolder 1"/>
          <p:cNvSpPr>
            <a:spLocks noGrp="1"/>
          </p:cNvSpPr>
          <p:nvPr>
            <p:ph type="sldImg"/>
          </p:nvPr>
        </p:nvSpPr>
        <p:spPr>
          <a:xfrm>
            <a:off x="1162080" y="679320"/>
            <a:ext cx="4533840" cy="3400560"/>
          </a:xfrm>
          <a:prstGeom prst="rect">
            <a:avLst/>
          </a:prstGeom>
          <a:ln w="0">
            <a:noFill/>
          </a:ln>
        </p:spPr>
      </p:sp>
      <p:sp>
        <p:nvSpPr>
          <p:cNvPr id="27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RA EL INSTRUCTOR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ha mencionado previamente,  es imposible preparar completamente a un instructor en un seminario como este, pero unas pocas ideas sugerentes para el instructor, podrían ser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t>
            </a:r>
            <a:r>
              <a:rPr b="1" lang="es-ES" sz="1200" spc="-1" strike="noStrike">
                <a:solidFill>
                  <a:srgbClr val="000000"/>
                </a:solidFill>
                <a:latin typeface="Times New Roman"/>
              </a:rPr>
              <a:t>Repetimos, su relación con la alumna es el factor más importante en la enseñanza.</a:t>
            </a:r>
            <a:r>
              <a:rPr b="0" lang="es-ES" sz="1200" spc="-1" strike="noStrike">
                <a:solidFill>
                  <a:srgbClr val="000000"/>
                </a:solidFill>
                <a:latin typeface="Times New Roman"/>
              </a:rPr>
              <a:t> Aunque se trabe con las palabras, se olvide algún detalle pequeño, o no desarrolla las cosas en el orden exacto, su alumno pasará por lato y perdonará lo que sea. Es importante que ella o él sepan que usted los respeta y se interesa por ellos; que usted tiene una buena actitud hacia ellos, y que está haciendo lo mejor para hacer que sus vidas mej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a:t>
            </a:r>
            <a:r>
              <a:rPr b="1" lang="es-ES" sz="1200" spc="-1" strike="noStrike">
                <a:solidFill>
                  <a:srgbClr val="000000"/>
                </a:solidFill>
                <a:latin typeface="Times New Roman"/>
              </a:rPr>
              <a:t>De acuerdo con un estudio de programas de alfabetización, la conducta más importante del maestro es simplemente estar para dar clases</a:t>
            </a:r>
            <a:r>
              <a:rPr b="0" lang="es-ES" sz="1200" spc="-1" strike="noStrike">
                <a:solidFill>
                  <a:srgbClr val="000000"/>
                </a:solidFill>
                <a:latin typeface="Times New Roman"/>
              </a:rPr>
              <a:t>. Si los materiales son adecuados y el maestro está para dar las clases regularmente e intenta enseñar, se puede esperar que completen con éxito un 50 % de los alumnos. Los niños asistirán a clases aunque la maestra sea esporádica, pero los adulto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la asistencia no es la esperada; ya sea porque abandonan muy pronto o demasiados, sería sabio dedicar algún tiempo y aún dinero para descubrir cuáles son las razones y tomar las medidas necesarias para adaptar el programa para superar estos probl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En general, un programa que enseña la lengua desde una perspectiva global es el más exitoso;</a:t>
            </a:r>
            <a:r>
              <a:rPr b="0" lang="es-ES" sz="1200" spc="-1" strike="noStrike">
                <a:solidFill>
                  <a:srgbClr val="000000"/>
                </a:solidFill>
                <a:latin typeface="Times New Roman"/>
              </a:rPr>
              <a:t> utiliza las tres habilidades: fonética, vocabulario visual, y contexto, y debiera involucrar: conversación, comprensión auditiva, lectura y escritura. Para esto es importante la participación grupal, especialmente para las mujeres que frecuentemente no han hablado nunca antes en frente de un grupo, o no han tenido a nadie que realmente escuche lo tienen para decir. Esto también hace que el aprendizaje sea más divertido y ayuda a construir un lazo más fuerte entre las mujere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DD92-2933-4E2D-836F-1438AB663146}"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a:t>
            </a:r>
            <a:r>
              <a:rPr b="1" lang="es-ES" sz="1200" spc="-1" strike="noStrike">
                <a:solidFill>
                  <a:srgbClr val="000000"/>
                </a:solidFill>
                <a:latin typeface="Times New Roman"/>
              </a:rPr>
              <a:t>Para la mayoría de los adultos, aprender a leer y escribir, lleva mucho tiempo y esfuerzo, y después de unas pocas semanas de estudio, la motivación puede menguar.</a:t>
            </a:r>
            <a:r>
              <a:rPr b="0" lang="es-ES" sz="1200" spc="-1" strike="noStrike">
                <a:solidFill>
                  <a:srgbClr val="000000"/>
                </a:solidFill>
                <a:latin typeface="Times New Roman"/>
              </a:rPr>
              <a:t> Por esta razón, conectar la educación a problemas y soluciones reales, descubrir porqué, y qué desean leer las alumnas, puede transformarse en la motivación adicional necesaria para permanecer en el programa, y entonces, por supuesto, mejorar la calidad de la vida de las participantes. </a:t>
            </a:r>
            <a:r>
              <a:rPr b="1" lang="es-ES" sz="1200" spc="-1" strike="noStrike">
                <a:solidFill>
                  <a:srgbClr val="000000"/>
                </a:solidFill>
                <a:latin typeface="Times New Roman"/>
              </a:rPr>
              <a:t>(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a:t>
            </a:r>
            <a:r>
              <a:rPr b="1" lang="es-ES" sz="1200" spc="-1" strike="noStrike">
                <a:solidFill>
                  <a:srgbClr val="000000"/>
                </a:solidFill>
                <a:latin typeface="Times New Roman"/>
              </a:rPr>
              <a:t>Antes de comenzar con el programa de alfabetización, o en la primera sesión con una alumna, es importante hablar sobre el compromiso que están adquiriendo.</a:t>
            </a:r>
            <a:r>
              <a:rPr b="0" lang="es-ES" sz="1200" spc="-1" strike="noStrike">
                <a:solidFill>
                  <a:srgbClr val="000000"/>
                </a:solidFill>
                <a:latin typeface="Times New Roman"/>
              </a:rPr>
              <a:t> Comente con la persona o el grupo cuáles son las reglas básicas de asistencia, tareas, esfuerzo, etc. Usted también necesita pactar con ellos que usted hará lo mejor para ayudarlos a poder alcanzar sus metas, les hará saber si usted no podrá asistir, respetará sus necesidades, etc. Es bueno si puede lograr que se comprometan a asistir a un mínimo de tres meses de clases, y entonces establecer nuevas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  </a:t>
            </a:r>
            <a:r>
              <a:rPr b="1" lang="es-ES" sz="1200" spc="-1" strike="noStrike">
                <a:solidFill>
                  <a:srgbClr val="000000"/>
                </a:solidFill>
                <a:latin typeface="Times New Roman"/>
              </a:rPr>
              <a:t>Un buen programa coloca tanto énfasis en la comprensión como en la lectura oral.</a:t>
            </a:r>
            <a:r>
              <a:rPr b="0" lang="es-ES" sz="1200" spc="-1" strike="noStrike">
                <a:solidFill>
                  <a:srgbClr val="000000"/>
                </a:solidFill>
                <a:latin typeface="Times New Roman"/>
              </a:rPr>
              <a:t> Hay que animar a los participantes a comentar las palabras, frases e historias. La profesora deberá preguntar continuamente a los alumnos acerca de lo que están leyendo, y se debería animar a los estudiantes a escribir en respuesta a los comentarios y lectu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  </a:t>
            </a:r>
            <a:r>
              <a:rPr b="1" lang="es-ES" sz="1200" spc="-1" strike="noStrike">
                <a:solidFill>
                  <a:srgbClr val="000000"/>
                </a:solidFill>
                <a:latin typeface="Times New Roman"/>
              </a:rPr>
              <a:t>Si es posible, haga cartelitos con el nombre de cada persona, incluyendo a la maestra, para utilizar el  primer día.</a:t>
            </a:r>
            <a:r>
              <a:rPr b="0" lang="es-ES" sz="1200" spc="-1" strike="noStrike">
                <a:solidFill>
                  <a:srgbClr val="000000"/>
                </a:solidFill>
                <a:latin typeface="Times New Roman"/>
              </a:rPr>
              <a:t>  Escriba los nombres en letra manuscrita grande. Estos nombres pueden ser la base para la primera clase y ayudarán para que se presenten, se conozcan, y se sientan cóm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  </a:t>
            </a:r>
            <a:r>
              <a:rPr b="1" lang="es-ES" sz="1200" spc="-1" strike="noStrike">
                <a:solidFill>
                  <a:srgbClr val="000000"/>
                </a:solidFill>
                <a:latin typeface="Times New Roman"/>
              </a:rPr>
              <a:t>Muchos adultos en los países del tercer mundo vienen a clase sin haber sostenido un lápiz en sus vidas.</a:t>
            </a:r>
            <a:r>
              <a:rPr b="0" lang="es-ES" sz="1200" spc="-1" strike="noStrike">
                <a:solidFill>
                  <a:srgbClr val="000000"/>
                </a:solidFill>
                <a:latin typeface="Times New Roman"/>
              </a:rPr>
              <a:t> Para ellos, se debiera comenzar a escribir simples trazos como ser X, O, 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  </a:t>
            </a:r>
            <a:r>
              <a:rPr b="1" lang="es-ES" sz="1200" spc="-1" strike="noStrike">
                <a:solidFill>
                  <a:srgbClr val="000000"/>
                </a:solidFill>
                <a:latin typeface="Times New Roman"/>
              </a:rPr>
              <a:t>Sería bueno darles también una carpeta a cada alumno.</a:t>
            </a:r>
            <a:r>
              <a:rPr b="0" lang="es-ES" sz="1200" spc="-1" strike="noStrike">
                <a:solidFill>
                  <a:srgbClr val="000000"/>
                </a:solidFill>
                <a:latin typeface="Times New Roman"/>
              </a:rPr>
              <a:t> Pídales que escriban su nombre y dirección en la carpeta si es que lo pueden hacer. Si no, los puede ayudar a comenzar. Infórmeles que usted espera que ellos guarden todos los materiales escritos en esa carpeta; esto también les está dando el mensaje de que usted espera que tengan éxito; estarán escribiendo cosas que vale la pena guardar. Esto también los ayudará a evaluar su progreso. Infórmeles que usted también va a guardar una carpeta de tareas y ejercitaciones escritas como otros materiales relativos a su progre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K.  </a:t>
            </a:r>
            <a:r>
              <a:rPr b="1" lang="es-ES" sz="1200" spc="-1" strike="noStrike">
                <a:solidFill>
                  <a:srgbClr val="000000"/>
                </a:solidFill>
                <a:latin typeface="Times New Roman"/>
              </a:rPr>
              <a:t>Antes de enseñar cada clase, asegúrese de leer otra vez la lección que está  planificando enseñar,</a:t>
            </a:r>
            <a:r>
              <a:rPr b="0" lang="es-ES" sz="1200" spc="-1" strike="noStrike">
                <a:solidFill>
                  <a:srgbClr val="000000"/>
                </a:solidFill>
                <a:latin typeface="Times New Roman"/>
              </a:rPr>
              <a:t> y organice paso por paso, cómo va a presentar cada sección. Esto hará que la clase funcione mejor, y sus alumnos aprenderán más ráp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  </a:t>
            </a:r>
            <a:r>
              <a:rPr b="1" lang="es-ES" sz="1200" spc="-1" strike="noStrike">
                <a:solidFill>
                  <a:srgbClr val="000000"/>
                </a:solidFill>
                <a:latin typeface="Times New Roman"/>
              </a:rPr>
              <a:t>Asigne tareas a sus alumnos después de cada clase.</a:t>
            </a:r>
            <a:r>
              <a:rPr b="0" lang="es-ES" sz="1200" spc="-1" strike="noStrike">
                <a:solidFill>
                  <a:srgbClr val="000000"/>
                </a:solidFill>
                <a:latin typeface="Times New Roman"/>
              </a:rPr>
              <a:t> Esto podrá incluir: repasar la lección que se acaba de enseñar y copiar las oraciones dadas.  Cuando asigna tareas, es importante que siempre las pida y las corrija. Debiera guardarse en la carpeta de cada estudi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 técnica que conduce a manejar las habilidades de la lectura y escritura es que usted lea a sus alumnos.</a:t>
            </a:r>
            <a:r>
              <a:rPr b="0" lang="es-ES" sz="1200" spc="-1" strike="noStrike">
                <a:solidFill>
                  <a:srgbClr val="000000"/>
                </a:solidFill>
                <a:latin typeface="Times New Roman"/>
              </a:rPr>
              <a:t> Si al final de cada sección les lee una historia inspiradora o una que se relaciona directamente con sus vidas, quizá añadiendo una nueva perspectiva o humor, sucederán varias cosas: aprenderán mayores habilidades de comprensión auditiva; la lectura en voz alta será un modelo para ellos; y les ayudará a aumentar la motivación.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4F14-A9FC-4FB8-83EE-6AA3873C4C6A}"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3" name="PlaceHolder 1"/>
          <p:cNvSpPr>
            <a:spLocks noGrp="1"/>
          </p:cNvSpPr>
          <p:nvPr>
            <p:ph type="sldImg"/>
          </p:nvPr>
        </p:nvSpPr>
        <p:spPr>
          <a:xfrm>
            <a:off x="1162080" y="679320"/>
            <a:ext cx="4533840" cy="3400560"/>
          </a:xfrm>
          <a:prstGeom prst="rect">
            <a:avLst/>
          </a:prstGeom>
          <a:ln w="0">
            <a:noFill/>
          </a:ln>
        </p:spPr>
      </p:sp>
      <p:sp>
        <p:nvSpPr>
          <p:cNvPr id="284"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presentamos varias sugerencias que ya han sido probadas y evaluadas:</a:t>
            </a:r>
            <a:r>
              <a:rPr b="1" lang="es-ES" sz="1200" spc="-1" strike="noStrike">
                <a:solidFill>
                  <a:srgbClr val="000000"/>
                </a:solidFill>
                <a:latin typeface="Times New Roman"/>
              </a:rPr>
              <a:t> (RP-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0DFA-E064-4B98-B911-697F9190D85E}"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6" name="PlaceHolder 1"/>
          <p:cNvSpPr>
            <a:spLocks noGrp="1"/>
          </p:cNvSpPr>
          <p:nvPr>
            <p:ph type="sldImg"/>
          </p:nvPr>
        </p:nvSpPr>
        <p:spPr>
          <a:xfrm>
            <a:off x="1162080" y="679320"/>
            <a:ext cx="4533840" cy="3400560"/>
          </a:xfrm>
          <a:prstGeom prst="rect">
            <a:avLst/>
          </a:prstGeom>
          <a:ln w="0">
            <a:noFill/>
          </a:ln>
        </p:spPr>
      </p:sp>
      <p:sp>
        <p:nvSpPr>
          <p:cNvPr id="28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SEÑANZA SIN LIBRO DE TEXTO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nseñanza más efectiva será la que esté centrada en la  alumna. En otras palabras, le estará enseñando a la alumna lo que ella desea aprender en ese momento. Ella está en control del aprendizaje y por lo tanto más propensa a trabajar duro y a tener éxito. Afortunadamente,  esta tipo de aprendizaje es también el más efectivo porque usted no tiene que depender completamente de materiales ya preparados de alfabetización. Si se pueden conseguir materiales ya preparados excelente, pero nunca dependa completamente de él; trabaje tanto como sea posible con lo que su estudiante p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magine que su alumna dice que le gustaría poder leer una receta. Pregúntele con qué receta le gustaría comenzar y pídale que la traiga. Utilice palabras de la receta para enseñarles los nombres de las letras, sus sonidos, pronunciación, y todo lo que involucra la lectura. Si tiene en mente ese tipo de enseñanza, también  involucra conversación, comprensión auditiva, y escritura, sería bueno contarle a ella una historia acerca de la receta. Ayúdela a escribirla y a leer las palabras importantes hasta que pueda leer lo que ha escrito. Un grupo podría leer la historia y escribirla, compartir ideas y hasta ilustrar lo que han escri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a técnica fácil es mostrarle al individuo o al grupo una lámina, preferentemente de gente con la cual se puedan identificar, y que estén haciendo algo que les sea familiar. Anímelos a comentar lo que ven en la lámina. Lo que está sucediendo, qué sucederá, cuáles son los problemas y soluciones retratadas, etc. Hágalos escribir una historia acerca de la lámina. La historia posiblemente tendrá tres o cuatro frases cortas; a esta altura, ¡Escribir es una tarea difícil para ellas! Anímelas a escribir lo mejor que puedan y ayúdelas si lo piden. Cuando hayan terminado, si escribieron algo mal, solamente escriba la palabra correcta arriba de la equivocada. Entonces utilice la historia para la clase de lectura. Elija una palabra de la historia. Combine las consonantes con las cinco vocales diferentes para ayudarlas a aprender las letras. Muéstreles modelos de palabras. Por ejemplo, si la historia es acerca de la casa chica, se pueden usar otras letras en la historia para mostrar como formar más palabras. (Ver el ejemplo 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sa</a:t>
            </a:r>
            <a:r>
              <a:rPr b="0" lang="es-ES" sz="1200" spc="-1" strike="noStrike">
                <a:solidFill>
                  <a:srgbClr val="000000"/>
                </a:solidFill>
                <a:latin typeface="Times New Roman"/>
              </a:rPr>
              <a:t>	</a:t>
            </a:r>
            <a:r>
              <a:rPr b="0" lang="es-ES" sz="1200" spc="-1" strike="noStrike">
                <a:solidFill>
                  <a:srgbClr val="000000"/>
                </a:solidFill>
                <a:latin typeface="Times New Roman"/>
              </a:rPr>
              <a:t>Ch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sa</a:t>
            </a:r>
            <a:r>
              <a:rPr b="0" lang="es-ES" sz="1200" spc="-1" strike="noStrike">
                <a:solidFill>
                  <a:srgbClr val="000000"/>
                </a:solidFill>
                <a:latin typeface="Times New Roman"/>
              </a:rPr>
              <a:t>	</a:t>
            </a:r>
            <a:r>
              <a:rPr b="0" lang="es-ES" sz="1200" spc="-1" strike="noStrike">
                <a:solidFill>
                  <a:srgbClr val="000000"/>
                </a:solidFill>
                <a:latin typeface="Times New Roman"/>
              </a:rPr>
              <a:t>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a</a:t>
            </a:r>
            <a:r>
              <a:rPr b="0" lang="es-ES" sz="1200" spc="-1" strike="noStrike">
                <a:solidFill>
                  <a:srgbClr val="000000"/>
                </a:solidFill>
                <a:latin typeface="Times New Roman"/>
              </a:rPr>
              <a:t>	</a:t>
            </a:r>
            <a:r>
              <a:rPr b="0" lang="es-ES" sz="1200" spc="-1" strike="noStrike">
                <a:solidFill>
                  <a:srgbClr val="000000"/>
                </a:solidFill>
                <a:latin typeface="Times New Roman"/>
              </a:rPr>
              <a:t>P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a</a:t>
            </a:r>
            <a:r>
              <a:rPr b="0" lang="es-ES" sz="1200" spc="-1" strike="noStrike">
                <a:solidFill>
                  <a:srgbClr val="000000"/>
                </a:solidFill>
                <a:latin typeface="Times New Roman"/>
              </a:rPr>
              <a:t>	</a:t>
            </a:r>
            <a:r>
              <a:rPr b="0" lang="es-ES" sz="1200" spc="-1" strike="noStrike">
                <a:solidFill>
                  <a:srgbClr val="000000"/>
                </a:solidFill>
                <a:latin typeface="Times New Roman"/>
              </a:rPr>
              <a:t>In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a</a:t>
            </a:r>
            <a:r>
              <a:rPr b="0" lang="es-ES" sz="1200" spc="-1" strike="noStrike">
                <a:solidFill>
                  <a:srgbClr val="000000"/>
                </a:solidFill>
                <a:latin typeface="Times New Roman"/>
              </a:rPr>
              <a:t>	</a:t>
            </a:r>
            <a:r>
              <a:rPr b="0" lang="es-ES" sz="1200" spc="-1" strike="noStrike">
                <a:solidFill>
                  <a:srgbClr val="000000"/>
                </a:solidFill>
                <a:latin typeface="Times New Roman"/>
              </a:rPr>
              <a:t>To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tipo de trabajo puede ser hecho en cualquier idioma, con cualquier interés del grupo, con relativamente ningún costo. Se puede ver con cuánta facilidad se presta esto también para utilizar la Biblia como libro de texto y hasta hablar acerca del cristianismo.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7667-FB57-42CF-89D7-7A0C9C35615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9" name="PlaceHolder 1"/>
          <p:cNvSpPr>
            <a:spLocks noGrp="1"/>
          </p:cNvSpPr>
          <p:nvPr>
            <p:ph type="sldImg"/>
          </p:nvPr>
        </p:nvSpPr>
        <p:spPr>
          <a:xfrm>
            <a:off x="1162080" y="679320"/>
            <a:ext cx="4533840" cy="3400560"/>
          </a:xfrm>
          <a:prstGeom prst="rect">
            <a:avLst/>
          </a:prstGeom>
          <a:ln w="0">
            <a:noFill/>
          </a:ln>
        </p:spPr>
      </p:sp>
      <p:sp>
        <p:nvSpPr>
          <p:cNvPr id="29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S POSTERIORES A LA ALFABETIZACIÓN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sociedades donde no se consiguen con mucha facilidad materiales de lectura en el lenguaje utilizado en el programa de alfabetización, las alumnas a menudo sienten falta de motivación. Aprenden a leer, pero a menos que sigan leyendo, a menudo olvidarán lo que han aprendido. La iglesia puede contribuir mucho a suplir materiales que una estudiante puede escoger libremente para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os adultos retendrán lo que han aprendido en las clases de alfabetización, pero gran parte del éxito a largo alcance depende del apoyo que se brinde después del programa básico. Muchas villas rurales tienen poco material de lectura, si es que se consigue alguno en el idioma local. Por lo tanto, los programas posteriores, son una parte importante del programa de  alfabetización. Es importante para la motivación, para la consolidación, y para prevenir retrocesos en la alfabetización. Esto también es una parte importante del proceso de cambio social, necesario para mantener la participación de las mujeres. Para la iglesia, este es el momento ideal para introducir materiales sobre maternidad, educación de la salud, temas de estilo de vida, y otros temas que introducen el cristianismo y pueden guiar a que se den estudios bíbl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Nepal, se probó un programa muy exitoso que incorporó tres fases. En la primera, el curso de alfabetización básico de seis meses, fue suplementado con lecciones específicas de salud. En la segunda, la clase continúo reuniéndose con la líder para leer y comentar un texto especial sobre salud preparado para el programa. La tercera fase, fue un programa de educación continua de seis meses, donde las participantes se reunieron sin maestra a leer y comentar materiales preparados especialmente para esto. Estos materiales pueden conseguirse del gobierno u otras organizaciones</a:t>
            </a:r>
            <a:r>
              <a:rPr b="0" i="1" lang="es-ES" sz="1200" spc="-1" strike="noStrike">
                <a:solidFill>
                  <a:srgbClr val="000000"/>
                </a:solidFill>
                <a:latin typeface="Times New Roman"/>
              </a:rPr>
              <a:t>. Save the Children</a:t>
            </a:r>
            <a:r>
              <a:rPr b="0" lang="es-ES" sz="1200" spc="-1" strike="noStrike">
                <a:solidFill>
                  <a:srgbClr val="000000"/>
                </a:solidFill>
                <a:latin typeface="Times New Roman"/>
              </a:rPr>
              <a:t>/USA (</a:t>
            </a:r>
            <a:r>
              <a:rPr b="0" i="1" lang="es-ES" sz="1200" spc="-1" strike="noStrike">
                <a:solidFill>
                  <a:srgbClr val="000000"/>
                </a:solidFill>
                <a:latin typeface="Times New Roman"/>
              </a:rPr>
              <a:t>Salve a los niños)</a:t>
            </a:r>
            <a:r>
              <a:rPr b="0" lang="es-ES" sz="1200" spc="-1" strike="noStrike">
                <a:solidFill>
                  <a:srgbClr val="000000"/>
                </a:solidFill>
                <a:latin typeface="Times New Roman"/>
              </a:rPr>
              <a:t> provee a madres recién alfabetizadas con un “Álbum del bebé” para guardar registro de las inmunizaciones de sus hijos, enfermedades, desarrollo, y otros eventos. Usted necesitará  averiguar qué materiales se pueden conseguir en el idioma que piensa utilizar en su programa de alfabetización o prepare algo usted misma.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7156-7172-4AC1-A14C-B46DDF5D9F2B}"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2" name="PlaceHolder 1"/>
          <p:cNvSpPr>
            <a:spLocks noGrp="1"/>
          </p:cNvSpPr>
          <p:nvPr>
            <p:ph type="sldImg"/>
          </p:nvPr>
        </p:nvSpPr>
        <p:spPr>
          <a:xfrm>
            <a:off x="1162080" y="679320"/>
            <a:ext cx="4533840" cy="3400560"/>
          </a:xfrm>
          <a:prstGeom prst="rect">
            <a:avLst/>
          </a:prstGeom>
          <a:ln w="0">
            <a:noFill/>
          </a:ln>
        </p:spPr>
      </p:sp>
      <p:sp>
        <p:nvSpPr>
          <p:cNvPr id="29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EN UN SEGUNDO IDIOMA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negocios, educación y comercio se desarrollan en idiomas diferentes al que una persona crece hablando. Es así que puede ser capaz de leer y escribir en la primera lengua, pero ahora necesita alfabetizarse en una segunda lengua. Muchas veces, esta lengua es el inglés, pero ciertamente no siempre. Por ejemplo, en la mayor parte del oeste de África, los individuos aprenden a leer y escribir en francés. Lo mismo puede repetirse en Haití. En Alemania, muchos descendientes de turcos necesitan aprender a leer y escribir en alemán. Muchos de los descendientes de latinos en los Estados Unidos, necesitan el inglés. Como testigos para la cristiandad y para beneficio de la comunidad, este es un programa misionero legítimo para los Ministerios de la Mujer. Sin embargo, 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27CB-0ADF-4433-9890-B7A29D590F4E}"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5" name="PlaceHolder 1"/>
          <p:cNvSpPr>
            <a:spLocks noGrp="1"/>
          </p:cNvSpPr>
          <p:nvPr>
            <p:ph type="sldImg"/>
          </p:nvPr>
        </p:nvSpPr>
        <p:spPr>
          <a:xfrm>
            <a:off x="1162080" y="679320"/>
            <a:ext cx="4533840" cy="3400560"/>
          </a:xfrm>
          <a:prstGeom prst="rect">
            <a:avLst/>
          </a:prstGeom>
          <a:ln w="0">
            <a:noFill/>
          </a:ln>
        </p:spPr>
      </p:sp>
      <p:sp>
        <p:nvSpPr>
          <p:cNvPr id="29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PARA EL FUTUR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cristianos, debemos preocuparnos de la erradicación del analfabetismo. Pero también debemos ocuparnos en prevenirlo. Como regla general, los Adventistas del Séptimo Día están bien educados en comparación con la población en general, y somos defensores de la educación. Pero puede haber analfabetos en nuestro medio que están perdidos; necesitamos hacer todo lo que podemos en nuestras iglesias para promover no solamente la educación, sino también la motivación y la oport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un número de cosas que usted y su iglesia puede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5C2A-D80A-4544-8C19-90CAFEDEA4AC}"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8" name="PlaceHolder 1"/>
          <p:cNvSpPr>
            <a:spLocks noGrp="1"/>
          </p:cNvSpPr>
          <p:nvPr>
            <p:ph type="sldImg"/>
          </p:nvPr>
        </p:nvSpPr>
        <p:spPr>
          <a:xfrm>
            <a:off x="1162080" y="679320"/>
            <a:ext cx="4533840" cy="3400560"/>
          </a:xfrm>
          <a:prstGeom prst="rect">
            <a:avLst/>
          </a:prstGeom>
          <a:ln w="0">
            <a:noFill/>
          </a:ln>
        </p:spPr>
      </p:sp>
      <p:sp>
        <p:nvSpPr>
          <p:cNvPr id="29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3797-51B9-469B-B5C5-BA9375D6846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523D-61B7-412F-9243-E9B686818BF2}"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5" name="PlaceHolder 1"/>
          <p:cNvSpPr>
            <a:spLocks noGrp="1"/>
          </p:cNvSpPr>
          <p:nvPr>
            <p:ph type="sldImg"/>
          </p:nvPr>
        </p:nvSpPr>
        <p:spPr>
          <a:xfrm>
            <a:off x="1162080" y="679320"/>
            <a:ext cx="4533840" cy="3400560"/>
          </a:xfrm>
          <a:prstGeom prst="rect">
            <a:avLst/>
          </a:prstGeom>
          <a:ln w="0">
            <a:noFill/>
          </a:ln>
        </p:spPr>
      </p:sp>
      <p:sp>
        <p:nvSpPr>
          <p:cNvPr id="23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PORQUÉ ES IMPORTANTE PARA LA IGLESIA LA ALFABETIZACIÓN (RP-4)</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Únicamente el método de Cristo… </a:t>
            </a: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l procurar testificar por nuestro Señor y seguir su ejemplo, miramos a nuestro alrededor para encontrar las necesidades de la gente así nosotros también podremos ministrar, con su confianza, e invitarlos a seguir al Salvador. Una de las necesidades más obvias de las mujeres en el mundo es la necesidad de alfabetización, aprender a leer y a escribir. Los analfabetos componen la vasta mayoría de la población que aún necesitan ser alcanzadas con el Evangeli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s Naciones Unidas calculan que en nuestro mundo actual, se encuentran  alrededor de un billón de adultos, que no pueden leer o escribir suficientemente bien, como para funcionar o alcanzar sus metas básicas en la vida. Muchos no pueden leer absolutamente nada. Los países en desarrollo del este y el sur del Asia tenían el 70% del total de la población analfabeta en 1990. En 48 de los 102 países en desarrollo, el promedio de analfabetos excede el 40 %. La UNESCO informa que el promedio de gente que sabe leer y escribir en los Estados Unidos es del 95 %, pero la </a:t>
            </a:r>
            <a:r>
              <a:rPr b="0" i="1" lang="es-ES" sz="1000" spc="-1" strike="noStrike">
                <a:solidFill>
                  <a:srgbClr val="000000"/>
                </a:solidFill>
                <a:latin typeface="Times New Roman"/>
              </a:rPr>
              <a:t>Encuesta nacional de alfabetización de adultos</a:t>
            </a:r>
            <a:r>
              <a:rPr b="0" lang="es-ES" sz="1000" spc="-1" strike="noStrike">
                <a:solidFill>
                  <a:srgbClr val="000000"/>
                </a:solidFill>
                <a:latin typeface="Times New Roman"/>
              </a:rPr>
              <a:t> (1993); encontró que por lo menos el 45 % de la población de los Estados Unidos tiene bajas o muy limitadas habilidades básicas. Otros países democráticos tienen problemas simila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 alfabetización es importante para la iglesia por dos motivos principales: para crecimiento de los creyentes y como programa misionero. Es obvio que a menos que una persona pueda leer con por lo menos un grado mínimo de fluencia, no puede leer la Biblia.  O cualquier otro material que produce la iglesia. Estas personas no pueden hacer ningún tipo de estudio bíblico que requiera lectura y escritura. No pueden leer a Elena de White o ningún otro material de devoción o instrucción. Si son padres, no pueden leer las lecciones de la Escuela Sabática para sus hijos. También sería difícil ser líderes en la iglesia. Muchos de estos analfabetos viven en áreas del mundo en las cuales ha sido particularmente difícil compartir el mensaje cristian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quellos que han hecho estudios sobre el crecimiento de iglesias, han descubierto que en estas áreas del mundo donde menos del cincuenta por ciento de la población sabe leer y escribir, enseñar a leer, particularmente con clases basadas en la Biblia, es una de las formas más rápidas de levantar una iglesia.  En una encuesta en los Estados Unidos, la mitad de los encuestados dijeron que la razón por la que deseaban aprender a leer era porque así podrían leer sus Biblias y participar de las actividades en la iglesia.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2C6F-C93A-4069-BED3-F226AADDAFB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 iglesia, la Palabra, Jesús encarnado, es supremo. Pero a menos que  uno sepa leer, el acceso a la Palabra es difícil. Es importante que los cristianos puedan estudiar y confirmar su fe. El pastor Samson Phiri de Zambia dijo una vez, “A los dictadores les encanta un electorado analfabeto; los analfabetos creerán cualquier cosa que se les diga.” Nosotros no deseamos miembros de iglesia que crean cualquier cosa que se les diga, nosotros queremos que ellos puedan estudiar versículo tras versículo, para conocer y aferrarse a la verdad. </a:t>
            </a:r>
            <a:r>
              <a:rPr b="1" lang="es-ES" sz="1200" spc="-1" strike="noStrike">
                <a:solidFill>
                  <a:srgbClr val="000000"/>
                </a:solidFill>
                <a:latin typeface="Times New Roman"/>
              </a:rPr>
              <a:t>(RP-5)</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descubrir necesidades, es con satisfacción que podemos desarrollar planes para suplir estas necesidades. Como el Dr. Héctor Hammerly, de Columbia Británica, Canadá, ha dicho: “Proveer el regalo de la lectura a otros, es una señal de servicio cristiano, que los fortalece a vivir vidas más interesantes y por lejos más útiles. Más allá de esto, la alfabetización, se presta a sí misma muy bien para compartir el evangelio en una forma gradual y con tacto.”</a:t>
            </a:r>
            <a:r>
              <a:rPr b="0" lang="es-ES" sz="1200" spc="-1" strike="noStrike" u="sng">
                <a:solidFill>
                  <a:srgbClr val="009999"/>
                </a:solidFill>
                <a:uFillTx/>
                <a:latin typeface="Times New Roman"/>
                <a:hlinkClick r:id="rId1" action="ppaction://hlinksldjump"/>
              </a:rPr>
              <a:t>[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partes del mundo, los programas de alfabetización pueden utilizar la Biblia como una parte importante de la clase y material de lectura. Cada grupo de los Ministerios de la Mujer tendrá que evaluar la situación y utilizar la Biblia solamente si es seguro hacerlo. En algunos lugares si se utilizara la Biblia abiertamente podría poner en peligro inmediatamente las vidas y causar el cierre del programa de alfabetización. Si no se corre este peligro, sin embargo, la Biblia es una herramienta excelent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The Teaching of Literacy and ESL/EFL As Outreach Ministries, manuscrip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B642-771D-4D06-9E18-8B03330AB3B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1" name="PlaceHolder 1"/>
          <p:cNvSpPr>
            <a:spLocks noGrp="1"/>
          </p:cNvSpPr>
          <p:nvPr>
            <p:ph type="sldImg"/>
          </p:nvPr>
        </p:nvSpPr>
        <p:spPr>
          <a:xfrm>
            <a:off x="1162080" y="679320"/>
            <a:ext cx="4533840" cy="3400560"/>
          </a:xfrm>
          <a:prstGeom prst="rect">
            <a:avLst/>
          </a:prstGeom>
          <a:ln w="0">
            <a:noFill/>
          </a:ln>
        </p:spPr>
      </p:sp>
      <p:sp>
        <p:nvSpPr>
          <p:cNvPr id="242"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otros motivos por los cuales alfabetizar con la Biblia es importante para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Les da a los miembros de iglesia una forma de ministrar a otros de una manera inocua. Animará tanto al maestro como al estudiante a transformarse en lectores diarios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Los no cristianos sabrán que el maestro se interesa por ellos, por lo que están recibiendo. Se preguntarán, porqué el maestro es tan amoroso y amable; estarán más abiertos al evangel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Fortalecerá a la iglesia ya existente si los miembros aprenden a leer. Si los miembros no pueden leer, podrán ser llevados a creer una falsa doctrina con facilidad. Una iglesia que lee la Biblia es una iglesia fuerte y florec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Los programas de alfabetización pueden construir cooperación sin política con los gobiernos, porque casi todos los gobiernos desean que su pueblo pueda leer. Puede fortalecer la vida comunitaria también cuando también se presentan temas de salud, paternidad, higi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Es algo que puede hacerse en la misma iglesia local. Uno no necesita recorrer un largo camino para encontrar gente que necesita la ayuda de una iglesia aman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1E0E5-86F8-4690-807C-BB0545AE0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72A85-4E2A-413C-BF48-1813EC770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92CEB-3334-4C92-84D0-2E173D2AA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7F8E9-02B3-4E9E-BA08-3888A6D55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23587-62DF-4BEE-A872-F535F1E23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214ED-A4B3-45DE-8140-33E5BFCE9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4C97B-9A56-415D-B155-B21F01BCB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489F2-0F36-4956-9202-4A408A9E2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E4C0D-0162-4BF9-B49E-21BB0A8CF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8016D-1A73-46C1-A731-CB27A2413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04EB9-7444-4262-A77F-C847D2362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43CD8-594E-4A05-98CD-C76760A6C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FC7AB-968E-4FD4-B791-EC9A8376D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ED75D-1893-4F5D-B044-43125ACA2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EE8B7-39F0-4CF3-812D-24369ECF2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DB086-78A7-4C6E-84F9-7FE94AE25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C2543-A62F-4E21-B2F9-313C0C03F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7A715-A12C-4C4B-8AAB-5E5566A9E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5806B-50EF-4065-BE4C-B1B0525A3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63AB3-92CA-4C6C-8181-2EEFF7206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04B0D-1E0F-42D0-8F66-083A9FFAC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FEB44-EAB5-4E75-A774-E407EC2D7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B7786-C757-4A9E-99C7-9276EE3DB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CF440-BDF9-4302-A16B-1B6CFD8B7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FFCE-3B60-4F78-92CB-A579BF4E70BA}" type="slidenum">
              <a:rPr b="0" lang="en-US" sz="1400" spc="-1" strike="noStrike">
                <a:solidFill>
                  <a:srgbClr val="000000"/>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D284-7AE9-4D83-BB51-58B19FD297DA}" type="slidenum">
              <a:rPr b="0" lang="en-US" sz="1400" spc="-1" strike="noStrike">
                <a:solidFill>
                  <a:srgbClr val="dde3dc"/>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600" y="2895120"/>
            <a:ext cx="6858000" cy="3124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Por </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rdis Dick Stenbakken</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Certificación de liderazgo Nivel 2</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sociación General</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Ministerio de la muje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143000" y="2666880"/>
            <a:ext cx="7772400" cy="243864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Fortalecerá a la iglesia ya existente, si los miembros aprenden a leer. </a:t>
            </a:r>
            <a:endParaRPr b="0" lang="en-US" sz="3600" spc="-1" strike="noStrike">
              <a:solidFill>
                <a:srgbClr val="dde3dc"/>
              </a:solidFill>
              <a:latin typeface="Trebuchet MS"/>
            </a:endParaRPr>
          </a:p>
        </p:txBody>
      </p:sp>
      <p:sp>
        <p:nvSpPr>
          <p:cNvPr id="114" name="PlaceHolder 2"/>
          <p:cNvSpPr>
            <a:spLocks noGrp="1"/>
          </p:cNvSpPr>
          <p:nvPr>
            <p:ph type="title"/>
          </p:nvPr>
        </p:nvSpPr>
        <p:spPr>
          <a:xfrm>
            <a:off x="2209680" y="83808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5" name="Line 5"/>
          <p:cNvSpPr/>
          <p:nvPr/>
        </p:nvSpPr>
        <p:spPr>
          <a:xfrm>
            <a:off x="2057400" y="1981080"/>
            <a:ext cx="64771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895120" y="1980720"/>
            <a:ext cx="5867640" cy="4419720"/>
          </a:xfrm>
          <a:prstGeom prst="rect">
            <a:avLst/>
          </a:prstGeom>
          <a:noFill/>
          <a:ln w="0">
            <a:noFill/>
          </a:ln>
        </p:spPr>
        <p:txBody>
          <a:bodyPr anchor="t">
            <a:normAutofit fontScale="93000"/>
          </a:bodyPr>
          <a:p>
            <a:pPr marL="637560" indent="-637560">
              <a:spcBef>
                <a:spcPts val="901"/>
              </a:spcBef>
              <a:buClr>
                <a:srgbClr val="3366f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ff"/>
                </a:solidFill>
                <a:latin typeface="Trebuchet MS"/>
              </a:rPr>
              <a:t>Los programas de alfabetización pueden ofrecer cooperación sin política a los gobiernos, porque casi todos ellos desean que su pueblo pueda leer.</a:t>
            </a:r>
            <a:endParaRPr b="0" lang="en-US" sz="3600" spc="-1" strike="noStrike">
              <a:solidFill>
                <a:srgbClr val="dde3dc"/>
              </a:solidFill>
              <a:latin typeface="Trebuchet MS"/>
            </a:endParaRPr>
          </a:p>
          <a:p>
            <a:pPr marL="6375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7" name="PlaceHolder 2"/>
          <p:cNvSpPr>
            <a:spLocks noGrp="1"/>
          </p:cNvSpPr>
          <p:nvPr>
            <p:ph type="title"/>
          </p:nvPr>
        </p:nvSpPr>
        <p:spPr>
          <a:xfrm>
            <a:off x="2133720" y="60948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8" name="Line 5"/>
          <p:cNvSpPr/>
          <p:nvPr/>
        </p:nvSpPr>
        <p:spPr>
          <a:xfrm>
            <a:off x="1066680" y="1752480"/>
            <a:ext cx="7391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66320" y="2742840"/>
            <a:ext cx="7696440" cy="167652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Es algo que puede hacerse en la misma iglesia local. </a:t>
            </a:r>
            <a:endParaRPr b="0" lang="en-US" sz="3600" spc="-1" strike="noStrike">
              <a:solidFill>
                <a:srgbClr val="dde3dc"/>
              </a:solidFill>
              <a:latin typeface="Trebuchet MS"/>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20" name="PlaceHolder 2"/>
          <p:cNvSpPr>
            <a:spLocks noGrp="1"/>
          </p:cNvSpPr>
          <p:nvPr>
            <p:ph type="title"/>
          </p:nvPr>
        </p:nvSpPr>
        <p:spPr>
          <a:xfrm>
            <a:off x="2437920" y="761760"/>
            <a:ext cx="632484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21" name="Line 5"/>
          <p:cNvSpPr/>
          <p:nvPr/>
        </p:nvSpPr>
        <p:spPr>
          <a:xfrm>
            <a:off x="160020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43200" y="1066320"/>
            <a:ext cx="5562720" cy="17528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Porqué la alfabetización es importante para el ministerio de la mujer</a:t>
            </a:r>
            <a:endParaRPr b="1" lang="en-US" sz="4000" spc="-1" strike="noStrike">
              <a:solidFill>
                <a:srgbClr val="dde3dc"/>
              </a:solidFill>
              <a:latin typeface="Trebuchet MS"/>
            </a:endParaRPr>
          </a:p>
        </p:txBody>
      </p:sp>
      <p:sp>
        <p:nvSpPr>
          <p:cNvPr id="123" name="PlaceHolder 2"/>
          <p:cNvSpPr>
            <a:spLocks noGrp="1"/>
          </p:cNvSpPr>
          <p:nvPr>
            <p:ph type="subTitle"/>
          </p:nvPr>
        </p:nvSpPr>
        <p:spPr>
          <a:xfrm>
            <a:off x="2209320" y="3657240"/>
            <a:ext cx="5867640" cy="213372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Del billón de adultos que no saben leer, la mayoría son mujeres.</a:t>
            </a:r>
            <a:endParaRPr b="0" lang="en-US" sz="3600" spc="-1" strike="noStrike">
              <a:solidFill>
                <a:srgbClr val="dde3dc"/>
              </a:solidFill>
              <a:latin typeface="Trebuchet MS"/>
            </a:endParaRPr>
          </a:p>
        </p:txBody>
      </p:sp>
      <p:sp>
        <p:nvSpPr>
          <p:cNvPr id="124" name="Line 6"/>
          <p:cNvSpPr/>
          <p:nvPr/>
        </p:nvSpPr>
        <p:spPr>
          <a:xfrm>
            <a:off x="2895480" y="266688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457200"/>
            <a:ext cx="822960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6" name="PlaceHolder 2"/>
          <p:cNvSpPr>
            <a:spLocks noGrp="1"/>
          </p:cNvSpPr>
          <p:nvPr>
            <p:ph/>
          </p:nvPr>
        </p:nvSpPr>
        <p:spPr>
          <a:xfrm>
            <a:off x="761760" y="2133720"/>
            <a:ext cx="7848360" cy="3581280"/>
          </a:xfrm>
          <a:prstGeom prst="rect">
            <a:avLst/>
          </a:prstGeom>
          <a:noFill/>
          <a:ln w="0">
            <a:noFill/>
          </a:ln>
        </p:spPr>
        <p:txBody>
          <a:bodyPr anchor="t">
            <a:normAutofit/>
          </a:bodyPr>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Disminución de la natalidad (familias más pequeñas).</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Con familias más pequeñas, los padres están mejor capacitados para proveer una educación cristiana.</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Mejoran las habilidades educacionales de los niños.</a:t>
            </a:r>
            <a:endParaRPr b="0" lang="en-US" sz="2800" spc="-1" strike="noStrike">
              <a:solidFill>
                <a:srgbClr val="dde3dc"/>
              </a:solidFill>
              <a:latin typeface="Trebuchet MS"/>
            </a:endParaRPr>
          </a:p>
        </p:txBody>
      </p:sp>
      <p:sp>
        <p:nvSpPr>
          <p:cNvPr id="127" name="Line 8"/>
          <p:cNvSpPr/>
          <p:nvPr/>
        </p:nvSpPr>
        <p:spPr>
          <a:xfrm>
            <a:off x="2133720" y="1371600"/>
            <a:ext cx="60958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9" name="PlaceHolder 2"/>
          <p:cNvSpPr>
            <a:spLocks noGrp="1"/>
          </p:cNvSpPr>
          <p:nvPr>
            <p:ph/>
          </p:nvPr>
        </p:nvSpPr>
        <p:spPr>
          <a:xfrm>
            <a:off x="1066320" y="1980720"/>
            <a:ext cx="7696440" cy="4419720"/>
          </a:xfrm>
          <a:prstGeom prst="rect">
            <a:avLst/>
          </a:prstGeom>
          <a:noFill/>
          <a:ln w="0">
            <a:noFill/>
          </a:ln>
        </p:spPr>
        <p:txBody>
          <a:bodyPr anchor="t">
            <a:normAutofit/>
          </a:bodyPr>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Se casan con más edad</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Mejora el promedio de salud en la familia</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Crece el sentimiento de estima propia</a:t>
            </a:r>
            <a:endParaRPr b="0" lang="en-US" sz="3200" spc="-1" strike="noStrike">
              <a:solidFill>
                <a:srgbClr val="dde3dc"/>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30" name="Line 4"/>
          <p:cNvSpPr/>
          <p:nvPr/>
        </p:nvSpPr>
        <p:spPr>
          <a:xfrm>
            <a:off x="2514600" y="129528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685800"/>
            <a:ext cx="746748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2" name="PlaceHolder 2"/>
          <p:cNvSpPr>
            <a:spLocks noGrp="1"/>
          </p:cNvSpPr>
          <p:nvPr>
            <p:ph/>
          </p:nvPr>
        </p:nvSpPr>
        <p:spPr>
          <a:xfrm>
            <a:off x="0" y="2057040"/>
            <a:ext cx="9144000" cy="5334120"/>
          </a:xfrm>
          <a:prstGeom prst="rect">
            <a:avLst/>
          </a:prstGeom>
          <a:noFill/>
          <a:ln w="0">
            <a:noFill/>
          </a:ln>
        </p:spPr>
        <p:txBody>
          <a:bodyPr anchor="t">
            <a:normAutofit/>
          </a:bodyPr>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leer la Escritura</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asumir responsabilidad por las elecciones espirituale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Mayor influencia al enseñar valores espirituales a los niño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involucrarse en la misión de la iglesia</a:t>
            </a:r>
            <a:endParaRPr b="0" lang="en-US" sz="3000" spc="-1" strike="noStrike">
              <a:solidFill>
                <a:srgbClr val="dde3dc"/>
              </a:solidFill>
              <a:latin typeface="Trebuchet MS"/>
            </a:endParaRPr>
          </a:p>
          <a:p>
            <a:pPr lvl="1" marL="7430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e3dc"/>
              </a:solidFill>
              <a:latin typeface="Trebuchet MS"/>
            </a:endParaRPr>
          </a:p>
        </p:txBody>
      </p:sp>
      <p:sp>
        <p:nvSpPr>
          <p:cNvPr id="133" name="Line 6"/>
          <p:cNvSpPr/>
          <p:nvPr/>
        </p:nvSpPr>
        <p:spPr>
          <a:xfrm>
            <a:off x="2209680" y="15238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7200"/>
            <a:ext cx="68580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5" name="PlaceHolder 2"/>
          <p:cNvSpPr>
            <a:spLocks noGrp="1"/>
          </p:cNvSpPr>
          <p:nvPr>
            <p:ph/>
          </p:nvPr>
        </p:nvSpPr>
        <p:spPr>
          <a:xfrm>
            <a:off x="990720" y="1980720"/>
            <a:ext cx="7772400" cy="4419720"/>
          </a:xfrm>
          <a:prstGeom prst="rect">
            <a:avLst/>
          </a:prstGeom>
          <a:noFill/>
          <a:ln w="0">
            <a:noFill/>
          </a:ln>
        </p:spPr>
        <p:txBody>
          <a:bodyPr anchor="t">
            <a:normAutofit/>
          </a:bodyPr>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 posibilidad de lograr estabilidad financier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s posibilidades de empleo y productividad</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La habilidad de proveer apoyo financiero a la iglesi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Mayor participación en el desarrollo de la comunidad</a:t>
            </a:r>
            <a:endParaRPr b="0" lang="en-US" sz="3400" spc="-1" strike="noStrike">
              <a:solidFill>
                <a:srgbClr val="dde3dc"/>
              </a:solidFill>
              <a:latin typeface="Trebuchet MS"/>
            </a:endParaRPr>
          </a:p>
        </p:txBody>
      </p:sp>
      <p:sp>
        <p:nvSpPr>
          <p:cNvPr id="136" name="Line 4"/>
          <p:cNvSpPr/>
          <p:nvPr/>
        </p:nvSpPr>
        <p:spPr>
          <a:xfrm>
            <a:off x="2362320" y="12952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90560" y="380880"/>
            <a:ext cx="571500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Obstáculos para las mujeres</a:t>
            </a:r>
            <a:endParaRPr b="1" lang="en-US" sz="4000" spc="-1" strike="noStrike">
              <a:solidFill>
                <a:srgbClr val="dde3dc"/>
              </a:solidFill>
              <a:latin typeface="Trebuchet MS"/>
            </a:endParaRPr>
          </a:p>
        </p:txBody>
      </p:sp>
      <p:sp>
        <p:nvSpPr>
          <p:cNvPr id="138" name="PlaceHolder 2"/>
          <p:cNvSpPr>
            <a:spLocks noGrp="1"/>
          </p:cNvSpPr>
          <p:nvPr>
            <p:ph type="subTitle"/>
          </p:nvPr>
        </p:nvSpPr>
        <p:spPr>
          <a:xfrm>
            <a:off x="2437920" y="2437920"/>
            <a:ext cx="6324840" cy="25146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ff"/>
                </a:solidFill>
                <a:latin typeface="Arial"/>
              </a:rPr>
              <a:t>A. </a:t>
            </a:r>
            <a:r>
              <a:rPr b="0" i="1" lang="es-ES" sz="3600" spc="-1" strike="noStrike">
                <a:solidFill>
                  <a:srgbClr val="3366ff"/>
                </a:solidFill>
                <a:latin typeface="Arial"/>
              </a:rPr>
              <a:t>Algunos gobiernos no sienten todavía que la educación es de tremenda importancia para las mujeres.</a:t>
            </a:r>
            <a:endParaRPr b="0" lang="en-US" sz="3600" spc="-1" strike="noStrike">
              <a:solidFill>
                <a:srgbClr val="dde3dc"/>
              </a:solidFill>
              <a:latin typeface="Trebuchet MS"/>
            </a:endParaRPr>
          </a:p>
        </p:txBody>
      </p:sp>
      <p:sp>
        <p:nvSpPr>
          <p:cNvPr id="139"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140" name="Line 7"/>
          <p:cNvSpPr/>
          <p:nvPr/>
        </p:nvSpPr>
        <p:spPr>
          <a:xfrm>
            <a:off x="2514600" y="121932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2" name="PlaceHolder 2"/>
          <p:cNvSpPr>
            <a:spLocks noGrp="1"/>
          </p:cNvSpPr>
          <p:nvPr>
            <p:ph/>
          </p:nvPr>
        </p:nvSpPr>
        <p:spPr>
          <a:xfrm>
            <a:off x="2666880" y="1980720"/>
            <a:ext cx="60962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B.  Muchas mujeres tienen dificultad para encontrar el tiempo y la energía para asistir a la escuela, aunque se les brindara la oportunidad.</a:t>
            </a:r>
            <a:endParaRPr b="0" lang="en-US" sz="3600" spc="-1" strike="noStrike">
              <a:solidFill>
                <a:srgbClr val="dde3dc"/>
              </a:solidFill>
              <a:latin typeface="Trebuchet MS"/>
            </a:endParaRPr>
          </a:p>
        </p:txBody>
      </p:sp>
      <p:sp>
        <p:nvSpPr>
          <p:cNvPr id="143" name="Line 4"/>
          <p:cNvSpPr/>
          <p:nvPr/>
        </p:nvSpPr>
        <p:spPr>
          <a:xfrm>
            <a:off x="2438280" y="144792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533520"/>
            <a:ext cx="6858000" cy="129528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Desea comenzar un programa de alfabetización?</a:t>
            </a:r>
            <a:endParaRPr b="1" lang="en-US" sz="4000" spc="-1" strike="noStrike">
              <a:solidFill>
                <a:srgbClr val="dde3dc"/>
              </a:solidFill>
              <a:latin typeface="Trebuchet MS"/>
            </a:endParaRPr>
          </a:p>
        </p:txBody>
      </p:sp>
      <p:sp>
        <p:nvSpPr>
          <p:cNvPr id="91" name="PlaceHolder 2"/>
          <p:cNvSpPr>
            <a:spLocks noGrp="1"/>
          </p:cNvSpPr>
          <p:nvPr>
            <p:ph type="subTitle"/>
          </p:nvPr>
        </p:nvSpPr>
        <p:spPr>
          <a:xfrm>
            <a:off x="1676160" y="2209680"/>
            <a:ext cx="5638680" cy="3276720"/>
          </a:xfrm>
          <a:prstGeom prst="rect">
            <a:avLst/>
          </a:prstGeom>
          <a:noFill/>
          <a:ln w="0">
            <a:noFill/>
          </a:ln>
        </p:spPr>
        <p:txBody>
          <a:bodyPr anchor="t">
            <a:noAutofit/>
          </a:bodyPr>
          <a:p>
            <a:pPr algn="ctr">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ff"/>
                </a:solidFill>
                <a:latin typeface="Arial"/>
              </a:rPr>
              <a:t>Felicitaciones! Está queriendo hacer algo que puede hacer una diferencia y suplir una gran necesidad.</a:t>
            </a:r>
            <a:endParaRPr b="0" lang="en-US" sz="3600" spc="-1" strike="noStrike">
              <a:solidFill>
                <a:srgbClr val="dde3dc"/>
              </a:solidFill>
              <a:latin typeface="Trebuchet MS"/>
            </a:endParaRPr>
          </a:p>
        </p:txBody>
      </p:sp>
      <p:sp>
        <p:nvSpPr>
          <p:cNvPr id="92" name="Rectangle 7"/>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93" name="Line 9"/>
          <p:cNvSpPr/>
          <p:nvPr/>
        </p:nvSpPr>
        <p:spPr>
          <a:xfrm>
            <a:off x="2209680" y="18288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5" name="PlaceHolder 2"/>
          <p:cNvSpPr>
            <a:spLocks noGrp="1"/>
          </p:cNvSpPr>
          <p:nvPr>
            <p:ph/>
          </p:nvPr>
        </p:nvSpPr>
        <p:spPr>
          <a:xfrm>
            <a:off x="2209680" y="2209320"/>
            <a:ext cx="65534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C.  La educadora tendrá que planificar el programa de manera que se tomen en cuenta las necesidades.</a:t>
            </a:r>
            <a:endParaRPr b="0" lang="en-US" sz="3600" spc="-1" strike="noStrike">
              <a:solidFill>
                <a:srgbClr val="dde3dc"/>
              </a:solidFill>
              <a:latin typeface="Trebuchet MS"/>
            </a:endParaRPr>
          </a:p>
        </p:txBody>
      </p:sp>
      <p:sp>
        <p:nvSpPr>
          <p:cNvPr id="146" name="Line 4"/>
          <p:cNvSpPr/>
          <p:nvPr/>
        </p:nvSpPr>
        <p:spPr>
          <a:xfrm>
            <a:off x="2362320" y="15238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457200"/>
            <a:ext cx="5181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é es alfabetización?</a:t>
            </a:r>
            <a:endParaRPr b="1" lang="en-US" sz="4400" spc="-1" strike="noStrike">
              <a:solidFill>
                <a:srgbClr val="dde3dc"/>
              </a:solidFill>
              <a:latin typeface="Trebuchet MS"/>
            </a:endParaRPr>
          </a:p>
        </p:txBody>
      </p:sp>
      <p:sp>
        <p:nvSpPr>
          <p:cNvPr id="148" name="PlaceHolder 2"/>
          <p:cNvSpPr>
            <a:spLocks noGrp="1"/>
          </p:cNvSpPr>
          <p:nvPr>
            <p:ph/>
          </p:nvPr>
        </p:nvSpPr>
        <p:spPr>
          <a:xfrm>
            <a:off x="3505320" y="1980720"/>
            <a:ext cx="5333760" cy="441972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Poder leer y escribir o ser analfabeto no son polos opuestos, sino un continuo. Para poder ser verdaderamente educada, una persona necesita poder funcionar al nivel, cualquiera que sea, que se haya propuesto como blanco.</a:t>
            </a:r>
            <a:endParaRPr b="0" lang="en-US" sz="3000" spc="-1" strike="noStrike">
              <a:solidFill>
                <a:srgbClr val="dde3dc"/>
              </a:solidFill>
              <a:latin typeface="Trebuchet MS"/>
            </a:endParaRPr>
          </a:p>
        </p:txBody>
      </p:sp>
      <p:sp>
        <p:nvSpPr>
          <p:cNvPr id="149" name="Line 8"/>
          <p:cNvSpPr/>
          <p:nvPr/>
        </p:nvSpPr>
        <p:spPr>
          <a:xfrm>
            <a:off x="2971800" y="1371600"/>
            <a:ext cx="5029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400" y="609480"/>
            <a:ext cx="556272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iénes lo necesitan?</a:t>
            </a:r>
            <a:endParaRPr b="1" lang="en-US" sz="4400" spc="-1" strike="noStrike">
              <a:solidFill>
                <a:srgbClr val="dde3dc"/>
              </a:solidFill>
              <a:latin typeface="Trebuchet MS"/>
            </a:endParaRPr>
          </a:p>
        </p:txBody>
      </p:sp>
      <p:sp>
        <p:nvSpPr>
          <p:cNvPr id="151" name="PlaceHolder 2"/>
          <p:cNvSpPr>
            <a:spLocks noGrp="1"/>
          </p:cNvSpPr>
          <p:nvPr>
            <p:ph type="subTitle"/>
          </p:nvPr>
        </p:nvSpPr>
        <p:spPr>
          <a:xfrm>
            <a:off x="2971440" y="1828440"/>
            <a:ext cx="5334120" cy="3505320"/>
          </a:xfrm>
          <a:prstGeom prst="rect">
            <a:avLst/>
          </a:prstGeom>
          <a:noFill/>
          <a:ln w="0">
            <a:noFill/>
          </a:ln>
        </p:spPr>
        <p:txBody>
          <a:bodyPr anchor="t">
            <a:noAutofit/>
          </a:bodyPr>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adultos que no pueden funcionar a un nivel promedio de lectura y escritura.</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quellos que necesitan mejorar su nivel de habilidad para poder conseguir un trabajo mejor.</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 </a:t>
            </a: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de segunda lengua— no pueden leer o escribir en el idioma del gobierno y comercio nacionales.</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Previos a la alfabetización—niños pequeños.</a:t>
            </a:r>
            <a:endParaRPr b="0" lang="en-US" sz="2600" spc="-1" strike="noStrike">
              <a:solidFill>
                <a:srgbClr val="dde3dc"/>
              </a:solidFill>
              <a:latin typeface="Trebuchet MS"/>
            </a:endParaRPr>
          </a:p>
        </p:txBody>
      </p:sp>
      <p:sp>
        <p:nvSpPr>
          <p:cNvPr id="152" name="Line 6"/>
          <p:cNvSpPr/>
          <p:nvPr/>
        </p:nvSpPr>
        <p:spPr>
          <a:xfrm>
            <a:off x="2590920" y="1523880"/>
            <a:ext cx="53337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43200" y="990360"/>
            <a:ext cx="4952880" cy="1066680"/>
          </a:xfrm>
          <a:prstGeom prst="rect">
            <a:avLst/>
          </a:prstGeom>
          <a:noFill/>
          <a:ln w="0">
            <a:noFill/>
          </a:ln>
        </p:spPr>
        <p:txBody>
          <a:bodyPr anchor="ctr">
            <a:noAutofit/>
          </a:bodyPr>
          <a:p>
            <a:pPr algn="ctr">
              <a:lnSpc>
                <a:spcPct val="70000"/>
              </a:lnSpc>
              <a:buClr>
                <a:srgbClr val="2c223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ómo aprenden los adultos?</a:t>
            </a:r>
            <a:endParaRPr b="1" lang="en-US" sz="4400" spc="-1" strike="noStrike">
              <a:solidFill>
                <a:srgbClr val="dde3dc"/>
              </a:solidFill>
              <a:latin typeface="Trebuchet MS"/>
            </a:endParaRPr>
          </a:p>
        </p:txBody>
      </p:sp>
      <p:sp>
        <p:nvSpPr>
          <p:cNvPr id="154" name="PlaceHolder 2"/>
          <p:cNvSpPr>
            <a:spLocks noGrp="1"/>
          </p:cNvSpPr>
          <p:nvPr>
            <p:ph type="subTitle"/>
          </p:nvPr>
        </p:nvSpPr>
        <p:spPr>
          <a:xfrm>
            <a:off x="3276720" y="2742840"/>
            <a:ext cx="4495680" cy="2590920"/>
          </a:xfrm>
          <a:prstGeom prst="rect">
            <a:avLst/>
          </a:prstGeom>
          <a:noFill/>
          <a:ln w="0">
            <a:noFill/>
          </a:ln>
        </p:spPr>
        <p:txBody>
          <a:bodyPr anchor="t">
            <a:noAutofit/>
          </a:bodyPr>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spet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Aprendizaje rápid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levancia</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Ejercitación práctica</a:t>
            </a:r>
            <a:endParaRPr b="0" lang="en-US" sz="3200" spc="-1" strike="noStrike">
              <a:solidFill>
                <a:srgbClr val="dde3dc"/>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55" name="Line 5"/>
          <p:cNvSpPr/>
          <p:nvPr/>
        </p:nvSpPr>
        <p:spPr>
          <a:xfrm>
            <a:off x="2666880" y="198108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609480" y="1386000"/>
          <a:ext cx="8001000" cy="4940280"/>
        </p:xfrm>
        <a:graphic>
          <a:graphicData uri="http://schemas.openxmlformats.org/drawingml/2006/table">
            <a:tbl>
              <a:tblPr/>
              <a:tblGrid>
                <a:gridCol w="4889520"/>
                <a:gridCol w="311148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Estrategia institucion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13680">
                      <a:solidFill>
                        <a:srgbClr val="dde3dc"/>
                      </a:solidFill>
                    </a:lnT>
                    <a:lnB w="5760">
                      <a:solidFill>
                        <a:srgbClr val="dde3dc"/>
                      </a:solidFill>
                    </a:lnB>
                    <a:blipFill rotWithShape="0">
                      <a:blip r:embed="rId2"/>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Promedio de retención</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13680">
                      <a:solidFill>
                        <a:srgbClr val="dde3dc"/>
                      </a:solidFill>
                    </a:lnT>
                    <a:lnB w="5760">
                      <a:solidFill>
                        <a:srgbClr val="dde3dc"/>
                      </a:solidFill>
                    </a:lnB>
                    <a:blipFill rotWithShape="0">
                      <a:blip r:embed="rId3"/>
                      <a:tile tx="0" ty="0" sx="100000" sy="100000" algn="ctr"/>
                    </a:blip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Lec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scri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1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7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Audio Visuales</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2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Discusión grup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Práctica en grupo</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7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127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nseñar a otros/aplicación inmediata del aprendizaje</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1368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9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13680">
                      <a:solidFill>
                        <a:srgbClr val="dde3d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533160"/>
            <a:ext cx="617220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quí hay algunas pautas para aprendizaje de adultos:</a:t>
            </a:r>
            <a:endParaRPr b="1" lang="en-US" sz="3600" spc="-1" strike="noStrike">
              <a:solidFill>
                <a:srgbClr val="dde3dc"/>
              </a:solidFill>
              <a:latin typeface="Trebuchet MS"/>
            </a:endParaRPr>
          </a:p>
        </p:txBody>
      </p:sp>
      <p:sp>
        <p:nvSpPr>
          <p:cNvPr id="158" name="PlaceHolder 2"/>
          <p:cNvSpPr>
            <a:spLocks noGrp="1"/>
          </p:cNvSpPr>
          <p:nvPr>
            <p:ph/>
          </p:nvPr>
        </p:nvSpPr>
        <p:spPr>
          <a:xfrm>
            <a:off x="1371240" y="1676520"/>
            <a:ext cx="7010280" cy="5029200"/>
          </a:xfrm>
          <a:prstGeom prst="rect">
            <a:avLst/>
          </a:prstGeom>
          <a:noFill/>
          <a:ln w="0">
            <a:noFill/>
          </a:ln>
        </p:spPr>
        <p:txBody>
          <a:bodyPr anchor="t">
            <a:normAutofit/>
          </a:bodyPr>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Hable suave. Sea cortés y respetuoso.</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	</a:t>
            </a: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Anime siempre a su alumna. No se olvide de elogiarla a menudo por sus esfuerzos. Nunca se impaciente con sus errores.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Manténgase humilde, mostrando honra a su alumna. Trátela como a una igual; nunca aparente superioridad.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Nunca se ría de los errores ni permita que los demás lo hagan. No las sobrecargue de trabajo, no permita que sienta que está aprendiendo demasiado lento.</a:t>
            </a:r>
            <a:endParaRPr b="0" lang="en-US" sz="2500" spc="-1" strike="noStrike">
              <a:solidFill>
                <a:srgbClr val="dde3dc"/>
              </a:solidFill>
              <a:latin typeface="Trebuchet MS"/>
            </a:endParaRPr>
          </a:p>
        </p:txBody>
      </p:sp>
      <p:sp>
        <p:nvSpPr>
          <p:cNvPr id="159" name="Line 6"/>
          <p:cNvSpPr/>
          <p:nvPr/>
        </p:nvSpPr>
        <p:spPr>
          <a:xfrm>
            <a:off x="1447920" y="1600200"/>
            <a:ext cx="71625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quí hay algunas pautas para aprendizaje de adultos:</a:t>
            </a:r>
            <a:endParaRPr b="1" lang="en-US" sz="4000" spc="-1" strike="noStrike">
              <a:solidFill>
                <a:srgbClr val="dde3dc"/>
              </a:solidFill>
              <a:latin typeface="Trebuchet MS"/>
            </a:endParaRPr>
          </a:p>
        </p:txBody>
      </p:sp>
      <p:sp>
        <p:nvSpPr>
          <p:cNvPr id="161" name="PlaceHolder 2"/>
          <p:cNvSpPr>
            <a:spLocks noGrp="1"/>
          </p:cNvSpPr>
          <p:nvPr>
            <p:ph/>
          </p:nvPr>
        </p:nvSpPr>
        <p:spPr>
          <a:xfrm>
            <a:off x="1142640" y="1980720"/>
            <a:ext cx="7620120" cy="44197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a:t>
            </a:r>
            <a:r>
              <a:rPr b="0" lang="es-ES" sz="2500" spc="-1" strike="noStrike">
                <a:solidFill>
                  <a:srgbClr val="0066ff"/>
                </a:solidFill>
                <a:latin typeface="Trebuchet MS"/>
              </a:rPr>
              <a:t>	</a:t>
            </a:r>
            <a:r>
              <a:rPr b="0" lang="es-ES" sz="2500" spc="-1" strike="noStrike">
                <a:solidFill>
                  <a:srgbClr val="0066ff"/>
                </a:solidFill>
                <a:latin typeface="Trebuchet MS"/>
              </a:rPr>
              <a:t>Ame a su alumna y dígale que está segura de que ella puede aprender rápido. Haga el aprendizaje tan feliz e interesante como sea posible.</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Cuando no pueda asistir a clase, encuentre una suplente o arregle con sus alumnas con suficiente anticipación un nuevo horario para recuperar la clase. </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Siéntese al lado de su alumna. Trate de hacerla sentir como una igual, no superior. Trate de ser más semejante a Jesús para ella, que cualquier persona que haya conocido antes. </a:t>
            </a:r>
            <a:endParaRPr b="0" lang="en-US" sz="2500" spc="-1" strike="noStrike">
              <a:solidFill>
                <a:srgbClr val="dde3dc"/>
              </a:solidFill>
              <a:latin typeface="Trebuchet MS"/>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p:txBody>
      </p:sp>
      <p:sp>
        <p:nvSpPr>
          <p:cNvPr id="162" name="Line 4"/>
          <p:cNvSpPr/>
          <p:nvPr/>
        </p:nvSpPr>
        <p:spPr>
          <a:xfrm>
            <a:off x="2286000" y="15238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76720" y="457200"/>
            <a:ext cx="5486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4" name="PlaceHolder 2"/>
          <p:cNvSpPr>
            <a:spLocks noGrp="1"/>
          </p:cNvSpPr>
          <p:nvPr>
            <p:ph/>
          </p:nvPr>
        </p:nvSpPr>
        <p:spPr>
          <a:xfrm>
            <a:off x="2895480" y="1752120"/>
            <a:ext cx="5639040" cy="4419720"/>
          </a:xfrm>
          <a:prstGeom prst="rect">
            <a:avLst/>
          </a:prstGeom>
          <a:noFill/>
          <a:ln w="0">
            <a:noFill/>
          </a:ln>
        </p:spPr>
        <p:txBody>
          <a:bodyPr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lgunos de los elementos importantes en un programa como este so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Cronograma y duración de la instrucció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ateriales de enseñanza</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Relevo y entrenamiento de maestro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otivación de los participante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Supervisión y control</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65" name="Line 5"/>
          <p:cNvSpPr/>
          <p:nvPr/>
        </p:nvSpPr>
        <p:spPr>
          <a:xfrm>
            <a:off x="2819520" y="1295280"/>
            <a:ext cx="5867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7" name="PlaceHolder 2"/>
          <p:cNvSpPr>
            <a:spLocks noGrp="1"/>
          </p:cNvSpPr>
          <p:nvPr>
            <p:ph/>
          </p:nvPr>
        </p:nvSpPr>
        <p:spPr>
          <a:xfrm>
            <a:off x="3047760" y="1980720"/>
            <a:ext cx="5715000" cy="4419720"/>
          </a:xfrm>
          <a:prstGeom prst="rect">
            <a:avLst/>
          </a:prstGeom>
          <a:noFill/>
          <a:ln w="0">
            <a:noFill/>
          </a:ln>
        </p:spPr>
        <p:txBody>
          <a:bodyPr anchor="t">
            <a:normAutofit/>
          </a:bodyPr>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nexión con otras actividades de desarrollo</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laboración de organizaciones gubernamentales y no gubernamentales</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Actividades post alfabetización</a:t>
            </a:r>
            <a:endParaRPr b="0" lang="en-US" sz="3400" spc="-1" strike="noStrike">
              <a:solidFill>
                <a:srgbClr val="dde3dc"/>
              </a:solidFill>
              <a:latin typeface="Trebuchet MS"/>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p:txBody>
      </p:sp>
      <p:sp>
        <p:nvSpPr>
          <p:cNvPr id="168" name="Line 4"/>
          <p:cNvSpPr/>
          <p:nvPr/>
        </p:nvSpPr>
        <p:spPr>
          <a:xfrm>
            <a:off x="2438280" y="144792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456840"/>
            <a:ext cx="6095880" cy="6094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Comience a planificar</a:t>
            </a:r>
            <a:endParaRPr b="1" lang="en-US" sz="4000" spc="-1" strike="noStrike">
              <a:solidFill>
                <a:srgbClr val="dde3dc"/>
              </a:solidFill>
              <a:latin typeface="Trebuchet MS"/>
            </a:endParaRPr>
          </a:p>
        </p:txBody>
      </p:sp>
      <p:sp>
        <p:nvSpPr>
          <p:cNvPr id="170" name="PlaceHolder 2"/>
          <p:cNvSpPr>
            <a:spLocks noGrp="1"/>
          </p:cNvSpPr>
          <p:nvPr>
            <p:ph type="subTitle"/>
          </p:nvPr>
        </p:nvSpPr>
        <p:spPr>
          <a:xfrm>
            <a:off x="990720" y="1523520"/>
            <a:ext cx="6400800" cy="4953240"/>
          </a:xfrm>
          <a:prstGeom prst="rect">
            <a:avLst/>
          </a:prstGeom>
          <a:noFill/>
          <a:ln w="0">
            <a:noFill/>
          </a:ln>
        </p:spPr>
        <p:txBody>
          <a:bodyPr anchor="t">
            <a:noAutofit/>
          </a:bodyPr>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Decida cuál será el idioma de instruc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materiales de alfabetiza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Busque instructores</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alguien que entrene tus instructores.</a:t>
            </a:r>
            <a:endParaRPr b="0" lang="en-US" sz="3800" spc="-1" strike="noStrike">
              <a:solidFill>
                <a:srgbClr val="dde3dc"/>
              </a:solidFill>
              <a:latin typeface="Trebuchet MS"/>
            </a:endParaRPr>
          </a:p>
        </p:txBody>
      </p:sp>
      <p:sp>
        <p:nvSpPr>
          <p:cNvPr id="171" name="Line 5"/>
          <p:cNvSpPr/>
          <p:nvPr/>
        </p:nvSpPr>
        <p:spPr>
          <a:xfrm>
            <a:off x="2362320" y="10666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457200"/>
            <a:ext cx="59436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5" name="PlaceHolder 2"/>
          <p:cNvSpPr>
            <a:spLocks noGrp="1"/>
          </p:cNvSpPr>
          <p:nvPr>
            <p:ph/>
          </p:nvPr>
        </p:nvSpPr>
        <p:spPr>
          <a:xfrm>
            <a:off x="151920" y="1600200"/>
            <a:ext cx="5715000" cy="5029200"/>
          </a:xfrm>
          <a:prstGeom prst="rect">
            <a:avLst/>
          </a:prstGeom>
          <a:noFill/>
          <a:ln w="0">
            <a:noFill/>
          </a:ln>
        </p:spPr>
        <p:txBody>
          <a:bodyPr anchor="t">
            <a:normAutofit/>
          </a:bodyPr>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herramienta para el evangelista; proveyendo el clima ideal para la conversión y apertura de nuevas iglesias;</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Abre las páginas de la Biblia y de otra literatura cristiana para no cristianos y cristianos en crecimiento;</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puerta a las naciones y partes de naciones donde otros tipos de misión son rechazados;</a:t>
            </a:r>
            <a:endParaRPr b="0" lang="en-US" sz="2800" spc="-1" strike="noStrike">
              <a:solidFill>
                <a:srgbClr val="dde3dc"/>
              </a:solidFill>
              <a:latin typeface="Trebuchet MS"/>
            </a:endParaRPr>
          </a:p>
        </p:txBody>
      </p:sp>
      <p:sp>
        <p:nvSpPr>
          <p:cNvPr id="96" name="Line 5"/>
          <p:cNvSpPr/>
          <p:nvPr/>
        </p:nvSpPr>
        <p:spPr>
          <a:xfrm>
            <a:off x="2590920" y="1371600"/>
            <a:ext cx="5790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3" name="PlaceHolder 2"/>
          <p:cNvSpPr>
            <a:spLocks noGrp="1"/>
          </p:cNvSpPr>
          <p:nvPr>
            <p:ph/>
          </p:nvPr>
        </p:nvSpPr>
        <p:spPr>
          <a:xfrm>
            <a:off x="837720" y="1752120"/>
            <a:ext cx="632484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reclutará a sus estudiantes. </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evaluará y ubicará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si va a cobrar alguna cosa a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dónde serán las clases</a:t>
            </a:r>
            <a:endParaRPr b="0" lang="en-US" sz="3400" spc="-1" strike="noStrike">
              <a:solidFill>
                <a:srgbClr val="dde3dc"/>
              </a:solidFill>
              <a:latin typeface="Trebuchet MS"/>
            </a:endParaRPr>
          </a:p>
        </p:txBody>
      </p:sp>
      <p:sp>
        <p:nvSpPr>
          <p:cNvPr id="174" name="Line 4"/>
          <p:cNvSpPr/>
          <p:nvPr/>
        </p:nvSpPr>
        <p:spPr>
          <a:xfrm>
            <a:off x="2438280" y="1295280"/>
            <a:ext cx="6248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6" name="PlaceHolder 2"/>
          <p:cNvSpPr>
            <a:spLocks noGrp="1"/>
          </p:cNvSpPr>
          <p:nvPr>
            <p:ph/>
          </p:nvPr>
        </p:nvSpPr>
        <p:spPr>
          <a:xfrm>
            <a:off x="685800" y="1980720"/>
            <a:ext cx="640080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uándo se encontrarán y por cuánto tiemp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lanifique la inscripción y el registro de información: ¿quién lo hará y cóm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resupueste</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Comience!</a:t>
            </a:r>
            <a:endParaRPr b="0" lang="en-US" sz="3400" spc="-1" strike="noStrike">
              <a:solidFill>
                <a:srgbClr val="dde3dc"/>
              </a:solidFill>
              <a:latin typeface="Trebuchet MS"/>
            </a:endParaRPr>
          </a:p>
        </p:txBody>
      </p:sp>
      <p:sp>
        <p:nvSpPr>
          <p:cNvPr id="177" name="Line 4"/>
          <p:cNvSpPr/>
          <p:nvPr/>
        </p:nvSpPr>
        <p:spPr>
          <a:xfrm>
            <a:off x="2895480" y="137160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14240" y="609480"/>
            <a:ext cx="61722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79" name="PlaceHolder 2"/>
          <p:cNvSpPr>
            <a:spLocks noGrp="1"/>
          </p:cNvSpPr>
          <p:nvPr>
            <p:ph/>
          </p:nvPr>
        </p:nvSpPr>
        <p:spPr>
          <a:xfrm>
            <a:off x="3657600" y="1752120"/>
            <a:ext cx="502920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ff"/>
                </a:solidFill>
                <a:latin typeface="Trebuchet MS"/>
              </a:rPr>
              <a:t>A. </a:t>
            </a:r>
            <a:r>
              <a:rPr b="0" i="1" lang="es-ES" sz="2800" spc="-1" strike="noStrike">
                <a:solidFill>
                  <a:srgbClr val="3366ff"/>
                </a:solidFill>
                <a:latin typeface="Trebuchet MS"/>
              </a:rPr>
              <a:t>Repetimos, su relación con la alumna es el factor más importante en la enseñanza.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B.  De acuerdo con un estudio de programas de alfabetización, la conducta más importante del maestro es simplemente estar para dar clases.</a:t>
            </a:r>
            <a:endParaRPr b="0" lang="en-US" sz="2800" spc="-1" strike="noStrike">
              <a:solidFill>
                <a:srgbClr val="dde3dc"/>
              </a:solidFill>
              <a:latin typeface="Trebuchet MS"/>
            </a:endParaRPr>
          </a:p>
        </p:txBody>
      </p:sp>
      <p:sp>
        <p:nvSpPr>
          <p:cNvPr id="180" name="Line 5"/>
          <p:cNvSpPr/>
          <p:nvPr/>
        </p:nvSpPr>
        <p:spPr>
          <a:xfrm>
            <a:off x="2666880" y="144792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2" name="PlaceHolder 2"/>
          <p:cNvSpPr>
            <a:spLocks noGrp="1"/>
          </p:cNvSpPr>
          <p:nvPr>
            <p:ph/>
          </p:nvPr>
        </p:nvSpPr>
        <p:spPr>
          <a:xfrm>
            <a:off x="3428640" y="1980720"/>
            <a:ext cx="5334120" cy="4419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C.  Si la asistencia no es la esperada; ya sea porque abandonan muy pronto o demasiados, sería sabio dedicar tiempo para descubrir cuáles son las razones y tomar las medidas necesarias para superar estos problemas.</a:t>
            </a:r>
            <a:endParaRPr b="0" lang="en-US" sz="3200" spc="-1" strike="noStrike">
              <a:solidFill>
                <a:srgbClr val="dde3dc"/>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83" name="Line 4"/>
          <p:cNvSpPr/>
          <p:nvPr/>
        </p:nvSpPr>
        <p:spPr>
          <a:xfrm>
            <a:off x="2590920" y="137160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5" name="PlaceHolder 2"/>
          <p:cNvSpPr>
            <a:spLocks noGrp="1"/>
          </p:cNvSpPr>
          <p:nvPr>
            <p:ph/>
          </p:nvPr>
        </p:nvSpPr>
        <p:spPr>
          <a:xfrm>
            <a:off x="2743200" y="1980720"/>
            <a:ext cx="6019920" cy="4419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3366ff"/>
                </a:solidFill>
                <a:latin typeface="Trebuchet MS"/>
              </a:rPr>
              <a:t>D.  En general, el programa más exitoso es aquel que enseña la lengua desde una perspectiva global.</a:t>
            </a:r>
            <a:endParaRPr b="0" lang="en-US" sz="4000" spc="-1" strike="noStrike">
              <a:solidFill>
                <a:srgbClr val="dde3dc"/>
              </a:solidFill>
              <a:latin typeface="Trebuchet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e3dc"/>
              </a:solidFill>
              <a:latin typeface="Trebuchet MS"/>
            </a:endParaRPr>
          </a:p>
        </p:txBody>
      </p:sp>
      <p:sp>
        <p:nvSpPr>
          <p:cNvPr id="186" name="Line 4"/>
          <p:cNvSpPr/>
          <p:nvPr/>
        </p:nvSpPr>
        <p:spPr>
          <a:xfrm>
            <a:off x="2895480" y="137160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429000" y="3276720"/>
            <a:ext cx="5486400" cy="3124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66ff"/>
                </a:solidFill>
                <a:latin typeface="Trebuchet MS"/>
              </a:rPr>
              <a:t>F.  Antes de comenzar con el programa de alfabetización, o en la primera sesión con una alumna, es importante hablar sobre el compromiso. </a:t>
            </a:r>
            <a:endParaRPr b="0" lang="en-US" sz="2800" spc="-1" strike="noStrike">
              <a:solidFill>
                <a:srgbClr val="dde3dc"/>
              </a:solidFill>
              <a:latin typeface="Trebuchet MS"/>
            </a:endParaRPr>
          </a:p>
        </p:txBody>
      </p:sp>
      <p:sp>
        <p:nvSpPr>
          <p:cNvPr id="188" name="Text Box 7"/>
          <p:cNvSpPr/>
          <p:nvPr/>
        </p:nvSpPr>
        <p:spPr>
          <a:xfrm>
            <a:off x="3048120" y="533520"/>
            <a:ext cx="48765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0" lang="en-US" sz="4400" spc="-1" strike="noStrike">
              <a:solidFill>
                <a:srgbClr val="dde3dc"/>
              </a:solidFill>
              <a:latin typeface="Andy"/>
            </a:endParaRPr>
          </a:p>
        </p:txBody>
      </p:sp>
      <p:sp>
        <p:nvSpPr>
          <p:cNvPr id="189" name="Line 8"/>
          <p:cNvSpPr/>
          <p:nvPr/>
        </p:nvSpPr>
        <p:spPr>
          <a:xfrm>
            <a:off x="2438280" y="129528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
        <p:nvSpPr>
          <p:cNvPr id="190" name="Text Box 9"/>
          <p:cNvSpPr/>
          <p:nvPr/>
        </p:nvSpPr>
        <p:spPr>
          <a:xfrm>
            <a:off x="914400" y="1752480"/>
            <a:ext cx="73915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ff"/>
                </a:solidFill>
                <a:latin typeface="Trebuchet MS"/>
              </a:rPr>
              <a:t>E. </a:t>
            </a:r>
            <a:r>
              <a:rPr b="1" i="1" lang="es-ES" sz="2800" spc="-1" strike="noStrike">
                <a:solidFill>
                  <a:srgbClr val="3366ff"/>
                </a:solidFill>
                <a:latin typeface="Trebuchet MS"/>
              </a:rPr>
              <a:t>En la mayoría de los adultos, la motivación puede menguar después de unas pocas semanas de estudio.</a:t>
            </a:r>
            <a:endParaRPr b="0" lang="en-US" sz="2800" spc="-1" strike="noStrike">
              <a:solidFill>
                <a:srgbClr val="dde3dc"/>
              </a:solidFill>
              <a:latin typeface="Andy"/>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2" name="PlaceHolder 2"/>
          <p:cNvSpPr>
            <a:spLocks noGrp="1"/>
          </p:cNvSpPr>
          <p:nvPr>
            <p:ph/>
          </p:nvPr>
        </p:nvSpPr>
        <p:spPr>
          <a:xfrm>
            <a:off x="3124080" y="1676520"/>
            <a:ext cx="5639040" cy="4419360"/>
          </a:xfrm>
          <a:prstGeom prst="rect">
            <a:avLst/>
          </a:prstGeom>
          <a:noFill/>
          <a:ln w="0">
            <a:noFill/>
          </a:ln>
        </p:spPr>
        <p:txBody>
          <a:bodyPr anchor="t">
            <a:normAutofit/>
          </a:bodyPr>
          <a:p>
            <a:pPr marL="685800" indent="-685800">
              <a:lnSpc>
                <a:spcPct val="90000"/>
              </a:lnSpc>
              <a:spcBef>
                <a:spcPts val="799"/>
              </a:spcBef>
              <a:buClr>
                <a:srgbClr val="3366ff"/>
              </a:buClr>
              <a:buFont typeface="Trebuchet MS"/>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Un buen programa coloca tanto énfasis en la comprensión como en la lectura oral.</a:t>
            </a: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H.  Si es posible, el primer día haga cartelitos con el nombre de cada persona. </a:t>
            </a:r>
            <a:endParaRPr b="0" lang="en-US" sz="3200" spc="-1" strike="noStrike">
              <a:solidFill>
                <a:srgbClr val="dde3dc"/>
              </a:solidFill>
              <a:latin typeface="Trebuchet MS"/>
            </a:endParaRPr>
          </a:p>
          <a:p>
            <a:pPr marL="68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93" name="Line 4"/>
          <p:cNvSpPr/>
          <p:nvPr/>
        </p:nvSpPr>
        <p:spPr>
          <a:xfrm flipV="1">
            <a:off x="2666880" y="1371600"/>
            <a:ext cx="5867640" cy="76320"/>
          </a:xfrm>
          <a:prstGeom prst="line">
            <a:avLst/>
          </a:prstGeom>
          <a:ln w="9360">
            <a:solidFill>
              <a:srgbClr val="33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5" name="PlaceHolder 2"/>
          <p:cNvSpPr>
            <a:spLocks noGrp="1"/>
          </p:cNvSpPr>
          <p:nvPr>
            <p:ph/>
          </p:nvPr>
        </p:nvSpPr>
        <p:spPr>
          <a:xfrm>
            <a:off x="3429000" y="1752120"/>
            <a:ext cx="5562720" cy="4419720"/>
          </a:xfrm>
          <a:prstGeom prst="rect">
            <a:avLst/>
          </a:prstGeom>
          <a:noFill/>
          <a:ln w="0">
            <a:noFill/>
          </a:ln>
        </p:spPr>
        <p:txBody>
          <a:bodyPr anchor="t">
            <a:normAutofit/>
          </a:bodyPr>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Muchos adultos en los países del tercer mundo vienen a clase sin haber sostenido un lápiz en sus vidas.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Sería bueno dar también una carpeta a cada alumno.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ntes de enseñar cada clase, asegúrese de leer otra vez la lección que está  planificando enseñar.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signe tareas a sus alumnos después de cada clase.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Lea a sus alumnos. </a:t>
            </a:r>
            <a:endParaRPr b="0" lang="en-US" sz="2400" spc="-1" strike="noStrike">
              <a:solidFill>
                <a:srgbClr val="dde3dc"/>
              </a:solidFill>
              <a:latin typeface="Trebuchet MS"/>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96" name="Line 4"/>
          <p:cNvSpPr/>
          <p:nvPr/>
        </p:nvSpPr>
        <p:spPr>
          <a:xfrm>
            <a:off x="2666880" y="1447920"/>
            <a:ext cx="58676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0" y="457200"/>
            <a:ext cx="64771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198" name="PlaceHolder 2"/>
          <p:cNvSpPr>
            <a:spLocks noGrp="1"/>
          </p:cNvSpPr>
          <p:nvPr>
            <p:ph/>
          </p:nvPr>
        </p:nvSpPr>
        <p:spPr>
          <a:xfrm>
            <a:off x="1676160" y="1752120"/>
            <a:ext cx="6172200" cy="4876920"/>
          </a:xfrm>
          <a:prstGeom prst="rect">
            <a:avLst/>
          </a:prstGeom>
          <a:noFill/>
          <a:ln w="0">
            <a:noFill/>
          </a:ln>
        </p:spPr>
        <p:txBody>
          <a:bodyPr anchor="t">
            <a:normAutofit/>
          </a:bodyPr>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ga lo menos posible.</a:t>
            </a:r>
            <a:endParaRPr b="0" lang="en-US" sz="3600" spc="-1" strike="noStrike">
              <a:solidFill>
                <a:srgbClr val="dde3dc"/>
              </a:solidFill>
              <a:latin typeface="Trebuchet MS"/>
            </a:endParaRPr>
          </a:p>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Nunca diga, “No, eso está mal,” o “¿No sabías eso?” Si hace una pregunta y no obtiene respuesta por varios segundos, ayuda a su alumna a contestarla por sí misma. Sólo de la respuesta si es necesario.</a:t>
            </a:r>
            <a:endParaRPr b="0" lang="en-US" sz="3600" spc="-1" strike="noStrike">
              <a:solidFill>
                <a:srgbClr val="dde3dc"/>
              </a:solidFill>
              <a:latin typeface="Trebuchet MS"/>
            </a:endParaRPr>
          </a:p>
        </p:txBody>
      </p:sp>
      <p:sp>
        <p:nvSpPr>
          <p:cNvPr id="199" name="Line 5"/>
          <p:cNvSpPr/>
          <p:nvPr/>
        </p:nvSpPr>
        <p:spPr>
          <a:xfrm>
            <a:off x="1828800" y="1676520"/>
            <a:ext cx="67816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201" name="PlaceHolder 2"/>
          <p:cNvSpPr>
            <a:spLocks noGrp="1"/>
          </p:cNvSpPr>
          <p:nvPr>
            <p:ph/>
          </p:nvPr>
        </p:nvSpPr>
        <p:spPr>
          <a:xfrm>
            <a:off x="1218960" y="1980720"/>
            <a:ext cx="7543800" cy="4419720"/>
          </a:xfrm>
          <a:prstGeom prst="rect">
            <a:avLst/>
          </a:prstGeom>
          <a:noFill/>
          <a:ln w="0">
            <a:noFill/>
          </a:ln>
        </p:spPr>
        <p:txBody>
          <a:bodyPr anchor="t">
            <a:normAutofit fontScale="97000"/>
          </a:bodyPr>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Haga solo preguntas que su alumna pueda contestar.</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unca haga exactamente misma pregunta a su alumna dos veces.</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o repita una palabra después de la alumna, si la ha leído correctamente. Esto puede irritar a un adulto. No las aburra repitiendo lo que ya saben.</a:t>
            </a:r>
            <a:endParaRPr b="0" lang="en-US" sz="3200" spc="-1" strike="noStrike">
              <a:solidFill>
                <a:srgbClr val="dde3dc"/>
              </a:solidFill>
              <a:latin typeface="Trebuchet MS"/>
            </a:endParaRPr>
          </a:p>
        </p:txBody>
      </p:sp>
      <p:sp>
        <p:nvSpPr>
          <p:cNvPr id="202" name="Line 4"/>
          <p:cNvSpPr/>
          <p:nvPr/>
        </p:nvSpPr>
        <p:spPr>
          <a:xfrm>
            <a:off x="1676520" y="1676520"/>
            <a:ext cx="6933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60" y="1980720"/>
            <a:ext cx="7467480" cy="4419720"/>
          </a:xfrm>
          <a:prstGeom prst="rect">
            <a:avLst/>
          </a:prstGeom>
          <a:noFill/>
          <a:ln w="0">
            <a:noFill/>
          </a:ln>
        </p:spPr>
        <p:txBody>
          <a:bodyPr anchor="t">
            <a:normAutofit/>
          </a:bodyPr>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Provee una actividad satisfactoria para cristianos locales que están ansiosos de ayudar a elevar a su propio pueblo a una vida mejor;</a:t>
            </a:r>
            <a:endParaRPr b="0" lang="en-US" sz="3200" spc="-1" strike="noStrike">
              <a:solidFill>
                <a:srgbClr val="dde3dc"/>
              </a:solidFill>
              <a:latin typeface="Trebuchet MS"/>
            </a:endParaRPr>
          </a:p>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Expresa compasión, demostrando que los cristianos se encuentran todavía en los asuntos del samaritano.</a:t>
            </a:r>
            <a:endParaRPr b="0" lang="en-US" sz="3200" spc="-1" strike="noStrike">
              <a:solidFill>
                <a:srgbClr val="dde3dc"/>
              </a:solidFill>
              <a:latin typeface="Trebuchet MS"/>
            </a:endParaRPr>
          </a:p>
          <a:p>
            <a:pPr marL="68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98" name="PlaceHolder 2"/>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9" name="Line 5"/>
          <p:cNvSpPr/>
          <p:nvPr/>
        </p:nvSpPr>
        <p:spPr>
          <a:xfrm>
            <a:off x="2895480" y="137160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38280" y="1142640"/>
            <a:ext cx="510552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Enseñanza sin libro de texto</a:t>
            </a:r>
            <a:endParaRPr b="1" lang="en-US" sz="4400" spc="-1" strike="noStrike">
              <a:solidFill>
                <a:srgbClr val="dde3dc"/>
              </a:solidFill>
              <a:latin typeface="Trebuchet MS"/>
            </a:endParaRPr>
          </a:p>
        </p:txBody>
      </p:sp>
      <p:sp>
        <p:nvSpPr>
          <p:cNvPr id="204" name="PlaceHolder 2"/>
          <p:cNvSpPr>
            <a:spLocks noGrp="1"/>
          </p:cNvSpPr>
          <p:nvPr>
            <p:ph type="subTitle"/>
          </p:nvPr>
        </p:nvSpPr>
        <p:spPr>
          <a:xfrm>
            <a:off x="1981080" y="2742840"/>
            <a:ext cx="5181840" cy="33526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La enseñanza más efectiva será la que esté centrada en la  alumna. En otras palabras, le estará enseñando a la alumna lo que ella desea aprender en ese momento.</a:t>
            </a:r>
            <a:endParaRPr b="0" lang="en-US" sz="3200" spc="-1" strike="noStrike">
              <a:solidFill>
                <a:srgbClr val="dde3dc"/>
              </a:solidFill>
              <a:latin typeface="Trebuchet MS"/>
            </a:endParaRPr>
          </a:p>
        </p:txBody>
      </p:sp>
      <p:sp>
        <p:nvSpPr>
          <p:cNvPr id="205" name="Line 8"/>
          <p:cNvSpPr/>
          <p:nvPr/>
        </p:nvSpPr>
        <p:spPr>
          <a:xfrm>
            <a:off x="1600200" y="2514600"/>
            <a:ext cx="7010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19160" y="761760"/>
            <a:ext cx="510516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rogramas posteriores a la alfabetización</a:t>
            </a:r>
            <a:endParaRPr b="1" lang="en-US" sz="4400" spc="-1" strike="noStrike">
              <a:solidFill>
                <a:srgbClr val="dde3dc"/>
              </a:solidFill>
              <a:latin typeface="Trebuchet MS"/>
            </a:endParaRPr>
          </a:p>
        </p:txBody>
      </p:sp>
      <p:sp>
        <p:nvSpPr>
          <p:cNvPr id="207" name="PlaceHolder 2"/>
          <p:cNvSpPr>
            <a:spLocks noGrp="1"/>
          </p:cNvSpPr>
          <p:nvPr>
            <p:ph type="subTitle"/>
          </p:nvPr>
        </p:nvSpPr>
        <p:spPr>
          <a:xfrm>
            <a:off x="2895480" y="2286000"/>
            <a:ext cx="5181840" cy="365760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66ff"/>
                </a:solidFill>
                <a:latin typeface="Trebuchet MS"/>
              </a:rPr>
              <a:t>La mayoría de los adultos retendrán lo que han aprendido en las clases de alfabetización, pero gran parte del éxito a largo alcance, depende del apoyo que se brinde después del programa básico.</a:t>
            </a:r>
            <a:endParaRPr b="0" lang="en-US" sz="3200" spc="-1" strike="noStrike">
              <a:solidFill>
                <a:srgbClr val="dde3dc"/>
              </a:solidFill>
              <a:latin typeface="Trebuchet MS"/>
            </a:endParaRPr>
          </a:p>
        </p:txBody>
      </p:sp>
      <p:sp>
        <p:nvSpPr>
          <p:cNvPr id="208" name="Line 24"/>
          <p:cNvSpPr/>
          <p:nvPr/>
        </p:nvSpPr>
        <p:spPr>
          <a:xfrm>
            <a:off x="175248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57040" y="609120"/>
            <a:ext cx="6629400" cy="12193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en un segundo idioma</a:t>
            </a:r>
            <a:endParaRPr b="1" lang="en-US" sz="4400" spc="-1" strike="noStrike">
              <a:solidFill>
                <a:srgbClr val="dde3dc"/>
              </a:solidFill>
              <a:latin typeface="Trebuchet MS"/>
            </a:endParaRPr>
          </a:p>
        </p:txBody>
      </p:sp>
      <p:sp>
        <p:nvSpPr>
          <p:cNvPr id="210" name="PlaceHolder 2"/>
          <p:cNvSpPr>
            <a:spLocks noGrp="1"/>
          </p:cNvSpPr>
          <p:nvPr>
            <p:ph/>
          </p:nvPr>
        </p:nvSpPr>
        <p:spPr>
          <a:xfrm>
            <a:off x="1447920" y="1981080"/>
            <a:ext cx="6400800" cy="4572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a:t>
            </a:r>
            <a:endParaRPr b="0" lang="en-US" sz="2800" spc="-1" strike="noStrike">
              <a:solidFill>
                <a:srgbClr val="dde3dc"/>
              </a:solidFill>
              <a:latin typeface="Trebuchet MS"/>
            </a:endParaRPr>
          </a:p>
        </p:txBody>
      </p:sp>
      <p:sp>
        <p:nvSpPr>
          <p:cNvPr id="211" name="Line 5"/>
          <p:cNvSpPr/>
          <p:nvPr/>
        </p:nvSpPr>
        <p:spPr>
          <a:xfrm>
            <a:off x="2209680" y="167652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361960" y="457200"/>
            <a:ext cx="65530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3" name="PlaceHolder 2"/>
          <p:cNvSpPr>
            <a:spLocks noGrp="1"/>
          </p:cNvSpPr>
          <p:nvPr>
            <p:ph/>
          </p:nvPr>
        </p:nvSpPr>
        <p:spPr>
          <a:xfrm>
            <a:off x="990720" y="1676160"/>
            <a:ext cx="5333760" cy="5181480"/>
          </a:xfrm>
          <a:prstGeom prst="rect">
            <a:avLst/>
          </a:prstGeom>
          <a:noFill/>
          <a:ln w="0">
            <a:noFill/>
          </a:ln>
        </p:spPr>
        <p:txBody>
          <a:bodyPr anchor="t">
            <a:normAutofit/>
          </a:bodyPr>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usted misma</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éale a un niñ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para alguien que debe estar encerrad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Cree conciencia en su congregación, acerca del analfabetismo</a:t>
            </a:r>
            <a:endParaRPr b="0" lang="en-US" sz="3600" spc="-1" strike="noStrike">
              <a:solidFill>
                <a:srgbClr val="dde3dc"/>
              </a:solidFill>
              <a:latin typeface="Trebuchet MS"/>
            </a:endParaRPr>
          </a:p>
        </p:txBody>
      </p:sp>
      <p:sp>
        <p:nvSpPr>
          <p:cNvPr id="214"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215" name="Line 8"/>
          <p:cNvSpPr/>
          <p:nvPr/>
        </p:nvSpPr>
        <p:spPr>
          <a:xfrm>
            <a:off x="2286000" y="13716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7" name="PlaceHolder 2"/>
          <p:cNvSpPr>
            <a:spLocks noGrp="1"/>
          </p:cNvSpPr>
          <p:nvPr>
            <p:ph/>
          </p:nvPr>
        </p:nvSpPr>
        <p:spPr>
          <a:xfrm>
            <a:off x="838080" y="1752120"/>
            <a:ext cx="7467840" cy="4419720"/>
          </a:xfrm>
          <a:prstGeom prst="rect">
            <a:avLst/>
          </a:prstGeom>
          <a:noFill/>
          <a:ln w="0">
            <a:noFill/>
          </a:ln>
        </p:spPr>
        <p:txBody>
          <a:bodyPr anchor="t">
            <a:normAutofit/>
          </a:bodyPr>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veriguar por programas de alfabetización en su áre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terminar que tipo de programa se necesita todaví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Hacer una contribución .</a:t>
            </a:r>
            <a:endParaRPr b="0" lang="en-US" sz="3200" spc="-1" strike="noStrike">
              <a:solidFill>
                <a:srgbClr val="dde3dc"/>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financiera a un programa de alfabetización.</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rmar un programa.</a:t>
            </a:r>
            <a:endParaRPr b="0" lang="en-US" sz="3200" spc="-1" strike="noStrike">
              <a:solidFill>
                <a:srgbClr val="dde3dc"/>
              </a:solidFill>
              <a:latin typeface="Trebuchet MS"/>
            </a:endParaRPr>
          </a:p>
        </p:txBody>
      </p:sp>
      <p:sp>
        <p:nvSpPr>
          <p:cNvPr id="218" name="Line 4"/>
          <p:cNvSpPr/>
          <p:nvPr/>
        </p:nvSpPr>
        <p:spPr>
          <a:xfrm>
            <a:off x="2362320" y="1295280"/>
            <a:ext cx="62481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914040" y="1371600"/>
            <a:ext cx="6172200" cy="5105520"/>
          </a:xfrm>
          <a:prstGeom prst="rect">
            <a:avLst/>
          </a:prstGeom>
          <a:noFill/>
          <a:ln w="0">
            <a:noFill/>
          </a:ln>
        </p:spPr>
        <p:txBody>
          <a:bodyPr anchor="t">
            <a:normAutofit/>
          </a:bodyPr>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espacio para la instrucción en su iglesi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nsformarse en una instructor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rigir un program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er una alumna a clase.</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cuidado para los niños durante la sesión de enseñanza.</a:t>
            </a:r>
            <a:endParaRPr b="0" lang="en-US" sz="3600" spc="-1" strike="noStrike">
              <a:solidFill>
                <a:srgbClr val="dde3dc"/>
              </a:solidFill>
              <a:latin typeface="Trebuchet MS"/>
            </a:endParaRPr>
          </a:p>
        </p:txBody>
      </p:sp>
      <p:sp>
        <p:nvSpPr>
          <p:cNvPr id="220" name="Text Box 6"/>
          <p:cNvSpPr/>
          <p:nvPr/>
        </p:nvSpPr>
        <p:spPr>
          <a:xfrm>
            <a:off x="2133720" y="533520"/>
            <a:ext cx="5867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lfabetización para el futuro</a:t>
            </a:r>
            <a:endParaRPr b="0" lang="en-US" sz="4000" spc="-1" strike="noStrike">
              <a:solidFill>
                <a:srgbClr val="dde3dc"/>
              </a:solidFill>
              <a:latin typeface="Andy"/>
            </a:endParaRPr>
          </a:p>
        </p:txBody>
      </p:sp>
      <p:sp>
        <p:nvSpPr>
          <p:cNvPr id="221" name="Line 7"/>
          <p:cNvSpPr/>
          <p:nvPr/>
        </p:nvSpPr>
        <p:spPr>
          <a:xfrm>
            <a:off x="2286000" y="1219320"/>
            <a:ext cx="54864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23" name="PlaceHolder 2"/>
          <p:cNvSpPr>
            <a:spLocks noGrp="1"/>
          </p:cNvSpPr>
          <p:nvPr>
            <p:ph/>
          </p:nvPr>
        </p:nvSpPr>
        <p:spPr>
          <a:xfrm>
            <a:off x="837720" y="1752120"/>
            <a:ext cx="5867640" cy="4419720"/>
          </a:xfrm>
          <a:prstGeom prst="rect">
            <a:avLst/>
          </a:prstGeom>
          <a:noFill/>
          <a:ln w="0">
            <a:noFill/>
          </a:ln>
        </p:spPr>
        <p:txBody>
          <a:bodyPr anchor="t">
            <a:normAutofit/>
          </a:bodyPr>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Regalar materiales de lectur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Involucrarse en el sistema de educación de su comunidad.</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Entérese como funciona la educación en su zon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fender la igualdad de educación para todos.</a:t>
            </a:r>
            <a:endParaRPr b="0" lang="en-US" sz="3200" spc="-1" strike="noStrike">
              <a:solidFill>
                <a:srgbClr val="dde3dc"/>
              </a:solidFill>
              <a:latin typeface="Trebuchet MS"/>
            </a:endParaRPr>
          </a:p>
        </p:txBody>
      </p:sp>
      <p:sp>
        <p:nvSpPr>
          <p:cNvPr id="224" name="Line 4"/>
          <p:cNvSpPr/>
          <p:nvPr/>
        </p:nvSpPr>
        <p:spPr>
          <a:xfrm>
            <a:off x="2438280" y="137160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1142640"/>
            <a:ext cx="7010280" cy="48006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66ff"/>
                </a:solidFill>
                <a:latin typeface="Arial"/>
              </a:rPr>
              <a:t>“</a:t>
            </a:r>
            <a:r>
              <a:rPr b="1" i="1" lang="es-ES" sz="4400" spc="-1" strike="noStrike">
                <a:solidFill>
                  <a:srgbClr val="3366ff"/>
                </a:solidFill>
                <a:latin typeface="Arial"/>
              </a:rPr>
              <a:t>He aquí vienen días,” declara el Señor soberano,</a:t>
            </a:r>
            <a:br>
              <a:rPr sz="4400"/>
            </a:br>
            <a:r>
              <a:rPr b="1" i="1" lang="es-ES" sz="4400" spc="-1" strike="noStrike">
                <a:solidFill>
                  <a:srgbClr val="3366ff"/>
                </a:solidFill>
                <a:latin typeface="Arial"/>
              </a:rPr>
              <a:t>en los cuales enviaré hambre a la tierra, no hambre de pan, ni sed de agua, sino de oír la palabra de Jehová.”</a:t>
            </a:r>
            <a:br>
              <a:rPr sz="4000"/>
            </a:br>
            <a:r>
              <a:rPr b="1" i="1" lang="es-ES" sz="2800" spc="-1" strike="noStrike">
                <a:solidFill>
                  <a:srgbClr val="dde3dc"/>
                </a:solidFill>
                <a:latin typeface="Arial"/>
              </a:rPr>
              <a:t>Amós</a:t>
            </a:r>
            <a:r>
              <a:rPr b="1" i="1" lang="en-US" sz="2800" spc="-1" strike="noStrike">
                <a:solidFill>
                  <a:srgbClr val="dde3dc"/>
                </a:solidFill>
                <a:latin typeface="Arial"/>
              </a:rPr>
              <a:t> 8:11</a:t>
            </a:r>
            <a:endParaRPr b="1"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4760" y="457200"/>
            <a:ext cx="7086600" cy="12952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Porqué es importante la alfabetización para la Iglesia?</a:t>
            </a:r>
            <a:endParaRPr b="1" lang="en-US" sz="3600" spc="-1" strike="noStrike">
              <a:solidFill>
                <a:srgbClr val="dde3dc"/>
              </a:solidFill>
              <a:latin typeface="Trebuchet MS"/>
            </a:endParaRPr>
          </a:p>
        </p:txBody>
      </p:sp>
      <p:sp>
        <p:nvSpPr>
          <p:cNvPr id="102" name="PlaceHolder 2"/>
          <p:cNvSpPr>
            <a:spLocks noGrp="1"/>
          </p:cNvSpPr>
          <p:nvPr>
            <p:ph/>
          </p:nvPr>
        </p:nvSpPr>
        <p:spPr>
          <a:xfrm>
            <a:off x="762120" y="1752120"/>
            <a:ext cx="6324480" cy="4419720"/>
          </a:xfrm>
          <a:prstGeom prst="rect">
            <a:avLst/>
          </a:prstGeom>
          <a:noFill/>
          <a:ln w="0">
            <a:noFill/>
          </a:ln>
        </p:spPr>
        <p:txBody>
          <a:bodyPr anchor="t">
            <a:norm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a:t>
            </a:r>
            <a:r>
              <a:rPr b="0" i="1" lang="es-ES" sz="3000" spc="-1" strike="noStrike">
                <a:solidFill>
                  <a:srgbClr val="3366ff"/>
                </a:solidFill>
                <a:latin typeface="Arial"/>
              </a:rPr>
              <a:t>Únicamente el método de Cristo dará verdadero éxito para alcanzar a la gente.  El Salvador se mezclaba con los hombres como alguien que deseaba su bien.  Les manifestaba simpatía, atendía a sus necesidades, y ganaba su confianza.  Luego los invitaba así: ‘Sígueme.’” </a:t>
            </a:r>
            <a:endParaRPr b="0" lang="en-US" sz="3000" spc="-1" strike="noStrike">
              <a:solidFill>
                <a:srgbClr val="dde3dc"/>
              </a:solidFill>
              <a:latin typeface="Trebuchet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66ff"/>
                </a:solidFill>
                <a:latin typeface="Arial"/>
              </a:rPr>
              <a:t>E. G. White, Obreros evangélicos p. 376.</a:t>
            </a:r>
            <a:endParaRPr b="0" lang="en-US" sz="2000" spc="-1" strike="noStrike">
              <a:solidFill>
                <a:srgbClr val="dde3dc"/>
              </a:solidFill>
              <a:latin typeface="Trebuchet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p:txBody>
      </p:sp>
      <p:sp>
        <p:nvSpPr>
          <p:cNvPr id="103" name="Line 5"/>
          <p:cNvSpPr/>
          <p:nvPr/>
        </p:nvSpPr>
        <p:spPr>
          <a:xfrm>
            <a:off x="1143000" y="1676520"/>
            <a:ext cx="632448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440" y="380880"/>
            <a:ext cx="7086600" cy="144792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or qué es importante la alfabetización para la Iglesia? </a:t>
            </a:r>
            <a:endParaRPr b="1" lang="en-US" sz="4400" spc="-1" strike="noStrike">
              <a:solidFill>
                <a:srgbClr val="dde3dc"/>
              </a:solidFill>
              <a:latin typeface="Trebuchet MS"/>
            </a:endParaRPr>
          </a:p>
        </p:txBody>
      </p:sp>
      <p:sp>
        <p:nvSpPr>
          <p:cNvPr id="105" name="PlaceHolder 2"/>
          <p:cNvSpPr>
            <a:spLocks noGrp="1"/>
          </p:cNvSpPr>
          <p:nvPr>
            <p:ph type="subTitle"/>
          </p:nvPr>
        </p:nvSpPr>
        <p:spPr>
          <a:xfrm>
            <a:off x="1752480" y="1905120"/>
            <a:ext cx="7010640" cy="49528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Los que no pueden leer son cautivos de su incapacidad. Al llevar adelante la obra de Cristo, nosotros también podemos decir:</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t>
            </a:r>
            <a:r>
              <a:rPr b="0" lang="es-ES" sz="2400" spc="-1" strike="noStrike">
                <a:solidFill>
                  <a:srgbClr val="3366ff"/>
                </a:solidFill>
                <a:latin typeface="Arial"/>
              </a:rPr>
              <a:t>El Espíritu del Señor está sobre mí</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             </a:t>
            </a:r>
            <a:r>
              <a:rPr b="0" lang="es-ES" sz="2400" spc="-1" strike="noStrike">
                <a:solidFill>
                  <a:srgbClr val="3366ff"/>
                </a:solidFill>
                <a:latin typeface="Arial"/>
              </a:rPr>
              <a:t>por cuanto me ha ungido para</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nunciar buenas nuevas a los pobre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Me ha enviado a proclamar libertad a los cautiv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Y  dar vista a los cieg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oner en libertad a los oprimid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regonar el año del favor del Señor.” </a:t>
            </a:r>
            <a:endParaRPr b="0" lang="en-US" sz="24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dde3dc"/>
                </a:solidFill>
                <a:latin typeface="Arial"/>
              </a:rPr>
              <a:t>Isa. 61:1, 2 y Lucas 4: 18, 19, VRV.</a:t>
            </a:r>
            <a:endParaRPr b="0" lang="en-US" sz="16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e3dc"/>
              </a:solidFill>
              <a:latin typeface="Trebuchet MS"/>
            </a:endParaRPr>
          </a:p>
        </p:txBody>
      </p:sp>
      <p:sp>
        <p:nvSpPr>
          <p:cNvPr id="106" name="Line 5"/>
          <p:cNvSpPr/>
          <p:nvPr/>
        </p:nvSpPr>
        <p:spPr>
          <a:xfrm flipV="1">
            <a:off x="2133720" y="1752480"/>
            <a:ext cx="6553080" cy="76320"/>
          </a:xfrm>
          <a:prstGeom prst="line">
            <a:avLst/>
          </a:prstGeom>
          <a:ln w="9360">
            <a:solidFill>
              <a:srgbClr val="00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33720" y="685800"/>
            <a:ext cx="6324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08" name="PlaceHolder 2"/>
          <p:cNvSpPr>
            <a:spLocks noGrp="1"/>
          </p:cNvSpPr>
          <p:nvPr>
            <p:ph/>
          </p:nvPr>
        </p:nvSpPr>
        <p:spPr>
          <a:xfrm>
            <a:off x="1218960" y="2590560"/>
            <a:ext cx="7391160" cy="243828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Les da a los miembros de iglesia una forma de ministrar a otros de una manera inocua.</a:t>
            </a:r>
            <a:endParaRPr b="0" lang="en-US" sz="3600" spc="-1" strike="noStrike">
              <a:solidFill>
                <a:srgbClr val="dde3dc"/>
              </a:solidFill>
              <a:latin typeface="Trebuchet MS"/>
            </a:endParaRPr>
          </a:p>
        </p:txBody>
      </p:sp>
      <p:sp>
        <p:nvSpPr>
          <p:cNvPr id="109" name="Line 7"/>
          <p:cNvSpPr/>
          <p:nvPr/>
        </p:nvSpPr>
        <p:spPr>
          <a:xfrm>
            <a:off x="1219320" y="2057400"/>
            <a:ext cx="74674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514600"/>
            <a:ext cx="7848720" cy="2209680"/>
          </a:xfrm>
          <a:prstGeom prst="rect">
            <a:avLst/>
          </a:prstGeom>
          <a:noFill/>
          <a:ln w="0">
            <a:noFill/>
          </a:ln>
        </p:spPr>
        <p:txBody>
          <a:bodyPr anchor="t">
            <a:normAutofit/>
          </a:bodyPr>
          <a:p>
            <a:pPr marL="685800" indent="-685800">
              <a:spcBef>
                <a:spcPts val="901"/>
              </a:spcBef>
              <a:buClr>
                <a:srgbClr val="3366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Trebuchet MS"/>
              </a:rPr>
              <a:t>Los no cristianos sabrán que el maestro se interesa por ellos, por lo que están recibiendo. </a:t>
            </a:r>
            <a:endParaRPr b="0" lang="en-US" sz="3600" spc="-1" strike="noStrike">
              <a:solidFill>
                <a:srgbClr val="dde3dc"/>
              </a:solidFill>
              <a:latin typeface="Trebuchet MS"/>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1" name="PlaceHolder 2"/>
          <p:cNvSpPr>
            <a:spLocks noGrp="1"/>
          </p:cNvSpPr>
          <p:nvPr>
            <p:ph type="title"/>
          </p:nvPr>
        </p:nvSpPr>
        <p:spPr>
          <a:xfrm>
            <a:off x="1980720" y="685800"/>
            <a:ext cx="67057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2" name="Line 5"/>
          <p:cNvSpPr/>
          <p:nvPr/>
        </p:nvSpPr>
        <p:spPr>
          <a:xfrm>
            <a:off x="2057400" y="19810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19:32:42Z</dcterms:created>
  <dc:creator>Roland J. Penner</dc:creator>
  <dc:description/>
  <dc:language>en-US</dc:language>
  <cp:lastModifiedBy>Meriviana Ferreyra</cp:lastModifiedBy>
  <dcterms:modified xsi:type="dcterms:W3CDTF">2012-04-03T18:11:09Z</dcterms:modified>
  <cp:revision>50</cp:revision>
  <dc:subject/>
  <dc:title>Slide 1</dc:title>
</cp:coreProperties>
</file>