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bbc2ff"/>
              </a:solidFill>
              <a:latin typeface="Times New Roman"/>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move the slide</a:t>
            </a:r>
            <a:endParaRPr b="1" lang="en-US" sz="4400" spc="-1" strike="noStrike">
              <a:solidFill>
                <a:srgbClr val="ffffff"/>
              </a:solidFill>
              <a:latin typeface="Berling Antiqua"/>
            </a:endParaRPr>
          </a:p>
        </p:txBody>
      </p:sp>
      <p:sp>
        <p:nvSpPr>
          <p:cNvPr id="8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6638-D284-4668-9EC5-25B1F85CF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os últimos 10 a 20 años, han traído muchos cambios en nuestra iglesia; uno de los cambios positivos que han surgido, es el aumento de mujeres involucradas en el proceso de tomar decisiones en la iglesia. Se les está solicitando a más y más mujeres, que sirvan  en juntas de iglesia, juntas escolares, comisiones de asociaciones y de uniones, juntas directivas, como también en los niveles de la División y Asociació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uchas de las mujeres a las que se les está pidiendo que sirvan en estos puestos, han tenido muy poca experiencia previa en conducir reuniones o participando en comisiones y juntas. Llegan pedidos a la Asociación General de parte de mujeres que necesitan ayuda en ésta área. Se les ha pedido que sirvan en una comisión; ya sea de la iglesia, Asociación, o a nivel de Unión, y no han tenido prácticamente experiencia en esta área. Obviamente, desean hacer un buen trabajo. Desean ser productivas, Desean utilizar su tiempo en forma productiva.  Desean comprender los procedimientos y reglas de orden en una comisión. A menudo piden por guías que puedan dar información y ayudarlas en ésta área. Como resultado, hemos decidido ofrecer un breve seminario para ayudar a las mujeres  a ser efectivas en liderazgo, como miembros de comisiones, y al enfrentarse con los procedimientos de protocolo parlamen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n este momento, usted no está sirviendo en una comisión o liderando una reunión, no ignore la información importante de este seminario. Existe un creciente deseo de ver más y más mujeres activamente involucradas en estos procesos dentro de la organización de la iglesia. Podría llegar a recibir la invitación para hacerlo en el futuro cercano y esta información puede resultarle muy valiosa.</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UGERENCIAS PARA RESOLVER PROBLEMAS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líder, usted debe saber qué hacer cuando surgen problemas o confrontaciones. A continuación presentamos seis pasos para resolver problemas. (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de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o buena líder, asegúrese de que todos saben la fecha de la próxima reunión, la hora y el lugar.  Si se han asignado tareas, pida a la secretaria que le recuerde a cada miembro lo que son. Si es posible, sería excelente distribuir las minutas de la junta a todos los miembros dentro de las siguientes 24 horas después de la reunión. También asegúrese de guardar una copia oficial en lugar seguro con toda la información de las decisiones de la comisión o junta, así la próxima líder tendrá claros registros de las decisiones y acciones tomadas durante su período.  Envíe una nota para recordar la siguiente reunió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A AGENDA (RP-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agenda muestra que usted realmente desea ahorrar tiempo a sus miembros  y que realmente desea lograr algo en forma ordenada. La mayoría de las agendas consisten en solo una hoja de papel que contiene una lista con l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mbre de la comisión en la primera lín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ugar en la segunda línea (no siempre es necesario si la reunión se lleva a cabo en el mismo l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echa en la tercer lín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AGENDA” en la cuarta línea en letras mayúscu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lista de los puntos de agenda desde el primero que desea tratar hasta el último. Numere cada u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palabra “CLAUSURA”  al f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resentador: De un ejemplo de su asociación o unión, si es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gunas veces es bueno imprimir “RECREO” en la agenda para dar lugar a unos minutos de recreo. . De esta manera, puede controlar cuándo tendrá lugar y desanimar a la gente de abandonar la sala durante la reunión o de interrumpir la comisión. La mayoría de la gente permanecerá hasta el recreo si necesita salir tempr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vea que cada miembro de la comisión tenga una </a:t>
            </a:r>
            <a:r>
              <a:rPr b="1" lang="es-AR" sz="1200" spc="-1" strike="noStrike">
                <a:solidFill>
                  <a:srgbClr val="000000"/>
                </a:solidFill>
                <a:latin typeface="Times New Roman"/>
              </a:rPr>
              <a:t>copia de la agenda</a:t>
            </a:r>
            <a:r>
              <a:rPr b="0" lang="es-AR" sz="1200" spc="-1" strike="noStrike">
                <a:solidFill>
                  <a:srgbClr val="000000"/>
                </a:solidFill>
                <a:latin typeface="Times New Roman"/>
              </a:rPr>
              <a:t> por lo menos </a:t>
            </a:r>
            <a:r>
              <a:rPr b="1" lang="es-AR" sz="1200" spc="-1" strike="noStrike">
                <a:solidFill>
                  <a:srgbClr val="000000"/>
                </a:solidFill>
                <a:latin typeface="Times New Roman"/>
              </a:rPr>
              <a:t>24 horas</a:t>
            </a:r>
            <a:r>
              <a:rPr b="0" lang="es-AR" sz="1200" spc="-1" strike="noStrike">
                <a:solidFill>
                  <a:srgbClr val="000000"/>
                </a:solidFill>
                <a:latin typeface="Times New Roman"/>
              </a:rPr>
              <a:t> antes de la reunión. Esto permitirá que asistan mejor preparados con ideas y preguntas para comentar. Si no ven su agenda hasta que se sientan al comienzo de la reunión, no habrán tenido tiempo de pensar algunos de los temas que estará confrontando la comis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EPARACIÓN PARA LA REUNIÓN (RP-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usted es una líder nueva, sería bueno dedicar tiempo </a:t>
            </a:r>
            <a:r>
              <a:rPr b="0" i="1" lang="es-AR" sz="1200" spc="-1" strike="noStrike">
                <a:solidFill>
                  <a:srgbClr val="000000"/>
                </a:solidFill>
                <a:latin typeface="Times New Roman"/>
              </a:rPr>
              <a:t>a preparar su presentación </a:t>
            </a:r>
            <a:r>
              <a:rPr b="0" lang="es-AR" sz="1200" spc="-1" strike="noStrike">
                <a:solidFill>
                  <a:srgbClr val="000000"/>
                </a:solidFill>
                <a:latin typeface="Times New Roman"/>
              </a:rPr>
              <a:t>de la reunión: frases para la apertura, puntos importantes de discusión, etc. Tiene varias posibilidade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frente a un espejo en la privacidad de su hogar</a:t>
            </a:r>
            <a:r>
              <a:rPr b="0" lang="es-AR" sz="1200" spc="-1" strike="noStrike">
                <a:solidFill>
                  <a:srgbClr val="000000"/>
                </a:solidFill>
                <a:latin typeface="Times New Roman"/>
              </a:rPr>
              <a:t>. Esto le da la oportunidad de ver cómo va saliendo. También podrá ver cuánto tiempo le llevan sus comenta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en frente de su esposo, hijos, o de una buena amiga</a:t>
            </a:r>
            <a:r>
              <a:rPr b="0" lang="es-AR" sz="1200" spc="-1" strike="noStrike">
                <a:solidFill>
                  <a:srgbClr val="000000"/>
                </a:solidFill>
                <a:latin typeface="Times New Roman"/>
              </a:rPr>
              <a:t> y pídales que le hagan observaciones. ¿Habla demasiado?  ¿Está yendo al grano?  Pídales  una crítica hones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grabándose</a:t>
            </a:r>
            <a:r>
              <a:rPr b="0" lang="es-AR" sz="1200" spc="-1" strike="noStrike">
                <a:solidFill>
                  <a:srgbClr val="000000"/>
                </a:solidFill>
                <a:latin typeface="Times New Roman"/>
              </a:rPr>
              <a:t>, entonces vuélvase a escuchar. Podrá escuchar cómo le suenan a otros sus presentaciones.  Ésta puede ser una forma excelente de reflexionar y de hacer una auto cr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nsaye utilizando una cámara de video</a:t>
            </a:r>
            <a:r>
              <a:rPr b="0" lang="es-AR" sz="1200" spc="-1" strike="noStrike">
                <a:solidFill>
                  <a:srgbClr val="000000"/>
                </a:solidFill>
                <a:latin typeface="Times New Roman"/>
              </a:rPr>
              <a:t>.  Ésta es una muy buena forma de verse a sí misma, observe los gestos de sus manos, expresiones faciales, calidad de la voz.  Mírese a usted misma en una forma objetiva para aprender cómo mejorar su presentación para llegar a ser la mejor líder que pueda. No sea demasiado crítica sin embargo.</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RREGLO DEL AMBIENTE FÍSICO</a:t>
            </a:r>
            <a:r>
              <a:rPr b="0" lang="es-AR" sz="1200" spc="-1" strike="noStrike">
                <a:solidFill>
                  <a:srgbClr val="000000"/>
                </a:solidFill>
                <a:latin typeface="Times New Roman"/>
              </a:rPr>
              <a:t> </a:t>
            </a:r>
            <a:r>
              <a:rPr b="1" lang="es-AR" sz="1200" spc="-1" strike="noStrike">
                <a:solidFill>
                  <a:srgbClr val="000000"/>
                </a:solidFill>
                <a:latin typeface="Times New Roman"/>
              </a:rPr>
              <a:t>(RP-10 y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arreglo físico de la sala de reuniones requiere cuidadosa preparación.  Es tan importante como su agenda. Presentamos algunos aspecto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ecesita reservar la s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maño de sa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clase de equipos necesita?  ¿Retro proyector, pantalla de computadora, pizarrón, video, adaptadores eléctricos, un rotafolio con marcadores, micrófono, proyector, una grabadora para grabar la reunión? La lista podría continuar. Considere cuidadosamente todas las presentaciones que se harán y confirme con los exposi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Funcionan los equipos y tiene todo lo que necesita? Pruebe los equipos para estar segura de que sabe operarlos y de que funcionan. Esto es especialmente importante si utiliza equipos que no ha usado antes. ¿Cuenta con lámparas de repuesto para los proyectores? ¿Tiene marcadores que escriben bien? ¿Tiene tizas y borrador? ¿Cuenta con enchufes adecuados y con cables de exten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arreglos para tener jarras con agua y vasos para proveer líquido a los que tengan sed.  De esta manera, no tendrán que salir de la sala y perder una parte importante de un debate o decisión.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2080" y="679320"/>
            <a:ext cx="4533840" cy="3400560"/>
          </a:xfrm>
          <a:prstGeom prst="rect">
            <a:avLst/>
          </a:prstGeom>
          <a:ln w="0">
            <a:noFill/>
          </a:ln>
        </p:spPr>
      </p:sp>
      <p:sp>
        <p:nvSpPr>
          <p:cNvPr id="16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acústica de la sala? ¿Necesita un micró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tán arregladas las  mesas?  ¿Permiten un buen contacto visual e intera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necesario, ¿Tiene cartelitos preparados para ubicar a los miembros de la comisión en el lugar corr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es la temperatura de la sala?  ¿Sabe cómo controlarla? Recuerde, si hace demasiado calor, algunos de van a dormir y si hace demasiado frío querrán apurar la reun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iene alguna otra necesidad especial en relación con el espacio físico para su reun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ORGANIZAR Y DESARROLLAR LA REUNIÓ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 muy importante que la reunión esté cuidadosamente organizada. Primero, debiera comenzar y terminar su reunión a tiempo. Si usted tiende a comenzar de 10 a 15 minutos tarde, entonces los miembros de la comisión comenzarán a pensar que debieran asistir tarde, cada vez más tarde. Usted debe ser la reguladora. La forma en que conduce las reuniones habla mucho de usted misma. En resumen, tenga una agenda, comience con oración y entonces comience la reunión. Permanezca calma, y podrá expresarse más efectivamente. También trate de mantener la reunión centrada en cumplir con los objetivos propuestos, es su responsabilidad como líder. Al menos recuerde a los miembros de su comisión una o dos veces las metas y el tema que están discutiendo. No divague, ni permita que otros lo hagan, maximice el uso del tiempo. Lleguen siempre a un consenso en un asunto, antes de pasar a otro punto. Asegúrese de llevar un registro exacto de la reunión. Finalmente termine a tiempo la reunión</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INUTAS: CÓMO REGISTRAR (RP-13)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s minutas son una forma efectiva de mantener registros exactos. Usted está escribiendo la historia de su iglesia, unión o división.  Muchas veces las ideas aparecen rápidamente durante el curso de la reunión. A menos que alguien esté registrando lo que está sucediendo, podría perderse información importante. No cuente con la posibilidad de recordar las cosas. Elijan un/a secretario/a para guardar un registro permanente de las actividades de su comisión o junt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s posible,  escojan a alguien que tiene alguna experiencia en redactar minutas, así el registro de los eventos se hará con exactitud.  No es necesario escribir cada pequeño detalle; más bien, el secretario o secretaria de la comisión debiera enfocarse en varios aspectos clav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iénes están presentes y quiénes están ausent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decisiones se concordaron por consenso o se votaron. (Si la decisión fue votada: ¿Quién hizo la propuesta y quién la apoyó?)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tareas se asignaron durante el curso de la reunión? ¿A quién? Esto es muy importante así la secretaria puede hacer un seguimiento con una carta que confirme la tarea a cada una de las personas involucrad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l es el tema de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ándo se llevará a cabo la siguiente reunió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guimient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segúrese que todos están informados de sus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se le delegó alguna tarea a alguien durante la reunión, envíele un memo para recordarle lo que se le pidió que hiciera y cuándo se espera que lo complet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trole el progre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Vea cómo van las cosas. Conteste preguntas. Elogie el buen trabajo o haga sugerencias suaves para lograr mejoras. Evite parecer avasalladora. A nadie le gusta sentirse supervisada tan de cerca.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Informe la concreción de tare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se ha llevado a cabo la tarea asignada  por la comisión, la persona debiera presentar un informe a la comisión. Debiera explicar cómo se llevó a cabo y cuáles fueron los resultado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el siguiente paso</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ada proyecto que se haya concretado, abre la posibilidad a iniciar nuevos proyectos. Su comisión debiera estar continuamente asignando nuevos proyectos para construir sobre lo ya logrado y para ampliar las metas ya propuestas</a:t>
            </a:r>
            <a:r>
              <a:rPr b="1" lang="es-AR"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197080" y="679320"/>
            <a:ext cx="2463840" cy="1847880"/>
          </a:xfrm>
          <a:prstGeom prst="rect">
            <a:avLst/>
          </a:prstGeom>
          <a:ln w="0">
            <a:noFill/>
          </a:ln>
        </p:spPr>
      </p:sp>
      <p:sp>
        <p:nvSpPr>
          <p:cNvPr id="169" name="PlaceHolder 2"/>
          <p:cNvSpPr>
            <a:spLocks noGrp="1"/>
          </p:cNvSpPr>
          <p:nvPr>
            <p:ph type="body"/>
          </p:nvPr>
        </p:nvSpPr>
        <p:spPr>
          <a:xfrm>
            <a:off x="685800" y="2749320"/>
            <a:ext cx="5486400" cy="5722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ROCEDIMIENTO PARLAMENTARIO (RP-1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hacer una moción?  ¿Cuándo es apropiado hacer preguntas?  El propósito de una comisión es formular acciones que harán funcionar su organización para ir cumpliendo etapas que lleven a la concreción de las metas propuestas.  Demos una mirada a algunos pasos simples de procedimientos parlamentarios para la participación en comision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MO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ara que se pueda considerar un asunto, se debe hacer una moción.  A esto se llama “Moción principal.” Para hacerla, espere hasta que la persona que está hablando termine. Entonces se dirige al que preside: “Señora presidente” o “Señor presidente” Cuando se le concede la palabra, exprese su moción afirmativamente. “Yo propongo que…”  Sea tan breve y exacta como sea posible. (No se dice “Yo hago un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olamente los delegados o miembros con el derecho a votar pueden hacer mociones o hablar para propo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e puede avanzar en el diálogo sobre una moción principal hasta que haya sido apoyada. El presidente puede preguntar si hay apoyo; si no hay apoyo, su moción se descar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la moción es apoyada; el presidente entonces repite la moción, diciendo “Se propone y se apoya que…”   A continuación, comienza el debate o puede pasarse directamente a la votación. Mientras se suceden estos pasos, se dice que la moción está “sobre tab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puede enmendar una moción. Se sigue el mismo procedimiento que con la moción principal. Una enmienda, puede ser enmendada, otra vez siguiendo el mismo procedi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 requiere un voto por mayoría para que pase l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moción no está en orden cuando se comienza a considerar otra mo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cinco tipos generales de mocion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ncipal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subsidiarias (enmiendas, volver a  la mesa, previo a preguntas, referidas a la comisión, posponer indefinidamente, y tiempo limitado de debat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rivilegiadas (establecer tiempo para reunión futura, clausura, y cuestión privilegiada)</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incidentales (cuestión de orden,, división de una cuestión y propuesta para retirar o modificar una moción)</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ociones para traer una cuestión otra vez ant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formación que puede venir bien conocer acerca 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privilegio</a:t>
            </a:r>
            <a:r>
              <a:rPr b="0" lang="es-AR" sz="1200" spc="-1" strike="noStrike">
                <a:solidFill>
                  <a:srgbClr val="000000"/>
                </a:solidFill>
                <a:latin typeface="Times New Roman"/>
              </a:rPr>
              <a:t>: Es para quejarse acerca del calor, ruidos, et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de orden</a:t>
            </a:r>
            <a:r>
              <a:rPr b="0" lang="es-AR" sz="1200" spc="-1" strike="noStrike">
                <a:solidFill>
                  <a:srgbClr val="000000"/>
                </a:solidFill>
                <a:latin typeface="Times New Roman"/>
              </a:rPr>
              <a:t>: Es para protestar cuando algo no se está haciendo de acuerdo con las reglas. Puede estar interrumpiendo al que habla, no es debatible, no requiere apoyo, ni siquiera un voto a menos que el que preside así lo deci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lver a la mesa una moción</a:t>
            </a:r>
            <a:r>
              <a:rPr b="0" lang="es-AR" sz="1200" spc="-1" strike="noStrike">
                <a:solidFill>
                  <a:srgbClr val="000000"/>
                </a:solidFill>
                <a:latin typeface="Times New Roman"/>
              </a:rPr>
              <a:t>: Esto suspenderá momentáneamente la consideración de un asunto. Requiere apoyo, no es debatible, y requiere un voto por mayoría. En algún momento más tarde o durante una reunión, alguien puede proponer que se remueva de la mesa. Esto requiere un apoyo pero no es debatible y requiere solamente un voto por mayoría para pas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uestión previa</a:t>
            </a:r>
            <a:r>
              <a:rPr b="0" lang="es-AR" sz="1200" spc="-1" strike="noStrike">
                <a:solidFill>
                  <a:srgbClr val="000000"/>
                </a:solidFill>
                <a:latin typeface="Times New Roman"/>
              </a:rPr>
              <a:t>: Es un llamado para terminar un debate y enmiendas. Requiere apoyo y no es debatible. Requiere que unos 2/3 de la mayoría vote para pasar. El que preside puede preguntar “¿Estamos listos para la cuestión?” para evaluar si la gente está lista para votar pero no hay necesidad de proponer la cuestión previa o de llamar la cuestión si no se está debatiendo o discutiend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ivisión</a:t>
            </a:r>
            <a:r>
              <a:rPr b="0" lang="es-AR" sz="1200" spc="-1" strike="noStrike">
                <a:solidFill>
                  <a:srgbClr val="000000"/>
                </a:solidFill>
                <a:latin typeface="Times New Roman"/>
              </a:rPr>
              <a:t>: Es para verificar un voto de viva voz pidiendo a los miembros que tomen posición. Puede interrumpir una discusión y no requiere apoyo o vo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u="sng">
                <a:solidFill>
                  <a:srgbClr val="000000"/>
                </a:solidFill>
                <a:uFillTx/>
                <a:latin typeface="Times New Roman"/>
              </a:rPr>
              <a:t>VOT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voto normal será a viva voz (viva vo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no hay objeción, el presidente puede declarar un voto por consenso gener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el presidente advierte que hay consenso de los delegados presentes se llama a votación, el voto puede ser levantando las manos, poniéndose de pie, voto secreto, o utilizando un sistema electrónico. Si aparece una duda razonable acerca de los resultados de una votación, ya sea el presidente o cualquier miembro, puede pedir que se cuenten, o recuenten los votos (una división de la asamble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 presidente puede pedir a la secretaria que lo asista en el recuento de votos y/o nombrar a otros miembros para hacerl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comendamos las </a:t>
            </a:r>
            <a:r>
              <a:rPr b="1" lang="es-AR" sz="1200" spc="-1" strike="noStrike">
                <a:solidFill>
                  <a:srgbClr val="000000"/>
                </a:solidFill>
                <a:latin typeface="Times New Roman"/>
              </a:rPr>
              <a:t>Reglas de orden</a:t>
            </a:r>
            <a:r>
              <a:rPr b="0" lang="es-AR" sz="1200" spc="-1" strike="noStrike">
                <a:solidFill>
                  <a:srgbClr val="000000"/>
                </a:solidFill>
                <a:latin typeface="Times New Roman"/>
              </a:rPr>
              <a:t> para mayor información. Se pueden conseguir de la secretaría de la unión o división. Los Ministerios de la Mujer también tienen un folleto fotocopiado  “El A-B-C de procedimientos parlamentarios” que contiene una tabla de referencia rápida para: mociones, votos, y otros procedimien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838080" y="4237200"/>
            <a:ext cx="5486400" cy="430992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COMUNICARSE EFECTIVAMENTE EN  LAS REUNIONES (RP-15)</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s-AR" sz="1200" spc="-1" strike="noStrike">
                <a:solidFill>
                  <a:srgbClr val="000000"/>
                </a:solidFill>
                <a:latin typeface="Times New Roman"/>
              </a:rPr>
              <a:t>Tenga segu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usted se siente segura acerca de las cosas que está diciendo y de los materiales que está presentando, la gente estará más proclive a escucharla. No sea tímida para expresar sus opiniones. No se le hubiera pedido que forme parte de la comisión o junta, si la gente no desea escuchar lo que usted tiene para decir. Por lo tanto, si usted tiene confianza en sí misma, los demás lo van a percibir y la respetarán por es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taqu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ada cierra más a la gente que las acusaciones. Si usted tiene un problema que la comisión o junta necesita tratar, describa simplemente la situación sin echar culpas. Contar un problema no ayudará en nada, a menos que también describa lo que usted piensa que debiera hacerse para resolverlo.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breve</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munique su posición tan brevemente como sea posible.  No haga </a:t>
            </a:r>
            <a:r>
              <a:rPr b="0" lang="es-AR" sz="1200" spc="-1" strike="noStrike">
                <a:solidFill>
                  <a:srgbClr val="000000"/>
                </a:solidFill>
                <a:latin typeface="Times New Roman"/>
              </a:rPr>
              <a:t>	</a:t>
            </a:r>
            <a:r>
              <a:rPr b="0" lang="es-AR" sz="1200" spc="-1" strike="noStrike">
                <a:solidFill>
                  <a:srgbClr val="000000"/>
                </a:solidFill>
                <a:latin typeface="Times New Roman"/>
              </a:rPr>
              <a:t>introducciones largas, y no comience a dar vueltas. Si se sale de tema, también lo hará la gente que la está escuchando. Recordarán mejor lo que está diciendo si es suficientemente corto y si pueden repetir sus puntos principales.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Declare sus necesidades con claridad</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largue indirectas o de lugar a que se imagine. Declare sus necesidades y blancos clara y precisamente. Esté segura que los presentes comprenden ambos, el “qué”  y el “porqué.” Al mismo tiempo, no sea demandante. Usted está pidiendo algo y ellos no están necesariamente obligados a concedérselo. Muchas personas, particularmente a los hombres, no les agrada que se les diga lo que tienen que hacer. Evite la apariencia de que usted está dando una orden.</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No acepte interrupcione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a vasta mayoría de las interrupciones ocurren porque el interruptor no respeta el hecho de que otra persona esté hablando todavía. Insista que se le conceda el respeto que merece. Si se la interrumpe, inmediatamente establezca un contacto visual con la persona para informarle cortésmente que usted no había terminado de hablar, y entonces continúe con lo que estaba diciendo. Si la otra persona rehúsa reconocer su pedido y sigue hablando, hable más fuerte. Cuando los demás se dan cuenta de que usted está hablando enserio, lo tomarán en serio también. </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igile su lenguaje corporal</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s guste o no, nuestras ideas son juzgadas no solamente por lo que decimos sino por nuestro desenvolvimiento. Cuando hable; establezca contacto visual con otros miembros de la comisión. Manténgase erguida. Levante la cabeza. Ocupe espacio. Es una treta de percepción que la gente piense que su poder es proporcional a cuánto espacio necesita para sentirse cómoda. No tenga miedo de desparramar sus cosas o de caminar un poco durante la presentación. Algo que no sería bueno es exponer su cartera en forma prominente. Los hombres miran las carteras como un accesorio que muestra “debilidad”.  Déjela en casa o manténgala fuera de la vista.</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respuestas</a:t>
            </a:r>
            <a:endParaRPr b="0" lang="en-US" sz="1200" spc="-1" strike="noStrike">
              <a:solidFill>
                <a:srgbClr val="000000"/>
              </a:solidFill>
              <a:latin typeface="Times New Roman"/>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i tiene miedo de ser ignorada, pida una respuesta. Aún si los que están escuchando piensan que usted no tiene nada que valga la pena para que se le preste atención, no querrán parecer ignorantes  delante de los demás sin poder dar una respuesta inteligente. Si tienen que dar una respuesta, escucharán de  modo que puedan saber de qué hablar y podrán descubrir que usted tiene algunas ideas que valen la pena durante el proces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2080" y="679320"/>
            <a:ext cx="4533840" cy="3400560"/>
          </a:xfrm>
          <a:prstGeom prst="rect">
            <a:avLst/>
          </a:prstGeom>
          <a:ln w="0">
            <a:noFill/>
          </a:ln>
        </p:spPr>
      </p:sp>
      <p:sp>
        <p:nvSpPr>
          <p:cNvPr id="17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LAUSURA (RP-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Éxito al desarrollar sus habilidades de planificar y dirigir efectivamente comisiones y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938240" y="668160"/>
            <a:ext cx="3057480" cy="2294280"/>
          </a:xfrm>
          <a:prstGeom prst="rect">
            <a:avLst/>
          </a:prstGeom>
          <a:ln w="0">
            <a:noFill/>
          </a:ln>
        </p:spPr>
      </p:sp>
      <p:sp>
        <p:nvSpPr>
          <p:cNvPr id="143" name="PlaceHolder 2"/>
          <p:cNvSpPr>
            <a:spLocks noGrp="1"/>
          </p:cNvSpPr>
          <p:nvPr>
            <p:ph type="body"/>
          </p:nvPr>
        </p:nvSpPr>
        <p:spPr>
          <a:xfrm>
            <a:off x="762120" y="3419640"/>
            <a:ext cx="5486400" cy="4681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MEMBRESÍA DE COMISIÓN Y JU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y muchas ocasiones cuando se le solicita que sirva en una comisión o junta y podría descubrir que usted es la única mujer presente. Esto podría resultarle atemorizador. Sin embargo, existe un creciente número de mujeres que sirven en varias comisiones y juntas. Algunas hasta presiden comisiones y juntas consultivas como también otras reuniones. Esperaríamos, que no sea la única mujer, pero si es así, recuérdese a sí misma que se le ha solicitado que lo haga, porque su iglesia, asociación, o unión desea recibir algún aporte que ellos sienten que usted puede proveer.  Usted está proveyendo un servicio muy importante, particularmente para las mujeres en su iglesia y para la iglesia en general. Se le ha concedido una gran oportunidad de traer una perspectiva femenina al proceso de hacer decisiones de este cuerpo. Con la ayuda del Espíritu Santo y preparación de su parte, su influencia puede ser muy posi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uando consideramos que más del 70 % de la membresía de la iglesia está formada por mujeres, no es más que razonable que nuestros programas y reglamentos sean sensibles a las necesidades de las mujeres en la iglesia. Se necesita el punto de vista de una mujer; cuando se toman decisiones acerca de votos de presupuestos o implementación de nuevos reglamentos, que afectarán a cualquier segmento del cuerp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sidere este compromiso como una oportunidad única para proveer un rol valioso para la iglesia que usted ama y sirve. Usted puede proveer información significativa que puede ser la clave para el proceso de tomar decisiones de la comisión o junta a la cual está sirviendo. Haga valer su membresía en la comisión para algo, no tan solo para decorar la sala con un toque femenino. ¡Sea un miembro con una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SPONSABILIDADES DE LOS MIEMBROS DE UNA COMISIÓN (RP-2)</a:t>
            </a:r>
            <a:r>
              <a:rPr b="0" lang="es-ES" sz="1200" spc="-1" strike="noStrike">
                <a:solidFill>
                  <a:srgbClr val="000000"/>
                </a:solidFill>
                <a:latin typeface="Times New Roman"/>
              </a:rPr>
              <a:t> </a:t>
            </a: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ez principios para dirigir una comisión o jun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nozca las reg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imparci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ea ju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lijan un/a secretario/a y alguien que monitoree el tiem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hora para termi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stablezca una agen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imponga sus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antenga el proceso en march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r>
              <a:rPr b="0" lang="es-AR" sz="1200" spc="-1" strike="noStrike">
                <a:solidFill>
                  <a:srgbClr val="000000"/>
                </a:solidFill>
                <a:latin typeface="Times New Roman"/>
              </a:rPr>
              <a:t>Anime la participación de to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752480" y="679320"/>
            <a:ext cx="3354480" cy="2516400"/>
          </a:xfrm>
          <a:prstGeom prst="rect">
            <a:avLst/>
          </a:prstGeom>
          <a:ln w="0">
            <a:noFill/>
          </a:ln>
        </p:spPr>
      </p:sp>
      <p:sp>
        <p:nvSpPr>
          <p:cNvPr id="147" name="PlaceHolder 2"/>
          <p:cNvSpPr>
            <a:spLocks noGrp="1"/>
          </p:cNvSpPr>
          <p:nvPr>
            <p:ph type="body"/>
          </p:nvPr>
        </p:nvSpPr>
        <p:spPr>
          <a:xfrm>
            <a:off x="685800" y="3641400"/>
            <a:ext cx="5486400" cy="4608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Qué es necesario para ser un  líder?  ¿Puede alguien hacerlo? Demos una mirada al perfil de una líder exitosa en reuniones. Piense por un momento acerca de algunas personas en su iglesia, trabajo, o en su asociación que son líderes. ¿Qué líderes se destacan en su mente? Mientras piensa en diferentes estilos de liderazgo, considere qué estilo de liderazgo utiliza él o ella. Hay ciertas habilidades y características que la ayudarán a ser más exitosa no importa el estilo de liderazgo que usted teng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Mientras hacemos una lista de estas características, haga una lista propia para ver si posee estas características de liderazgo. Si no, trabaje para lograrl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BUEN COMUNICADOR</a:t>
            </a:r>
            <a:r>
              <a:rPr b="1" lang="es-AR" sz="1200" spc="-1" strike="noStrike">
                <a:solidFill>
                  <a:srgbClr val="000000"/>
                </a:solidFill>
                <a:latin typeface="Times New Roman"/>
              </a:rPr>
              <a:t>.</a:t>
            </a:r>
            <a:r>
              <a:rPr b="0" lang="es-AR" sz="1200" spc="-1" strike="noStrike">
                <a:solidFill>
                  <a:srgbClr val="000000"/>
                </a:solidFill>
                <a:latin typeface="Times New Roman"/>
              </a:rPr>
              <a:t>  Sea capaz de comunicar sus ideas, las metas de su organización, y la dirección en la cual necesita funcionar la reunión. Habilidades tales como la de poder hablar con soltura, claridad de pensamiento, darle relevancia al tema, y sensibilidad hacia las preocupaciones de otros, son tan solo unas pocas características en las cuales debiera concentrar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IMPARCIALIDAD.</a:t>
            </a:r>
            <a:r>
              <a:rPr b="1" lang="es-AR" sz="1200" spc="-1" strike="noStrike">
                <a:solidFill>
                  <a:srgbClr val="000000"/>
                </a:solidFill>
                <a:latin typeface="Times New Roman"/>
              </a:rPr>
              <a:t> </a:t>
            </a:r>
            <a:r>
              <a:rPr b="0" lang="es-AR" sz="1200" spc="-1" strike="noStrike">
                <a:solidFill>
                  <a:srgbClr val="000000"/>
                </a:solidFill>
                <a:latin typeface="Times New Roman"/>
              </a:rPr>
              <a:t>Esté abierta a las ideas y sugerencias de otros miembros de la comisión. Aprenda a considerar todos los aspectos antes de arribar a conclus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PACIENCIA.</a:t>
            </a:r>
            <a:r>
              <a:rPr b="0" lang="es-AR" sz="1200" spc="-1" strike="noStrike">
                <a:solidFill>
                  <a:srgbClr val="000000"/>
                </a:solidFill>
                <a:latin typeface="Times New Roman"/>
              </a:rPr>
              <a:t>  Ésta es una característica importante como miembro de una comisión o junta, y especialmente cuando se encuentra en un rol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ENFOQUE</a:t>
            </a:r>
            <a:r>
              <a:rPr b="0" lang="es-AR" sz="1200" spc="-1" strike="noStrike">
                <a:solidFill>
                  <a:srgbClr val="000000"/>
                </a:solidFill>
                <a:latin typeface="Times New Roman"/>
              </a:rPr>
              <a:t>.  Para mantener la reunión o grupo en el blanco, cuando una discusión comienza a irse por las ramas, un líder efectivo necesita algunas veces re dirigir el foco de la atención de los miembros para poder cumplir con los objetiv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TACTO.  </a:t>
            </a:r>
            <a:r>
              <a:rPr b="0" lang="es-AR" sz="1200" spc="-1" strike="noStrike">
                <a:solidFill>
                  <a:srgbClr val="000000"/>
                </a:solidFill>
                <a:latin typeface="Times New Roman"/>
              </a:rPr>
              <a:t>La palabra correcta dicha en la forma correcta puede ser una gran ventaja para un lí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CALMA BAJO PRESIÓN.</a:t>
            </a:r>
            <a:r>
              <a:rPr b="0" i="1" lang="es-AR" sz="1200" spc="-1" strike="noStrike">
                <a:solidFill>
                  <a:srgbClr val="000000"/>
                </a:solidFill>
                <a:latin typeface="Times New Roman"/>
              </a:rPr>
              <a:t>  </a:t>
            </a:r>
            <a:r>
              <a:rPr b="0" lang="es-AR" sz="1200" spc="-1" strike="noStrike">
                <a:solidFill>
                  <a:srgbClr val="000000"/>
                </a:solidFill>
                <a:latin typeface="Times New Roman"/>
              </a:rPr>
              <a:t>Poder ser desafiada, permitir que se critiquen sus ideas, y todavía permanecer calma a pesar de esto, es una característica importante en un buen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VEA EL HUMOR EN CIERTAS SITUACIONES. </a:t>
            </a:r>
            <a:r>
              <a:rPr b="0" lang="es-AR" sz="1200" spc="-1" strike="noStrike">
                <a:solidFill>
                  <a:srgbClr val="000000"/>
                </a:solidFill>
                <a:latin typeface="Times New Roman"/>
              </a:rPr>
              <a:t>¿No admira a la gente que puede reírse de sí misma o por algo que hayan dicho o hecho por error? Es importante en una posición de liderazgo poder reírse de algo, olvidarlo, y seguir adela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Times New Roman"/>
              </a:rPr>
              <a:t>HABILIDAD ANALÍTICA.</a:t>
            </a:r>
            <a:r>
              <a:rPr b="0" lang="es-AR" sz="1200" spc="-1" strike="noStrike">
                <a:solidFill>
                  <a:srgbClr val="000000"/>
                </a:solidFill>
                <a:latin typeface="Times New Roman"/>
              </a:rPr>
              <a:t>  un líder efectivo debe saber cómo manejar una situación con rapidez detectando los factores más importantes sin gastar mucho tiempo precioso en discusiones innecesari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hora que conoce ocho características importantes, vuelva atrás, y añada las características más importantes en el liderazgo cristiano:</a:t>
            </a:r>
            <a:r>
              <a:rPr b="1" lang="es-AR" sz="1200" spc="-1" strike="noStrike">
                <a:solidFill>
                  <a:srgbClr val="000000"/>
                </a:solidFill>
                <a:latin typeface="Times New Roman"/>
              </a:rPr>
              <a:t> </a:t>
            </a:r>
            <a:r>
              <a:rPr b="1" i="1" lang="es-AR" sz="1200" spc="-1" strike="noStrike">
                <a:solidFill>
                  <a:srgbClr val="000000"/>
                </a:solidFill>
                <a:latin typeface="Times New Roman"/>
              </a:rPr>
              <a:t>permitir la dirección del Espíritu Santo en su vida</a:t>
            </a:r>
            <a:r>
              <a:rPr b="1" lang="es-AR" sz="1200" spc="-1" strike="noStrike">
                <a:solidFill>
                  <a:srgbClr val="000000"/>
                </a:solidFill>
                <a:latin typeface="Times New Roman"/>
              </a:rPr>
              <a:t>. </a:t>
            </a:r>
            <a:r>
              <a:rPr b="0" lang="es-AR" sz="1200" spc="-1" strike="noStrike">
                <a:solidFill>
                  <a:srgbClr val="000000"/>
                </a:solidFill>
                <a:latin typeface="Times New Roman"/>
              </a:rPr>
              <a:t>  Los lideres cristianos dinámicos, nunca se acercan a una reunión sin haber orado por los puntos de la agenda, pidiendo a Dios que los guíe y les de discernimiento. También comienzan sus reuniones con oración y mantienen un espíritu de oración al progresar la reunión.  Desean que el Señor haga conocer su voluntad a través de su Espíritu Santo en todo momento, no solamente al líder sino a cada miembro.  </a:t>
            </a:r>
            <a:r>
              <a:rPr b="1" i="1" lang="es-AR" sz="1200" spc="-1" strike="noStrike">
                <a:solidFill>
                  <a:srgbClr val="000000"/>
                </a:solidFill>
                <a:latin typeface="Times New Roman"/>
              </a:rPr>
              <a:t>Ser dirigido por el Espíritu Santo es la mejor y más importante caracterís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Yo creo que si nostras pedimos al Espíritu Santo que nos guíe en nuestras reuniones, entonces podemos desarrollar otras características necesarias, también. Puede ser que no poseamos todas ellas en la medida que quisiéramos al comenzar nuestro liderazgo, pero podemos caminar hacia esa meta. Podemos analizar nuestras habilidades de liderazgo y ver cuáles son nuestras fortalezas y debilidades. Si somos concientes de esas áreas en las que necesitamos crecer, y trabajamos sobre ellas, entonces el Señor nos ayudará a ser fuertes en todas las áreas donde es importante que lo seam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or supuesto, nadie comienza liderando con todas y cada una de estas características completamente desarrolladas. Pero, deténgase y analice. Adquiera conciencia de las áreas que necesitan ser fortalecidas. Determine como crecer en esas áreas.  A continuación presentamos unas pocas maneras de comenzar a desarrollar características más firmes de lideraz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OBSERVE A OTROS. </a:t>
            </a:r>
            <a:r>
              <a:rPr b="0" lang="es-AR" sz="1200" spc="-1" strike="noStrike">
                <a:solidFill>
                  <a:srgbClr val="000000"/>
                </a:solidFill>
                <a:latin typeface="Times New Roman"/>
              </a:rPr>
              <a:t>Observe a otros líderes y vea qué es lo que les da resultad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EA</a:t>
            </a:r>
            <a:r>
              <a:rPr b="0" lang="es-AR" sz="1200" spc="-1" strike="noStrike">
                <a:solidFill>
                  <a:srgbClr val="000000"/>
                </a:solidFill>
                <a:latin typeface="Times New Roman"/>
              </a:rPr>
              <a:t>.  Se han publicado muchos buenos libros sobre liderazgo para guiarl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ntes de lo que piensa, las cosas que ha observado o de las cuales ha leído serán integradas en su propio estilo personal de liderazg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Existen otras características importantes de un buen líder. No se desarrollan de la noche a la mañana y se necesita un compromiso de su parte si realmente queremos que nos ayuden a transformarnos en líderes efec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POYE A SUS MIEMBROS</a:t>
            </a:r>
            <a:r>
              <a:rPr b="0" lang="es-AR" sz="1200" spc="-1" strike="noStrike">
                <a:solidFill>
                  <a:srgbClr val="000000"/>
                </a:solidFill>
                <a:latin typeface="Times New Roman"/>
              </a:rPr>
              <a:t>. Los buenos líderes siempre apoyan a sus miembros y los animan a participar y compartir sus ideas. Son abiertos y están deseosos de aprender de otros miembros de la comisión o junta. Aprovechan la oportunidad para animar a un miembro que presenta ideas o soluciones. .  Nunca interrumpen, hablan con dureza, critican, o dan una reprimenda en públ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SEA UN FACILITADOR PRECEPTIVO</a:t>
            </a:r>
            <a:r>
              <a:rPr b="0" lang="es-AR" sz="1200" spc="-1" strike="noStrike">
                <a:solidFill>
                  <a:srgbClr val="000000"/>
                </a:solidFill>
                <a:latin typeface="Times New Roman"/>
              </a:rPr>
              <a:t>. Un buen líder puede ser catalizador de la reunión haciendo las preguntas correctas, o proponiendo ideas al grupo para estimular discusiones o permitirles que contemplen todas las posibilidades. El líder debe, sin embargo, conocer todos los detalles importantes presentados y captar el sentimiento general de los puntos de vista de los miembros de la comisión. Sabrá cuando iniciar un debate y cuando hacerse a un lado y permitir que los miembros trabajen juntos en una discusión apropia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LIDERE, NO CONTROLE</a:t>
            </a:r>
            <a:r>
              <a:rPr b="0" lang="es-AR" sz="1200" spc="-1" strike="noStrike">
                <a:solidFill>
                  <a:srgbClr val="000000"/>
                </a:solidFill>
                <a:latin typeface="Times New Roman"/>
              </a:rPr>
              <a:t>.  Un buen líder no controlará cada fase de la reunión ni intentará hacer que los miembros vean las cosas desde su perspectiva.  Si usted está hablando más del 50 % de lo que se dice, entonces está controlando demasiado. Todos los miembros tienen una voz para determinar los resultados finales de una reunión. Si usted tiene tanto para comunicar, póngalo por escrito; un memo o boletín informativo sería la forma ideal de compartir sus pensamientos así no tendrá que hacer perder tiempo a los miembros de la comisión ni el dinero de la igles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TOME BUEN REGISTRO</a:t>
            </a:r>
            <a:r>
              <a:rPr b="0" lang="es-AR" sz="1200" spc="-1" strike="noStrike">
                <a:solidFill>
                  <a:srgbClr val="000000"/>
                </a:solidFill>
                <a:latin typeface="Times New Roman"/>
              </a:rPr>
              <a:t>. Usted debe registrar todo lo que ocurre durante su reunión; temas discutidos, decisiones tomadas, y también cómo se relacionan los participantes entre sí. También se debieran notar comentarios especiales. Esto la ayudará a percibir la posición de ciertos individuos en futuras reuniones. Esta es su cuenta personal de las reuniones; sus observaciones, y éstas debieran ayudarla en el futuro para poder mejorar sus reuniones. No confunda estas notas con las minutas de la reunión. Eso lo comentaremos más adel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ONSIGA ENTRENAMIENTO ADICIONAL</a:t>
            </a:r>
            <a:r>
              <a:rPr b="0" lang="es-AR" sz="1200" spc="-1" strike="noStrike">
                <a:solidFill>
                  <a:srgbClr val="000000"/>
                </a:solidFill>
                <a:latin typeface="Times New Roman"/>
              </a:rPr>
              <a:t>.  Nunca podrá aprender lo suficiente. Inscríbase en seminarios o tome cursos en la universidad sobre funciones de liderazgo para capacitarse para desenvolverse bien y desarrollar las habilidades con las que Dios la ha bende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USTED LO PUEDE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unca piense que no tiene nada significativo para ofrecer como líder. Como mujer cristiana, usted puede salir adelante para lograr el máximo de sus capacidades con la ayuda de Dios. La Directora de los Ministerios de la Mujer de la Asociación General nunca soñó que el Señor le daría a ella las oportunidades que ha tenido en su servicio. Él le ha dado a ella oportunidades para trabajar y responsabilidades en aumento, para ampliar su círculo de responsabilidades, y para avanzar en áreas desconocidas que ella nunca imaginó. ¡Él puede hacer lo mismo por u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ios nos ha bendecido, y como resultado han sucedido cosas maravillosas en los Ministerios de la Mujer en todo el mundo.  Nunca diga que usted no podrá llegar a ser líder. Usted puede ejercer una gran influencia. Tan solo pula sus habilidades. Comience con poco. Ofrézcase para servir en una comisión. Lentamente construya sus habilidades de participación en comisiones. Mientras decide qué estilos de liderazgos puede admirar y resultar cómodos para usted. Comience a ponerlos en práctica y con mucha dedicación, podrá llegar a ser una líder efectiva.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584360" y="743040"/>
            <a:ext cx="3765600" cy="2824200"/>
          </a:xfrm>
          <a:prstGeom prst="rect">
            <a:avLst/>
          </a:prstGeom>
          <a:ln w="0">
            <a:noFill/>
          </a:ln>
        </p:spPr>
      </p:sp>
      <p:sp>
        <p:nvSpPr>
          <p:cNvPr id="151" name="PlaceHolder 2"/>
          <p:cNvSpPr>
            <a:spLocks noGrp="1"/>
          </p:cNvSpPr>
          <p:nvPr>
            <p:ph type="body"/>
          </p:nvPr>
        </p:nvSpPr>
        <p:spPr>
          <a:xfrm>
            <a:off x="685800" y="3641760"/>
            <a:ext cx="5486400" cy="49053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CÓMO SER UN LÍDER EFECTIVO A PESAR DE TENER QUE RESOLVER ASUNTOS PROBLEMÁTIC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 veces usted sabe antes de ir a una reunión que un asunto a tratar será más bien controversial. Podría ser bueno ventilar el tema abiertamente antes de ir a la reunión. Hablar individualmente con las personas con puntos de vista fuertemente opuestos, escuchar los diferentes bandos, y ofrecer cualquier comentario o consejo que pueda tener. Solicite su cooperación. Dígales que desea tener un buen espíritu en la reunión y que no desea que este tema en particular los lleve a una confrontación en la junta o comisión. Pídales su ayud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Una habilidad que debiera desarrollar es la de hablar con miembros claves de la comisión o junta antes de tratar un punto muy importante. Esto no debiera ser un esfuerzo para emplazar un voto, sino más bien un esfuerzo por informar a los miembros con anticipación de asuntos importantes  de modo que pueda ganar su apoyo y evitar pérdida de tiempo discutiendo o comentando innecesariamente. Esto definidamente la podrá ayudar a evitar problemas y le permitirá mantener la armonía durante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ómo puede liderar y resolver efectivamente una reunión que se pone complicada por tratarse temas delicados con posibilidades de confrontaciones y puntos de vista opuestos entre los miembros? Presentamos a continuación algunos indicado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RP-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STABLEZCA UNA COMISIÓN ESPECIAL. </a:t>
            </a:r>
            <a:r>
              <a:rPr b="0" lang="es-AR" sz="1200" spc="-1" strike="noStrike">
                <a:solidFill>
                  <a:srgbClr val="000000"/>
                </a:solidFill>
                <a:latin typeface="Times New Roman"/>
              </a:rPr>
              <a:t>Para buscar alternativas y posibilidades e informar al resto del grup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IDA AYUDA A UNA AUTORIDAD MÁS ALTA. </a:t>
            </a:r>
            <a:r>
              <a:rPr b="0" lang="es-AR" sz="1200" spc="-1" strike="noStrike">
                <a:solidFill>
                  <a:srgbClr val="000000"/>
                </a:solidFill>
                <a:latin typeface="Times New Roman"/>
              </a:rPr>
              <a:t>Para que la ayude a tomar una decisión o establecer pauta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VOTE Y PERMITA QUE GANE LA MAYORÍA. </a:t>
            </a:r>
            <a:r>
              <a:rPr b="0" lang="es-AR" sz="1200" spc="-1" strike="noStrike">
                <a:solidFill>
                  <a:srgbClr val="000000"/>
                </a:solidFill>
                <a:latin typeface="Times New Roman"/>
              </a:rPr>
              <a:t>Recuerde, sin embargo, que se debiera permitir suficiente tiempo para que todas las partes presenten sus argument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PERMANTE</a:t>
            </a:r>
            <a:r>
              <a:rPr b="0" lang="es-AR" sz="1200" spc="-1" strike="noStrike">
                <a:solidFill>
                  <a:srgbClr val="000000"/>
                </a:solidFill>
                <a:latin typeface="Times New Roman"/>
              </a:rPr>
              <a:t>. A menudo tendrá que permitir que los más locuaces en presentar objeciones tengan más tiempo para presentar sus preocupaciones o solu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OSPONGA LA REUNIÓN</a:t>
            </a:r>
            <a:r>
              <a:rPr b="0" lang="es-AR" sz="1200" spc="-1" strike="noStrike">
                <a:solidFill>
                  <a:srgbClr val="000000"/>
                </a:solidFill>
                <a:latin typeface="Times New Roman"/>
              </a:rPr>
              <a:t> hasta que alguien que tiene más experiencia en el tema sobre el cual están debatiendo, pueda hablar al grupo antes de la siguiente reunión.  Se espera que así podrán estar mejor informados para apoyar cualquier punto de vista y ayudar al proceso de tomar una deci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ALCANCE UN COMPROMISO TEMPORARIO. </a:t>
            </a:r>
            <a:r>
              <a:rPr b="0" lang="es-AR" sz="1200" spc="-1" strike="noStrike">
                <a:solidFill>
                  <a:srgbClr val="000000"/>
                </a:solidFill>
                <a:latin typeface="Times New Roman"/>
              </a:rPr>
              <a:t>  Decida probar una opción por un período de tiempo específico. Vea como marchan las cosas antes de decidir aceptar o rechazar la opción. Si es necesario, pruebe con otr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ELIMINE LAS SOLUCIONES POSIBLES QUE ESTÁN EN DISCUSIÓN Y SUGIERA ALGO TOTALMENTE DIFERENTE.  </a:t>
            </a:r>
            <a:r>
              <a:rPr b="0" lang="es-AR" sz="1200" spc="-1" strike="noStrike">
                <a:solidFill>
                  <a:srgbClr val="000000"/>
                </a:solidFill>
                <a:latin typeface="Times New Roman"/>
              </a:rPr>
              <a:t>Algunas veces se puede resolver un conflicto cuando no se utiliza ninguna de las opciones discutidas, sino una opción que sea más adecuada para solucionar el t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Cosas importantes para recordar cuando se trata de lograr un equipo armonioso durante sesiones en las que se necesita resolver un problem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enga toda la información  pertinente antes de traer el punto de agenda a la reun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ga un torbellino de ideas. Esté abierta a todas las opcion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libertad para que el grupo exprese sus ideas. Hacer un torbellino de ideas puede ser muy  productivo, generando ideas en un corto período de tiempo. Asegúrese de que todos comprenden el problema, entonces de la oportunidad para que todos compartan sus ideas sin censura. Para ir más rápido, haga una lista de las ideasen un pizarrón y evalúe el valor de cada solu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sofoque las diferencias de opinión y desacuerdos en puntos de vist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Permita que los diferentes lados tengan la misma cantidad de tiempo para presentar sus ide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 permita ataques personales a ningún individu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legue a un consenso en cada punto que se presente antes de seguir adelante con el siguiente punto de la agenda.  Esto no es siempre posible pero si tiene un grupo que trabaja bien entre sí, podrá esperar que se logre la mayor parte del tiempo.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 espacio para un apropiado uso del humor.  Algunas veces ayuda a quebrar tensiones en una sala, cuando los miembros están recargados con asuntos seri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eténgase y hagan una oración cuando vean necesario pedir que Dios los continúe guiand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imes New Roman"/>
              </a:rPr>
              <a:t>PLANIFICACIÓN DE REUNIONE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Hablemos acerca de la planificación de reuniones.  Algunas personas creen que si usted realmente desea lograr algo, necesita tener una reunión.  Otros piensan que las reuniones en realidad impiden que se hagan las cosas o que las frenan, son caras, consumen tiempo, o son un perdedero e tiempo valioso. El gasto de tiempo, esfuerzo y dinero puede valer la pena si la gente involucrada aprovecha las oportunidades que provee la reunión.  Por lo tanto, las reuniones bien organizadas no solamente ahorran tiempo, sino también puede mejorar la productividad. Nos ayudan a alcanzar metas y hacer decisiones que ayudarán a que salgan adelante los proyectos. Las reuniones pueden ser los medios más eficientes para asegurar que todos los que están involucrados en un proyecto se mantengan informados y se sientan parte del proceso mediante intercambio de ideas e información. Por lo tanto es muy importante planificar bien las reunion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904C4-D408-4B1E-8C9E-EF8ED7E50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6A3ED-E075-4251-BEC8-414AEBA58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739F7-6055-4699-86A5-873FA1668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926D6-4F55-4922-9ABF-50CF87041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77DC8-A136-4160-B0CA-CDBEE8EA8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849A0-0836-4805-AF26-12E765B27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4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3A1AA-4F1A-4B88-A2F3-C201EE62E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69183-9F2C-4C9A-B952-05B989FFD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47643-8AF1-47B2-965F-299C6C229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20E29-BEC8-414B-91FD-C53D1E79C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1DA76-59FE-427F-8FC1-3F24FB551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10531-C208-4698-B7BA-8755AAEAE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5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51DB1-9E4A-4BA0-B104-776254E80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EC09E-E810-4763-B05F-8E3FC4979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6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B9A33-6A9E-43EB-A261-1980FE158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446CF-F155-4BD7-9521-E3FE3F858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7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7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8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5F095-1554-4C41-B911-C5E75EE15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06FCC-6351-42D2-B590-CB745675B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EBC08-3D19-4057-BD49-052D66326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6F6EF-C0F1-4406-B78D-62D5045D3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0F5E1-D856-42E8-BCE4-3259BF3DE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F1588-BEA3-4E1D-9538-9DECB21D9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F7D67-84CB-4B6E-9D1E-92B7CF3D7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Berling Antiqua"/>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D1B15-E41D-4BA6-8908-025C46B90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Click to edit the outline text format</a:t>
            </a:r>
            <a:endParaRPr b="0" lang="en-US" sz="3600" spc="-1" strike="noStrike">
              <a:solidFill>
                <a:srgbClr val="ffffff"/>
              </a:solidFill>
              <a:latin typeface="Berling Antiqua"/>
            </a:endParaRPr>
          </a:p>
          <a:p>
            <a:pPr lvl="1" marL="572040" indent="-21996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cond Outline Level</a:t>
            </a:r>
            <a:endParaRPr b="0" lang="en-US" sz="3600" spc="-1" strike="noStrike">
              <a:solidFill>
                <a:srgbClr val="ffffff"/>
              </a:solidFill>
              <a:latin typeface="Berling Antiqua"/>
            </a:endParaRPr>
          </a:p>
          <a:p>
            <a:pPr lvl="2" marL="87984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Third Outline Level</a:t>
            </a:r>
            <a:endParaRPr b="0" lang="en-US" sz="3600" spc="-1" strike="noStrike">
              <a:solidFill>
                <a:srgbClr val="ffffff"/>
              </a:solidFill>
              <a:latin typeface="Berling Antiqua"/>
            </a:endParaRPr>
          </a:p>
          <a:p>
            <a:pPr lvl="3" marL="123192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ourth Outline Level</a:t>
            </a:r>
            <a:endParaRPr b="0" lang="en-US" sz="3600" spc="-1" strike="noStrike">
              <a:solidFill>
                <a:srgbClr val="ffffff"/>
              </a:solidFill>
              <a:latin typeface="Berling Antiqua"/>
            </a:endParaRPr>
          </a:p>
          <a:p>
            <a:pPr lvl="4" marL="1584000" indent="-175680">
              <a:spcBef>
                <a:spcPts val="901"/>
              </a:spcBef>
              <a:buClr>
                <a:srgbClr val="ffff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Fifth Outline Level</a:t>
            </a:r>
            <a:endParaRPr b="0" lang="en-US" sz="3600" spc="-1" strike="noStrike">
              <a:solidFill>
                <a:srgbClr val="ffffff"/>
              </a:solidFill>
              <a:latin typeface="Berling Antiqua"/>
            </a:endParaRPr>
          </a:p>
          <a:p>
            <a:pPr lvl="5"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ixth Outline Level</a:t>
            </a:r>
            <a:endParaRPr b="0" lang="en-US" sz="3600" spc="-1" strike="noStrike">
              <a:solidFill>
                <a:srgbClr val="ffffff"/>
              </a:solidFill>
              <a:latin typeface="Berling Antiqua"/>
            </a:endParaRPr>
          </a:p>
          <a:p>
            <a:pPr lvl="6" marL="1584000" indent="-175680">
              <a:spcBef>
                <a:spcPts val="901"/>
              </a:spcBef>
              <a:buClr>
                <a:srgbClr val="bbc2ff"/>
              </a:buClr>
              <a:buFont typeface="Berling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erling Antiqua"/>
              </a:rPr>
              <a:t>Seventh Outline Level</a:t>
            </a:r>
            <a:endParaRPr b="0" lang="en-US" sz="3600" spc="-1" strike="noStrike">
              <a:solidFill>
                <a:srgbClr val="ffffff"/>
              </a:solidFill>
              <a:latin typeface="Berling Antiqu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C14A-DEE1-4423-8A0B-29D3ADF97D72}"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rling Antiqua"/>
              </a:rPr>
              <a:t>Click to edit the title text format</a:t>
            </a:r>
            <a:endParaRPr b="1" lang="en-US" sz="4400" spc="-1" strike="noStrike">
              <a:solidFill>
                <a:srgbClr val="ffffff"/>
              </a:solidFill>
              <a:latin typeface="Berling Antiqua"/>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c2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bc2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8784-4265-4023-9F08-F79F3A4199AA}" type="slidenum">
              <a:rPr b="0" lang="en-US" sz="1400" spc="-1" strike="noStrike">
                <a:solidFill>
                  <a:srgbClr val="bbc2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2120" y="3504960"/>
            <a:ext cx="5029200" cy="2514600"/>
          </a:xfrm>
          <a:prstGeom prst="rect">
            <a:avLst/>
          </a:prstGeom>
          <a:noFill/>
          <a:ln w="0">
            <a:noFill/>
          </a:ln>
        </p:spPr>
        <p:txBody>
          <a:bodyPr lIns="90000" rIns="90000" tIns="46800" bIns="46800" anchor="t">
            <a:normAutofit fontScale="88000"/>
          </a:bodyPr>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Por</a:t>
            </a:r>
            <a:endParaRPr b="0" lang="en-US" sz="2800" spc="-1" strike="noStrike">
              <a:solidFill>
                <a:srgbClr val="ffffff"/>
              </a:solidFill>
              <a:latin typeface="Berling Antiqua"/>
            </a:endParaRPr>
          </a:p>
          <a:p>
            <a:pPr marL="3016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658c0"/>
                </a:solidFill>
                <a:latin typeface="Amerigo BT"/>
              </a:rPr>
              <a:t>Rose Otis</a:t>
            </a:r>
            <a:endParaRPr b="0" lang="en-US" sz="28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Curso de certificación de liderazgo</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Nivel 2</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Ministerio de la mujer</a:t>
            </a:r>
            <a:endParaRPr b="0" lang="en-US" sz="2400" spc="-1" strike="noStrike">
              <a:solidFill>
                <a:srgbClr val="ffffff"/>
              </a:solidFill>
              <a:latin typeface="Berling Antiqua"/>
            </a:endParaRPr>
          </a:p>
          <a:p>
            <a:pPr marL="30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c223a"/>
                </a:solidFill>
                <a:latin typeface="Amerigo BT"/>
              </a:rPr>
              <a:t>Asociación General</a:t>
            </a:r>
            <a:endParaRPr b="0" lang="en-US" sz="2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Sugerencias para resolver problemas</a:t>
            </a:r>
            <a:endParaRPr b="1" lang="en-US" sz="4800" spc="-1" strike="noStrike">
              <a:solidFill>
                <a:srgbClr val="ffffff"/>
              </a:solidFill>
              <a:latin typeface="Berling Antiqua"/>
            </a:endParaRPr>
          </a:p>
        </p:txBody>
      </p:sp>
      <p:sp>
        <p:nvSpPr>
          <p:cNvPr id="114" name="PlaceHolder 2"/>
          <p:cNvSpPr>
            <a:spLocks noGrp="1"/>
          </p:cNvSpPr>
          <p:nvPr>
            <p:ph/>
          </p:nvPr>
        </p:nvSpPr>
        <p:spPr>
          <a:xfrm>
            <a:off x="2209680" y="1752120"/>
            <a:ext cx="5943600" cy="2971800"/>
          </a:xfrm>
          <a:prstGeom prst="rect">
            <a:avLst/>
          </a:prstGeom>
          <a:noFill/>
          <a:ln w="0">
            <a:noFill/>
          </a:ln>
        </p:spPr>
        <p:txBody>
          <a:bodyPr lIns="90000" rIns="90000" tIns="46800" bIns="46800" anchor="t">
            <a:normAutofit/>
          </a:bodyPr>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Defina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nalice el problema</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Gener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Seleccion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mplemente una solución</a:t>
            </a:r>
            <a:endParaRPr b="0" lang="en-US" sz="3200" spc="-1" strike="noStrike">
              <a:solidFill>
                <a:srgbClr val="ffffff"/>
              </a:solidFill>
              <a:latin typeface="Berling Antiqua"/>
            </a:endParaRPr>
          </a:p>
          <a:p>
            <a:pPr marL="343080" indent="-343080">
              <a:lnSpc>
                <a:spcPct val="8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valúe la solución</a:t>
            </a:r>
            <a:endParaRPr b="0" lang="en-US" sz="3200" spc="-1" strike="noStrike">
              <a:solidFill>
                <a:srgbClr val="ffffff"/>
              </a:solidFill>
              <a:latin typeface="Berling Antiqua"/>
            </a:endParaRPr>
          </a:p>
        </p:txBody>
      </p:sp>
      <p:sp>
        <p:nvSpPr>
          <p:cNvPr id="115" name=""/>
          <p:cNvSpPr/>
          <p:nvPr/>
        </p:nvSpPr>
        <p:spPr>
          <a:xfrm>
            <a:off x="2133720" y="16765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400" y="533160"/>
            <a:ext cx="6019920" cy="10141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0033"/>
                </a:solidFill>
                <a:latin typeface="Amerigo BT"/>
              </a:rPr>
              <a:t>Agenda</a:t>
            </a:r>
            <a:endParaRPr b="1" lang="en-US" sz="5400" spc="-1" strike="noStrike">
              <a:solidFill>
                <a:srgbClr val="ffffff"/>
              </a:solidFill>
              <a:latin typeface="Berling Antiqua"/>
            </a:endParaRPr>
          </a:p>
        </p:txBody>
      </p:sp>
      <p:sp>
        <p:nvSpPr>
          <p:cNvPr id="117" name="PlaceHolder 2"/>
          <p:cNvSpPr>
            <a:spLocks noGrp="1"/>
          </p:cNvSpPr>
          <p:nvPr>
            <p:ph/>
          </p:nvPr>
        </p:nvSpPr>
        <p:spPr>
          <a:xfrm>
            <a:off x="533520" y="1676160"/>
            <a:ext cx="6781680" cy="480060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Nombre de la comisión</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ug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Fech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AGENDA”</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sta en orden de los puntos </a:t>
            </a:r>
            <a:endParaRPr b="0" lang="en-US" sz="4000" spc="-1" strike="noStrike">
              <a:solidFill>
                <a:srgbClr val="ffffff"/>
              </a:solidFill>
              <a:latin typeface="Berling Antiqua"/>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	</a:t>
            </a:r>
            <a:r>
              <a:rPr b="0" lang="es-ES" sz="4000" spc="-1" strike="noStrike">
                <a:solidFill>
                  <a:srgbClr val="2c223a"/>
                </a:solidFill>
                <a:latin typeface="Amerigo Md BT"/>
              </a:rPr>
              <a:t>a tratar</a:t>
            </a:r>
            <a:endParaRPr b="0" lang="en-US" sz="4000" spc="-1" strike="noStrike">
              <a:solidFill>
                <a:srgbClr val="ffffff"/>
              </a:solidFill>
              <a:latin typeface="Berling Antiqua"/>
            </a:endParaRPr>
          </a:p>
          <a:p>
            <a:pPr marL="315360" indent="-315360">
              <a:lnSpc>
                <a:spcPct val="9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t>
            </a:r>
            <a:r>
              <a:rPr b="0" lang="es-ES" sz="4000" spc="-1" strike="noStrike">
                <a:solidFill>
                  <a:srgbClr val="2c223a"/>
                </a:solidFill>
                <a:latin typeface="Amerigo Md BT"/>
              </a:rPr>
              <a:t>CLAUSURA”</a:t>
            </a:r>
            <a:endParaRPr b="0" lang="en-US" sz="4000" spc="-1" strike="noStrike">
              <a:solidFill>
                <a:srgbClr val="ffffff"/>
              </a:solidFill>
              <a:latin typeface="Berling Antiqua"/>
            </a:endParaRPr>
          </a:p>
        </p:txBody>
      </p:sp>
      <p:sp>
        <p:nvSpPr>
          <p:cNvPr id="118" name=""/>
          <p:cNvSpPr/>
          <p:nvPr/>
        </p:nvSpPr>
        <p:spPr>
          <a:xfrm>
            <a:off x="2590920" y="144792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eparación para la reunión</a:t>
            </a:r>
            <a:endParaRPr b="1" lang="en-US" sz="4800" spc="-1" strike="noStrike">
              <a:solidFill>
                <a:srgbClr val="ffffff"/>
              </a:solidFill>
              <a:latin typeface="Berling Antiqua"/>
            </a:endParaRPr>
          </a:p>
        </p:txBody>
      </p:sp>
      <p:sp>
        <p:nvSpPr>
          <p:cNvPr id="120" name="PlaceHolder 2"/>
          <p:cNvSpPr>
            <a:spLocks noGrp="1"/>
          </p:cNvSpPr>
          <p:nvPr>
            <p:ph/>
          </p:nvPr>
        </p:nvSpPr>
        <p:spPr>
          <a:xfrm>
            <a:off x="2133720" y="1905120"/>
            <a:ext cx="4114800" cy="441936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c223a"/>
                </a:solidFill>
                <a:latin typeface="Amerigo Md BT"/>
              </a:rPr>
              <a:t>Ensaye</a:t>
            </a:r>
            <a:r>
              <a:rPr b="0" lang="es-ES" sz="3200" spc="-1" strike="noStrike">
                <a:solidFill>
                  <a:srgbClr val="2c223a"/>
                </a:solidFill>
                <a:latin typeface="Amerigo Md BT"/>
              </a:rPr>
              <a:t>:</a:t>
            </a:r>
            <a:endParaRPr b="0" lang="en-US" sz="3200" spc="-1" strike="noStrike">
              <a:solidFill>
                <a:srgbClr val="ffffff"/>
              </a:solidFill>
              <a:latin typeface="Berling Antiqu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un espej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Frente a su esposo</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 grabador</a:t>
            </a:r>
            <a:endParaRPr b="0" lang="en-US" sz="3200" spc="-1" strike="noStrike">
              <a:solidFill>
                <a:srgbClr val="ffffff"/>
              </a:solidFill>
              <a:latin typeface="Berling Antiqua"/>
            </a:endParaRPr>
          </a:p>
          <a:p>
            <a:pPr marL="335880" indent="-335880">
              <a:lnSpc>
                <a:spcPct val="9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Utilizando una cámara de video</a:t>
            </a:r>
            <a:endParaRPr b="0" lang="en-US" sz="3200" spc="-1" strike="noStrike">
              <a:solidFill>
                <a:srgbClr val="ffffff"/>
              </a:solidFill>
              <a:latin typeface="Berling Antiqua"/>
            </a:endParaRPr>
          </a:p>
        </p:txBody>
      </p:sp>
      <p:sp>
        <p:nvSpPr>
          <p:cNvPr id="121" name=""/>
          <p:cNvSpPr/>
          <p:nvPr/>
        </p:nvSpPr>
        <p:spPr>
          <a:xfrm>
            <a:off x="2133720" y="17524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609120"/>
            <a:ext cx="7467480" cy="8384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físico</a:t>
            </a:r>
            <a:endParaRPr b="1" lang="en-US" sz="4400" spc="-1" strike="noStrike">
              <a:solidFill>
                <a:srgbClr val="ffffff"/>
              </a:solidFill>
              <a:latin typeface="Berling Antiqua"/>
            </a:endParaRPr>
          </a:p>
        </p:txBody>
      </p:sp>
      <p:sp>
        <p:nvSpPr>
          <p:cNvPr id="123"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fontScale="90000"/>
          </a:bodyPr>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Necesitas reservar la sal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tamaño de sala necesita?</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Qué clase de equipo necesita?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Funcionan los equipos y tiene todo lo que necesita? Pruebe los equipos. </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ienen papel y lápiz disponible? Asegúrese de ello antes que comience la reunión.</a:t>
            </a:r>
            <a:endParaRPr b="0" lang="en-US" sz="3400" spc="-1" strike="noStrike">
              <a:solidFill>
                <a:srgbClr val="ffffff"/>
              </a:solidFill>
              <a:latin typeface="Berling Antiqua"/>
            </a:endParaRPr>
          </a:p>
          <a:p>
            <a:pPr marL="617040" indent="-617040">
              <a:lnSpc>
                <a:spcPct val="90000"/>
              </a:lnSpc>
              <a:spcBef>
                <a:spcPts val="850"/>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2c223a"/>
                </a:solidFill>
                <a:latin typeface="Amerigo Md BT"/>
              </a:rPr>
              <a:t>Tenga jarras con agua y vasos para que los miembros puedan tomar.</a:t>
            </a:r>
            <a:endParaRPr b="0" lang="en-US" sz="3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480"/>
            <a:ext cx="6782040" cy="1014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Arreglo del ambiente Cont.</a:t>
            </a:r>
            <a:endParaRPr b="1" lang="en-US" sz="4400" spc="-1" strike="noStrike">
              <a:solidFill>
                <a:srgbClr val="ffffff"/>
              </a:solidFill>
              <a:latin typeface="Berling Antiqua"/>
            </a:endParaRPr>
          </a:p>
        </p:txBody>
      </p:sp>
      <p:sp>
        <p:nvSpPr>
          <p:cNvPr id="125" name="PlaceHolder 2"/>
          <p:cNvSpPr>
            <a:spLocks noGrp="1"/>
          </p:cNvSpPr>
          <p:nvPr>
            <p:ph/>
          </p:nvPr>
        </p:nvSpPr>
        <p:spPr>
          <a:xfrm>
            <a:off x="761760" y="1904760"/>
            <a:ext cx="8001000" cy="4343400"/>
          </a:xfrm>
          <a:prstGeom prst="rect">
            <a:avLst/>
          </a:prstGeom>
          <a:noFill/>
          <a:ln w="0">
            <a:noFill/>
          </a:ln>
        </p:spPr>
        <p:txBody>
          <a:bodyPr lIns="90000" rIns="90000" tIns="46800" bIns="46800" anchor="t">
            <a:normAutofit fontScale="87000"/>
          </a:bodyPr>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acústica de la sala? ¿Necesitará micrófon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tán arregladas las  mesas?  ¿Permiten un buen contacto visual e interacción?</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cartelitos preparados para ubicar a los miembros de la comisión en el lugar correcto?</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Cómo es la temperatura de la sala?</a:t>
            </a:r>
            <a:endParaRPr b="0" lang="en-US" sz="3000" spc="-1" strike="noStrike">
              <a:solidFill>
                <a:srgbClr val="ffffff"/>
              </a:solidFill>
              <a:latin typeface="Berling Antiqua"/>
            </a:endParaRPr>
          </a:p>
          <a:p>
            <a:pPr marL="596520" indent="-596520">
              <a:lnSpc>
                <a:spcPct val="90000"/>
              </a:lnSpc>
              <a:spcBef>
                <a:spcPts val="75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2c223a"/>
                </a:solidFill>
                <a:latin typeface="Amerigo Md BT"/>
              </a:rPr>
              <a:t>¿Tiene alguna otra necesidad especial en relación al espacio físico para su reunión?</a:t>
            </a:r>
            <a:endParaRPr b="0" lang="en-US" sz="3000" spc="-1" strike="noStrike">
              <a:solidFill>
                <a:srgbClr val="ffffff"/>
              </a:solidFill>
              <a:latin typeface="Berling Antiqua"/>
            </a:endParaRPr>
          </a:p>
        </p:txBody>
      </p:sp>
      <p:sp>
        <p:nvSpPr>
          <p:cNvPr id="126" name=""/>
          <p:cNvSpPr/>
          <p:nvPr/>
        </p:nvSpPr>
        <p:spPr>
          <a:xfrm>
            <a:off x="213372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361960" y="30492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organizar y desarrollar la reunión</a:t>
            </a:r>
            <a:endParaRPr b="1" lang="en-US" sz="4400" spc="-1" strike="noStrike">
              <a:solidFill>
                <a:srgbClr val="ffffff"/>
              </a:solidFill>
              <a:latin typeface="Berling Antiqua"/>
            </a:endParaRPr>
          </a:p>
        </p:txBody>
      </p:sp>
      <p:sp>
        <p:nvSpPr>
          <p:cNvPr id="128"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y termine la reunión en la hora marca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Tenga una agend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Inicie con una oración.</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éngase calma.</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No ande con rodeos.</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Lleguen a un consenso</a:t>
            </a:r>
            <a:endParaRPr b="0" lang="en-US" sz="3200" spc="-1" strike="noStrike">
              <a:solidFill>
                <a:srgbClr val="ffffff"/>
              </a:solidFill>
              <a:latin typeface="Berling Antiqua"/>
            </a:endParaRPr>
          </a:p>
          <a:p>
            <a:pPr marL="308520" indent="-308520">
              <a:lnSpc>
                <a:spcPct val="100000"/>
              </a:lnSpc>
              <a:spcBef>
                <a:spcPts val="799"/>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Mantenga un registro de </a:t>
            </a:r>
            <a:endParaRPr b="0" lang="en-US" sz="3200" spc="-1" strike="noStrike">
              <a:solidFill>
                <a:srgbClr val="ffffff"/>
              </a:solidFill>
              <a:latin typeface="Berling Antiqua"/>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	</a:t>
            </a:r>
            <a:r>
              <a:rPr b="0" lang="es-ES" sz="3200" spc="-1" strike="noStrike">
                <a:solidFill>
                  <a:srgbClr val="2c223a"/>
                </a:solidFill>
                <a:latin typeface="Amerigo Md BT"/>
              </a:rPr>
              <a:t>la reunión.</a:t>
            </a:r>
            <a:endParaRPr b="0" lang="en-US" sz="3200" spc="-1" strike="noStrike">
              <a:solidFill>
                <a:srgbClr val="ffffff"/>
              </a:solidFill>
              <a:latin typeface="Berling Antiqua"/>
            </a:endParaRPr>
          </a:p>
        </p:txBody>
      </p:sp>
      <p:sp>
        <p:nvSpPr>
          <p:cNvPr id="129" name=""/>
          <p:cNvSpPr/>
          <p:nvPr/>
        </p:nvSpPr>
        <p:spPr>
          <a:xfrm>
            <a:off x="2057400" y="160020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40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Cómo registrar</a:t>
            </a:r>
            <a:endParaRPr b="1" lang="en-US" sz="4800" spc="-1" strike="noStrike">
              <a:solidFill>
                <a:srgbClr val="ffffff"/>
              </a:solidFill>
              <a:latin typeface="Berling Antiqua"/>
            </a:endParaRPr>
          </a:p>
        </p:txBody>
      </p:sp>
      <p:sp>
        <p:nvSpPr>
          <p:cNvPr id="131" name="PlaceHolder 2"/>
          <p:cNvSpPr>
            <a:spLocks noGrp="1"/>
          </p:cNvSpPr>
          <p:nvPr>
            <p:ph/>
          </p:nvPr>
        </p:nvSpPr>
        <p:spPr>
          <a:xfrm>
            <a:off x="838080" y="1676160"/>
            <a:ext cx="4648320" cy="4724280"/>
          </a:xfrm>
          <a:prstGeom prst="rect">
            <a:avLst/>
          </a:prstGeom>
          <a:noFill/>
          <a:ln w="0">
            <a:noFill/>
          </a:ln>
        </p:spPr>
        <p:txBody>
          <a:bodyPr lIns="90000" rIns="90000" tIns="46800" bIns="46800" anchor="t">
            <a:normAutofit fontScale="92000"/>
          </a:bodyPr>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iembros presente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isiones tom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areas asignadas</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ma de la próxima reunión</a:t>
            </a:r>
            <a:endParaRPr b="0" lang="en-US" sz="3600" spc="-1" strike="noStrike">
              <a:solidFill>
                <a:srgbClr val="ffffff"/>
              </a:solidFill>
              <a:latin typeface="Berling Antiqua"/>
            </a:endParaRPr>
          </a:p>
          <a:p>
            <a:pPr marL="315360" indent="-31536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Fecha de la próxima reunión</a:t>
            </a:r>
            <a:endParaRPr b="0" lang="en-US" sz="3600" spc="-1" strike="noStrike">
              <a:solidFill>
                <a:srgbClr val="ffffff"/>
              </a:solidFill>
              <a:latin typeface="Berling Antiqua"/>
            </a:endParaRPr>
          </a:p>
          <a:p>
            <a:pPr marL="31536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32" name=""/>
          <p:cNvSpPr/>
          <p:nvPr/>
        </p:nvSpPr>
        <p:spPr>
          <a:xfrm>
            <a:off x="2971800" y="1295280"/>
            <a:ext cx="5410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720" y="5335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rocedimiento parlamentario</a:t>
            </a:r>
            <a:endParaRPr b="1" lang="en-US" sz="4800" spc="-1" strike="noStrike">
              <a:solidFill>
                <a:srgbClr val="ffffff"/>
              </a:solidFill>
              <a:latin typeface="Berling Antiqua"/>
            </a:endParaRPr>
          </a:p>
        </p:txBody>
      </p:sp>
      <p:sp>
        <p:nvSpPr>
          <p:cNvPr id="134" name="PlaceHolder 2"/>
          <p:cNvSpPr>
            <a:spLocks noGrp="1"/>
          </p:cNvSpPr>
          <p:nvPr>
            <p:ph/>
          </p:nvPr>
        </p:nvSpPr>
        <p:spPr>
          <a:xfrm>
            <a:off x="761760" y="2742840"/>
            <a:ext cx="7848360" cy="2971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2658c0"/>
                </a:solidFill>
                <a:latin typeface="Amerigo Md BT"/>
              </a:rPr>
              <a:t>Conozca los pormenores de...</a:t>
            </a:r>
            <a:endParaRPr b="0" lang="en-US" sz="3600" spc="-1" strike="noStrike">
              <a:solidFill>
                <a:srgbClr val="ffffff"/>
              </a:solidFill>
              <a:latin typeface="Berling Antiqu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TRATAR CON MOCIONES</a:t>
            </a:r>
            <a:endParaRPr b="0" lang="en-US" sz="3600" spc="-1" strike="noStrike">
              <a:solidFill>
                <a:srgbClr val="ffffff"/>
              </a:solidFill>
              <a:latin typeface="Berling Antiqua"/>
            </a:endParaRPr>
          </a:p>
          <a:p>
            <a:pPr marL="343080" indent="-343080">
              <a:lnSpc>
                <a:spcPct val="10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ÓMO VOTAR</a:t>
            </a:r>
            <a:endParaRPr b="0" lang="en-US" sz="3600" spc="-1" strike="noStrike">
              <a:solidFill>
                <a:srgbClr val="ffffff"/>
              </a:solidFill>
              <a:latin typeface="Berling Antiqua"/>
            </a:endParaRPr>
          </a:p>
        </p:txBody>
      </p:sp>
      <p:sp>
        <p:nvSpPr>
          <p:cNvPr id="135" name=""/>
          <p:cNvSpPr/>
          <p:nvPr/>
        </p:nvSpPr>
        <p:spPr>
          <a:xfrm>
            <a:off x="1981080" y="198108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133360" y="304920"/>
            <a:ext cx="66294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merigo BT"/>
              </a:rPr>
              <a:t>Cómo comunicarse efectivamente en las reuniones</a:t>
            </a:r>
            <a:endParaRPr b="1" lang="en-US" sz="4000" spc="-1" strike="noStrike">
              <a:solidFill>
                <a:srgbClr val="ffffff"/>
              </a:solidFill>
              <a:latin typeface="Berling Antiqua"/>
            </a:endParaRPr>
          </a:p>
        </p:txBody>
      </p:sp>
      <p:sp>
        <p:nvSpPr>
          <p:cNvPr id="137"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1000"/>
          </a:bodyPr>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enga segu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taqu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Sea breve</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eclare sus necesidades con claridad</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No acepte interrupciones</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Vigile su lenguaje corporal</a:t>
            </a:r>
            <a:endParaRPr b="0" lang="en-US" sz="3600" spc="-1" strike="noStrike">
              <a:solidFill>
                <a:srgbClr val="ffffff"/>
              </a:solidFill>
              <a:latin typeface="Berling Antiqua"/>
            </a:endParaRPr>
          </a:p>
          <a:p>
            <a:pPr marL="623880" indent="-623880">
              <a:lnSpc>
                <a:spcPct val="100000"/>
              </a:lnSpc>
              <a:spcBef>
                <a:spcPts val="901"/>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ida respuestas</a:t>
            </a:r>
            <a:endParaRPr b="0" lang="en-US" sz="3600" spc="-1" strike="noStrike">
              <a:solidFill>
                <a:srgbClr val="ffffff"/>
              </a:solidFill>
              <a:latin typeface="Berling Antiqua"/>
            </a:endParaRPr>
          </a:p>
        </p:txBody>
      </p:sp>
      <p:sp>
        <p:nvSpPr>
          <p:cNvPr id="138" name=""/>
          <p:cNvSpPr/>
          <p:nvPr/>
        </p:nvSpPr>
        <p:spPr>
          <a:xfrm>
            <a:off x="2057400" y="15238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880" y="1294920"/>
            <a:ext cx="7925040" cy="487692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Usted puede ser una líder efectiva!</a:t>
            </a:r>
            <a:endParaRPr b="0" lang="en-US" sz="5400" spc="-1" strike="noStrike">
              <a:solidFill>
                <a:srgbClr val="ffffff"/>
              </a:solidFill>
              <a:latin typeface="Berling Antiqu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Oramos para que</a:t>
            </a:r>
            <a:endParaRPr b="0" lang="en-US" sz="5400" spc="-1" strike="noStrike">
              <a:solidFill>
                <a:srgbClr val="ffffff"/>
              </a:solidFill>
              <a:latin typeface="Berling Antiqu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c223a"/>
                </a:solidFill>
                <a:latin typeface="Amerigo Md BT"/>
              </a:rPr>
              <a:t>tenga éxito siempre.</a:t>
            </a:r>
            <a:endParaRPr b="0" lang="en-US" sz="5400" spc="-1" strike="noStrike">
              <a:solidFill>
                <a:srgbClr val="ffffff"/>
              </a:solidFill>
              <a:latin typeface="Berling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133720" y="609480"/>
            <a:ext cx="685800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0" name="PlaceHolder 2"/>
          <p:cNvSpPr>
            <a:spLocks noGrp="1"/>
          </p:cNvSpPr>
          <p:nvPr>
            <p:ph/>
          </p:nvPr>
        </p:nvSpPr>
        <p:spPr>
          <a:xfrm>
            <a:off x="914040" y="2438280"/>
            <a:ext cx="8077320" cy="2362320"/>
          </a:xfrm>
          <a:prstGeom prst="rect">
            <a:avLst/>
          </a:prstGeom>
          <a:noFill/>
          <a:ln w="0">
            <a:noFill/>
          </a:ln>
        </p:spPr>
        <p:txBody>
          <a:bodyPr lIns="90000" rIns="90000" tIns="46800" bIns="46800"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223a"/>
                </a:solidFill>
                <a:latin typeface="Amerigo Md BT"/>
              </a:rPr>
              <a:t>1. </a:t>
            </a:r>
            <a:r>
              <a:rPr b="0" lang="es-ES" sz="3600" spc="-1" strike="noStrike">
                <a:solidFill>
                  <a:srgbClr val="2c223a"/>
                </a:solidFill>
                <a:latin typeface="Amerigo Md BT"/>
              </a:rPr>
              <a:t>Conozca el horario de sus reuniones.</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2.  Revise la agenda antes de la reunión.</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3.  Llegue a tiempo.</a:t>
            </a:r>
            <a:endParaRPr b="0" lang="en-US" sz="3600" spc="-1" strike="noStrike">
              <a:solidFill>
                <a:srgbClr val="ffffff"/>
              </a:solidFill>
              <a:latin typeface="Berling Antiqua"/>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1" name=""/>
          <p:cNvSpPr/>
          <p:nvPr/>
        </p:nvSpPr>
        <p:spPr>
          <a:xfrm>
            <a:off x="1676520" y="1905120"/>
            <a:ext cx="70102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14600" y="3571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de los miembros de la comisión</a:t>
            </a:r>
            <a:endParaRPr b="1" lang="en-US" sz="4400" spc="-1" strike="noStrike">
              <a:solidFill>
                <a:srgbClr val="ffffff"/>
              </a:solidFill>
              <a:latin typeface="Berling Antiqua"/>
            </a:endParaRPr>
          </a:p>
        </p:txBody>
      </p:sp>
      <p:sp>
        <p:nvSpPr>
          <p:cNvPr id="93" name="PlaceHolder 2"/>
          <p:cNvSpPr>
            <a:spLocks noGrp="1"/>
          </p:cNvSpPr>
          <p:nvPr>
            <p:ph/>
          </p:nvPr>
        </p:nvSpPr>
        <p:spPr>
          <a:xfrm>
            <a:off x="1142640" y="2209680"/>
            <a:ext cx="7467480" cy="2895840"/>
          </a:xfrm>
          <a:prstGeom prst="rect">
            <a:avLst/>
          </a:prstGeom>
          <a:noFill/>
          <a:ln w="0">
            <a:noFill/>
          </a:ln>
        </p:spPr>
        <p:txBody>
          <a:bodyPr lIns="90000" rIns="90000" tIns="46800" bIns="46800" anchor="t">
            <a:normAutofit/>
          </a:bodyPr>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Escuche con atención.</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omparta sus puntos de vista.</a:t>
            </a:r>
            <a:endParaRPr b="0" lang="en-US" sz="3600" spc="-1" strike="noStrike">
              <a:solidFill>
                <a:srgbClr val="ffffff"/>
              </a:solidFill>
              <a:latin typeface="Berling Antiqua"/>
            </a:endParaRPr>
          </a:p>
          <a:p>
            <a:pPr marL="685800" indent="-685800">
              <a:lnSpc>
                <a:spcPct val="100000"/>
              </a:lnSpc>
              <a:spcBef>
                <a:spcPts val="901"/>
              </a:spcBef>
              <a:buClr>
                <a:srgbClr val="2c223a"/>
              </a:buClr>
              <a:buFont typeface="Amerigo Md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le oportunidad de hablar a otros miembros.</a:t>
            </a:r>
            <a:endParaRPr b="0" lang="en-US" sz="3600" spc="-1" strike="noStrike">
              <a:solidFill>
                <a:srgbClr val="ffffff"/>
              </a:solidFill>
              <a:latin typeface="Berling Antiqu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94" name=""/>
          <p:cNvSpPr/>
          <p:nvPr/>
        </p:nvSpPr>
        <p:spPr>
          <a:xfrm>
            <a:off x="1676520" y="1752480"/>
            <a:ext cx="69339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466560"/>
            <a:ext cx="64767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6" name="PlaceHolder 2"/>
          <p:cNvSpPr>
            <a:spLocks noGrp="1"/>
          </p:cNvSpPr>
          <p:nvPr>
            <p:ph/>
          </p:nvPr>
        </p:nvSpPr>
        <p:spPr>
          <a:xfrm>
            <a:off x="1066680" y="1905120"/>
            <a:ext cx="7925040" cy="3657600"/>
          </a:xfrm>
          <a:prstGeom prst="rect">
            <a:avLst/>
          </a:prstGeom>
          <a:noFill/>
          <a:ln w="0">
            <a:noFill/>
          </a:ln>
        </p:spPr>
        <p:txBody>
          <a:bodyPr lIns="90000" rIns="90000" tIns="46800" bIns="46800" anchor="t">
            <a:normAutofit fontScale="98000"/>
          </a:bodyPr>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Recuerde sus valores cristiano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Mantenga una actitud de oración.</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Participe de las votaciones.</a:t>
            </a:r>
            <a:endParaRPr b="0" lang="en-US" sz="3600" spc="-1" strike="noStrike">
              <a:solidFill>
                <a:srgbClr val="ffffff"/>
              </a:solidFill>
              <a:latin typeface="Berling Antiqua"/>
            </a:endParaRPr>
          </a:p>
          <a:p>
            <a:pPr marL="671760" indent="-671760">
              <a:lnSpc>
                <a:spcPct val="100000"/>
              </a:lnSpc>
              <a:spcBef>
                <a:spcPts val="901"/>
              </a:spcBef>
              <a:buClr>
                <a:srgbClr val="2c223a"/>
              </a:buClr>
              <a:buFont typeface="Amerigo Md B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Cumpla con las tareas asignadas.</a:t>
            </a:r>
            <a:endParaRPr b="0" lang="en-US" sz="3600" spc="-1" strike="noStrike">
              <a:solidFill>
                <a:srgbClr val="ffffff"/>
              </a:solidFill>
              <a:latin typeface="Berling Antiqua"/>
            </a:endParaRPr>
          </a:p>
        </p:txBody>
      </p:sp>
      <p:sp>
        <p:nvSpPr>
          <p:cNvPr id="97" name=""/>
          <p:cNvSpPr/>
          <p:nvPr/>
        </p:nvSpPr>
        <p:spPr>
          <a:xfrm>
            <a:off x="2362320" y="144792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09680" y="28116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Responsabilidades </a:t>
            </a:r>
            <a:r>
              <a:rPr b="1" lang="es-ES" sz="3600" spc="-1" strike="noStrike">
                <a:solidFill>
                  <a:srgbClr val="990033"/>
                </a:solidFill>
                <a:latin typeface="Amerigo BT"/>
              </a:rPr>
              <a:t>(Cont.)</a:t>
            </a:r>
            <a:endParaRPr b="1" lang="en-US" sz="3600" spc="-1" strike="noStrike">
              <a:solidFill>
                <a:srgbClr val="ffffff"/>
              </a:solidFill>
              <a:latin typeface="Berling Antiqua"/>
            </a:endParaRPr>
          </a:p>
        </p:txBody>
      </p:sp>
      <p:sp>
        <p:nvSpPr>
          <p:cNvPr id="99" name="PlaceHolder 2"/>
          <p:cNvSpPr>
            <a:spLocks noGrp="1"/>
          </p:cNvSpPr>
          <p:nvPr>
            <p:ph/>
          </p:nvPr>
        </p:nvSpPr>
        <p:spPr>
          <a:xfrm>
            <a:off x="838080" y="1905120"/>
            <a:ext cx="7772400" cy="2666880"/>
          </a:xfrm>
          <a:prstGeom prst="rect">
            <a:avLst/>
          </a:prstGeom>
          <a:noFill/>
          <a:ln w="0">
            <a:noFill/>
          </a:ln>
        </p:spPr>
        <p:txBody>
          <a:bodyPr lIns="90000" rIns="90000" tIns="46800" bIns="46800" anchor="t">
            <a:normAutofit fontScale="90000"/>
          </a:bodyPr>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Dé un informe bien pulido de cualquier tema que se le haya pedido.</a:t>
            </a:r>
            <a:endParaRPr b="0" lang="en-US" sz="3600" spc="-1" strike="noStrike">
              <a:solidFill>
                <a:srgbClr val="ffffff"/>
              </a:solidFill>
              <a:latin typeface="Berling Antiqua"/>
            </a:endParaRPr>
          </a:p>
          <a:p>
            <a:pPr marL="617040" indent="-617040">
              <a:lnSpc>
                <a:spcPct val="100000"/>
              </a:lnSpc>
              <a:spcBef>
                <a:spcPts val="901"/>
              </a:spcBef>
              <a:buClr>
                <a:srgbClr val="2c223a"/>
              </a:buClr>
              <a:buFont typeface="Amerigo Md B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c223a"/>
                </a:solidFill>
                <a:latin typeface="Amerigo Md BT"/>
              </a:rPr>
              <a:t>Trabaje para el beneficio de la iglesia u organización.</a:t>
            </a:r>
            <a:endParaRPr b="0" lang="en-US" sz="3600" spc="-1" strike="noStrike">
              <a:solidFill>
                <a:srgbClr val="ffffff"/>
              </a:solidFill>
              <a:latin typeface="Berling Antiqua"/>
            </a:endParaRPr>
          </a:p>
          <a:p>
            <a:pPr marL="61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erling Antiqua"/>
            </a:endParaRPr>
          </a:p>
        </p:txBody>
      </p:sp>
      <p:sp>
        <p:nvSpPr>
          <p:cNvPr id="100" name=""/>
          <p:cNvSpPr/>
          <p:nvPr/>
        </p:nvSpPr>
        <p:spPr>
          <a:xfrm>
            <a:off x="2286000" y="1523880"/>
            <a:ext cx="62485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28116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aracterísticas de liderazgo</a:t>
            </a:r>
            <a:endParaRPr b="1" lang="en-US" sz="4400" spc="-1" strike="noStrike">
              <a:solidFill>
                <a:srgbClr val="ffffff"/>
              </a:solidFill>
              <a:latin typeface="Berling Antiqua"/>
            </a:endParaRPr>
          </a:p>
        </p:txBody>
      </p:sp>
      <p:sp>
        <p:nvSpPr>
          <p:cNvPr id="102" name="PlaceHolder 2"/>
          <p:cNvSpPr>
            <a:spLocks noGrp="1"/>
          </p:cNvSpPr>
          <p:nvPr>
            <p:ph/>
          </p:nvPr>
        </p:nvSpPr>
        <p:spPr>
          <a:xfrm>
            <a:off x="1752480" y="1828440"/>
            <a:ext cx="4114800" cy="4419720"/>
          </a:xfrm>
          <a:prstGeom prst="rect">
            <a:avLst/>
          </a:prstGeom>
          <a:noFill/>
          <a:ln w="0">
            <a:noFill/>
          </a:ln>
        </p:spPr>
        <p:txBody>
          <a:bodyPr lIns="90000" rIns="90000" tIns="46800" bIns="46800" anchor="t">
            <a:normAutofit fontScale="83000"/>
          </a:bodyPr>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comunicad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Imparcialidad</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Paciencia</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Enfoque</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Tacto</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Calma bajo presión</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Buen humor</a:t>
            </a:r>
            <a:endParaRPr b="0" lang="en-US" sz="3600" spc="-1" strike="noStrike">
              <a:solidFill>
                <a:srgbClr val="ffffff"/>
              </a:solidFill>
              <a:latin typeface="Berling Antiqua"/>
            </a:endParaRPr>
          </a:p>
          <a:p>
            <a:pPr marL="284400" indent="-284400">
              <a:lnSpc>
                <a:spcPct val="80000"/>
              </a:lnSpc>
              <a:spcBef>
                <a:spcPts val="9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Habilidad analítica</a:t>
            </a:r>
            <a:endParaRPr b="0" lang="en-US" sz="3600" spc="-1" strike="noStrike">
              <a:solidFill>
                <a:srgbClr val="ffffff"/>
              </a:solidFill>
              <a:latin typeface="Berling Antiqua"/>
            </a:endParaRPr>
          </a:p>
        </p:txBody>
      </p:sp>
      <p:sp>
        <p:nvSpPr>
          <p:cNvPr id="103" name=""/>
          <p:cNvSpPr/>
          <p:nvPr/>
        </p:nvSpPr>
        <p:spPr>
          <a:xfrm>
            <a:off x="2057400" y="144792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808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Otras características importantes</a:t>
            </a:r>
            <a:endParaRPr b="1" lang="en-US" sz="4400" spc="-1" strike="noStrike">
              <a:solidFill>
                <a:srgbClr val="ffffff"/>
              </a:solidFill>
              <a:latin typeface="Berling Antiqua"/>
            </a:endParaRPr>
          </a:p>
        </p:txBody>
      </p:sp>
      <p:sp>
        <p:nvSpPr>
          <p:cNvPr id="105" name="PlaceHolder 2"/>
          <p:cNvSpPr>
            <a:spLocks noGrp="1"/>
          </p:cNvSpPr>
          <p:nvPr>
            <p:ph/>
          </p:nvPr>
        </p:nvSpPr>
        <p:spPr>
          <a:xfrm>
            <a:off x="1447560" y="1980720"/>
            <a:ext cx="6629400" cy="4419720"/>
          </a:xfrm>
          <a:prstGeom prst="rect">
            <a:avLst/>
          </a:prstGeom>
          <a:noFill/>
          <a:ln w="0">
            <a:noFill/>
          </a:ln>
        </p:spPr>
        <p:txBody>
          <a:bodyPr lIns="90000" rIns="90000" tIns="46800" bIns="46800" anchor="t">
            <a:normAutofit fontScale="90000"/>
          </a:bodyPr>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Apoye a sus miembros</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Sea un “facilitador” perceptiv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Lidere, no controle</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Tome buen registro</a:t>
            </a:r>
            <a:endParaRPr b="0" lang="en-US" sz="4000" spc="-1" strike="noStrike">
              <a:solidFill>
                <a:srgbClr val="ffffff"/>
              </a:solidFill>
              <a:latin typeface="Berling Antiqua"/>
            </a:endParaRPr>
          </a:p>
          <a:p>
            <a:pPr marL="308520" indent="-308520">
              <a:lnSpc>
                <a:spcPct val="100000"/>
              </a:lnSpc>
              <a:spcBef>
                <a:spcPts val="1001"/>
              </a:spcBef>
              <a:buClr>
                <a:srgbClr val="2c223a"/>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c223a"/>
                </a:solidFill>
                <a:latin typeface="Amerigo Md BT"/>
              </a:rPr>
              <a:t>Busque entrenamiento adicional</a:t>
            </a:r>
            <a:endParaRPr b="0" lang="en-US" sz="4000" spc="-1" strike="noStrike">
              <a:solidFill>
                <a:srgbClr val="ffffff"/>
              </a:solidFill>
              <a:latin typeface="Berling Antiqua"/>
            </a:endParaRPr>
          </a:p>
        </p:txBody>
      </p:sp>
      <p:sp>
        <p:nvSpPr>
          <p:cNvPr id="106" name=""/>
          <p:cNvSpPr/>
          <p:nvPr/>
        </p:nvSpPr>
        <p:spPr>
          <a:xfrm>
            <a:off x="2895480" y="1752480"/>
            <a:ext cx="5562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533160"/>
            <a:ext cx="73915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33"/>
                </a:solidFill>
                <a:latin typeface="Amerigo BT"/>
              </a:rPr>
              <a:t>Cómo manejar situaciones difíciles</a:t>
            </a:r>
            <a:endParaRPr b="1" lang="en-US" sz="4400" spc="-1" strike="noStrike">
              <a:solidFill>
                <a:srgbClr val="ffffff"/>
              </a:solidFill>
              <a:latin typeface="Berling Antiqua"/>
            </a:endParaRPr>
          </a:p>
        </p:txBody>
      </p:sp>
      <p:sp>
        <p:nvSpPr>
          <p:cNvPr id="108" name="PlaceHolder 2"/>
          <p:cNvSpPr>
            <a:spLocks noGrp="1"/>
          </p:cNvSpPr>
          <p:nvPr>
            <p:ph/>
          </p:nvPr>
        </p:nvSpPr>
        <p:spPr>
          <a:xfrm>
            <a:off x="685440" y="1981080"/>
            <a:ext cx="7924680" cy="4724640"/>
          </a:xfrm>
          <a:prstGeom prst="rect">
            <a:avLst/>
          </a:prstGeom>
          <a:noFill/>
          <a:ln w="0">
            <a:noFill/>
          </a:ln>
        </p:spPr>
        <p:txBody>
          <a:bodyPr lIns="90000" rIns="90000" tIns="46800" bIns="46800" anchor="t">
            <a:normAutofit fontScale="91000"/>
          </a:bodyPr>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stablezca una comisión especial</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ida ayuda a una autoridad más alt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Vote y permita que gane la mayoría</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permanente</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Posponga la reunión </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Alcance un compromiso temporario</a:t>
            </a:r>
            <a:endParaRPr b="0" lang="en-US" sz="3200" spc="-1" strike="noStrike">
              <a:solidFill>
                <a:srgbClr val="ffffff"/>
              </a:solidFill>
              <a:latin typeface="Berling Antiqua"/>
            </a:endParaRPr>
          </a:p>
          <a:p>
            <a:pPr marL="623880" indent="-623880">
              <a:lnSpc>
                <a:spcPct val="100000"/>
              </a:lnSpc>
              <a:spcBef>
                <a:spcPts val="799"/>
              </a:spcBef>
              <a:buClr>
                <a:srgbClr val="2c223a"/>
              </a:buClr>
              <a:buFont typeface="Amerigo M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c223a"/>
                </a:solidFill>
                <a:latin typeface="Amerigo Md BT"/>
              </a:rPr>
              <a:t>Elimine las soluciones posibles que están en discusión y sugiera algo totalmente diferente</a:t>
            </a:r>
            <a:endParaRPr b="0" lang="en-US" sz="3200" spc="-1" strike="noStrike">
              <a:solidFill>
                <a:srgbClr val="ffffff"/>
              </a:solidFill>
              <a:latin typeface="Berling Antiqua"/>
            </a:endParaRPr>
          </a:p>
        </p:txBody>
      </p:sp>
      <p:sp>
        <p:nvSpPr>
          <p:cNvPr id="109" name=""/>
          <p:cNvSpPr/>
          <p:nvPr/>
        </p:nvSpPr>
        <p:spPr>
          <a:xfrm>
            <a:off x="2133720" y="1676520"/>
            <a:ext cx="64767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1080" y="5335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33"/>
                </a:solidFill>
                <a:latin typeface="Amerigo BT"/>
              </a:rPr>
              <a:t>Planificación de las reuniones</a:t>
            </a:r>
            <a:r>
              <a:rPr b="1" lang="es-ES" sz="4800" spc="-1" strike="noStrike">
                <a:solidFill>
                  <a:srgbClr val="990033"/>
                </a:solidFill>
                <a:latin typeface="Amerigo BT"/>
              </a:rPr>
              <a:t>	</a:t>
            </a:r>
            <a:endParaRPr b="1" lang="en-US" sz="4800" spc="-1" strike="noStrike">
              <a:solidFill>
                <a:srgbClr val="ffffff"/>
              </a:solidFill>
              <a:latin typeface="Berling Antiqua"/>
            </a:endParaRPr>
          </a:p>
        </p:txBody>
      </p:sp>
      <p:sp>
        <p:nvSpPr>
          <p:cNvPr id="111" name="PlaceHolder 2"/>
          <p:cNvSpPr>
            <a:spLocks noGrp="1"/>
          </p:cNvSpPr>
          <p:nvPr>
            <p:ph/>
          </p:nvPr>
        </p:nvSpPr>
        <p:spPr>
          <a:xfrm>
            <a:off x="838080" y="2285640"/>
            <a:ext cx="746784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merigo Md BT"/>
              </a:rPr>
              <a:t>Las reuniones bien organizadas no solamente ahorran tiempo, sino también puede mejorar la productividad.</a:t>
            </a:r>
            <a:endParaRPr b="0" lang="en-US" sz="3600" spc="-1" strike="noStrike">
              <a:solidFill>
                <a:srgbClr val="ffffff"/>
              </a:solidFill>
              <a:latin typeface="Berling Antiqua"/>
            </a:endParaRPr>
          </a:p>
        </p:txBody>
      </p:sp>
      <p:sp>
        <p:nvSpPr>
          <p:cNvPr id="112" name=""/>
          <p:cNvSpPr/>
          <p:nvPr/>
        </p:nvSpPr>
        <p:spPr>
          <a:xfrm>
            <a:off x="2362320" y="1828800"/>
            <a:ext cx="60195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bbc2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09:52Z</dcterms:created>
  <dc:creator>Aisha Ricketts</dc:creator>
  <dc:description/>
  <dc:language>en-US</dc:language>
  <cp:lastModifiedBy>Nelida Leguizamon</cp:lastModifiedBy>
  <dcterms:modified xsi:type="dcterms:W3CDTF">2006-06-14T17:07:52Z</dcterms:modified>
  <cp:revision>39</cp:revision>
  <dc:subject/>
  <dc:title>PowerPoint Presentation</dc:title>
</cp:coreProperties>
</file>