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7EE716-4C16-40EE-9BD9-74B10DD68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3720" y="533520"/>
            <a:ext cx="2185920" cy="1641240"/>
          </a:xfrm>
          <a:prstGeom prst="rect">
            <a:avLst/>
          </a:prstGeom>
          <a:ln w="0">
            <a:noFill/>
          </a:ln>
        </p:spPr>
      </p:sp>
      <p:sp>
        <p:nvSpPr>
          <p:cNvPr id="98" name="PlaceHolder 2"/>
          <p:cNvSpPr>
            <a:spLocks noGrp="1"/>
          </p:cNvSpPr>
          <p:nvPr>
            <p:ph type="body"/>
          </p:nvPr>
        </p:nvSpPr>
        <p:spPr>
          <a:xfrm>
            <a:off x="701280" y="2209680"/>
            <a:ext cx="5622840" cy="609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iguientes seminarios de Certificación de Liderazgo, entre otros, serían buenos para ayudar a las mujeres a planificar y prepa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1</a:t>
            </a:r>
            <a:r>
              <a:rPr b="0" lang="es-PE" sz="1200" spc="-1" strike="noStrike">
                <a:solidFill>
                  <a:srgbClr val="000000"/>
                </a:solidFill>
                <a:latin typeface="Arial"/>
              </a:rPr>
              <a:t>	</a:t>
            </a:r>
            <a:r>
              <a:rPr b="0" lang="es-PE" sz="1200" spc="-1" strike="noStrike">
                <a:solidFill>
                  <a:srgbClr val="000000"/>
                </a:solidFill>
                <a:latin typeface="Arial"/>
              </a:rPr>
              <a:t>Orador pú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2   </a:t>
            </a:r>
            <a:r>
              <a:rPr b="0" lang="es-PE" sz="1200" spc="-1" strike="noStrike">
                <a:solidFill>
                  <a:srgbClr val="000000"/>
                </a:solidFill>
                <a:latin typeface="Arial"/>
              </a:rPr>
              <a:t>	</a:t>
            </a:r>
            <a:r>
              <a:rPr b="0" lang="es-PE" sz="1200" spc="-1" strike="noStrike">
                <a:solidFill>
                  <a:srgbClr val="000000"/>
                </a:solidFill>
                <a:latin typeface="Arial"/>
              </a:rPr>
              <a:t>Ministerios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Planificación de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te es un tiempo cuando usted puede invitar a alguien que conoce, que es una buena oradora y una cristiana devota, pero que pertenece a otra Iglesia, para hacer una presentación. Invite a otras que no son Adventistas para presentar algunas selecciones musicales especiales.  Una Semana de Oración de Mujeres, con otras mujeres de la comunidad participando, es una buena manera de desarrollar amistades con aquellas que no son de nuestra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Se ha comprobado que los Retiros de Mujeres Cristianas son un medio excelente para alcanzar a nuestras amigas y vecinas.  Los programas de calidad aseguran que se divertirán y a la vez recibirán alimento espiritual</a:t>
            </a:r>
            <a:r>
              <a:rPr b="1" lang="es-PE" sz="1200" spc="-1" strike="noStrike">
                <a:solidFill>
                  <a:srgbClr val="000000"/>
                </a:solidFill>
                <a:latin typeface="Arial"/>
              </a:rPr>
              <a:t>.  </a:t>
            </a:r>
            <a:r>
              <a:rPr b="0" lang="es-PE" sz="1200" spc="-1" strike="noStrike">
                <a:solidFill>
                  <a:srgbClr val="000000"/>
                </a:solidFill>
                <a:latin typeface="Arial"/>
              </a:rPr>
              <a:t>Muchos retiros se llevan a cabo en un campo, hotel o centro de retiros.  Así las mujeres serán tratadas como invitadas especiales con sus comidas preparadas y servidas en un bello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oradora elegida tiene que estar consciente que algunas mujeres que están asistiendo no son miembros de nuestra Iglesia, para evitar ofenderlas por su manera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eminarios presentados por mujeres que son expertas en diferentes áreas, dan más valor al retiro. En estos seminarios se pueden tocar asuntos específicos.  También debe designarse un tiempo para compartir uno por uno, o con todo el grup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022480" y="533520"/>
            <a:ext cx="2508120" cy="1881000"/>
          </a:xfrm>
          <a:prstGeom prst="rect">
            <a:avLst/>
          </a:prstGeom>
          <a:ln w="0">
            <a:noFill/>
          </a:ln>
        </p:spPr>
      </p:sp>
      <p:sp>
        <p:nvSpPr>
          <p:cNvPr id="100" name="PlaceHolder 2"/>
          <p:cNvSpPr>
            <a:spLocks noGrp="1"/>
          </p:cNvSpPr>
          <p:nvPr>
            <p:ph type="body"/>
          </p:nvPr>
        </p:nvSpPr>
        <p:spPr>
          <a:xfrm>
            <a:off x="701280" y="2437920"/>
            <a:ext cx="5607000" cy="5867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de la Iglesia de College View en Lincoln, Nebraska, USA, bajo el liderazgo de Ángel Bock, han desarrollado un programa que ha tocado los corazones de muchos, dentro de la Iglesia y también con un sinnúmero de mujeres de la comunidad.  Le llaman a su programa  MUJERES EN CONTACTO.  Sus reuniones están fijadas para cada primer lunes del mes por la noche, desde Septiembre hasta Mayo. El privilegio de asistir requiere que las mujeres reserven un espacio, debido a los asientos lim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rograma de cada noche está basado en un tema.  Todas las participantes preparan sus actividades y charlas para coordinarlas con el tema elegido.  Los temas pueden ser tan variados como las mujeres que forman los grupos.  Algunas sugerencia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s h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vida es un rompecabez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Haciendo col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Relaciones fam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salu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dí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beneficio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aman la belleza, y gozan la lindura de una mesa bien decorada.  El salón está preparado con manteles y centros de mesa que siguen el tema del programa de la noche.  Use colores brillantes, alegres y decoraciones que sean nativos de su país y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reunión incluye una cena preparada por una comisión y pagada con las donaciones voluntarias colocadas en un platillo sobre la mesa.  Las comidas son sencillas y consisten de una entrada, una comida vegetariana, una ensalada y un postre sencillo. El objetivo no es tener un banquete, sino una comida simple pero nutritiva.  Pida anticipadamente que alguien haga la oración por los alimentos y luego que cada mujer pase por la fila del buffet.  Esto funciona mejor cuando cada mujer se sirve y pasa con su plato a lo largo de la mesa del bu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devocional corto, música especial y una presentación impactante dan inicio al programa.  Esta presentación puede ser un informe sobre un programa misionero a la comunidad, un informe que explique como hacer un proyecto de artes manuales, o alguien puede demostrar su rutina de ejercicio.  También puede ser un buen tiempo para presentar a algún profesional que dé algunos consejos sobre la salud de las mujeres.  Usted puede promocionar su grupo de oración u otro proyecto de servicio.  (¡Asegúrese de mantener este tipo de promoción muy cor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209680" y="914400"/>
            <a:ext cx="2222640" cy="1668600"/>
          </a:xfrm>
          <a:prstGeom prst="rect">
            <a:avLst/>
          </a:prstGeom>
          <a:ln w="0">
            <a:noFill/>
          </a:ln>
        </p:spPr>
      </p:sp>
      <p:sp>
        <p:nvSpPr>
          <p:cNvPr id="102"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r>
              <a:rPr b="0" i="1" lang="es-PE" sz="1200" spc="-1" strike="noStrike">
                <a:solidFill>
                  <a:srgbClr val="000000"/>
                </a:solidFill>
                <a:latin typeface="Arial"/>
              </a:rPr>
              <a:t>La Gracia Maravillosa de Dios</a:t>
            </a:r>
            <a:r>
              <a:rPr b="0" lang="es-PE" sz="1200" spc="-1" strike="noStrike">
                <a:solidFill>
                  <a:srgbClr val="000000"/>
                </a:solidFill>
                <a:latin typeface="Arial"/>
              </a:rPr>
              <a:t>, p. 3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as actividades de confraternización son un factor vital en el crecimiento de nuestras Igles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241720" y="914400"/>
            <a:ext cx="2222280" cy="1668600"/>
          </a:xfrm>
          <a:prstGeom prst="rect">
            <a:avLst/>
          </a:prstGeom>
          <a:ln w="0">
            <a:noFill/>
          </a:ln>
        </p:spPr>
      </p:sp>
      <p:sp>
        <p:nvSpPr>
          <p:cNvPr id="104"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r>
              <a:rPr b="0" i="1" lang="es-PE" sz="1200" spc="-1" strike="noStrike">
                <a:solidFill>
                  <a:srgbClr val="000000"/>
                </a:solidFill>
                <a:latin typeface="Arial"/>
              </a:rPr>
              <a:t>En Lugares Celestiales, </a:t>
            </a:r>
            <a:r>
              <a:rPr b="0" lang="es-ES" sz="1200" spc="-1" strike="noStrike">
                <a:solidFill>
                  <a:srgbClr val="000000"/>
                </a:solidFill>
                <a:latin typeface="Arial"/>
              </a:rPr>
              <a:t>p. 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cerrar, insto a cada mujer a que haga todo lo que pueda para promover la confraternización entre los miembros de la Iglesia. Esto hará que cada nuevo miembro se sienta como parte de la familia de la Iglesia y asegurará la asistencia continua.  La soledad será menos problemática y los corazones de los miembros y los amigos de la comunidad, serán reconfortados porque usted se preocupó lo suficiente para incluirlos en el círculo de la confrater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Jesús vino a este mundo para ministrar y para darnos un ejemplo de como alcanzar a aquellos que desean tener una vida mejor.  Mientras estudiamos y oramos Él nos guiará para saber cómo proveer situaciones sociales donde las mujeres se sientan amadas y deseosas de confraternizar juntas.  Confíe en su conducción (de Jesús) y recibirá el conocimiento y la habilidad para planificar actividades fructíferas de confraterniza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316240" y="533520"/>
            <a:ext cx="2225520" cy="1668240"/>
          </a:xfrm>
          <a:prstGeom prst="rect">
            <a:avLst/>
          </a:prstGeom>
          <a:ln w="0">
            <a:noFill/>
          </a:ln>
        </p:spPr>
      </p:sp>
      <p:sp>
        <p:nvSpPr>
          <p:cNvPr id="82" name="PlaceHolder 2"/>
          <p:cNvSpPr>
            <a:spLocks noGrp="1"/>
          </p:cNvSpPr>
          <p:nvPr>
            <p:ph type="body"/>
          </p:nvPr>
        </p:nvSpPr>
        <p:spPr>
          <a:xfrm>
            <a:off x="701280" y="2209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os creyentes deben unirse en una comunidad cristiana, considerándose entre ellos como hermanos y hermanas en el Señor. Deben amarse mutuamente como Cristo los amó” </a:t>
            </a:r>
            <a:r>
              <a:rPr b="0" i="1" lang="es-PE" sz="1200" spc="-1" strike="noStrike">
                <a:solidFill>
                  <a:srgbClr val="000000"/>
                </a:solidFill>
                <a:latin typeface="Arial"/>
              </a:rPr>
              <a:t>(El Ministerio Médico, </a:t>
            </a:r>
            <a:r>
              <a:rPr b="0" lang="es-PE" sz="1200" spc="-1" strike="noStrike">
                <a:solidFill>
                  <a:srgbClr val="000000"/>
                </a:solidFill>
                <a:latin typeface="Arial"/>
              </a:rPr>
              <a:t>p. 4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entre las familias de la iglesia raramente tomamos el tiempo para conocernos unos a otros; el conocer los sueños y las alegrías de aquellos con quienes adoramos cada semana, dará unidad a nuestro propósito, metas y servicio de culto.  La interacción social sirve para llevarnos a una confraternidad más cerc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386080" y="685800"/>
            <a:ext cx="2009880" cy="1508040"/>
          </a:xfrm>
          <a:prstGeom prst="rect">
            <a:avLst/>
          </a:prstGeom>
          <a:ln w="0">
            <a:noFill/>
          </a:ln>
        </p:spPr>
      </p:sp>
      <p:sp>
        <p:nvSpPr>
          <p:cNvPr id="84" name="PlaceHolder 2"/>
          <p:cNvSpPr>
            <a:spLocks noGrp="1"/>
          </p:cNvSpPr>
          <p:nvPr>
            <p:ph type="body"/>
          </p:nvPr>
        </p:nvSpPr>
        <p:spPr>
          <a:xfrm>
            <a:off x="701280" y="2286000"/>
            <a:ext cx="5607000" cy="472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 (</a:t>
            </a:r>
            <a:r>
              <a:rPr b="0" i="1" lang="es-PE" sz="1200" spc="-1" strike="noStrike">
                <a:solidFill>
                  <a:srgbClr val="000000"/>
                </a:solidFill>
                <a:latin typeface="Arial"/>
              </a:rPr>
              <a:t>Mi Vida Hoy</a:t>
            </a:r>
            <a:r>
              <a:rPr b="0" lang="es-PE" sz="1200" spc="-1" strike="noStrike">
                <a:solidFill>
                  <a:srgbClr val="000000"/>
                </a:solidFill>
                <a:latin typeface="Arial"/>
              </a:rPr>
              <a:t>, p. 2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radicionalmente las mujeres nos allegamos a otras mujeres para llenar nuestras diversas necesidades. Las mujeres están más aptas de saber como ministrarse  mutuamente.  Una buena manera para comprender las necesidades de otra mujer es llegar a conocerla por medio de la interacción social.  En las fiestas, cenas y otras situaciones sociales, tenemos la oportunidad de aprender a conocernos.  Las mujeres se visitan y comparten sus sueños y metas.  Las preocupaciones por nuestras familias son expuestas, y así conocemos quien necesita un hombro sobre el cual llorar, o alguien que se regocije con ellas en tiemp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necesidad de reír en nuestro diario caminar es muy importante.  Nuestra salud física y emocional mejora cuando ejercemos el don de la risa dado por nuestro Creador.  Las actividades sociales nos dan una oportunidad para reír juntas en compañerismo.  La risa compartida es una manifestación de una amistad estr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amistades que hacemos en nuestros círculos sociales, son aquellas con las que compartimos mejor nuestras creencias espirituales.  Nuestros sentimientos más profundos a menudo salen a flote cuando hablamos sobre varios temas.  La vida está formada de cosas pequeñas y estas componen la totalidad de nuestras vidas.  Lo que consideramos como una cosa pequeña en nuestro caminar espiritual, puede ser lo más grande que nuestra amiga está buscand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90600" y="762120"/>
            <a:ext cx="2324160" cy="1744560"/>
          </a:xfrm>
          <a:prstGeom prst="rect">
            <a:avLst/>
          </a:prstGeom>
          <a:ln w="0">
            <a:noFill/>
          </a:ln>
        </p:spPr>
      </p:sp>
      <p:sp>
        <p:nvSpPr>
          <p:cNvPr id="8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cuando debemos cultivar la sociabilidad, no lo hagamos meramente por diversión, sino con un propósito.  Hay muchas almas que salvar."  (</a:t>
            </a:r>
            <a:r>
              <a:rPr b="0" i="1" lang="es-PE" sz="1200" spc="-1" strike="noStrike">
                <a:solidFill>
                  <a:srgbClr val="000000"/>
                </a:solidFill>
                <a:latin typeface="Arial"/>
              </a:rPr>
              <a:t>Evangelismo</a:t>
            </a:r>
            <a:r>
              <a:rPr b="0" lang="es-PE" sz="1200" spc="-1" strike="noStrike">
                <a:solidFill>
                  <a:srgbClr val="000000"/>
                </a:solidFill>
                <a:latin typeface="Arial"/>
              </a:rPr>
              <a:t> p. 36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209680" cy="1657080"/>
          </a:xfrm>
          <a:prstGeom prst="rect">
            <a:avLst/>
          </a:prstGeom>
          <a:ln w="0">
            <a:noFill/>
          </a:ln>
        </p:spPr>
      </p:sp>
      <p:sp>
        <p:nvSpPr>
          <p:cNvPr id="88" name="PlaceHolder 2"/>
          <p:cNvSpPr>
            <a:spLocks noGrp="1"/>
          </p:cNvSpPr>
          <p:nvPr>
            <p:ph type="body"/>
          </p:nvPr>
        </p:nvSpPr>
        <p:spPr>
          <a:xfrm>
            <a:off x="685440" y="2209680"/>
            <a:ext cx="5607000" cy="5268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gunas necesidades que se pueden alcanzar con las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a:t>
            </a:r>
            <a:r>
              <a:rPr b="0" lang="es-PE" sz="1200" spc="-1" strike="noStrike">
                <a:solidFill>
                  <a:srgbClr val="000000"/>
                </a:solidFill>
                <a:latin typeface="Arial"/>
              </a:rPr>
              <a:t>	</a:t>
            </a:r>
            <a:r>
              <a:rPr b="0" lang="es-PE" sz="1200" spc="-1" strike="noStrike">
                <a:solidFill>
                  <a:srgbClr val="000000"/>
                </a:solidFill>
                <a:latin typeface="Arial"/>
              </a:rPr>
              <a:t>Un tiempo sólo para visitar y estar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Un tiempo para la actividad física y el ejercicio provech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Un tiempo para reí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  Un tiempo para hacer nuevos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  Un tiempo para compartir la historia del evangelio y para crecer en una relación personal co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8.  Un tiempo para ejercer habilidades y necesidades crea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9.  Un tiempo para que otros observen el gozo encontrado en un estilo de vida crist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UN TIEMPO PAR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a hora invite a las mujeres a compartir sus pensamientos sobre su necesidad de reunirse y tener un tiempo de compañerismo. De acuerdo a las necesidades o actividades que ellas sugieran, lístelas y muéstrelas a través de un retroproyector, una pizarra u hoja de pap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ta para la presentadora: Puede pausar varias veces durante el seminario para invitar la participación de la audiencia.  Tenga en mente que es muy valioso compartir sus pensamientos para revelar las necesidades del grupo particular que está dirigien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92400" y="609480"/>
            <a:ext cx="2320920" cy="1741680"/>
          </a:xfrm>
          <a:prstGeom prst="rect">
            <a:avLst/>
          </a:prstGeom>
          <a:ln w="0">
            <a:noFill/>
          </a:ln>
        </p:spPr>
      </p:sp>
      <p:sp>
        <p:nvSpPr>
          <p:cNvPr id="9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Todos los que tienen al Salvador morando en sus corazones sentirán el anhelo de compañerismo y tener comunión unos con otros.  No habrá ninguna atracción que los separe."  (</a:t>
            </a:r>
            <a:r>
              <a:rPr b="0" i="1" lang="es-PE" sz="1200" spc="-1" strike="noStrike">
                <a:solidFill>
                  <a:srgbClr val="000000"/>
                </a:solidFill>
                <a:latin typeface="Arial"/>
              </a:rPr>
              <a:t>Review and Herald</a:t>
            </a:r>
            <a:r>
              <a:rPr b="0" lang="es-PE" sz="1200" spc="-1" strike="noStrike">
                <a:solidFill>
                  <a:srgbClr val="000000"/>
                </a:solidFill>
                <a:latin typeface="Arial"/>
              </a:rPr>
              <a:t>, 9 de febrero, 1892, par.1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97080" y="533520"/>
            <a:ext cx="2311560" cy="1733400"/>
          </a:xfrm>
          <a:prstGeom prst="rect">
            <a:avLst/>
          </a:prstGeom>
          <a:ln w="0">
            <a:noFill/>
          </a:ln>
        </p:spPr>
      </p:sp>
      <p:sp>
        <p:nvSpPr>
          <p:cNvPr id="92" name="PlaceHolder 2"/>
          <p:cNvSpPr>
            <a:spLocks noGrp="1"/>
          </p:cNvSpPr>
          <p:nvPr>
            <p:ph type="body"/>
          </p:nvPr>
        </p:nvSpPr>
        <p:spPr>
          <a:xfrm>
            <a:off x="701280" y="228600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Ideas para programas y actividades que proveen un tiempo para la confraterniz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una lista y muéstrelo en retroproyector, pizarra o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Enriqu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Semana de Oración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2.  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3.  Actividades Man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stamp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Álbum de Reco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abricación de decoraciones de temporada para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Colchas/Costura/Tej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Pin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4.  Eventos relacionados con ali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ena de chancletas” - sopa y empared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lases de cocina divert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estival de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Salir a un restaurante para c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Sirviendo un 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41720" y="914400"/>
            <a:ext cx="2106360" cy="1579680"/>
          </a:xfrm>
          <a:prstGeom prst="rect">
            <a:avLst/>
          </a:prstGeom>
          <a:ln w="0">
            <a:noFill/>
          </a:ln>
        </p:spPr>
      </p:sp>
      <p:sp>
        <p:nvSpPr>
          <p:cNvPr id="94" name="PlaceHolder 2"/>
          <p:cNvSpPr>
            <a:spLocks noGrp="1"/>
          </p:cNvSpPr>
          <p:nvPr>
            <p:ph type="body"/>
          </p:nvPr>
        </p:nvSpPr>
        <p:spPr>
          <a:xfrm>
            <a:off x="701280" y="2514600"/>
            <a:ext cx="5607000" cy="534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5.  Event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omo envolver paquetes bon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Temas relacionados con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Como conducir una re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Beneficios saludable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6.  Cari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nviar notas d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omo ser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7.   Eventos sociales ne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Un programa diseñado para vis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Fiestas de natació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71680" y="533520"/>
            <a:ext cx="2114640" cy="1587240"/>
          </a:xfrm>
          <a:prstGeom prst="rect">
            <a:avLst/>
          </a:prstGeom>
          <a:ln w="0">
            <a:noFill/>
          </a:ln>
        </p:spPr>
      </p:sp>
      <p:sp>
        <p:nvSpPr>
          <p:cNvPr id="96" name="PlaceHolder 2"/>
          <p:cNvSpPr>
            <a:spLocks noGrp="1"/>
          </p:cNvSpPr>
          <p:nvPr>
            <p:ph type="body"/>
          </p:nvPr>
        </p:nvSpPr>
        <p:spPr>
          <a:xfrm>
            <a:off x="701280" y="21333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RIQUECIMIENTO ESPIRITUAL -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tiempo oportuno de reunir a las mujeres es para el estudio de la Biblia.  En las Librerías Adventistas encuentra guías para el estudio Bíblico, y sino tiene este lujo instituya su propio estudio.  Escoja un tema de estudio tal como El amor de Cristo, o un libro de la Biblia, o el estudio de un libro espiritual.  Hay muchos lugares que puede elegir para tener un estudio Bíblico.  Algunos eligen la iglesia para reunirse u otro sitio público mientras que otros toman turnos reuniéndose en los hogares.  Algunos eligen reunirse en la misma casa cada vez.  Usted puede reunirse una vez por semana, dejando una semana, o una vez al mes.  La frecuencia de sus reuniones debe decidirse en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dis Stenbakken y Carole Ferch Johnson han escrito un juego de </a:t>
            </a:r>
            <a:r>
              <a:rPr b="0" i="1" lang="es-PE" sz="1200" spc="-1" strike="noStrike">
                <a:solidFill>
                  <a:srgbClr val="000000"/>
                </a:solidFill>
                <a:latin typeface="Arial"/>
              </a:rPr>
              <a:t>Estudios Bíblicos para Mujeres Ocupadas,</a:t>
            </a:r>
            <a:r>
              <a:rPr b="0" lang="es-PE" sz="1200" spc="-1" strike="noStrike">
                <a:solidFill>
                  <a:srgbClr val="000000"/>
                </a:solidFill>
                <a:latin typeface="Arial"/>
              </a:rPr>
              <a:t> que esta a la disposición en las librerías Adventistas.  Puede fotocopiarlos; así solo necesita comprar un j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emana de Oración</a:t>
            </a:r>
            <a:r>
              <a:rPr b="0" lang="es-PE" sz="1200" spc="-1" strike="noStrike">
                <a:solidFill>
                  <a:srgbClr val="000000"/>
                </a:solidFill>
                <a:latin typeface="Arial"/>
              </a:rPr>
              <a:t>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programa misionero maravilloso que las mujeres pueden realizar es la Semana de Oración de las Mujeres. Elija la semana que desea tener sus reuniones y un tema.  Pida mujeres voluntarias para ser las oradoras de estas reuniones.  Quizá solo tenga una mujer que se sienta confortable hablando en público.  Pero usted puede ser sorprendida gratamente al tener cinco mujeres voluntarias. En este caso tendrá una oradora para cada no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lanifique el tema que cada oradora presentará, para evitar la duplicidad.  Practiquen sus presentaciones y compartan sugerencias constructivas para mejora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6026E-551A-4211-A8AF-BA44582E9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9B86D-7389-4C95-ADDE-17167BDB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E2679-06BC-4815-978F-E7D7D07C8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BD03-8E4C-4CD3-9D9A-C3223D694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33A9-F7EB-484F-9852-BBF16D86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8F4FE-C41C-4B13-864B-45F28A2A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4C665-CDC6-47DF-A103-2F7421BC6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0C36-0630-4166-918B-19B3B219A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6F223-E703-4E3D-8AFA-37481B304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F5EF-F441-4F06-B881-87D1FB43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E5739-78F5-4CE0-BCF0-1D18E0EF3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1639-DCEC-433C-9ABE-034AB5C24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7C57-633D-4C54-8B7B-D57F9AB8F0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457200" y="343080"/>
            <a:ext cx="8077320" cy="5715000"/>
          </a:xfrm>
          <a:prstGeom prst="rect">
            <a:avLst/>
          </a:prstGeom>
          <a:ln w="0">
            <a:noFill/>
          </a:ln>
        </p:spPr>
      </p:pic>
      <p:sp>
        <p:nvSpPr>
          <p:cNvPr id="50" name=""/>
          <p:cNvSpPr/>
          <p:nvPr/>
        </p:nvSpPr>
        <p:spPr>
          <a:xfrm>
            <a:off x="1447920" y="3505320"/>
            <a:ext cx="6705360" cy="26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CTIVIDADES SOCIALES</a:t>
            </a:r>
            <a:endParaRPr b="0" lang="en-US" sz="3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or:  </a:t>
            </a:r>
            <a:r>
              <a:rPr b="1" lang="es-PE" sz="1600" spc="-1" strike="noStrike">
                <a:solidFill>
                  <a:srgbClr val="000000"/>
                </a:solidFill>
                <a:latin typeface="Comic Sans MS"/>
              </a:rPr>
              <a:t>Evelyn</a:t>
            </a:r>
            <a:r>
              <a:rPr b="1" lang="es-ES" sz="1600" spc="-1" strike="noStrike">
                <a:solidFill>
                  <a:srgbClr val="000000"/>
                </a:solidFill>
                <a:latin typeface="Comic Sans MS"/>
              </a:rPr>
              <a:t> Gla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MINISTERIOS DE LA MUJ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Certificación de Liderazg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Nivel 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47155E-C3DB-4589-B3DB-0F370AC74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808200"/>
            <a:ext cx="71629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1</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Orador Público efic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2</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Ministerios de la or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Planificación de progra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3C86BBA-292C-4034-86C4-992F9D86E2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914040" y="533160"/>
            <a:ext cx="7543800" cy="9903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ernhardMod BT"/>
              </a:rPr>
              <a:t>MUJERES EN CONTACTO</a:t>
            </a:r>
            <a:br>
              <a:rPr sz="3200"/>
            </a:br>
            <a:r>
              <a:rPr b="1" lang="es-ES_tradnl" sz="3200" spc="-1" strike="noStrike">
                <a:solidFill>
                  <a:srgbClr val="ffffff"/>
                </a:solidFill>
                <a:latin typeface="BernhardMod BT"/>
              </a:rPr>
              <a:t>Ideas para programas:</a:t>
            </a:r>
            <a:endParaRPr b="0" lang="en-US" sz="3200" spc="-1" strike="noStrike">
              <a:solidFill>
                <a:srgbClr val="000000"/>
              </a:solidFill>
              <a:latin typeface="Arial"/>
            </a:endParaRPr>
          </a:p>
        </p:txBody>
      </p:sp>
      <p:sp>
        <p:nvSpPr>
          <p:cNvPr id="76" name="PlaceHolder 2"/>
          <p:cNvSpPr>
            <a:spLocks noGrp="1"/>
          </p:cNvSpPr>
          <p:nvPr>
            <p:ph/>
          </p:nvPr>
        </p:nvSpPr>
        <p:spPr>
          <a:xfrm>
            <a:off x="1066680" y="1600200"/>
            <a:ext cx="5105520" cy="452592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s hij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vida es un rompecabez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Haciendo colch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Relaciones famili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salud de las muje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Días escol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os beneficios de la risa.</a:t>
            </a:r>
            <a:endParaRPr b="0" lang="en-US" sz="2800" spc="-1" strike="noStrike">
              <a:solidFill>
                <a:srgbClr val="000000"/>
              </a:solidFill>
              <a:latin typeface="Arial"/>
            </a:endParaRPr>
          </a:p>
          <a:p>
            <a:pPr marL="318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6FD5EA-D72A-4287-BB43-DEBB1896D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380520" y="685440"/>
            <a:ext cx="8077320" cy="480060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BernhardMod BT"/>
              </a:rPr>
              <a:t>	</a:t>
            </a:r>
            <a:r>
              <a:rPr b="1" lang="es-PE" sz="2400" spc="-1" strike="noStrike">
                <a:solidFill>
                  <a:srgbClr val="000000"/>
                </a:solidFill>
                <a:latin typeface="BernhardMod BT"/>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endParaRPr b="0" lang="en-US" sz="2400" spc="-1" strike="noStrike">
              <a:solidFill>
                <a:srgbClr val="000000"/>
              </a:solidFill>
              <a:latin typeface="Arial"/>
            </a:endParaRPr>
          </a:p>
          <a:p>
            <a:pPr marL="335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a:t>
            </a:r>
            <a:r>
              <a:rPr b="1" i="1" lang="es-PE" sz="2000" spc="-1" strike="noStrike">
                <a:solidFill>
                  <a:srgbClr val="000000"/>
                </a:solidFill>
                <a:latin typeface="BernhardMod BT"/>
              </a:rPr>
              <a:t>La Gracia Maravillosa de Dios</a:t>
            </a:r>
            <a:r>
              <a:rPr b="1" lang="es-PE" sz="2000" spc="-1" strike="noStrike">
                <a:solidFill>
                  <a:srgbClr val="000000"/>
                </a:solidFill>
                <a:latin typeface="BernhardMod BT"/>
              </a:rPr>
              <a:t>, p. 335:5)</a:t>
            </a: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0E3894C-6E6F-4D44-90B0-9302C70B9E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ernhardMod BT"/>
              </a:rPr>
              <a:t>	</a:t>
            </a:r>
            <a:r>
              <a:rPr b="1" lang="es-ES" sz="2400" spc="-1" strike="noStrike">
                <a:solidFill>
                  <a:srgbClr val="000000"/>
                </a:solidFill>
                <a:latin typeface="BernhardMod BT"/>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a:t>
            </a:r>
            <a:r>
              <a:rPr b="1" i="1" lang="es-ES" sz="2000" spc="-1" strike="noStrike">
                <a:solidFill>
                  <a:srgbClr val="000000"/>
                </a:solidFill>
                <a:latin typeface="BernhardMod BT"/>
              </a:rPr>
              <a:t>En Lugares Celestiales, </a:t>
            </a:r>
            <a:r>
              <a:rPr b="1" lang="es-ES" sz="2000" spc="-1" strike="noStrike">
                <a:solidFill>
                  <a:srgbClr val="000000"/>
                </a:solidFill>
                <a:latin typeface="BernhardMod BT"/>
              </a:rPr>
              <a:t>p. 28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0BC5187-3992-46D3-9D41-17088E16CF7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761760" y="2285640"/>
            <a:ext cx="7467480" cy="3429000"/>
          </a:xfrm>
          <a:prstGeom prst="rect">
            <a:avLst/>
          </a:prstGeom>
          <a:noFill/>
          <a:ln w="0">
            <a:noFill/>
          </a:ln>
        </p:spPr>
        <p:txBody>
          <a:bodyPr lIns="90000" rIns="90000" tIns="46800" bIns="46800" anchor="t">
            <a:normAutofit fontScale="86000"/>
          </a:bodyPr>
          <a:p>
            <a:pPr marL="2948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t>
            </a:r>
            <a:r>
              <a:rPr b="1" lang="es-PE" sz="3200" spc="-1" strike="noStrike">
                <a:solidFill>
                  <a:srgbClr val="000000"/>
                </a:solidFill>
                <a:latin typeface="Arial"/>
              </a:rPr>
              <a:t>Los creyentes deben unirse en una comunidad cristiana, considerándose entre ellos como hermanos y hermanas en el Señor. Deben amarse mutuamente como Cristo los amó” </a:t>
            </a:r>
            <a:r>
              <a:rPr b="1" i="1" lang="es-PE" sz="2000" spc="-1" strike="noStrike">
                <a:solidFill>
                  <a:srgbClr val="000000"/>
                </a:solidFill>
                <a:latin typeface="Arial"/>
              </a:rPr>
              <a:t>(El Ministerio Médico, </a:t>
            </a:r>
            <a:r>
              <a:rPr b="1" lang="es-PE" sz="2000" spc="-1" strike="noStrike">
                <a:solidFill>
                  <a:srgbClr val="000000"/>
                </a:solidFill>
                <a:latin typeface="Arial"/>
              </a:rPr>
              <a:t>p. 421).</a:t>
            </a:r>
            <a:endParaRPr b="0" lang="en-US" sz="2000" spc="-1" strike="noStrike">
              <a:solidFill>
                <a:srgbClr val="000000"/>
              </a:solidFill>
              <a:latin typeface="Arial"/>
            </a:endParaRPr>
          </a:p>
          <a:p>
            <a:pPr marL="2948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BB905BF-59C7-4E24-97CC-955A7A04B3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04920" y="762120"/>
            <a:ext cx="8229600" cy="536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Arial"/>
              </a:rPr>
              <a:t>	</a:t>
            </a:r>
            <a:r>
              <a:rPr b="1" i="1" lang="es-PE" sz="28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ernhardMod BT"/>
              </a:rPr>
              <a:t>~~ </a:t>
            </a:r>
            <a:r>
              <a:rPr b="1" i="1" lang="en-US" sz="2400" spc="-1" strike="noStrike">
                <a:solidFill>
                  <a:srgbClr val="000000"/>
                </a:solidFill>
                <a:latin typeface="BernhardMod BT"/>
              </a:rPr>
              <a:t>Mi Vida Hoy,</a:t>
            </a:r>
            <a:r>
              <a:rPr b="1" lang="en-US" sz="2400" spc="-1" strike="noStrike">
                <a:solidFill>
                  <a:srgbClr val="000000"/>
                </a:solidFill>
                <a:latin typeface="BernhardMod BT"/>
              </a:rPr>
              <a:t> p. 204.</a:t>
            </a:r>
            <a:endParaRPr b="0" lang="en-US" sz="24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035A8CD-901B-4327-AEA4-FE7F3E9A06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2590920"/>
            <a:ext cx="8229600" cy="3047760"/>
          </a:xfrm>
          <a:prstGeom prst="rect">
            <a:avLst/>
          </a:prstGeom>
          <a:noFill/>
          <a:ln w="0">
            <a:noFill/>
          </a:ln>
        </p:spPr>
        <p:txBody>
          <a:bodyPr lIns="90000" rIns="90000" tIns="46800" bIns="46800" anchor="t">
            <a:normAutofit fontScale="88000"/>
          </a:bodyPr>
          <a:p>
            <a:pPr marL="301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un cuando debemos cultivar la sociabilidad, no lo hagamos meramente por diversión, sino con un propósito.  Hay muchas almas que salvar."  (</a:t>
            </a:r>
            <a:r>
              <a:rPr b="1" i="1" lang="es-PE" sz="3200" spc="-1" strike="noStrike">
                <a:solidFill>
                  <a:srgbClr val="000000"/>
                </a:solidFill>
                <a:latin typeface="Arial"/>
              </a:rPr>
              <a:t>Evangelismo</a:t>
            </a:r>
            <a:r>
              <a:rPr b="1" lang="es-PE" sz="3200" spc="-1" strike="noStrike">
                <a:solidFill>
                  <a:srgbClr val="000000"/>
                </a:solidFill>
                <a:latin typeface="Arial"/>
              </a:rPr>
              <a:t> p. 361).</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3935CA2-8888-42EF-B5F2-E2B4ACEF0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90720" y="533160"/>
            <a:ext cx="7315200" cy="5331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nhardMod BT"/>
              </a:rPr>
              <a:t>LISTA DE NECESIDADES</a:t>
            </a:r>
            <a:r>
              <a:rPr b="1" lang="en-US" sz="3600" spc="-1" strike="noStrike">
                <a:solidFill>
                  <a:srgbClr val="ffffff"/>
                </a:solidFill>
                <a:latin typeface="BernhardMod BT"/>
              </a:rPr>
              <a:t>: </a:t>
            </a:r>
            <a:endParaRPr b="0" lang="en-US" sz="3600" spc="-1" strike="noStrike">
              <a:solidFill>
                <a:srgbClr val="000000"/>
              </a:solidFill>
              <a:latin typeface="Arial"/>
            </a:endParaRPr>
          </a:p>
        </p:txBody>
      </p:sp>
      <p:sp>
        <p:nvSpPr>
          <p:cNvPr id="59" name="PlaceHolder 2"/>
          <p:cNvSpPr>
            <a:spLocks noGrp="1"/>
          </p:cNvSpPr>
          <p:nvPr>
            <p:ph/>
          </p:nvPr>
        </p:nvSpPr>
        <p:spPr>
          <a:xfrm>
            <a:off x="228240" y="1371600"/>
            <a:ext cx="8077320" cy="495288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sólo para visitar y estar junt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000" spc="-1" strike="noStrike">
                <a:solidFill>
                  <a:srgbClr val="000000"/>
                </a:solidFill>
                <a:latin typeface="BernhardMod BT"/>
              </a:rPr>
              <a:t> </a:t>
            </a:r>
            <a:endParaRPr b="0" lang="en-US" sz="2000" spc="-1" strike="noStrike">
              <a:solidFill>
                <a:srgbClr val="000000"/>
              </a:solidFill>
              <a:latin typeface="Arial"/>
            </a:endParaRPr>
          </a:p>
          <a:p>
            <a:pPr marL="603360" indent="-603360">
              <a:lnSpc>
                <a:spcPct val="90000"/>
              </a:lnSpc>
              <a:spcBef>
                <a:spcPts val="601"/>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la actividad física y el ejercicio provechoso.</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reír.</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hacer nuevos amig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compartir la historia del evangelio y para crecer en una relación personal con Jesú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ejercer habilidades y </a:t>
            </a:r>
            <a:endParaRPr b="0" lang="en-US" sz="20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necesidades creativamente.</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que otros observen el gozo </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encontrado en un estilo de vida cristiano.</a:t>
            </a:r>
            <a:r>
              <a:rPr b="0" lang="es-ES" sz="2000" spc="-1" strike="noStrike">
                <a:solidFill>
                  <a:srgbClr val="000000"/>
                </a:solidFill>
                <a:latin typeface="BernhardMod BT"/>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237FD37-F0FF-4BD3-9018-0F7EBB9E6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04560" y="1036800"/>
            <a:ext cx="8305560" cy="452592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a:t>
            </a:r>
            <a:r>
              <a:rPr b="1" lang="es-PE" sz="3200" spc="-1" strike="noStrike">
                <a:solidFill>
                  <a:srgbClr val="000000"/>
                </a:solidFill>
                <a:latin typeface="Arial"/>
              </a:rPr>
              <a:t>Todos los que tienen al Salvador morando en sus corazones sentirán el anhelo de compañerismo y de tener comunión unos con otros.  No habrá ninguna atracción que los separe."  </a:t>
            </a:r>
            <a:r>
              <a:rPr b="1" lang="en-US" sz="3200" spc="-1" strike="noStrike">
                <a:solidFill>
                  <a:srgbClr val="000000"/>
                </a:solidFill>
                <a:latin typeface="BernhardMod BT"/>
              </a:rPr>
              <a:t>(</a:t>
            </a:r>
            <a:r>
              <a:rPr b="1" lang="en-US" sz="2400" spc="-1" strike="noStrike">
                <a:solidFill>
                  <a:srgbClr val="000000"/>
                </a:solidFill>
                <a:latin typeface="BernhardMod BT"/>
              </a:rPr>
              <a:t>Review and Herald, 9 de febrero 1892, par.1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78609A-9580-4085-8584-445871141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63" name="PlaceHolder 1"/>
          <p:cNvSpPr>
            <a:spLocks noGrp="1"/>
          </p:cNvSpPr>
          <p:nvPr>
            <p:ph type="title"/>
          </p:nvPr>
        </p:nvSpPr>
        <p:spPr>
          <a:xfrm>
            <a:off x="762120" y="685800"/>
            <a:ext cx="3200400" cy="53352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nhardMod BT"/>
              </a:rPr>
              <a:t>IDEAS:</a:t>
            </a:r>
            <a:endParaRPr b="0" lang="en-US" sz="3600" spc="-1" strike="noStrike">
              <a:solidFill>
                <a:srgbClr val="000000"/>
              </a:solidFill>
              <a:latin typeface="Arial"/>
            </a:endParaRPr>
          </a:p>
        </p:txBody>
      </p:sp>
      <p:sp>
        <p:nvSpPr>
          <p:cNvPr id="64"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1. </a:t>
            </a:r>
            <a:r>
              <a:rPr b="1" lang="en-US" sz="2000" spc="-1" strike="noStrike" u="sng">
                <a:solidFill>
                  <a:srgbClr val="008000"/>
                </a:solidFill>
                <a:uFillTx/>
                <a:latin typeface="BernhardMod BT"/>
              </a:rPr>
              <a:t>Enriquecimiento Espiritual</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    </a:t>
            </a:r>
            <a:r>
              <a:rPr b="1" lang="en-US" sz="1800" spc="-1" strike="noStrike">
                <a:solidFill>
                  <a:srgbClr val="000000"/>
                </a:solidFill>
                <a:latin typeface="BernhardMod BT"/>
              </a:rPr>
              <a:t>a.  </a:t>
            </a:r>
            <a:r>
              <a:rPr b="1" lang="es-ES" sz="1800" spc="-1" strike="noStrike">
                <a:solidFill>
                  <a:srgbClr val="000000"/>
                </a:solidFill>
                <a:latin typeface="BernhardMod BT"/>
              </a:rPr>
              <a:t>Grupos de Estudios Bíblic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  Semana de Oración de Mujer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  Retiros</a:t>
            </a:r>
            <a:endParaRPr b="0" lang="en-US" sz="1800" spc="-1" strike="noStrike">
              <a:solidFill>
                <a:srgbClr val="000000"/>
              </a:solidFill>
              <a:latin typeface="Arial"/>
            </a:endParaRPr>
          </a:p>
          <a:p>
            <a:pPr marL="60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2.  </a:t>
            </a:r>
            <a:r>
              <a:rPr b="1" lang="es-ES" sz="2000" spc="-1" strike="noStrike" u="sng">
                <a:solidFill>
                  <a:srgbClr val="008000"/>
                </a:solidFill>
                <a:uFillTx/>
                <a:latin typeface="BernhardMod BT"/>
              </a:rPr>
              <a:t>Mujeres en contacto</a:t>
            </a: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3.  </a:t>
            </a:r>
            <a:r>
              <a:rPr b="1" lang="es-ES" sz="2000" spc="-1" strike="noStrike" u="sng">
                <a:solidFill>
                  <a:srgbClr val="008000"/>
                </a:solidFill>
                <a:uFillTx/>
                <a:latin typeface="BernhardMod BT"/>
              </a:rPr>
              <a:t>Actividades Manuales</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a.</a:t>
            </a:r>
            <a:r>
              <a:rPr b="1" lang="es-ES" sz="1800" spc="-1" strike="noStrike">
                <a:solidFill>
                  <a:srgbClr val="000000"/>
                </a:solidFill>
                <a:latin typeface="BernhardMod BT"/>
              </a:rPr>
              <a:t>	</a:t>
            </a:r>
            <a:r>
              <a:rPr b="1" lang="es-ES" sz="1800" spc="-1" strike="noStrike">
                <a:solidFill>
                  <a:srgbClr val="000000"/>
                </a:solidFill>
                <a:latin typeface="BernhardMod BT"/>
              </a:rPr>
              <a:t>Estampa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a:t>
            </a:r>
            <a:r>
              <a:rPr b="1" lang="es-ES" sz="1800" spc="-1" strike="noStrike">
                <a:solidFill>
                  <a:srgbClr val="000000"/>
                </a:solidFill>
                <a:latin typeface="BernhardMod BT"/>
              </a:rPr>
              <a:t>	</a:t>
            </a:r>
            <a:r>
              <a:rPr b="1" lang="es-ES" sz="1800" spc="-1" strike="noStrike">
                <a:solidFill>
                  <a:srgbClr val="000000"/>
                </a:solidFill>
                <a:latin typeface="BernhardMod BT"/>
              </a:rPr>
              <a:t>Álbum de recort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a:t>
            </a:r>
            <a:r>
              <a:rPr b="1" lang="es-ES" sz="1800" spc="-1" strike="noStrike">
                <a:solidFill>
                  <a:srgbClr val="000000"/>
                </a:solidFill>
                <a:latin typeface="BernhardMod BT"/>
              </a:rPr>
              <a:t>	</a:t>
            </a:r>
            <a:r>
              <a:rPr b="1" lang="es-ES" sz="1800" spc="-1" strike="noStrike">
                <a:solidFill>
                  <a:srgbClr val="000000"/>
                </a:solidFill>
                <a:latin typeface="BernhardMod BT"/>
              </a:rPr>
              <a:t>Colchas/costura/Teji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e.</a:t>
            </a:r>
            <a:r>
              <a:rPr b="1" lang="es-ES" sz="1800" spc="-1" strike="noStrike">
                <a:solidFill>
                  <a:srgbClr val="000000"/>
                </a:solidFill>
                <a:latin typeface="BernhardMod BT"/>
              </a:rPr>
              <a:t>	</a:t>
            </a:r>
            <a:r>
              <a:rPr b="1" lang="es-ES" sz="1800" spc="-1" strike="noStrike">
                <a:solidFill>
                  <a:srgbClr val="000000"/>
                </a:solidFill>
                <a:latin typeface="BernhardMod BT"/>
              </a:rPr>
              <a:t>Pintura</a:t>
            </a:r>
            <a:endParaRPr b="0" lang="en-US" sz="1800" spc="-1" strike="noStrike">
              <a:solidFill>
                <a:srgbClr val="000000"/>
              </a:solidFill>
              <a:latin typeface="Arial"/>
            </a:endParaRPr>
          </a:p>
        </p:txBody>
      </p:sp>
      <p:sp>
        <p:nvSpPr>
          <p:cNvPr id="65" name=""/>
          <p:cNvSpPr/>
          <p:nvPr/>
        </p:nvSpPr>
        <p:spPr>
          <a:xfrm>
            <a:off x="4495680" y="1509840"/>
            <a:ext cx="4572000" cy="234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4.  </a:t>
            </a:r>
            <a:r>
              <a:rPr b="1" lang="es-ES_tradnl" sz="2000" spc="-1" strike="noStrike" u="sng">
                <a:solidFill>
                  <a:srgbClr val="008000"/>
                </a:solidFill>
                <a:uFillTx/>
                <a:latin typeface="BernhardMod BT"/>
              </a:rPr>
              <a:t>Eventos relacionados con </a:t>
            </a:r>
            <a:r>
              <a:rPr b="1" lang="es-ES_tradnl" sz="2000" spc="-1" strike="noStrike">
                <a:solidFill>
                  <a:srgbClr val="008000"/>
                </a:solidFill>
                <a:latin typeface="BernhardMod BT"/>
              </a:rPr>
              <a:t>	</a:t>
            </a:r>
            <a:r>
              <a:rPr b="1" lang="es-ES_tradnl" sz="2000" spc="-1" strike="noStrike" u="sng">
                <a:solidFill>
                  <a:srgbClr val="008000"/>
                </a:solidFill>
                <a:uFillTx/>
                <a:latin typeface="BernhardMod BT"/>
              </a:rPr>
              <a:t>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ernhardMod BT"/>
              </a:rPr>
              <a:t>	</a:t>
            </a:r>
            <a:r>
              <a:rPr b="1" lang="es-ES_tradnl" sz="1800" spc="-1" strike="noStrike">
                <a:solidFill>
                  <a:srgbClr val="000000"/>
                </a:solidFill>
                <a:latin typeface="BernhardMod BT"/>
              </a:rPr>
              <a:t>a.  Cena de “Chancle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b.  Clases de co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c.  Festival de me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d.  Salir a un restaur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e.  Sirviendo un 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7687D5-0620-4EEA-BE27-390A9F6AF4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533160" y="914040"/>
            <a:ext cx="6629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5.  </a:t>
            </a:r>
            <a:r>
              <a:rPr b="1" lang="es-ES" sz="2400" spc="-1" strike="noStrike" u="sng">
                <a:solidFill>
                  <a:srgbClr val="008000"/>
                </a:solidFill>
                <a:uFillTx/>
                <a:latin typeface="BernhardMod BT"/>
              </a:rPr>
              <a:t>Eventos de enseñanz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Como envolver paquetes bon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Temas relacionados con la sal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c.  Como conducir una reun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d.  Beneficios saludables de la ri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6.  </a:t>
            </a:r>
            <a:r>
              <a:rPr b="1" lang="es-ES" sz="2400" spc="-1" strike="noStrike" u="sng">
                <a:solidFill>
                  <a:srgbClr val="008000"/>
                </a:solidFill>
                <a:uFillTx/>
                <a:latin typeface="BernhardMod BT"/>
              </a:rPr>
              <a:t>Cariños</a:t>
            </a:r>
            <a:r>
              <a:rPr b="1" lang="es-ES" sz="2400" spc="-1" strike="noStrike">
                <a:solidFill>
                  <a:srgbClr val="cc0000"/>
                </a:solidFill>
                <a:latin typeface="BernhardMod BT"/>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Enviar notas de amist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Como ser amig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7.  </a:t>
            </a:r>
            <a:r>
              <a:rPr b="1" lang="es-ES" sz="2400" spc="-1" strike="noStrike" u="sng">
                <a:solidFill>
                  <a:srgbClr val="008000"/>
                </a:solidFill>
                <a:uFillTx/>
                <a:latin typeface="BernhardMod BT"/>
              </a:rPr>
              <a:t>Eventos sociales netament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Un programa diseñado para visi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Fiesta de natació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BEE94E7-A056-4DA6-83A1-85B804D9E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52480" y="304920"/>
            <a:ext cx="6934320" cy="5821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BernhardMod BT"/>
              </a:rPr>
              <a:t>Estudios Bíblicos para mujeres ocupada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Por: Ardis Stenbakken 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Carole Ferch-Johnson</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Está a disposición en las Librerías Adventistas</a:t>
            </a:r>
            <a:endParaRPr b="0" lang="en-US" sz="2000" spc="-1" strike="noStrike">
              <a:solidFill>
                <a:srgbClr val="000000"/>
              </a:solidFill>
              <a:latin typeface="Arial"/>
            </a:endParaRPr>
          </a:p>
        </p:txBody>
      </p:sp>
      <p:pic>
        <p:nvPicPr>
          <p:cNvPr id="70" name="" descr=""/>
          <p:cNvPicPr/>
          <p:nvPr/>
        </p:nvPicPr>
        <p:blipFill>
          <a:blip r:embed="rId2"/>
          <a:stretch/>
        </p:blipFill>
        <p:spPr>
          <a:xfrm>
            <a:off x="3276720" y="2743200"/>
            <a:ext cx="3581280" cy="2685960"/>
          </a:xfrm>
          <a:prstGeom prst="rect">
            <a:avLst/>
          </a:prstGeom>
          <a:ln w="0">
            <a:noFill/>
          </a:ln>
        </p:spPr>
      </p:pic>
      <p:sp>
        <p:nvSpPr>
          <p:cNvPr id="71" name=""/>
          <p:cNvSpPr/>
          <p:nvPr/>
        </p:nvSpPr>
        <p:spPr>
          <a:xfrm>
            <a:off x="1905120" y="5612040"/>
            <a:ext cx="647676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Disponible en Inglés, Francés y Castellan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6F898DB-9735-432B-B6C7-3D888B39F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6:24:37Z</dcterms:created>
  <dc:creator>ArraisR</dc:creator>
  <dc:description/>
  <dc:language>en-US</dc:language>
  <cp:lastModifiedBy>Unión Peruana</cp:lastModifiedBy>
  <dcterms:modified xsi:type="dcterms:W3CDTF">2008-01-16T14:51:52Z</dcterms:modified>
  <cp:revision>53</cp:revision>
  <dc:subject/>
  <dc:title>Slide 1</dc:title>
</cp:coreProperties>
</file>