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7.jpeg" ContentType="image/jpeg"/>
  <Override PartName="/ppt/media/image14.png" ContentType="image/png"/>
  <Override PartName="/ppt/media/image16.gif" ContentType="image/gif"/>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136240" y="542880"/>
            <a:ext cx="2583000" cy="1936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F9F5F5-F8E7-4426-A51A-8D8EE9AF1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8FA442-0D11-42EF-8D4A-85BD8B52C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3122640" y="387360"/>
            <a:ext cx="2583000" cy="1936800"/>
          </a:xfrm>
          <a:prstGeom prst="rect">
            <a:avLst/>
          </a:prstGeom>
          <a:ln w="0">
            <a:noFill/>
          </a:ln>
        </p:spPr>
      </p:sp>
      <p:sp>
        <p:nvSpPr>
          <p:cNvPr id="161" name="PlaceHolder 2"/>
          <p:cNvSpPr>
            <a:spLocks noGrp="1"/>
          </p:cNvSpPr>
          <p:nvPr>
            <p:ph type="body"/>
          </p:nvPr>
        </p:nvSpPr>
        <p:spPr>
          <a:xfrm>
            <a:off x="388440" y="1626840"/>
            <a:ext cx="6310440" cy="7203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LACIONÁNDOSE CON LOS COLE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EPTOS BÁSICOS PARA TRABAJAR CON MUJERES Y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os Ministerios de la Mujer se establecieron y crecieron en la Iglesia Adventista, muchas mujeres fueron puestas en posiciones de liderazgo sin tener el beneficio de una experiencia o liderazgo previo. Con frecuencia ellas descubrieron que sus amigas mujeres no parecían querer seguir sus liderazgos y que los hombres - ancianos, pastores y administradores de la iglesia, parecían reacios a dejarlas en el “club” de líderes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prender a relacionarse de forma nueva y diferente con las mujeres y los líderes masculinos de la iglesia, puede ser un desafío. El primer desafío es relacionarse con las mujeres para fomentar su ayuda y participación. El segundo desafío, es relacionarse con los hombres en su posición de líderes para ganar su respeto y cooperación.  En general, lo complicado de estos desafíos, es que necesitamos aproximarnos a hombres y mujeres muy diferentes. Pero nuestro éxito como líderes de los Ministerios de la Mujer depende de dominar el arte de relacionarnos con ambos gén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bajando con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999 la historia del año de la Prensa Asociada, fue una historia deportiva. Ahora apenas es una noticia. Las naciones alrededor del mundo están obsesionadas con deportes. Entonces no fue una gran sorpresa que la Prensa Asociada votara como la Historia del Año, una historia de deportes – esto fue deportes de mujeres, la historia del equipo de fútbol de mujeres, ganador de la copa mundial al derrotar al equipo de China por un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noticia que comenzó siendo un pequeño torneo de fútbol, se tornó en la historia deportiva más grande del año. Debido a este partido, al que asistieron 90,000 personas al Rose Bowl para ver, y 40 millones de personas miraron por televisión, las 20 mujeres del equipo de forma inesperada llegaron a ser heroínas de América. Las miembros del equipo fueron asediadas por hinchas quienes pedían autógrafos, desfiles y comidas se dieron en su honor y ellas fueron felicitadas personalmente por el Presidente de los Estados Unidos. Además fueron nombradas las mejores atletas femeninas del año – si, un equipo completo, fue nombrado como la mejor atleta femenina del año – primera vez que a un equipo le fue otorgado tal 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un pequeño torneo de fútbol” se tornó en un gran evento? ¿Especialmente un equipo de fútbol de mujeres? Todo comenzó en 1995, cuando el equipo de fútbol de mujeres perdió la copa mundial ante Noruega en las semifinales. Ellas fueron humilladas, no solo por perder el campeonato, sino también por no alcanzar la final.  Ellas determinaron que nunca más pasaría lo mismo. Todo lo que ellas hablaban era, qué podían hacer individualmente y cómo equipo, y cómo recuperar su posición número un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A3B36B-7900-479A-B442-5DB975301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136600" y="542880"/>
            <a:ext cx="2583000" cy="1936800"/>
          </a:xfrm>
          <a:prstGeom prst="rect">
            <a:avLst/>
          </a:prstGeom>
          <a:ln w="0">
            <a:noFill/>
          </a:ln>
        </p:spPr>
      </p:sp>
      <p:sp>
        <p:nvSpPr>
          <p:cNvPr id="188"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Esté conciente de su lenguaje corporal. Sonría, asiente con la cabeza, inclínese hacia adelante cuando habla con las mujeres en su comisión. Estas son maneras como afirmar y apoyar a las mujeres, lo cual resultará en su respal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Sea una alentadora proporcionando respuestas positivas, agradeciéndoles por lo que hacen, enviándoles notas de apreciació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No toque su propia bocina. Esto llama la atención al desequilibrio del poder en la relación.  Recuerde que es más fácil para las mujeres apoyarse unas a otras en el dolor que en la alegría, entonces evite llamar la atención en sus éxitos. Por ejemplo, si usted ha sido promovida a una posición importante, cuando una mujer le ofrece sus felicitaciones, es mejor responder con algo como “Espero representar bien a las mujeres en esta posición”, en vez de decir “gracias, espero con placer lograr mucho”. Esta última respuesta puede ir bien con los hombres, pero viola a “Todos son iguales en poder” con respecto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Permanezca de manera profesional y positiva en sus interacciones. Si a pesar de sus mejores esfuerzos, usted es el blanco de las murmuraciones o falta de apoyo, no se deje arrastrar por el conflicto. Permanezca concentrada y siga siendo profesional. Ignore cualquier habladuría o insulto y no tome venganza. Evite quejarse al pastor o a los administradores, porque ellos verán esto como una pelea de gatos y no querrán involucr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lguien continua atacándola indirectamente, enfréntela y explíquele que lo que ella está diciendo y haciendo es interferir con la unidad del equipo y que debe cambiar su conduc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FLICTOS CON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as mujeres trabajan juntas, pueden levantarse algunos conflictos. Es importante para las mujeres aprender a separar el asunto de la relación.  Con cooperación, el conflicto puede ser saludable y productivo si las mujeres se enfocan en el asunto por un lado y no permiten que la relación se afecte por el efecto del conflict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ECD1DC-1962-46B5-8854-F0425BD71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136600" y="542880"/>
            <a:ext cx="2583000" cy="1936800"/>
          </a:xfrm>
          <a:prstGeom prst="rect">
            <a:avLst/>
          </a:prstGeom>
          <a:ln w="0">
            <a:noFill/>
          </a:ln>
        </p:spPr>
      </p:sp>
      <p:sp>
        <p:nvSpPr>
          <p:cNvPr id="191"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La cooperación se puede lograr 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Respetar la opos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Valorar la relación con aquellos que tienen su punto de vista en opos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econocer que es necesaria la oposición para aplicar el resultado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9E60D2-7B19-478F-A536-429127719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2136600" y="542880"/>
            <a:ext cx="2583000" cy="1936800"/>
          </a:xfrm>
          <a:prstGeom prst="rect">
            <a:avLst/>
          </a:prstGeom>
          <a:ln w="0">
            <a:noFill/>
          </a:ln>
        </p:spPr>
      </p:sp>
      <p:sp>
        <p:nvSpPr>
          <p:cNvPr id="194"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poyar la autoestima y sentido de poder de los opon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oyar su propia autoestima y sentido de po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uscar resoluciones de provecho mutuo, lo cual no solamente promueve la colaboración, sino también ayuda a preservar la re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ás grandes obstáculos en la resolución de conflictos es cuando una líder actúa a la defensiva. Con frecuencia no nos damos cuenta que estamos reaccionando a la defensiva, entonces el primer paso para controlar el ir a la defensiva, es simplemente estar conciente de nuestras propias reacciones defensivas. ¿Levantas la voz? o ¿te cruzas de brazos? ¿Llegas a estar ruboriz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te das cuenta que estás yendo a la defensiva, esfuérzate y relájate, entonces tu lenguaje corporal y la modulación de la voz no dejan traslucir la actitud defensiva. No te cruces de brazos o empuñes las manos. Controla tu voz de modo que no se corte o chille, sino que salga y suene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céntrate en escuchar a las otras personas y comprende sus puntos de vista. Permite que ellas digan lo que desean y hazles saber que sus sentimientos son válidos. Esto no quiere decir que les estás diciendo que ellas están en lo cierto o están equivocadas. Esto simplemente dice que comprendes sus puntos de vis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DC5423-20F6-4EC9-BB15-51C31A9A8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136600" y="542880"/>
            <a:ext cx="2583000" cy="1936800"/>
          </a:xfrm>
          <a:prstGeom prst="rect">
            <a:avLst/>
          </a:prstGeom>
          <a:ln w="0">
            <a:noFill/>
          </a:ln>
        </p:spPr>
      </p:sp>
      <p:sp>
        <p:nvSpPr>
          <p:cNvPr id="197"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PTANDO LA CRÍT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líder debe aprender a aceptar la crítica sin entrar a la defensiva. Esto ayuda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olicitar un ejemplo específico de lo que te están critic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cidir por sí misma si la crítica es ju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la crítica es justa, no pongas excusas. Mas bien, piensa en cómo puedes rectificar la situació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C1784A-B38D-4CB2-9848-6D52BE6AA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136600" y="542880"/>
            <a:ext cx="2583000" cy="1936800"/>
          </a:xfrm>
          <a:prstGeom prst="rect">
            <a:avLst/>
          </a:prstGeom>
          <a:ln w="0">
            <a:noFill/>
          </a:ln>
        </p:spPr>
      </p:sp>
      <p:sp>
        <p:nvSpPr>
          <p:cNvPr id="200"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la crítica es injusta, di “Me siento malentendida”. No digas “ustedes han entendido mal la situación” o “ustedes están siendo irrazon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gradece la crítica, ya sea si es válida o no. Esto te ayudará a resolver conflictos fut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el debate:</a:t>
            </a:r>
            <a:r>
              <a:rPr b="0" lang="es-ES" sz="1200" spc="-1" strike="noStrike">
                <a:solidFill>
                  <a:srgbClr val="000000"/>
                </a:solidFill>
                <a:latin typeface="Arial"/>
              </a:rPr>
              <a:t> ¿Qué lecciones puedes aprender, del uso que hizo el equipo de fútbol de mujeres de USA de “Todos son iguales en poder”, que te ayudará con tu comisión de Ministerios de la muj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265800-2846-437F-9C55-845592874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136600" y="542880"/>
            <a:ext cx="2583000" cy="1936800"/>
          </a:xfrm>
          <a:prstGeom prst="rect">
            <a:avLst/>
          </a:prstGeom>
          <a:ln w="0">
            <a:noFill/>
          </a:ln>
        </p:spPr>
      </p:sp>
      <p:sp>
        <p:nvSpPr>
          <p:cNvPr id="203"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BAJANDO CON GRUPO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Recuerde que </a:t>
            </a:r>
            <a:r>
              <a:rPr b="1" lang="es-ES" sz="1200" spc="-1" strike="noStrike">
                <a:solidFill>
                  <a:srgbClr val="000000"/>
                </a:solidFill>
                <a:latin typeface="Arial"/>
              </a:rPr>
              <a:t>las mujeres tienden a ser constructoras por consenso</a:t>
            </a:r>
            <a:r>
              <a:rPr b="0" lang="es-ES" sz="1200" spc="-1" strike="noStrike">
                <a:solidFill>
                  <a:srgbClr val="000000"/>
                </a:solidFill>
                <a:latin typeface="Arial"/>
              </a:rPr>
              <a:t> – a ellas les gusta involucrarse en grupo en el proceso de hacer decisiones. Por lo tanto, cuando las mujeres perciben que una de sus colegas, en una posición de liderazgo, está para darles órdenes, ellas con frecuencia reaccionan retirando su apoyo. Si la líder mantiene en mente la importancia de compartir las metas y lo enfatiza al grupo, proporcionando oportunidades para adherirse y compartir, es más probable que las mujeres quieran seguir su liderazg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Unicode MS"/>
                <a:ea typeface="Arial Unicode MS"/>
              </a:rPr>
              <a:t>∙  </a:t>
            </a:r>
            <a:r>
              <a:rPr b="1" lang="es-ES" sz="1200" spc="-1" strike="noStrike">
                <a:solidFill>
                  <a:srgbClr val="000000"/>
                </a:solidFill>
                <a:latin typeface="Arial"/>
              </a:rPr>
              <a:t>Las mujeres tienden a hablar más en las reuniones que los hombres.</a:t>
            </a:r>
            <a:r>
              <a:rPr b="0" lang="es-ES" sz="1200" spc="-1" strike="noStrike">
                <a:solidFill>
                  <a:srgbClr val="000000"/>
                </a:solidFill>
                <a:latin typeface="Arial"/>
              </a:rPr>
              <a:t> Es importante para todas las mujeres tener la oportunidad de ser oídas, pero la líder también tiene la tarea de mantener al grupo de miembros enfocadas en el tema y luego ayudar al grupo a llegar a un consenso de una manera oportuna. Puede ser útil establecer un tiempo límite para los argumentos al comienzo de la reunió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Qué sucede cuando la líder tiene una visión de lo que debe ser realizado, pero el equipo de miembros no capta la visión? Es muy raro que el asunto funcione si la líder persiste en promover su visión, y nadie lo está siguiendo. En tal caso, sería sabio para la líder, dejar de lado su visión, por lo menos temporariamente, y trabajar con su equipo sobre la edificación de la visión y la unidad. Cuando las mujeres tienen una visión de lo que debe realizarse, ellas la apoyará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538B0A-31CC-4C40-9CC8-F87A6F0EC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2136600" y="542880"/>
            <a:ext cx="2583000" cy="1936800"/>
          </a:xfrm>
          <a:prstGeom prst="rect">
            <a:avLst/>
          </a:prstGeom>
          <a:ln w="0">
            <a:noFill/>
          </a:ln>
        </p:spPr>
      </p:sp>
      <p:sp>
        <p:nvSpPr>
          <p:cNvPr id="206"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BAJANDO CON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riormente hemos hablado sobre las diferencias en la manera que los niños y las niñas juegan y se comunican. Estos patrones de la niñez tienden a permanecer en su lugar por toda la vida. Las mujeres hablan y oyen un lenguaje de intimidad y conexión, mientras que los hombres hablan y oyen un lenguaje de estatus e independencia.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312B37-B5C1-43EF-85BF-96055C507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136600" y="542880"/>
            <a:ext cx="2583000" cy="1936800"/>
          </a:xfrm>
          <a:prstGeom prst="rect">
            <a:avLst/>
          </a:prstGeom>
          <a:ln w="0">
            <a:noFill/>
          </a:ln>
        </p:spPr>
      </p:sp>
      <p:sp>
        <p:nvSpPr>
          <p:cNvPr id="209"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Tannen, en su libro </a:t>
            </a:r>
            <a:r>
              <a:rPr b="0" i="1" lang="es-ES" sz="1200" spc="-1" strike="noStrike">
                <a:solidFill>
                  <a:srgbClr val="000000"/>
                </a:solidFill>
                <a:latin typeface="Arial"/>
              </a:rPr>
              <a:t>“Hablando de 9 a 5”</a:t>
            </a:r>
            <a:r>
              <a:rPr b="0" lang="es-ES" sz="1200" spc="-1" strike="noStrike">
                <a:solidFill>
                  <a:srgbClr val="000000"/>
                </a:solidFill>
                <a:latin typeface="Arial"/>
              </a:rPr>
              <a:t>  llama a estos estilos, conversación tipo informe y conversación con armoní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3DED87-C1C2-472C-B61B-0113DBE23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136600" y="542880"/>
            <a:ext cx="2583000" cy="1936800"/>
          </a:xfrm>
          <a:prstGeom prst="rect">
            <a:avLst/>
          </a:prstGeom>
          <a:ln w="0">
            <a:noFill/>
          </a:ln>
        </p:spPr>
      </p:sp>
      <p:sp>
        <p:nvSpPr>
          <p:cNvPr id="212"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Para muchas mujeres el lenguaje de conversación es principalmente un lenguaje de armonía: una forma de establecer conexiones y relaciones de negociació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Para muchos hombres, el hablar es principalmente un medio para preservar la independencia y negociar y mantener un estatus en un orden social jerárquico.  Esto se hace exhibiendo conocimiento y habilidad y manteniendo el centro del escenario mediante desempeños verbales tales como, contar una historia, bromear o impartir información.  Esto es una conversación tipo informe. ¡No se asombre si algunas veces parece que los hombres y las mujeres hablan lenguajes difer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llegar al lugar de trabajo, el estilo de comunicación de los hombres continúa siendo informativo al hablar y el de las mujeres, de armonía al hablar. Entonces podemos entender, por qué hay con frecuencia confusión y mal entendimiento entre los hombres y las mujeres, estando ambos en comunicación cada día, en el mismo lugar de trabajo, incluyendo comisiones. Por supuesto, los estilos típicos de las mujeres y los hombres tienen sentido, dado el contexto en el cual ellos han aprendido, pero ellos tienen consecuencias muy diferentes en el lugar de trabajo. Esas diferencias básicas en los estilos de comunicación se asocian directamente a las diferencias en comportamiento también – cómo las mujeres y los hombres se comportan dentro y fuera del lugar de trabajo. Allí hay algunas diferencias muy fundamentales. Aquí de nuevo, las mujeres con frecuencia son mal entendidas en el lugar de trabajo porque no siempre hacen cosas de la forma que los hombres lo hacen. Debido a estas diferencias, las mujeres estamos en desventaja, por lo menos al iniciar, cuando comenzamos trabajando con hombres. La mujer que trabaja con hombres y mujeres debe aprender las diferencias y adaptar su manera de actuar al género con el cual ella va interactua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0696E3-1BCC-4F69-903F-FE9CBC4564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136600" y="542880"/>
            <a:ext cx="2583000" cy="1936800"/>
          </a:xfrm>
          <a:prstGeom prst="rect">
            <a:avLst/>
          </a:prstGeom>
          <a:ln w="0">
            <a:noFill/>
          </a:ln>
        </p:spPr>
      </p:sp>
      <p:sp>
        <p:nvSpPr>
          <p:cNvPr id="215"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erente a los hombres en el campo de los negocios (incluyendo el trabajo denominacional), </a:t>
            </a:r>
            <a:r>
              <a:rPr b="1" lang="es-ES" sz="1200" spc="-1" strike="noStrike">
                <a:solidFill>
                  <a:srgbClr val="000000"/>
                </a:solidFill>
                <a:latin typeface="Arial"/>
              </a:rPr>
              <a:t>la mujer de éxito es una que ha desarrollado un estilo en el cual los hombres se sienten cómodos</a:t>
            </a:r>
            <a:r>
              <a:rPr b="0" lang="es-ES" sz="1200" spc="-1" strike="noStrike">
                <a:solidFill>
                  <a:srgbClr val="000000"/>
                </a:solidFill>
                <a:latin typeface="Arial"/>
              </a:rPr>
              <a:t>.  De lo contrario, ellos pueden excluirte y hacerte ineficaz. Esto nos obliga a adaptarnos. Porque cuanto mejor entendamos las diferencias de trabajar con hombres y mujeres, cuanto más eficaces seremos. Afortunadamente, para las mujeres el estilo de liderazgo en el mundo de los negocios, está cambiando lentamente, más al estilo de las mujeres – construir en consenso y trabajo en equip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06126C-94A3-4586-BBC1-BCDC0C93C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2136600" y="542880"/>
            <a:ext cx="2583000" cy="1936800"/>
          </a:xfrm>
          <a:prstGeom prst="rect">
            <a:avLst/>
          </a:prstGeom>
          <a:ln w="0">
            <a:noFill/>
          </a:ln>
        </p:spPr>
      </p:sp>
      <p:sp>
        <p:nvSpPr>
          <p:cNvPr id="164" name="PlaceHolder 2"/>
          <p:cNvSpPr>
            <a:spLocks noGrp="1"/>
          </p:cNvSpPr>
          <p:nvPr>
            <p:ph type="body"/>
          </p:nvPr>
        </p:nvSpPr>
        <p:spPr>
          <a:xfrm>
            <a:off x="701280" y="2514600"/>
            <a:ext cx="5607000" cy="596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no es un deporte, pero hay lecciones valiosas que aquellas mujeres involucradas en este ministerio pueden aprender de un equipo de fútbol. Cuando el equipo recorrió los Estados Unidos ese verano después de ganar el campeonato, ellas enfatizaron que la recuperación del título, fue debido a la mejor estrategia que el entrenador pasó a las jugadoras: la importancia de la unidad. Las 20 mujeres estaban unidas en propósito y tuvieron completa fe y confianza en cada una. Si la unidad y la fe son importantes en los deportes, lo son aún más en los Ministerios de la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entrenador reconoció la importancia de la unidad, designó estrategias para construir el trabajo en equipo. Una de las cosas que él hizo, fue guiar a las jugadoras miembros del equipo, vendadas los ojos, hacia un barranco peligroso.  En una corta sesión de práctica antes de disputar el título con China, el equipo formó una línea e intentó movilizarse en perfecta simetría mientras sostenían globos entre sus cuerpos. Otra cosa importante que ellas hicieron para promover la unidad fue intercambiar compañeras de cuarto, cada vez que ellas hacían viajes largos de toda la noche. Esto fue para prevenir la formación de grupos exclusivos, lo cual puede ser mortal para la unidad de todo el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strella más importante del equipo, Mía Hamm, fue la personificación del espíritu del equipo. Ella rechazó aceptar una distinción personal por su mérito en el equipo. Su declaración fue, “todo lo que soy, lo debo a este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 miembro del equipo, Shannon McMillan, fue una miembro del equipo de fútbol que ganó la medalla de oro en los Juegos Olímpicos de USA. en 1996. Pero ella aceptó gentilmente una posición sin importancia antes de comenzar los juegos por la Copa Mundial. Aún después que ella ayudó al equipo en varias victorias claves, ella se negó a reclamar una posición importante en el equipo. En vez de eso, ella dijo: “haré todo lo que este equipo me pida. Mi corazón y mi alma están con el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se puede ver, su unidad no era accidental. Ellas pasaron cuatro años haciendo intencionalmente todo lo que ellas podían para promover un trabajo en equipo. ¿Por qué? Porque sus ojos estaban centralizados en la meta y ellas sabían que la meta era valorar cada sacrificio, incluyendo sus propios intereses personales. No importaba qué estaba bien, ó qué estaba mal. Lo importante fue que ellas se apoyaron mutu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5AA7D6-BCF6-429B-8D65-E30905F80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136600" y="542880"/>
            <a:ext cx="2583000" cy="1936800"/>
          </a:xfrm>
          <a:prstGeom prst="rect">
            <a:avLst/>
          </a:prstGeom>
          <a:ln w="0">
            <a:noFill/>
          </a:ln>
        </p:spPr>
      </p:sp>
      <p:sp>
        <p:nvSpPr>
          <p:cNvPr id="218"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í están algunas diferencias básicas que se muestran en el lugar de trabaj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o hemos mencionado anteriormente, las mujeres tienden a preferir involucrarse en el grupo para tomar decisiones, mientras que los hombres tienden a actuar solos cuando tienen que hacer decisi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mujeres operan por consenso desde la temprana edad, pero los hombres están acostumbrados a que un hombre tome el cargo y dé órde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mujeres miden su poder ayudando, estimulando y apoyand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A3BFBC-9ED2-408E-9977-D93AE2DA2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2136600" y="542880"/>
            <a:ext cx="2583000" cy="1936800"/>
          </a:xfrm>
          <a:prstGeom prst="rect">
            <a:avLst/>
          </a:prstGeom>
          <a:ln w="0">
            <a:noFill/>
          </a:ln>
        </p:spPr>
      </p:sp>
      <p:sp>
        <p:nvSpPr>
          <p:cNvPr id="221"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M</a:t>
            </a:r>
            <a:r>
              <a:rPr b="0" lang="es-ES" sz="1200" spc="-1" strike="noStrike">
                <a:solidFill>
                  <a:srgbClr val="000000"/>
                </a:solidFill>
                <a:latin typeface="Arial"/>
              </a:rPr>
              <a:t>ientras que los hombres miden su poder obteniendo información, habilidades y técnicas. Entonces los hombres no pueden ver a una mujer obteniendo éxito cuando se reúne en consenso y es comprensiva en vez de autoritar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as mujeres han aprendido a minimizar sus conocimientos para que las otras mujeres se sientan a gusto, mientras que los hombres están mucho más acostumbrados a desplegar sus conocimientos. Aún cuando una mujer conoce más que un hombre, o más que el resto del grupo, ella tiende a minimizarse porque teme que su conocimiento superior haga sentir a los otros, especialmente a los hombres, incómodos. Como las relaciones valen mucho para las mujeres, ellas piensan en cómo su conocimiento afectará a sus relaciones. Mejor que pregonar su habilidad, una mujer es más probable a ser indirecta con ello. Sin embargo, esto puede algunas veces tener efecto desfavorable en una mujer. Sus logros o capacidades pueden ser subestimados por los administradores cuando ella trata de minimizarlo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hombres no se relacionan a conocimientos o logros minimizados.  Curiosamente, las mujeres pueden minimizar sus logros incluso a áreas tan pequeñas como el uso de los pronombres. Los hombres tienden a decir “Yo”, mientras las mujeres generalmente dicen “nos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eocupación de las mujeres por las relaciones, puede ser una desventaja al trabajar con los hombres, pero también puede ser el secreto de su éxito. Una mujer que asciende al primer lugar en el campo de publicidad dominado por hombres, no solamente ha sido por su talento profesional, sino también porque cuando surgió un problema entre un cliente y la agencia, ella fue la única persona que se le podía confiar. Ambas partes se sintieron cómodas con ella y le confiaron los mejores intereses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presidente de una asociación una vez dijo públicamente, que tener a una mujer como una vicepresidente de la Asociación era lo mejor que había pasado a su grupo de oficiales, que son quienes hacen las decisiones de la asociación en los negocios de cada día. La mujer trajo una nueva perspectiva a su proceso de hacer decisiones y como resultado, él dijo que sus decisiones fueron mejores con una mujer en el grupo. Muchos de los créditos van a esa mujer en particular, porque ella es altamente profesional y está habilitada para trabajar tanto con hombres como con mujeres. Pero en gran parte son sus habilidades de como relacionarse, lo que ha contribuido a su éxit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C1568F-8AC1-4FA6-94A9-23C58FAFD3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2136600" y="542880"/>
            <a:ext cx="2583000" cy="1936800"/>
          </a:xfrm>
          <a:prstGeom prst="rect">
            <a:avLst/>
          </a:prstGeom>
          <a:ln w="0">
            <a:noFill/>
          </a:ln>
        </p:spPr>
      </p:sp>
      <p:sp>
        <p:nvSpPr>
          <p:cNvPr id="224"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as mujeres son generalmente percibidas por los hombres como que hablan mucho en las reuniones de juntas. Lo interesante es que los estudios ha revelado que son los hombres quienes hablan más – en las reuniones, en grupos mixtos de debates y en los salones de clases. Esta percepción de que las mujeres hablan más, probablemente viene de la antigüedad, pues no está completamente erradicada la idea que las mujeres y los niños deberían ser vistos y no oídos. Toma mucho tiempo romper con los prejuicios e ideas preconcebidas que han sido sostenidas ampliamente por siglo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estudios muestran que no solamente los hombres hablan más a menudo, sino que hablan más tiempo que las mujeres. A pesar de que estas ideas pueden ser incorrectas, va en contra de las mujeres, el no hablar tan a menudo como los hombres en las comisiones, porque ellas son percibidas como que no conocen mucho, por lo tanto no son tan valiosas en las juntas como los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lática que toma lugar en las juntas generalmente es una conversación tipo informe y considerando la preferencia, puede ser una conversación de armonía, por eso que no es sorprendente que muchas mujeres se sienten incómodas al hablar mucho en las juntas. En las reuniones donde hay muchas personas que quieren hablar, las mujeres especialmente tienen un momento difícil para tomar la palabra, porque ellas no van a competir, pues la competición es más natural en los hombres. Cuando una mujer tiene la palabra debe seguir hablando aún cuando es interrumpida, incluso debe levantar la voz si es necesari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6AB7A3-631F-4F1E-902F-0BA23DEEF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136600" y="542880"/>
            <a:ext cx="2583000" cy="1936800"/>
          </a:xfrm>
          <a:prstGeom prst="rect">
            <a:avLst/>
          </a:prstGeom>
          <a:ln w="0">
            <a:noFill/>
          </a:ln>
        </p:spPr>
      </p:sp>
      <p:sp>
        <p:nvSpPr>
          <p:cNvPr id="227"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oz de una mujer juega un papel importante en la credibilidad y autoridad que los hombres perciben de ella. Tres cosas son especialmente valiosas: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Tonalidad – Si el tono de la voz natural de una mujer es alto, ella tendrá mejor éxito al tratar con los hombres en su lugar de trabajo, si tiende a hablar en tono más bajo.</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l mismo tiempo, su voz no debería ser muy suave o débil. Aunque un tono grave es mejor, la voz de una mujer debe ser firme y fuerte lo suficiente para ser oída fácilmente en las juntas. Una mujer con una voz suave o débil, debe aprender a resaltarla para ser mejor atendid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32E898-6928-4322-9BB2-3034814D0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246400" y="304920"/>
            <a:ext cx="2388960" cy="1790640"/>
          </a:xfrm>
          <a:prstGeom prst="rect">
            <a:avLst/>
          </a:prstGeom>
          <a:ln w="0">
            <a:noFill/>
          </a:ln>
        </p:spPr>
      </p:sp>
      <p:sp>
        <p:nvSpPr>
          <p:cNvPr id="230" name="PlaceHolder 2"/>
          <p:cNvSpPr>
            <a:spLocks noGrp="1"/>
          </p:cNvSpPr>
          <p:nvPr>
            <p:ph type="body"/>
          </p:nvPr>
        </p:nvSpPr>
        <p:spPr>
          <a:xfrm>
            <a:off x="456840" y="2133360"/>
            <a:ext cx="6172200" cy="6629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Muchas mujeres tienen el hábito de permitir que su tono de voz se extienda hasta el final de la oración, haciendo que algunas declaraciones suenen más como dudas. Esto permite que los hombres piensen que ellas están indecisas sobre lo que están diciendo, o sea nada importante. Es mejor que el tono de voz descienda al final de l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han aprendido a hablar con un tono de voz subido hasta el final del concepto porque son constructoras en consenso. Las mujeres aprendieron tempranamente que es malo ser mandona. Pero cuando llegan a comunicarse con hombres en el lugar de trabajo, una voz fuerte ayudará a que suene con autoridad, entonces una mujer será mejor atendida si llega a ser conciente de no hacer declaraciones con un tono de voz dudo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mujeres, debemos darnos cuenta que una mujer en una posición de liderazgo está propensa a ser percibida por muchos hombres como mandona, no solo autoritaria. Cuando Margaret Thatcher era primer ministro de Inglaterra, la prensa británica la describía como “mandona” aunque ella era la jefa. Cuando eligieron a un hombre como primer ministro, ellos no lo describieron como mandón. Y aún no era correcto ante los ojos de algunas personas, que la Sra. Thatcher fuera la jefa, debido a normas de conducta que se aplican a las mujeres basadas en roles que no incluyen ser jefas. Guste o no, esta actitud aún prevalece en la población en general, entonces las mujeres deberían estar concientes de e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lenguaje corporal también juega una parte importante en cuán eficaces o influyentes las mujeres son percibidas por los hombres. Mientras es mejor relacionarnos con mujeres para inclinar nuestras cabezas y cabecear mientras hablamos, para los hombres esto hace que las mujeres parezcan débiles. Las mujeres también han sido enseñadas desde temprana edad a sentarse como damas – cruzando las piernas y juntando las manos sobre la falda. Sin embargo, esto puede hacer que las mujeres parezcan muy tímidas e invisibles en las reuniones. Al relacionarse con los hombres, es mejor que las mujeres inspeccionen su territorio y esparzan sus papeles y materiales a su alrededor en la mesa de comisiones. Las mujeres no deben permitirse ser invisibles, pues serán percibidas como que no tienen ningún derecho, ni poder. La ropa muy femenina, incluyendo carteras, también sugieren falta de po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conversación, hay un hábito que tienen muchas mujeres y que puede ser contraproducente cuando se relacionan con hombres – Disculparse. Las mujeres tienden a decir “Lo siento” mucho más que los hombres. Esto es aceptable en una conversación ritual de mujeres, pero generalmente no con hombres. Si alguien le dice a una mujer que perdió su número telefónico, la mujer responde, “lo siento”, luego le da el número a la persona. Ella siente el hecho que la otra persona hizo - perdió el número telefónico, pues al decir “lo siento” da la apariencia a muchos hombres que se está humillando. Para muchas mujeres el disculparse es simplemente un medio de mantener el equilibrio en una conversación (Todos son iguales en poder), así que la otra persona no esté incómoda. Esto no tiene nada que ver con aceptar la culpa. El ritual de pedir disculpas, funciona bien entre mujeres cuando todas lo entienden, pero con mujeres en el lugar de trabajo, esto puede hacerlas sentirse culpadas por algo que no han cometid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624CBC-49C8-4BCC-8B9B-3F25827F0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136600" y="380880"/>
            <a:ext cx="2583000" cy="1936800"/>
          </a:xfrm>
          <a:prstGeom prst="rect">
            <a:avLst/>
          </a:prstGeom>
          <a:ln w="0">
            <a:noFill/>
          </a:ln>
        </p:spPr>
      </p:sp>
      <p:sp>
        <p:nvSpPr>
          <p:cNvPr id="233" name="PlaceHolder 2"/>
          <p:cNvSpPr>
            <a:spLocks noGrp="1"/>
          </p:cNvSpPr>
          <p:nvPr>
            <p:ph type="body"/>
          </p:nvPr>
        </p:nvSpPr>
        <p:spPr>
          <a:xfrm>
            <a:off x="609480" y="2362320"/>
            <a:ext cx="5927760" cy="67053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UCH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municación, no es solo hablar y usar el lenguaje corporal. También involucra el escuchar. Hay por lo menos cuatro tipos de estilos de escuchar, los cuales están listados en uno de los impres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oyentes orientados a las personas, están más preocupados en cuanta influencia tienen sus relaciones con los otr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oyentes orientados a la acción, se concentran plenamente en el trabajo en cuestión. Para ellos es difícil escuchar a ponentes desorganizad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oyentes orientados al contenido, tienen la tendencia de evaluar cuidadosamente todo lo que oyen. Ellos disfrutan detalles y cavan la superficie para explorar todos los aspectos de un problema.</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Oyentes orientados al tiempo, son guardianes del reloj, y animan a los otros a ser lo mismo. Ellos valoran el tiempo y se vuelven impacientes con aquellos quienes lo desperdici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favor analicen en su tiempo libre y decidan qué estilo ustedes usan más frecuentemente, y que estilos los administradores de sus trabajos tienden a usar. Cuarenta por ciento de la población usa un estilo para escuchar casi exclusivo, mientras que otro cuarenta por ciento tiene dos o más preferencias firmes. Los estilos orientados a la acción y a las personas, son los más predominantes. Y como se puede esperar, los oyentes orientados a las personas son predominantemente mujeres, mientras que los orientados a la acción, es más probable que sean de rasgos masculin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cosas que las mujeres pueden hacer, es aprender a adaptarse a otros estilos de oyentes. Si usted tiende a ser orientada a las personas, pero está hablando con un administrador orientado al tiempo, usted necesita adaptar su estilo de hablar, al estilo de escuchar de él. Generalmente nuestro primer pensamiento es conseguir que los otros entiendan nuestros puntos de vista y cambien sus conductas. Pero son los oyentes quienes tienen el poder. Eso significa que tenemos que elegir escuchar diferente de lo que acostumbramos y adaptar nuestro estilo de hablar, al estilo de escuchar de el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hablar con los administradores, mantengan en mente que los hombres en general no toman en cuenta los indicios. Una mujer corrientemente debe venir y pedir lo que quiere, o decir lo que piensa. No esperen que ellos capten sus sutilez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RENDIENDO A LOS ADMINISTRADORES DENOMINACION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os administradores de la Iglesia están dirigidos por presupuestos y reglamentos. Entonces parte de la clave para entenderlos es conocer sobre los presupuestos y reglamentos de la Iglesi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E05689-3B73-4683-B7F5-5CE17A31B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136600" y="542880"/>
            <a:ext cx="2583000" cy="1936800"/>
          </a:xfrm>
          <a:prstGeom prst="rect">
            <a:avLst/>
          </a:prstGeom>
          <a:ln w="0">
            <a:noFill/>
          </a:ln>
        </p:spPr>
      </p:sp>
      <p:sp>
        <p:nvSpPr>
          <p:cNvPr id="236"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ciendo pedidos a los administrad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mos algunas sugerencias para hacer pedidos a los administradore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 primero es lógica - ¿El pedido tiene sentido? Usted debe ser capaz de convencer a los administradores que es algo sensible para hacer.</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demás de tener sentido, usted debe ser sensible a los problemas que la organización puede estar experimentando actualmente. ¿Los diezmos y las ofrendas están muy bajos? ¿Esto afectará al monto de dinero que ellos han gastado? ¿O la organización está comprometida en un proyecto de construcción o expansión? Estos factores afectan la disponibilidad del dinero de la organizació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Momento oportuno. Si usted sabe que los administradores están luchando con problemas particulares, espere un poquito antes de hacer su pedido. Él estará mucho más probable a ser receptivo, cuando no esté atribulado con asuntos irritant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705258-D9BB-4BEC-AAC0-1F73EC292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136600" y="542880"/>
            <a:ext cx="2583000" cy="1936800"/>
          </a:xfrm>
          <a:prstGeom prst="rect">
            <a:avLst/>
          </a:prstGeom>
          <a:ln w="0">
            <a:noFill/>
          </a:ln>
        </p:spPr>
      </p:sp>
      <p:sp>
        <p:nvSpPr>
          <p:cNvPr id="239"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Entienda cuando desistir</a:t>
            </a:r>
            <a:r>
              <a:rPr b="0" lang="es-ES" sz="1200" spc="-1" strike="noStrike">
                <a:solidFill>
                  <a:srgbClr val="000000"/>
                </a:solidFill>
                <a:latin typeface="Arial"/>
              </a:rPr>
              <a:t>. Aunque NO, no siempre significa un no definitivo, es probable que signifique un no del momento. Puede ser sabio pedirle que revise su propuesta para discutirlo con él otra vez.</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Vaya al punto cuanto antes.</a:t>
            </a:r>
            <a:r>
              <a:rPr b="0" lang="es-ES" sz="1200" spc="-1" strike="noStrike">
                <a:solidFill>
                  <a:srgbClr val="000000"/>
                </a:solidFill>
                <a:latin typeface="Arial"/>
              </a:rPr>
              <a:t> Los líderes tienden a ser oyentes orientados a la acción u oyentes orientados al tiempo. Ellos quieren saber el corazón del asunto rápidamente. Ellos están atareados con personas. Las mujeres, por otro lado, tienden a querer explicar todo en detalles, para que él consiga el cuadro completo. Generalmente, él no está interesado en el cuadro completo. Él solo quiere saber la razón fundament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No se queje ni se emocione.</a:t>
            </a:r>
            <a:r>
              <a:rPr b="0" lang="es-ES" sz="1200" spc="-1" strike="noStrike">
                <a:solidFill>
                  <a:srgbClr val="000000"/>
                </a:solidFill>
                <a:latin typeface="Arial"/>
              </a:rPr>
              <a:t> A los administradores no les gustan los reclamos. No es correcto que una mujer se lamente en un ambiente de negocios. Los hombres se sienten incómodos con las lágrimas y ellos la verán de forma negativ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Sea objetiva</a:t>
            </a:r>
            <a:r>
              <a:rPr b="0" lang="es-ES" sz="1200" spc="-1" strike="noStrike">
                <a:solidFill>
                  <a:srgbClr val="000000"/>
                </a:solidFill>
                <a:latin typeface="Arial"/>
              </a:rPr>
              <a:t> al hacer su decisión y en todos sus tratos con los administradores. Los hombres tienden a ver a las mujeres como seres subjetivos o simplemente emocionales, porque el proceso de pensar de las mujeres es diferente del de ellos. Entonces las mujeres deben ser cuidadosas de no usar una forma que pueda ser interpretada como emociona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07F60D-AB25-4AAE-B4E3-66448ECB1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136600" y="542880"/>
            <a:ext cx="2583000" cy="1936800"/>
          </a:xfrm>
          <a:prstGeom prst="rect">
            <a:avLst/>
          </a:prstGeom>
          <a:ln w="0">
            <a:noFill/>
          </a:ln>
        </p:spPr>
      </p:sp>
      <p:sp>
        <p:nvSpPr>
          <p:cNvPr id="242"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líderes con frecuencia tienen expectativas tácitas de los empleados y voluntarios. La lista que presentamos a continuación es una usada por un administrador experimentado que lo usa para evaluar a sus emplead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Primero de todo, una relación con Jesús. Incluso en una organización de iglesia, nosotros no podemos tomarlo como concedida, sino como esencial.</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ealtad – Aún si usted es un voluntario y no un empleado regular, los administradores aún esperan de usted lealtad.</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Visión – Se supone que usted tiene una visión de lo que quiere ver realizado, pero es importante comunicarlo a su líder.</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Que acepte la responsabilidad – Como una líder de los Ministerios de la Mujer, usted debe aceptar su responsabilidad y a los miembros de su comisió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40BBC9-7C60-4BC5-92BB-512EFB257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136600" y="542880"/>
            <a:ext cx="2583000" cy="1936800"/>
          </a:xfrm>
          <a:prstGeom prst="rect">
            <a:avLst/>
          </a:prstGeom>
          <a:ln w="0">
            <a:noFill/>
          </a:ln>
        </p:spPr>
      </p:sp>
      <p:sp>
        <p:nvSpPr>
          <p:cNvPr id="245"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Colaboración</a:t>
            </a:r>
            <a:r>
              <a:rPr b="0" lang="es-ES" sz="1200" spc="-1" strike="noStrike">
                <a:solidFill>
                  <a:srgbClr val="000000"/>
                </a:solidFill>
                <a:latin typeface="Arial"/>
              </a:rPr>
              <a:t> – Los administradores no solo quieren ver cooperación entre las miembros del equipo de los Ministerios de la Mujer, ellos también quieren cooperación con los otros departamentos y con la organización como un todo. Recuerde que los Ministerios de la Mujer es solamente uno de los muchos departamentos en la organizació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Actitud positiva y alegre</a:t>
            </a:r>
            <a:r>
              <a:rPr b="0" lang="es-ES" sz="1200" spc="-1" strike="noStrike">
                <a:solidFill>
                  <a:srgbClr val="000000"/>
                </a:solidFill>
                <a:latin typeface="Arial"/>
              </a:rPr>
              <a:t> – Esto incluye no ser una persona quejos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Buena voluntad para ayudar a otros</a:t>
            </a:r>
            <a:r>
              <a:rPr b="0" lang="es-ES" sz="1200" spc="-1" strike="noStrike">
                <a:solidFill>
                  <a:srgbClr val="000000"/>
                </a:solidFill>
                <a:latin typeface="Arial"/>
              </a:rPr>
              <a:t> – Los Ministerios de la Mujer se integran a la organización y se involucran con otros departamentos, las mejores mujeres serán percibidas por los administrador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Integridad </a:t>
            </a:r>
            <a:r>
              <a:rPr b="0" lang="es-ES" sz="1200" spc="-1" strike="noStrike">
                <a:solidFill>
                  <a:srgbClr val="000000"/>
                </a:solidFill>
                <a:latin typeface="Arial"/>
              </a:rPr>
              <a:t>– Nunca hay una excusa por una falta de integrid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Pacificador</a:t>
            </a:r>
            <a:r>
              <a:rPr b="0" lang="es-ES" sz="1200" spc="-1" strike="noStrike">
                <a:solidFill>
                  <a:srgbClr val="000000"/>
                </a:solidFill>
                <a:latin typeface="Arial"/>
              </a:rPr>
              <a:t> – las mujeres no deben tomar seriamente algunos conflictos que son parte rutinaria de sus interacciones con otras mujeres. Las líderes de mujeres deben ser expertas para controlar conflict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8FFFA2-BBC0-4DB1-B73C-12D8881DA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2109960" y="542880"/>
            <a:ext cx="2582640" cy="1936800"/>
          </a:xfrm>
          <a:prstGeom prst="rect">
            <a:avLst/>
          </a:prstGeom>
          <a:ln w="0">
            <a:noFill/>
          </a:ln>
        </p:spPr>
      </p:sp>
      <p:sp>
        <p:nvSpPr>
          <p:cNvPr id="167" name="PlaceHolder 2"/>
          <p:cNvSpPr>
            <a:spLocks noGrp="1"/>
          </p:cNvSpPr>
          <p:nvPr>
            <p:ph type="body"/>
          </p:nvPr>
        </p:nvSpPr>
        <p:spPr>
          <a:xfrm>
            <a:off x="701280" y="2514600"/>
            <a:ext cx="5607000" cy="596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estas mujeres atletas podemos aprender varias lecciones sobre cómo trabajar con las mujeres. Primero de todo, compañeras de equipo no es solo darse apoyo verbal unas a otras, como muchas mujeres hacen con sus amigas. Las compañeras de equipo ofrecen amistad, simpatía y además una ayuda para cumplir sus objetivos mutuamente – porque ellas tienen la misma visión y me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segundo lugar, ellas conocen cómo unirse. Una de las estrellas del equipo de fútbol, Michelle Akers, dijo que las chicas quienes crecen compitiendo sobre belleza o enamorados, no se adherían al lugar de trabajo, no compartían información y no orientaban a otras mujeres. Por otro lado, en un equipo atlético de éxito, unas a otras se apoyan debido a su visión compartida de quienes son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onces, el primer desafío de una líder de los Ministerios de la Mujer, es construir la unidad con otras mujeres al mantener sus ojos, y los ojos de las miembros del equipo, enfocados en el objetivo compartido.  Una líder debe ser la primera en sacrificar su orgullo y deseo de import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íderes de los Ministerios de la Mujer son de todas las formas y tamaños, y de diferentes ambientes. Algunas son pagadas a sueldo, a otras se les da una pequeña remuneración, aún otras trabajan como voluntarias. Algunas son mujeres profesionales, mientras otras no tienen previa experiencia en el liderazgo. Los factores de la unificación, son su amor a Dios y a las mujeres de la Iglesia, así como también su dedicación a los Ministerios de la Mujer. Dios usa los ambientes y perspectivas diferentes de las líderes de los Ministerios de la Mujer para aceptar a todas las mujeres de la Igles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057797-2CBC-484B-8671-3645C288D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136600" y="542880"/>
            <a:ext cx="2583000" cy="1936800"/>
          </a:xfrm>
          <a:prstGeom prst="rect">
            <a:avLst/>
          </a:prstGeom>
          <a:ln w="0">
            <a:noFill/>
          </a:ln>
        </p:spPr>
      </p:sp>
      <p:sp>
        <p:nvSpPr>
          <p:cNvPr id="248" name="PlaceHolder 2"/>
          <p:cNvSpPr>
            <a:spLocks noGrp="1"/>
          </p:cNvSpPr>
          <p:nvPr>
            <p:ph type="body"/>
          </p:nvPr>
        </p:nvSpPr>
        <p:spPr>
          <a:xfrm>
            <a:off x="701280" y="2514600"/>
            <a:ext cx="5775480" cy="59659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a:t>
            </a:r>
            <a:r>
              <a:rPr b="0" lang="es-ES" sz="1200" spc="-1" strike="noStrike">
                <a:solidFill>
                  <a:srgbClr val="000000"/>
                </a:solidFill>
                <a:latin typeface="Arial"/>
              </a:rPr>
              <a:t>	</a:t>
            </a:r>
            <a:r>
              <a:rPr b="1" lang="es-ES" sz="1200" spc="-1" strike="noStrike">
                <a:solidFill>
                  <a:srgbClr val="000000"/>
                </a:solidFill>
                <a:latin typeface="Arial"/>
              </a:rPr>
              <a:t>Puntualidad </a:t>
            </a:r>
            <a:r>
              <a:rPr b="0" lang="es-ES" sz="1200" spc="-1" strike="noStrike">
                <a:solidFill>
                  <a:srgbClr val="000000"/>
                </a:solidFill>
                <a:latin typeface="Arial"/>
              </a:rPr>
              <a:t>– Estar a tiempo en las reuniones y mantener sus propias reuniones a tiempo es percibido por los administradores, así como también por otras muj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1.</a:t>
            </a:r>
            <a:r>
              <a:rPr b="0" lang="es-ES" sz="1200" spc="-1" strike="noStrike">
                <a:solidFill>
                  <a:srgbClr val="000000"/>
                </a:solidFill>
                <a:latin typeface="Arial"/>
              </a:rPr>
              <a:t>	</a:t>
            </a:r>
            <a:r>
              <a:rPr b="1" lang="es-ES" sz="1200" spc="-1" strike="noStrike">
                <a:solidFill>
                  <a:srgbClr val="000000"/>
                </a:solidFill>
                <a:latin typeface="Arial"/>
              </a:rPr>
              <a:t>Confidencias de honor</a:t>
            </a:r>
            <a:r>
              <a:rPr b="0" lang="es-ES" sz="1200" spc="-1" strike="noStrike">
                <a:solidFill>
                  <a:srgbClr val="000000"/>
                </a:solidFill>
                <a:latin typeface="Arial"/>
              </a:rPr>
              <a:t> – En su posición como líder, usted recibirá información que no puede ser compart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2.</a:t>
            </a:r>
            <a:r>
              <a:rPr b="0" lang="es-ES" sz="1200" spc="-1" strike="noStrike">
                <a:solidFill>
                  <a:srgbClr val="000000"/>
                </a:solidFill>
                <a:latin typeface="Arial"/>
              </a:rPr>
              <a:t>	</a:t>
            </a:r>
            <a:r>
              <a:rPr b="1" lang="es-ES" sz="1200" spc="-1" strike="noStrike">
                <a:solidFill>
                  <a:srgbClr val="000000"/>
                </a:solidFill>
                <a:latin typeface="Arial"/>
              </a:rPr>
              <a:t>Buena voluntad para trabajar fuerte</a:t>
            </a:r>
            <a:r>
              <a:rPr b="0" lang="es-ES" sz="1200" spc="-1" strike="noStrike">
                <a:solidFill>
                  <a:srgbClr val="000000"/>
                </a:solidFill>
                <a:latin typeface="Arial"/>
              </a:rPr>
              <a:t> – Se espera que las líderes sean de arremet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a:t>
            </a:r>
            <a:r>
              <a:rPr b="0" lang="es-ES" sz="1200" spc="-1" strike="noStrike">
                <a:solidFill>
                  <a:srgbClr val="000000"/>
                </a:solidFill>
                <a:latin typeface="Arial"/>
              </a:rPr>
              <a:t>	</a:t>
            </a:r>
            <a:r>
              <a:rPr b="1" lang="es-ES" sz="1200" spc="-1" strike="noStrike">
                <a:solidFill>
                  <a:srgbClr val="000000"/>
                </a:solidFill>
                <a:latin typeface="Arial"/>
              </a:rPr>
              <a:t>Confianza en sí mismo</a:t>
            </a:r>
            <a:r>
              <a:rPr b="0" lang="es-ES" sz="1200" spc="-1" strike="noStrike">
                <a:solidFill>
                  <a:srgbClr val="000000"/>
                </a:solidFill>
                <a:latin typeface="Arial"/>
              </a:rPr>
              <a:t> – Recuerde que la falta de confianza en si mismo es visto por los hombres como debi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a:t>
            </a:r>
            <a:r>
              <a:rPr b="0" lang="es-ES" sz="1200" spc="-1" strike="noStrike">
                <a:solidFill>
                  <a:srgbClr val="000000"/>
                </a:solidFill>
                <a:latin typeface="Arial"/>
              </a:rPr>
              <a:t>	</a:t>
            </a:r>
            <a:r>
              <a:rPr b="1" lang="es-ES" sz="1200" spc="-1" strike="noStrike">
                <a:solidFill>
                  <a:srgbClr val="000000"/>
                </a:solidFill>
                <a:latin typeface="Arial"/>
              </a:rPr>
              <a:t>Respeto de uno mismo</a:t>
            </a:r>
            <a:r>
              <a:rPr b="0" lang="es-ES" sz="1200" spc="-1" strike="noStrike">
                <a:solidFill>
                  <a:srgbClr val="000000"/>
                </a:solidFill>
                <a:latin typeface="Arial"/>
              </a:rPr>
              <a:t> – Nunca olvide que usted tiene precio y valor inestim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a:t>
            </a:r>
            <a:r>
              <a:rPr b="0" lang="es-ES" sz="1200" spc="-1" strike="noStrike">
                <a:solidFill>
                  <a:srgbClr val="000000"/>
                </a:solidFill>
                <a:latin typeface="Arial"/>
              </a:rPr>
              <a:t>	</a:t>
            </a:r>
            <a:r>
              <a:rPr b="1" lang="es-ES" sz="1200" spc="-1" strike="noStrike">
                <a:solidFill>
                  <a:srgbClr val="000000"/>
                </a:solidFill>
                <a:latin typeface="Arial"/>
              </a:rPr>
              <a:t>Buena voluntad para aceptar consejos</a:t>
            </a:r>
            <a:r>
              <a:rPr b="0" lang="es-ES" sz="1200" spc="-1" strike="noStrike">
                <a:solidFill>
                  <a:srgbClr val="000000"/>
                </a:solidFill>
                <a:latin typeface="Arial"/>
              </a:rPr>
              <a:t> – Si viene de un administrador o de una líder experimentada de los Ministerios de la Mujer que es su superior, es importante prestar atención a sus consejos, aún si usted se siente que está en el camino correcto. Hay seguridad en una multitud de conseje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6.</a:t>
            </a:r>
            <a:r>
              <a:rPr b="0" lang="es-ES" sz="1200" spc="-1" strike="noStrike">
                <a:solidFill>
                  <a:srgbClr val="000000"/>
                </a:solidFill>
                <a:latin typeface="Arial"/>
              </a:rPr>
              <a:t>	</a:t>
            </a:r>
            <a:r>
              <a:rPr b="1" lang="es-ES" sz="1200" spc="-1" strike="noStrike">
                <a:solidFill>
                  <a:srgbClr val="000000"/>
                </a:solidFill>
                <a:latin typeface="Arial"/>
              </a:rPr>
              <a:t>Sea un jugador de equipo</a:t>
            </a:r>
            <a:r>
              <a:rPr b="0" lang="es-ES" sz="1200" spc="-1" strike="noStrike">
                <a:solidFill>
                  <a:srgbClr val="000000"/>
                </a:solidFill>
                <a:latin typeface="Arial"/>
              </a:rPr>
              <a:t> – Demuestre que usted está allí para contribuir con toda la organización, no solo con los Ministerios de la Muj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r un jugador de equipo es importante para los hombres. Los Ministerios de la Mujer son parte del programa general de la organización y usted está allí para demostrar que contribuye a realzar el éxito de la organización como un todo. Usted puede demostrarlo al cooperar con sus administradores y no ser vista como una independiente, estando dispuesta a trabajar con otros departamentos en sus proyectos, tales como Ministerios de la Familia o de los Niños, y ofreciéndose voluntariamente para ayudar en otras actividades de la organización. Asegúrese que la administración conoce que usted está interesada en el éxito de la organización, no solo en los Ministerios de la Mujer. Ser un jugador de equipo es uno de los mejores caminos para ayudar en los ministerios de la mujer a incorporarse al programa general de la organización. Depende de cada mujer en una posición de liderazgo, el encontrar formas para trabajar en sus circunstancias únic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observaciones que se han hecho sobre mujeres y hombres en este seminario son generalizadas y por supuesto no se aplican a todos. Sin embargo, esperamos que sean útiles para aprender a relacionarnos de nuevas maneras con las mujeres y hombres con los cuales trabaja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DEB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Cuáles son algunos de los desafíos de trabajar con las mujeres frente a trabajar con los homb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Qué usted puede hacer personalmente para realzar sus relaciones en el trabaj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42482A-0E65-4D01-B2EA-B5C9367A8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2136600" y="542880"/>
            <a:ext cx="2583000" cy="1936800"/>
          </a:xfrm>
          <a:prstGeom prst="rect">
            <a:avLst/>
          </a:prstGeom>
          <a:ln w="0">
            <a:noFill/>
          </a:ln>
        </p:spPr>
      </p:sp>
      <p:sp>
        <p:nvSpPr>
          <p:cNvPr id="170"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derazgo es la habilidad de lograr metas a través de otros. El éxito de una líder depende en gran medida de la cooperación y la buena voluntad de las otras mujeres. Entonces para comprender cómo trabajar con las mujeres, primero debemos comprender las dinámicas de las relaciones de las mujeres con otras mujeres. Las mujeres tienen profundos vínculos emocionales consigo mismas, y necesitan de otras mujeres. Nuestra amistad con otras mujeres es extremadamente importante para nosotras. Muchos hombres casados dirán que su mejor amiga es su esposa, pero no importa cuanto una mujer ame a su esposo, su mejor amiga, generalmente es una mujer. Las mujeres comparten sus secretos íntimos con otras mujeres y obtienen una fuerza increíble de su relación con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 esta estrecha necesidad de cada una, sin embargo, cuando una mujer es promovida a una posición superior, la triste verdad es que las mujeres son generalmente las primeras en atacarla. Todas hemos observado que en algunas iglesias cuando la idea de ordenar a las mujeres como ancianas se lleva a la junta de la Iglesia, las mujeres con frecuencia están en contra de la idea. Con frecuencia, cuando las mujeres trabajan juntas, ellas experimentan alguna clase de conflicto. Los hombres quienes observan estos conflictos, frecuentemente se refieren a ellas como “pelea de gatos”.1 Por definición, una lucha de gatos, es simplemente una reacción negativa con una colega femenina. Estas reacciones negativas pueden tomar varias formas. Note que las mujeres generalmente usan conflictos indirectos, yendo por detrás de las otras mujeres, en vez ir directo al conflicto y enfrentarlo directamente con las otras mujeres. Algunos ejemplos de conflictos indirectos incluy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7E9A57-B61E-4471-A3CB-7833A61FE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2136600" y="542880"/>
            <a:ext cx="2583000" cy="1936800"/>
          </a:xfrm>
          <a:prstGeom prst="rect">
            <a:avLst/>
          </a:prstGeom>
          <a:ln w="0">
            <a:noFill/>
          </a:ln>
        </p:spPr>
      </p:sp>
      <p:sp>
        <p:nvSpPr>
          <p:cNvPr id="173" name="PlaceHolder 2"/>
          <p:cNvSpPr>
            <a:spLocks noGrp="1"/>
          </p:cNvSpPr>
          <p:nvPr>
            <p:ph type="body"/>
          </p:nvPr>
        </p:nvSpPr>
        <p:spPr>
          <a:xfrm>
            <a:off x="623520" y="255564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Chismear.</a:t>
            </a:r>
            <a:r>
              <a:rPr b="0" lang="es-ES" sz="1200" spc="-1" strike="noStrike">
                <a:solidFill>
                  <a:srgbClr val="000000"/>
                </a:solidFill>
                <a:latin typeface="Arial"/>
              </a:rPr>
              <a:t>  Este es un medio de destruir a otra mujer o menoscabar su autor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a:t>
            </a:r>
            <a:r>
              <a:rPr b="1" lang="pt-BR" sz="1200" spc="-1" strike="noStrike">
                <a:solidFill>
                  <a:srgbClr val="000000"/>
                </a:solidFill>
                <a:latin typeface="Arial"/>
              </a:rPr>
              <a:t>Divulgar rumores o propagar secretos.</a:t>
            </a:r>
            <a:r>
              <a:rPr b="0" lang="pt-BR" sz="1200" spc="-1" strike="noStrike">
                <a:solidFill>
                  <a:srgbClr val="000000"/>
                </a:solidFill>
                <a:latin typeface="Arial"/>
              </a:rPr>
              <a:t> </a:t>
            </a:r>
            <a:r>
              <a:rPr b="0" lang="es-ES" sz="1200" spc="-1" strike="noStrike">
                <a:solidFill>
                  <a:srgbClr val="000000"/>
                </a:solidFill>
                <a:latin typeface="Arial"/>
              </a:rPr>
              <a:t>Cuando las mujeres propagan a otras los secretos de una mujer, dicen una media verdad de ella, esto hace un tremendo da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lang="es-ES" sz="1200" spc="-1" strike="noStrike">
                <a:solidFill>
                  <a:srgbClr val="000000"/>
                </a:solidFill>
                <a:latin typeface="Arial"/>
              </a:rPr>
              <a:t>Despreciar o retirar la amistad. </a:t>
            </a:r>
            <a:r>
              <a:rPr b="0" lang="es-ES" sz="1200" spc="-1" strike="noStrike">
                <a:solidFill>
                  <a:srgbClr val="000000"/>
                </a:solidFill>
                <a:latin typeface="Arial"/>
              </a:rPr>
              <a:t>Esto sucede cuando se percibe que la relación entre las mujeres no es más ig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comprender por qué las mujeres reaccionan de esta manera con el éxito de otras mujeres, es útil ver cómo los niños y las niñas interactúan con sus amigos. Los estudios han demostrado que por la edad de 2 años, los niños y las niñas juegan diferentemente. Cuando los niños juegan juntos, sus grupos tienen un líder que les dice a los otros lo que deben hacer. Es decir da órdenes y hace que ellos se adhieran a lo que se está negociando. Los juegos de los niños varones generalmente envuelven competición – hay un ganador y un perdedor – y ellos frecuentemente hacen alarde de su habilidad y arguyen quién es el mejor. Cuando un niño y su mejor amigo están en equipos opuestos, ellos aprenden a “despersonalizar” la situación de tal manera, que ellos puedan aún ser amigos después que el juego ha termin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padrón de interacción permanece con ellos hasta la adultez y en el lugar de trabajo. Cuando un hombre alcanza una posición de líder, los otros están condicionados al patrón de ganadores-perdedores en sus vidas y apoyan a su líder.  Cuando los desacuerdos se presentan en las Juntas y Comisiones, todos ellos saben que cuando salen de la reunión, no importa cuán fuertemente hayan discrepado, ellos apoyarán al “ganador” y continuarán trabajando juntos como colega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3BCFF8-371E-4A0A-9ECF-41EA18703A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2136600" y="542880"/>
            <a:ext cx="2583000" cy="1936800"/>
          </a:xfrm>
          <a:prstGeom prst="rect">
            <a:avLst/>
          </a:prstGeom>
          <a:ln w="0">
            <a:noFill/>
          </a:ln>
        </p:spPr>
      </p:sp>
      <p:sp>
        <p:nvSpPr>
          <p:cNvPr id="176"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s describen “todos son iguales en poder”, como una ley natural invisible, pero altamente importante que opera detrás de las escenas, casi sin nuestro conocimiento o consentimiento, pero que forma dramáticamente nuestras reacciones a otras mujeres en nuestr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s relaciones de una mujer con otras mujeres, ella tiende a formar conexiones cercanas con aquellas que tienen esencialmente el mismo monto de poder y auto estima que ell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47C480-1AD0-45C7-8722-141733D6E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2136600" y="542880"/>
            <a:ext cx="2583000" cy="1936800"/>
          </a:xfrm>
          <a:prstGeom prst="rect">
            <a:avLst/>
          </a:prstGeom>
          <a:ln w="0">
            <a:noFill/>
          </a:ln>
        </p:spPr>
      </p:sp>
      <p:sp>
        <p:nvSpPr>
          <p:cNvPr id="179"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oder se define como el monto de fuerza que las mujeres manejan en su mundo, que puede ser debido a su título, posición en el trabajo, al poder o posición de su esposo, su atractivo físico, la posición financiera de ella o de su esposo, su personalidad, y aún su caminar percibido con el Seño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EA05B6-79CE-4E8A-9EE6-0DC47C8BE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136600" y="542880"/>
            <a:ext cx="2583000" cy="1936800"/>
          </a:xfrm>
          <a:prstGeom prst="rect">
            <a:avLst/>
          </a:prstGeom>
          <a:ln w="0">
            <a:noFill/>
          </a:ln>
        </p:spPr>
      </p:sp>
      <p:sp>
        <p:nvSpPr>
          <p:cNvPr id="182"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autoestima es lo que una mujer piensa sobre ella misma.</a:t>
            </a:r>
            <a:r>
              <a:rPr b="0" lang="es-ES" sz="1200" spc="-1" strike="noStrike">
                <a:solidFill>
                  <a:srgbClr val="000000"/>
                </a:solidFill>
                <a:latin typeface="Arial"/>
              </a:rPr>
              <a:t> ¿Ella se ve como una persona de valor y digna de hacer contribuciones valiosas a su mundo? ¿Ella es respetada por las personas que ve que son importantes? ¿Ella se acepta así misma y a sus emociones? Todos esos factores afectan la autoestima de una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Todos son iguales en poder” explica que las relaciones positivas entre mujeres se vinculan en gran medida con las percepciones de ellas, que su poder y autoestima son muy similares. Cuando una mujer se percibe de repente que tiene más poder o autoestima que las otras en el grupo, el desequilibrio resultante puede provocar reacciones negativas en las otras. Hay notables excepciones a esta regla. Si una mujer es mayor o más experimentada que la otra, o si ellas están en una relación de tutoría donde una mujer está trabajando para aumentar el poder de las otras, entonces “Todos son iguales en poder” no entra en juego. También ayuda cuando la mujer con más poder se minim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as mujeres sienten que “Todos son iguales en poder” ha sido violado, es que las luchas de gatos toma lugar, resultando en el debilitamiento de la mujer en el liderazgo, en el chismoseo, o retirando la amistad antes que enfrentar directamente a la mujer que ha quebrantado “Todos son iguales en poder”. Infelizmente aún entre las mujeres cristianas, esos patrones de relaciones están prevalecientes. Por lo tanto, es importante reconocerlas a fin de entender cómo tener relaciones fabulosas con nuestras colegas muje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4C8280-CA91-4EA7-94C7-EE9A902DF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136600" y="542880"/>
            <a:ext cx="2583000" cy="1936800"/>
          </a:xfrm>
          <a:prstGeom prst="rect">
            <a:avLst/>
          </a:prstGeom>
          <a:ln w="0">
            <a:noFill/>
          </a:ln>
        </p:spPr>
      </p:sp>
      <p:sp>
        <p:nvSpPr>
          <p:cNvPr id="185"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que las mujeres trabajen juntas con éxito, la líder debe tener una estrategia</a:t>
            </a:r>
            <a:r>
              <a:rPr b="0" lang="es-ES" sz="1200" spc="-1" strike="noStrike">
                <a:solidFill>
                  <a:srgbClr val="000000"/>
                </a:solidFill>
                <a:latin typeface="Arial"/>
              </a:rPr>
              <a:t>. Algunas sug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Una líder debe construir deliberadamente la autoestima de las otras. Mary Kay Ash, fundadora del imperio de cosméticos Mary Kay, dijo que una líder debe “ser una animadora de cada miembro de su equipo. No debe tener miedo de que alguna otra la supere”.2   El escritor de Mary Kay, Jim Underwood, expresó la actitud de ella de esta manera:  “Algo gracioso pasa cuando tomas tiempo para valorar a otros: Ellos concluyen que eres importante… Ellos te perciben como una persona afectuosa… Ellos quieren dar más del 100% porque son motivados por tu actitud y quieren cumplir las expectativas de alguien que ellos respet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Una líder debe participar en la “conversación armónica” con las otras mujeres. Tomar tiempo para charlar con ellas. Preguntar sobre su familia o su vida personal. Compartir sus propios sentimientos, preocupaciones, etc. Ponerse en el mismo niv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onversaciones sobre problemas” pueden realzar la autoestima de otras y puede ser una herramienta útil para mantener buenas relajaciones con las mujeres. Ejemplo: Estoy pasando momentos difíciles aprendiendo el nuevo programa de computación” o “he subido mucho de pes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Debe usar preguntas abiertas. En vez de decir “¿terminaste ese proyecto?” Diga “¿Cómo va ese nuevo proye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No debe dar órdenes. Use preguntas de etiqueta, tales como ¿correcto? ¿sabías? ¿no crees? Por ejemplo: “Esas invitaciones deben ser enviadas el viernes, ¿correcto? Dé tiempo para sus comentar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muestran que cuando trabajan en grupo, las mujeres tienden a ser un consenso de constructores. Ellas como grupo se involucran en el proceso de hacer decisiones, mientras que los hombres están acostumbrados a que un hombre esté a cargo y dé órdenes. Por consiguiente, cuando una mujer toma la posición de líder y las otras mujeres perciben que ellas recibirán órdenes, con frecuencia reaccionarán retirando su apoyo. La líder generalmente tendrá éxito si da tiempo para que el grupo llegue a un consenso, en vez de imponer “órdenes” que el grupo no está acostumbrad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6D804-8CC9-4277-A87C-54EAC0402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E77D5-5A5C-4F44-BE17-0D9E9E392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2DA40-D174-42F8-A2F4-7EF064D59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45970-6E46-4EC8-A4FD-E1C640204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1AB8B-4856-4A54-87D1-CC94BFE0E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0F974-F6F2-4756-A910-3ADDA4910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74E25-E25E-4A29-8BEB-D0F3EF2E2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C31D3-A679-4400-8563-F42566C72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C10BE-C2A3-4657-9859-9FA67F2B4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A08AD-1402-44D0-A520-990491841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B1E36-7FC2-4BF3-B3D6-AE70D87C0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53272-2739-4D6B-B1E9-D07579071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E2E7C-FA80-4AEB-863A-B9901BE21E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gi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gi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3200" spc="-1" strike="noStrike">
              <a:solidFill>
                <a:srgbClr val="000000"/>
              </a:solidFill>
              <a:latin typeface="Arial"/>
            </a:endParaRPr>
          </a:p>
        </p:txBody>
      </p:sp>
      <p:pic>
        <p:nvPicPr>
          <p:cNvPr id="50" name="Picture 4" descr="FC21199cópia"/>
          <p:cNvPicPr/>
          <p:nvPr/>
        </p:nvPicPr>
        <p:blipFill>
          <a:blip r:embed="rId1"/>
          <a:stretch/>
        </p:blipFill>
        <p:spPr>
          <a:xfrm>
            <a:off x="0" y="0"/>
            <a:ext cx="9144000" cy="6934320"/>
          </a:xfrm>
          <a:prstGeom prst="rect">
            <a:avLst/>
          </a:prstGeom>
          <a:ln w="0">
            <a:noFill/>
          </a:ln>
        </p:spPr>
      </p:pic>
      <p:sp>
        <p:nvSpPr>
          <p:cNvPr id="51" name="WordArt 5"/>
          <p:cNvSpPr txBox="1"/>
          <p:nvPr/>
        </p:nvSpPr>
        <p:spPr>
          <a:xfrm>
            <a:off x="533520" y="1523880"/>
            <a:ext cx="53337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17819" dir="2700000" blurRad="0" rotWithShape="0">
                    <a:srgbClr val="000000">
                      <a:alpha val="80000"/>
                    </a:srgbClr>
                  </a:outerShdw>
                </a:effectLst>
                <a:latin typeface="Arial Narrow"/>
              </a:rPr>
              <a:t>Cómo relacionarse con los colegas</a:t>
            </a:r>
            <a:endParaRPr b="1" i="1" lang="en-US" sz="4000" spc="1" strike="noStrike">
              <a:ln w="9360">
                <a:solidFill>
                  <a:srgbClr val="ffffff"/>
                </a:solidFill>
                <a:miter/>
              </a:ln>
              <a:solidFill>
                <a:srgbClr val="ffffff"/>
              </a:solidFill>
              <a:effectLst>
                <a:outerShdw dist="17819" dir="2700000" blurRad="0" rotWithShape="0">
                  <a:srgbClr val="000000">
                    <a:alpha val="80000"/>
                  </a:srgbClr>
                </a:outerShdw>
              </a:effectLst>
              <a:latin typeface="Arial Narrow"/>
              <a:ea typeface="Arial Narrow"/>
            </a:endParaRPr>
          </a:p>
        </p:txBody>
      </p:sp>
      <p:sp>
        <p:nvSpPr>
          <p:cNvPr id="52" name="WordArt 6"/>
          <p:cNvSpPr txBox="1"/>
          <p:nvPr/>
        </p:nvSpPr>
        <p:spPr>
          <a:xfrm>
            <a:off x="1195560" y="4952880"/>
            <a:ext cx="3085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rPr>
              <a:t>Ministerios de la Mujer</a:t>
            </a:r>
            <a:endParaRPr b="1" lang="en-US" sz="24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ea typeface="Times New Roman"/>
            </a:endParaRPr>
          </a:p>
        </p:txBody>
      </p:sp>
      <p:sp>
        <p:nvSpPr>
          <p:cNvPr id="53" name="Rectangle 7"/>
          <p:cNvSpPr/>
          <p:nvPr/>
        </p:nvSpPr>
        <p:spPr>
          <a:xfrm>
            <a:off x="1278360" y="5484960"/>
            <a:ext cx="22579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ertificación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iderazgo</a:t>
            </a:r>
            <a:endParaRPr b="0" lang="en-US" sz="2400" spc="-1" strike="noStrike">
              <a:solidFill>
                <a:srgbClr val="000000"/>
              </a:solidFill>
              <a:latin typeface="Arial"/>
            </a:endParaRPr>
          </a:p>
        </p:txBody>
      </p:sp>
      <p:sp>
        <p:nvSpPr>
          <p:cNvPr id="54" name="Text Box 8"/>
          <p:cNvSpPr/>
          <p:nvPr/>
        </p:nvSpPr>
        <p:spPr>
          <a:xfrm>
            <a:off x="3390840" y="5486400"/>
            <a:ext cx="17146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ea typeface="Times New Roman"/>
              </a:rPr>
              <a:t>Niv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Text Box 9"/>
          <p:cNvSpPr/>
          <p:nvPr/>
        </p:nvSpPr>
        <p:spPr>
          <a:xfrm>
            <a:off x="4038480" y="5562720"/>
            <a:ext cx="12193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3</a:t>
            </a:r>
            <a:endParaRPr b="0" lang="en-US" sz="6000" spc="-1" strike="noStrike">
              <a:solidFill>
                <a:srgbClr val="000000"/>
              </a:solidFill>
              <a:latin typeface="Arial"/>
            </a:endParaRPr>
          </a:p>
        </p:txBody>
      </p:sp>
      <p:sp>
        <p:nvSpPr>
          <p:cNvPr id="56" name="Text Box 10"/>
          <p:cNvSpPr/>
          <p:nvPr/>
        </p:nvSpPr>
        <p:spPr>
          <a:xfrm>
            <a:off x="2057400" y="2971800"/>
            <a:ext cx="22096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Por: Carla Bak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5" descr="23a"/>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609480" y="2286000"/>
            <a:ext cx="8229600" cy="3657600"/>
          </a:xfrm>
          <a:prstGeom prst="rect">
            <a:avLst/>
          </a:prstGeom>
          <a:noFill/>
          <a:ln w="0">
            <a:noFill/>
          </a:ln>
          <a:effectLst>
            <a:outerShdw dist="36147" dir="2700000" blurRad="0" rotWithShape="0">
              <a:srgbClr val="000000"/>
            </a:outerShdw>
          </a:effectLst>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Estar consciente de su lenguaje corporal.</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Ser una alentadora.</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No tocar su propia bocina.</a:t>
            </a: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Permanecer de manera profesional y positiva en sus interacciones.</a:t>
            </a:r>
            <a:endParaRPr b="0" lang="en-US" sz="3200" spc="-1" strike="noStrike">
              <a:solidFill>
                <a:srgbClr val="000000"/>
              </a:solidFill>
              <a:latin typeface="Arial"/>
            </a:endParaRPr>
          </a:p>
        </p:txBody>
      </p:sp>
      <p:sp>
        <p:nvSpPr>
          <p:cNvPr id="80" name="PlaceHolder 2"/>
          <p:cNvSpPr>
            <a:spLocks noGrp="1"/>
          </p:cNvSpPr>
          <p:nvPr>
            <p:ph type="title"/>
          </p:nvPr>
        </p:nvSpPr>
        <p:spPr>
          <a:xfrm>
            <a:off x="0" y="304560"/>
            <a:ext cx="7772400" cy="1143000"/>
          </a:xfrm>
          <a:prstGeom prst="rect">
            <a:avLst/>
          </a:prstGeom>
          <a:noFill/>
          <a:ln w="0">
            <a:noFill/>
          </a:ln>
          <a:effectLst>
            <a:outerShdw dist="56832" dir="16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Arial Narrow"/>
              </a:rPr>
              <a:t>Para que las mujeres trabajen juntas con éxito, la líder debe tener una estrategia:</a:t>
            </a:r>
            <a:endParaRPr b="0" lang="en-US" sz="3800" spc="-1" strike="noStrike">
              <a:solidFill>
                <a:srgbClr val="000000"/>
              </a:solidFill>
              <a:latin typeface="Arial"/>
            </a:endParaRPr>
          </a:p>
        </p:txBody>
      </p:sp>
      <p:pic>
        <p:nvPicPr>
          <p:cNvPr id="81" name="Picture 8" descr="j0161020"/>
          <p:cNvPicPr/>
          <p:nvPr/>
        </p:nvPicPr>
        <p:blipFill>
          <a:blip r:embed="rId2"/>
          <a:stretch/>
        </p:blipFill>
        <p:spPr>
          <a:xfrm>
            <a:off x="6943680" y="4572000"/>
            <a:ext cx="204804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5" descr="Slide20"/>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2133360" y="1066320"/>
            <a:ext cx="70102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La cooperación se puede lograr por:</a:t>
            </a:r>
            <a:br>
              <a:rPr sz="3600"/>
            </a:br>
            <a:endParaRPr b="0" lang="en-US" sz="3600" spc="-1" strike="noStrike">
              <a:solidFill>
                <a:srgbClr val="000000"/>
              </a:solidFill>
              <a:latin typeface="Arial"/>
            </a:endParaRPr>
          </a:p>
        </p:txBody>
      </p:sp>
      <p:sp>
        <p:nvSpPr>
          <p:cNvPr id="84" name="PlaceHolder 2"/>
          <p:cNvSpPr>
            <a:spLocks noGrp="1"/>
          </p:cNvSpPr>
          <p:nvPr>
            <p:ph/>
          </p:nvPr>
        </p:nvSpPr>
        <p:spPr>
          <a:xfrm>
            <a:off x="3200400" y="1798560"/>
            <a:ext cx="5867280" cy="4525920"/>
          </a:xfrm>
          <a:prstGeom prst="rect">
            <a:avLst/>
          </a:prstGeom>
          <a:noFill/>
          <a:ln w="0">
            <a:noFill/>
          </a:ln>
          <a:effectLst>
            <a:outerShdw dist="36147" dir="2700000" blurRad="0" rotWithShape="0">
              <a:srgbClr val="000000"/>
            </a:outerShdw>
          </a:effectLst>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2800" spc="-1" strike="noStrike">
                <a:solidFill>
                  <a:srgbClr val="ffff66"/>
                </a:solidFill>
                <a:latin typeface="Arial Unicode MS"/>
                <a:ea typeface="Arial Unicode MS"/>
              </a:rPr>
              <a:t>   </a:t>
            </a:r>
            <a:r>
              <a:rPr b="1" lang="es-ES" sz="3600" spc="-1" strike="noStrike">
                <a:solidFill>
                  <a:srgbClr val="ffff66"/>
                </a:solidFill>
                <a:latin typeface="Times New Roman"/>
              </a:rPr>
              <a:t>Respetar la oposición.</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rPr>
              <a:t>Valorar la relación con aquellos que tienen su punto de vista en oposición.</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rPr>
              <a:t>Reconocer que es necesaria la oposición para aplicar el resultado desead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Slide20"/>
          <p:cNvPicPr/>
          <p:nvPr/>
        </p:nvPicPr>
        <p:blipFill>
          <a:blip r:embed="rId1"/>
          <a:stretch/>
        </p:blipFill>
        <p:spPr>
          <a:xfrm>
            <a:off x="0" y="0"/>
            <a:ext cx="9144000" cy="6858000"/>
          </a:xfrm>
          <a:prstGeom prst="rect">
            <a:avLst/>
          </a:prstGeom>
          <a:ln w="0">
            <a:noFill/>
          </a:ln>
        </p:spPr>
      </p:pic>
      <p:sp>
        <p:nvSpPr>
          <p:cNvPr id="86" name=""/>
          <p:cNvSpPr/>
          <p:nvPr/>
        </p:nvSpPr>
        <p:spPr>
          <a:xfrm>
            <a:off x="2895480" y="977760"/>
            <a:ext cx="609624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ea typeface="Arial Unicode MS"/>
              </a:rPr>
              <a:t>∙ </a:t>
            </a:r>
            <a:r>
              <a:rPr b="1" lang="es-ES" sz="3200" spc="-1" strike="noStrike">
                <a:solidFill>
                  <a:srgbClr val="ffff66"/>
                </a:solidFill>
                <a:latin typeface="Times New Roman"/>
              </a:rPr>
              <a:t>Apoyar la autoestima y sentido de poder de los oponent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rPr>
              <a:t>Apoyar su propia autoestima y sentido de pod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rPr>
              <a:t>Buscar resoluciones de provecho mutuo, lo cual no solamente promueve la colaboración, sino también ayuda a preservar la re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23a"/>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380880" y="304560"/>
            <a:ext cx="693432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Una líder debe aprender a aceptar la crítica sin entrar a la defensiva. </a:t>
            </a:r>
            <a:br>
              <a:rPr sz="3600"/>
            </a:br>
            <a:r>
              <a:rPr b="1" lang="es-ES" sz="3600" spc="-1" strike="noStrike">
                <a:solidFill>
                  <a:srgbClr val="ffffff"/>
                </a:solidFill>
                <a:latin typeface="Arial Narrow"/>
              </a:rPr>
              <a:t>Esto ayuda a:</a:t>
            </a:r>
            <a:endParaRPr b="0" lang="en-US" sz="3600" spc="-1" strike="noStrike">
              <a:solidFill>
                <a:srgbClr val="000000"/>
              </a:solidFill>
              <a:latin typeface="Arial"/>
            </a:endParaRPr>
          </a:p>
        </p:txBody>
      </p:sp>
      <p:sp>
        <p:nvSpPr>
          <p:cNvPr id="89" name=""/>
          <p:cNvSpPr/>
          <p:nvPr/>
        </p:nvSpPr>
        <p:spPr>
          <a:xfrm>
            <a:off x="380880" y="1981080"/>
            <a:ext cx="84582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Solicitar un ejemplo específico de lo que   </a:t>
            </a:r>
            <a:r>
              <a:rPr b="1" lang="es-ES" sz="3200" spc="-1" strike="noStrike">
                <a:solidFill>
                  <a:srgbClr val="ffff66"/>
                </a:solidFill>
                <a:latin typeface="Times New Roman"/>
              </a:rPr>
              <a:t>	</a:t>
            </a:r>
            <a:r>
              <a:rPr b="1" lang="es-ES" sz="3200" spc="-1" strike="noStrike">
                <a:solidFill>
                  <a:srgbClr val="ffff66"/>
                </a:solidFill>
                <a:latin typeface="Times New Roman"/>
              </a:rPr>
              <a:t>te están critican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Decidir por sí misma si la crítica es just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Si la crítica es justa, no pongas excusas.      </a:t>
            </a:r>
            <a:r>
              <a:rPr b="1" lang="es-ES" sz="3200" spc="-1" strike="noStrike">
                <a:solidFill>
                  <a:srgbClr val="ffff66"/>
                </a:solidFill>
                <a:latin typeface="Times New Roman"/>
              </a:rPr>
              <a:t>	</a:t>
            </a:r>
            <a:r>
              <a:rPr b="1" lang="es-ES" sz="3200" spc="-1" strike="noStrike">
                <a:solidFill>
                  <a:srgbClr val="ffff66"/>
                </a:solidFill>
                <a:latin typeface="Times New Roman"/>
              </a:rPr>
              <a:t>Mas bien, piensa en cómo puedes </a:t>
            </a:r>
            <a:r>
              <a:rPr b="1" lang="es-ES" sz="3200" spc="-1" strike="noStrike">
                <a:solidFill>
                  <a:srgbClr val="ffff66"/>
                </a:solidFill>
                <a:latin typeface="Times New Roman"/>
              </a:rPr>
              <a:t>	</a:t>
            </a:r>
            <a:r>
              <a:rPr b="1" lang="es-ES" sz="3200" spc="-1" strike="noStrike">
                <a:solidFill>
                  <a:srgbClr val="ffff66"/>
                </a:solidFill>
                <a:latin typeface="Times New Roman"/>
              </a:rPr>
              <a:t>rectificar la situ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5" descr="23a"/>
          <p:cNvPicPr/>
          <p:nvPr/>
        </p:nvPicPr>
        <p:blipFill>
          <a:blip r:embed="rId1"/>
          <a:stretch/>
        </p:blipFill>
        <p:spPr>
          <a:xfrm>
            <a:off x="0" y="0"/>
            <a:ext cx="9144000" cy="6858000"/>
          </a:xfrm>
          <a:prstGeom prst="rect">
            <a:avLst/>
          </a:prstGeom>
          <a:ln w="0">
            <a:noFill/>
          </a:ln>
        </p:spPr>
      </p:pic>
      <p:sp>
        <p:nvSpPr>
          <p:cNvPr id="91" name=""/>
          <p:cNvSpPr/>
          <p:nvPr/>
        </p:nvSpPr>
        <p:spPr>
          <a:xfrm>
            <a:off x="0" y="0"/>
            <a:ext cx="81532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Una líder debe aprender a aceptar la crítica sin entrar a la defensiva. </a:t>
            </a:r>
            <a:br>
              <a:rPr sz="3600"/>
            </a:br>
            <a:r>
              <a:rPr b="1" lang="es-ES" sz="3600" spc="-1" strike="noStrike">
                <a:solidFill>
                  <a:srgbClr val="ffffff"/>
                </a:solidFill>
                <a:latin typeface="Arial"/>
              </a:rPr>
              <a:t>Esto ayuda a:</a:t>
            </a:r>
            <a:endParaRPr b="0" lang="en-US" sz="3600" spc="-1" strike="noStrike">
              <a:solidFill>
                <a:srgbClr val="000000"/>
              </a:solidFill>
              <a:latin typeface="Arial"/>
            </a:endParaRPr>
          </a:p>
        </p:txBody>
      </p:sp>
      <p:sp>
        <p:nvSpPr>
          <p:cNvPr id="92" name=""/>
          <p:cNvSpPr/>
          <p:nvPr/>
        </p:nvSpPr>
        <p:spPr>
          <a:xfrm>
            <a:off x="762120" y="21337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609480" y="2135160"/>
            <a:ext cx="80773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Si la crítica es injusta, di “Me siento malentendida”. No digas “ustedes han entendido mal la situación” o “ustedes están siendo irrazonables”.</a:t>
            </a:r>
            <a:r>
              <a:rPr b="1" lang="es-ES" sz="1000" spc="-1" strike="noStrike">
                <a:solidFill>
                  <a:srgbClr val="ffff66"/>
                </a:solidFill>
                <a:latin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Agradece la crítica, ya sea si es válida o no. Esto te ayudará a resolver conflictos futu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Slide20"/>
          <p:cNvPicPr/>
          <p:nvPr/>
        </p:nvPicPr>
        <p:blipFill>
          <a:blip r:embed="rId1"/>
          <a:stretch/>
        </p:blipFill>
        <p:spPr>
          <a:xfrm>
            <a:off x="0" y="0"/>
            <a:ext cx="9144000" cy="6858000"/>
          </a:xfrm>
          <a:prstGeom prst="rect">
            <a:avLst/>
          </a:prstGeom>
          <a:ln w="0">
            <a:noFill/>
          </a:ln>
        </p:spPr>
      </p:pic>
      <p:sp>
        <p:nvSpPr>
          <p:cNvPr id="95" name=""/>
          <p:cNvSpPr/>
          <p:nvPr/>
        </p:nvSpPr>
        <p:spPr>
          <a:xfrm>
            <a:off x="2743200" y="228600"/>
            <a:ext cx="64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TRABAJANDO CON GRUPOS:</a:t>
            </a:r>
            <a:endParaRPr b="0" lang="en-US" sz="3600" spc="-1" strike="noStrike">
              <a:solidFill>
                <a:srgbClr val="000000"/>
              </a:solidFill>
              <a:latin typeface="Arial"/>
            </a:endParaRPr>
          </a:p>
        </p:txBody>
      </p:sp>
      <p:sp>
        <p:nvSpPr>
          <p:cNvPr id="96" name=""/>
          <p:cNvSpPr/>
          <p:nvPr/>
        </p:nvSpPr>
        <p:spPr>
          <a:xfrm>
            <a:off x="3429000" y="1143000"/>
            <a:ext cx="5410080" cy="49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a:t>
            </a:r>
            <a:r>
              <a:rPr b="1" lang="es-ES" sz="3200" spc="-1" strike="noStrike">
                <a:solidFill>
                  <a:srgbClr val="000000"/>
                </a:solidFill>
                <a:latin typeface="Times New Roman"/>
              </a:rPr>
              <a:t>  </a:t>
            </a:r>
            <a:r>
              <a:rPr b="1" lang="es-ES" sz="3200" spc="-1" strike="noStrike">
                <a:solidFill>
                  <a:srgbClr val="ffff66"/>
                </a:solidFill>
                <a:latin typeface="Times New Roman"/>
              </a:rPr>
              <a:t>Las mujeres tienden a ser constructoras por consens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  Las mujeres tienden a hablar más en las reuniones que los hombr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  Si el grupo no capta la visión, la líder debe trabajar en la edificación de la visión y la un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4" descr="Fundoverd"/>
          <p:cNvPicPr/>
          <p:nvPr/>
        </p:nvPicPr>
        <p:blipFill>
          <a:blip r:embed="rId1"/>
          <a:stretch/>
        </p:blipFill>
        <p:spPr>
          <a:xfrm>
            <a:off x="0" y="-533520"/>
            <a:ext cx="9220320" cy="7391520"/>
          </a:xfrm>
          <a:prstGeom prst="rect">
            <a:avLst/>
          </a:prstGeom>
          <a:ln w="0">
            <a:noFill/>
          </a:ln>
        </p:spPr>
      </p:pic>
      <p:sp>
        <p:nvSpPr>
          <p:cNvPr id="98" name="PlaceHolder 1"/>
          <p:cNvSpPr>
            <a:spLocks noGrp="1"/>
          </p:cNvSpPr>
          <p:nvPr>
            <p:ph/>
          </p:nvPr>
        </p:nvSpPr>
        <p:spPr>
          <a:xfrm>
            <a:off x="380880" y="1219320"/>
            <a:ext cx="8229600" cy="4572000"/>
          </a:xfrm>
          <a:prstGeom prst="rect">
            <a:avLst/>
          </a:prstGeom>
          <a:noFill/>
          <a:ln w="28440">
            <a:solidFill>
              <a:srgbClr val="a50021"/>
            </a:solidFill>
            <a:miter/>
          </a:ln>
        </p:spPr>
        <p:txBody>
          <a:bodyPr anchor="t">
            <a:normAutofit/>
          </a:bodyPr>
          <a:p>
            <a:pPr marL="343080" indent="0" algn="ctr">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Las mujeres hablan y oyen un lenguaje de intimidad y conexión, mientras que los hombres hablan y oyen un lenguaje de estatus e independencia.</a:t>
            </a:r>
            <a:r>
              <a:rPr b="1" lang="es-ES" sz="4000" spc="-1" strike="noStrike">
                <a:solidFill>
                  <a:srgbClr val="000000"/>
                </a:solidFill>
                <a:latin typeface="Times New Roman"/>
              </a:rPr>
              <a:t> </a:t>
            </a:r>
            <a:endParaRPr b="0" lang="en-US" sz="4000" spc="-1" strike="noStrike">
              <a:solidFill>
                <a:srgbClr val="000000"/>
              </a:solidFill>
              <a:latin typeface="Arial"/>
            </a:endParaRPr>
          </a:p>
        </p:txBody>
      </p:sp>
      <p:pic>
        <p:nvPicPr>
          <p:cNvPr id="99" name="Picture 5" descr="j0161024"/>
          <p:cNvPicPr/>
          <p:nvPr/>
        </p:nvPicPr>
        <p:blipFill>
          <a:blip r:embed="rId2"/>
          <a:stretch/>
        </p:blipFill>
        <p:spPr>
          <a:xfrm>
            <a:off x="6934320" y="4648320"/>
            <a:ext cx="198108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5" descr="Fundoverd"/>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1294920" y="1600200"/>
            <a:ext cx="6782040" cy="3200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2" name="Rectangle 4"/>
          <p:cNvSpPr/>
          <p:nvPr/>
        </p:nvSpPr>
        <p:spPr>
          <a:xfrm>
            <a:off x="1295280" y="1752120"/>
            <a:ext cx="6578640" cy="3110400"/>
          </a:xfrm>
          <a:prstGeom prst="rect">
            <a:avLst/>
          </a:prstGeom>
          <a:noFill/>
          <a:ln w="28440">
            <a:solidFill>
              <a:srgbClr val="a50021"/>
            </a:solidFill>
            <a:miter/>
          </a:ln>
        </p:spPr>
        <p:style>
          <a:lnRef idx="0"/>
          <a:fillRef idx="0"/>
          <a:effectRef idx="0"/>
          <a:fontRef idx="minor"/>
        </p:style>
        <p:txBody>
          <a:bodyPr lIns="90000" rIns="90000" tIns="46800" bIns="46800" anchor="ctr">
            <a:spAutoFit/>
          </a:bodyPr>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stos estilos son llamados:</a:t>
            </a:r>
            <a:endParaRPr b="0" lang="en-US" sz="4400" spc="-1" strike="noStrike">
              <a:solidFill>
                <a:srgbClr val="000000"/>
              </a:solidFill>
              <a:latin typeface="Arial"/>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ación-Informe</a:t>
            </a:r>
            <a:endParaRPr b="0" lang="en-US" sz="4400" spc="-1" strike="noStrike">
              <a:solidFill>
                <a:srgbClr val="000000"/>
              </a:solidFill>
              <a:latin typeface="Arial"/>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ación armónica</a:t>
            </a:r>
            <a:endParaRPr b="0" lang="en-US" sz="4400" spc="-1" strike="noStrike">
              <a:solidFill>
                <a:srgbClr val="000000"/>
              </a:solidFill>
              <a:latin typeface="Arial"/>
            </a:endParaRPr>
          </a:p>
        </p:txBody>
      </p:sp>
      <p:pic>
        <p:nvPicPr>
          <p:cNvPr id="103" name="Picture 6" descr="j0161024"/>
          <p:cNvPicPr/>
          <p:nvPr/>
        </p:nvPicPr>
        <p:blipFill>
          <a:blip r:embed="rId2"/>
          <a:stretch/>
        </p:blipFill>
        <p:spPr>
          <a:xfrm>
            <a:off x="6781680" y="4495680"/>
            <a:ext cx="1981440" cy="175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5" descr="Slide6"/>
          <p:cNvPicPr/>
          <p:nvPr/>
        </p:nvPicPr>
        <p:blipFill>
          <a:blip r:embed="rId1"/>
          <a:stretch/>
        </p:blipFill>
        <p:spPr>
          <a:xfrm>
            <a:off x="0" y="0"/>
            <a:ext cx="9144000" cy="6858000"/>
          </a:xfrm>
          <a:prstGeom prst="rect">
            <a:avLst/>
          </a:prstGeom>
          <a:ln w="0">
            <a:noFill/>
          </a:ln>
        </p:spPr>
      </p:pic>
      <p:sp>
        <p:nvSpPr>
          <p:cNvPr id="105" name="Rectangle 9"/>
          <p:cNvSpPr/>
          <p:nvPr/>
        </p:nvSpPr>
        <p:spPr>
          <a:xfrm>
            <a:off x="3505320" y="2727360"/>
            <a:ext cx="5410080" cy="374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Para muchos hombres el hablar es un medio para preservar la independencia, negociar y mantener un estatus. Esto se hace exhibiendo conocimiento y habilidad: contar una historia, bromear o impartir información.</a:t>
            </a:r>
            <a:endParaRPr b="0" lang="en-US" sz="3000" spc="-1" strike="noStrike">
              <a:solidFill>
                <a:srgbClr val="000000"/>
              </a:solidFill>
              <a:latin typeface="Arial"/>
            </a:endParaRPr>
          </a:p>
        </p:txBody>
      </p:sp>
      <p:sp>
        <p:nvSpPr>
          <p:cNvPr id="106" name=""/>
          <p:cNvSpPr/>
          <p:nvPr/>
        </p:nvSpPr>
        <p:spPr>
          <a:xfrm>
            <a:off x="685800" y="304920"/>
            <a:ext cx="79246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ara muchas mujeres el lenguaje de conversación es principalmente un lenguaje de armonía, estableciendo conexiones y relaciones de negoc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4" descr="Fundoverd"/>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685440" y="1219320"/>
            <a:ext cx="7620120" cy="4495680"/>
          </a:xfrm>
          <a:prstGeom prst="rect">
            <a:avLst/>
          </a:prstGeom>
          <a:noFill/>
          <a:ln w="28440">
            <a:solidFill>
              <a:srgbClr val="a50021"/>
            </a:solidFill>
            <a:miter/>
          </a:ln>
        </p:spPr>
        <p:txBody>
          <a:bodyPr anchor="t">
            <a:normAutofit/>
          </a:bodyPr>
          <a:p>
            <a:pPr marL="6094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rint MT Shadow"/>
              </a:rPr>
              <a:t>  </a:t>
            </a:r>
            <a:r>
              <a:rPr b="1" lang="es-ES" sz="4400" spc="-1" strike="noStrike">
                <a:solidFill>
                  <a:srgbClr val="000000"/>
                </a:solidFill>
                <a:latin typeface="Times New Roman"/>
              </a:rPr>
              <a:t>La mujer de éxito es una que ha desarrollado un estilo en el cual los hombres se sienten cómodos.</a:t>
            </a:r>
            <a:endParaRPr b="0" lang="en-US" sz="4400" spc="-1" strike="noStrike">
              <a:solidFill>
                <a:srgbClr val="000000"/>
              </a:solidFill>
              <a:latin typeface="Arial"/>
            </a:endParaRPr>
          </a:p>
        </p:txBody>
      </p:sp>
      <p:pic>
        <p:nvPicPr>
          <p:cNvPr id="109" name="Picture 5" descr="j0161024"/>
          <p:cNvPicPr/>
          <p:nvPr/>
        </p:nvPicPr>
        <p:blipFill>
          <a:blip r:embed="rId2"/>
          <a:stretch/>
        </p:blipFill>
        <p:spPr>
          <a:xfrm>
            <a:off x="7162920" y="4495680"/>
            <a:ext cx="1981080" cy="17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9" descr="Slide13"/>
          <p:cNvPicPr/>
          <p:nvPr/>
        </p:nvPicPr>
        <p:blipFill>
          <a:blip r:embed="rId1"/>
          <a:stretch/>
        </p:blipFill>
        <p:spPr>
          <a:xfrm>
            <a:off x="0" y="0"/>
            <a:ext cx="9144000" cy="6891480"/>
          </a:xfrm>
          <a:prstGeom prst="rect">
            <a:avLst/>
          </a:prstGeom>
          <a:ln w="0">
            <a:noFill/>
          </a:ln>
        </p:spPr>
      </p:pic>
      <p:sp>
        <p:nvSpPr>
          <p:cNvPr id="58" name="Rectangle 6"/>
          <p:cNvSpPr/>
          <p:nvPr/>
        </p:nvSpPr>
        <p:spPr>
          <a:xfrm>
            <a:off x="457200" y="1216800"/>
            <a:ext cx="5943600" cy="354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Unidad</a:t>
            </a:r>
            <a:endParaRPr b="0" lang="en-US" sz="5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Confianza</a:t>
            </a:r>
            <a:endParaRPr b="0" lang="en-US" sz="5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Espíritu de equip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4" descr="23a"/>
          <p:cNvPicPr/>
          <p:nvPr/>
        </p:nvPicPr>
        <p:blipFill>
          <a:blip r:embed="rId1"/>
          <a:stretch/>
        </p:blipFill>
        <p:spPr>
          <a:xfrm>
            <a:off x="0" y="0"/>
            <a:ext cx="9144000" cy="6858000"/>
          </a:xfrm>
          <a:prstGeom prst="rect">
            <a:avLst/>
          </a:prstGeom>
          <a:ln w="0">
            <a:noFill/>
          </a:ln>
        </p:spPr>
      </p:pic>
      <p:pic>
        <p:nvPicPr>
          <p:cNvPr id="111" name="Picture 7" descr="j0178816"/>
          <p:cNvPicPr/>
          <p:nvPr/>
        </p:nvPicPr>
        <p:blipFill>
          <a:blip r:embed="rId2"/>
          <a:stretch/>
        </p:blipFill>
        <p:spPr>
          <a:xfrm>
            <a:off x="6858000" y="3809880"/>
            <a:ext cx="2057400" cy="1365480"/>
          </a:xfrm>
          <a:prstGeom prst="rect">
            <a:avLst/>
          </a:prstGeom>
          <a:ln w="0">
            <a:noFill/>
          </a:ln>
        </p:spPr>
      </p:pic>
      <p:sp>
        <p:nvSpPr>
          <p:cNvPr id="112" name="Rectangle 8"/>
          <p:cNvSpPr/>
          <p:nvPr/>
        </p:nvSpPr>
        <p:spPr>
          <a:xfrm>
            <a:off x="7467480" y="5486400"/>
            <a:ext cx="91440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9"/>
          <p:cNvSpPr/>
          <p:nvPr/>
        </p:nvSpPr>
        <p:spPr>
          <a:xfrm>
            <a:off x="7467480" y="2209680"/>
            <a:ext cx="914400" cy="9144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0" y="212760"/>
            <a:ext cx="7772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Algunas diferencias básicas en el lugar de trabajo</a:t>
            </a:r>
            <a:endParaRPr b="0" lang="en-US" sz="4000" spc="-1" strike="noStrike">
              <a:solidFill>
                <a:srgbClr val="000000"/>
              </a:solidFill>
              <a:latin typeface="Arial"/>
            </a:endParaRPr>
          </a:p>
        </p:txBody>
      </p:sp>
      <p:sp>
        <p:nvSpPr>
          <p:cNvPr id="115" name=""/>
          <p:cNvSpPr/>
          <p:nvPr/>
        </p:nvSpPr>
        <p:spPr>
          <a:xfrm>
            <a:off x="533520" y="2514600"/>
            <a:ext cx="678168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Arial Unicode MS"/>
              </a:rPr>
              <a:t>∙  </a:t>
            </a:r>
            <a:r>
              <a:rPr b="1" lang="es-ES" sz="3200" spc="-1" strike="noStrike">
                <a:solidFill>
                  <a:srgbClr val="ffffff"/>
                </a:solidFill>
                <a:latin typeface="Times New Roman"/>
                <a:ea typeface="Arial Unicode MS"/>
              </a:rPr>
              <a:t>Las mujeres tienden a preferir involucrarse en el grupo para tomar decision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Arial Unicode MS"/>
              </a:rPr>
              <a:t>∙  </a:t>
            </a:r>
            <a:r>
              <a:rPr b="1" lang="es-ES" sz="3200" spc="-1" strike="noStrike">
                <a:solidFill>
                  <a:srgbClr val="ffffff"/>
                </a:solidFill>
                <a:latin typeface="Times New Roman"/>
                <a:ea typeface="Arial Unicode MS"/>
              </a:rPr>
              <a:t>Los hombres tienden a actuar sol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Arial Unicode MS"/>
              </a:rPr>
              <a:t>∙  </a:t>
            </a:r>
            <a:r>
              <a:rPr b="1" lang="es-ES" sz="3200" spc="-1" strike="noStrike">
                <a:solidFill>
                  <a:srgbClr val="ffffff"/>
                </a:solidFill>
                <a:latin typeface="Times New Roman"/>
                <a:ea typeface="Arial Unicode MS"/>
              </a:rPr>
              <a:t>Las mujeres miden su poder ayudando, estimulando y apoya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6" descr="23a"/>
          <p:cNvPicPr/>
          <p:nvPr/>
        </p:nvPicPr>
        <p:blipFill>
          <a:blip r:embed="rId1"/>
          <a:stretch/>
        </p:blipFill>
        <p:spPr>
          <a:xfrm>
            <a:off x="0" y="0"/>
            <a:ext cx="9144000" cy="6858000"/>
          </a:xfrm>
          <a:prstGeom prst="rect">
            <a:avLst/>
          </a:prstGeom>
          <a:ln w="0">
            <a:noFill/>
          </a:ln>
        </p:spPr>
      </p:pic>
      <p:pic>
        <p:nvPicPr>
          <p:cNvPr id="117" name="Picture 8" descr="j0178816"/>
          <p:cNvPicPr/>
          <p:nvPr/>
        </p:nvPicPr>
        <p:blipFill>
          <a:blip r:embed="rId2"/>
          <a:stretch/>
        </p:blipFill>
        <p:spPr>
          <a:xfrm>
            <a:off x="6477120" y="5257800"/>
            <a:ext cx="2057400" cy="1365120"/>
          </a:xfrm>
          <a:prstGeom prst="rect">
            <a:avLst/>
          </a:prstGeom>
          <a:ln w="0">
            <a:noFill/>
          </a:ln>
        </p:spPr>
      </p:pic>
      <p:sp>
        <p:nvSpPr>
          <p:cNvPr id="118" name="Rectangle 9"/>
          <p:cNvSpPr/>
          <p:nvPr/>
        </p:nvSpPr>
        <p:spPr>
          <a:xfrm>
            <a:off x="510552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0"/>
          <p:cNvSpPr/>
          <p:nvPr/>
        </p:nvSpPr>
        <p:spPr>
          <a:xfrm>
            <a:off x="3809880" y="5562720"/>
            <a:ext cx="91440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0" y="166680"/>
            <a:ext cx="7696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04920" y="228600"/>
            <a:ext cx="7619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Algunas diferencias básicas en el lugar de trabajo</a:t>
            </a:r>
            <a:endParaRPr b="0" lang="en-US" sz="4000" spc="-1" strike="noStrike">
              <a:solidFill>
                <a:srgbClr val="000000"/>
              </a:solidFill>
              <a:latin typeface="Arial"/>
            </a:endParaRPr>
          </a:p>
        </p:txBody>
      </p:sp>
      <p:sp>
        <p:nvSpPr>
          <p:cNvPr id="122" name=""/>
          <p:cNvSpPr/>
          <p:nvPr/>
        </p:nvSpPr>
        <p:spPr>
          <a:xfrm>
            <a:off x="380880" y="1981080"/>
            <a:ext cx="8382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04920" y="2163600"/>
            <a:ext cx="853416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Unicode MS"/>
                <a:ea typeface="Arial Unicode MS"/>
              </a:rPr>
              <a:t>∙</a:t>
            </a:r>
            <a:r>
              <a:rPr b="0" lang="es-ES" sz="3200" spc="-1" strike="noStrike">
                <a:solidFill>
                  <a:srgbClr val="000000"/>
                </a:solidFill>
                <a:latin typeface="Arial Unicode MS"/>
                <a:ea typeface="Arial Unicode MS"/>
              </a:rPr>
              <a:t>  </a:t>
            </a:r>
            <a:r>
              <a:rPr b="1" lang="es-ES" sz="3200" spc="-1" strike="noStrike">
                <a:solidFill>
                  <a:srgbClr val="ffffff"/>
                </a:solidFill>
                <a:latin typeface="Times New Roman"/>
                <a:ea typeface="Arial Unicode MS"/>
              </a:rPr>
              <a:t>Los hombres miden su poder obteniendo información, habilidades y técnic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Unicode MS"/>
                <a:ea typeface="Arial Unicode MS"/>
              </a:rPr>
              <a:t>∙  </a:t>
            </a:r>
            <a:r>
              <a:rPr b="1" lang="es-ES" sz="3200" spc="-1" strike="noStrike">
                <a:solidFill>
                  <a:srgbClr val="ffffff"/>
                </a:solidFill>
                <a:latin typeface="Times New Roman"/>
                <a:ea typeface="Arial Unicode MS"/>
              </a:rPr>
              <a:t>Las mujeres han aprendido a minimizar sus conocimient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Unicode MS"/>
                <a:ea typeface="Arial Unicode MS"/>
              </a:rPr>
              <a:t>∙  </a:t>
            </a:r>
            <a:r>
              <a:rPr b="1" lang="es-ES" sz="3200" spc="-1" strike="noStrike">
                <a:solidFill>
                  <a:srgbClr val="ffffff"/>
                </a:solidFill>
                <a:latin typeface="Times New Roman"/>
                <a:ea typeface="Arial Unicode MS"/>
              </a:rPr>
              <a:t>Los hombres despliegan sus conocimien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23a"/>
          <p:cNvPicPr/>
          <p:nvPr/>
        </p:nvPicPr>
        <p:blipFill>
          <a:blip r:embed="rId1"/>
          <a:stretch/>
        </p:blipFill>
        <p:spPr>
          <a:xfrm>
            <a:off x="0" y="0"/>
            <a:ext cx="9144000" cy="6858000"/>
          </a:xfrm>
          <a:prstGeom prst="rect">
            <a:avLst/>
          </a:prstGeom>
          <a:ln w="0">
            <a:noFill/>
          </a:ln>
        </p:spPr>
      </p:pic>
      <p:sp>
        <p:nvSpPr>
          <p:cNvPr id="125" name="Rectangle 8"/>
          <p:cNvSpPr/>
          <p:nvPr/>
        </p:nvSpPr>
        <p:spPr>
          <a:xfrm>
            <a:off x="655308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9"/>
          <p:cNvSpPr/>
          <p:nvPr/>
        </p:nvSpPr>
        <p:spPr>
          <a:xfrm>
            <a:off x="769608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0"/>
          <p:cNvSpPr/>
          <p:nvPr/>
        </p:nvSpPr>
        <p:spPr>
          <a:xfrm>
            <a:off x="541008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152280" y="243000"/>
            <a:ext cx="7391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04920" y="228600"/>
            <a:ext cx="7391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Algunas diferencias básicas en el lugar de trabajo</a:t>
            </a:r>
            <a:endParaRPr b="0" lang="en-US" sz="4000" spc="-1" strike="noStrike">
              <a:solidFill>
                <a:srgbClr val="000000"/>
              </a:solidFill>
              <a:latin typeface="Arial"/>
            </a:endParaRPr>
          </a:p>
        </p:txBody>
      </p:sp>
      <p:sp>
        <p:nvSpPr>
          <p:cNvPr id="130" name=""/>
          <p:cNvSpPr/>
          <p:nvPr/>
        </p:nvSpPr>
        <p:spPr>
          <a:xfrm>
            <a:off x="685800" y="2119320"/>
            <a:ext cx="792468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Las mujeres son generalmente percibidas por los hombres como que hablan mucho en las reuniones de junt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Los estudios revelan que son los hombres quienes hablan más – en las reuniones, en grupos mixtos de debates y en los salones de cl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4" descr="23a"/>
          <p:cNvPicPr/>
          <p:nvPr/>
        </p:nvPicPr>
        <p:blipFill>
          <a:blip r:embed="rId1"/>
          <a:stretch/>
        </p:blipFill>
        <p:spPr>
          <a:xfrm>
            <a:off x="0" y="0"/>
            <a:ext cx="9144000" cy="6858000"/>
          </a:xfrm>
          <a:prstGeom prst="rect">
            <a:avLst/>
          </a:prstGeom>
          <a:ln w="0">
            <a:noFill/>
          </a:ln>
        </p:spPr>
      </p:pic>
      <p:sp>
        <p:nvSpPr>
          <p:cNvPr id="132" name=""/>
          <p:cNvSpPr/>
          <p:nvPr/>
        </p:nvSpPr>
        <p:spPr>
          <a:xfrm>
            <a:off x="457200" y="2057400"/>
            <a:ext cx="8077320" cy="398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66"/>
                </a:solidFill>
                <a:latin typeface="Arial Unicode MS"/>
                <a:ea typeface="Arial Unicode MS"/>
              </a:rPr>
              <a:t>∙  </a:t>
            </a:r>
            <a:r>
              <a:rPr b="1" lang="es-ES" sz="3000" spc="-1" strike="noStrike">
                <a:solidFill>
                  <a:srgbClr val="ffff66"/>
                </a:solidFill>
                <a:latin typeface="Times New Roman"/>
                <a:ea typeface="Arial Unicode MS"/>
              </a:rPr>
              <a:t>Tonalidad – ella tendrá mejor éxito al tratar con los hombres en su lugar de trabajo, si tiende a hablar en tono más bajo.</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66"/>
                </a:solidFill>
                <a:latin typeface="Arial Unicode MS"/>
                <a:ea typeface="Arial Unicode MS"/>
              </a:rPr>
              <a:t>∙  </a:t>
            </a:r>
            <a:r>
              <a:rPr b="1" lang="es-ES" sz="3000" spc="-1" strike="noStrike">
                <a:solidFill>
                  <a:srgbClr val="ffff66"/>
                </a:solidFill>
                <a:latin typeface="Times New Roman"/>
                <a:ea typeface="Arial Unicode MS"/>
              </a:rPr>
              <a:t>Su voz no debería ser muy suave o débil; la voz de una mujer debe ser firme y fuerte lo suficiente para ser oída fácilmente en las juntas. Una mujer con una voz muy suave o débil, debe aprender a resaltarla para ser mejor atendida.</a:t>
            </a:r>
            <a:endParaRPr b="0" lang="en-US" sz="3000" spc="-1" strike="noStrike">
              <a:solidFill>
                <a:srgbClr val="000000"/>
              </a:solidFill>
              <a:latin typeface="Arial"/>
            </a:endParaRPr>
          </a:p>
        </p:txBody>
      </p:sp>
      <p:sp>
        <p:nvSpPr>
          <p:cNvPr id="133" name=""/>
          <p:cNvSpPr/>
          <p:nvPr/>
        </p:nvSpPr>
        <p:spPr>
          <a:xfrm>
            <a:off x="304920" y="289080"/>
            <a:ext cx="7238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EXTERMINADORES DE LA CREDIBILIDAD DE LAS MUJE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5" descr="23a"/>
          <p:cNvPicPr/>
          <p:nvPr/>
        </p:nvPicPr>
        <p:blipFill>
          <a:blip r:embed="rId1"/>
          <a:stretch/>
        </p:blipFill>
        <p:spPr>
          <a:xfrm>
            <a:off x="0" y="0"/>
            <a:ext cx="9144000" cy="6858000"/>
          </a:xfrm>
          <a:prstGeom prst="rect">
            <a:avLst/>
          </a:prstGeom>
          <a:ln w="0">
            <a:noFill/>
          </a:ln>
        </p:spPr>
      </p:pic>
      <p:graphicFrame>
        <p:nvGraphicFramePr>
          <p:cNvPr id="135" name="Object 9"/>
          <p:cNvGraphicFramePr/>
          <p:nvPr/>
        </p:nvGraphicFramePr>
        <p:xfrm>
          <a:off x="0" y="4495680"/>
          <a:ext cx="1349280" cy="2362320"/>
        </p:xfrm>
        <a:graphic>
          <a:graphicData uri="http://schemas.openxmlformats.org/presentationml/2006/ole">
            <p:oleObj r:id="rId2" spid="">
              <p:embed/>
              <p:pic>
                <p:nvPicPr>
                  <p:cNvPr id="136" name="Object 9" descr=""/>
                  <p:cNvPicPr/>
                  <p:nvPr/>
                </p:nvPicPr>
                <p:blipFill>
                  <a:blip r:embed="rId3"/>
                  <a:stretch/>
                </p:blipFill>
                <p:spPr>
                  <a:xfrm>
                    <a:off x="0" y="4495680"/>
                    <a:ext cx="1349280" cy="2362320"/>
                  </a:xfrm>
                  <a:prstGeom prst="rect">
                    <a:avLst/>
                  </a:prstGeom>
                  <a:ln w="0">
                    <a:noFill/>
                  </a:ln>
                </p:spPr>
              </p:pic>
            </p:oleObj>
          </a:graphicData>
        </a:graphic>
      </p:graphicFrame>
      <p:sp>
        <p:nvSpPr>
          <p:cNvPr id="137" name=""/>
          <p:cNvSpPr/>
          <p:nvPr/>
        </p:nvSpPr>
        <p:spPr>
          <a:xfrm>
            <a:off x="228600" y="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0" y="228600"/>
            <a:ext cx="784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EXTERMINADORES DE LA CREDIBILIDAD DE LAS MUJERES</a:t>
            </a:r>
            <a:endParaRPr b="0" lang="en-US" sz="4000" spc="-1" strike="noStrike">
              <a:solidFill>
                <a:srgbClr val="000000"/>
              </a:solidFill>
              <a:latin typeface="Arial"/>
            </a:endParaRPr>
          </a:p>
        </p:txBody>
      </p:sp>
      <p:sp>
        <p:nvSpPr>
          <p:cNvPr id="139" name=""/>
          <p:cNvSpPr/>
          <p:nvPr/>
        </p:nvSpPr>
        <p:spPr>
          <a:xfrm>
            <a:off x="1219320" y="2438280"/>
            <a:ext cx="76960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Muchas mujeres tienen el hábito de permitir que su tono de voz se extienda hasta el final de la oración, haciendo que las declaraciones suenen más como dudas. Esto permite que los hombres piensen que ellas están indecisas. Es mejor que el tono de voz descienda al final de la o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6" descr="a3"/>
          <p:cNvPicPr/>
          <p:nvPr/>
        </p:nvPicPr>
        <p:blipFill>
          <a:blip r:embed="rId1"/>
          <a:stretch/>
        </p:blipFill>
        <p:spPr>
          <a:xfrm>
            <a:off x="0" y="-3240"/>
            <a:ext cx="9144000" cy="6861240"/>
          </a:xfrm>
          <a:prstGeom prst="rect">
            <a:avLst/>
          </a:prstGeom>
          <a:ln w="0">
            <a:noFill/>
          </a:ln>
        </p:spPr>
      </p:pic>
      <p:sp>
        <p:nvSpPr>
          <p:cNvPr id="141" name=""/>
          <p:cNvSpPr/>
          <p:nvPr/>
        </p:nvSpPr>
        <p:spPr>
          <a:xfrm>
            <a:off x="228600" y="228600"/>
            <a:ext cx="6553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La comunicación también involucra escuchar</a:t>
            </a:r>
            <a:endParaRPr b="0" lang="en-US" sz="4000" spc="-1" strike="noStrike">
              <a:solidFill>
                <a:srgbClr val="000000"/>
              </a:solidFill>
              <a:latin typeface="Arial"/>
            </a:endParaRPr>
          </a:p>
        </p:txBody>
      </p:sp>
      <p:sp>
        <p:nvSpPr>
          <p:cNvPr id="142" name=""/>
          <p:cNvSpPr/>
          <p:nvPr/>
        </p:nvSpPr>
        <p:spPr>
          <a:xfrm>
            <a:off x="457200" y="1600200"/>
            <a:ext cx="5486400" cy="504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 las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personas.</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 la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acción.</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l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contenido.</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l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tiemp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23a"/>
          <p:cNvPicPr/>
          <p:nvPr/>
        </p:nvPicPr>
        <p:blipFill>
          <a:blip r:embed="rId1"/>
          <a:stretch/>
        </p:blipFill>
        <p:spPr>
          <a:xfrm>
            <a:off x="0" y="0"/>
            <a:ext cx="9144000" cy="6858000"/>
          </a:xfrm>
          <a:prstGeom prst="rect">
            <a:avLst/>
          </a:prstGeom>
          <a:ln w="0">
            <a:noFill/>
          </a:ln>
        </p:spPr>
      </p:pic>
      <p:pic>
        <p:nvPicPr>
          <p:cNvPr id="144" name="Picture 5" descr="AG00108_"/>
          <p:cNvPicPr/>
          <p:nvPr/>
        </p:nvPicPr>
        <p:blipFill>
          <a:blip r:embed="rId2"/>
          <a:stretch/>
        </p:blipFill>
        <p:spPr>
          <a:xfrm>
            <a:off x="4876920" y="5181480"/>
            <a:ext cx="1447560" cy="757440"/>
          </a:xfrm>
          <a:prstGeom prst="rect">
            <a:avLst/>
          </a:prstGeom>
          <a:ln w="0">
            <a:noFill/>
          </a:ln>
        </p:spPr>
      </p:pic>
      <p:sp>
        <p:nvSpPr>
          <p:cNvPr id="145" name=""/>
          <p:cNvSpPr/>
          <p:nvPr/>
        </p:nvSpPr>
        <p:spPr>
          <a:xfrm>
            <a:off x="152280" y="533520"/>
            <a:ext cx="73915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Haciendo pedidos a los administradores</a:t>
            </a:r>
            <a:endParaRPr b="0" lang="en-US" sz="4000" spc="-1" strike="noStrike">
              <a:solidFill>
                <a:srgbClr val="000000"/>
              </a:solidFill>
              <a:latin typeface="Arial"/>
            </a:endParaRPr>
          </a:p>
        </p:txBody>
      </p:sp>
      <p:sp>
        <p:nvSpPr>
          <p:cNvPr id="146" name=""/>
          <p:cNvSpPr/>
          <p:nvPr/>
        </p:nvSpPr>
        <p:spPr>
          <a:xfrm>
            <a:off x="304920" y="2544840"/>
            <a:ext cx="883908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Lo primero es lógica - ¿El pedido tiene sentid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Usted debe ser sensible a los problemas que la </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organización puede estar experimentando </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en el moment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Momento oportu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5" descr="23a"/>
          <p:cNvPicPr/>
          <p:nvPr/>
        </p:nvPicPr>
        <p:blipFill>
          <a:blip r:embed="rId1"/>
          <a:stretch/>
        </p:blipFill>
        <p:spPr>
          <a:xfrm>
            <a:off x="0" y="0"/>
            <a:ext cx="9144000" cy="6858000"/>
          </a:xfrm>
          <a:prstGeom prst="rect">
            <a:avLst/>
          </a:prstGeom>
          <a:ln w="0">
            <a:noFill/>
          </a:ln>
        </p:spPr>
      </p:pic>
      <p:pic>
        <p:nvPicPr>
          <p:cNvPr id="148" name="Picture 7" descr="AG00108_"/>
          <p:cNvPicPr/>
          <p:nvPr/>
        </p:nvPicPr>
        <p:blipFill>
          <a:blip r:embed="rId2"/>
          <a:stretch/>
        </p:blipFill>
        <p:spPr>
          <a:xfrm>
            <a:off x="4724280" y="5029200"/>
            <a:ext cx="1447920" cy="757080"/>
          </a:xfrm>
          <a:prstGeom prst="rect">
            <a:avLst/>
          </a:prstGeom>
          <a:ln w="0">
            <a:noFill/>
          </a:ln>
        </p:spPr>
      </p:pic>
      <p:sp>
        <p:nvSpPr>
          <p:cNvPr id="149" name=""/>
          <p:cNvSpPr/>
          <p:nvPr/>
        </p:nvSpPr>
        <p:spPr>
          <a:xfrm>
            <a:off x="0" y="289080"/>
            <a:ext cx="7467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Haciendo pedidos a los administradores</a:t>
            </a:r>
            <a:endParaRPr b="0" lang="en-US" sz="4000" spc="-1" strike="noStrike">
              <a:solidFill>
                <a:srgbClr val="000000"/>
              </a:solidFill>
              <a:latin typeface="Arial"/>
            </a:endParaRPr>
          </a:p>
        </p:txBody>
      </p:sp>
      <p:sp>
        <p:nvSpPr>
          <p:cNvPr id="150" name=""/>
          <p:cNvSpPr/>
          <p:nvPr/>
        </p:nvSpPr>
        <p:spPr>
          <a:xfrm>
            <a:off x="1143000" y="2209680"/>
            <a:ext cx="7010280" cy="331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  </a:t>
            </a:r>
            <a:r>
              <a:rPr b="1" lang="es-ES" sz="3800" spc="-1" strike="noStrike">
                <a:solidFill>
                  <a:srgbClr val="ffff66"/>
                </a:solidFill>
                <a:latin typeface="Times New Roman"/>
                <a:ea typeface="Arial Unicode MS"/>
              </a:rPr>
              <a:t>Entienda cuando desistir.</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a:t>
            </a:r>
            <a:r>
              <a:rPr b="1" lang="es-ES" sz="3800" spc="-1" strike="noStrike">
                <a:solidFill>
                  <a:srgbClr val="ffff66"/>
                </a:solidFill>
                <a:latin typeface="Times New Roman"/>
                <a:ea typeface="Arial Unicode MS"/>
              </a:rPr>
              <a:t>  </a:t>
            </a:r>
            <a:r>
              <a:rPr b="1" lang="es-ES" sz="3800" spc="-1" strike="noStrike">
                <a:solidFill>
                  <a:srgbClr val="ffff66"/>
                </a:solidFill>
                <a:latin typeface="Times New Roman"/>
                <a:ea typeface="Arial Unicode MS"/>
              </a:rPr>
              <a:t>Vaya al punto cuanto antes.</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  </a:t>
            </a:r>
            <a:r>
              <a:rPr b="1" lang="es-ES" sz="3800" spc="-1" strike="noStrike">
                <a:solidFill>
                  <a:srgbClr val="ffff66"/>
                </a:solidFill>
                <a:latin typeface="Times New Roman"/>
                <a:ea typeface="Arial Unicode MS"/>
              </a:rPr>
              <a:t>No se queje ni se emocione.</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  </a:t>
            </a:r>
            <a:r>
              <a:rPr b="1" lang="es-ES" sz="3800" spc="-1" strike="noStrike">
                <a:solidFill>
                  <a:srgbClr val="ffff66"/>
                </a:solidFill>
                <a:latin typeface="Times New Roman"/>
                <a:ea typeface="Arial Unicode MS"/>
              </a:rPr>
              <a:t>Sea objetiv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5" descr="BS106790cópia"/>
          <p:cNvPicPr/>
          <p:nvPr/>
        </p:nvPicPr>
        <p:blipFill>
          <a:blip r:embed="rId1"/>
          <a:stretch/>
        </p:blipFill>
        <p:spPr>
          <a:xfrm>
            <a:off x="0" y="0"/>
            <a:ext cx="9144000" cy="6858000"/>
          </a:xfrm>
          <a:prstGeom prst="rect">
            <a:avLst/>
          </a:prstGeom>
          <a:ln w="0">
            <a:noFill/>
          </a:ln>
        </p:spPr>
      </p:pic>
      <p:sp>
        <p:nvSpPr>
          <p:cNvPr id="152" name=""/>
          <p:cNvSpPr/>
          <p:nvPr/>
        </p:nvSpPr>
        <p:spPr>
          <a:xfrm>
            <a:off x="457200" y="22860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LO QUE LOS LÍDERES ESPERAN DE LOS EMPLEADOS Y VOLUNTARIOS</a:t>
            </a:r>
            <a:endParaRPr b="0" lang="en-US" sz="3600" spc="-1" strike="noStrike">
              <a:solidFill>
                <a:srgbClr val="000000"/>
              </a:solidFill>
              <a:latin typeface="Arial"/>
            </a:endParaRPr>
          </a:p>
        </p:txBody>
      </p:sp>
      <p:sp>
        <p:nvSpPr>
          <p:cNvPr id="153" name=""/>
          <p:cNvSpPr/>
          <p:nvPr/>
        </p:nvSpPr>
        <p:spPr>
          <a:xfrm>
            <a:off x="3048120" y="1676520"/>
            <a:ext cx="601956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Una relación con Jesú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Lealtad – a la iglesia, los administradores y a los compañeros/voluntarios de trabaj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Visión de lo que quiere ver realizad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Que acepte la responsabi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4" descr="BS106790cópia"/>
          <p:cNvPicPr/>
          <p:nvPr/>
        </p:nvPicPr>
        <p:blipFill>
          <a:blip r:embed="rId1"/>
          <a:stretch/>
        </p:blipFill>
        <p:spPr>
          <a:xfrm>
            <a:off x="0" y="0"/>
            <a:ext cx="9144000" cy="6858000"/>
          </a:xfrm>
          <a:prstGeom prst="rect">
            <a:avLst/>
          </a:prstGeom>
          <a:ln w="0">
            <a:noFill/>
          </a:ln>
        </p:spPr>
      </p:pic>
      <p:sp>
        <p:nvSpPr>
          <p:cNvPr id="155" name=""/>
          <p:cNvSpPr/>
          <p:nvPr/>
        </p:nvSpPr>
        <p:spPr>
          <a:xfrm>
            <a:off x="3352680" y="1219320"/>
            <a:ext cx="556272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Colaboración.</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Actitud positiva y alegr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  </a:t>
            </a:r>
            <a:r>
              <a:rPr b="1" lang="es-ES" sz="3600" spc="-1" strike="noStrike">
                <a:solidFill>
                  <a:srgbClr val="ffff66"/>
                </a:solidFill>
                <a:latin typeface="Times New Roman"/>
                <a:ea typeface="Arial Unicode MS"/>
              </a:rPr>
              <a:t>Buena voluntad para </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ayudar a otro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Integridad.</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Pacificad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7" descr="FC21199cópia"/>
          <p:cNvPicPr/>
          <p:nvPr/>
        </p:nvPicPr>
        <p:blipFill>
          <a:blip r:embed="rId1"/>
          <a:stretch/>
        </p:blipFill>
        <p:spPr>
          <a:xfrm>
            <a:off x="0" y="0"/>
            <a:ext cx="9144000" cy="6858000"/>
          </a:xfrm>
          <a:prstGeom prst="rect">
            <a:avLst/>
          </a:prstGeom>
          <a:ln w="0">
            <a:noFill/>
          </a:ln>
        </p:spPr>
      </p:pic>
      <p:sp>
        <p:nvSpPr>
          <p:cNvPr id="60" name="Rectangle 5"/>
          <p:cNvSpPr/>
          <p:nvPr/>
        </p:nvSpPr>
        <p:spPr>
          <a:xfrm>
            <a:off x="380880" y="1202760"/>
            <a:ext cx="4496040" cy="5748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Unicode MS"/>
                <a:ea typeface="Arial Unicode MS"/>
              </a:rPr>
              <a:t>∙  </a:t>
            </a:r>
            <a:r>
              <a:rPr b="1" i="1" lang="es-ES" sz="3200" spc="-1" strike="noStrike">
                <a:solidFill>
                  <a:srgbClr val="ffffff"/>
                </a:solidFill>
                <a:latin typeface="Arial Unicode MS"/>
                <a:ea typeface="Arial Unicode MS"/>
              </a:rPr>
              <a:t>Se ayudan en la realización de sus metas.</a:t>
            </a:r>
            <a:endParaRPr b="0" lang="en-US" sz="32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Unicode MS"/>
                <a:ea typeface="Arial Unicode MS"/>
              </a:rPr>
              <a:t>∙  </a:t>
            </a:r>
            <a:r>
              <a:rPr b="1" i="1" lang="es-ES" sz="3200" spc="-1" strike="noStrike">
                <a:solidFill>
                  <a:srgbClr val="ffffff"/>
                </a:solidFill>
                <a:latin typeface="Arial Unicode MS"/>
                <a:ea typeface="Arial Unicode MS"/>
              </a:rPr>
              <a:t>Tienen la misma visión y metas.</a:t>
            </a:r>
            <a:endParaRPr b="0" lang="en-US" sz="32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Unicode MS"/>
                <a:ea typeface="Arial Unicode MS"/>
              </a:rPr>
              <a:t>∙  </a:t>
            </a:r>
            <a:r>
              <a:rPr b="0" i="1" lang="es-ES" sz="3200" spc="-1" strike="noStrike">
                <a:solidFill>
                  <a:srgbClr val="ffffff"/>
                </a:solidFill>
                <a:latin typeface="Arial Unicode MS"/>
                <a:ea typeface="Arial Unicode MS"/>
              </a:rPr>
              <a:t>Ellas saben cómo unirs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WordArt 8"/>
          <p:cNvSpPr txBox="1"/>
          <p:nvPr/>
        </p:nvSpPr>
        <p:spPr>
          <a:xfrm>
            <a:off x="990720" y="971640"/>
            <a:ext cx="4038480" cy="78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7819" dir="2700000" blurRad="0" rotWithShape="0">
                    <a:srgbClr val="a50021"/>
                  </a:outerShdw>
                </a:effectLst>
                <a:latin typeface="Arial Narrow"/>
              </a:rPr>
              <a:t>Compañeras de equipo:</a:t>
            </a:r>
            <a:endParaRPr b="1" lang="en-US" sz="1800" spc="1" strike="noStrike">
              <a:ln w="9360">
                <a:solidFill>
                  <a:srgbClr val="ffffff"/>
                </a:solidFill>
                <a:miter/>
              </a:ln>
              <a:solidFill>
                <a:srgbClr val="ffffff"/>
              </a:solidFill>
              <a:effectLst>
                <a:outerShdw dist="17819" dir="2700000" blurRad="0" rotWithShape="0">
                  <a:srgbClr val="a50021"/>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5" descr="BS106790cópia"/>
          <p:cNvPicPr/>
          <p:nvPr/>
        </p:nvPicPr>
        <p:blipFill>
          <a:blip r:embed="rId1"/>
          <a:stretch/>
        </p:blipFill>
        <p:spPr>
          <a:xfrm>
            <a:off x="0" y="0"/>
            <a:ext cx="9144000" cy="7162920"/>
          </a:xfrm>
          <a:prstGeom prst="rect">
            <a:avLst/>
          </a:prstGeom>
          <a:ln w="0">
            <a:noFill/>
          </a:ln>
        </p:spPr>
      </p:pic>
      <p:sp>
        <p:nvSpPr>
          <p:cNvPr id="157" name=""/>
          <p:cNvSpPr/>
          <p:nvPr/>
        </p:nvSpPr>
        <p:spPr>
          <a:xfrm>
            <a:off x="365760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809880" y="531720"/>
            <a:ext cx="5181840" cy="600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Puntualidad.</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Confidencias de honor.</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Buena voluntad para trabajar fuert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Confianza en sí mism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Respeto por uno mism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Buena voluntad para aceptar consej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Ser un jugador de equ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4" descr="BS106935cópia"/>
          <p:cNvPicPr/>
          <p:nvPr/>
        </p:nvPicPr>
        <p:blipFill>
          <a:blip r:embed="rId1"/>
          <a:stretch/>
        </p:blipFill>
        <p:spPr>
          <a:xfrm>
            <a:off x="0" y="-38160"/>
            <a:ext cx="9372600" cy="7124760"/>
          </a:xfrm>
          <a:prstGeom prst="rect">
            <a:avLst/>
          </a:prstGeom>
          <a:ln w="0">
            <a:noFill/>
          </a:ln>
        </p:spPr>
      </p:pic>
      <p:sp>
        <p:nvSpPr>
          <p:cNvPr id="63" name=""/>
          <p:cNvSpPr/>
          <p:nvPr/>
        </p:nvSpPr>
        <p:spPr>
          <a:xfrm>
            <a:off x="4572000" y="1222200"/>
            <a:ext cx="41911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Liderazgo es la habilidad de lograr metas a través de otr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4" descr="23a"/>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457200" y="2103120"/>
            <a:ext cx="8229600" cy="3382920"/>
          </a:xfrm>
          <a:prstGeom prst="rect">
            <a:avLst/>
          </a:prstGeom>
          <a:noFill/>
          <a:ln w="0">
            <a:noFill/>
          </a:ln>
          <a:effectLst>
            <a:outerShdw dist="36147" dir="2700000" blurRad="0" rotWithShape="0">
              <a:srgbClr val="000000"/>
            </a:outerShdw>
          </a:effectLst>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Chismear.</a:t>
            </a:r>
            <a:endParaRPr b="0" lang="en-US" sz="3600" spc="-1" strike="noStrike">
              <a:solidFill>
                <a:srgbClr val="000000"/>
              </a:solidFill>
              <a:latin typeface="Arial"/>
            </a:endParaRPr>
          </a:p>
          <a:p>
            <a:pPr marL="343080" indent="0">
              <a:lnSpc>
                <a:spcPct val="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Divulgar rumores o propagar secretos.</a:t>
            </a:r>
            <a:endParaRPr b="0" lang="en-US" sz="3600" spc="-1" strike="noStrike">
              <a:solidFill>
                <a:srgbClr val="000000"/>
              </a:solidFill>
              <a:latin typeface="Arial"/>
            </a:endParaRPr>
          </a:p>
          <a:p>
            <a:pPr marL="3430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Despreciar o retirar la amistad.</a:t>
            </a:r>
            <a:endParaRPr b="0" lang="en-US" sz="3600" spc="-1" strike="noStrike">
              <a:solidFill>
                <a:srgbClr val="000000"/>
              </a:solidFill>
              <a:latin typeface="Arial"/>
            </a:endParaRPr>
          </a:p>
        </p:txBody>
      </p:sp>
      <p:sp>
        <p:nvSpPr>
          <p:cNvPr id="66" name="WordArt 5"/>
          <p:cNvSpPr txBox="1"/>
          <p:nvPr/>
        </p:nvSpPr>
        <p:spPr>
          <a:xfrm>
            <a:off x="900000" y="609480"/>
            <a:ext cx="466272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ff"/>
                  </a:solidFill>
                  <a:miter/>
                </a:ln>
                <a:solidFill>
                  <a:srgbClr val="ffffff"/>
                </a:solidFill>
                <a:effectLst>
                  <a:outerShdw dist="17819" dir="2700000" blurRad="0" rotWithShape="0">
                    <a:srgbClr val="808080">
                      <a:alpha val="80000"/>
                    </a:srgbClr>
                  </a:outerShdw>
                </a:effectLst>
                <a:latin typeface="Arial Narrow"/>
              </a:rPr>
              <a:t>Conflictos Indirectos:</a:t>
            </a:r>
            <a:endParaRPr b="1" i="1" lang="en-US" sz="1800" spc="1" strike="noStrike">
              <a:ln w="9360">
                <a:solidFill>
                  <a:srgbClr val="ffffff"/>
                </a:solidFill>
                <a:miter/>
              </a:ln>
              <a:solidFill>
                <a:srgbClr val="ffffff"/>
              </a:solidFill>
              <a:effectLst>
                <a:outerShdw dist="17819" dir="2700000" blurRad="0" rotWithShape="0">
                  <a:srgbClr val="808080">
                    <a:alpha val="80000"/>
                  </a:srgbClr>
                </a:outerShdw>
              </a:effectLst>
              <a:latin typeface="Arial Narrow"/>
              <a:ea typeface="Arial Narrow"/>
            </a:endParaRPr>
          </a:p>
        </p:txBody>
      </p:sp>
      <p:pic>
        <p:nvPicPr>
          <p:cNvPr id="67" name="Picture 7" descr="j0161020"/>
          <p:cNvPicPr/>
          <p:nvPr/>
        </p:nvPicPr>
        <p:blipFill>
          <a:blip r:embed="rId2"/>
          <a:stretch/>
        </p:blipFill>
        <p:spPr>
          <a:xfrm>
            <a:off x="6370560" y="3962520"/>
            <a:ext cx="2925720" cy="304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5" descr="Slide4"/>
          <p:cNvPicPr/>
          <p:nvPr/>
        </p:nvPicPr>
        <p:blipFill>
          <a:blip r:embed="rId1"/>
          <a:stretch/>
        </p:blipFill>
        <p:spPr>
          <a:xfrm>
            <a:off x="0" y="0"/>
            <a:ext cx="9448920" cy="7086600"/>
          </a:xfrm>
          <a:prstGeom prst="rect">
            <a:avLst/>
          </a:prstGeom>
          <a:ln w="0">
            <a:noFill/>
          </a:ln>
        </p:spPr>
      </p:pic>
      <p:sp>
        <p:nvSpPr>
          <p:cNvPr id="69" name=""/>
          <p:cNvSpPr/>
          <p:nvPr/>
        </p:nvSpPr>
        <p:spPr>
          <a:xfrm>
            <a:off x="5715000" y="2133720"/>
            <a:ext cx="289548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Arial Narrow"/>
              </a:rPr>
              <a:t>LA  REGLA  DE  LA  IGUALDAD  DEL  POD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5" descr="BD20718cópia"/>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228600" y="1447920"/>
            <a:ext cx="4114800" cy="4525920"/>
          </a:xfrm>
          <a:prstGeom prst="rect">
            <a:avLst/>
          </a:prstGeom>
          <a:noFill/>
          <a:ln w="0">
            <a:noFill/>
          </a:ln>
        </p:spPr>
        <p:txBody>
          <a:bodyPr anchor="t">
            <a:normAutofit/>
          </a:bodyPr>
          <a:p>
            <a:pPr marL="34308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8000"/>
                </a:solidFill>
                <a:latin typeface="Times New Roman"/>
              </a:rPr>
              <a:t>El poder se define como el monto de fuerza que las mujeres manejan en su mundo</a:t>
            </a:r>
            <a:r>
              <a:rPr b="0" lang="es-ES"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Slide19"/>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609120" y="1417680"/>
            <a:ext cx="4800600" cy="4525920"/>
          </a:xfrm>
          <a:prstGeom prst="rect">
            <a:avLst/>
          </a:prstGeom>
          <a:noFill/>
          <a:ln w="0">
            <a:noFill/>
          </a:ln>
          <a:effectLst>
            <a:outerShdw dist="56832" dir="1603641" blurRad="0" rotWithShape="0">
              <a:srgbClr val="000000"/>
            </a:outerShdw>
          </a:effectLst>
        </p:spPr>
        <p:txBody>
          <a:bodyPr anchor="t">
            <a:normAutofit/>
          </a:bodyPr>
          <a:p>
            <a:pPr marL="343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a autoestima es lo que una mujer piensa sobre ella misma.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5" descr="23a"/>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76320" y="152280"/>
            <a:ext cx="8229600" cy="144792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Arial Narrow"/>
              </a:rPr>
              <a:t>Para que las mujeres trabajen juntas con éxito, la líder debe tener una estrategia:</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1218960" y="1981080"/>
            <a:ext cx="7086600" cy="4525920"/>
          </a:xfrm>
          <a:prstGeom prst="rect">
            <a:avLst/>
          </a:prstGeom>
          <a:noFill/>
          <a:ln w="0">
            <a:noFill/>
          </a:ln>
          <a:effectLst>
            <a:outerShdw dist="36147" dir="2700000" blurRad="0" rotWithShape="0">
              <a:srgbClr val="000000"/>
            </a:outerShdw>
          </a:effectLst>
        </p:spPr>
        <p:txBody>
          <a:bodyPr anchor="t">
            <a:normAutofit/>
          </a:bodyPr>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Unicode MS"/>
                <a:ea typeface="Arial Unicode MS"/>
              </a:rPr>
              <a:t>∙  </a:t>
            </a:r>
            <a:r>
              <a:rPr b="1" lang="es-ES" sz="3200" spc="-1" strike="noStrike">
                <a:solidFill>
                  <a:srgbClr val="ffff66"/>
                </a:solidFill>
                <a:latin typeface="Times New Roman"/>
              </a:rPr>
              <a:t>Debe construir deliberadamente la autoestima.</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Debe participar en la “conversación armónica”.</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Debe usar preguntas abiertas.</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No debe dar órdenes.</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77" name="Picture 7" descr="j0161020"/>
          <p:cNvPicPr/>
          <p:nvPr/>
        </p:nvPicPr>
        <p:blipFill>
          <a:blip r:embed="rId2"/>
          <a:stretch/>
        </p:blipFill>
        <p:spPr>
          <a:xfrm>
            <a:off x="6781680" y="4343400"/>
            <a:ext cx="21942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6:48:45Z</dcterms:created>
  <dc:creator>ArraisR</dc:creator>
  <dc:description/>
  <dc:language>en-US</dc:language>
  <cp:lastModifiedBy>Rosana  Guerra</cp:lastModifiedBy>
  <dcterms:modified xsi:type="dcterms:W3CDTF">2008-07-23T17:21:59Z</dcterms:modified>
  <cp:revision>61</cp:revision>
  <dc:subject/>
  <dc:title>Slide 1</dc:title>
</cp:coreProperties>
</file>