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1278-198E-44CC-9E88-A1D22E1C0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881360" y="611280"/>
            <a:ext cx="2877840" cy="2160360"/>
          </a:xfrm>
          <a:prstGeom prst="rect">
            <a:avLst/>
          </a:prstGeom>
          <a:ln w="0">
            <a:noFill/>
          </a:ln>
        </p:spPr>
      </p:sp>
      <p:sp>
        <p:nvSpPr>
          <p:cNvPr id="86" name="PlaceHolder 2"/>
          <p:cNvSpPr>
            <a:spLocks noGrp="1"/>
          </p:cNvSpPr>
          <p:nvPr>
            <p:ph type="body"/>
          </p:nvPr>
        </p:nvSpPr>
        <p:spPr>
          <a:xfrm>
            <a:off x="685800" y="3492360"/>
            <a:ext cx="5486400" cy="1511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Garamond"/>
              </a:rPr>
              <a:t>Mujeres del Nuevo Testament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Garamond"/>
              </a:rPr>
              <a:t>Script de la presentador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174760" y="611280"/>
            <a:ext cx="2398680" cy="1800000"/>
          </a:xfrm>
          <a:prstGeom prst="rect">
            <a:avLst/>
          </a:prstGeom>
          <a:ln w="0">
            <a:noFill/>
          </a:ln>
        </p:spPr>
      </p:sp>
      <p:sp>
        <p:nvSpPr>
          <p:cNvPr id="102" name="PlaceHolder 2"/>
          <p:cNvSpPr>
            <a:spLocks noGrp="1"/>
          </p:cNvSpPr>
          <p:nvPr>
            <p:ph type="body"/>
          </p:nvPr>
        </p:nvSpPr>
        <p:spPr>
          <a:xfrm>
            <a:off x="685800" y="248616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 la condenó por contrariar tradiciones com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netrar en la fiesta de los hombre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omper un valioso frasco de alabast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sperdiciar dinero con un perfume ca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carse sobre un hombre.</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ocarlo en público.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ltarse el cabello para que todos lo vie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170080" y="468360"/>
            <a:ext cx="2301840" cy="1727280"/>
          </a:xfrm>
          <a:prstGeom prst="rect">
            <a:avLst/>
          </a:prstGeom>
          <a:ln w="0">
            <a:noFill/>
          </a:ln>
        </p:spPr>
      </p:sp>
      <p:sp>
        <p:nvSpPr>
          <p:cNvPr id="104" name="PlaceHolder 2"/>
          <p:cNvSpPr>
            <a:spLocks noGrp="1"/>
          </p:cNvSpPr>
          <p:nvPr>
            <p:ph type="body"/>
          </p:nvPr>
        </p:nvSpPr>
        <p:spPr>
          <a:xfrm>
            <a:off x="685440" y="2341080"/>
            <a:ext cx="562284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cierto os digo que dondequiera que se predique este evangelio, en todo el mundo, también se contará lo que ésta ha hecho, para memoria de ella. (Mateo 26: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cas cosas que nuestro Señor hizo de forma más genuina chocó a los líderes religiosos de sus días como su rapidez en extender compasión y perdón a una mujer que ‘era pecadora’.” – Anthony Deane, </a:t>
            </a:r>
            <a:r>
              <a:rPr b="0" i="1" lang="es-ES" sz="1200" spc="-1" strike="noStrike">
                <a:solidFill>
                  <a:srgbClr val="000000"/>
                </a:solidFill>
                <a:latin typeface="Arial"/>
              </a:rPr>
              <a:t>The World Christ Knew</a:t>
            </a:r>
            <a:r>
              <a:rPr b="0" lang="es-ES" sz="1200" spc="-1" strike="noStrike">
                <a:solidFill>
                  <a:srgbClr val="000000"/>
                </a:solidFill>
                <a:latin typeface="Arial"/>
              </a:rPr>
              <a:t>, p. 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Y LAS DOS MONEDI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2:41-44 menciona: “Y vino una viuda pobre, y echó dos blancas, o sea un cuadrante ... esta viuda pobre echó más que todos los que han echado en el arca ”. Jesús y los discípulos estaban cerca de la salida del templo. Jesús llamó la atención de los discípulos a la viuda pobre dando todo lo que tenía como ofrenda. Qué contraste con los hombres ricos que hacían gran ostentación de sus ofren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debían estar bien cerca de la viuda para saber cuánto dinero había donado. Es muy probable que haya escuchado las palabras de aprobación proferidas por Jesús al comentar con sus discípulos sobre lo que había hecho. ¡Qué alegría deben haberle traído Sus palabras al espíritu! Eso ocurrió pocos días antes de su crucifixión. ¿Será que el acto de fe de la pobre viuda trajo alegría a Jesús al prepararse para el mayor sacrificio de todos los tiemp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082960" y="828720"/>
            <a:ext cx="2303280" cy="1727280"/>
          </a:xfrm>
          <a:prstGeom prst="rect">
            <a:avLst/>
          </a:prstGeom>
          <a:ln w="0">
            <a:noFill/>
          </a:ln>
        </p:spPr>
      </p:sp>
      <p:sp>
        <p:nvSpPr>
          <p:cNvPr id="106" name="PlaceHolder 2"/>
          <p:cNvSpPr>
            <a:spLocks noGrp="1"/>
          </p:cNvSpPr>
          <p:nvPr>
            <p:ph type="body"/>
          </p:nvPr>
        </p:nvSpPr>
        <p:spPr>
          <a:xfrm>
            <a:off x="685800" y="2701440"/>
            <a:ext cx="5486400" cy="5326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206800" y="755640"/>
            <a:ext cx="2300040" cy="1725480"/>
          </a:xfrm>
          <a:prstGeom prst="rect">
            <a:avLst/>
          </a:prstGeom>
          <a:ln w="0">
            <a:noFill/>
          </a:ln>
        </p:spPr>
      </p:sp>
      <p:sp>
        <p:nvSpPr>
          <p:cNvPr id="108" name="PlaceHolder 2"/>
          <p:cNvSpPr>
            <a:spLocks noGrp="1"/>
          </p:cNvSpPr>
          <p:nvPr>
            <p:ph type="body"/>
          </p:nvPr>
        </p:nvSpPr>
        <p:spPr>
          <a:xfrm>
            <a:off x="685800" y="2556000"/>
            <a:ext cx="5695920" cy="5254560"/>
          </a:xfrm>
          <a:prstGeom prst="rect">
            <a:avLst/>
          </a:prstGeom>
          <a:noFill/>
          <a:ln w="0">
            <a:noFill/>
          </a:ln>
        </p:spPr>
        <p:txBody>
          <a:bodyPr lIns="90000" rIns="9000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na mujer que había perdido la compañía de su esposo perdía más que apenas a su compañero – perdía también su </a:t>
            </a:r>
            <a:r>
              <a:rPr b="0" i="1" lang="es-ES" sz="1200" spc="-1" strike="noStrike">
                <a:solidFill>
                  <a:srgbClr val="ffffff"/>
                </a:solidFill>
                <a:latin typeface="Arial"/>
              </a:rPr>
              <a:t>status</a:t>
            </a:r>
            <a:r>
              <a:rPr b="0" lang="es-ES" sz="1200" spc="-1" strike="noStrike">
                <a:solidFill>
                  <a:srgbClr val="ffffff"/>
                </a:solidFill>
                <a:latin typeface="Arial"/>
              </a:rPr>
              <a:t> en la sociedad. Y una mujer que era viuda y pobre estaba entre las que se encontraban en una de las condiciones más inferiores” – Morris L. Venden, </a:t>
            </a:r>
            <a:r>
              <a:rPr b="0" i="1" lang="es-ES" sz="1200" spc="-1" strike="noStrike">
                <a:solidFill>
                  <a:srgbClr val="ffffff"/>
                </a:solidFill>
                <a:latin typeface="Arial"/>
              </a:rPr>
              <a:t>Cómo Jesús trataba a las personas</a:t>
            </a:r>
            <a:r>
              <a:rPr b="0" lang="es-ES" sz="1200" spc="-1" strike="noStrike">
                <a:solidFill>
                  <a:srgbClr val="ffffff"/>
                </a:solidFill>
                <a:latin typeface="Arial"/>
              </a:rPr>
              <a:t>, p. 89.</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JUNTO A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1-42 cuenta una de las historias más interesantes sobre cómo manejó Jesús una situación que envolvía una mujer de otra cultura. La costumbre judía decía que los hombres no deberían conversar con las mujeres en la calle (aún con su propia esposa) para evitar la apariencia del mal. Pero eso no detuvo 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4, dice: “Y le era necesario pasar por Samaria ”. Como revela el estudio, vemos que el motivo para pasar por allí debía ser esa mujer. ¡Jesús le dio la oportunidad de llevar las buenas nuevas del evangelio a sus veci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está cansado por el viaje y por las predicaciones que había presentado, por eso los discípulos lo dejaron solo, descansando mientras se dirigían a la ciudad en busca de alimento. Jesús se sienta junto al pozo en el calor del mediodía, sediento y aguardando por la llegada de alguien que pueda sacar agua de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mujeres de la ciudad iban a la mañana temprano para llenar sus vasijas y conversar entre sí. Pero esta mujer fue a la hora más calurosa del día para evitar la malicia de las otras mujeres – visto que tenía mala fam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agachó sobre el pozo, llenó su vasija y se preparó para regresar. Se sorprendió cuando un extraño le pidió agua – aunque sea la costumbre en el Oriente Medio nunca rehusar alimento o agua a un extranjero, ¡este hombre era judío, y un hombre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odio que reinaba entre los judíos y los samaritanos impidió a la mujer ofrecer un favor a Jesús; pero el Salvador estaba tratando de hallar la llave de su corazón, y con el tacto nacido del amor divino, él no ofreció un favor, sino que lo pidió.” (</a:t>
            </a:r>
            <a:r>
              <a:rPr b="0" i="1" lang="es-ES" sz="1200" spc="-1" strike="noStrike">
                <a:solidFill>
                  <a:srgbClr val="000000"/>
                </a:solidFill>
                <a:latin typeface="Arial"/>
              </a:rPr>
              <a:t>El Deseado de Todas las Naciones</a:t>
            </a:r>
            <a:r>
              <a:rPr b="0" lang="es-ES" sz="1200" spc="-1" strike="noStrike">
                <a:solidFill>
                  <a:srgbClr val="000000"/>
                </a:solidFill>
                <a:latin typeface="Arial"/>
              </a:rPr>
              <a:t>, p. 1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leva la conversación hacia temas de naturaleza espiritual. “‘Si conocieras el don de Dios, y quién es el que te dice: Dame de beber; tú le pedirías, y él te daría agua viva.” (versículo 10).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body"/>
          </p:nvPr>
        </p:nvSpPr>
        <p:spPr>
          <a:xfrm>
            <a:off x="685800" y="826560"/>
            <a:ext cx="5486400" cy="777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spuesta de ella diciendo que Él no tenía como sacar agua, muestra que estaba pensando en la necesidad física para refrigerar su cuerpo. Pero se interesa en el “agua viva” que Él ofrece. Jesús capta la línea de pensamiento de la mujer y prosigue con el mensaje que tiene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habla del agua que da la vida eterna. Ahora capta la atención de ella. ¡Cómo le gustaría no necesitar más venir hasta el pozo para buscar agua cada día! Entonces Jesús cambia de conversación hacia el pecado en su vida – lo que la separa de las otras mujeres de la ciudad. Cuando le pide que regrese a su casa y traiga a su marido, ella responde confiadamente: “No tengo marido.” (verso 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Jesús puede ayudarla a enfrentar el pecado que le domina la vida. Menciona los otros cinco maridos que tuvo en la vida. La mujer se pregunta qué tipo de hombre es ese extranjero que conoce sus secretos del pasado. En el versículo 19 ella reconoce que Jesús es un profeta. ¡Menciona al “Mesías” y Jesús se le revela como el Mes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que acaba de escuchar esa maravillosa información, llegan los discípulos. Ellos se horrorizan al ver a Jesús conversando con una mujer – no solo una mujer, ¡sino una samaritana! Ella ya había aprendido mucho y, sorprendentemente, “la mujer dejó su cántaro, y fue a la ciudad ”. Esta es una mujer transformada que ya no teme más las miradas de los vecinos. ¡Ahora tenemos buenas nuevas para compartir! “¿Será que él no es el Cristo?” Su rostro tiene un aspecto diferente e irradia alegría. ¿Cuáles son los resultados del encuentro de Jesús con la mujer samaritana junto al poz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09960" y="468360"/>
            <a:ext cx="2495520" cy="1871640"/>
          </a:xfrm>
          <a:prstGeom prst="rect">
            <a:avLst/>
          </a:prstGeom>
          <a:ln w="0">
            <a:noFill/>
          </a:ln>
        </p:spPr>
      </p:sp>
      <p:sp>
        <p:nvSpPr>
          <p:cNvPr id="111" name="PlaceHolder 2"/>
          <p:cNvSpPr>
            <a:spLocks noGrp="1"/>
          </p:cNvSpPr>
          <p:nvPr>
            <p:ph type="body"/>
          </p:nvPr>
        </p:nvSpPr>
        <p:spPr>
          <a:xfrm>
            <a:off x="620640" y="2557440"/>
            <a:ext cx="5486400" cy="539928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no la condenó, sino que le dio esperanz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la compartió las buenas nuevas con sus vecino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lgunos vecinos se acercaron para escuchar a Jesú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Muchos de los samaritanos de aquella ciudad creyeron en él por la palabra de la mujer, que daba testimonio diciendo: Me dijo todo lo que he he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ero el propósito de Cristo sobrepasa la tradición humana. Al conversar con una samaritana, Jesús ilustró el poder del evangelio para toda la humanidad. Por intermedio de un único contacto, toda la ciudad escuchó su mensaje. Esto causó indeleble impresión en los discípulos”. Carlos Medley, editorial, “Challenging the Status Quo”, </a:t>
            </a:r>
            <a:r>
              <a:rPr b="0" i="1" lang="es-ES" sz="1200" spc="-1" strike="noStrike">
                <a:solidFill>
                  <a:srgbClr val="000000"/>
                </a:solidFill>
                <a:latin typeface="Arial"/>
              </a:rPr>
              <a:t>Adventist Review</a:t>
            </a:r>
            <a:r>
              <a:rPr b="0" lang="es-ES" sz="1200" spc="-1" strike="noStrike">
                <a:solidFill>
                  <a:srgbClr val="000000"/>
                </a:solidFill>
                <a:latin typeface="Arial"/>
              </a:rPr>
              <a:t>, 24 de febrero de 1994.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144880" y="611280"/>
            <a:ext cx="2496960" cy="1873080"/>
          </a:xfrm>
          <a:prstGeom prst="rect">
            <a:avLst/>
          </a:prstGeom>
          <a:ln w="0">
            <a:noFill/>
          </a:ln>
        </p:spPr>
      </p:sp>
      <p:sp>
        <p:nvSpPr>
          <p:cNvPr id="113" name="PlaceHolder 2"/>
          <p:cNvSpPr>
            <a:spLocks noGrp="1"/>
          </p:cNvSpPr>
          <p:nvPr>
            <p:ph type="body"/>
          </p:nvPr>
        </p:nvSpPr>
        <p:spPr>
          <a:xfrm>
            <a:off x="685800" y="255744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comenzó 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rribar la pared de separación entre los judíos y los gentiles,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edicar la salvación a todo e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090880" y="612720"/>
            <a:ext cx="2300040" cy="1727280"/>
          </a:xfrm>
          <a:prstGeom prst="rect">
            <a:avLst/>
          </a:prstGeom>
          <a:ln w="0">
            <a:noFill/>
          </a:ln>
        </p:spPr>
      </p:sp>
      <p:sp>
        <p:nvSpPr>
          <p:cNvPr id="115" name="PlaceHolder 2"/>
          <p:cNvSpPr>
            <a:spLocks noGrp="1"/>
          </p:cNvSpPr>
          <p:nvPr>
            <p:ph type="body"/>
          </p:nvPr>
        </p:nvSpPr>
        <p:spPr>
          <a:xfrm>
            <a:off x="685800" y="2557080"/>
            <a:ext cx="5486400" cy="503892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 mezclaba sin reservas con los samaritano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ulando las costumbres fariseas de su nació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 pesar de sus prejuicios, aceptó la hospitalidad de ese pueblo desprecia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030400" y="826920"/>
            <a:ext cx="2300400" cy="1727280"/>
          </a:xfrm>
          <a:prstGeom prst="rect">
            <a:avLst/>
          </a:prstGeom>
          <a:ln w="0">
            <a:noFill/>
          </a:ln>
        </p:spPr>
      </p:sp>
      <p:sp>
        <p:nvSpPr>
          <p:cNvPr id="117" name="PlaceHolder 2"/>
          <p:cNvSpPr>
            <a:spLocks noGrp="1"/>
          </p:cNvSpPr>
          <p:nvPr>
            <p:ph type="body"/>
          </p:nvPr>
        </p:nvSpPr>
        <p:spPr>
          <a:xfrm>
            <a:off x="620640" y="2626920"/>
            <a:ext cx="5486400" cy="576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Frente a sus prejuicios, aceptaba la hospitalidad de este pueblo despreciado. Dormía bajo sus techos, comía en sus mesas -participando de los alimentos preparados y servidos por sus manos,- enseñaba en sus calles, y lo trataba con la mayor bondad y cortesía.”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1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DESCUBIERTA EN ADUL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8:1-11 cuenta la linda historia de la compasión de Jesús por el pecador. Se trata de la historia de una mujer de la calle que ganaba su vida de la forma más difícil de todas – vender su cuerpo a cualquier hombre que tuviese dinero para pagar su precio. Tal vez no tenía marido o padre para protegerla y mantener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ombres la usaban, abusaban de ella y se rehusaban a reconocerla en público. Como sabían todo sobre ella, no querían hablarle, a pesar de la gran necesidad que tenía de un ami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legó el día en que fue descubierta, y aunque el hombre huyó, ella es arrastrada por la calle a fin de ser apedreada hasta la muerte – el castigo por ese tipo de crimen. (La ley requería que ambos recibiesen el castigo, pero obviamente se trataba de una trampa). Jesús se encuentr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se caía, sintiéndose profundamente avergonzada, aguardando por las palabras de condenación correcta. Juan, el discípulo amado, registra las palabras entonces proferidas por Jesús: “‘Mujer, ¿dónde están ellos? ¿Nadie te conde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invitó a alguien que no tuviera ningún pecado entre los presentes para cambiar las palabras por las acciones y tirar la primera piedra contra la mujer cuya culpa era innegable. Pero lo hizo con tal defensa de la dignidad y forma imperturbable que cada hombre que lo escuchó fue compelido a desviar su mirada de la pobre criatura caída a Su frente y hacia dentro de sí mismos.” (Webb Garrison, </a:t>
            </a:r>
            <a:r>
              <a:rPr b="0" i="1" lang="es-ES" sz="1200" spc="-1" strike="noStrike">
                <a:solidFill>
                  <a:srgbClr val="000000"/>
                </a:solidFill>
                <a:latin typeface="Arial"/>
              </a:rPr>
              <a:t>Women in the Life of Jesus</a:t>
            </a:r>
            <a:r>
              <a:rPr b="0" lang="es-ES" sz="1200" spc="-1" strike="noStrike">
                <a:solidFill>
                  <a:srgbClr val="000000"/>
                </a:solidFill>
                <a:latin typeface="Arial"/>
              </a:rPr>
              <a:t>, p. 1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hombres desaparecieron. Las próximas palabras proferidas por Jesús suenan en los oídos de la mujer y hacen eco en su mente: “‘Yo tampoco te condeno, ve y no peques má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body"/>
          </p:nvPr>
        </p:nvSpPr>
        <p:spPr>
          <a:xfrm>
            <a:off x="620640" y="539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IMERA MUJER QUE VIO A CRISTO RESUCI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20:1-18 prosigue con la historia maravillosa de María Magdalena. Después de abandonar el pecado, se transforma en discípula de Jesús. Ella es una de las que el domingo de mañana temprano, va a la tumba donde fue sepultado Jesús, después de la crucifixión. Al ver que la habían sacado la piedra, ella corre hasta donde están los demás discípulos y les cuenta que el cuerpo fue robado. Pedro y Juan corren para comprobar por sí mismos lo que ella les di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vuelven a casa, pero María permanece junto a la tumba, llorando. Entonces ve dos ángeles. Su conversación con ellos sobre el robo del cuerpo del Señor termina con alguien preguntando: “‘Mujer, ¿por qué estás llorando? ¿A quién estás buscando?’” Ella piensa que es el jardinero que está preguntando, pero cuando lo escuchó decir: “María”, supo que er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corre para compartir las buenas nuevas de su Señor resucitado con los otros discípulos – ¡qué alegría y que privilegio fue para ella ser elegida para esta tarea! Ella, que fue perdonada por su Señor, es ahora la primera persona a quien Jesús se le aparece después de Su resurre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928880" y="611280"/>
            <a:ext cx="2496960" cy="1873080"/>
          </a:xfrm>
          <a:prstGeom prst="rect">
            <a:avLst/>
          </a:prstGeom>
          <a:ln w="0">
            <a:noFill/>
          </a:ln>
        </p:spPr>
      </p:sp>
      <p:sp>
        <p:nvSpPr>
          <p:cNvPr id="88" name="PlaceHolder 2"/>
          <p:cNvSpPr>
            <a:spLocks noGrp="1"/>
          </p:cNvSpPr>
          <p:nvPr>
            <p:ph type="body"/>
          </p:nvPr>
        </p:nvSpPr>
        <p:spPr>
          <a:xfrm>
            <a:off x="685440" y="2630160"/>
            <a:ext cx="5622840" cy="51102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Garamond"/>
              </a:rPr>
              <a:t>“</a:t>
            </a:r>
            <a:r>
              <a:rPr b="0" i="1" lang="es-ES" sz="1200" spc="-1" strike="noStrike">
                <a:solidFill>
                  <a:srgbClr val="000000"/>
                </a:solidFill>
                <a:latin typeface="Arial"/>
              </a:rPr>
              <a:t>Otra vez, en ese aspecto, vemos lo paradójico de Su vid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s personas comunes lo escuchaban alegremen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ero l</a:t>
            </a:r>
            <a:r>
              <a:rPr b="0" i="1" lang="es-ES" sz="1200" spc="-1" strike="noStrike">
                <a:solidFill>
                  <a:srgbClr val="ffffff"/>
                </a:solidFill>
                <a:latin typeface="Arial"/>
              </a:rPr>
              <a:t>os sacerdotes y gobernantes – aunque creyesen y temblasen – al final lo rechazaron</a:t>
            </a:r>
            <a:r>
              <a:rPr b="0" i="1" lang="es-ES" sz="1200" spc="-1" strike="noStrike">
                <a:solidFill>
                  <a:srgbClr val="000000"/>
                </a:solidFill>
                <a:latin typeface="Garamond"/>
              </a:rPr>
              <a:t>.</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025720" y="468360"/>
            <a:ext cx="2590560" cy="1942920"/>
          </a:xfrm>
          <a:prstGeom prst="rect">
            <a:avLst/>
          </a:prstGeom>
          <a:ln w="0">
            <a:noFill/>
          </a:ln>
        </p:spPr>
      </p:sp>
      <p:sp>
        <p:nvSpPr>
          <p:cNvPr id="120"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a:t>
            </a:r>
            <a:r>
              <a:rPr b="0" i="1" lang="es-ES" sz="1200" spc="-1" strike="noStrike">
                <a:solidFill>
                  <a:srgbClr val="000000"/>
                </a:solidFill>
                <a:latin typeface="Arial"/>
              </a:rPr>
              <a:t>Evangelismo</a:t>
            </a:r>
            <a:r>
              <a:rPr b="0" lang="es-ES" sz="1200" spc="-1" strike="noStrike">
                <a:solidFill>
                  <a:srgbClr val="000000"/>
                </a:solidFill>
                <a:latin typeface="Arial"/>
              </a:rPr>
              <a:t>, pág. 3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guramente, Jesús tenía simpatía por las mujeres de sus días. Él se comportaba de forma inesperada, apartándose de las tradiciones y haciendo lo que sentía era justo. Ese es el tipo de Jesús a quien servimos – Aquel que tiene consideración por las mujeres y que toca sus vidas con bondad y comprensió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049480" y="539640"/>
            <a:ext cx="2398680" cy="1800360"/>
          </a:xfrm>
          <a:prstGeom prst="rect">
            <a:avLst/>
          </a:prstGeom>
          <a:ln w="0">
            <a:noFill/>
          </a:ln>
        </p:spPr>
      </p:sp>
      <p:sp>
        <p:nvSpPr>
          <p:cNvPr id="122" name="PlaceHolder 2"/>
          <p:cNvSpPr>
            <a:spLocks noGrp="1"/>
          </p:cNvSpPr>
          <p:nvPr>
            <p:ph type="body"/>
          </p:nvPr>
        </p:nvSpPr>
        <p:spPr>
          <a:xfrm>
            <a:off x="685800" y="2413080"/>
            <a:ext cx="5486400" cy="5254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ffffff"/>
                </a:solidFill>
                <a:latin typeface="Arial"/>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93840" y="611280"/>
            <a:ext cx="2398680" cy="1800000"/>
          </a:xfrm>
          <a:prstGeom prst="rect">
            <a:avLst/>
          </a:prstGeom>
          <a:ln w="0">
            <a:noFill/>
          </a:ln>
        </p:spPr>
      </p:sp>
      <p:sp>
        <p:nvSpPr>
          <p:cNvPr id="124" name="PlaceHolder 2"/>
          <p:cNvSpPr>
            <a:spLocks noGrp="1"/>
          </p:cNvSpPr>
          <p:nvPr>
            <p:ph type="body"/>
          </p:nvPr>
        </p:nvSpPr>
        <p:spPr>
          <a:xfrm>
            <a:off x="549360" y="2557440"/>
            <a:ext cx="5486400" cy="5254560"/>
          </a:xfrm>
          <a:prstGeom prst="rect">
            <a:avLst/>
          </a:prstGeom>
          <a:noFill/>
          <a:ln w="0">
            <a:noFill/>
          </a:ln>
        </p:spPr>
        <p:txBody>
          <a:bodyPr lIns="90000" rIns="90000" tIns="46800" bIns="46800" anchor="t">
            <a:noAutofit/>
          </a:bodyPr>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mujer de Samaria se sorprendió mucho cuanto los discípulos de que Él le dirigiera la palabra. Pero Jesús fue más allá; la comisionó a llevar las buenas nuevas a todo su pueblo.</a:t>
            </a:r>
            <a:r>
              <a:rPr b="0" lang="es-ES" sz="1000" spc="-1" strike="noStrike">
                <a:solidFill>
                  <a:srgbClr val="ffffff"/>
                </a:solidFill>
                <a:latin typeface="Arial"/>
              </a:rPr>
              <a:t> (Patricia Gundry, </a:t>
            </a:r>
            <a:r>
              <a:rPr b="0" i="1" lang="es-ES" sz="1000" spc="-1" strike="noStrike">
                <a:solidFill>
                  <a:srgbClr val="ffffff"/>
                </a:solidFill>
                <a:latin typeface="Arial"/>
              </a:rPr>
              <a:t>Heirs Together</a:t>
            </a:r>
            <a:r>
              <a:rPr b="0" lang="es-ES" sz="1000" spc="-1" strike="noStrike">
                <a:solidFill>
                  <a:srgbClr val="ffffff"/>
                </a:solidFill>
                <a:latin typeface="Arial"/>
              </a:rPr>
              <a:t>, Zondervan Publishing House, Grand Rapids, MI., 1980, p. 46).</a:t>
            </a:r>
            <a:endParaRPr b="0" lang="en-US" sz="1000" spc="-1" strike="noStrike">
              <a:solidFill>
                <a:srgbClr val="000000"/>
              </a:solidFill>
              <a:latin typeface="Arial"/>
            </a:endParaRPr>
          </a:p>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2181240" y="611280"/>
            <a:ext cx="2495520" cy="1873080"/>
          </a:xfrm>
          <a:prstGeom prst="rect">
            <a:avLst/>
          </a:prstGeom>
          <a:ln w="0">
            <a:noFill/>
          </a:ln>
        </p:spPr>
      </p:sp>
      <p:sp>
        <p:nvSpPr>
          <p:cNvPr id="126"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 Cristo también desafió el </a:t>
            </a:r>
            <a:r>
              <a:rPr b="0" i="1" lang="es-ES" sz="1200" spc="-1" strike="noStrike">
                <a:solidFill>
                  <a:srgbClr val="ffffff"/>
                </a:solidFill>
                <a:latin typeface="Arial"/>
              </a:rPr>
              <a:t>status quo</a:t>
            </a:r>
            <a:r>
              <a:rPr b="0" lang="es-ES" sz="1200" spc="-1" strike="noStrike">
                <a:solidFill>
                  <a:srgbClr val="ffffff"/>
                </a:solidFill>
                <a:latin typeface="Arial"/>
              </a:rPr>
              <a:t> al abogar la dignidad de las mujeres. En incontables encuentros, afirmó a las mujeres y elevó el nivel de respeto por ellas en una sociedad  dominada por los hombres . </a:t>
            </a:r>
            <a:endParaRPr b="0" lang="en-US" sz="1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206800" y="539640"/>
            <a:ext cx="2301840" cy="1725840"/>
          </a:xfrm>
          <a:prstGeom prst="rect">
            <a:avLst/>
          </a:prstGeom>
          <a:ln w="0">
            <a:noFill/>
          </a:ln>
        </p:spPr>
      </p:sp>
      <p:sp>
        <p:nvSpPr>
          <p:cNvPr id="128" name="PlaceHolder 2"/>
          <p:cNvSpPr>
            <a:spLocks noGrp="1"/>
          </p:cNvSpPr>
          <p:nvPr>
            <p:ph type="body"/>
          </p:nvPr>
        </p:nvSpPr>
        <p:spPr>
          <a:xfrm>
            <a:off x="692280" y="2339640"/>
            <a:ext cx="5486400" cy="5040360"/>
          </a:xfrm>
          <a:prstGeom prst="rect">
            <a:avLst/>
          </a:prstGeom>
          <a:noFill/>
          <a:ln w="0">
            <a:noFill/>
          </a:ln>
        </p:spPr>
        <p:txBody>
          <a:bodyPr lIns="90000" rIns="90000" tIns="46800" bIns="4680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también hizo un esfuerzo especial para llevarles el evangelio. En respuesta a la compasión de Cristo, las mujeres proveyeron un sistema de apoyo-clave a Su ministerio y resistieron al escarnio y a la ridiculización por oír Sus enseñanzas.” C</a:t>
            </a:r>
            <a:r>
              <a:rPr b="0" lang="es-ES" sz="1000" spc="-1" strike="noStrike">
                <a:solidFill>
                  <a:srgbClr val="ffffff"/>
                </a:solidFill>
                <a:latin typeface="Arial"/>
              </a:rPr>
              <a:t>arlos Medley, editorial, “Challenging the Status Quo – 2”, </a:t>
            </a:r>
            <a:r>
              <a:rPr b="0" i="1" lang="es-ES" sz="1000" spc="-1" strike="noStrike">
                <a:solidFill>
                  <a:srgbClr val="ffffff"/>
                </a:solidFill>
                <a:latin typeface="Arial"/>
              </a:rPr>
              <a:t>Adventist Review</a:t>
            </a:r>
            <a:r>
              <a:rPr b="0" lang="es-ES" sz="1000" spc="-1" strike="noStrike">
                <a:solidFill>
                  <a:srgbClr val="ffffff"/>
                </a:solidFill>
                <a:latin typeface="Arial"/>
              </a:rPr>
              <a:t>, 31 de marzo de 1994.</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respuesta brota de su corazón para un Salvador así? ¿Está dispuesta a enfrentar el escarnio y el ridículo por Él? Tome la decisión de compartir las buenas nuevas de un Salvador bondoso y amoroso con las mujeres en su barrio, ciudad, metrópolis; con su familia, amigos y vecinos. Déles la esperanza que ha sido transmitida a lo largo de los siglos – que Jesús ama a cada uno de nosotros y que desea que compartamos Su reino con É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01680" y="614520"/>
            <a:ext cx="2300400" cy="1725480"/>
          </a:xfrm>
          <a:prstGeom prst="rect">
            <a:avLst/>
          </a:prstGeom>
          <a:ln w="0">
            <a:noFill/>
          </a:ln>
        </p:spPr>
      </p:sp>
      <p:sp>
        <p:nvSpPr>
          <p:cNvPr id="90" name="PlaceHolder 2"/>
          <p:cNvSpPr>
            <a:spLocks noGrp="1"/>
          </p:cNvSpPr>
          <p:nvPr>
            <p:ph type="body"/>
          </p:nvPr>
        </p:nvSpPr>
        <p:spPr>
          <a:xfrm>
            <a:off x="685800" y="2414160"/>
            <a:ext cx="569592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Saludaba a los pecadores, los ladrones y a las prostitu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rataba a los grupos minoritarios de sus días con dig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enía compasión de los temerosos, angustiados y tris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ondenaba el orgullo y la autosuficiencia</a:t>
            </a:r>
            <a:r>
              <a:rPr b="1" i="1" lang="es-ES" sz="1200" spc="-1" strike="noStrike">
                <a:solidFill>
                  <a:srgbClr val="ffffff"/>
                </a:solidFill>
                <a:latin typeface="Arial"/>
              </a:rPr>
              <a:t>.</a:t>
            </a:r>
            <a:r>
              <a:rPr b="0" lang="es-ES" sz="1200" spc="-1" strike="noStrike">
                <a:solidFill>
                  <a:srgbClr val="000000"/>
                </a:solidFill>
                <a:latin typeface="Arial"/>
              </a:rPr>
              <a:t>”. Morris Venden, </a:t>
            </a:r>
            <a:r>
              <a:rPr b="0" i="1" lang="es-ES" sz="1200" spc="-1" strike="noStrike">
                <a:solidFill>
                  <a:srgbClr val="000000"/>
                </a:solidFill>
                <a:latin typeface="Arial"/>
              </a:rPr>
              <a:t>Cómo trataba Jesús a las personas</a:t>
            </a:r>
            <a:r>
              <a:rPr b="0" lang="es-ES" sz="1200" spc="-1" strike="noStrike">
                <a:solidFill>
                  <a:srgbClr val="000000"/>
                </a:solidFill>
                <a:latin typeface="Arial"/>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personas tienen la tendencia de imaginar a Jesús como un hombre reservado y resignado que salía de su camino para curar al enfermo y al sufriente; para dar paz mental al pobre y abandonado; y para traer esperanza al necesitado y rechazado. Después de estudiar la cultura y las costumbres de los tiempos bíblicos, de hacer comparaciones con el tratamiento que Jesús daba a las mujeres, tenemos un cuadro diferente. Jesús caminó en la Tierra como un revolucionario. Su venida desafió el pensamiento de hombres y mujeres. Después de tener un encuentro con Él, sus vidas se transformaban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tiempos bíblicos, la vida de la mujer era vivida primero bajo la protección de su padre. Entonces, al casarse, se sometía al liderazgo del marido y de la familia. Hubo ocasiones cuando fue considerada “impura”. Había momentos cuando se sentía sola en el mundo, en busca de una palabra de esperanza, de una mirada comprensiva o del toque de Jesús para ser cu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iendo en cuenta que los evangelios y otros libros del Nuevo Testamento fueron escritos a partir de la perspectiva masculina, es interesante ver cuántas veces Jesús se desvió de su camino porque sabía que una mujer necesitaba de su presencia. Por ejemplo, se dirigió a Samaria porque sabía que una mujer iría a buscar agua (Juan 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075040" y="539640"/>
            <a:ext cx="2495520" cy="1871640"/>
          </a:xfrm>
          <a:prstGeom prst="rect">
            <a:avLst/>
          </a:prstGeom>
          <a:ln w="0">
            <a:noFill/>
          </a:ln>
        </p:spPr>
      </p:sp>
      <p:sp>
        <p:nvSpPr>
          <p:cNvPr id="92" name="PlaceHolder 2"/>
          <p:cNvSpPr>
            <a:spLocks noGrp="1"/>
          </p:cNvSpPr>
          <p:nvPr>
            <p:ph type="body"/>
          </p:nvPr>
        </p:nvSpPr>
        <p:spPr>
          <a:xfrm>
            <a:off x="685800" y="2558880"/>
            <a:ext cx="5486400" cy="518184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ias personas que seguían a Jesús de un lugar a otro eran mujeres. </a:t>
            </a:r>
            <a:r>
              <a:rPr b="1" lang="es-ES" sz="1200" spc="-1" strike="noStrike">
                <a:solidFill>
                  <a:srgbClr val="000000"/>
                </a:solidFill>
                <a:latin typeface="Arial"/>
              </a:rPr>
              <a:t>(PP 4)</a:t>
            </a:r>
            <a:r>
              <a:rPr b="0" lang="es-ES" sz="1200" spc="-1" strike="noStrike">
                <a:solidFill>
                  <a:srgbClr val="000000"/>
                </a:solidFill>
                <a:latin typeface="Arial"/>
              </a:rPr>
              <a:t> Lucas 8:1-3, dice: “Aconteció después, que Jesús iba por todas las ciudades y aldeas, predicando y anunciando el evangelio del reino de Dios, y los doce con él, y algunas mujeres que habían sido sanadas de espíritus malos y de enfermedades: María, que se llamaba Magdalena, de la que habían salido siete demonios, Juana, mujer de Chuza intendente de Herodes, y Susana, y otras muchas que le servían de sus bienes ”.  Probablemente, eso causaba comentarios interesantes debido al apego estricto que los fariseos hacían de la ley. Pero en cuanto a la vida de las mujeres que fueron tocadas por Jesús. ¿Qué dicen ellas sobre él? Consideremos las historias que envuelven a las siguientes mujer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252520" y="539640"/>
            <a:ext cx="2495520" cy="1871640"/>
          </a:xfrm>
          <a:prstGeom prst="rect">
            <a:avLst/>
          </a:prstGeom>
          <a:ln w="0">
            <a:noFill/>
          </a:ln>
        </p:spPr>
      </p:sp>
      <p:sp>
        <p:nvSpPr>
          <p:cNvPr id="94" name="PlaceHolder 2"/>
          <p:cNvSpPr>
            <a:spLocks noGrp="1"/>
          </p:cNvSpPr>
          <p:nvPr>
            <p:ph type="body"/>
          </p:nvPr>
        </p:nvSpPr>
        <p:spPr>
          <a:xfrm>
            <a:off x="549360" y="2557080"/>
            <a:ext cx="590400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ffffff"/>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 La mujer que tocó el manto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 La mujer con el frasco de alabastr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 La viuda con dos monedi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 La mujer junto al po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 La mujer encontrada en adulte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 La mujer que fue la primera en ver a Cristo resucitad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otras mujeres – Marta, Dorcas, Febe y muchas más – sin embargo, debido a la escasez de tiempo, consideraremos brevemente algunas de las mujeres con quienes Jesús tuvo conta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7:11-17 cuenta cómo Jesús visitó la ciudad de Naín y se deparó con el joven que iba a ser sepul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viudas dependían casi enteramente, de los parientes de sexo masculino, en especial de los hijos. </a:t>
            </a:r>
            <a:r>
              <a:rPr b="1" lang="es-ES" sz="1200" spc="-1" strike="noStrike">
                <a:solidFill>
                  <a:srgbClr val="000000"/>
                </a:solidFill>
                <a:latin typeface="Arial"/>
              </a:rPr>
              <a:t> “</a:t>
            </a:r>
            <a:r>
              <a:rPr b="0" lang="es-ES" sz="1200" spc="-1" strike="noStrike">
                <a:solidFill>
                  <a:srgbClr val="000000"/>
                </a:solidFill>
                <a:latin typeface="Arial"/>
              </a:rPr>
              <a:t>Era una escena propia para despertar simpatías. El muerto era el hijo unigénito de su madre viuda. La solitaria doliente iba siguiendo a la sepultura a su único apoyo y consuelo terrenal.”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ág. 31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ícilmente exista una escena más triste que la de una mujer necesitada, solitaria, llorando por la muerte del marido y de su hijo. ¿Qué le reservaba el futuro? ¿Quién supliría sus necesidades diarias? Estaba a merced de los amigos y vecinos. Pero “Y cuando el Señor la vio, se compadeció de ella, y le dijo: No llores.’” (verso 1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Y </a:t>
            </a:r>
            <a:r>
              <a:rPr b="0" lang="es-ES" sz="1200" spc="-1" strike="noStrike">
                <a:solidFill>
                  <a:srgbClr val="000000"/>
                </a:solidFill>
                <a:latin typeface="Arial"/>
              </a:rPr>
              <a:t>acercándose, tocó el féretro. Ni aun el contacto con la muerte podía contaminarle. Los portadores se pararon y cesaron los lamentos de las plañideras. Los dos grupos se reunieron alrededor del féretro, esperando contra toda esperanza. Allí se hallaba un hombre que había desterrado la enfermedad y vencido demonios; ¿estaba también la muerte sujeta a su poder?” (</a:t>
            </a:r>
            <a:r>
              <a:rPr b="0" i="1" lang="es-ES" sz="1200" spc="-1" strike="noStrike">
                <a:solidFill>
                  <a:srgbClr val="000000"/>
                </a:solidFill>
                <a:latin typeface="Arial"/>
              </a:rPr>
              <a:t>Ibidem)</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ayudar a esa viuda, mientras mostraba simultáneamente el poder del Dios Todopoderoso, Jesús hizo varias cosas fuera de lo común</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324160" y="468360"/>
            <a:ext cx="2208240" cy="1655640"/>
          </a:xfrm>
          <a:prstGeom prst="rect">
            <a:avLst/>
          </a:prstGeom>
          <a:ln w="0">
            <a:noFill/>
          </a:ln>
        </p:spPr>
      </p:sp>
      <p:sp>
        <p:nvSpPr>
          <p:cNvPr id="96" name="PlaceHolder 2"/>
          <p:cNvSpPr>
            <a:spLocks noGrp="1"/>
          </p:cNvSpPr>
          <p:nvPr>
            <p:ph type="body"/>
          </p:nvPr>
        </p:nvSpPr>
        <p:spPr>
          <a:xfrm>
            <a:off x="549000" y="2122200"/>
            <a:ext cx="5832360" cy="633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Se desvió de su camino para ayudar a la pobre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A unos treinta kilómetros de Capernaúm.” (</a:t>
            </a:r>
            <a:r>
              <a:rPr b="0" i="1" lang="es-ES" sz="1200" spc="-1" strike="noStrike">
                <a:solidFill>
                  <a:srgbClr val="000000"/>
                </a:solidFill>
                <a:latin typeface="Arial"/>
              </a:rPr>
              <a:t>Ibidem</a:t>
            </a:r>
            <a:r>
              <a:rPr b="0" lang="es-ES" sz="1200" spc="-1" strike="noStrike">
                <a:solidFill>
                  <a:srgbClr val="000000"/>
                </a:solidFill>
                <a:latin typeface="Arial"/>
              </a:rPr>
              <a:t>), y tal vez fuese de difícil acceso. Sin embargo, una vez más, Jesús se desvió de su camino para ministrar a las mujeres, como la mujer siro fenicia (Marcos 7:24-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Rompió la tra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aba siempre dispuesto a romper la tradición cuando eso beneficiaba a los otros, especialmente a las mujeres. Aún sabiendo que si tocase el cajón podría ser considerado “impuro”, Jesús lo hizo. El impuro no podría convertir en impuro. Posteriormente, iremos ver que la mujer con hemorragia por 12 años, considerada como impura, tocó en Jesús, y eso no lo hizo impuro. Solamente Jesús nos puede purificar de todo lo que nos transforma en “impuros” – sea espiritual o emo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Resucitó al mucha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nalmente, resucitó al joven, dándole nuevamente la vida. No se mencionan los nombres de la viuda y de su hijo. Estos detalles no son esenciales en la historia. Lo importante es que Dios usó a esa mujer cuyo nombre no se menciona para enseñar una lección a la humanidad. “El que estuvo al lado de la apesadumbrada madre cerca de la puerta de Naín, vela con toda persona que llora junto a un ataúd. Se conmueve de simpatía por nuestro pesar.” (</a:t>
            </a:r>
            <a:r>
              <a:rPr b="0" i="1" lang="es-ES" sz="1200" spc="-1" strike="noStrike">
                <a:solidFill>
                  <a:srgbClr val="000000"/>
                </a:solidFill>
                <a:latin typeface="Arial"/>
              </a:rPr>
              <a:t>DTG, pág. 319</a:t>
            </a:r>
            <a:r>
              <a:rPr b="0" lang="es-ES" sz="1200" spc="-1" strike="noStrike">
                <a:solidFill>
                  <a:srgbClr val="000000"/>
                </a:solidFill>
                <a:latin typeface="Arial"/>
              </a:rPr>
              <a:t>). Era importante para Jesús que esos sufrientes tuviesen la oportunidad de alabar y de saber que Él tenía el poder de dar la vida – independiente de quiénes e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QUE TOCÓ EL MANT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5:21-32 habla de otra mujer cuyo nombre no se menciona en el Nuevo Testamento, pero cuya fe era fuerte – suficientemente fuerte para llevarla a creer que si tan solamente tocase el manto de Cristo podría curarse de su enfermedad. Visto que se conoce tan poco sobre ella, se puede perfectamente, simbolizar toda la humanidad. Ella puede ser tú y yo, tu vecino o el mío. Puede venir del norte, sur, este u o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dice que Jesús estaba nuevamente rodeado por la multitud. Entonces, surge una mujer afligida por doce años por una hemorragia (versículo 25). Si, como creían los judíos, el flujo menstrual hacía a la mujer judía ritualmente impura por siete días, después debía ver al sacerdote (ver Levíticos 15), entonces ¡imaginemos lo que doce años de sangramiento podían hacer! No solo era considerada impura por la hemorragia, sino que todo lo que tocaba también se volvía impuro. Ella era excluida del culto, de la sociedad y de la relación conyug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765000" y="75888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guía camino para curar a la hija de un renombrado líder de la sinagoga cuando su jornada fue interrumpida por una mujer enferma. Lo interesante es que esa niña había nacido el mismo año cuando la mujer comenzó a padecer de la enfermedad con la hemorragia continua. El tiempo de Dios es sorpren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friendo y avergonzada, la mujer se esfuerza por alcanzar a Jesús y tocarle el manto, ignorando el ritual judío de la condición de impura de la mujer con sangramiento. La multitud no sabe que ella sufre de hemorragia. Si conocieran sus circunstancias al mezclarse con la multitud, habría sido expulsada y atacada. Olvidándose de su dolor y del olor a sangre vieja, su único pensamiento era aproximarse a Él.  Ya había consultado a todos los médicos – tratado todo tipo de medicamento. Marcos dice que había gastado todo su dinero. Nada ayudó. ¡Solamente Jesús podría curarla! Arrastrándose al presionar y empujar a la multitud, logró aproximarse y tocar su ropa, y sintió una onda de poder correrle por las venas. ¡La hemorragia cesó instantáne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también sintió el poder que salió de Él. Prontamente, se dio vuelta y preguntó a la espantada multitud: “¿Quién tocó mi manto?” (versículo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rprendidos, los discípulos preguntaron: “‘Ves la multitud aglomerada a tu alrededor y todavía preguntas: ‘¿Quién tocó en mí?’”</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146320" y="468360"/>
            <a:ext cx="2205000" cy="1654200"/>
          </a:xfrm>
          <a:prstGeom prst="rect">
            <a:avLst/>
          </a:prstGeom>
          <a:ln w="0">
            <a:noFill/>
          </a:ln>
        </p:spPr>
      </p:sp>
      <p:sp>
        <p:nvSpPr>
          <p:cNvPr id="99" name="PlaceHolder 2"/>
          <p:cNvSpPr>
            <a:spLocks noGrp="1"/>
          </p:cNvSpPr>
          <p:nvPr>
            <p:ph type="body"/>
          </p:nvPr>
        </p:nvSpPr>
        <p:spPr>
          <a:xfrm>
            <a:off x="620640" y="2266560"/>
            <a:ext cx="5688000" cy="669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alvador podía distinguir el toque de la fe del contacto casual de la muchedumbre desprevenida. Una confianza tal no debía pasar sin comentario. El quería dirigir a la humilde mujer palabras de consuelo que fuesen para ella un manantial de gozo; palabras que fuesen una bendición para sus discípulos hasta el fin del tiempo. ” (</a:t>
            </a:r>
            <a:r>
              <a:rPr b="0" i="1" lang="es-ES" sz="1200" spc="-1" strike="noStrike">
                <a:solidFill>
                  <a:srgbClr val="000000"/>
                </a:solidFill>
                <a:latin typeface="Arial"/>
              </a:rPr>
              <a:t>Ibidem</a:t>
            </a:r>
            <a:r>
              <a:rPr b="0" lang="es-ES" sz="1200" spc="-1" strike="noStrike">
                <a:solidFill>
                  <a:srgbClr val="000000"/>
                </a:solidFill>
                <a:latin typeface="Arial"/>
              </a:rPr>
              <a:t>, 3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tiéndose culpable, la mujer impura se presenta, temerosa y cae a los pies de Jesús. Cuenta toda su historia. Con compasión, le dirige la mirada diciendo que su fe la salvó y que vaya en paz, libre de sus sufrimientos. Imagine los comentarios y las miradas de la multitud en ese d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pero que no me haya toc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se </a:t>
            </a:r>
            <a:r>
              <a:rPr b="0" i="1" lang="es-ES" sz="1200" spc="-1" strike="noStrike">
                <a:solidFill>
                  <a:srgbClr val="000000"/>
                </a:solidFill>
                <a:latin typeface="Arial"/>
              </a:rPr>
              <a:t>atrevió</a:t>
            </a:r>
            <a:r>
              <a:rPr b="0" lang="es-ES" sz="1200" spc="-1" strike="noStrike">
                <a:solidFill>
                  <a:srgbClr val="000000"/>
                </a:solidFill>
                <a:latin typeface="Arial"/>
              </a:rPr>
              <a:t> a tocar a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osó mezclarse entre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qué este hombre es tan comprensivo con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rá que no sabe que ella está “im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a incentiva a contarle a la multitud sobre su cura. Ella vio ex amigos y vecinos que la habían ignorado por doce largos años. Se llenó de alegría por haber sido curada. Nuevamente Cristo demuestra Su poder al dar la vida, la cual está disponible para todo aquel que cree – aunque este envuelto en las pestilencias de este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CON EL FRASCO DE ALABAS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6:6-13, Marcos 14:3-9 y Juan 12:1-7 hablan de otra mujer cuya vida fue tocada por la compasión de Jesús. Esta historia fue el viernes de noche en Betania, en la casa de Simón, que había sido curado de la temida enfermedad, la lep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invitados está Lázaro. Sus hermanas, Marta y María, también están presentes, pero ocupadas en la cocina. (Esta historia está narrada en los tres evangelios, pero solamente Juan menciona el nombre de la mujer como Ma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viene a cenar con un valioso frasco de alabastro, conteniendo una especiaría carísima. Mientras los hombres comen, beben y conversan alegremente, ella se aproxima a Jesús reclinado en la mesa. Era costumbre que solamente los hombres comiesen en la mesa. Las mujeres debían estar en la cocina o sirviendo el alimento. Ellas comían después que los hombres terminaban de hacerlo. Por lo tanto, aunque hubiese entrado en el aposento solo para servir, María estaría haciendo algo rar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685800" y="68436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conmoción provocó este acto! No solo el aroma del perfume inundó el lugar, sino que muchos invitados se sintieron contrariados con el valor del perfume que, según pensaban, fue mal empleado. Edersheim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Su valor era muy alto, recordando que 300 denarios serían más o menos suficiente para proveer pan para 5.000 hombres y sus familias, e que el salario normal de un trabajador era de un denario por día”. Alfred Edersheim, </a:t>
            </a:r>
            <a:r>
              <a:rPr b="0" i="1" lang="es-ES" sz="1200" spc="-1" strike="noStrike">
                <a:solidFill>
                  <a:srgbClr val="000000"/>
                </a:solidFill>
                <a:latin typeface="Arial"/>
              </a:rPr>
              <a:t>The Life and Times of Jesus the Messiah</a:t>
            </a:r>
            <a:r>
              <a:rPr b="0" lang="es-ES" sz="1200" spc="-1" strike="noStrike">
                <a:solidFill>
                  <a:srgbClr val="000000"/>
                </a:solidFill>
                <a:latin typeface="Arial"/>
              </a:rPr>
              <a:t>, p. 7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Marcos, el perfume “podía haberse vendido por más de trescientos denarios.” (Marcos 1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atisfecho con eso, Garrison Webb nos dice que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 colocó atrás de Jesús de Nazaret. Colocándose sobre Él, que estaba reclinado sobre el codo, María deliberada, notoria y audazmente ignora una costumbre de dos mil años. Actuando rápidamente, derrama el nardo de la India sobre la cabeza del Maestro. Entonces, Juan agrega: derrama más perfume sobre sus pies. Irrumpiendo en la sala de banquete de los hombres, una mujer osó ungir a un hombre ‘de la cabeza a los pies’” – </a:t>
            </a:r>
            <a:r>
              <a:rPr b="0" i="1" lang="es-ES" sz="1200" spc="-1" strike="noStrike">
                <a:solidFill>
                  <a:srgbClr val="000000"/>
                </a:solidFill>
                <a:latin typeface="Arial"/>
              </a:rPr>
              <a:t>Women in the Life of Jesus</a:t>
            </a:r>
            <a:r>
              <a:rPr b="0" lang="es-ES" sz="1200" spc="-1" strike="noStrike">
                <a:solidFill>
                  <a:srgbClr val="000000"/>
                </a:solidFill>
                <a:latin typeface="Arial"/>
              </a:rPr>
              <a:t>, p. 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piendo el frasco, derrama el aceite sobre la cabeza y  los pies de Jesús; y como no tenía una toalla, ¿qué hizo María? – desata sus largos cabellos y los muestra en público – tenemos dificultad de comprender ese agravio porque, en aquella época, solamente las mujeres imprudentes de la calle, usaban los cabellos sueltos para que todos los viesen y admirasen. Pero María fue a la fiesta para ungir a su Señor y Maestro antes del día de su muerte que se aproximaba. ¿No había hablado muchas veces sobre ese tema? Aparentemente los hombres no comprendieron el significado de sus palabras, pero una mujer las tomó en serio y extendió la mano a Jesús cuando Él necesitaba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das criticó y condenó a la mujer, pero Jesús extrajo una lección destacando la proximidad de su muerte. Los hombres quedaron boquiabiertos ante la audacia de la mujer. Pero Jesús comprendió lo que ella estaba haciendo. “Déjenla en paz”, dijo Cristo amablemente </a:t>
            </a:r>
            <a:r>
              <a:rPr b="1" lang="es-ES" sz="1200" spc="-1" strike="noStrike">
                <a:solidFill>
                  <a:srgbClr val="000000"/>
                </a:solidFill>
                <a:latin typeface="Arial"/>
              </a:rPr>
              <a:t>(PP 8).</a:t>
            </a:r>
            <a:r>
              <a:rPr b="0" lang="es-ES" sz="1200" spc="-1" strike="noStrike">
                <a:solidFill>
                  <a:srgbClr val="000000"/>
                </a:solidFill>
                <a:latin typeface="Arial"/>
              </a:rPr>
              <a:t> Pero ellos armaron juicios por haber roto tradiciones como: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9A8EE-D250-45B8-BF77-466523FE6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7EB68-F300-4D00-9C71-8F6E39CBF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47455-A92D-4204-B89B-0E9F74838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109D9-FC1D-4934-8FF6-266115F22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9F3C2-BA73-4249-BFC7-45C58EFC7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B9EC2-8C0A-4E99-9F02-C919370E2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E102C-939B-426B-9F36-C8E9B0D68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D4200-167A-4DBC-8595-ED39A1A47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7BE13-CA25-4720-8102-939F4618E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35E3C-7334-4F5F-91BE-115676C48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9A518-9786-4E5D-8519-6F786800C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EDAD2-CCC7-4007-A56D-FA1716021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3F04-E082-440C-B0DF-A7C94A3BF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50920" y="544500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rPr>
              <a:t>Ministerios de la Mujer</a:t>
            </a:r>
            <a:endPar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ea typeface="Times New Roman"/>
            </a:endParaRPr>
          </a:p>
        </p:txBody>
      </p:sp>
      <p:sp>
        <p:nvSpPr>
          <p:cNvPr id="49" name=""/>
          <p:cNvSpPr/>
          <p:nvPr/>
        </p:nvSpPr>
        <p:spPr>
          <a:xfrm>
            <a:off x="448920" y="5875560"/>
            <a:ext cx="167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Liderazgo</a:t>
            </a:r>
            <a:endParaRPr b="0" lang="en-US" sz="2400" spc="-1" strike="noStrike">
              <a:solidFill>
                <a:srgbClr val="000000"/>
              </a:solidFill>
              <a:latin typeface="Arial"/>
            </a:endParaRPr>
          </a:p>
        </p:txBody>
      </p:sp>
      <p:sp>
        <p:nvSpPr>
          <p:cNvPr id="50" name=""/>
          <p:cNvSpPr/>
          <p:nvPr/>
        </p:nvSpPr>
        <p:spPr>
          <a:xfrm>
            <a:off x="2416320" y="5950080"/>
            <a:ext cx="121896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1" name=""/>
          <p:cNvSpPr/>
          <p:nvPr/>
        </p:nvSpPr>
        <p:spPr>
          <a:xfrm>
            <a:off x="1908000" y="5924520"/>
            <a:ext cx="17146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ernhardMod BT"/>
                <a:ea typeface="Times New Roman"/>
              </a:rPr>
              <a:t> </a:t>
            </a:r>
            <a:r>
              <a:rPr b="1" lang="en-U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
          <p:cNvSpPr/>
          <p:nvPr/>
        </p:nvSpPr>
        <p:spPr>
          <a:xfrm>
            <a:off x="6842520" y="3624120"/>
            <a:ext cx="2261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Jean Sequeri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196CDFA-BAB7-4E08-9F70-5F4D261A71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688840" y="1236600"/>
            <a:ext cx="6491160" cy="4137120"/>
          </a:xfrm>
          <a:prstGeom prst="rect">
            <a:avLst/>
          </a:prstGeom>
          <a:noFill/>
          <a:ln w="0">
            <a:noFill/>
          </a:ln>
        </p:spPr>
        <p:txBody>
          <a:bodyPr lIns="90000" rIns="90000" tIns="46800" bIns="46800" anchor="t">
            <a:normAutofit fontScale="90000"/>
          </a:bodyPr>
          <a:p>
            <a:pPr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netrar en la fiesta de los hombres.</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omper un valioso frasco de alabast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perdiciar dinero con un perfume ca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ocarse sobre un hombre.</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ocarlo en público. </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ltarse el cabello para que todos lo viesen.</a:t>
            </a:r>
            <a:endParaRPr b="0" lang="en-US" sz="2800" spc="-1" strike="noStrike">
              <a:solidFill>
                <a:srgbClr val="000000"/>
              </a:solidFill>
              <a:latin typeface="Arial"/>
            </a:endParaRPr>
          </a:p>
        </p:txBody>
      </p:sp>
      <p:sp>
        <p:nvSpPr>
          <p:cNvPr id="66" name=""/>
          <p:cNvSpPr txBox="1"/>
          <p:nvPr/>
        </p:nvSpPr>
        <p:spPr>
          <a:xfrm>
            <a:off x="3851280" y="66600"/>
            <a:ext cx="349560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Jesús no la </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condenó por:</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p:txBody>
      </p:sp>
      <p:sp>
        <p:nvSpPr>
          <p:cNvPr id="3" name="PlaceHolder 2"/>
          <p:cNvSpPr>
            <a:spLocks noGrp="1"/>
          </p:cNvSpPr>
          <p:nvPr>
            <p:ph type="sldNum" idx="3"/>
          </p:nvPr>
        </p:nvSpPr>
        <p:spPr/>
        <p:txBody>
          <a:bodyPr/>
          <a:p>
            <a:fld id="{8416E393-1B12-4A6A-BC92-99DFDA276D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976120" y="1052280"/>
            <a:ext cx="5483160" cy="5329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a:t>
            </a:r>
            <a:r>
              <a:rPr b="0" lang="es-ES" sz="3200" spc="-1" strike="noStrike">
                <a:solidFill>
                  <a:srgbClr val="ffffff"/>
                </a:solidFill>
                <a:latin typeface="Book Antiqua"/>
              </a:rPr>
              <a:t>De cierto os digo que dondequiera que se predique este evangelio, en todo el mundo, también se contará lo que ésta ha hecho, para memoria de ella</a:t>
            </a:r>
            <a:r>
              <a:rPr b="0" lang="es-ES" sz="3200" spc="-1" strike="noStrike">
                <a:solidFill>
                  <a:srgbClr val="ffffff"/>
                </a:solidFill>
                <a:latin typeface="Arial"/>
              </a:rPr>
              <a:t>.”</a:t>
            </a: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Book Antiqua"/>
              </a:rPr>
              <a:t>Mateo 26:13</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AD672A2-54BE-422E-AD05-0A48445695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9640" y="1082160"/>
            <a:ext cx="5451480" cy="470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a:t>
            </a:r>
            <a:r>
              <a:rPr b="0" lang="es-ES" sz="2800" spc="-1" strike="noStrike">
                <a:solidFill>
                  <a:srgbClr val="ffffff"/>
                </a:solidFill>
                <a:latin typeface="Book Antiqua"/>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5AFE242-1BF1-4E80-A3A3-B03E111298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916000" y="836640"/>
            <a:ext cx="5833800" cy="6021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a mujer que había perdido la compañía de su esposo perdía más que apenas a su compañero – perdía también su </a:t>
            </a:r>
            <a:r>
              <a:rPr b="0" i="1" lang="es-ES" sz="2400" spc="-1" strike="noStrike">
                <a:solidFill>
                  <a:srgbClr val="ffffff"/>
                </a:solidFill>
                <a:latin typeface="Arial"/>
              </a:rPr>
              <a:t>status</a:t>
            </a:r>
            <a:r>
              <a:rPr b="0" lang="es-ES" sz="2400" spc="-1" strike="noStrike">
                <a:solidFill>
                  <a:srgbClr val="ffffff"/>
                </a:solidFill>
                <a:latin typeface="Arial"/>
              </a:rPr>
              <a:t> en la sociedad. Y una mujer que era viuda y pobre estaba entre las que se encontraban en una de las condiciones más inferiores” – </a:t>
            </a:r>
            <a:endParaRPr b="0" lang="en-US" sz="2400" spc="-1" strike="noStrike">
              <a:solidFill>
                <a:srgbClr val="000000"/>
              </a:solidFill>
              <a:latin typeface="Arial"/>
            </a:endParaRPr>
          </a:p>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rris L. Venden, </a:t>
            </a:r>
            <a:r>
              <a:rPr b="0" i="1" lang="es-ES" sz="2400" spc="-1" strike="noStrike">
                <a:solidFill>
                  <a:srgbClr val="ffffff"/>
                </a:solidFill>
                <a:latin typeface="Arial"/>
              </a:rPr>
              <a:t>Como Jesús trataba a las personas</a:t>
            </a:r>
            <a:r>
              <a:rPr b="0" lang="es-ES" sz="2400" spc="-1" strike="noStrike">
                <a:solidFill>
                  <a:srgbClr val="ffffff"/>
                </a:solidFill>
                <a:latin typeface="Arial"/>
              </a:rPr>
              <a:t>, p. 89.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70823F0-6982-4FD4-A225-25FBCE7C9C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B72762B-E636-459B-A050-76B19355AE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700360" y="157320"/>
            <a:ext cx="6300720" cy="7167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Book Antiqua"/>
              </a:rPr>
              <a:t>¿Cuál fue el resultado del encuentro de Jesús con la mujer samaritana junto al pozo?</a:t>
            </a:r>
            <a:r>
              <a:rPr b="1" lang="es-ES" sz="2800" spc="-1" strike="noStrike">
                <a:solidFill>
                  <a:srgbClr val="ffff00"/>
                </a:solidFill>
                <a:latin typeface="Book Antiqua"/>
              </a:rPr>
              <a:t> </a:t>
            </a:r>
            <a:endParaRPr b="0" lang="en-US" sz="2800" spc="-1" strike="noStrike">
              <a:solidFill>
                <a:srgbClr val="000000"/>
              </a:solidFill>
              <a:latin typeface="Arial"/>
            </a:endParaRPr>
          </a:p>
          <a:p>
            <a:pPr algn="ct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Él no la condenó, sino que le dio esperanza.</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la compartió las buenas nuevas con sus vecin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gunos vecinos se acercaron para escuchar a Jesú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Muchos de los samaritanos de aquella ciudad creyeron en él por la palabra de la mujer, que daba testimonio diciendo: Me dijo todo lo que he hecho.” </a:t>
            </a:r>
            <a:r>
              <a:rPr b="1" i="1" lang="es-ES" sz="2400" spc="-1" strike="noStrike">
                <a:solidFill>
                  <a:srgbClr val="ffffff"/>
                </a:solidFill>
                <a:latin typeface="Book Antiqua"/>
              </a:rPr>
              <a:t>Juan 4:38</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5ADFF23-48E1-419E-AAC1-5AAC72CCB6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2916360" y="1197000"/>
            <a:ext cx="374328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Jesús comenzó a:</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74" name=""/>
          <p:cNvSpPr/>
          <p:nvPr/>
        </p:nvSpPr>
        <p:spPr>
          <a:xfrm>
            <a:off x="2771640" y="3008160"/>
            <a:ext cx="6048360" cy="301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Derribar la pared de separación entre los judíos y los gentiles, </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Predicar la salvación a todo el mundo.</a:t>
            </a:r>
            <a:endParaRPr b="0" lang="en-US" sz="3200" spc="-1" strike="noStrike">
              <a:solidFill>
                <a:srgbClr val="000000"/>
              </a:solidFill>
              <a:latin typeface="Arial"/>
            </a:endParaRPr>
          </a:p>
          <a:p>
            <a:pPr marL="343080" indent="-343080">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50A43CCB-C7E6-400A-87CD-F3B7025AFE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24000" y="1628640"/>
            <a:ext cx="64800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 mezclaba sin reservas con los samaritanos,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ulando las costumbres fariseas de su nación.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 pesar de sus prejuicios, aceptó la hospitalidad de ese pueblo despreciad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CB4ECDE-AE20-42C4-BF8E-0EF428A06F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987640" y="836280"/>
            <a:ext cx="5843520" cy="5389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Durmió bajo su techo,</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Comía con ellos en sus mesas – participando de los alimentos preparados y servidos por sus mano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Enseñaba en sus calle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Los trató con la mayor bondad y cortesía.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B8122C2-CA78-4B75-950B-6858825419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2B5616-D166-4A8E-81C3-34692FFCFA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500720" y="1066680"/>
            <a:ext cx="4419360" cy="637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as personas comunes lo escuchaban alegremente. </a:t>
            </a:r>
            <a:endParaRPr b="0" lang="en-US" sz="3200" spc="-1" strike="noStrike">
              <a:solidFill>
                <a:srgbClr val="000000"/>
              </a:solidFill>
              <a:latin typeface="Arial"/>
            </a:endParaRPr>
          </a:p>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os sacerdotes y gobernantes – aunque creyesen y temblasen – al final lo rechazaron.</a:t>
            </a:r>
            <a:endParaRPr b="0" lang="en-US" sz="3200" spc="-1" strike="noStrike">
              <a:solidFill>
                <a:srgbClr val="000000"/>
              </a:solidFill>
              <a:latin typeface="Arial"/>
            </a:endParaRPr>
          </a:p>
          <a:p>
            <a:pPr algn="ct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2916360" y="549360"/>
            <a:ext cx="604836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rPr>
              <a:t>Lo paradójico de la vida de Jesús</a:t>
            </a:r>
            <a:endPar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ea typeface="Book Antiqua"/>
            </a:endParaRPr>
          </a:p>
        </p:txBody>
      </p:sp>
      <p:sp>
        <p:nvSpPr>
          <p:cNvPr id="2" name="PlaceHolder 1"/>
          <p:cNvSpPr>
            <a:spLocks noGrp="1"/>
          </p:cNvSpPr>
          <p:nvPr>
            <p:ph type="sldNum" idx="3"/>
          </p:nvPr>
        </p:nvSpPr>
        <p:spPr/>
        <p:txBody>
          <a:bodyPr/>
          <a:p>
            <a:fld id="{CAD84840-3672-4390-A1D7-241C23E4D8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16000" y="98640"/>
            <a:ext cx="8388360" cy="35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a:t>
            </a:r>
            <a:r>
              <a:rPr b="0" lang="es-ES" sz="2800" spc="-1" strike="noStrike">
                <a:solidFill>
                  <a:srgbClr val="ffffff"/>
                </a:solidFill>
                <a:latin typeface="Book Antiqua"/>
              </a:rPr>
              <a:t> </a:t>
            </a:r>
            <a:r>
              <a:rPr b="1" lang="es-ES" sz="2800" spc="-1" strike="noStrike">
                <a:solidFill>
                  <a:srgbClr val="ffffff"/>
                </a:solidFill>
                <a:latin typeface="Book Antiqua"/>
              </a:rPr>
              <a:t>.  </a:t>
            </a:r>
            <a:endParaRPr b="0" lang="en-US" sz="2800" spc="-1" strike="noStrike">
              <a:solidFill>
                <a:srgbClr val="000000"/>
              </a:solidFill>
              <a:latin typeface="Arial"/>
            </a:endParaRPr>
          </a:p>
        </p:txBody>
      </p:sp>
      <p:sp>
        <p:nvSpPr>
          <p:cNvPr id="80" name=""/>
          <p:cNvSpPr/>
          <p:nvPr/>
        </p:nvSpPr>
        <p:spPr>
          <a:xfrm>
            <a:off x="468360" y="3573360"/>
            <a:ext cx="5759280" cy="321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La influencia refinadora y suavizadora de las mujeres cristianas se necesita en la gran obra de predicar la verdad.</a:t>
            </a:r>
            <a:r>
              <a:rPr b="0" lang="es-ES" sz="1800" spc="-1" strike="noStrike">
                <a:solidFill>
                  <a:srgbClr val="000000"/>
                </a:solidFill>
                <a:latin typeface="Book Antiqua"/>
              </a:rPr>
              <a:t> </a:t>
            </a:r>
            <a:r>
              <a:rPr b="1" lang="es-ES" sz="2800" spc="-1" strike="noStrike">
                <a:solidFill>
                  <a:srgbClr val="ffffff"/>
                </a:solidFill>
                <a:latin typeface="Book Antiqua"/>
              </a:rPr>
              <a:t>” (</a:t>
            </a:r>
            <a:r>
              <a:rPr b="1" i="1" lang="es-ES" sz="2800" spc="-1" strike="noStrike">
                <a:solidFill>
                  <a:srgbClr val="ffffff"/>
                </a:solidFill>
                <a:latin typeface="Book Antiqua"/>
              </a:rPr>
              <a:t>Evangelismo</a:t>
            </a:r>
            <a:r>
              <a:rPr b="1" lang="es-ES" sz="2800" spc="-1" strike="noStrike">
                <a:solidFill>
                  <a:srgbClr val="ffffff"/>
                </a:solidFill>
                <a:latin typeface="Book Antiqua"/>
              </a:rPr>
              <a:t>, pág. 345)</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Book Antiqua"/>
              </a:rPr>
              <a:t>.</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5EFED55-5B0B-452A-A85B-873CC6238D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95280" y="-220680"/>
            <a:ext cx="5508720" cy="730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Book Antiqua"/>
              </a:rPr>
              <a:t>“</a:t>
            </a:r>
            <a:r>
              <a:rPr b="1" lang="es-ES" sz="2600" spc="-1" strike="noStrike">
                <a:solidFill>
                  <a:srgbClr val="ffffff"/>
                </a:solidFill>
                <a:latin typeface="Book Antiqua"/>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5859D121-D2EC-4ABF-8343-C742B7CCFB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56000" y="660240"/>
            <a:ext cx="6372000" cy="57931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 Antiqua"/>
              </a:rPr>
              <a:t>	</a:t>
            </a:r>
            <a:r>
              <a:rPr b="1" lang="es-ES" sz="2800" spc="-1" strike="noStrike">
                <a:solidFill>
                  <a:srgbClr val="ffffff"/>
                </a:solidFill>
                <a:latin typeface="Book Antiqua"/>
              </a:rPr>
              <a:t>La mujer de Samaria se sorprendió mucho cuanto los discípulos de que Él le dirigiera la palabra. Pero Jesús fue más allá; la comisionó a llevar las buenas nuevas a todo su pueblo.</a:t>
            </a:r>
            <a:r>
              <a:rPr b="1" lang="es-ES" sz="2400" spc="-1" strike="noStrike">
                <a:solidFill>
                  <a:srgbClr val="ffffff"/>
                </a:solidFill>
                <a:latin typeface="Book Antiqua"/>
              </a:rPr>
              <a:t> (Patricia Gundry, </a:t>
            </a:r>
            <a:r>
              <a:rPr b="1" i="1" lang="es-ES" sz="2400" spc="-1" strike="noStrike">
                <a:solidFill>
                  <a:srgbClr val="ffffff"/>
                </a:solidFill>
                <a:latin typeface="Book Antiqua"/>
              </a:rPr>
              <a:t>Heirs Together</a:t>
            </a:r>
            <a:r>
              <a:rPr b="1" lang="es-ES" sz="2400" spc="-1" strike="noStrike">
                <a:solidFill>
                  <a:srgbClr val="ffffff"/>
                </a:solidFill>
                <a:latin typeface="Book Antiqua"/>
              </a:rPr>
              <a:t>, Zondervan Publishing House, Grand Rapids, MI., 1980, p. 46).</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5766E15-0847-4E9A-97D6-AD8E403C1E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3059280" y="935640"/>
            <a:ext cx="5400360" cy="4529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 Cristo también desafió el </a:t>
            </a:r>
            <a:r>
              <a:rPr b="1" i="1" lang="es-ES" sz="2800" spc="-1" strike="noStrike">
                <a:solidFill>
                  <a:srgbClr val="ffffff"/>
                </a:solidFill>
                <a:latin typeface="Book Antiqua"/>
              </a:rPr>
              <a:t>status quo</a:t>
            </a:r>
            <a:r>
              <a:rPr b="1" lang="es-ES" sz="2800" spc="-1" strike="noStrike">
                <a:solidFill>
                  <a:srgbClr val="ffffff"/>
                </a:solidFill>
                <a:latin typeface="Book Antiqua"/>
              </a:rPr>
              <a:t> al abogar la dignidad de las mujeres. En incontables encuentros, afirmó a las mujeres y elevó el nivel de respeto por ellas en una sociedad  dominada por los hombres .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F5FDB59-ACBA-495F-AB8B-20686D98DD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484000" y="333360"/>
            <a:ext cx="6588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	</a:t>
            </a:r>
            <a:r>
              <a:rPr b="1" lang="es-ES" sz="2800" spc="-1" strike="noStrike">
                <a:solidFill>
                  <a:srgbClr val="ffffff"/>
                </a:solidFill>
                <a:latin typeface="Book Antiqua"/>
              </a:rPr>
              <a:t>Él también hizo un esfuerzo especial para llevarles el evangelio. En respuesta a la compasión de Cristo, las mujeres proveyeron un sistema de apoyo-clave a Su ministerio y resistieron al escarnio y a la ridiculización por oír Sus enseñanzas.” </a:t>
            </a:r>
            <a:endParaRPr b="0" lang="en-US" sz="2800" spc="-1" strike="noStrike">
              <a:solidFill>
                <a:srgbClr val="000000"/>
              </a:solidFill>
              <a:latin typeface="Arial"/>
            </a:endParaRPr>
          </a:p>
          <a:p>
            <a:pPr marL="2844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400" spc="-1" strike="noStrike">
                <a:solidFill>
                  <a:srgbClr val="ffffff"/>
                </a:solidFill>
                <a:latin typeface="Book Antiqua"/>
              </a:rPr>
              <a:t>Carlos Medley, editorial, “Challenging the Status Quo – 2”, </a:t>
            </a:r>
            <a:r>
              <a:rPr b="1" i="1" lang="es-ES" sz="2400" spc="-1" strike="noStrike">
                <a:solidFill>
                  <a:srgbClr val="ffffff"/>
                </a:solidFill>
                <a:latin typeface="Book Antiqua"/>
              </a:rPr>
              <a:t>Adventist Review</a:t>
            </a:r>
            <a:r>
              <a:rPr b="1" lang="es-ES" sz="2400" spc="-1" strike="noStrike">
                <a:solidFill>
                  <a:srgbClr val="ffffff"/>
                </a:solidFill>
                <a:latin typeface="Book Antiqua"/>
              </a:rPr>
              <a:t>, 31 de marzo de 1994.</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02311B1-A877-4C34-A95C-9E74CB67A20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11280" y="692280"/>
            <a:ext cx="5761080" cy="634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Saludaba a los pecadores, los ladrones y a las prostitutas. </a:t>
            </a: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rataba a los grupos minoritarios de sus días con dignidad.</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enía compasión de los temerosos, angustiados y tristes.</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Condenaba el orgullo y la autosuficiencia.</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A45A9DD-D3C8-4C03-85F0-056B679E01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484000" y="765000"/>
            <a:ext cx="6418440" cy="532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Aconteció después, que Jesús iba por todas las ciudades y aldeas, predicando y anunciando el evangelio del reino de Dios, y los doce con él, </a:t>
            </a:r>
            <a:br>
              <a:rPr sz="2800"/>
            </a:br>
            <a:r>
              <a:rPr b="1" lang="es-ES" sz="2800" spc="-1" strike="noStrike">
                <a:solidFill>
                  <a:srgbClr val="ffffff"/>
                </a:solidFill>
                <a:latin typeface="Book Antiqua"/>
              </a:rPr>
              <a:t> y algunas mujeres que habían sido sanadas de espíritus malos y de enfermedades: María, que se llamaba Magdalena, de la que habían salido siete demonios, </a:t>
            </a:r>
            <a:br>
              <a:rPr sz="2800"/>
            </a:br>
            <a:r>
              <a:rPr b="1" lang="es-ES" sz="2800" spc="-1" strike="noStrike">
                <a:solidFill>
                  <a:srgbClr val="ffffff"/>
                </a:solidFill>
                <a:latin typeface="Book Antiqua"/>
              </a:rPr>
              <a:t>Juana, mujer de Chuza intendente de Herodes, y Susana, y otras muchas que le servían de sus bienes.”</a:t>
            </a:r>
            <a:endParaRPr b="0" lang="en-US" sz="2800" spc="-1" strike="noStrike">
              <a:solidFill>
                <a:srgbClr val="000000"/>
              </a:solidFill>
              <a:latin typeface="Arial"/>
            </a:endParaRPr>
          </a:p>
          <a:p>
            <a:pPr marL="343080" indent="0" algn="ctr">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i="1" lang="es-ES" sz="2800" spc="-1" strike="noStrike">
                <a:solidFill>
                  <a:srgbClr val="ffffff"/>
                </a:solidFill>
                <a:latin typeface="Book Antiqua"/>
              </a:rPr>
              <a:t>Lucas 8:1-3</a:t>
            </a:r>
            <a:endParaRPr b="0" lang="en-US" sz="2800" spc="-1" strike="noStrike">
              <a:solidFill>
                <a:srgbClr val="000000"/>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3C04176-BF3D-42B5-88BA-D739D87CF1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059280" y="1342440"/>
            <a:ext cx="5760720" cy="444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de Naín. </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tocó el manto de Jesú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con el frasco de alabastr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con dos monedita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junto al poz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encontrada en adulteri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fue la primera en ver a Cristo resucitado.</a:t>
            </a:r>
            <a:r>
              <a:rPr b="0" lang="es-ES" sz="2600" spc="-1" strike="noStrike">
                <a:solidFill>
                  <a:srgbClr val="000000"/>
                </a:solidFill>
                <a:latin typeface="Book Antiqua"/>
              </a:rPr>
              <a:t>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7C8A4DB7-2CF9-498B-92C5-34B3ABC2E6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2867040" y="1413000"/>
            <a:ext cx="4152960" cy="72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La viuda de Naín</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59" name=""/>
          <p:cNvSpPr/>
          <p:nvPr/>
        </p:nvSpPr>
        <p:spPr>
          <a:xfrm>
            <a:off x="3203640" y="3381120"/>
            <a:ext cx="5256000" cy="25790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ctr">
            <a:spAutoFit/>
          </a:bodyPr>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ompió la tradici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Tocó el caj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esucitó al muerto.</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52AF237C-D68C-4671-A2A6-FC44F6BE2F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5FA252F-CB60-4745-A2D8-EE82331CE7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50920" y="909360"/>
            <a:ext cx="6408720" cy="4786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i="1" lang="es-ES" sz="2800" spc="-1" strike="noStrike">
                <a:solidFill>
                  <a:srgbClr val="ffffff"/>
                </a:solidFill>
                <a:latin typeface="Arial"/>
              </a:rPr>
              <a:t>El Salvador podía distinguir el toque de la fe del contacto casual de la muchedumbre desprevenida. Una confianza tal no debía pasar sin comentario. Él quería dirigir a la humilde mujer palabras de consuelo que fuesen para ella un manantial de gozo; palabras que fuesen una bendición para sus discípulos hasta el fin del tiempo.</a:t>
            </a:r>
            <a:r>
              <a:rPr b="0" i="1" lang="es-ES" sz="1800" spc="-1" strike="noStrike">
                <a:solidFill>
                  <a:srgbClr val="ffffff"/>
                </a:solidFill>
                <a:latin typeface="Book Antiqua"/>
              </a:rPr>
              <a:t> </a:t>
            </a:r>
            <a:r>
              <a:rPr b="1" i="1" lang="es-ES" sz="2800" spc="-1" strike="noStrike">
                <a:solidFill>
                  <a:srgbClr val="ffffff"/>
                </a:solidFill>
                <a:latin typeface="Arial"/>
              </a:rPr>
              <a:t>”</a:t>
            </a:r>
            <a:r>
              <a:rPr b="1" lang="es-ES" sz="2800" spc="-1" strike="noStrike">
                <a:solidFill>
                  <a:srgbClr val="ffffff"/>
                </a:solidFill>
                <a:latin typeface="Arial"/>
              </a:rPr>
              <a:t> </a:t>
            </a:r>
            <a:r>
              <a:rPr b="1" i="1" lang="es-ES" sz="2800" spc="-1" strike="noStrike">
                <a:solidFill>
                  <a:srgbClr val="ffffff"/>
                </a:solidFill>
                <a:latin typeface="Book Antiqua"/>
              </a:rPr>
              <a:t>- El deseado de todas las gentes,</a:t>
            </a:r>
            <a:r>
              <a:rPr b="1" lang="es-ES" sz="2800" spc="-1" strike="noStrike">
                <a:solidFill>
                  <a:srgbClr val="ffffff"/>
                </a:solidFill>
                <a:latin typeface="Book Antiqua"/>
              </a:rPr>
              <a:t> p. 344.</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EB32D80-5364-4219-8C51-68AACF2D10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61D6F18-83DD-4E2F-AAF3-7BADA647EA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9:37:02Z</dcterms:created>
  <dc:creator>Rosana Guerra</dc:creator>
  <dc:description/>
  <dc:language>en-US</dc:language>
  <cp:lastModifiedBy>Nelida Leguizamon</cp:lastModifiedBy>
  <dcterms:modified xsi:type="dcterms:W3CDTF">2007-10-29T14:44:23Z</dcterms:modified>
  <cp:revision>73</cp:revision>
  <dc:subject/>
  <dc:title>Slide 1</dc:title>
</cp:coreProperties>
</file>