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344680" y="465120"/>
            <a:ext cx="2478240" cy="1859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D01298-25AD-4511-AB1E-129794EDE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344680" y="465120"/>
            <a:ext cx="2478240" cy="1859040"/>
          </a:xfrm>
          <a:prstGeom prst="rect">
            <a:avLst/>
          </a:prstGeom>
          <a:ln w="0">
            <a:noFill/>
          </a:ln>
        </p:spPr>
      </p:sp>
      <p:sp>
        <p:nvSpPr>
          <p:cNvPr id="22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ogramas de </a:t>
            </a:r>
            <a:r>
              <a:rPr b="1" lang="es-ES_tradnl" sz="1200" spc="-1" strike="noStrike">
                <a:solidFill>
                  <a:srgbClr val="000000"/>
                </a:solidFill>
                <a:latin typeface="Garamond"/>
              </a:rPr>
              <a:t>alcance misioner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Garamond"/>
              </a:rPr>
              <a:t>Libreto del presentador</a:t>
            </a:r>
            <a:endParaRPr b="0" lang="en-US" sz="1200" spc="-1" strike="noStrike">
              <a:solidFill>
                <a:srgbClr val="000000"/>
              </a:solidFill>
              <a:latin typeface="Arial"/>
            </a:endParaRPr>
          </a:p>
          <a:p>
            <a:pPr indent="0" algn="just">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seminario enfatizará</a:t>
            </a:r>
            <a:r>
              <a:rPr b="0" lang="es-ES" sz="1200" spc="-1" strike="noStrike">
                <a:solidFill>
                  <a:srgbClr val="000000"/>
                </a:solidFill>
                <a:latin typeface="Arial"/>
              </a:rPr>
              <a:t> dos temas – Ideas para el ministerio y evangelismo. Ambos están conectados directamente al tema “Programas Misioneros” pues se relacionan con “Dilo al mundo y Conmoviendo a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el quinquenio 2005-2010 el departamento de los Ministerios de la Mujer de la Asociación General estará dando énfasis al evangelismo y el ministerio en forma combinada. Nuestra inspiración viene de Isaías 61:1-3 que dic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344680" y="465120"/>
            <a:ext cx="2478240" cy="1859040"/>
          </a:xfrm>
          <a:prstGeom prst="rect">
            <a:avLst/>
          </a:prstGeom>
          <a:ln w="0">
            <a:noFill/>
          </a:ln>
        </p:spPr>
      </p:sp>
      <p:sp>
        <p:nvSpPr>
          <p:cNvPr id="240" name="PlaceHolder 2"/>
          <p:cNvSpPr>
            <a:spLocks noGrp="1"/>
          </p:cNvSpPr>
          <p:nvPr>
            <p:ph type="body"/>
          </p:nvPr>
        </p:nvSpPr>
        <p:spPr>
          <a:xfrm>
            <a:off x="1539720" y="2401560"/>
            <a:ext cx="5166000" cy="619740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de nutri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Detección del cáncer/conciencia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sobre salud productiva</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para consuelo por pérdida o muerte</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Reducción del stress</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sobre cuidado y prevención del SIDA/HIV</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y clases de asistencia y cuidados médico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344680" y="465120"/>
            <a:ext cx="2478240" cy="1859040"/>
          </a:xfrm>
          <a:prstGeom prst="rect">
            <a:avLst/>
          </a:prstGeom>
          <a:ln w="0">
            <a:noFill/>
          </a:ln>
        </p:spPr>
      </p:sp>
      <p:sp>
        <p:nvSpPr>
          <p:cNvPr id="24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2</a:t>
            </a:r>
            <a:r>
              <a:rPr b="1" lang="en-US" sz="1200" spc="-1" strike="noStrike">
                <a:solidFill>
                  <a:srgbClr val="000000"/>
                </a:solidFill>
                <a:latin typeface="Garamond"/>
              </a:rPr>
              <a:t>:  LA CARGA DE TRABAJO DE LAS MUJER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de todo el mundo y de todas las culturas enfrentan el problema de la sobrecarga de trabajo.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uchas laboran tiempo completo, con bajos pagos y además tienen el cuidado del hogar y la familia.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lgunas enfrentan el desafío de hacer el 80% del trabajo de agricultura del mundo, lo que incluye días de largo trabajo y salarios bajos, luego hacen horas adicionales con el trabajo de la casa y el cuidado de los hijos, con acceso limitado a las necesidades básica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344680" y="465120"/>
            <a:ext cx="2478240" cy="1859040"/>
          </a:xfrm>
          <a:prstGeom prst="rect">
            <a:avLst/>
          </a:prstGeom>
          <a:ln w="0">
            <a:noFill/>
          </a:ln>
        </p:spPr>
      </p:sp>
      <p:sp>
        <p:nvSpPr>
          <p:cNvPr id="24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enfrentan los malabarismos de las expectativas de la sociedad para mantener una familia intacta y saludable, mientras laboran en un ambiente de trabajo altamente competitivo que resulta en días largos, con limitado descanso y recreación, y sólo un tiempo mínimo para Dios.  </a:t>
            </a:r>
            <a:endParaRPr b="0" lang="en-US" sz="1200" spc="-1" strike="noStrike">
              <a:solidFill>
                <a:srgbClr val="000000"/>
              </a:solidFill>
              <a:latin typeface="Arial"/>
            </a:endParaRPr>
          </a:p>
          <a:p>
            <a:pPr algn="just">
              <a:lnSpc>
                <a:spcPct val="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aún tienen que pasar largas y peligrosas horas para obtener agua, combustible y otras necesidades, a la vez que tienen a su cargo el cuidado de una familia numeros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344680" y="465120"/>
            <a:ext cx="2478240" cy="1859040"/>
          </a:xfrm>
          <a:prstGeom prst="rect">
            <a:avLst/>
          </a:prstGeom>
          <a:ln w="0">
            <a:noFill/>
          </a:ln>
        </p:spPr>
      </p:sp>
      <p:sp>
        <p:nvSpPr>
          <p:cNvPr id="24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en áreas rurales son mayormente obreras no pagada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tadísticas muestran que 2/3 de la población no alfabetizada del mundo y 1/3 de todas las cabezas de familias, son mujeres y todavía ellas realizan 2/3 del trabajo del mun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344680" y="465120"/>
            <a:ext cx="2478240" cy="1859040"/>
          </a:xfrm>
          <a:prstGeom prst="rect">
            <a:avLst/>
          </a:prstGeom>
          <a:ln w="0">
            <a:noFill/>
          </a:ln>
        </p:spPr>
      </p:sp>
      <p:sp>
        <p:nvSpPr>
          <p:cNvPr id="248" name="PlaceHolder 2"/>
          <p:cNvSpPr>
            <a:spLocks noGrp="1"/>
          </p:cNvSpPr>
          <p:nvPr>
            <p:ph type="body"/>
          </p:nvPr>
        </p:nvSpPr>
        <p:spPr>
          <a:xfrm>
            <a:off x="1539360" y="2401560"/>
            <a:ext cx="440388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ción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organiz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administr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negocios pequeñ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to estim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ilidades para estudiar la Bibli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 para madres trabajadora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344680" y="465120"/>
            <a:ext cx="2478240" cy="1859040"/>
          </a:xfrm>
          <a:prstGeom prst="rect">
            <a:avLst/>
          </a:prstGeom>
          <a:ln w="0">
            <a:noFill/>
          </a:ln>
        </p:spPr>
      </p:sp>
      <p:sp>
        <p:nvSpPr>
          <p:cNvPr id="25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a:t>
            </a:r>
            <a:r>
              <a:rPr b="1" lang="en-US" sz="1200" spc="-1" strike="noStrike">
                <a:solidFill>
                  <a:srgbClr val="000000"/>
                </a:solidFill>
                <a:latin typeface="Garamond"/>
              </a:rPr>
              <a:t>3. POBREZA</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informe de UNIFEM “Progresos de las mujeres del mundo 2005” presenta cierta información alarmante respecto a las mujeres y la pobreza. Los progresos de las mujeres en esta área está mejorando pero muy lentamente. El informe observa que “a pesar de la igualdad en la educación primaria, la desigualdad es aún amplia en la educación secundaria y superior – ambas cada vez más son requeridas para las nuevas oportunidades de emple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344680" y="465120"/>
            <a:ext cx="2478240" cy="1859040"/>
          </a:xfrm>
          <a:prstGeom prst="rect">
            <a:avLst/>
          </a:prstGeom>
          <a:ln w="0">
            <a:noFill/>
          </a:ln>
        </p:spPr>
      </p:sp>
      <p:sp>
        <p:nvSpPr>
          <p:cNvPr id="25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ocumento indica las cuatro áreas que tratan con la desigualdad de géneros en el empleo. Ellas son:</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mujeres están concentradas en empleos precarios donde las ganancias son bajas. En los países desarrollados, las mujeres abarcan la mayoría de los           </a:t>
            </a:r>
            <a:r>
              <a:rPr b="0" lang="es-ES" sz="1200" spc="-1" strike="noStrike">
                <a:solidFill>
                  <a:srgbClr val="000000"/>
                </a:solidFill>
                <a:latin typeface="Arial"/>
              </a:rPr>
              <a:t>	</a:t>
            </a:r>
            <a:r>
              <a:rPr b="0" lang="es-ES" sz="1200" spc="-1" strike="noStrike">
                <a:solidFill>
                  <a:srgbClr val="000000"/>
                </a:solidFill>
                <a:latin typeface="Arial"/>
              </a:rPr>
              <a:t>trabajos de medio tiempo o temporar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ntro de las categorías de empleo, los ingresos por hora y mensuales de las mujeres son generalmente más bajos que el de los homb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44680" y="465120"/>
            <a:ext cx="2478240" cy="1859040"/>
          </a:xfrm>
          <a:prstGeom prst="rect">
            <a:avLst/>
          </a:prstGeom>
          <a:ln w="0">
            <a:noFill/>
          </a:ln>
        </p:spPr>
      </p:sp>
      <p:sp>
        <p:nvSpPr>
          <p:cNvPr id="25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3. </a:t>
            </a:r>
            <a:r>
              <a:rPr b="0" lang="es-ES" sz="1200" spc="-1" strike="noStrike">
                <a:solidFill>
                  <a:srgbClr val="000000"/>
                </a:solidFill>
                <a:latin typeface="Arial"/>
              </a:rPr>
              <a:t>En los países donde los datos están disponibles, el promedio de horas de trabajo de las mujeres es menor que el trabajo pagado que hacen los hombres. En parte, esto se debe a las largas horas no pagadas a las mujeres por las labores de la casa y el cuidado de los hijo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 pesar de las bajas ganancias y la naturaleza precaria de muchos trabajos pagados de las mujeres, tanto en los países desarrollados como los en desarrollo, la participación de la fuerza laborar de las mujeres puede ayudar a mantener una familia fuera de la pobreza.</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a los </a:t>
            </a:r>
            <a:r>
              <a:rPr b="0" i="1" lang="es-ES" sz="1200" spc="-1" strike="noStrike">
                <a:solidFill>
                  <a:srgbClr val="000000"/>
                </a:solidFill>
                <a:latin typeface="Arial"/>
              </a:rPr>
              <a:t>“Objetivos de desarrollo del milenio 2005”</a:t>
            </a:r>
            <a:r>
              <a:rPr b="0" lang="es-ES" sz="1200" spc="-1" strike="noStrike">
                <a:solidFill>
                  <a:srgbClr val="000000"/>
                </a:solidFill>
                <a:latin typeface="Arial"/>
              </a:rPr>
              <a:t> de las Naciones Unidas:  “El acceso de mujeres a empleos pagados es más bajo que el de los hombres en la mayoría de los países en desarrollo… Las mujeres son menos probables que los hombres para poseer trabajos regulares y pagados y más probables a trabajos de economía informal, lo cual provee poca seguridad financiera” (UN 2005).</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44680" y="465120"/>
            <a:ext cx="2478240" cy="1859040"/>
          </a:xfrm>
          <a:prstGeom prst="rect">
            <a:avLst/>
          </a:prstGeom>
          <a:ln w="0">
            <a:noFill/>
          </a:ln>
        </p:spPr>
      </p:sp>
      <p:sp>
        <p:nvSpPr>
          <p:cNvPr id="256" name="PlaceHolder 2"/>
          <p:cNvSpPr>
            <a:spLocks noGrp="1"/>
          </p:cNvSpPr>
          <p:nvPr>
            <p:ph type="body"/>
          </p:nvPr>
        </p:nvSpPr>
        <p:spPr>
          <a:xfrm>
            <a:off x="1539360" y="2401560"/>
            <a:ext cx="4861080" cy="619740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o de negocios pequeñ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administración del diner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sobre preparación para la jubil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utoría profesion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ción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ación del presupuest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de apoyo a las viud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ducción de débi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344680" y="465120"/>
            <a:ext cx="2478240" cy="1859040"/>
          </a:xfrm>
          <a:prstGeom prst="rect">
            <a:avLst/>
          </a:prstGeom>
          <a:ln w="0">
            <a:noFill/>
          </a:ln>
        </p:spPr>
      </p:sp>
      <p:sp>
        <p:nvSpPr>
          <p:cNvPr id="25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ema4. FALTA DE ENTRENAMIENTO, EXPERIENCIA Y OPORTUN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siempre han trabajado en el hogar, apoyando al esposo y su familia, otras lo hacen por salario. También siempre han estado involucradas en la iglesia, pero raramente han tomado roles de hacer decisiones o de liderazgo. En este tiempo, la Iglesia necesita mujeres que se involucren, por lo tanto necesitan saber como liderar. Necesitan oportunidades de liderazgo, entrenamiento y orientación. Debemos aplicar Tito 2: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Ministerios de la Mujer buscamos valorar a cada mujer y reconocer sus necesidades individuales y dones. Deseamos ayudar a las mujeres a descubrir y desarrollar sus dones espirituales. Necesitamos capacitar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estar en la vanguardia, una líder debe también estar involucrada en una educación y entrenamiento continuos. Ella debe mantenerse al día sobre nuevas tendencias de liderazgo y nuevas formas de ministrar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finalmente, todas las mujeres, especialmente las líderes, deberían estar involucradas en dar orientación. No solamente como una consejera, sino como una instructora espiritual para asegurarse que ellas no están solamente recibiendo, sino también dando. Cuando alguien, especialmente las mujeres, dejan una posición de liderazgo, ya debe haber alguien que ella ha entrenado para tomar el luga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344680" y="465120"/>
            <a:ext cx="2478240" cy="1859040"/>
          </a:xfrm>
          <a:prstGeom prst="rect">
            <a:avLst/>
          </a:prstGeom>
          <a:ln w="0">
            <a:noFill/>
          </a:ln>
        </p:spPr>
      </p:sp>
      <p:sp>
        <p:nvSpPr>
          <p:cNvPr id="22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l Espíritu del Señor omnipotente está sobre mí, por cuanto me ha ungido para anunciar buenas nuevas a los pobres. Me ha enviado a sanar los corazones heridos, a proclamar liberación a los cautivos y libertad a los prisioneros, a pregonar el año del favor del Señor y el día de la venganza de nuestro Dio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44680" y="465120"/>
            <a:ext cx="2478240" cy="1859040"/>
          </a:xfrm>
          <a:prstGeom prst="rect">
            <a:avLst/>
          </a:prstGeom>
          <a:ln w="0">
            <a:noFill/>
          </a:ln>
        </p:spPr>
      </p:sp>
      <p:sp>
        <p:nvSpPr>
          <p:cNvPr id="260" name="PlaceHolder 2"/>
          <p:cNvSpPr>
            <a:spLocks noGrp="1"/>
          </p:cNvSpPr>
          <p:nvPr>
            <p:ph type="body"/>
          </p:nvPr>
        </p:nvSpPr>
        <p:spPr>
          <a:xfrm>
            <a:off x="1387440" y="2401560"/>
            <a:ext cx="463248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n-US" sz="1200" spc="-1" strike="noStrike">
                <a:solidFill>
                  <a:srgbClr val="000000"/>
                </a:solidFill>
                <a:latin typeface="Garamond"/>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derazgo de entrenamient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gramas de consejerí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comunic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sobre procesos parlamentari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isiones de los Ministerios de la Muj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Dones Espiritua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organización y estructura de la Iglesi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344680" y="465120"/>
            <a:ext cx="2478240" cy="1859040"/>
          </a:xfrm>
          <a:prstGeom prst="rect">
            <a:avLst/>
          </a:prstGeom>
          <a:ln w="0">
            <a:noFill/>
          </a:ln>
        </p:spPr>
      </p:sp>
      <p:sp>
        <p:nvSpPr>
          <p:cNvPr id="26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a:t>
            </a:r>
            <a:r>
              <a:rPr b="1" lang="en-US" sz="1200" spc="-1" strike="noStrike">
                <a:solidFill>
                  <a:srgbClr val="000000"/>
                </a:solidFill>
                <a:latin typeface="Garamond"/>
              </a:rPr>
              <a:t>5. ABUS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olencia doméstica, incesto, violación y maltrato son cargas comunes que llevan las mujer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ltrato físico, sexual y psicológico acontece con niñas pequeñas, adolescentes, mujeres adultas, casadas, solteras y ancianas. </a:t>
            </a:r>
            <a:r>
              <a:rPr b="0" lang="en-US" sz="1200" spc="-1" strike="noStrike">
                <a:solidFill>
                  <a:srgbClr val="000000"/>
                </a:solidFill>
                <a:latin typeface="Garamond"/>
              </a:rPr>
              <a:t> </a:t>
            </a:r>
            <a:endParaRPr b="0" lang="en-US" sz="1200" spc="-1" strike="noStrike">
              <a:solidFill>
                <a:srgbClr val="000000"/>
              </a:solidFill>
              <a:latin typeface="Arial"/>
            </a:endParaRPr>
          </a:p>
          <a:p>
            <a:pPr algn="just">
              <a:lnSpc>
                <a:spcPct val="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ingún nivel de la sociedad está inmune de la epidemia de la violencia</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44680" y="465120"/>
            <a:ext cx="2478240" cy="1859040"/>
          </a:xfrm>
          <a:prstGeom prst="rect">
            <a:avLst/>
          </a:prstGeom>
          <a:ln w="0">
            <a:noFill/>
          </a:ln>
        </p:spPr>
      </p:sp>
      <p:sp>
        <p:nvSpPr>
          <p:cNvPr id="26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en cualquiera de sus formas distorsiona la imagen de Dio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contra las mujeres afecta el disfrute de la vida, e infringe los derechos humanos y las libertades fundamentale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344680" y="465120"/>
            <a:ext cx="2478240" cy="1859040"/>
          </a:xfrm>
          <a:prstGeom prst="rect">
            <a:avLst/>
          </a:prstGeom>
          <a:ln w="0">
            <a:noFill/>
          </a:ln>
        </p:spPr>
      </p:sp>
      <p:sp>
        <p:nvSpPr>
          <p:cNvPr id="26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 </a:t>
            </a:r>
            <a:r>
              <a:rPr b="1" lang="es-ES_tradnl" sz="1200" spc="-1" strike="noStrike">
                <a:solidFill>
                  <a:srgbClr val="000000"/>
                </a:solidFill>
                <a:latin typeface="Garamond"/>
              </a:rPr>
              <a:t>violencia contra las mujeres también incluye:</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Garamond"/>
              </a:rPr>
              <a:t>Esterilización forzada</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Garamond"/>
              </a:rPr>
              <a:t>Aborto forzado</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Mutilación de genitales</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Uso forzado de anticonceptivos</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ometimiento sexual y prostitución</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Embarazo forzad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a tolerancia del abuso dentro de la iglesia es una negativa de Cristo.  Nuestras iglesias y colegios deben ser lugares seguro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344680" y="465120"/>
            <a:ext cx="2478240" cy="1859040"/>
          </a:xfrm>
          <a:prstGeom prst="rect">
            <a:avLst/>
          </a:prstGeom>
          <a:ln w="0">
            <a:noFill/>
          </a:ln>
        </p:spPr>
      </p:sp>
      <p:sp>
        <p:nvSpPr>
          <p:cNvPr id="26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deas 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eminarios sobre educación del abuso</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Refugios de mujeres</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eminarios de cura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ábados de énfasis sobre prevención del abus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44680" y="465120"/>
            <a:ext cx="2478240" cy="1859040"/>
          </a:xfrm>
          <a:prstGeom prst="rect">
            <a:avLst/>
          </a:prstGeom>
          <a:ln w="0">
            <a:noFill/>
          </a:ln>
        </p:spPr>
      </p:sp>
      <p:sp>
        <p:nvSpPr>
          <p:cNvPr id="27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a:t>
            </a:r>
            <a:r>
              <a:rPr b="1" lang="en-US" sz="1200" spc="-1" strike="noStrike">
                <a:solidFill>
                  <a:srgbClr val="000000"/>
                </a:solidFill>
                <a:latin typeface="Garamond"/>
              </a:rPr>
              <a:t> 6. ANALFABETISMO</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todo, la educación es un derecho humano básico. Para que las mujeres logren mejor salud, nutrición, estatus económico y cualidad de vida tanto para ellas como para sus familias, necesitan acceso igual a la educación.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aproximadamente un billón de personas en el mundo que son analfabetas, 1/6 de la población mundia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44680" y="465120"/>
            <a:ext cx="2478240" cy="1859040"/>
          </a:xfrm>
          <a:prstGeom prst="rect">
            <a:avLst/>
          </a:prstGeom>
          <a:ln w="0">
            <a:noFill/>
          </a:ln>
        </p:spPr>
      </p:sp>
      <p:sp>
        <p:nvSpPr>
          <p:cNvPr id="27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l hecho de que la mayoría de las agencias de desarrollo identifican la alfabetización de las mujeres como el único factor más importante del desarrollo,</a:t>
            </a:r>
            <a:r>
              <a:rPr b="1" lang="es-ES" sz="1200" spc="-1" strike="noStrike">
                <a:solidFill>
                  <a:srgbClr val="000000"/>
                </a:solidFill>
                <a:latin typeface="Arial"/>
              </a:rPr>
              <a:t> una de cada tres mujeres en el mundo no sabe leer ni escribir</a:t>
            </a:r>
            <a:r>
              <a:rPr b="0" lang="es-ES" sz="1200" spc="-1" strike="noStrike">
                <a:solidFill>
                  <a:srgbClr val="000000"/>
                </a:solidFill>
                <a:latin typeface="Arial"/>
              </a:rPr>
              <a:t> </a:t>
            </a:r>
            <a:r>
              <a:rPr b="1" lang="en-US" sz="1200" spc="-1" strike="noStrike">
                <a:solidFill>
                  <a:srgbClr val="000000"/>
                </a:solidFill>
                <a:latin typeface="Garamond"/>
              </a:rPr>
              <a:t>.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también muestran que en los Estados Unidos la razón número uno de los analfabetos de aprender a leer es </a:t>
            </a:r>
            <a:r>
              <a:rPr b="1" lang="es-ES" sz="1200" spc="-1" strike="noStrike">
                <a:solidFill>
                  <a:srgbClr val="000000"/>
                </a:solidFill>
                <a:latin typeface="Arial"/>
              </a:rPr>
              <a:t>porque quieren leer la Biblia.</a:t>
            </a:r>
            <a:r>
              <a:rPr b="0" lang="es-ES" sz="1200" spc="-1" strike="noStrike">
                <a:solidFill>
                  <a:srgbClr val="000000"/>
                </a:solidFill>
                <a:latin typeface="Arial"/>
              </a:rPr>
              <a:t>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bién se ha demostrado que en áreas de alto analfabetismo, el camino más rápido para establecer una nueva iglesia es conducir clases de alfabetización</a:t>
            </a:r>
            <a:r>
              <a:rPr b="0" lang="en-US" sz="1200" spc="-1" strike="noStrike">
                <a:solidFill>
                  <a:srgbClr val="000000"/>
                </a:solidFill>
                <a:latin typeface="Garamond"/>
              </a:rPr>
              <a:t>.</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estado de la población mundial” (UNESCO, 1990), los resultados de un estudio realizado en 46 países informaron que el “aumento del 1% en el porcentaje de alfabetización de mujeres, es tres veces más eficaz para reducir la mortalidad infantil, que el aumento del 1% en el número de doctores”.  Las mujeres educadas están en mayor posibilidad de criar a sus hijos en ambientes saludable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no solamente necesitan oportunidades de una educación básica, </a:t>
            </a:r>
            <a:r>
              <a:rPr b="1" lang="es-ES" sz="1200" spc="-1" strike="noStrike">
                <a:solidFill>
                  <a:srgbClr val="000000"/>
                </a:solidFill>
                <a:latin typeface="Arial"/>
              </a:rPr>
              <a:t>ellas también necesitan ayuda y apoyo para obtener una educación superior.</a:t>
            </a:r>
            <a:r>
              <a:rPr b="0" lang="es-ES" sz="1200" spc="-1" strike="noStrike">
                <a:solidFill>
                  <a:srgbClr val="000000"/>
                </a:solidFill>
                <a:latin typeface="Arial"/>
              </a:rPr>
              <a:t> En muchas partes del mundo hay pocas becas disponibles para mujeres, pero con la educación avanzada, las mujeres están siendo preparadas para liderar altas posiciones y muchas hacen grandes contribuciones a la salud, bienestar y el gobierno </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344680" y="465120"/>
            <a:ext cx="2478240" cy="1859040"/>
          </a:xfrm>
          <a:prstGeom prst="rect">
            <a:avLst/>
          </a:prstGeom>
          <a:ln w="0">
            <a:noFill/>
          </a:ln>
        </p:spPr>
      </p:sp>
      <p:sp>
        <p:nvSpPr>
          <p:cNvPr id="27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deas 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Entrenamiento en alfabetización básica</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onocimiento de informática</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Programas de entrenamiento de segundo lenguaj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Beca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Ayuda educacional para niña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Garamond"/>
              </a:rPr>
              <a:t>Sección 2 – EVANGELISM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vangelismo tiene muchos modelos y formas. En esta sección enfocaremos el Estudio bíblico Uno por Uno, Proyecto B=B, Evangelismo en grupos pequeños, Seminario sobre estilos de evangelismo y finalmente la Importancia de capacitar a los nuevos miembros.</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A. Estudios bíblicos “Uno por Un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Mucha de la información en esta sección lo puede encontrar en el </a:t>
            </a:r>
            <a:r>
              <a:rPr b="0" i="1" lang="es-ES_tradnl" sz="1200" spc="-1" strike="noStrike">
                <a:solidFill>
                  <a:srgbClr val="000000"/>
                </a:solidFill>
                <a:latin typeface="Garamond"/>
              </a:rPr>
              <a:t>Manual de Evangelismo</a:t>
            </a:r>
            <a:r>
              <a:rPr b="0" lang="es-ES_tradnl" sz="1200" spc="-1" strike="noStrike">
                <a:solidFill>
                  <a:srgbClr val="000000"/>
                </a:solidFill>
                <a:latin typeface="Garamond"/>
              </a:rPr>
              <a:t> de los Ministerios de la Mujer de la Asociación General.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344680" y="465120"/>
            <a:ext cx="2478240" cy="1859040"/>
          </a:xfrm>
          <a:prstGeom prst="rect">
            <a:avLst/>
          </a:prstGeom>
          <a:ln w="0">
            <a:noFill/>
          </a:ln>
        </p:spPr>
      </p:sp>
      <p:sp>
        <p:nvSpPr>
          <p:cNvPr id="27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inisterios espirituales más satisfactorios es el de dar estudios bíblicos personale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ar estudios bíblicos uno por uno, es importante para tener presente que a las personas no les importa cuanto usted sabe, hasta que ellos ven cuanto usted los apre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e de alcanzar al corazón es un privilegio sagrado. Los ángeles le ayudarán cuando usted visite a aquellos que están buscando una vida mejor. Al visitar a las personas y orar con ellas, tocará el corazón y conducirá a esa persona a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ner éxito en compartir la verdad bíblica, es más que un carisma personal, una lógica brillante o una articulación ágil. Usted debe sentir un amor genuino por el Señor y el estudiant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344680" y="465120"/>
            <a:ext cx="2478240" cy="1859040"/>
          </a:xfrm>
          <a:prstGeom prst="rect">
            <a:avLst/>
          </a:prstGeom>
          <a:ln w="0">
            <a:noFill/>
          </a:ln>
        </p:spPr>
      </p:sp>
      <p:sp>
        <p:nvSpPr>
          <p:cNvPr id="27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Arial"/>
              </a:rPr>
              <a:t>El Evangelio no ha de ser presentado como una teoría sin vida, sino como una fuerza viva para cambiar la vida. Dios desea que los que reciben su gracia sean testigos de su poder… Quiere que sus siervos atestigüen que por su gracia los hombres pueden poseer un carácter semejante al suyo y que se regocijen en la seguridad de su gran amor… El maravilloso amor de Cristo enternecerá y subyugará los corazones cuando la simple exposición de las doctrinas no lograría nada </a:t>
            </a:r>
            <a:r>
              <a:rPr b="0" lang="en-US" sz="1200" spc="-1" strike="noStrike">
                <a:solidFill>
                  <a:srgbClr val="000000"/>
                </a:solidFill>
                <a:latin typeface="Garamond"/>
              </a:rPr>
              <a:t>.” </a:t>
            </a:r>
            <a:r>
              <a:rPr b="0" i="1" lang="es-ES_tradnl" sz="1200" spc="-1" strike="noStrike">
                <a:solidFill>
                  <a:srgbClr val="000000"/>
                </a:solidFill>
                <a:latin typeface="Garamond"/>
              </a:rPr>
              <a:t>Deseado de todas las Gentes, p. 766-767</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es un trabajo importante. Es una responsabilidad sagrada amar, enseñar y animar al estudiante con su carga a lo largo del camino cristiano. Debido a la alegría que usted ha encontrado al seguir a Jesús, quiere compartir ese gozo y hacerlo una experiencia crecien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209680" y="685800"/>
            <a:ext cx="2478240" cy="1859040"/>
          </a:xfrm>
          <a:prstGeom prst="rect">
            <a:avLst/>
          </a:prstGeom>
          <a:ln w="0">
            <a:noFill/>
          </a:ln>
        </p:spPr>
      </p:sp>
      <p:sp>
        <p:nvSpPr>
          <p:cNvPr id="226" name="PlaceHolder 2"/>
          <p:cNvSpPr>
            <a:spLocks noGrp="1"/>
          </p:cNvSpPr>
          <p:nvPr>
            <p:ph type="body"/>
          </p:nvPr>
        </p:nvSpPr>
        <p:spPr>
          <a:xfrm>
            <a:off x="701280" y="2666880"/>
            <a:ext cx="5607000" cy="619776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a consolar a todos los que están de duelo, y a confortar a los dolientes de Sión. Me ha enviado a darles una corona en vez de cenizas, aceite de alegría en vez de luto, traje de fiesta en vez de espíritu de desaliento. Serán llamados robles de justicia, plantío del Señor, para mostrar su glor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344680" y="465120"/>
            <a:ext cx="2478240" cy="1859040"/>
          </a:xfrm>
          <a:prstGeom prst="rect">
            <a:avLst/>
          </a:prstGeom>
          <a:ln w="0">
            <a:noFill/>
          </a:ln>
        </p:spPr>
      </p:sp>
      <p:sp>
        <p:nvSpPr>
          <p:cNvPr id="28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n </a:t>
            </a:r>
            <a:r>
              <a:rPr b="0" lang="es-ES_tradnl" sz="1200" spc="-1" strike="noStrike">
                <a:solidFill>
                  <a:srgbClr val="000000"/>
                </a:solidFill>
                <a:latin typeface="Garamond"/>
              </a:rPr>
              <a:t>Colosenses 1:28 vemos el objetivo de aquellos quienes ministran por Cristo</a:t>
            </a:r>
            <a:r>
              <a:rPr b="0" lang="en-US" sz="1200" spc="-1" strike="noStrike">
                <a:solidFill>
                  <a:srgbClr val="000000"/>
                </a:solidFill>
                <a:latin typeface="Garamond"/>
              </a:rPr>
              <a:t> ”</a:t>
            </a:r>
            <a:r>
              <a:rPr b="0" i="1" lang="es-ES" sz="1200" spc="-1" strike="noStrike">
                <a:solidFill>
                  <a:srgbClr val="000000"/>
                </a:solidFill>
                <a:latin typeface="Arial"/>
              </a:rPr>
              <a:t>A este Cristo proclamamos, aconsejando y enseñando con toda sabiduría a todos los seres humanos, para presentarlos a todos perfectos en él.</a:t>
            </a:r>
            <a:r>
              <a:rPr b="0" lang="es-ES" sz="1200" spc="-1" strike="noStrike">
                <a:solidFill>
                  <a:srgbClr val="000000"/>
                </a:solidFill>
                <a:latin typeface="Arial"/>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 mundo lleno de odio, violencia y sufrimiento, Dios en su Palabra expresó su amor y nosotros estamos libres para elegir su camino. Dios no quiere que nosotros muramos. Su regalo es la vida eterna. Si nosotros mostramos el amor de Cristo, los corazones responderán a ese amor y desearán seguir, en tanto que Dios los guí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oramos por otros, a través de la influencia del Espíritu Santo, Dios nos concede sabiduría para alcanzarlos. Pero recuerde, Dios respeta la libertad humana. Él nos da la oportunidad para elegir servirlo o rechazarlo. Sin embargo, nosotros podemos llegar a ser canales de influencia, a través del poder del Espíritu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la Palabra de Dios contiene poder – que cambia la vida. El mismo Espíritu Santo que inspiró la Biblia le acompañará mientras usted presente las verdades preciosas a otros. El Espíritu de Dios lo recompensará ricamente mientras comparte la Palabra de Dios con otros. Y Dios ha prometido producir frutos por su labor – almas en el reino de Dios como un resultado directo de su ministerio</a:t>
            </a: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344680" y="465120"/>
            <a:ext cx="2478240" cy="1859040"/>
          </a:xfrm>
          <a:prstGeom prst="rect">
            <a:avLst/>
          </a:prstGeom>
          <a:ln w="0">
            <a:noFill/>
          </a:ln>
        </p:spPr>
      </p:sp>
      <p:sp>
        <p:nvSpPr>
          <p:cNvPr id="28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ada miembro de la iglesia</a:t>
            </a:r>
            <a:r>
              <a:rPr b="0" lang="es-ES" sz="1200" spc="-1" strike="noStrike">
                <a:solidFill>
                  <a:srgbClr val="000000"/>
                </a:solidFill>
                <a:latin typeface="Arial"/>
              </a:rPr>
              <a:t> debería aprender los principios de </a:t>
            </a:r>
            <a:r>
              <a:rPr b="0" lang="es-ES" sz="1200" spc="-1" strike="noStrike" u="sng">
                <a:solidFill>
                  <a:srgbClr val="000000"/>
                </a:solidFill>
                <a:uFillTx/>
                <a:latin typeface="Arial"/>
              </a:rPr>
              <a:t>dar estudios bíblicos</a:t>
            </a:r>
            <a:r>
              <a:rPr b="0" lang="es-ES" sz="1200" spc="-1" strike="noStrike">
                <a:solidFill>
                  <a:srgbClr val="000000"/>
                </a:solidFill>
                <a:latin typeface="Arial"/>
              </a:rPr>
              <a:t> a través del poder del </a:t>
            </a:r>
            <a:r>
              <a:rPr b="0" lang="es-ES" sz="1200" spc="-1" strike="noStrike" u="sng">
                <a:solidFill>
                  <a:srgbClr val="000000"/>
                </a:solidFill>
                <a:uFillTx/>
                <a:latin typeface="Arial"/>
              </a:rPr>
              <a:t>Espíritu Santo</a:t>
            </a:r>
            <a:r>
              <a:rPr b="0" lang="es-ES" sz="1200" spc="-1" strike="noStrike">
                <a:solidFill>
                  <a:srgbClr val="000000"/>
                </a:solidFill>
                <a:latin typeface="Arial"/>
              </a:rPr>
              <a:t>. Aún si una persona siente que Dios no lo ha llamado para dar estudios bíblicos personales, todos han sido llamados </a:t>
            </a:r>
            <a:r>
              <a:rPr b="0" lang="es-ES" sz="1200" spc="-1" strike="noStrike" u="sng">
                <a:solidFill>
                  <a:srgbClr val="000000"/>
                </a:solidFill>
                <a:uFillTx/>
                <a:latin typeface="Arial"/>
              </a:rPr>
              <a:t>a testificar de alguna forma</a:t>
            </a:r>
            <a:r>
              <a:rPr b="0" lang="es-ES" sz="1200" spc="-1" strike="noStrike">
                <a:solidFill>
                  <a:srgbClr val="000000"/>
                </a:solidFill>
                <a:latin typeface="Arial"/>
              </a:rPr>
              <a:t>, y si nosotros aprendemos los principios de estudiar la Biblia con otros, Dios puede usarnos eficazmente en cualquier </a:t>
            </a:r>
            <a:r>
              <a:rPr b="0" lang="es-ES" sz="1200" spc="-1" strike="noStrike" u="sng">
                <a:solidFill>
                  <a:srgbClr val="000000"/>
                </a:solidFill>
                <a:uFillTx/>
                <a:latin typeface="Arial"/>
              </a:rPr>
              <a:t>método de testificación</a:t>
            </a:r>
            <a:r>
              <a:rPr b="0" lang="es-ES" sz="1200" spc="-1" strike="noStrike">
                <a:solidFill>
                  <a:srgbClr val="000000"/>
                </a:solidFill>
                <a:latin typeface="Arial"/>
              </a:rPr>
              <a:t> que Él ha elegido para nosotros. Equipémonos de tal manera que podamos explicar nuestra fe a todo aquel que el Señor nos dirija, pues </a:t>
            </a:r>
            <a:r>
              <a:rPr b="0" lang="es-ES" sz="1200" spc="-1" strike="noStrike" u="sng">
                <a:solidFill>
                  <a:srgbClr val="000000"/>
                </a:solidFill>
                <a:uFillTx/>
                <a:latin typeface="Arial"/>
              </a:rPr>
              <a:t>es nuestro privilegio y goz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344680" y="465120"/>
            <a:ext cx="2478240" cy="1859040"/>
          </a:xfrm>
          <a:prstGeom prst="rect">
            <a:avLst/>
          </a:prstGeom>
          <a:ln w="0">
            <a:noFill/>
          </a:ln>
        </p:spPr>
      </p:sp>
      <p:sp>
        <p:nvSpPr>
          <p:cNvPr id="28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udio bíblico personal “uno por uno” es uno de los métodos principales de testificación para lo cual Dios ha llamado a los cristianos. Esto está explicado maravillosamente en </a:t>
            </a:r>
            <a:r>
              <a:rPr b="0" i="1" lang="es-ES" sz="1200" spc="-1" strike="noStrike">
                <a:solidFill>
                  <a:srgbClr val="000000"/>
                </a:solidFill>
                <a:latin typeface="Arial"/>
              </a:rPr>
              <a:t>Palabras de Vida del Gran Maestro, p. 157-1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desea que su palabra de gracia penetre en toda alma. En gran medida esto debe realizarse mediante un trabajo personal. Este fue el método de Cristo. Su obra se realizaba mayormente por medio de entrevistas personales. Dispensaba una fiel consideración al auditorio de una sola alma. Por medio de esa sola alma a menudo el mensaje se extendía a millares. No hemos de esperar que las almas vengan a nosotros; debemos buscarlas donde esté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una persona encuentra a alguien con quién estudiar la Biblia? Estas personas pueden ser parientes receptivos, vecinos, contactos en la comunidad, el lugar de trabajo o un amigo que ha estado observando su vida y visto que usted tiene una paz y un gozo que le gustaría tener. Puede ser un asunto de preguntarles simplemente si a ellos les gustaría estudiar la Biblia con usted. Muchos hoy en día se asocian en grupos en la comunidad y lugares de trabajo para disfrutar el estudio de la Biblia. Su pastor quizás guarda un registro de interesados que han escrito o enviado e-mail a la iglesia, pues escucharon los programas radiales y televisivos, tales como, La Voz de la Esperanza, Está Escrito, programas misioneros de salud y otro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344680" y="465120"/>
            <a:ext cx="2478240" cy="1859040"/>
          </a:xfrm>
          <a:prstGeom prst="rect">
            <a:avLst/>
          </a:prstGeom>
          <a:ln w="0">
            <a:noFill/>
          </a:ln>
        </p:spPr>
      </p:sp>
      <p:sp>
        <p:nvSpPr>
          <p:cNvPr id="28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l plan de dos en dos, como el Señor envió a sus discípulos, es la mejor forma de dar estudios bíblicos. De esta manera uno anima al otro y usted puede aconsejar, orar e    </a:t>
            </a:r>
            <a:r>
              <a:rPr b="0" lang="es-ES" sz="1200" spc="-1" strike="noStrike">
                <a:solidFill>
                  <a:srgbClr val="000000"/>
                </a:solidFill>
                <a:latin typeface="Arial"/>
              </a:rPr>
              <a:t>	</a:t>
            </a:r>
            <a:r>
              <a:rPr b="0" lang="es-ES" sz="1200" spc="-1" strike="noStrike">
                <a:solidFill>
                  <a:srgbClr val="000000"/>
                </a:solidFill>
                <a:latin typeface="Arial"/>
              </a:rPr>
              <a:t>investigar la Biblia ju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de dos en dos no solamente producirá los mejores resultados, sino que si se presenta una emergencia y uno de los instructores bíblicos falta, el estudio no se interrumpe sino que continúa con el otro instruct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Generalmente uno debe ser el instructor en un estudio bíblico particu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ayudará a prevenir al estudiante del sentimiento de predominar. Uno puede estar orando en silencio mientras el otro habla. Uno puede tener la respuesta que al otro se le pasó por alto. Uno puede dar ánimo al otro también. El instructor bíblico debe sentarse frente al estudiante y lo suficientemente cerca como para ser oído cómodamente y mantener una atmósfera amist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aje y ore fielmente como si fuera la única persona que contactará a ese individuo con las buenas nuevas del amor de Jesús. Dios le ayudará, como a los antiguos discípulos, cuando Jesús les dijo, </a:t>
            </a:r>
            <a:r>
              <a:rPr b="0" i="1" lang="es-ES" sz="1200" spc="-1" strike="noStrike">
                <a:solidFill>
                  <a:srgbClr val="000000"/>
                </a:solidFill>
                <a:latin typeface="Arial"/>
              </a:rPr>
              <a:t>“Venid en pos de mí, y os haré pescadores de hombres” </a:t>
            </a:r>
            <a:r>
              <a:rPr b="0" lang="es-ES" sz="1200" spc="-1" strike="noStrike">
                <a:solidFill>
                  <a:srgbClr val="000000"/>
                </a:solidFill>
                <a:latin typeface="Arial"/>
              </a:rPr>
              <a:t>(Mateo 4: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estudio bíblico efic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no es tan difícil como muchos se imaginan y uno no tiene que ser un erudito para tener éxito. El secreto número uno de un estudio bíblico eficaz, es la oración. Ore antes de estudiar la Biblia, invite al Espíritu Santo a guiarlo en el estudio. Ore cuando usted da el estudio y pida constantemente que el Espíritu Santo le de las palabras correctas y amorosa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344680" y="465120"/>
            <a:ext cx="2478240" cy="1859040"/>
          </a:xfrm>
          <a:prstGeom prst="rect">
            <a:avLst/>
          </a:prstGeom>
          <a:ln w="0">
            <a:noFill/>
          </a:ln>
        </p:spPr>
      </p:sp>
      <p:sp>
        <p:nvSpPr>
          <p:cNvPr id="28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que enseñe a otros, también es útil que tenga algunos material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para los estudios bíblicos “Uno por Uno” incluy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iblia,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ncordancia bíblica y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uías de estudio bíbli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guías de estudio mantienen el estudio bíblico más claro y emocionante, por lo tanto conserva el interés del estudiante y lo mantiene en el tema.</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344680" y="465120"/>
            <a:ext cx="2478240" cy="1859040"/>
          </a:xfrm>
          <a:prstGeom prst="rect">
            <a:avLst/>
          </a:prstGeom>
          <a:ln w="0">
            <a:noFill/>
          </a:ln>
        </p:spPr>
      </p:sp>
      <p:sp>
        <p:nvSpPr>
          <p:cNvPr id="29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rovechoso si usted puede reunirse regularmente con su estudiante, de tal manera que él/ella espere con placer su visita. Intente hacer el tiempo de estudio tan claro como sea posible. También es beneficioso si usted puede programar el estudio a la misma hora, una vez a la semana.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haga un estudio largo – no más de una hora.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imice la cantidad de información que va a dar, dé tiempo para la aplicación</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personas no pueden concentrarse un tiempo largo. No permita que su estudiante se excuse que no tiene tiempo para estudiar, porque el estudio toma mucho tiempo.  También es importante que usted llegue en la hora indicada, y tome unos pocos minutos para familiarizarse con su estudiante y dedique un tiempo para orar antes de presentar el tema de estudio. Después de estudiar la lección, es importante hacer un llamado e invitarlo a tener una oración de entre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l estudiante a hacer un compromiso en cada estudio bíblico. Ayúdelo a tener la seguridad de la salvación, basado en la fe en Cristo y las promesas de la Palabra de Dios. El compromiso puede ser en forma de una oración en respuesta al tema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ta brevemente su testimonio personal, al contar su experiencia antes que usted conociera a Cristo, cómo lo encontró y la alegría que mantiene desde que lo conoció. Mantenga su testimonio personal breve – de dos a cuatro minutos. Prepárese para decirlo humildemente pero con valor, “Soy un cristiano”. Cuente su vida brevemente antes de entregarse a Cristo, cómo usted llegó a ser un cristiano y alguna cosa de su vida desde que llegó a ser un cristiano – el cambio, el gozo y las bendiciones. Use frases tales como: necesitaba ayuda; lo encontré en Jesús. Encontré que la Biblia es la voz de Dios para mi al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usted y el estudiante ya han sido cristianos, comparta cómo el ser un adventista ha sumado una dimensión especial de significado y propósito a su vida. Luego comparta un versículo bíblico favor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toma tiempo para familiarizarse, su estudiante llegará a ser su amigo/a. Esto ayudará al estudiante a relajarse y sentirse más cómodo con usted. El tiempo de oración ayudará al estudiante a darse cuenta de la presencia de Dios. Después de la oración, presente la lección, para que el estudiante conozca el propósito del estudio. Al final, si es posible, provea libros o separatas al estudiante para que lea sobre el tema de su estudio.</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344680" y="465120"/>
            <a:ext cx="2478240" cy="1859040"/>
          </a:xfrm>
          <a:prstGeom prst="rect">
            <a:avLst/>
          </a:prstGeom>
          <a:ln w="0">
            <a:noFill/>
          </a:ln>
        </p:spPr>
      </p:sp>
      <p:sp>
        <p:nvSpPr>
          <p:cNvPr id="29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y cinco partes principales para dar un estudio bíblic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Tiempo para familiarizarse</a:t>
            </a:r>
            <a:r>
              <a:rPr b="0" lang="es-ES" sz="1200" spc="-1" strike="noStrike">
                <a:solidFill>
                  <a:srgbClr val="000000"/>
                </a:solidFill>
                <a:latin typeface="Arial"/>
              </a:rPr>
              <a:t>… Su estudiante debe llegar a ser su amigo. Por lo tanto tome unos pocos minutos en el comienzo de cada estudio para profundizar su amist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Introducción a la lección y oración…</a:t>
            </a:r>
            <a:r>
              <a:rPr b="0" lang="es-ES" sz="1200" spc="-1" strike="noStrike">
                <a:solidFill>
                  <a:srgbClr val="000000"/>
                </a:solidFill>
                <a:latin typeface="Arial"/>
              </a:rPr>
              <a:t> Una introducción corta de su tema de estudio ayudará a su estudiante a conocer el propósito del estudio. Luego comience su tiempo de estudio con una oración sincera, pida la dirección del Espíritu Santo en su estudio de la Palabra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Estudio de la lección…</a:t>
            </a:r>
            <a:r>
              <a:rPr b="0" lang="es-ES" sz="1200" spc="-1" strike="noStrike">
                <a:solidFill>
                  <a:srgbClr val="000000"/>
                </a:solidFill>
                <a:latin typeface="Arial"/>
              </a:rPr>
              <a:t> El método de preguntas y respuestas permite que el estudiante lea la respuesta en el texto bíblico, lo que mantendrá el interés del estudiante. También le ayudará a establecer confianza en la Palabra de Dios. Evite discrepancias sobre un punto de doctrina, hasta que usted haya tenido tiempo para estudiarlo a fondo con la Biblia. Puede dejar aparte ese punto para explicarlo en una lección futura. Es importante recordar que es la obra del Espíritu Santo la que convence al estudiante de su necesidad de Cristo y sus enseñanzas. En cualquier tema que presente, exalte a Jesús como el centro de toda esperanza. Recuerde que el amor maravilloso de Cristo alcanzará el corazón, cuando la simple reiteración de la doctrina no lograría n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Compromiso y oración…</a:t>
            </a:r>
            <a:r>
              <a:rPr b="0" lang="es-ES" sz="1200" spc="-1" strike="noStrike">
                <a:solidFill>
                  <a:srgbClr val="000000"/>
                </a:solidFill>
                <a:latin typeface="Arial"/>
              </a:rPr>
              <a:t> Comience desde la primera lección a hacer una pregunta de compromiso antes de concluir con su tiempo de estudio. Con frecuencia usted puede dar un breve testimonio personal que anime a su estudiante a comprometerse. Selle el compromiso con una oración. Anime a su estudiante a orar cuando él/ella se siente cómodo haciéndo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Día y hora de la siguiente reunión y salida…</a:t>
            </a:r>
            <a:r>
              <a:rPr b="0" lang="es-ES" sz="1200" spc="-1" strike="noStrike">
                <a:solidFill>
                  <a:srgbClr val="000000"/>
                </a:solidFill>
                <a:latin typeface="Arial"/>
              </a:rPr>
              <a:t> Es mejor salir después de la oración, sin quedar un tiempo adicional, excepto para confirmar su siguiente reunión. En el tiempo apropiado usted invitará a su estudiante para que asista a la iglesia o a una reunión de evangelismo con u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está dando un estudio bíblico y encaminando al estudiante a través de los procesos de aceptación de Cristo como Señor y Salvador, es beneficioso compartir su experiencia, invitándolo a unirse con ust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344680" y="465120"/>
            <a:ext cx="2478240" cy="1859040"/>
          </a:xfrm>
          <a:prstGeom prst="rect">
            <a:avLst/>
          </a:prstGeom>
          <a:ln w="0">
            <a:noFill/>
          </a:ln>
        </p:spPr>
      </p:sp>
      <p:sp>
        <p:nvSpPr>
          <p:cNvPr id="294" name="PlaceHolder 2"/>
          <p:cNvSpPr>
            <a:spLocks noGrp="1"/>
          </p:cNvSpPr>
          <p:nvPr>
            <p:ph type="body"/>
          </p:nvPr>
        </p:nvSpPr>
        <p:spPr>
          <a:xfrm>
            <a:off x="701280" y="2401560"/>
            <a:ext cx="5684760" cy="64292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PROYECTO B=B: BIBLE =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 varios años, Edith Fonseca de la Asociación Paranaense, Brasil, soñó y comenzó un programa de estudios bíblicos llamado “Proyecto B=B o Biblia=Bautismo”. Resultó teniendo gran éxito y muchos ya han sido bautizados como resultado de este programa en toda Sudamérica. Este es un camino excelente para dar una oportunidad a las mujeres para que trabajen por sus familias, amigos y vecinos con estudios bíblicos “Uno por U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es como se conduce este programa en Sudamérica. Primero se ora. Se ora por el Proyecto B = B específicamente en las reuniones de los Ministerios de la Mujer.  Se ora antes, al iniciar, durante y cuando el proyecto continú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se programa una entrevista con los pastores/ancianos para explicar el proyecto y negociar la compra de las Biblias como parte de la iglesia y otros medios. Luego se programa la fecha de arranque del evento. La fecha debe ser en cualquier sábado durante la primera parte del año para tener suficiente tiempo para terminar todos los estudios bíblicos hasta fin del año. Fechas preferenciales podrían ser las dos fechas especiales de los Ministerios de la Mujer que ya están señaladas en el calend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imer Sábado de Marzo – Día Internacional de Oración de la Muje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gundo Sábado de junio – Día de énfasis de los Ministerios de l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preparan el material y las tarjetas de inscripción del Proyecto B = B que deberá tener cada persona que participe d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 la fecha de arranque, comienzan a publicar la fe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lan puede incluir testimonios, cantos </a:t>
            </a:r>
            <a:r>
              <a:rPr b="0" lang="es-ES_tradnl" sz="1200" spc="-1" strike="noStrike">
                <a:solidFill>
                  <a:srgbClr val="000000"/>
                </a:solidFill>
                <a:latin typeface="Arial"/>
              </a:rPr>
              <a:t>congregacionales</a:t>
            </a:r>
            <a:r>
              <a:rPr b="0" lang="es-ES" sz="1200" spc="-1" strike="noStrike">
                <a:solidFill>
                  <a:srgbClr val="000000"/>
                </a:solidFill>
                <a:latin typeface="Arial"/>
              </a:rPr>
              <a:t>, partes especiales, charlas informativas sobre los Ministerios de la Mujer, noticias locales y mundiales de los Ministerios de la Mujer, entrevistas y testimon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irector u otra persona de los Ministerios de la Mujer hablará sobre la felicidad de compartir el mensaje de Cristo con otros. Incluirá experiencias personales de miembros quienes están dando estudios bíblicos o realizando series de evangelismo y los resultados de esos esfuerz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344680" y="465120"/>
            <a:ext cx="2478240" cy="1859040"/>
          </a:xfrm>
          <a:prstGeom prst="rect">
            <a:avLst/>
          </a:prstGeom>
          <a:ln w="0">
            <a:noFill/>
          </a:ln>
        </p:spPr>
      </p:sp>
      <p:sp>
        <p:nvSpPr>
          <p:cNvPr id="29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se pide que cada persona presente (mujeres, hombres, jóvenes, ancianos) piensen en un familiar o amigo que se sentiría feliz si estudiara la Palabra de Dios, luego se les explica que los Ministerios de la Mujer tienen un plan para ayudar a alcanzar a esas personas. Cada persona que participa, toma una Biblia, las guías de estudios bíblicos y el certificado bautis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Los líderes y la comisión de planes piden que cada persona se comprometa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studiar la Biblia con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eparar a esa persona para el bautismo al final del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y los estudios bíblicos no pertenecen a la persona que recibió este material en la iglesia, sino a la persona que necesita ser alcanzada con el mens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nombre de la persona que recibirá los estudios bíblicos llegará a ser parte de la lista de oración de los cultos del miércoles de noche o de la lista de oración del grupo de oración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que están a cargo del programa, solicitan que las personas que tomaron las Biblias y los estudios bíblicos permanezcan al frente después que hayan oído las instrucciones de arriba y haber llenado y devuelto la tarjeta de inscripción del Proyecto B = B.  A todos se les pedirá que levanten sus Biblias y sus estudios bíblicos en alto. Se lee una promesa bíblica y si es posible se toma una foto al grupo. Luego se invita al pastor a presentar algunas palabras que motive al grupo y se hace una oración de consagración por el grupo y su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que han tomado las Biblias y los estudios bíblicos serán supervisadas durante su trabajo misionero por la líder de los Ministerios de la Mujer de la iglesia, Misión ó Asociación. Esas directoras les enviarán regularmente correspondencia y boletines o mantendrán contacto por teléfono.  Cualquier duda o dificultad que se levante durante los estudios, recibirá ayuda inmediata debido a su contacto re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nte que va a tomar los estudios bíblicos, se le pedirá que estudie en la nueva Biblia sin subrayarla, marcarla, ni siquiera escribir su nombre. La Biblia llegará a pertenecer a la persona interesada, solamente el día de su bautismo o graduación. (Allí estarán aquellos que decidan ser bautizados después de haber terminado los estudio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344680" y="465120"/>
            <a:ext cx="2478240" cy="1859040"/>
          </a:xfrm>
          <a:prstGeom prst="rect">
            <a:avLst/>
          </a:prstGeom>
          <a:ln w="0">
            <a:noFill/>
          </a:ln>
        </p:spPr>
      </p:sp>
      <p:sp>
        <p:nvSpPr>
          <p:cNvPr id="29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Luego comienza el discipula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s-ES" sz="1200" spc="-1" strike="noStrike">
                <a:solidFill>
                  <a:srgbClr val="000000"/>
                </a:solidFill>
                <a:latin typeface="Arial"/>
              </a:rPr>
              <a:t>Después del bautismo, debe formarse una clase de nuevos miembros, o estudiar con los nuevos miembros por separado. Este tiempo de estudio será con el Plan </a:t>
            </a:r>
            <a:r>
              <a:rPr b="0" lang="es-ES" sz="1200" spc="-1" strike="noStrike">
                <a:solidFill>
                  <a:srgbClr val="000000"/>
                </a:solidFill>
                <a:latin typeface="Arial"/>
              </a:rPr>
              <a:t>	</a:t>
            </a:r>
            <a:r>
              <a:rPr b="0" lang="es-ES" sz="1200" spc="-1" strike="noStrike">
                <a:solidFill>
                  <a:srgbClr val="000000"/>
                </a:solidFill>
                <a:latin typeface="Arial"/>
              </a:rPr>
              <a:t>marcando la Biblia. De enseñarse a los estudiantes cómo usar este plan correctame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stos estudios reforzarán los temas aprendidos antes del bautismo 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Se comienza a</a:t>
            </a:r>
            <a:r>
              <a:rPr b="0" lang="es-ES" sz="1200" spc="-1" strike="noStrike">
                <a:solidFill>
                  <a:srgbClr val="000000"/>
                </a:solidFill>
                <a:latin typeface="Arial"/>
              </a:rPr>
              <a:t> preparar a los nuevos miembros para que enseñen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finalizar el Plan de Marcar la Biblia, debe haber una graduación donde se les entregará los certificados por haber completado el curso y también se les entregará una nueva Biblia y una serie de estudios bíblicos, una tarjeta de inscripción al Proyecto B = B y un certificado de bautismo en blanco, de tal manera que el nuevo miembro pueda continuar con el Proyecto B = 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344680" y="465120"/>
            <a:ext cx="2478240" cy="1859040"/>
          </a:xfrm>
          <a:prstGeom prst="rect">
            <a:avLst/>
          </a:prstGeom>
          <a:ln w="0">
            <a:noFill/>
          </a:ln>
        </p:spPr>
      </p:sp>
      <p:sp>
        <p:nvSpPr>
          <p:cNvPr id="22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del Ministerio de Curación, página 102 por Elena G.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olo el método de Cristo será el que dará éxito para llegar a la gente. El Salvador trataba con los hombres como quien deseaba hacerles bien. Les mostraba simpatía, atendía a sus necesidades y se ganaba su confianza. Entonces les decía: “Seguid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2344680" y="465120"/>
            <a:ext cx="2478240" cy="1859040"/>
          </a:xfrm>
          <a:prstGeom prst="rect">
            <a:avLst/>
          </a:prstGeom>
          <a:ln w="0">
            <a:noFill/>
          </a:ln>
        </p:spPr>
      </p:sp>
      <p:sp>
        <p:nvSpPr>
          <p:cNvPr id="30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odelos más exitosos de estudios bíblicos, es el estudio en grupos peque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ay un número de razones para este éxit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personas son menos tímidas en los grupos pequeños y más dispuestas a com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uede realizarse en los lugares más convenientes, cerca de los hogares de las person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344680" y="465120"/>
            <a:ext cx="2478240" cy="1859040"/>
          </a:xfrm>
          <a:prstGeom prst="rect">
            <a:avLst/>
          </a:prstGeom>
          <a:ln w="0">
            <a:noFill/>
          </a:ln>
        </p:spPr>
      </p:sp>
      <p:sp>
        <p:nvSpPr>
          <p:cNvPr id="30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l grupo puede establecer un sentimiento de aprecio y apo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personas tienen una mejor oportunidad para estudiar en su propia p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grupo pequeño crea un ambiente natural para continuar con el discipul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2344680" y="465120"/>
            <a:ext cx="2478240" cy="1859040"/>
          </a:xfrm>
          <a:prstGeom prst="rect">
            <a:avLst/>
          </a:prstGeom>
          <a:ln w="0">
            <a:noFill/>
          </a:ln>
        </p:spPr>
      </p:sp>
      <p:sp>
        <p:nvSpPr>
          <p:cNvPr id="30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se planifica un grupo pequeño de estudio, es esencial incluir cinco á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partir – llegar a familiariz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tudio bíblico – aprendizaje de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Oración – pedir la dirección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Momento social – reunirse fuera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Servicio – hacer algo para alguien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invitar a la gente a un grupo de estudio bíblico, ore para que Dios traiga a los miembros del grupo y lo capacite a usted para guiar y animar al grup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2344680" y="465120"/>
            <a:ext cx="2478240" cy="1859040"/>
          </a:xfrm>
          <a:prstGeom prst="rect">
            <a:avLst/>
          </a:prstGeom>
          <a:ln w="0">
            <a:noFill/>
          </a:ln>
        </p:spPr>
      </p:sp>
      <p:sp>
        <p:nvSpPr>
          <p:cNvPr id="30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objetivos de un grupo pequeño de estudio bíblico, es el de crear una atmósfera de amor y aceptación, lo cual estimula al descubrimiento y a la libertad de hablar de la Biblia, sin miedo de ser avergonzado o criticado. Esto fomentará una hermandad cristiana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invitar personalmente a los miembros del grupo. Sea específico en los detalles del estudio, al decirles lo que está planificado hacer, cuándo se reunirán y cuántas semanas requerirá el curso de estudios. Una manera de comenzar un grupo de estudios bíblicos en su vecindad es invitando a varias personas a su hogar para un refrigerio. En esa oportunidad hábleles de su interés de comenzar un grupo de estudios bíblicos e invítelos a reunirse. Un buen número para comenzar el grupo es 6, pero si es menor, Dios ha prometido estar con usted allí (Mateo 18:20). Mantenga el programa dentro del tiempo. Acuerde la duración de cada reunión. Tome tiempo al comienzo del estudio para familiarizarse. Usted puede pedir que cada uno comparta su vida espiritual. Pida a Dios por su Espíritu para guiarlo en el tiempo de estudio. Mencione que el propósito del estudio bíblico no es solamente familiarizarse con los principios bíblicos, sino algo más esencial, llegar a ser amigos íntimos con una Persona – Jesucristo.</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344680" y="465120"/>
            <a:ext cx="2478240" cy="1859040"/>
          </a:xfrm>
          <a:prstGeom prst="rect">
            <a:avLst/>
          </a:prstGeom>
          <a:ln w="0">
            <a:noFill/>
          </a:ln>
        </p:spPr>
      </p:sp>
      <p:sp>
        <p:nvSpPr>
          <p:cNvPr id="30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pósito central del grupo pequeño de estudios bíblicos debe ser incentivar el aprendizaje de Jesús y el gozo de seguir en los pasos del Maestro de los Maestros. Comience a dirigir el tema señalado, con una pregunta de tipo familiar al comienzo de cada estudio. Presente una declaración simple y clara del propósito al presentar cada estudio o actividad. Tome tiempo para familiarizarse, comparta pedidos de oración e intereses de los estudiantes. Reserve un tiempo para orar por los problemas y necesidades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upo pequeño de estudios bíblicos, puede ser un tiempo para aprender a orar juntos y ayudar a cargar las cargas de otros. Esto animará al crecimiento espiritual. Apoye la participación de respuestas de oración espontáneas al cierre del estudio, o en cualquier tiempo durante el estudio cuando sea ú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mbiente del grupo también es importante. Incentive una atmósfera amigable con buena luz y ventilación. Busque un lugar que no sea muy cálido, ni muy frío. Siéntense en círculo si es posible, para tener un buen contacto de ojos. Guárdese de las distracciones cuanto más sea posible. Las mascotas, los niños, la TV o las radios pueden quitar la atención del estudio. Consiga alguien quién cuide a los niños si es nece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ija un promotor del grupo, pero anime a los otros del grupo a dar ideas y sugerencias. Cultive una actitud cordial y alentadora, sin espíritu de competencia o crítica. Mantenga en mente que el enfoque de la atención no es el promotor, sino la Biblia. Permita que el Espíritu Santo ayude a cada miembro de acuerdo a sus necesidades. El promotor debe intentar estimular la discusión con preguntas algo dificultosas, de tal manera que todos sean ayudados. Es una buena idea tener también un asistente del promotor – o uno en entrenamiento – para que en caso de emergencia que el promotor no pueda asistir, no se interrumpa el estudio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sensible – manténgase prevenido sobre cualquier situación desconcertante que se pueda levantar. Deje que los miembros más callados del grupo observen hasta que se sientan cómodos de participar con el grupo. Ayude a la persona que domina o crítica, a considerar a los otros. Solamente pida la participación personal de alguno, cuando vea que va a ser de beneficio para el grupo.</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2344680" y="465120"/>
            <a:ext cx="2478240" cy="1859040"/>
          </a:xfrm>
          <a:prstGeom prst="rect">
            <a:avLst/>
          </a:prstGeom>
          <a:ln w="0">
            <a:noFill/>
          </a:ln>
        </p:spPr>
      </p:sp>
      <p:sp>
        <p:nvSpPr>
          <p:cNvPr id="31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Confidencialidad</a:t>
            </a:r>
            <a:r>
              <a:rPr b="0" lang="es-ES_tradnl" sz="1200" spc="-1" strike="noStrike">
                <a:solidFill>
                  <a:srgbClr val="000000"/>
                </a:solidFill>
                <a:latin typeface="Garamond"/>
              </a:rPr>
              <a:t>: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do al tiempo de oración y la aplicación de las Escrituras, los miembros del grupo pueden manifestar ítems personales que son esenciales mantenerlos secretos en el grupo. Sería bueno recordar cada vez al grupo, de mantener la confidencia. Si alguien comenta acerca de estas cosas fuera del grupo, puede ser frustrante para el grupo de estudio.</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2514600" y="380880"/>
            <a:ext cx="2376360" cy="1782720"/>
          </a:xfrm>
          <a:prstGeom prst="rect">
            <a:avLst/>
          </a:prstGeom>
          <a:ln w="0">
            <a:noFill/>
          </a:ln>
        </p:spPr>
      </p:sp>
      <p:sp>
        <p:nvSpPr>
          <p:cNvPr id="312" name="PlaceHolder 2"/>
          <p:cNvSpPr>
            <a:spLocks noGrp="1"/>
          </p:cNvSpPr>
          <p:nvPr>
            <p:ph type="body"/>
          </p:nvPr>
        </p:nvSpPr>
        <p:spPr>
          <a:xfrm>
            <a:off x="701640" y="2133360"/>
            <a:ext cx="5927760" cy="6740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 leer la Palabra de Dios haga preguntas como estas (permita que el grupo comparta sus respue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ce la Biblia sobr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ce sobre de 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me pide que respo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jo a la gente para quienes fue escr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se puede aplicar a nuestr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aprendiste? ¿Qué observaste? ¿Qué descubr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tienes un grupo de estudio de mujeres, pregunta: ¿Cómo este pasaje se aplica especialmente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elicite al grupo de miembros que respondan y compartan lo que han aprendido en el tiempo de estudio. La aprobación y el reconocimiento estimulan a las personas a una gran actividad. Para involucrar a los demás al grupo o si alguien ha dado una respuesta equivocada, usted puede preguntar: ¿Qué los otros encuentran en ti? ¿Qué descubrió alguna otra persona? ó ¿Qué piensa el resto de 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a discusión se desvía demasiado del tema, usted podría decir: Lo que hemos estado discutiendo es interesante; quizás podríamos discutirlo en otro día. Luego presente una pregunta que invite a la reflexión y que conduzca de nuevo al grupo al tema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l buen oyente. Sea paciente, dé a los miembros tiempo para pensar. Evite la tensión o el conflicto al señalar a los miembros la Palabra de Dios como la autoridad final, en vez de la tradición o el razonamiento ilóg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ude decir, “No lo se”. Esté dispuesto a encontrar la respuesta, o deje que el grupo intente encontrar información sobre el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e ayudas visuales cuando sea posible para poner claridad a su t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mueva un tiempo de respuestas antes del cierre, haga preguntas tales como: ¿Qué encontraste de beneficioso en el tiempo de estudio? ó ¿Aprendiste algo nuevo en el tiempo de estudio? Luego agradezca a ellos por compartir sus pensami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l estudio de la Biblia se puede incluir un momento de oración y alabanza, petición y agradecimiento. Anime a cada miembro del grupo a orar, respondiendo al tiempo de estudio o a las necesidades del grupo. Las oraciones pueden ser breves y espontáneas. Haga saber al grupo que los momentos de silencio son buenos para dejar que Dios los impresione con su pres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número de personas en el grupo crece, haga planes para comenzar otro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EVANGELISMO AL ESTILO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vangelismo estilo seminario, es más formal que los Estudios Bíblicos Uno por Uno, o en Grupos Pequeños, pero no tan formal como una reunión de evangelismo de gran alcance. El evangelismo estilo seminario invita más al diálogo y la participación de lo que se podría tener ordinariamente en una reunión de evangelismo. He visto mujeres que lo hacen muy bien, dirigiendo y organizando un seminario. Un seminario puede ser pequeño, así como un grupo  pequeño, o lo suficientemente grande como para llenar un auditórium o iglesia. El estilo lo destaca.</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2344680" y="465120"/>
            <a:ext cx="2478240" cy="1859040"/>
          </a:xfrm>
          <a:prstGeom prst="rect">
            <a:avLst/>
          </a:prstGeom>
          <a:ln w="0">
            <a:noFill/>
          </a:ln>
        </p:spPr>
      </p:sp>
      <p:sp>
        <p:nvSpPr>
          <p:cNvPr id="31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y cuatro claves vitales para el éxito de cualquier esfuerzo de evangelismo y son muy importantes cuando se conducen seminarios</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arejas de oración orando por el éxito de cada reunión y sus participantes, aún cuando la reunión se está llevando a cabo.</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gente quiere oírle decir una y otra vez, que usted interpreta la Biblia (por ejemplo, Daniel) por lo que la Biblia dice; que usted deja que la Biblia se explique por sí misma. Nosotros no acudimos a enseñanzas humanas, a lo que escuchamos de los predicadores, ni miramos los eventos actuales para interpretar las Escrituras… sino que dejamos que la Biblia se explique por si sola.</a:t>
            </a:r>
            <a:r>
              <a:rPr b="0" lang="es-ES" sz="1200" spc="-1" strike="noStrike">
                <a:solidFill>
                  <a:srgbClr val="000000"/>
                </a:solidFill>
                <a:latin typeface="Arial"/>
              </a:rPr>
              <a:t>	</a:t>
            </a:r>
            <a:br>
              <a:rPr sz="1200"/>
            </a:br>
            <a:br>
              <a:rPr sz="1200"/>
            </a:b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2270160" y="304920"/>
            <a:ext cx="2182680" cy="1638360"/>
          </a:xfrm>
          <a:prstGeom prst="rect">
            <a:avLst/>
          </a:prstGeom>
          <a:ln w="0">
            <a:noFill/>
          </a:ln>
        </p:spPr>
      </p:sp>
      <p:sp>
        <p:nvSpPr>
          <p:cNvPr id="316" name="PlaceHolder 2"/>
          <p:cNvSpPr>
            <a:spLocks noGrp="1"/>
          </p:cNvSpPr>
          <p:nvPr>
            <p:ph type="body"/>
          </p:nvPr>
        </p:nvSpPr>
        <p:spPr>
          <a:xfrm>
            <a:off x="701280" y="1981080"/>
            <a:ext cx="5607000" cy="6437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s necesario que usted haga claro a la gente que está viniendo al seminario que su propósito es exaltar a Jesucristo; hable de Jesús; deje que la gente sepa que usted ama a Jesús, que usted tiene una relación personal con Él y que quiere que ellos tengan esa misma relación personal con Jesús. Esto no puede ser enfatizado de forma exagerada. Una relación íntima con Jesús es vital para que ellos lleguen al final del tiempo y entren en el reino de Dios.</a:t>
            </a:r>
            <a:br>
              <a:rPr sz="1200"/>
            </a:br>
            <a:r>
              <a:rPr b="0" lang="es-ES" sz="1200" spc="-1" strike="noStrike">
                <a:solidFill>
                  <a:srgbClr val="000000"/>
                </a:solidFill>
                <a:latin typeface="Arial"/>
              </a:rPr>
              <a:t>4.  Comparta con ellos que nuestro propósito de estudiar los eventos de los últimos días no es solo para que tengan un entendimiento detallado de los últimos días, sino también para ayudarlos a que se preparen para ese tiempo. Hágales saber que usted está más interesado en su preparación para el día del Señor que con el orden exacto de los eventos que van aconte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quipo de evangelismo en fu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 sabio intentar hacer un seminario de evangelismo a solas. Otros necesitan la experiencia y la bendición. No todos los dones espirituales son iguales y se necesitan de muchos diferentes talentos y personalidades para un programa de éxito. Conociendo lo que queremos hacer, ayudará a encontrar a las personas quienes pueden ayudar a hacer del programa un éxito. Otra razón para involucrar a muchas personas es que ellas desenvuelvan amistad con las personas que vend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 usted le piden que ayude con la inscripción o con el montaje o desmontaje del seminario, recuerde que esos trabajos son secundarios. Su primera prioridad es construir buenas relaciones con las personas que vienen. Seleccione dos o tres personas la primera noche, para que sean sus visitas especiales, sin desatender el ser amigo con todos. Lo que pasa es que usted probablemente solamente tendrá tiempo para estar cerca de dos o tre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llega a conocer a las visitas, siéntese con ellas en el seminario, aprenda sus nombres y llámelas por teléfono cuando faltan una noche – no para regañarlas por qué no han venido, sino para mostrarles que tenemos interés en ellas y estamos preocupados por su aus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está hablando con las personas, no comparta temas que vendrán más adelante. Espere que ellas estudien las primeras lecciones y escuchen el tema en el seminario antes que usted responda a sus preguntas, o usted puede referirlas a un instructor. Usted no querrá demostrar su conocimiento bíblico en el seminario dejando que todos conozcan lo que está viniendo. Si usted hace preguntas, asegúrese que estén en el tema. Espere hablar sobre Elena White cuando hayan estudiado acerca de ella en las lecciones. Las nuevas personas son como bebés, y tomarán un tiempo para aprender sobre cada c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mpatice con las visitas en su lucha por conocer la verdad. Un oído que escucha ayudará realmente. Condenar a alguien, sólo hace daño. Lo que si ayudará, es si usted conoce los problemas que alguien está pasando, compártalos con el instructo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2344680" y="465120"/>
            <a:ext cx="2478240" cy="1859040"/>
          </a:xfrm>
          <a:prstGeom prst="rect">
            <a:avLst/>
          </a:prstGeom>
          <a:ln w="0">
            <a:noFill/>
          </a:ln>
        </p:spPr>
      </p:sp>
      <p:sp>
        <p:nvSpPr>
          <p:cNvPr id="31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Mateo 28, Jesús nos dice hacer cuatro cos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I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Hacer discípu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Bautizar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Enséñales a obedecer todo lo que he orden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una iglesia atendemos bien a los miembros 1, 2, 3, y con el 4, lo hacemos mucho mejor antes del bautismo. Pero después del bautismo, no enseñamos, ni capacitamos bien. Esta es una de las razones por lo que perdemos much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 Corintios 3:2, Pablo dice que los Corintios son “</a:t>
            </a:r>
            <a:r>
              <a:rPr b="0" i="1" lang="es-ES" sz="1200" spc="-1" strike="noStrike">
                <a:solidFill>
                  <a:srgbClr val="000000"/>
                </a:solidFill>
                <a:latin typeface="Arial"/>
              </a:rPr>
              <a:t>niños en Cristo. Os dí a beber leche, y no vianda; porque aún no podíais, ni aún podéis ahora”.</a:t>
            </a:r>
            <a:r>
              <a:rPr b="0" lang="es-ES" sz="1200" spc="-1" strike="noStrike">
                <a:solidFill>
                  <a:srgbClr val="000000"/>
                </a:solidFill>
                <a:latin typeface="Arial"/>
              </a:rPr>
              <a:t> Debemos ser cuidadosos y no asumir que si una persona se bautiza, ya es un cristiano maduro, listo para comer alimento sólido. Nosotros debemos enseñar y modelar el gozo de la salvación. Debemos ser ejemplos, pacientes, amorosos y enseñarles que vayan a preparar a otros para el bautis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344680" y="465120"/>
            <a:ext cx="2478240" cy="1859040"/>
          </a:xfrm>
          <a:prstGeom prst="rect">
            <a:avLst/>
          </a:prstGeom>
          <a:ln w="0">
            <a:noFill/>
          </a:ln>
        </p:spPr>
      </p:sp>
      <p:sp>
        <p:nvSpPr>
          <p:cNvPr id="23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énfasis sobre evangelismo y ministerio combinados, hace un llamado a ministrar - a aquellos en necesidad física, emocional y material, así como también a evangelizar – a aquellos en necesidad espiritual. En la sección 1 de este seminario presentamos algunas ideas para el ministerio, observando de cerca los Seis Temas de Desafío que los Ministerios de la Mujer ha identificado; y cómo las mujeres pueden involucrarse en estos ministerios para ayudar a aquellas mujeres que enfrentan estos desafí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sección 2 miraremos el evangelismo con un énfasis específico en ideas para programas de alcance misionero.  En esta sección el énfasis se pondrá en cada tema de desafío y luego las ideas de cómo ministrar. De manera interesante, estos seis temas de desafío, que afectan a las mujeres de alrededor el mundo, están conectados estrechamente con los Ocho Objetivos del Milenio que fueron escritos y prometidos por todos los miembros de estado de las Naciones Unidas en su reunión del Milenio en el año 2000, y los desafíos que las mujeres enfrentan según lo observado por la Comisión sobre el Estatus de las Mujeres en su Conferencia de Beijing en 1995.</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2344680" y="465120"/>
            <a:ext cx="2478240" cy="1859040"/>
          </a:xfrm>
          <a:prstGeom prst="rect">
            <a:avLst/>
          </a:prstGeom>
          <a:ln w="0">
            <a:noFill/>
          </a:ln>
        </p:spPr>
      </p:sp>
      <p:sp>
        <p:nvSpPr>
          <p:cNvPr id="32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que tratar con paciencia y ternura a los recién llegados a la fe, y los miembros más antiguos de la iglesia tienen el deber de encontrar la forma de proporcionar ayuda, simpatía e instrucción para los que han salido de otras iglesias por amor a la verdad, y que en esta forma se han separado de la obra pastoral a la que habían estado acostumb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espués que las personas se han convertido a la verdad, es necesario cuidarlas. El celo de muchos ministros parece cesar tan pronto como cierta medida de éxito acompaña sus esfuerzos. No se dan cuenta de que muchos recién convertidos necesitan cuidados, atención vigilante, ayuda y estímulo. No se los debe dejar solos, a merced de las más poderosas tentaciones de Satanás; necesitan ser educados con respecto a sus deberes; hay que tratarlos bondadosamente, conducirlos, visitarlos y orar con ellos. Estas almas necesitan el alimento asignado a cada uno a su debido tiempo”. </a:t>
            </a:r>
            <a:r>
              <a:rPr b="0" i="1" lang="es-ES" sz="1200" spc="-1" strike="noStrike">
                <a:solidFill>
                  <a:srgbClr val="000000"/>
                </a:solidFill>
                <a:latin typeface="Arial"/>
              </a:rPr>
              <a:t>(Evangelismo, 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yudando a los nuevos miembros a sentirse en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se resisten al cambio, y cuando se bautizan, les pedimos que se cambien de iglesia, y si no han sido miembros de iglesia, que lo hagan, un cambio mucho más difícil. Les pedimos que cambien su día de adoración, los alimentos que comen, lo que beben, su recreación, algunas veces sus amigos y quizás sus trabajos. Necesitamos ser pacientes y ayudarlos durante este proc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mejores formas para ayudarlos a enfrentar todos estos cambios, es ayudándolos a llegar a ser cristianos maduros, es hacerse su amigo o por lo menos ver que ellos tengan nuevos amigos. Los estudios muestran que una persona necesita tener por lo menos seis o más amigos en una iglesia u organización antes que ellos se sientan en casa y estén dispuestos a permanecer. Entonces una parte importante en educar es ayudar al nuevo miembro a hacer nuevos amigo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2282760" y="380880"/>
            <a:ext cx="2386080" cy="1791000"/>
          </a:xfrm>
          <a:prstGeom prst="rect">
            <a:avLst/>
          </a:prstGeom>
          <a:ln w="0">
            <a:noFill/>
          </a:ln>
        </p:spPr>
      </p:sp>
      <p:sp>
        <p:nvSpPr>
          <p:cNvPr id="322" name="PlaceHolder 2"/>
          <p:cNvSpPr>
            <a:spLocks noGrp="1"/>
          </p:cNvSpPr>
          <p:nvPr>
            <p:ph type="body"/>
          </p:nvPr>
        </p:nvSpPr>
        <p:spPr>
          <a:xfrm>
            <a:off x="466200" y="2209680"/>
            <a:ext cx="5999400" cy="68580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Organice</a:t>
            </a:r>
            <a:r>
              <a:rPr b="0" lang="es-ES" sz="1200" spc="-1" strike="noStrike">
                <a:solidFill>
                  <a:srgbClr val="000000"/>
                </a:solidFill>
                <a:latin typeface="Arial"/>
              </a:rPr>
              <a:t> un comité de nuevos miembros – Este comité será responsable por la integración de los nuevos miembros. También se podrían asignar amigos especiales (guardianes espirituales) para cada miembro nuevo, para vigilarlos y ver que siempre estén act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anquete con los nuevos miembros – Reúnanse una o dos veces al año para presentar a los nuevos miembros. Los guardianes espirituales podrían presentar a esos nuevos miembros a la congregación para que hablen acerca de sus intereses, aficiones, como llegaron a la iglesia etc. Este comité debe estar formado sólo por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Visitación a los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  Una vez a la semana durante el primer 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  Una vez al mes durante el primer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  Deje libros especiales: Meditaciones Matinales, Espíritu de Profecía, revist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té atento a cualquier señal sobre problemas o ajustes (tales como: ausencia a la Escuela Sabática o a la iglesia, o frustración en hacer amigos). No se sorprenda con lo que algunos pueden hacer después del bautismo. Es difícil cambiar los estilos de vida de la noche a la mañana. Sea bondadoso, no los condene, permanezca con ellos, manténgalos leyendo y estudi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corporando a los nuevos miembros a los grupo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areje a los creyentes con alguien que tengan parecido, puede ser por edad, intereses, etc. Si alguien los ha traído o está con ellos, podrían ser los más indicados a ser el amigo especial ó guardián espiri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llamarlos amigos especiales en vez de guardianes. El amigo será responsable ante alguien más, quién asegurará que están actuando como amigos. Y sería mejor si ellos tienen dos amigos especiales, pues si uno no puede continuar, el otro está listo a hace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presentación excelente de la iglesia, es un Retiro de Nuevos Creyentes. Esto puede realizarse a nivel local o de la Asociación/Misión. Mucho del estilo de vida y actitudes adventistas son aceptadas fácil y placenteramente en un retiro. Es fácil aprender cómo guardar el Sábado cuando lo estamos guardando con otros. Es más divertido intentar una nueva dieta cuando lo intentamos junto con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formarán amistades maravillosas que ayudará a esas personas a sentir  que verdaderamente están en casa. Un conjunto de amigos de apoyo, ayudará a los nuevos creyentes a ser responsables y a soportar los tiempos difíciles. Es agradable entrenar y equipar a los nuevos miembros para que ellos hagan discípulos a otros. También es importante invitar a los nuevos miembros a un almuerzo o cena el Sábado. Se puede hacer un almuerzo de camaradería en la iglesia con los miembros nuevos y antiguos cada semana, esto ayuda a formar vínculos de amistades con los miembros más antiguos y maduros. Pero algunas veces las personas tímidas, poco atractivas y “diferentes” terminan siendo dejadas de lado y pasa mucho tiempo para que ellas puedan hacer amistades en la iglesia. Estas son las personas más aptas en dejar la iglesia en el futuro.</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2344680" y="465120"/>
            <a:ext cx="2478240" cy="1859040"/>
          </a:xfrm>
          <a:prstGeom prst="rect">
            <a:avLst/>
          </a:prstGeom>
          <a:ln w="0">
            <a:noFill/>
          </a:ln>
        </p:spPr>
      </p:sp>
      <p:sp>
        <p:nvSpPr>
          <p:cNvPr id="32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o que tomará tiempo para que los nuevos miembros cambien sus estilos de vida, lleguen a ser más concientes de su salud, y cambien sus hábitos en el comer, el ejercicio y otros hábitos saludables. Es necesario el entrenamiento para que ellos se ayuden en estas áreas. Este es un tiempo excelente para presentar los seminarios sugeridos bajo “Ideas para el Ministerio” en respuesta a aquellos asuntos en desafío. Generalmente los nuevos miembros están ansiosos y deseosos de hacer esos cambios si son apropiados, tomando lugar las buenas maneras y el entrenamiento. Muchas veces no es suficiente solo decir a la gente cómo cambiar su dieta – debemos mostrarles cómo hacerlas e invitarlas a nuestros hogares para servirnos los alimentos y aún invitarlos a compartir la preparación, antes que ellos se puedan sentir cómodos en hacer los cambios en sus propi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habla sobre los cambios no exagere lo que ellos están abandonando, sino enfóquese en lo que ellos están ganando al adoptar un nuevo esti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realice esos seminarios sobre salud para los nuevos miembros, anímelos a invitar a los demás miembros de su familia para que asistan con ellos a los seminario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344680" y="465120"/>
            <a:ext cx="2478240" cy="1859040"/>
          </a:xfrm>
          <a:prstGeom prst="rect">
            <a:avLst/>
          </a:prstGeom>
          <a:ln w="0">
            <a:noFill/>
          </a:ln>
        </p:spPr>
      </p:sp>
      <p:sp>
        <p:nvSpPr>
          <p:cNvPr id="32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Uno de los cambios más difíciles del estilo de vida, por supuesto que es el Sábad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Se debería pasar un tiempo discutiendo por qué Dios nos dio el Sábado.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2344680" y="465120"/>
            <a:ext cx="2478240" cy="1859040"/>
          </a:xfrm>
          <a:prstGeom prst="rect">
            <a:avLst/>
          </a:prstGeom>
          <a:ln w="0">
            <a:noFill/>
          </a:ln>
        </p:spPr>
      </p:sp>
      <p:sp>
        <p:nvSpPr>
          <p:cNvPr id="32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ríamos enfatizar una y otra vez que Dios nos dio el Sábado para que pudiéramos tener un tiempo maravilloso con Él, y para desarrollar una relación íntima y poderosa con Él. Así las nuevas personas no tendrán mucho problema con qué actividades vincularse el Sábado, pues ellas mismas decidirán qué hacer, sabiendo que Dios está personalmente con ellas en ese día, y querrán concentrarse en Él y estar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sonalmente deben pasar un tiempo en clases o seminarios, hablando sobre cómo prepararse para el Sábado y qué se debe hacer el Sábado. Mantenga el enfoque en asuntos positivo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2344680" y="465120"/>
            <a:ext cx="2478240" cy="1859040"/>
          </a:xfrm>
          <a:prstGeom prst="rect">
            <a:avLst/>
          </a:prstGeom>
          <a:ln w="0">
            <a:noFill/>
          </a:ln>
        </p:spPr>
      </p:sp>
      <p:sp>
        <p:nvSpPr>
          <p:cNvPr id="33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mejores maneras para ayudar a los nuevos miembros a que conozcan cómo guardar el Sábado es invitándolos a pasar con usted en su hogar. Invítelos para recibir el sábado los viernes por la noche, para el almuerzo del sábado, y el sábado por la tarde vayan juntos a la actividad misionera, a un culto, o a observar la naturaleza, finalmente despidan el sábado juntos. (Un amigo especial o consejero es la persona que hará esto con los nuevos miembros, o puede ser un grupo de personas que se hacen cargo de los nuevos miembro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344680" y="465120"/>
            <a:ext cx="2478240" cy="1859040"/>
          </a:xfrm>
          <a:prstGeom prst="rect">
            <a:avLst/>
          </a:prstGeom>
          <a:ln w="0">
            <a:noFill/>
          </a:ln>
        </p:spPr>
      </p:sp>
      <p:sp>
        <p:nvSpPr>
          <p:cNvPr id="33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osible que las mujeres se involucren en el evangelismo? ¡Por supuesto que si! ¿El mundo será advertido sin que las mujeres tomen una parte activa? ¡En este tiempo no, o quizás nun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jemos que el Espíritu Santo, ese don maravilloso del Señor, arda en nuestros corazones, para que nos dé poder para ayudar a terminar la obra, para acelerar la venida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sea, Ven Señor Jesús (Apocalipsis 22:2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344680" y="465120"/>
            <a:ext cx="2478240" cy="1859040"/>
          </a:xfrm>
          <a:prstGeom prst="rect">
            <a:avLst/>
          </a:prstGeom>
          <a:ln w="0">
            <a:noFill/>
          </a:ln>
        </p:spPr>
      </p:sp>
      <p:sp>
        <p:nvSpPr>
          <p:cNvPr id="23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os </a:t>
            </a:r>
            <a:r>
              <a:rPr b="1" lang="es-ES_tradnl" sz="1200" spc="-1" strike="noStrike">
                <a:solidFill>
                  <a:srgbClr val="000000"/>
                </a:solidFill>
                <a:latin typeface="Garamond"/>
              </a:rPr>
              <a:t>objetivos del desarrollo del Milenio de las Naciones Unidas son:</a:t>
            </a:r>
            <a:endParaRPr b="0" lang="en-US" sz="1200" spc="-1" strike="noStrike">
              <a:solidFill>
                <a:srgbClr val="000000"/>
              </a:solidFill>
              <a:latin typeface="Arial"/>
            </a:endParaRPr>
          </a:p>
          <a:p>
            <a:pPr marL="22860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rradicar la extrema pobreza y el hamb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lcance universal de la Educación prima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romover la igualdad de géneros y capacitación a las muj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Reducir la mortalidad infant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Mejorar la salud mate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Combatir el SIDA/HIV, la malaria y otras enfermeda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segurar la continuidad ambient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Desarrollar una sociedad global para el desarroll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344680" y="465120"/>
            <a:ext cx="2478240" cy="1859040"/>
          </a:xfrm>
          <a:prstGeom prst="rect">
            <a:avLst/>
          </a:prstGeom>
          <a:ln w="0">
            <a:noFill/>
          </a:ln>
        </p:spPr>
      </p:sp>
      <p:sp>
        <p:nvSpPr>
          <p:cNvPr id="23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Seis Temas de Desafío que enfocamos en los Ministerios de la Mujer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Riesgos de la sal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argas de trabajo de la muj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Pobre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Falta de entrenamiento, experiencia y oportunidade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u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 Analfabetis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nción de los Ministerios de la Mujer es asociar el evangelismo y el ministerio a aquellos en necesidad, encarando los Seis Temas de Desafío, promoviendo ministerios para cada desafío, y continuar promoviendo el evangelismo en sus muchas y variadas forma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344680" y="465120"/>
            <a:ext cx="2478240" cy="1859040"/>
          </a:xfrm>
          <a:prstGeom prst="rect">
            <a:avLst/>
          </a:prstGeom>
          <a:ln w="0">
            <a:noFill/>
          </a:ln>
        </p:spPr>
      </p:sp>
      <p:sp>
        <p:nvSpPr>
          <p:cNvPr id="23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1</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Riesgos de la 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alud de las mujeres incluye su bienestar físico, social y emocional que está directamente afectado por factores económicos, políticos y sociales. La calidad de la salud de una mujer impacta directamente su vida y su bienestar, su familia y la soc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vía las mujeres de alrededor del mundo son aún víctimas de una salud po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os problemas importantes de salud que las mujeres afrontan son HIV/SIDA, salud maternal, estilo de vida saludable, cáncer, depresión, síndrome de fatiga crónica, desórdenes al comer, enfermedades del corazón, diabetes, osteoporosis, hipertensión y el cigarrillo. (Ver apéndice 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344680" y="465120"/>
            <a:ext cx="2478240" cy="1859040"/>
          </a:xfrm>
          <a:prstGeom prst="rect">
            <a:avLst/>
          </a:prstGeom>
          <a:ln w="0">
            <a:noFill/>
          </a:ln>
        </p:spPr>
      </p:sp>
      <p:sp>
        <p:nvSpPr>
          <p:cNvPr id="238" name="PlaceHolder 2"/>
          <p:cNvSpPr>
            <a:spLocks noGrp="1"/>
          </p:cNvSpPr>
          <p:nvPr>
            <p:ph type="body"/>
          </p:nvPr>
        </p:nvSpPr>
        <p:spPr>
          <a:xfrm>
            <a:off x="1463400" y="2401560"/>
            <a:ext cx="508932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Programas sobre colesterol/presión sanguínea</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Blood pressure/cholesterol programs,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Osteoporosis prevention,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xercise,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eight control,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Vegetarian cook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B6B07-0903-4F9F-951A-031770350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383E9-2840-48DC-91AB-9ED21648E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75B0C-43C6-44A7-B9FE-A5C08695D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2FC56-5D15-47D3-BA6F-960F618CD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6BB16-6F5D-455F-832F-128F9C27E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B56C1-48D9-4C54-A2AD-74D754646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4777D-4D88-47A9-8FBA-BCBBDD360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EB299-D2A9-4542-9290-8CBBBF648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4A65B-6A50-4F40-B4A1-C07EEACC5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806C7-AE29-4566-A41F-7E7465476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42F2A-EA9D-4E1A-BAA0-B5B227D58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B3620-9B78-4070-8959-3BC84BF75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822A-5101-4386-9BA8-DBCE000206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20520"/>
            <a:ext cx="9144000" cy="6949800"/>
          </a:xfrm>
          <a:prstGeom prst="rect">
            <a:avLst/>
          </a:prstGeom>
          <a:ln w="0">
            <a:noFill/>
          </a:ln>
        </p:spPr>
      </p:pic>
      <p:sp>
        <p:nvSpPr>
          <p:cNvPr id="51" name=""/>
          <p:cNvSpPr/>
          <p:nvPr/>
        </p:nvSpPr>
        <p:spPr>
          <a:xfrm>
            <a:off x="371160" y="76320"/>
            <a:ext cx="60663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Programa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de alcance Misionero</a:t>
            </a:r>
            <a:endParaRPr b="0" lang="en-US" sz="4400" spc="-1" strike="noStrike">
              <a:solidFill>
                <a:srgbClr val="000000"/>
              </a:solidFill>
              <a:latin typeface="Arial"/>
            </a:endParaRPr>
          </a:p>
        </p:txBody>
      </p:sp>
      <p:sp>
        <p:nvSpPr>
          <p:cNvPr id="52" name=""/>
          <p:cNvSpPr txBox="1"/>
          <p:nvPr/>
        </p:nvSpPr>
        <p:spPr>
          <a:xfrm>
            <a:off x="5310360" y="5105520"/>
            <a:ext cx="31478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rPr>
              <a:t>Ministerios de la Mujer</a:t>
            </a:r>
            <a:endParaRPr b="0" lang="en-US" sz="24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
        <p:nvSpPr>
          <p:cNvPr id="53" name=""/>
          <p:cNvSpPr/>
          <p:nvPr/>
        </p:nvSpPr>
        <p:spPr>
          <a:xfrm>
            <a:off x="5190480" y="5637240"/>
            <a:ext cx="2187720" cy="825480"/>
          </a:xfrm>
          <a:prstGeom prst="rect">
            <a:avLst/>
          </a:prstGeom>
          <a:noFill/>
          <a:ln w="0">
            <a:noFill/>
          </a:ln>
          <a:effectLst>
            <a:outerShdw dist="52300" dir="836435"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ernhardMod BT"/>
              </a:rPr>
              <a:t>Cert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ernhardMod BT"/>
              </a:rPr>
              <a:t>de Liderazgo</a:t>
            </a:r>
            <a:endParaRPr b="0" lang="en-US" sz="2400" spc="-1" strike="noStrike">
              <a:solidFill>
                <a:srgbClr val="000000"/>
              </a:solidFill>
              <a:latin typeface="Arial"/>
            </a:endParaRPr>
          </a:p>
        </p:txBody>
      </p:sp>
      <p:sp>
        <p:nvSpPr>
          <p:cNvPr id="54" name=""/>
          <p:cNvSpPr/>
          <p:nvPr/>
        </p:nvSpPr>
        <p:spPr>
          <a:xfrm>
            <a:off x="6896160" y="5638680"/>
            <a:ext cx="1714320" cy="152640"/>
          </a:xfrm>
          <a:prstGeom prst="rect">
            <a:avLst/>
          </a:prstGeom>
          <a:noFill/>
          <a:ln w="0">
            <a:noFill/>
          </a:ln>
          <a:effectLst>
            <a:outerShdw dist="40186" dir="1096358"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ernhardMod BT"/>
              </a:rPr>
              <a:t>Nivel</a:t>
            </a:r>
            <a:endParaRPr b="0" lang="en-US" sz="1400" spc="-1" strike="noStrike">
              <a:solidFill>
                <a:srgbClr val="000000"/>
              </a:solidFill>
              <a:latin typeface="Arial"/>
            </a:endParaRPr>
          </a:p>
        </p:txBody>
      </p:sp>
      <p:sp>
        <p:nvSpPr>
          <p:cNvPr id="55" name=""/>
          <p:cNvSpPr/>
          <p:nvPr/>
        </p:nvSpPr>
        <p:spPr>
          <a:xfrm>
            <a:off x="7543800" y="5638680"/>
            <a:ext cx="762120" cy="1008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BernhardMod BT"/>
              </a:rPr>
              <a:t>3</a:t>
            </a:r>
            <a:endParaRPr b="0" lang="en-US" sz="6000" spc="-1" strike="noStrike">
              <a:solidFill>
                <a:srgbClr val="000000"/>
              </a:solidFill>
              <a:latin typeface="Arial"/>
            </a:endParaRPr>
          </a:p>
        </p:txBody>
      </p:sp>
      <p:sp>
        <p:nvSpPr>
          <p:cNvPr id="56" name=""/>
          <p:cNvSpPr/>
          <p:nvPr/>
        </p:nvSpPr>
        <p:spPr>
          <a:xfrm>
            <a:off x="685800" y="2209680"/>
            <a:ext cx="376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CopprplGoth Bd BT"/>
              </a:rPr>
              <a:t>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pprplGoth Bd BT"/>
              </a:rPr>
              <a:t>Heather –Dawn Sm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
        <p:nvSpPr>
          <p:cNvPr id="83" name="PlaceHolder 2"/>
          <p:cNvSpPr>
            <a:spLocks noGrp="1"/>
          </p:cNvSpPr>
          <p:nvPr>
            <p:ph/>
          </p:nvPr>
        </p:nvSpPr>
        <p:spPr>
          <a:xfrm>
            <a:off x="533520" y="304920"/>
            <a:ext cx="8229600" cy="5410080"/>
          </a:xfrm>
          <a:prstGeom prst="rect">
            <a:avLst/>
          </a:prstGeom>
          <a:noFill/>
          <a:ln w="0">
            <a:noFill/>
          </a:ln>
        </p:spPr>
        <p:txBody>
          <a:bodyPr lIns="90000" rIns="90000" tIns="46800" bIns="46800" anchor="t">
            <a:normAutofit/>
          </a:bodyPr>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de nutrició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Detección del cáncer/concienciació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sobre salud productiva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para consuelo por pérdida o muerte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ducción del stress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sobre cuidado y prevención del SIDA/HIV</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y clases de asistencia y cuidados médicos</a:t>
            </a:r>
            <a:endParaRPr b="0" lang="en-US" sz="2800" spc="-1" strike="noStrike">
              <a:solidFill>
                <a:srgbClr val="000000"/>
              </a:solidFill>
              <a:latin typeface="Arial"/>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76320" y="1440"/>
            <a:ext cx="9220320" cy="6932880"/>
          </a:xfrm>
          <a:prstGeom prst="rect">
            <a:avLst/>
          </a:prstGeom>
          <a:ln w="0">
            <a:noFill/>
          </a:ln>
        </p:spPr>
      </p:pic>
      <p:sp>
        <p:nvSpPr>
          <p:cNvPr id="85" name="PlaceHolder 1"/>
          <p:cNvSpPr>
            <a:spLocks noGrp="1"/>
          </p:cNvSpPr>
          <p:nvPr>
            <p:ph/>
          </p:nvPr>
        </p:nvSpPr>
        <p:spPr>
          <a:xfrm>
            <a:off x="152280" y="1600200"/>
            <a:ext cx="86868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uchas laboran tiempo completo, con bajos pagos y además tienen el cuidado del hogar y la familia.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gunas enfrentan el desafío de hacer el 80% del trabajo de agricultura del mundo, lo que incluye días de largo trabajo y salarios bajos, luego hacen horas adicionales con el trabajo de la casa y el cuidado de los hijos, con acceso limitado a las necesidades básicas. </a:t>
            </a:r>
            <a:endParaRPr b="0" lang="en-US" sz="3200" spc="-1" strike="noStrike">
              <a:solidFill>
                <a:srgbClr val="000000"/>
              </a:solidFill>
              <a:latin typeface="Arial"/>
            </a:endParaRPr>
          </a:p>
        </p:txBody>
      </p:sp>
      <p:sp>
        <p:nvSpPr>
          <p:cNvPr id="86" name="PlaceHolder 2"/>
          <p:cNvSpPr>
            <a:spLocks noGrp="1"/>
          </p:cNvSpPr>
          <p:nvPr>
            <p:ph type="title"/>
          </p:nvPr>
        </p:nvSpPr>
        <p:spPr>
          <a:xfrm>
            <a:off x="45720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Tema </a:t>
            </a:r>
            <a:r>
              <a:rPr b="1" lang="en-US" sz="4000" spc="-1" strike="noStrike">
                <a:solidFill>
                  <a:srgbClr val="ffffff"/>
                </a:solidFill>
                <a:latin typeface="CopprplGoth Bd BT"/>
              </a:rPr>
              <a:t>2. LA CARGA DE TRABAJO DE LAS MUJE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 descr=""/>
          <p:cNvPicPr/>
          <p:nvPr/>
        </p:nvPicPr>
        <p:blipFill>
          <a:blip r:embed="rId1"/>
          <a:stretch/>
        </p:blipFill>
        <p:spPr>
          <a:xfrm>
            <a:off x="-76320" y="1440"/>
            <a:ext cx="9220320" cy="6932880"/>
          </a:xfrm>
          <a:prstGeom prst="rect">
            <a:avLst/>
          </a:prstGeom>
          <a:ln w="0">
            <a:noFill/>
          </a:ln>
        </p:spPr>
      </p:pic>
      <p:sp>
        <p:nvSpPr>
          <p:cNvPr id="89" name="PlaceHolder 2"/>
          <p:cNvSpPr>
            <a:spLocks noGrp="1"/>
          </p:cNvSpPr>
          <p:nvPr>
            <p:ph/>
          </p:nvPr>
        </p:nvSpPr>
        <p:spPr>
          <a:xfrm>
            <a:off x="151920" y="609120"/>
            <a:ext cx="8610840" cy="4953240"/>
          </a:xfrm>
          <a:prstGeom prst="rect">
            <a:avLst/>
          </a:prstGeom>
          <a:noFill/>
          <a:ln w="0">
            <a:noFill/>
          </a:ln>
        </p:spPr>
        <p:txBody>
          <a:bodyPr lIns="90000" rIns="90000" tIns="46800" bIns="46800" anchor="t">
            <a:normAutofit/>
          </a:bodyPr>
          <a:p>
            <a:pPr marL="343080" indent="-343080">
              <a:lnSpc>
                <a:spcPct val="8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Otras enfrentan los malabarismos de las expectativas de la sociedad para mantener una familia intacta y saludable, mientras laboran en un ambiente de trabajo altamente competitivo que resulta en días largos, con limitado descanso y recreación, y sólo un tiempo mínimo para Dios.  </a:t>
            </a:r>
            <a:endParaRPr b="0" lang="en-US" sz="3200" spc="-1" strike="noStrike">
              <a:solidFill>
                <a:srgbClr val="000000"/>
              </a:solidFill>
              <a:latin typeface="Arial"/>
            </a:endParaRPr>
          </a:p>
          <a:p>
            <a:pPr marL="343080" indent="-343080">
              <a:lnSpc>
                <a:spcPct val="8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Algunas, aún tienen que pasar largas y peligrosas horas para obtener agua, combustible y otras necesidades, a la vez que tienen a su cargo el cuidado de una familia numero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 name="" descr=""/>
          <p:cNvPicPr/>
          <p:nvPr/>
        </p:nvPicPr>
        <p:blipFill>
          <a:blip r:embed="rId1"/>
          <a:stretch/>
        </p:blipFill>
        <p:spPr>
          <a:xfrm>
            <a:off x="-76320" y="1440"/>
            <a:ext cx="9220320" cy="6932880"/>
          </a:xfrm>
          <a:prstGeom prst="rect">
            <a:avLst/>
          </a:prstGeom>
          <a:ln w="0">
            <a:noFill/>
          </a:ln>
        </p:spPr>
      </p:pic>
      <p:sp>
        <p:nvSpPr>
          <p:cNvPr id="92" name="PlaceHolder 2"/>
          <p:cNvSpPr>
            <a:spLocks noGrp="1"/>
          </p:cNvSpPr>
          <p:nvPr>
            <p:ph/>
          </p:nvPr>
        </p:nvSpPr>
        <p:spPr>
          <a:xfrm>
            <a:off x="457200" y="12189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mujeres en áreas rurales son mayormente obreras no pagadas. </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estadísticas muestran que 2/3 de la población no alfabetizada del mundo y 1/3 de todas las cabezas de familias, son mujeres y todavía ellas realizan 2/3 del trabajo del mund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76320" y="0"/>
            <a:ext cx="9220320" cy="6934320"/>
          </a:xfrm>
          <a:prstGeom prst="rect">
            <a:avLst/>
          </a:prstGeom>
          <a:ln w="0">
            <a:noFill/>
          </a:ln>
        </p:spPr>
      </p:pic>
      <p:sp>
        <p:nvSpPr>
          <p:cNvPr id="94" name="PlaceHolder 1"/>
          <p:cNvSpPr>
            <a:spLocks noGrp="1"/>
          </p:cNvSpPr>
          <p:nvPr>
            <p:ph/>
          </p:nvPr>
        </p:nvSpPr>
        <p:spPr>
          <a:xfrm>
            <a:off x="761760" y="1371600"/>
            <a:ext cx="78483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dministración d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minarios de organ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lases de administr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lases de negocios pequeñ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uto estim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bilidades para estudiar la Bibl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minario para madres trabajador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5" name="PlaceHolder 2"/>
          <p:cNvSpPr>
            <a:spLocks noGrp="1"/>
          </p:cNvSpPr>
          <p:nvPr>
            <p:ph type="title"/>
          </p:nvPr>
        </p:nvSpPr>
        <p:spPr>
          <a:xfrm>
            <a:off x="15228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228600" y="1219320"/>
            <a:ext cx="8686800" cy="4525920"/>
          </a:xfrm>
          <a:prstGeom prst="rect">
            <a:avLst/>
          </a:prstGeom>
          <a:noFill/>
          <a:ln w="0">
            <a:noFill/>
          </a:ln>
        </p:spPr>
        <p:txBody>
          <a:bodyPr lIns="90000" rIns="90000" tIns="46800" bIns="46800" anchor="t">
            <a:normAutofit/>
          </a:bodyPr>
          <a:p>
            <a:pPr marL="34308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El informe de UNIFEM </a:t>
            </a:r>
            <a:endParaRPr b="0" lang="en-US" sz="3000" spc="-1" strike="noStrike">
              <a:solidFill>
                <a:srgbClr val="000000"/>
              </a:solidFill>
              <a:latin typeface="Arial"/>
            </a:endParaRPr>
          </a:p>
          <a:p>
            <a:pPr marL="34308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t>
            </a:r>
            <a:r>
              <a:rPr b="1" lang="es-ES" sz="3200" spc="-1" strike="noStrike">
                <a:solidFill>
                  <a:srgbClr val="000000"/>
                </a:solidFill>
                <a:latin typeface="Arial"/>
              </a:rPr>
              <a:t>Progresos de las mujeres</a:t>
            </a:r>
            <a:r>
              <a:rPr b="1" lang="es-ES" sz="3000" spc="-1" strike="noStrike">
                <a:solidFill>
                  <a:srgbClr val="000000"/>
                </a:solidFill>
                <a:latin typeface="Arial"/>
              </a:rPr>
              <a:t> del mundo 2005”</a:t>
            </a:r>
            <a:r>
              <a:rPr b="1" lang="en-US" sz="3000" spc="-1" strike="noStrike">
                <a:solidFill>
                  <a:srgbClr val="000000"/>
                </a:solidFill>
                <a:latin typeface="Arial"/>
              </a:rPr>
              <a:t> </a:t>
            </a:r>
            <a:endParaRPr b="0" lang="en-US" sz="30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t>
            </a:r>
            <a:r>
              <a:rPr b="0" lang="es-ES" sz="3200" spc="-1" strike="noStrike">
                <a:solidFill>
                  <a:srgbClr val="000000"/>
                </a:solidFill>
                <a:latin typeface="Arial"/>
              </a:rPr>
              <a:t> pesar de la igualdad en la educación primaria, la desigualdad es aún amplia en la educación secundaria y superior – ambas cada vez más son requeridas para las nuevas oportunidades de emple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a:t>
            </a:r>
            <a:r>
              <a:rPr b="1" lang="en-US" sz="4400" spc="-1" strike="noStrike">
                <a:solidFill>
                  <a:srgbClr val="ffffff"/>
                </a:solidFill>
                <a:latin typeface="CopprplGoth Bd BT"/>
              </a:rPr>
              <a:t> 3. POBREZ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457200" y="2103480"/>
            <a:ext cx="8305920" cy="36115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mujeres están concentradas en empleos precarios donde las ganancias son bajas. En los países desarrollados, las mujeres abarcan la mayoría de los trabajos de medio tiempo o temporarios.</a:t>
            </a:r>
            <a:r>
              <a:rPr b="1" lang="es-E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2.   </a:t>
            </a:r>
            <a:r>
              <a:rPr b="1" lang="es-ES" sz="2800" spc="-1" strike="noStrike">
                <a:solidFill>
                  <a:srgbClr val="000000"/>
                </a:solidFill>
                <a:latin typeface="Arial"/>
              </a:rPr>
              <a:t>Dentro de las categorías de empleo, los ingresos por hora y mensuales de las mujeres son generalmente más bajos que el de los hombres.</a:t>
            </a:r>
            <a:endParaRPr b="0" lang="en-US" sz="2800" spc="-1" strike="noStrike">
              <a:solidFill>
                <a:srgbClr val="000000"/>
              </a:solidFill>
              <a:latin typeface="Arial"/>
            </a:endParaRPr>
          </a:p>
        </p:txBody>
      </p:sp>
      <p:sp>
        <p:nvSpPr>
          <p:cNvPr id="101" name="PlaceHolder 2"/>
          <p:cNvSpPr>
            <a:spLocks noGrp="1"/>
          </p:cNvSpPr>
          <p:nvPr>
            <p:ph type="title"/>
          </p:nvPr>
        </p:nvSpPr>
        <p:spPr>
          <a:xfrm>
            <a:off x="-360" y="380880"/>
            <a:ext cx="9372600" cy="144792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Cuatro áreas que tratan con la desigualdad de géneros </a:t>
            </a:r>
            <a:br>
              <a:rPr sz="4000"/>
            </a:br>
            <a:r>
              <a:rPr b="1" lang="es-ES_tradnl" sz="4000" spc="-1" strike="noStrike">
                <a:solidFill>
                  <a:srgbClr val="ffffff"/>
                </a:solidFill>
                <a:latin typeface="CopprplGoth Bd BT"/>
              </a:rPr>
              <a:t>en el empleo</a:t>
            </a:r>
            <a:r>
              <a:rPr b="0" lang="en-US" sz="4000" spc="-1" strike="noStrike">
                <a:solidFill>
                  <a:srgbClr val="ffffff"/>
                </a:solidFill>
                <a:latin typeface="CopprplGoth Bd BT"/>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p:nvPr>
        </p:nvSpPr>
        <p:spPr>
          <a:xfrm>
            <a:off x="-360" y="304920"/>
            <a:ext cx="8915400" cy="5410080"/>
          </a:xfrm>
          <a:prstGeom prst="rect">
            <a:avLst/>
          </a:prstGeom>
          <a:noFill/>
          <a:ln w="0">
            <a:noFill/>
          </a:ln>
        </p:spPr>
        <p:txBody>
          <a:bodyPr lIns="90000" rIns="90000" tIns="46800" bIns="46800" anchor="t">
            <a:normAutofit/>
          </a:bodyPr>
          <a:p>
            <a:pPr marL="609480" indent="-609480">
              <a:lnSpc>
                <a:spcPct val="80000"/>
              </a:lnSpc>
              <a:spcBef>
                <a:spcPts val="62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El promedio de horas de trabajo de las mujeres es menor que el trabajo pagado que hacen los hombres</a:t>
            </a:r>
            <a:r>
              <a:rPr b="0" lang="es-ES" sz="2500" spc="-1" strike="noStrike">
                <a:solidFill>
                  <a:srgbClr val="000000"/>
                </a:solidFill>
                <a:latin typeface="Arial"/>
              </a:rPr>
              <a:t>.</a:t>
            </a: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4.</a:t>
            </a:r>
            <a:r>
              <a:rPr b="1" lang="es-ES" sz="2500" spc="-1" strike="noStrike">
                <a:solidFill>
                  <a:srgbClr val="000000"/>
                </a:solidFill>
                <a:latin typeface="Arial"/>
              </a:rPr>
              <a:t>	</a:t>
            </a:r>
            <a:r>
              <a:rPr b="1" lang="es-ES" sz="2500" spc="-1" strike="noStrike">
                <a:solidFill>
                  <a:srgbClr val="000000"/>
                </a:solidFill>
                <a:latin typeface="Arial"/>
              </a:rPr>
              <a:t>A pesar de las bajas ganancias y la naturaleza precaria de muchos trabajos pagados de las mujeres, tanto en los países desarrollados como los en desarrollo, la participación de la fuerza laborar de las mujeres puede ayudar a mantener una familia fuera de la pobreza</a:t>
            </a:r>
            <a:r>
              <a:rPr b="0" lang="es-ES" sz="2500" spc="-1" strike="noStrike">
                <a:solidFill>
                  <a:srgbClr val="000000"/>
                </a:solidFill>
                <a:latin typeface="Arial"/>
              </a:rPr>
              <a:t> </a:t>
            </a:r>
            <a:r>
              <a:rPr b="1" lang="en-US" sz="2500" spc="-1" strike="noStrike">
                <a:solidFill>
                  <a:srgbClr val="000000"/>
                </a:solidFill>
                <a:latin typeface="CopprplGoth Bd BT"/>
              </a:rPr>
              <a:t>.</a:t>
            </a:r>
            <a:endParaRPr b="0" lang="en-US" sz="2500" spc="-1" strike="noStrike">
              <a:solidFill>
                <a:srgbClr val="000000"/>
              </a:solidFill>
              <a:latin typeface="Arial"/>
            </a:endParaRPr>
          </a:p>
          <a:p>
            <a:pPr marL="609480" indent="0">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opprplGoth Bd BT"/>
              </a:rPr>
              <a:t> </a:t>
            </a:r>
            <a:r>
              <a:rPr b="0" i="1" lang="es-ES" sz="2500" spc="-1" strike="noStrike">
                <a:solidFill>
                  <a:srgbClr val="0000cc"/>
                </a:solidFill>
                <a:latin typeface="Arial"/>
              </a:rPr>
              <a:t>De acuerdo a los “Objetivos de desarrollo del milenio 2005”</a:t>
            </a:r>
            <a:endParaRPr b="0" lang="en-US" sz="25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rplGoth Bd BT"/>
              </a:rPr>
              <a:t>	</a:t>
            </a:r>
            <a:r>
              <a:rPr b="1" lang="es-ES_tradnl" sz="2000" spc="-1" strike="noStrike">
                <a:solidFill>
                  <a:srgbClr val="0000cc"/>
                </a:solidFill>
                <a:latin typeface="Arial"/>
              </a:rPr>
              <a:t>“</a:t>
            </a:r>
            <a:r>
              <a:rPr b="1" lang="es-ES_tradnl" sz="2000" spc="-1" strike="noStrike">
                <a:solidFill>
                  <a:srgbClr val="0000cc"/>
                </a:solidFill>
                <a:latin typeface="Arial"/>
              </a:rPr>
              <a:t>El acceso de mujeres a empleos pagados es más bajo que el de los hombres en la mayoría de los países en desarrollo… Las mujeres son menos probables que los hombres para poseer trabajos regulares y pagados y más probables a trabajos de economía informal, lo cual provee poca seguridad financiera” </a:t>
            </a:r>
            <a:r>
              <a:rPr b="1" lang="es-ES_tradnl" sz="2000" spc="-1" strike="noStrike">
                <a:solidFill>
                  <a:srgbClr val="0000cc"/>
                </a:solidFill>
                <a:latin typeface="CopprplGoth Bd BT"/>
              </a:rPr>
              <a:t>(UN 2005).</a:t>
            </a:r>
            <a:endParaRPr b="0" lang="en-US" sz="2000" spc="-1" strike="noStrike">
              <a:solidFill>
                <a:srgbClr val="000000"/>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1066680" y="1295280"/>
            <a:ext cx="8229600" cy="41911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sarrollo de negocios pequeño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administración del diner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sobre preparación para la jubilación,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utoría profesional,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dministración del tiemp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paración del presupuest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Grupos de apoyo a las viudas, </a:t>
            </a:r>
            <a:endParaRPr b="0" lang="en-US" sz="28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ducción de débitos</a:t>
            </a:r>
            <a:r>
              <a:rPr b="1" lang="es-ES"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06"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6320" y="1440"/>
            <a:ext cx="9220320" cy="6932880"/>
          </a:xfrm>
          <a:prstGeom prst="rect">
            <a:avLst/>
          </a:prstGeom>
          <a:ln w="0">
            <a:noFill/>
          </a:ln>
        </p:spPr>
      </p:pic>
      <p:sp>
        <p:nvSpPr>
          <p:cNvPr id="108" name="PlaceHolder 1"/>
          <p:cNvSpPr>
            <a:spLocks noGrp="1"/>
          </p:cNvSpPr>
          <p:nvPr>
            <p:ph/>
          </p:nvPr>
        </p:nvSpPr>
        <p:spPr>
          <a:xfrm>
            <a:off x="228240" y="1523880"/>
            <a:ext cx="8458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Las mujeres siempre han trabajado en el hogar, apoyando al esposo y su familia, otras lo hacen por salario. También siempre han estado involucradas en la iglesia, pero raramente han tomado roles de hacer decisiones o de liderazgo. En este tiempo, la Iglesia necesita mujeres que se involucren, por lo tanto necesitan saber como liderar. Necesitan oportunidades de liderazgo, entrenamiento y orientación. Debemos aplicar Tito 2:1-3.</a:t>
            </a:r>
            <a:endParaRPr b="0" lang="en-US" sz="2800" spc="-1" strike="noStrike">
              <a:solidFill>
                <a:srgbClr val="000000"/>
              </a:solidFill>
              <a:latin typeface="Arial"/>
            </a:endParaRPr>
          </a:p>
        </p:txBody>
      </p:sp>
      <p:sp>
        <p:nvSpPr>
          <p:cNvPr id="109" name="PlaceHolder 2"/>
          <p:cNvSpPr>
            <a:spLocks noGrp="1"/>
          </p:cNvSpPr>
          <p:nvPr>
            <p:ph type="title"/>
          </p:nvPr>
        </p:nvSpPr>
        <p:spPr>
          <a:xfrm>
            <a:off x="76320" y="304560"/>
            <a:ext cx="86868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CopprplGoth Bd BT"/>
              </a:rPr>
              <a:t>Tema</a:t>
            </a:r>
            <a:r>
              <a:rPr b="1" lang="en-US" sz="3600" spc="-1" strike="noStrike">
                <a:solidFill>
                  <a:srgbClr val="ffffff"/>
                </a:solidFill>
                <a:latin typeface="CopprplGoth Bd BT"/>
              </a:rPr>
              <a:t> 4. FALTA DE ENTRENAMIENTO, EXPERIENCIA Y OPORTUN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151920" y="1569960"/>
            <a:ext cx="8458200" cy="42213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600" spc="-1" strike="noStrike">
                <a:solidFill>
                  <a:srgbClr val="000000"/>
                </a:solidFill>
                <a:latin typeface="Arial"/>
              </a:rPr>
              <a:t>El Espíritu del Señor omnipotente está sobre mí, por cuanto me ha ungido para anunciar buenas nuevas a los pobres. Me ha enviado a sanar los corazones heridos, a proclamar liberación a los cautivos y libertad a los prisioneros, a pregonar el año del favor del Señor y el día de la venganza de nuestro Dios,</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59"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6600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Isaías</a:t>
            </a:r>
            <a:r>
              <a:rPr b="1" lang="en-US" sz="4000" spc="-1" strike="noStrike">
                <a:solidFill>
                  <a:srgbClr val="ffffff"/>
                </a:solidFill>
                <a:latin typeface="CopprplGoth Bd BT"/>
              </a:rPr>
              <a:t> 61:1-3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76320" y="0"/>
            <a:ext cx="9220320" cy="6934320"/>
          </a:xfrm>
          <a:prstGeom prst="rect">
            <a:avLst/>
          </a:prstGeom>
          <a:ln w="0">
            <a:noFill/>
          </a:ln>
        </p:spPr>
      </p:pic>
      <p:sp>
        <p:nvSpPr>
          <p:cNvPr id="111" name="PlaceHolder 1"/>
          <p:cNvSpPr>
            <a:spLocks noGrp="1"/>
          </p:cNvSpPr>
          <p:nvPr>
            <p:ph/>
          </p:nvPr>
        </p:nvSpPr>
        <p:spPr>
          <a:xfrm>
            <a:off x="609480" y="144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iderazgo de entrenami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ogramas de consejerí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lases de comunicac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sobre procesos parlamentario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misiones de los Ministerios de la Muj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Dones Espiritu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organización y estructura de la Igles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p:nvPr>
        </p:nvSpPr>
        <p:spPr>
          <a:xfrm>
            <a:off x="457200" y="1874880"/>
            <a:ext cx="8229600" cy="3230640"/>
          </a:xfrm>
          <a:prstGeom prst="rect">
            <a:avLst/>
          </a:prstGeom>
          <a:noFill/>
          <a:ln w="0">
            <a:noFill/>
          </a:ln>
        </p:spPr>
        <p:txBody>
          <a:bodyPr lIns="90000" rIns="90000" tIns="46800" bIns="46800" anchor="t">
            <a:normAutofit fontScale="86000"/>
          </a:bodyPr>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altrato físico, sexual y psicológico acontece con niñas pequeñas, adolescentes, mujeres adultas, casadas, solteras y ancianas</a:t>
            </a:r>
            <a:r>
              <a:rPr b="0" lang="es-ES" sz="3200" spc="-1" strike="noStrike">
                <a:solidFill>
                  <a:srgbClr val="000000"/>
                </a:solidFill>
                <a:latin typeface="Arial"/>
              </a:rPr>
              <a:t>.</a:t>
            </a:r>
            <a:endParaRPr b="0" lang="en-US" sz="32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Ningún nivel de la sociedad está inmune de la epidemia de la violencia.</a:t>
            </a:r>
            <a:endParaRPr b="0" lang="en-US" sz="3200" spc="-1" strike="noStrike">
              <a:solidFill>
                <a:srgbClr val="000000"/>
              </a:solidFill>
              <a:latin typeface="Arial"/>
            </a:endParaRPr>
          </a:p>
          <a:p>
            <a:pPr marL="2948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a:t>
            </a:r>
            <a:r>
              <a:rPr b="1" lang="en-US" sz="4400" spc="-1" strike="noStrike">
                <a:solidFill>
                  <a:srgbClr val="ffffff"/>
                </a:solidFill>
                <a:latin typeface="CopprplGoth Bd BT"/>
              </a:rPr>
              <a:t> 5. ABU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
        <p:nvSpPr>
          <p:cNvPr id="118"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violencia en cualquiera de sus formas distorsiona la imagen de Dios</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violencia contra las mujeres afecta el disfrute de la vida, e infringe los derechos humanos y las libertades fundamentales.</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1142640" y="1600200"/>
            <a:ext cx="7620120" cy="2666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erilización forzad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Aborto forz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utilación de genita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so forzado de anticonceptivos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ometimiento sexual y prostituc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mbarazo forzado</a:t>
            </a:r>
            <a:endParaRPr b="0" lang="en-US" sz="2800" spc="-1" strike="noStrike">
              <a:solidFill>
                <a:srgbClr val="000000"/>
              </a:solidFill>
              <a:latin typeface="Arial"/>
            </a:endParaRPr>
          </a:p>
        </p:txBody>
      </p:sp>
      <p:sp>
        <p:nvSpPr>
          <p:cNvPr id="121" name=""/>
          <p:cNvSpPr/>
          <p:nvPr/>
        </p:nvSpPr>
        <p:spPr>
          <a:xfrm>
            <a:off x="685800" y="4264920"/>
            <a:ext cx="80773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pprplGoth Bd BT"/>
              </a:rPr>
              <a:t>La tolerancia del abuso dentro de la iglesia es una negativa de Cris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pprplGoth Bd BT"/>
              </a:rPr>
              <a:t>Nuestras iglesias y colegios deben ser lugares seguros</a:t>
            </a:r>
            <a:r>
              <a:rPr b="1" lang="en-US" sz="2400" spc="-1" strike="noStrike">
                <a:solidFill>
                  <a:srgbClr val="333399"/>
                </a:solidFill>
                <a:latin typeface="CopprplGoth Bd BT"/>
              </a:rPr>
              <a:t>.</a:t>
            </a:r>
            <a:endParaRPr b="0" lang="en-US" sz="2400" spc="-1" strike="noStrike">
              <a:solidFill>
                <a:srgbClr val="000000"/>
              </a:solidFill>
              <a:latin typeface="Arial"/>
            </a:endParaRPr>
          </a:p>
        </p:txBody>
      </p:sp>
      <p:sp>
        <p:nvSpPr>
          <p:cNvPr id="122"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La violencia contra las mujeres también incluye:</a:t>
            </a:r>
            <a:r>
              <a:rPr b="0"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838080" y="1599840"/>
            <a:ext cx="7848720" cy="39625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minarios sobre educación del abuso</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fugios de mujeres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minarios de curación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ábados de énfasis sobre prevención del abuso.</a:t>
            </a:r>
            <a:endParaRPr b="0" lang="en-US" sz="2800" spc="-1" strike="noStrike">
              <a:solidFill>
                <a:srgbClr val="000000"/>
              </a:solidFill>
              <a:latin typeface="Arial"/>
            </a:endParaRPr>
          </a:p>
        </p:txBody>
      </p:sp>
      <p:sp>
        <p:nvSpPr>
          <p:cNvPr id="125"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0" lang="es-ES_tradnl"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6320" y="0"/>
            <a:ext cx="9220320" cy="6934320"/>
          </a:xfrm>
          <a:prstGeom prst="rect">
            <a:avLst/>
          </a:prstGeom>
          <a:ln w="0">
            <a:noFill/>
          </a:ln>
        </p:spPr>
      </p:pic>
      <p:sp>
        <p:nvSpPr>
          <p:cNvPr id="127" name="PlaceHolder 1"/>
          <p:cNvSpPr>
            <a:spLocks noGrp="1"/>
          </p:cNvSpPr>
          <p:nvPr>
            <p:ph/>
          </p:nvPr>
        </p:nvSpPr>
        <p:spPr>
          <a:xfrm>
            <a:off x="533520" y="1142640"/>
            <a:ext cx="7696080" cy="472428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educación es un derecho humano básico. Para que las mujeres logren mejor salud, nutrición, estatus económico y cualidad de vida tanto para ellas como para sus familias, necesitan acceso igual a la educación.</a:t>
            </a:r>
            <a:r>
              <a:rPr b="0" lang="es-ES" sz="3200" spc="-1" strike="noStrike">
                <a:solidFill>
                  <a:srgbClr val="000000"/>
                </a:solidFill>
                <a:latin typeface="Arial"/>
              </a:rPr>
              <a:t> </a:t>
            </a:r>
            <a:r>
              <a:rPr b="1" lang="en-US" sz="3200" spc="-1" strike="noStrike">
                <a:solidFill>
                  <a:srgbClr val="000000"/>
                </a:solidFill>
                <a:latin typeface="CopprplGoth Bd BT"/>
              </a:rPr>
              <a:t> </a:t>
            </a:r>
            <a:endParaRPr b="0" lang="en-US" sz="32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y aproximadamente un billón de personas en el mundo que son analfabetas, 1/6 de la población mundial</a:t>
            </a:r>
            <a:r>
              <a:rPr b="0" lang="es-ES" sz="3200" spc="-1" strike="noStrike">
                <a:solidFill>
                  <a:srgbClr val="000000"/>
                </a:solidFill>
                <a:latin typeface="Arial"/>
              </a:rPr>
              <a:t> </a:t>
            </a:r>
            <a:r>
              <a:rPr b="1" lang="en-US" sz="3200" spc="-1" strike="noStrike">
                <a:solidFill>
                  <a:srgbClr val="000000"/>
                </a:solidFill>
                <a:latin typeface="CopprplGoth Bd BT"/>
              </a:rPr>
              <a:t>.</a:t>
            </a:r>
            <a:endParaRPr b="0" lang="en-US" sz="3200" spc="-1" strike="noStrike">
              <a:solidFill>
                <a:srgbClr val="000000"/>
              </a:solidFill>
              <a:latin typeface="Arial"/>
            </a:endParaRPr>
          </a:p>
        </p:txBody>
      </p:sp>
      <p:sp>
        <p:nvSpPr>
          <p:cNvPr id="128" name="PlaceHolder 2"/>
          <p:cNvSpPr>
            <a:spLocks noGrp="1"/>
          </p:cNvSpPr>
          <p:nvPr>
            <p:ph type="title"/>
          </p:nvPr>
        </p:nvSpPr>
        <p:spPr>
          <a:xfrm>
            <a:off x="38088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 </a:t>
            </a:r>
            <a:r>
              <a:rPr b="1" lang="en-US" sz="4400" spc="-1" strike="noStrike">
                <a:solidFill>
                  <a:srgbClr val="ffffff"/>
                </a:solidFill>
                <a:latin typeface="CopprplGoth Bd BT"/>
              </a:rPr>
              <a:t>6. ANALFABETISM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 descr=""/>
          <p:cNvPicPr/>
          <p:nvPr/>
        </p:nvPicPr>
        <p:blipFill>
          <a:blip r:embed="rId1"/>
          <a:stretch/>
        </p:blipFill>
        <p:spPr>
          <a:xfrm>
            <a:off x="-76320" y="0"/>
            <a:ext cx="9220320" cy="6934320"/>
          </a:xfrm>
          <a:prstGeom prst="rect">
            <a:avLst/>
          </a:prstGeom>
          <a:ln w="0">
            <a:noFill/>
          </a:ln>
        </p:spPr>
      </p:pic>
      <p:sp>
        <p:nvSpPr>
          <p:cNvPr id="131" name="PlaceHolder 2"/>
          <p:cNvSpPr>
            <a:spLocks noGrp="1"/>
          </p:cNvSpPr>
          <p:nvPr>
            <p:ph/>
          </p:nvPr>
        </p:nvSpPr>
        <p:spPr>
          <a:xfrm>
            <a:off x="457200" y="6091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de cada tres mujeres en el mundo no sabe leer ni escribir.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uchos analfabetos quieren aprender a leer porque quieren leer la Biblia. </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ambién se ha demostrado que en áreas de alto analfabetismo, el camino más rápido para establecer una nueva iglesia es conducir clases de alfabetización.</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mujeres también necesitan ayuda y apoyo para obtener una educación superi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320" y="0"/>
            <a:ext cx="9220320" cy="6934320"/>
          </a:xfrm>
          <a:prstGeom prst="rect">
            <a:avLst/>
          </a:prstGeom>
          <a:ln w="0">
            <a:noFill/>
          </a:ln>
        </p:spPr>
      </p:pic>
      <p:sp>
        <p:nvSpPr>
          <p:cNvPr id="133"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ntrenamiento en alfabetización básica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nocimiento de informática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ogramas de adiestramiento en segundo lenguaje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Becas</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Ayuda educacional para niñas</a:t>
            </a:r>
            <a:endParaRPr b="0" lang="en-US" sz="2800" spc="-1" strike="noStrike">
              <a:solidFill>
                <a:srgbClr val="000000"/>
              </a:solidFill>
              <a:latin typeface="Arial"/>
            </a:endParaRPr>
          </a:p>
        </p:txBody>
      </p:sp>
      <p:sp>
        <p:nvSpPr>
          <p:cNvPr id="134"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457200" y="1904760"/>
            <a:ext cx="82296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o de los ministerios espirituales más satisfactorios, es el de dar estudios bíblicos personales.</a:t>
            </a:r>
            <a:endParaRPr b="0" lang="en-US" sz="28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ar estudios bíblicos uno por uno, es importante para tener presente que a las personas no les importa cuanto usted sabe, hasta que ellos ven cuanto usted los aprec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2"/>
          <p:cNvSpPr>
            <a:spLocks noGrp="1"/>
          </p:cNvSpPr>
          <p:nvPr>
            <p:ph type="title"/>
          </p:nvPr>
        </p:nvSpPr>
        <p:spPr>
          <a:xfrm>
            <a:off x="457200" y="304560"/>
            <a:ext cx="8229600" cy="1523880"/>
          </a:xfrm>
          <a:prstGeom prst="rect">
            <a:avLst/>
          </a:prstGeom>
          <a:noFill/>
          <a:ln w="0">
            <a:noFill/>
          </a:ln>
          <a:effectLst>
            <a:outerShdw dist="40186" dir="1096358" blurRad="0" rotWithShape="0">
              <a:srgbClr val="000000"/>
            </a:outerShdw>
          </a:effectLst>
        </p:spPr>
        <p:txBody>
          <a:bodyPr lIns="90000" rIns="90000" tIns="46800" bIns="46800" anchor="ctr">
            <a:noAutofit/>
          </a:bodyPr>
          <a:p>
            <a:pPr marL="838080" indent="-838080" algn="ctr">
              <a:lnSpc>
                <a:spcPct val="100000"/>
              </a:lnSpc>
              <a:buClr>
                <a:srgbClr val="ffffff"/>
              </a:buClr>
              <a:buFont typeface="CopprplGoth Bd B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ESTUDIOS BÍBLICOS </a:t>
            </a:r>
            <a:br>
              <a:rPr sz="4000"/>
            </a:br>
            <a:r>
              <a:rPr b="1" lang="en-US" sz="4000" spc="-1" strike="noStrike">
                <a:solidFill>
                  <a:srgbClr val="ffffff"/>
                </a:solidFill>
                <a:latin typeface="CopprplGoth Bd BT"/>
              </a:rPr>
              <a:t>“UNO POR U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9" name="" descr=""/>
          <p:cNvPicPr/>
          <p:nvPr/>
        </p:nvPicPr>
        <p:blipFill>
          <a:blip r:embed="rId1"/>
          <a:stretch/>
        </p:blipFill>
        <p:spPr>
          <a:xfrm>
            <a:off x="0" y="0"/>
            <a:ext cx="9144000" cy="6858000"/>
          </a:xfrm>
          <a:prstGeom prst="rect">
            <a:avLst/>
          </a:prstGeom>
          <a:ln w="0">
            <a:noFill/>
          </a:ln>
        </p:spPr>
      </p:pic>
      <p:sp>
        <p:nvSpPr>
          <p:cNvPr id="140" name="PlaceHolder 2"/>
          <p:cNvSpPr>
            <a:spLocks noGrp="1"/>
          </p:cNvSpPr>
          <p:nvPr>
            <p:ph/>
          </p:nvPr>
        </p:nvSpPr>
        <p:spPr>
          <a:xfrm>
            <a:off x="457200" y="457200"/>
            <a:ext cx="8229600" cy="495288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rplGoth Bd BT"/>
              </a:rPr>
              <a:t>	</a:t>
            </a:r>
            <a:r>
              <a:rPr b="0" lang="en-US" sz="2800" spc="-1" strike="noStrike">
                <a:solidFill>
                  <a:srgbClr val="000000"/>
                </a:solidFill>
                <a:latin typeface="CopprplGoth Bd BT"/>
              </a:rPr>
              <a:t>“</a:t>
            </a:r>
            <a:r>
              <a:rPr b="0" lang="es-ES" sz="2800" spc="-1" strike="noStrike">
                <a:solidFill>
                  <a:srgbClr val="000000"/>
                </a:solidFill>
                <a:latin typeface="Arial"/>
              </a:rPr>
              <a:t>El Evangelio no ha de ser presentado como una teoría sin vida, sino como una fuerza viva para cambiar la vida. Dios desea que los que reciben su gracia sean testigos de su poder… Quiere que sus siervos atestigüen que por su gracia los hombres pueden poseer un carácter semejante al suyo y que se regocijen en la seguridad de su gran amor… El maravilloso amor de Cristo enternecerá y subyugará los corazones cuando la simple exposición de las doctrinas no lograría nada</a:t>
            </a:r>
            <a:r>
              <a:rPr b="0" lang="es-ES" sz="3200" spc="-1" strike="noStrike">
                <a:solidFill>
                  <a:srgbClr val="000000"/>
                </a:solidFill>
                <a:latin typeface="Arial"/>
              </a:rPr>
              <a:t> </a:t>
            </a:r>
            <a:r>
              <a:rPr b="0" lang="en-US" sz="2800" spc="-1" strike="noStrike">
                <a:solidFill>
                  <a:srgbClr val="000000"/>
                </a:solidFill>
                <a:latin typeface="CopprplGoth Bd BT"/>
              </a:rPr>
              <a:t>.” </a:t>
            </a: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rplGoth Bd BT"/>
              </a:rPr>
              <a:t>—</a:t>
            </a:r>
            <a:r>
              <a:rPr b="0" i="1" lang="es-ES_tradnl" sz="2800" spc="-1" strike="noStrike">
                <a:solidFill>
                  <a:srgbClr val="000000"/>
                </a:solidFill>
                <a:latin typeface="CopprplGoth Bd BT"/>
              </a:rPr>
              <a:t>Deseado de todas las Gentes</a:t>
            </a:r>
            <a:r>
              <a:rPr b="0" i="1" lang="en-US" sz="2800" spc="-1" strike="noStrike">
                <a:solidFill>
                  <a:srgbClr val="000000"/>
                </a:solidFill>
                <a:latin typeface="CopprplGoth Bd BT"/>
              </a:rPr>
              <a:t>, </a:t>
            </a:r>
            <a:r>
              <a:rPr b="0" lang="en-US" sz="2800" spc="-1" strike="noStrike">
                <a:solidFill>
                  <a:srgbClr val="000000"/>
                </a:solidFill>
                <a:latin typeface="CopprplGoth Bd BT"/>
              </a:rPr>
              <a:t>p. 766-767</a:t>
            </a: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sp>
        <p:nvSpPr>
          <p:cNvPr id="62" name="PlaceHolder 2"/>
          <p:cNvSpPr>
            <a:spLocks noGrp="1"/>
          </p:cNvSpPr>
          <p:nvPr>
            <p:ph/>
          </p:nvPr>
        </p:nvSpPr>
        <p:spPr>
          <a:xfrm>
            <a:off x="457200" y="1219320"/>
            <a:ext cx="8229600" cy="3962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200" spc="-1" strike="noStrike">
                <a:solidFill>
                  <a:srgbClr val="000000"/>
                </a:solidFill>
                <a:latin typeface="Arial"/>
              </a:rPr>
              <a:t>a consolar a todos los que están de duelo, y a confortar a los dolientes de Sión. Me ha enviado a darles una corona en vez de cenizas, aceite de alegría en vez de luto, traje de fiesta en vez de espíritu de desaliento. Serán llamados robles de justicia, plantío del Señor, para mostrar su glori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2" name="" descr=""/>
          <p:cNvPicPr/>
          <p:nvPr/>
        </p:nvPicPr>
        <p:blipFill>
          <a:blip r:embed="rId1"/>
          <a:stretch/>
        </p:blipFill>
        <p:spPr>
          <a:xfrm>
            <a:off x="0" y="0"/>
            <a:ext cx="9144000" cy="6858000"/>
          </a:xfrm>
          <a:prstGeom prst="rect">
            <a:avLst/>
          </a:prstGeom>
          <a:ln w="0">
            <a:noFill/>
          </a:ln>
        </p:spPr>
      </p:pic>
      <p:sp>
        <p:nvSpPr>
          <p:cNvPr id="143" name="PlaceHolder 2"/>
          <p:cNvSpPr>
            <a:spLocks noGrp="1"/>
          </p:cNvSpPr>
          <p:nvPr>
            <p:ph/>
          </p:nvPr>
        </p:nvSpPr>
        <p:spPr>
          <a:xfrm>
            <a:off x="304560" y="1523880"/>
            <a:ext cx="8458200" cy="411480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a:t>
            </a:r>
            <a:r>
              <a:rPr b="1" i="1" lang="es-ES" sz="3200" spc="-1" strike="noStrike">
                <a:solidFill>
                  <a:srgbClr val="000000"/>
                </a:solidFill>
                <a:latin typeface="Arial"/>
              </a:rPr>
              <a:t>A este Cristo proclamamos, aconsejando y enseñando con toda sabiduría a todos los seres humanos, para presentarlos a todos perfectos en él.</a:t>
            </a:r>
            <a:r>
              <a:rPr b="1" lang="en-US" sz="3200" spc="-1" strike="noStrike">
                <a:solidFill>
                  <a:srgbClr val="000000"/>
                </a:solidFill>
                <a:latin typeface="CopprplGoth Bd BT"/>
              </a:rPr>
              <a:t>”</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a:t>
            </a:r>
            <a:r>
              <a:rPr b="1" lang="es-ES_tradnl" sz="3200" spc="-1" strike="noStrike">
                <a:solidFill>
                  <a:srgbClr val="000000"/>
                </a:solidFill>
                <a:latin typeface="CopprplGoth Bd BT"/>
              </a:rPr>
              <a:t>Colosenses 1:28</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5" name="" descr=""/>
          <p:cNvPicPr/>
          <p:nvPr/>
        </p:nvPicPr>
        <p:blipFill>
          <a:blip r:embed="rId1"/>
          <a:stretch/>
        </p:blipFill>
        <p:spPr>
          <a:xfrm>
            <a:off x="0" y="0"/>
            <a:ext cx="9144000" cy="6858000"/>
          </a:xfrm>
          <a:prstGeom prst="rect">
            <a:avLst/>
          </a:prstGeom>
          <a:ln w="0">
            <a:noFill/>
          </a:ln>
        </p:spPr>
      </p:pic>
      <p:sp>
        <p:nvSpPr>
          <p:cNvPr id="146" name="PlaceHolder 2"/>
          <p:cNvSpPr>
            <a:spLocks noGrp="1"/>
          </p:cNvSpPr>
          <p:nvPr>
            <p:ph/>
          </p:nvPr>
        </p:nvSpPr>
        <p:spPr>
          <a:xfrm>
            <a:off x="228600" y="457200"/>
            <a:ext cx="8610480" cy="5410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u="sng">
                <a:solidFill>
                  <a:srgbClr val="000000"/>
                </a:solidFill>
                <a:uFillTx/>
                <a:latin typeface="Arial"/>
              </a:rPr>
              <a:t>Cada miembro de la iglesia</a:t>
            </a:r>
            <a:r>
              <a:rPr b="1" lang="es-ES" sz="2800" spc="-1" strike="noStrike">
                <a:solidFill>
                  <a:srgbClr val="000000"/>
                </a:solidFill>
                <a:latin typeface="Arial"/>
              </a:rPr>
              <a:t> debería aprender los principios de </a:t>
            </a:r>
            <a:r>
              <a:rPr b="1" lang="es-ES" sz="2800" spc="-1" strike="noStrike" u="sng">
                <a:solidFill>
                  <a:srgbClr val="000000"/>
                </a:solidFill>
                <a:uFillTx/>
                <a:latin typeface="Arial"/>
              </a:rPr>
              <a:t>dar estudios bíblicos</a:t>
            </a:r>
            <a:r>
              <a:rPr b="1" lang="es-ES" sz="2800" spc="-1" strike="noStrike">
                <a:solidFill>
                  <a:srgbClr val="000000"/>
                </a:solidFill>
                <a:latin typeface="Arial"/>
              </a:rPr>
              <a:t> a través del poder del </a:t>
            </a:r>
            <a:r>
              <a:rPr b="1" lang="es-ES" sz="2800" spc="-1" strike="noStrike" u="sng">
                <a:solidFill>
                  <a:srgbClr val="000000"/>
                </a:solidFill>
                <a:uFillTx/>
                <a:latin typeface="Arial"/>
              </a:rPr>
              <a:t>Espíritu Santo</a:t>
            </a:r>
            <a:r>
              <a:rPr b="1" lang="es-ES" sz="2800" spc="-1" strike="noStrike">
                <a:solidFill>
                  <a:srgbClr val="000000"/>
                </a:solidFill>
                <a:latin typeface="Arial"/>
              </a:rPr>
              <a:t>. Aún si una persona siente que Dios no lo ha llamado para dar estudios bíblicos personales, todos han sido llamados </a:t>
            </a:r>
            <a:r>
              <a:rPr b="1" lang="es-ES" sz="2800" spc="-1" strike="noStrike" u="sng">
                <a:solidFill>
                  <a:srgbClr val="000000"/>
                </a:solidFill>
                <a:uFillTx/>
                <a:latin typeface="Arial"/>
              </a:rPr>
              <a:t>a testificar de alguna forma</a:t>
            </a:r>
            <a:r>
              <a:rPr b="1" lang="es-ES" sz="2800" spc="-1" strike="noStrike">
                <a:solidFill>
                  <a:srgbClr val="000000"/>
                </a:solidFill>
                <a:latin typeface="Arial"/>
              </a:rPr>
              <a:t>, y si nosotros aprendemos los principios de estudiar la Biblia con otros, Dios puede usarnos eficazmente en cualquier </a:t>
            </a:r>
            <a:r>
              <a:rPr b="1" lang="es-ES" sz="2800" spc="-1" strike="noStrike" u="sng">
                <a:solidFill>
                  <a:srgbClr val="000000"/>
                </a:solidFill>
                <a:uFillTx/>
                <a:latin typeface="Arial"/>
              </a:rPr>
              <a:t>método de testificación</a:t>
            </a:r>
            <a:r>
              <a:rPr b="1" lang="es-ES" sz="2800" spc="-1" strike="noStrike">
                <a:solidFill>
                  <a:srgbClr val="000000"/>
                </a:solidFill>
                <a:latin typeface="Arial"/>
              </a:rPr>
              <a:t> que Él ha elegido para nosotros. Equipémonos de tal manera que podamos explicar nuestra fe a todo aquel que el Señor nos dirija, pues </a:t>
            </a:r>
            <a:r>
              <a:rPr b="1" lang="es-ES" sz="2800" spc="-1" strike="noStrike" u="sng">
                <a:solidFill>
                  <a:srgbClr val="000000"/>
                </a:solidFill>
                <a:uFillTx/>
                <a:latin typeface="Arial"/>
              </a:rPr>
              <a:t>es nuestro privilegio y goz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76320" y="0"/>
            <a:ext cx="9220320" cy="6934320"/>
          </a:xfrm>
          <a:prstGeom prst="rect">
            <a:avLst/>
          </a:prstGeom>
          <a:ln w="0">
            <a:noFill/>
          </a:ln>
        </p:spPr>
      </p:pic>
      <p:sp>
        <p:nvSpPr>
          <p:cNvPr id="148" name="PlaceHolder 1"/>
          <p:cNvSpPr>
            <a:spLocks noGrp="1"/>
          </p:cNvSpPr>
          <p:nvPr>
            <p:ph/>
          </p:nvPr>
        </p:nvSpPr>
        <p:spPr>
          <a:xfrm>
            <a:off x="151920" y="1447920"/>
            <a:ext cx="8610840" cy="452592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pprplGoth Bd BT"/>
              </a:rPr>
              <a:t>	</a:t>
            </a:r>
            <a:r>
              <a:rPr b="1" lang="en-US" sz="3000" spc="-1" strike="noStrike">
                <a:solidFill>
                  <a:srgbClr val="000000"/>
                </a:solidFill>
                <a:latin typeface="CopprplGoth Bd BT"/>
              </a:rPr>
              <a:t>“</a:t>
            </a:r>
            <a:r>
              <a:rPr b="1" lang="es-ES" sz="3000" spc="-1" strike="noStrike">
                <a:solidFill>
                  <a:srgbClr val="000000"/>
                </a:solidFill>
                <a:latin typeface="Arial"/>
              </a:rPr>
              <a:t>El Señor desea que su palabra de gracia penetre en toda alma. En gran medida esto debe realizarse mediante un trabajo personal. Este fue el método de Cristo. Su obra se realizaba mayormente por medio de entrevistas personales. Dispensaba una fiel consideración al auditorio de una sola alma. Por medio de esa sola alma a menudo el mensaje se extendía a millares. No hemos de esperar que las almas vengan a nosotros; debemos buscarlas donde estén</a:t>
            </a:r>
            <a:r>
              <a:rPr b="1" lang="en-US" sz="3000" spc="-1" strike="noStrike">
                <a:solidFill>
                  <a:srgbClr val="000000"/>
                </a:solidFill>
                <a:latin typeface="CopprplGoth Bd BT"/>
              </a:rPr>
              <a:t>.”</a:t>
            </a:r>
            <a:endParaRPr b="0" lang="en-US" sz="3000" spc="-1" strike="noStrike">
              <a:solidFill>
                <a:srgbClr val="000000"/>
              </a:solidFill>
              <a:latin typeface="Arial"/>
            </a:endParaRPr>
          </a:p>
        </p:txBody>
      </p:sp>
      <p:sp>
        <p:nvSpPr>
          <p:cNvPr id="149" name="PlaceHolder 2"/>
          <p:cNvSpPr>
            <a:spLocks noGrp="1"/>
          </p:cNvSpPr>
          <p:nvPr>
            <p:ph type="title"/>
          </p:nvPr>
        </p:nvSpPr>
        <p:spPr>
          <a:xfrm>
            <a:off x="76320" y="228240"/>
            <a:ext cx="86868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ff"/>
                </a:solidFill>
                <a:latin typeface="CopprplGoth Bd BT"/>
              </a:rPr>
              <a:t>Palabras de vida del Gran maestro,</a:t>
            </a:r>
            <a:r>
              <a:rPr b="1" lang="es-ES_tradnl" sz="3600" spc="-1" strike="noStrike">
                <a:solidFill>
                  <a:srgbClr val="ffffff"/>
                </a:solidFill>
                <a:latin typeface="CopprplGoth Bd BT"/>
              </a:rPr>
              <a:t> Págs. 157-158</a:t>
            </a:r>
            <a:r>
              <a:rPr b="1" lang="en-US" sz="3600" spc="-1" strike="noStrike">
                <a:solidFill>
                  <a:srgbClr val="ffffff"/>
                </a:solidFill>
                <a:latin typeface="CopprplGoth Bd B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1" name="" descr=""/>
          <p:cNvPicPr/>
          <p:nvPr/>
        </p:nvPicPr>
        <p:blipFill>
          <a:blip r:embed="rId1"/>
          <a:stretch/>
        </p:blipFill>
        <p:spPr>
          <a:xfrm>
            <a:off x="-76320" y="0"/>
            <a:ext cx="9220320" cy="6934320"/>
          </a:xfrm>
          <a:prstGeom prst="rect">
            <a:avLst/>
          </a:prstGeom>
          <a:ln w="0">
            <a:noFill/>
          </a:ln>
        </p:spPr>
      </p:pic>
      <p:sp>
        <p:nvSpPr>
          <p:cNvPr id="152" name="PlaceHolder 2"/>
          <p:cNvSpPr>
            <a:spLocks noGrp="1"/>
          </p:cNvSpPr>
          <p:nvPr>
            <p:ph/>
          </p:nvPr>
        </p:nvSpPr>
        <p:spPr>
          <a:xfrm>
            <a:off x="457200" y="1218960"/>
            <a:ext cx="82296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l plan de dos en dos, como el Señor envió a sus discípulos, es la mejor forma de dar estudios bíblicos. De esta manera uno anima al otro y usted puede aconsejar, orar e investigar la Biblia juntos.</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eneralmente uno debe ser el instructor en un estudio bíblico particular</a:t>
            </a:r>
            <a:r>
              <a:rPr b="1" lang="en-US" sz="2800" spc="-1" strike="noStrike">
                <a:solidFill>
                  <a:srgbClr val="000000"/>
                </a:solidFill>
                <a:latin typeface="CopprplGoth Bd B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4" name="" descr=""/>
          <p:cNvPicPr/>
          <p:nvPr/>
        </p:nvPicPr>
        <p:blipFill>
          <a:blip r:embed="rId1"/>
          <a:stretch/>
        </p:blipFill>
        <p:spPr>
          <a:xfrm>
            <a:off x="-76320" y="0"/>
            <a:ext cx="9220320" cy="6934320"/>
          </a:xfrm>
          <a:prstGeom prst="rect">
            <a:avLst/>
          </a:prstGeom>
          <a:ln w="0">
            <a:noFill/>
          </a:ln>
        </p:spPr>
      </p:pic>
      <p:sp>
        <p:nvSpPr>
          <p:cNvPr id="155" name="PlaceHolder 2"/>
          <p:cNvSpPr>
            <a:spLocks noGrp="1"/>
          </p:cNvSpPr>
          <p:nvPr>
            <p:ph/>
          </p:nvPr>
        </p:nvSpPr>
        <p:spPr>
          <a:xfrm>
            <a:off x="457200" y="609120"/>
            <a:ext cx="8229600" cy="52578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Antes de que enseñe a otros, también es útil que tenga algunos materiales</a:t>
            </a:r>
            <a:endParaRPr b="0" lang="en-US" sz="32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pprplGoth Bd BT"/>
              </a:rPr>
              <a:t>	</a:t>
            </a:r>
            <a:r>
              <a:rPr b="1" lang="es-ES_tradnl" sz="2800" spc="-1" strike="noStrike">
                <a:solidFill>
                  <a:srgbClr val="000000"/>
                </a:solidFill>
                <a:latin typeface="CopprplGoth Bd BT"/>
              </a:rPr>
              <a:t>Los materiales para los estudios bíblicos “uno por uno” incluye:</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Bibl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concordancia bíblica,</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uías de estudio bíblico. </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guías de estudio mantienen el estudio bíblico más claro y emocionante, por lo tanto conserva el interés del estudiante y lo mantiene en el t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7" name="" descr=""/>
          <p:cNvPicPr/>
          <p:nvPr/>
        </p:nvPicPr>
        <p:blipFill>
          <a:blip r:embed="rId1"/>
          <a:stretch/>
        </p:blipFill>
        <p:spPr>
          <a:xfrm>
            <a:off x="-76320" y="0"/>
            <a:ext cx="9220320" cy="6934320"/>
          </a:xfrm>
          <a:prstGeom prst="rect">
            <a:avLst/>
          </a:prstGeom>
          <a:ln w="0">
            <a:noFill/>
          </a:ln>
        </p:spPr>
      </p:pic>
      <p:sp>
        <p:nvSpPr>
          <p:cNvPr id="158" name="PlaceHolder 2"/>
          <p:cNvSpPr>
            <a:spLocks noGrp="1"/>
          </p:cNvSpPr>
          <p:nvPr>
            <p:ph/>
          </p:nvPr>
        </p:nvSpPr>
        <p:spPr>
          <a:xfrm>
            <a:off x="457200" y="1142640"/>
            <a:ext cx="8229600" cy="4343400"/>
          </a:xfrm>
          <a:prstGeom prst="rect">
            <a:avLst/>
          </a:prstGeom>
          <a:noFill/>
          <a:ln w="0">
            <a:noFill/>
          </a:ln>
          <a:effectLst>
            <a:outerShdw dist="40186" dir="1096358"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haga un estudio largo – no más de una hor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inimice la cantidad de información que va a dar, dé tiempo para la aplicación </a:t>
            </a:r>
            <a:r>
              <a:rPr b="1" lang="en-US"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762120" y="1981080"/>
            <a:ext cx="8229600" cy="376416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Tiempo para familiarizarse</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Introducción a la lección y ora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Estudio de la lec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Compromiso y ora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Día y hora de la siguiente reunión y salida</a:t>
            </a:r>
            <a:endParaRPr b="0" lang="en-US" sz="3200" spc="-1" strike="noStrike">
              <a:solidFill>
                <a:srgbClr val="000000"/>
              </a:solidFill>
              <a:latin typeface="Arial"/>
            </a:endParaRPr>
          </a:p>
        </p:txBody>
      </p:sp>
      <p:sp>
        <p:nvSpPr>
          <p:cNvPr id="161" name="PlaceHolder 2"/>
          <p:cNvSpPr>
            <a:spLocks noGrp="1"/>
          </p:cNvSpPr>
          <p:nvPr>
            <p:ph type="title"/>
          </p:nvPr>
        </p:nvSpPr>
        <p:spPr>
          <a:xfrm>
            <a:off x="457200" y="45684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Hay cinco partes principales para dar un estudio bíbl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3" name="" descr=""/>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457200" y="1341000"/>
            <a:ext cx="8229600" cy="5211720"/>
          </a:xfrm>
          <a:prstGeom prst="rect">
            <a:avLst/>
          </a:prstGeom>
          <a:noFill/>
          <a:ln w="0">
            <a:noFill/>
          </a:ln>
          <a:effectLst>
            <a:outerShdw dist="17819" dir="2700000" blurRad="0" rotWithShape="0">
              <a:srgbClr val="99cc00"/>
            </a:outerShdw>
          </a:effectLst>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rplGoth Bd BT"/>
              </a:rPr>
              <a:t>B.  PROYECTO B=B:</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rplGoth Bd BT"/>
              </a:rPr>
              <a:t>BIBLIA = BAUTISM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762120" y="2865240"/>
            <a:ext cx="8229600" cy="2392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Estudiar la Biblia con una persona</a:t>
            </a:r>
            <a:endParaRPr b="0" lang="en-US" sz="3200" spc="-1" strike="noStrike">
              <a:solidFill>
                <a:srgbClr val="000000"/>
              </a:solidFill>
              <a:latin typeface="Arial"/>
            </a:endParaRPr>
          </a:p>
          <a:p>
            <a:pPr marL="3430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Preparar a esa persona para el bautismo al final del año</a:t>
            </a:r>
            <a:endParaRPr b="0" lang="en-US" sz="3200" spc="-1" strike="noStrike">
              <a:solidFill>
                <a:srgbClr val="000000"/>
              </a:solidFill>
              <a:latin typeface="Arial"/>
            </a:endParaRPr>
          </a:p>
        </p:txBody>
      </p:sp>
      <p:sp>
        <p:nvSpPr>
          <p:cNvPr id="167" name="PlaceHolder 2"/>
          <p:cNvSpPr>
            <a:spLocks noGrp="1"/>
          </p:cNvSpPr>
          <p:nvPr>
            <p:ph type="title"/>
          </p:nvPr>
        </p:nvSpPr>
        <p:spPr>
          <a:xfrm>
            <a:off x="457200" y="837720"/>
            <a:ext cx="830592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rplGoth Bd BT"/>
              </a:rPr>
              <a:t>Los </a:t>
            </a:r>
            <a:r>
              <a:rPr b="1" lang="es-ES_tradnl" sz="3600" spc="-1" strike="noStrike">
                <a:solidFill>
                  <a:srgbClr val="ffffff"/>
                </a:solidFill>
                <a:latin typeface="CopprplGoth Bd BT"/>
              </a:rPr>
              <a:t>líderes y la comisión de planes piden que cada persona se comprometa</a:t>
            </a:r>
            <a:r>
              <a:rPr b="1" lang="en-US" sz="3600" spc="-1" strike="noStrike">
                <a:solidFill>
                  <a:srgbClr val="ffffff"/>
                </a:solidFill>
                <a:latin typeface="CopprplGoth Bd BT"/>
              </a:rPr>
              <a:t> 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609480" y="1599840"/>
            <a:ext cx="8229600" cy="39625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Después del bautismo debe formarse una clase de nuevos miembros, o estudiar con los nuevos miembros por separado. </a:t>
            </a:r>
            <a:endParaRPr b="0" lang="en-US" sz="2800" spc="-1" strike="noStrike">
              <a:solidFill>
                <a:srgbClr val="000000"/>
              </a:solidFill>
              <a:latin typeface="Arial"/>
            </a:endParaRPr>
          </a:p>
          <a:p>
            <a:pPr marL="3016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os estudios reforzarán los temas aprendidos antes del bautismo. </a:t>
            </a:r>
            <a:endParaRPr b="0" lang="en-US" sz="2800" spc="-1" strike="noStrike">
              <a:solidFill>
                <a:srgbClr val="000000"/>
              </a:solidFill>
              <a:latin typeface="Arial"/>
            </a:endParaRPr>
          </a:p>
          <a:p>
            <a:pPr marL="3016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 comienza a preparar a los nuevos miembros para que enseñen a otros.</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70"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Comienza el discipul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57200" y="1219320"/>
            <a:ext cx="8229600" cy="40384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i="1" lang="es-ES" sz="3200" spc="-1" strike="noStrike">
                <a:solidFill>
                  <a:srgbClr val="000000"/>
                </a:solidFill>
                <a:latin typeface="Arial"/>
              </a:rPr>
              <a:t>Solo el método de Cristo será el que dará éxito para llegar a la gente. El Salvador trataba con los hombres como quien deseaba hacerles bien. Les mostraba simpatía, atendía a sus necesidades y se ganaba su confianza. Entonces les decía: “Seguidme”. </a:t>
            </a:r>
            <a:endParaRPr b="0" lang="en-US" sz="3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a:t>
            </a:r>
            <a:r>
              <a:rPr b="0" i="1" lang="en-US" sz="2800" spc="-1" strike="noStrike">
                <a:solidFill>
                  <a:srgbClr val="000000"/>
                </a:solidFill>
                <a:latin typeface="CopprplGoth Bd BT"/>
              </a:rPr>
              <a:t> </a:t>
            </a:r>
            <a:r>
              <a:rPr b="0" i="1" lang="es-ES_tradnl" sz="2400" spc="-1" strike="noStrike">
                <a:solidFill>
                  <a:srgbClr val="000000"/>
                </a:solidFill>
                <a:latin typeface="CopprplGoth Bd BT"/>
              </a:rPr>
              <a:t>Ministerio de Curación, Pág. 102 por</a:t>
            </a:r>
            <a:r>
              <a:rPr b="0" lang="es-ES_tradnl" sz="2400" spc="-1" strike="noStrike">
                <a:solidFill>
                  <a:srgbClr val="000000"/>
                </a:solidFill>
                <a:latin typeface="CopprplGoth Bd BT"/>
              </a:rPr>
              <a:t> E. G. White.</a:t>
            </a: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228600" y="1904760"/>
            <a:ext cx="8610480" cy="388620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	</a:t>
            </a:r>
            <a:r>
              <a:rPr b="1" lang="es-ES_tradnl" sz="3200" spc="-1" strike="noStrike" u="sng">
                <a:solidFill>
                  <a:srgbClr val="000000"/>
                </a:solidFill>
                <a:uFillTx/>
                <a:latin typeface="CopprplGoth Bd BT"/>
              </a:rPr>
              <a:t>Hay un número de razones para este éxito:</a:t>
            </a:r>
            <a:endParaRPr b="0" lang="en-US" sz="3200" spc="-1" strike="noStrike">
              <a:solidFill>
                <a:srgbClr val="000000"/>
              </a:solidFill>
              <a:latin typeface="Arial"/>
            </a:endParaRPr>
          </a:p>
          <a:p>
            <a:pPr marL="332640" indent="-33264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personas son menos tímidas en los grupos pequeños y más dispuestas a compartir.</a:t>
            </a:r>
            <a:endParaRPr b="0" lang="en-US" sz="2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uede realizarse en los lugares más convenientes, cerca de los hogares de las personas</a:t>
            </a:r>
            <a:endParaRPr b="0" lang="en-US" sz="2800" spc="-1" strike="noStrike">
              <a:solidFill>
                <a:srgbClr val="000000"/>
              </a:solidFill>
              <a:latin typeface="Arial"/>
            </a:endParaRPr>
          </a:p>
        </p:txBody>
      </p:sp>
      <p:sp>
        <p:nvSpPr>
          <p:cNvPr id="173"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Uno de los modelos más exitosos de estudios bíblicos es el estudio en</a:t>
            </a:r>
            <a:r>
              <a:rPr b="1" lang="es-ES_tradnl" sz="3200" spc="-1" strike="noStrike" u="sng">
                <a:solidFill>
                  <a:srgbClr val="ffffff"/>
                </a:solidFill>
                <a:uFillTx/>
                <a:latin typeface="CopprplGoth Bd BT"/>
              </a:rPr>
              <a:t> grupos pequeños.</a:t>
            </a:r>
            <a:r>
              <a:rPr b="0" lang="en-US" sz="3200" spc="-1" strike="noStrike">
                <a:solidFill>
                  <a:srgbClr val="ffffff"/>
                </a:solidFill>
                <a:latin typeface="CopprplGoth Bd B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
        <p:nvSpPr>
          <p:cNvPr id="176" name="PlaceHolder 2"/>
          <p:cNvSpPr>
            <a:spLocks noGrp="1"/>
          </p:cNvSpPr>
          <p:nvPr>
            <p:ph/>
          </p:nvPr>
        </p:nvSpPr>
        <p:spPr>
          <a:xfrm>
            <a:off x="533520" y="808200"/>
            <a:ext cx="8534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grupo puede establecer un sentimiento de aprecio y apoy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s personas tienen una mejor oportunidad para estudiar en su propia p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grupo pequeño crea un ambiente natural para continuar con el discipula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sp>
        <p:nvSpPr>
          <p:cNvPr id="178" name="PlaceHolder 1"/>
          <p:cNvSpPr>
            <a:spLocks noGrp="1"/>
          </p:cNvSpPr>
          <p:nvPr>
            <p:ph/>
          </p:nvPr>
        </p:nvSpPr>
        <p:spPr>
          <a:xfrm>
            <a:off x="304920" y="2133360"/>
            <a:ext cx="8686800" cy="3352680"/>
          </a:xfrm>
          <a:prstGeom prst="rect">
            <a:avLst/>
          </a:prstGeom>
          <a:noFill/>
          <a:ln w="0">
            <a:noFill/>
          </a:ln>
        </p:spPr>
        <p:txBody>
          <a:bodyPr lIns="90000" rIns="90000" tIns="46800" bIns="46800" anchor="t">
            <a:normAutofit/>
          </a:bodyPr>
          <a:p>
            <a:pPr marL="609480" indent="-609480">
              <a:lnSpc>
                <a:spcPct val="70000"/>
              </a:lnSpc>
              <a:spcBef>
                <a:spcPts val="700"/>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mpartir – llegar a familiarizarse</a:t>
            </a:r>
            <a:endParaRPr b="0" lang="en-US" sz="2800" spc="-1" strike="noStrike">
              <a:solidFill>
                <a:srgbClr val="000000"/>
              </a:solidFill>
              <a:latin typeface="Arial"/>
            </a:endParaRPr>
          </a:p>
          <a:p>
            <a:pPr marL="60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udio bíblico – aprendizaje de la Palabra de Dios</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Oración – pedir la dirección de Dios</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omento social – reunirse fuera del grupo</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5.   Servicio – hacer algo para alguien más</a:t>
            </a:r>
            <a:endParaRPr b="0" lang="en-US" sz="2800" spc="-1" strike="noStrike">
              <a:solidFill>
                <a:srgbClr val="000000"/>
              </a:solidFill>
              <a:latin typeface="Arial"/>
            </a:endParaRPr>
          </a:p>
        </p:txBody>
      </p:sp>
      <p:sp>
        <p:nvSpPr>
          <p:cNvPr id="179" name="PlaceHolder 2"/>
          <p:cNvSpPr>
            <a:spLocks noGrp="1"/>
          </p:cNvSpPr>
          <p:nvPr>
            <p:ph type="title"/>
          </p:nvPr>
        </p:nvSpPr>
        <p:spPr>
          <a:xfrm>
            <a:off x="304920" y="457200"/>
            <a:ext cx="8534160" cy="144792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Cuando se planifica un grupo pequeño de estudio, es esencial incluir 5 á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1" name="" descr=""/>
          <p:cNvPicPr/>
          <p:nvPr/>
        </p:nvPicPr>
        <p:blipFill>
          <a:blip r:embed="rId1"/>
          <a:stretch/>
        </p:blipFill>
        <p:spPr>
          <a:xfrm>
            <a:off x="-76320" y="0"/>
            <a:ext cx="9220320" cy="6934320"/>
          </a:xfrm>
          <a:prstGeom prst="rect">
            <a:avLst/>
          </a:prstGeom>
          <a:ln w="0">
            <a:noFill/>
          </a:ln>
        </p:spPr>
      </p:pic>
      <p:sp>
        <p:nvSpPr>
          <p:cNvPr id="182" name="PlaceHolder 2"/>
          <p:cNvSpPr>
            <a:spLocks noGrp="1"/>
          </p:cNvSpPr>
          <p:nvPr>
            <p:ph/>
          </p:nvPr>
        </p:nvSpPr>
        <p:spPr>
          <a:xfrm>
            <a:off x="457200" y="808200"/>
            <a:ext cx="8229600" cy="4525920"/>
          </a:xfrm>
          <a:prstGeom prst="rect">
            <a:avLst/>
          </a:prstGeom>
          <a:noFill/>
          <a:ln w="0">
            <a:noFill/>
          </a:ln>
          <a:effectLst>
            <a:outerShdw dist="40186" dir="1096358" blurRad="0" rotWithShape="0">
              <a:srgbClr val="000000"/>
            </a:outerShdw>
          </a:effectLst>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o de los objetivos de un grupo pequeño de estudio bíblico, es el de crear una atmósfera de amor y aceptación, lo cual estimula al descubrimiento y a la libertad de hablar  de la Biblia, sin miedo de ser avergonzado o criticado. Esto fomentará una hermandad cristiana positiva.</a:t>
            </a:r>
            <a:r>
              <a:rPr b="1" lang="en-US" sz="3200" spc="-1" strike="noStrike">
                <a:solidFill>
                  <a:srgbClr val="ffffff"/>
                </a:solidFill>
                <a:latin typeface="CopprplGoth Bd BT"/>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4" name="" descr=""/>
          <p:cNvPicPr/>
          <p:nvPr/>
        </p:nvPicPr>
        <p:blipFill>
          <a:blip r:embed="rId1"/>
          <a:stretch/>
        </p:blipFill>
        <p:spPr>
          <a:xfrm>
            <a:off x="-76320" y="0"/>
            <a:ext cx="9220320" cy="6934320"/>
          </a:xfrm>
          <a:prstGeom prst="rect">
            <a:avLst/>
          </a:prstGeom>
          <a:ln w="0">
            <a:noFill/>
          </a:ln>
        </p:spPr>
      </p:pic>
      <p:sp>
        <p:nvSpPr>
          <p:cNvPr id="185" name="PlaceHolder 2"/>
          <p:cNvSpPr>
            <a:spLocks noGrp="1"/>
          </p:cNvSpPr>
          <p:nvPr>
            <p:ph/>
          </p:nvPr>
        </p:nvSpPr>
        <p:spPr>
          <a:xfrm>
            <a:off x="457200" y="1219320"/>
            <a:ext cx="82296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pprplGoth Bd BT"/>
              </a:rPr>
              <a:t>	</a:t>
            </a:r>
            <a:r>
              <a:rPr b="1" lang="es-ES_tradnl" sz="3600" spc="-1" strike="noStrike">
                <a:solidFill>
                  <a:srgbClr val="ffffff"/>
                </a:solidFill>
                <a:latin typeface="CopprplGoth Bd BT"/>
              </a:rPr>
              <a:t>El propósito central del grupo pequeño de estudios bíblicos debe ser incentivar el aprendizaje de Jesús y el gozo de seguir en los pasos del Maestro de los Maest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320" y="0"/>
            <a:ext cx="9220320" cy="6934320"/>
          </a:xfrm>
          <a:prstGeom prst="rect">
            <a:avLst/>
          </a:prstGeom>
          <a:ln w="0">
            <a:noFill/>
          </a:ln>
        </p:spPr>
      </p:pic>
      <p:sp>
        <p:nvSpPr>
          <p:cNvPr id="187" name="PlaceHolder 1"/>
          <p:cNvSpPr>
            <a:spLocks noGrp="1"/>
          </p:cNvSpPr>
          <p:nvPr>
            <p:ph/>
          </p:nvPr>
        </p:nvSpPr>
        <p:spPr>
          <a:xfrm>
            <a:off x="533520" y="13716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Debido al tiempo de oración y la aplicación de las Escrituras, los miembros del grupo pueden manifestar ítems personales que son esenciales mantenerlos secretos en el grupo. Sería bueno recordar cada vez al grupo, de mantener la confidencia. Si alguien comenta acerca de estas cosas fuera del grupo, puede ser frustrante para el grupo de estudio.</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88"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Confidencialidad:</a:t>
            </a:r>
            <a:r>
              <a:rPr b="1"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76320" y="0"/>
            <a:ext cx="9220320" cy="6934320"/>
          </a:xfrm>
          <a:prstGeom prst="rect">
            <a:avLst/>
          </a:prstGeom>
          <a:ln w="0">
            <a:noFill/>
          </a:ln>
        </p:spPr>
      </p:pic>
      <p:sp>
        <p:nvSpPr>
          <p:cNvPr id="1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Unicode MS"/>
                <a:ea typeface="Arial Unicode MS"/>
              </a:rPr>
              <a:t>∙  </a:t>
            </a:r>
            <a:r>
              <a:rPr b="1" i="1" lang="es-ES" sz="2800" spc="-1" strike="noStrike">
                <a:solidFill>
                  <a:srgbClr val="000000"/>
                </a:solidFill>
                <a:latin typeface="Arial"/>
              </a:rPr>
              <a:t>¿Qué dice la Biblia sobre D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dice sobre de m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Cómo me pide que respon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dijo a la gente para quienes fue escr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Cómo se puede aplicar a nuestras vid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aprendiste? ¿Qué observaste? ¿Qué descubris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te impresionó?</a:t>
            </a:r>
            <a:endParaRPr b="0" lang="en-US" sz="2800" spc="-1" strike="noStrike">
              <a:solidFill>
                <a:srgbClr val="000000"/>
              </a:solidFill>
              <a:latin typeface="Arial"/>
            </a:endParaRPr>
          </a:p>
        </p:txBody>
      </p:sp>
      <p:sp>
        <p:nvSpPr>
          <p:cNvPr id="191"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Al leer la </a:t>
            </a:r>
            <a:r>
              <a:rPr b="1" lang="es-ES_tradnl" sz="4000" spc="-1" strike="noStrike">
                <a:solidFill>
                  <a:srgbClr val="ffffff"/>
                </a:solidFill>
                <a:latin typeface="CopprplGoth Bd BT"/>
              </a:rPr>
              <a:t>Palabra de Dios haga preguntas como estas</a:t>
            </a:r>
            <a:r>
              <a:rPr b="0" lang="en-US" sz="4000" spc="-1" strike="noStrike">
                <a:solidFill>
                  <a:srgbClr val="ffffff"/>
                </a:solidFill>
                <a:latin typeface="CopprplGoth Bd BT"/>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76320" y="0"/>
            <a:ext cx="9220320" cy="6934320"/>
          </a:xfrm>
          <a:prstGeom prst="rect">
            <a:avLst/>
          </a:prstGeom>
          <a:ln w="0">
            <a:noFill/>
          </a:ln>
        </p:spPr>
      </p:pic>
      <p:sp>
        <p:nvSpPr>
          <p:cNvPr id="193" name="PlaceHolder 1"/>
          <p:cNvSpPr>
            <a:spLocks noGrp="1"/>
          </p:cNvSpPr>
          <p:nvPr>
            <p:ph/>
          </p:nvPr>
        </p:nvSpPr>
        <p:spPr>
          <a:xfrm>
            <a:off x="304560" y="1371600"/>
            <a:ext cx="8458200" cy="4525920"/>
          </a:xfrm>
          <a:prstGeom prst="rect">
            <a:avLst/>
          </a:prstGeom>
          <a:noFill/>
          <a:ln w="0">
            <a:noFill/>
          </a:ln>
        </p:spPr>
        <p:txBody>
          <a:bodyPr lIns="90000" rIns="90000" tIns="46800" bIns="46800" anchor="t">
            <a:normAutofit fontScale="98000"/>
          </a:bodyPr>
          <a:p>
            <a:pPr marL="597240" indent="-59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arejas de oración orando por el éxito de cada reunión y sus participantes, aún cuando la reunión se está llevando a cabo.</a:t>
            </a:r>
            <a:endParaRPr b="0" lang="en-US" sz="3200" spc="-1" strike="noStrike">
              <a:solidFill>
                <a:srgbClr val="000000"/>
              </a:solidFill>
              <a:latin typeface="Arial"/>
            </a:endParaRPr>
          </a:p>
          <a:p>
            <a:pPr marL="597240" indent="-59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gente quiere oírle decir una y otra vez, que usted interpreta la Biblia (por ejemplo, Daniel) por lo que la Biblia dice; que usted deja que la Biblia se explique por sí misma.</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94" name="PlaceHolder 2"/>
          <p:cNvSpPr>
            <a:spLocks noGrp="1"/>
          </p:cNvSpPr>
          <p:nvPr>
            <p:ph type="title"/>
          </p:nvPr>
        </p:nvSpPr>
        <p:spPr>
          <a:xfrm>
            <a:off x="457200" y="685440"/>
            <a:ext cx="8229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4 Claves </a:t>
            </a:r>
            <a:r>
              <a:rPr b="1" lang="es-ES_tradnl" sz="4000" spc="-1" strike="noStrike">
                <a:solidFill>
                  <a:srgbClr val="ffffff"/>
                </a:solidFill>
                <a:latin typeface="CopprplGoth Bd BT"/>
              </a:rPr>
              <a:t>vitales para el éxito:</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76320" y="0"/>
            <a:ext cx="9220320" cy="6934320"/>
          </a:xfrm>
          <a:prstGeom prst="rect">
            <a:avLst/>
          </a:prstGeom>
          <a:ln w="0">
            <a:noFill/>
          </a:ln>
        </p:spPr>
      </p:pic>
      <p:sp>
        <p:nvSpPr>
          <p:cNvPr id="196" name="PlaceHolder 1"/>
          <p:cNvSpPr>
            <a:spLocks noGrp="1"/>
          </p:cNvSpPr>
          <p:nvPr>
            <p:ph/>
          </p:nvPr>
        </p:nvSpPr>
        <p:spPr>
          <a:xfrm>
            <a:off x="151920" y="609480"/>
            <a:ext cx="8915400" cy="51055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3. </a:t>
            </a:r>
            <a:r>
              <a:rPr b="1" lang="en-US" sz="2800" spc="-1" strike="noStrike">
                <a:solidFill>
                  <a:srgbClr val="000000"/>
                </a:solidFill>
                <a:latin typeface="CopprplGoth Bd BT"/>
              </a:rPr>
              <a:t>	</a:t>
            </a:r>
            <a:r>
              <a:rPr b="1" lang="es-ES" sz="2400" spc="-1" strike="noStrike">
                <a:solidFill>
                  <a:srgbClr val="000000"/>
                </a:solidFill>
                <a:latin typeface="Arial"/>
              </a:rPr>
              <a:t>Es necesario que usted haga claro a la gente que está viniendo al seminario que su propósito es exaltar a Jesucristo; hable de Jesús; deje que la gente sepa que usted ama a Jesús, que usted tiene una relación personal con Él y que quiere que ellos tengan esa misma relación personal con Jesús.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Comparta con ellos que nuestro propósito de estudiar los eventos de los últimos días no es solo para que tengan un entendimiento detallado de los últimos días, sino también para ayudarlos a que se preparen para ese tiempo. Hágales saber que usted está más interesado en su preparación para el día del Señor que con el orden exacto de los eventos.</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6320" y="0"/>
            <a:ext cx="9220320" cy="6934320"/>
          </a:xfrm>
          <a:prstGeom prst="rect">
            <a:avLst/>
          </a:prstGeom>
          <a:ln w="0">
            <a:noFill/>
          </a:ln>
        </p:spPr>
      </p:pic>
      <p:sp>
        <p:nvSpPr>
          <p:cNvPr id="198" name="PlaceHolder 1"/>
          <p:cNvSpPr>
            <a:spLocks noGrp="1"/>
          </p:cNvSpPr>
          <p:nvPr>
            <p:ph/>
          </p:nvPr>
        </p:nvSpPr>
        <p:spPr>
          <a:xfrm>
            <a:off x="304920" y="1447920"/>
            <a:ext cx="8610480" cy="4419360"/>
          </a:xfrm>
          <a:prstGeom prst="rect">
            <a:avLst/>
          </a:prstGeom>
          <a:noFill/>
          <a:ln w="0">
            <a:noFill/>
          </a:ln>
        </p:spPr>
        <p:txBody>
          <a:bodyPr lIns="90000" rIns="90000" tIns="46800" bIns="46800"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1.</a:t>
            </a:r>
            <a:r>
              <a:rPr b="1" lang="es-ES" sz="2800" spc="-1" strike="noStrike">
                <a:solidFill>
                  <a:srgbClr val="000000"/>
                </a:solidFill>
                <a:latin typeface="Arial"/>
              </a:rPr>
              <a:t>	</a:t>
            </a:r>
            <a:r>
              <a:rPr b="1" lang="es-ES" sz="2800" spc="-1" strike="noStrike">
                <a:solidFill>
                  <a:srgbClr val="000000"/>
                </a:solidFill>
                <a:latin typeface="Arial"/>
              </a:rPr>
              <a:t>Ir.</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2.  Hacer discípulos.</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3.</a:t>
            </a:r>
            <a:r>
              <a:rPr b="1" lang="es-ES" sz="2800" spc="-1" strike="noStrike">
                <a:solidFill>
                  <a:srgbClr val="000000"/>
                </a:solidFill>
                <a:latin typeface="Arial"/>
              </a:rPr>
              <a:t>	</a:t>
            </a:r>
            <a:r>
              <a:rPr b="1" lang="es-ES" sz="2800" spc="-1" strike="noStrike">
                <a:solidFill>
                  <a:srgbClr val="000000"/>
                </a:solidFill>
                <a:latin typeface="Arial"/>
              </a:rPr>
              <a:t>Bautizarlos.</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4.</a:t>
            </a:r>
            <a:r>
              <a:rPr b="1" lang="es-ES" sz="2800" spc="-1" strike="noStrike">
                <a:solidFill>
                  <a:srgbClr val="000000"/>
                </a:solidFill>
                <a:latin typeface="Arial"/>
              </a:rPr>
              <a:t>	</a:t>
            </a:r>
            <a:r>
              <a:rPr b="1" lang="es-ES" sz="2800" spc="-1" strike="noStrike">
                <a:solidFill>
                  <a:srgbClr val="000000"/>
                </a:solidFill>
                <a:latin typeface="Arial"/>
              </a:rPr>
              <a:t>“Enséñales a obedecer todo lo que he </a:t>
            </a:r>
            <a:r>
              <a:rPr b="1" lang="es-ES" sz="2800" spc="-1" strike="noStrike">
                <a:solidFill>
                  <a:srgbClr val="000000"/>
                </a:solidFill>
                <a:latin typeface="Arial"/>
              </a:rPr>
              <a:t>	</a:t>
            </a:r>
            <a:r>
              <a:rPr b="1" lang="es-ES" sz="2800" spc="-1" strike="noStrike">
                <a:solidFill>
                  <a:srgbClr val="000000"/>
                </a:solidFill>
                <a:latin typeface="Arial"/>
              </a:rPr>
              <a:t>ordenado”.</a:t>
            </a:r>
            <a:endParaRPr b="0" lang="en-US" sz="2800" spc="-1" strike="noStrike">
              <a:solidFill>
                <a:srgbClr val="000000"/>
              </a:solidFill>
              <a:latin typeface="Arial"/>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Como una iglesia atendemos bien a los miembros 1, 2, 3, y lo hacemos mucho mejor con el número 4 antes del bautismo. Pero después del bautismo, no enseñamos, ni capacitamos bien. Esta es una de las razones por la que perdemos muchos miembros.</a:t>
            </a:r>
            <a:endParaRPr b="0" lang="en-US" sz="2800" spc="-1" strike="noStrike">
              <a:solidFill>
                <a:srgbClr val="000000"/>
              </a:solidFill>
              <a:latin typeface="Arial"/>
            </a:endParaRPr>
          </a:p>
        </p:txBody>
      </p:sp>
      <p:sp>
        <p:nvSpPr>
          <p:cNvPr id="199"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En </a:t>
            </a:r>
            <a:r>
              <a:rPr b="1" lang="es-ES_tradnl" sz="4000" spc="-1" strike="noStrike">
                <a:solidFill>
                  <a:srgbClr val="ffffff"/>
                </a:solidFill>
                <a:latin typeface="CopprplGoth Bd BT"/>
              </a:rPr>
              <a:t>Mateo 28, Jesús nos dice cuatro cosas:</a:t>
            </a:r>
            <a:r>
              <a:rPr b="1"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0" y="-81000"/>
            <a:ext cx="9144000" cy="6948360"/>
          </a:xfrm>
          <a:prstGeom prst="rect">
            <a:avLst/>
          </a:prstGeom>
          <a:ln w="0">
            <a:noFill/>
          </a:ln>
        </p:spPr>
      </p:pic>
      <p:sp>
        <p:nvSpPr>
          <p:cNvPr id="67" name="PlaceHolder 2"/>
          <p:cNvSpPr>
            <a:spLocks noGrp="1"/>
          </p:cNvSpPr>
          <p:nvPr>
            <p:ph/>
          </p:nvPr>
        </p:nvSpPr>
        <p:spPr>
          <a:xfrm>
            <a:off x="5334120" y="731520"/>
            <a:ext cx="3657600" cy="5668920"/>
          </a:xfrm>
          <a:prstGeom prst="rect">
            <a:avLst/>
          </a:prstGeom>
          <a:noFill/>
          <a:ln w="0">
            <a:noFill/>
          </a:ln>
          <a:effectLst>
            <a:outerShdw dist="17819" dir="2700000" blurRad="0" rotWithShape="0">
              <a:srgbClr val="000000"/>
            </a:outerShdw>
          </a:effectLst>
        </p:spPr>
        <p:txBody>
          <a:bodyPr lIns="90000" rIns="90000" tIns="46800" bIns="46800" anchor="t">
            <a:normAutofit fontScale="90000"/>
          </a:bodyPr>
          <a:p>
            <a:pPr marL="30852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e énfasis sobre evangelismo y ministerio combinados, hace un llamado a ministrar - a aquellos en necesidad física, emocional y material, así como también a evangelizar – a aquellos en necesidad espiritual.</a:t>
            </a:r>
            <a:r>
              <a:rPr b="0" lang="es-ES" sz="2800" spc="-1" strike="noStrike">
                <a:solidFill>
                  <a:srgbClr val="ffffff"/>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1" name="" descr=""/>
          <p:cNvPicPr/>
          <p:nvPr/>
        </p:nvPicPr>
        <p:blipFill>
          <a:blip r:embed="rId1"/>
          <a:stretch/>
        </p:blipFill>
        <p:spPr>
          <a:xfrm>
            <a:off x="-76320" y="0"/>
            <a:ext cx="9220320" cy="6934320"/>
          </a:xfrm>
          <a:prstGeom prst="rect">
            <a:avLst/>
          </a:prstGeom>
          <a:ln w="0">
            <a:noFill/>
          </a:ln>
        </p:spPr>
      </p:pic>
      <p:sp>
        <p:nvSpPr>
          <p:cNvPr id="202" name="PlaceHolder 2"/>
          <p:cNvSpPr>
            <a:spLocks noGrp="1"/>
          </p:cNvSpPr>
          <p:nvPr>
            <p:ph/>
          </p:nvPr>
        </p:nvSpPr>
        <p:spPr>
          <a:xfrm>
            <a:off x="151920" y="426600"/>
            <a:ext cx="8991720" cy="5745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Hay que tratar con paciencia y ternura a los recién llegados a la fe, y los miembros más antiguos de la iglesia tienen el deber de encontrar la forma de proporcionar ayuda, simpatía e instrucción para los que han salido de otras iglesias por amor a la verdad, y que en esta forma se han separado de la obra pastoral a la que habían estado acostumbrado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spués que las personas se han convertido a la verdad, es necesario cuidarlas. El celo de muchos ministros parece cesar tan pronto como cierta medida de éxito acompaña sus esfuerzos. No se dan cuenta de que muchos recién convertidos necesitan cuidados, atención vigilante, ayuda y estímulo. No se los debe dejar solos, a merced de las más poderosas tentaciones de Satanás; necesitan ser educados con respecto a sus deberes; hay que tratarlos bondadosamente, conducirlos, visitarlos y orar con ellos. Estas almas necesitan el alimento asignado a cada uno a su debido tiempo”. </a:t>
            </a:r>
            <a:r>
              <a:rPr b="0" i="1" lang="es-ES" sz="2400" spc="-1" strike="noStrike">
                <a:solidFill>
                  <a:srgbClr val="000000"/>
                </a:solidFill>
                <a:latin typeface="Arial"/>
              </a:rPr>
              <a:t>(Evangelismo, p. 258)</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PlaceHolder 1"/>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1. </a:t>
            </a:r>
            <a:r>
              <a:rPr b="1" lang="es-ES_tradnl" sz="2800" spc="-1" strike="noStrike">
                <a:solidFill>
                  <a:srgbClr val="000000"/>
                </a:solidFill>
                <a:latin typeface="CopprplGoth Bd BT"/>
              </a:rPr>
              <a:t>Organice un comité de nuevos miembros</a:t>
            </a: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2. Banquete con los nuevos miembros</a:t>
            </a: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3. Visitación a los nuevos miembros</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	</a:t>
            </a:r>
            <a:r>
              <a:rPr b="1" lang="es-ES_tradnl" sz="2400" spc="-1" strike="noStrike">
                <a:solidFill>
                  <a:srgbClr val="000000"/>
                </a:solidFill>
                <a:latin typeface="CopprplGoth Bd BT"/>
              </a:rPr>
              <a:t>- Una vez a la semana durante el primer me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pprplGoth Bd BT"/>
              </a:rPr>
              <a:t>	</a:t>
            </a:r>
            <a:r>
              <a:rPr b="1" lang="es-ES_tradnl" sz="2400" spc="-1" strike="noStrike">
                <a:solidFill>
                  <a:srgbClr val="000000"/>
                </a:solidFill>
                <a:latin typeface="CopprplGoth Bd BT"/>
              </a:rPr>
              <a:t>- Una vez al mes durante el primer año</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pprplGoth Bd BT"/>
              </a:rPr>
              <a:t>	</a:t>
            </a:r>
            <a:r>
              <a:rPr b="1" lang="es-ES_tradnl" sz="2400" spc="-1" strike="noStrike">
                <a:solidFill>
                  <a:srgbClr val="000000"/>
                </a:solidFill>
                <a:latin typeface="CopprplGoth Bd BT"/>
              </a:rPr>
              <a:t>- Deje libros especiales: Meditaciones Matinales, </a:t>
            </a:r>
            <a:r>
              <a:rPr b="1" lang="es-ES_tradnl" sz="2400" spc="-1" strike="noStrike">
                <a:solidFill>
                  <a:srgbClr val="000000"/>
                </a:solidFill>
                <a:latin typeface="CopprplGoth Bd BT"/>
              </a:rPr>
              <a:t>	</a:t>
            </a:r>
            <a:r>
              <a:rPr b="1" lang="es-ES_tradnl" sz="2400" spc="-1" strike="noStrike">
                <a:solidFill>
                  <a:srgbClr val="000000"/>
                </a:solidFill>
                <a:latin typeface="CopprplGoth Bd BT"/>
              </a:rPr>
              <a:t>Espíritu de Profecía, revistas, etc.</a:t>
            </a:r>
            <a:endParaRPr b="0" lang="en-US" sz="24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4. Esté atento a cualquier señal sobre problemas o ajustes.</a:t>
            </a:r>
            <a:endParaRPr b="0" lang="en-US" sz="2800" spc="-1" strike="noStrike">
              <a:solidFill>
                <a:srgbClr val="000000"/>
              </a:solidFill>
              <a:latin typeface="Arial"/>
            </a:endParaRPr>
          </a:p>
        </p:txBody>
      </p:sp>
      <p:sp>
        <p:nvSpPr>
          <p:cNvPr id="205"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Ayudando a los nuevos miembros a sentirse en cas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144000" cy="6858000"/>
          </a:xfrm>
          <a:prstGeom prst="rect">
            <a:avLst/>
          </a:prstGeom>
          <a:ln w="0">
            <a:noFill/>
          </a:ln>
        </p:spPr>
      </p:pic>
      <p:sp>
        <p:nvSpPr>
          <p:cNvPr id="207" name="PlaceHolder 1"/>
          <p:cNvSpPr>
            <a:spLocks noGrp="1"/>
          </p:cNvSpPr>
          <p:nvPr>
            <p:ph/>
          </p:nvPr>
        </p:nvSpPr>
        <p:spPr>
          <a:xfrm>
            <a:off x="457200" y="2103120"/>
            <a:ext cx="8229600" cy="33066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Tomará tiempo para que los nuevos miembros cambien sus estilos de vida.</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Déles tiempo. </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Muéstreles cómo hacer. </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Invítelos a su hogar. </a:t>
            </a:r>
            <a:endParaRPr b="0" lang="en-US" sz="3200" spc="-1" strike="noStrike">
              <a:solidFill>
                <a:srgbClr val="000000"/>
              </a:solidFill>
              <a:latin typeface="Arial"/>
            </a:endParaRPr>
          </a:p>
        </p:txBody>
      </p:sp>
      <p:sp>
        <p:nvSpPr>
          <p:cNvPr id="208" name="PlaceHolder 2"/>
          <p:cNvSpPr>
            <a:spLocks noGrp="1"/>
          </p:cNvSpPr>
          <p:nvPr>
            <p:ph type="title"/>
          </p:nvPr>
        </p:nvSpPr>
        <p:spPr>
          <a:xfrm>
            <a:off x="457200" y="6854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Cambios en el estilo de vida</a:t>
            </a:r>
            <a:br>
              <a:rPr sz="4000"/>
            </a:br>
            <a:r>
              <a:rPr b="1" lang="es-ES_tradnl" sz="4000" spc="-1" strike="noStrike">
                <a:solidFill>
                  <a:srgbClr val="ffffff"/>
                </a:solidFill>
                <a:latin typeface="CopprplGoth Bd BT"/>
              </a:rPr>
              <a:t>Recuerde:</a:t>
            </a:r>
            <a:r>
              <a:rPr b="1"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0" name="" descr=""/>
          <p:cNvPicPr/>
          <p:nvPr/>
        </p:nvPicPr>
        <p:blipFill>
          <a:blip r:embed="rId1"/>
          <a:stretch/>
        </p:blipFill>
        <p:spPr>
          <a:xfrm>
            <a:off x="0" y="0"/>
            <a:ext cx="9144000" cy="6858000"/>
          </a:xfrm>
          <a:prstGeom prst="rect">
            <a:avLst/>
          </a:prstGeom>
          <a:ln w="0">
            <a:noFill/>
          </a:ln>
        </p:spPr>
      </p:pic>
      <p:sp>
        <p:nvSpPr>
          <p:cNvPr id="211" name="PlaceHolder 2"/>
          <p:cNvSpPr>
            <a:spLocks noGrp="1"/>
          </p:cNvSpPr>
          <p:nvPr>
            <p:ph/>
          </p:nvPr>
        </p:nvSpPr>
        <p:spPr>
          <a:xfrm>
            <a:off x="1066680" y="1417320"/>
            <a:ext cx="7391520" cy="38401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o de los cambios más difíciles del estilo de vida por supuesto que es el </a:t>
            </a:r>
            <a:r>
              <a:rPr b="1" lang="es-ES_tradnl" sz="4000" spc="-1" strike="noStrike" u="sng">
                <a:solidFill>
                  <a:srgbClr val="000000"/>
                </a:solidFill>
                <a:uFillTx/>
                <a:latin typeface="CopprplGoth Bd BT"/>
              </a:rPr>
              <a:t>Sábado</a:t>
            </a:r>
            <a:r>
              <a:rPr b="1" lang="es-ES_tradnl" sz="4000" spc="-1" strike="noStrike">
                <a:solidFill>
                  <a:srgbClr val="000000"/>
                </a:solidFill>
                <a:latin typeface="CopprplGoth Bd BT"/>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 debería pasar un tiempo discutiendo por qué Dios nos dio el  </a:t>
            </a:r>
            <a:r>
              <a:rPr b="1" lang="es-ES_tradnl" sz="2800" spc="-1" strike="noStrike" u="sng">
                <a:solidFill>
                  <a:srgbClr val="000000"/>
                </a:solidFill>
                <a:uFillTx/>
                <a:latin typeface="CopprplGoth Bd BT"/>
              </a:rPr>
              <a:t>Sábado</a:t>
            </a:r>
            <a:r>
              <a:rPr b="1" lang="es-ES_tradnl" sz="2800" spc="-1" strike="noStrike">
                <a:solidFill>
                  <a:srgbClr val="000000"/>
                </a:solidFill>
                <a:latin typeface="CopprplGoth Bd B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3" name="" descr=""/>
          <p:cNvPicPr/>
          <p:nvPr/>
        </p:nvPicPr>
        <p:blipFill>
          <a:blip r:embed="rId1"/>
          <a:stretch/>
        </p:blipFill>
        <p:spPr>
          <a:xfrm>
            <a:off x="0" y="0"/>
            <a:ext cx="9144000" cy="6858000"/>
          </a:xfrm>
          <a:prstGeom prst="rect">
            <a:avLst/>
          </a:prstGeom>
          <a:ln w="0">
            <a:noFill/>
          </a:ln>
        </p:spPr>
      </p:pic>
      <p:sp>
        <p:nvSpPr>
          <p:cNvPr id="214"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beríamos enfatizar una y otra vez que Dios nos dio el Sábado para que pudiéramos tener un tiempo maravilloso con Él, y para desarrollar una relación íntima y poderosa con Él. Así las nuevas personas no tendrán mucho problema con qué actividades  vincularse el Sábado, pues ellas mismas decidirán qué hacer, sabiendo que Dios está personalmente con ellas en ese día, y querrán concentrarse en Él y estar con É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6" name="" descr=""/>
          <p:cNvPicPr/>
          <p:nvPr/>
        </p:nvPicPr>
        <p:blipFill>
          <a:blip r:embed="rId1"/>
          <a:stretch/>
        </p:blipFill>
        <p:spPr>
          <a:xfrm>
            <a:off x="0" y="0"/>
            <a:ext cx="9144000" cy="6858000"/>
          </a:xfrm>
          <a:prstGeom prst="rect">
            <a:avLst/>
          </a:prstGeom>
          <a:ln w="0">
            <a:noFill/>
          </a:ln>
        </p:spPr>
      </p:pic>
      <p:sp>
        <p:nvSpPr>
          <p:cNvPr id="217" name="PlaceHolder 2"/>
          <p:cNvSpPr>
            <a:spLocks noGrp="1"/>
          </p:cNvSpPr>
          <p:nvPr>
            <p:ph/>
          </p:nvPr>
        </p:nvSpPr>
        <p:spPr>
          <a:xfrm>
            <a:off x="533520" y="914400"/>
            <a:ext cx="8229600" cy="46483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a de las mejores maneras para ayudar a los nuevos miembros a que conozcan cómo guardar el Sábado es invitándolos a pasar con usted en su hogar. Invítelos para recibir el sábado los viernes por la noche, para el almuerzo del sábado, y el sábado por la tarde vayan juntos a la actividad misionera, a un culto, o a observar la naturaleza, finalmente despidan el sábado juntos</a:t>
            </a:r>
            <a:r>
              <a:rPr b="1" lang="en-US" sz="2800" spc="-1" strike="noStrike">
                <a:solidFill>
                  <a:srgbClr val="000000"/>
                </a:solidFill>
                <a:latin typeface="CopprplGoth Bd B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9" name="" descr=""/>
          <p:cNvPicPr/>
          <p:nvPr/>
        </p:nvPicPr>
        <p:blipFill>
          <a:blip r:embed="rId1"/>
          <a:stretch/>
        </p:blipFill>
        <p:spPr>
          <a:xfrm>
            <a:off x="0" y="0"/>
            <a:ext cx="9144000" cy="6858000"/>
          </a:xfrm>
          <a:prstGeom prst="rect">
            <a:avLst/>
          </a:prstGeom>
          <a:ln w="0">
            <a:noFill/>
          </a:ln>
          <a:effectLst>
            <a:outerShdw dist="17819" dir="2700000" blurRad="0" rotWithShape="0">
              <a:srgbClr val="009999"/>
            </a:outerShdw>
          </a:effectLst>
        </p:spPr>
      </p:pic>
      <p:sp>
        <p:nvSpPr>
          <p:cNvPr id="220" name="PlaceHolder 2"/>
          <p:cNvSpPr>
            <a:spLocks noGrp="1"/>
          </p:cNvSpPr>
          <p:nvPr>
            <p:ph/>
          </p:nvPr>
        </p:nvSpPr>
        <p:spPr>
          <a:xfrm>
            <a:off x="457200" y="762120"/>
            <a:ext cx="8229600" cy="5364000"/>
          </a:xfrm>
          <a:prstGeom prst="rect">
            <a:avLst/>
          </a:prstGeom>
          <a:noFill/>
          <a:ln w="0">
            <a:noFill/>
          </a:ln>
          <a:effectLst>
            <a:outerShdw dist="64600" dir="674838" blurRad="0" rotWithShape="0">
              <a:srgbClr val="009999"/>
            </a:outerShdw>
          </a:effectLst>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pprplGoth Bd BT"/>
              </a:rPr>
              <a:t>¿</a:t>
            </a:r>
            <a:r>
              <a:rPr b="0" lang="es-ES_tradnl" sz="5400" spc="-1" strike="noStrike">
                <a:solidFill>
                  <a:srgbClr val="ffffff"/>
                </a:solidFill>
                <a:latin typeface="CopprplGoth Bd BT"/>
              </a:rPr>
              <a:t>Es posible que las mujeres se involucren en el evangelismo? </a:t>
            </a:r>
            <a:endParaRPr b="0" lang="en-US" sz="5400" spc="-1" strike="noStrike">
              <a:solidFill>
                <a:srgbClr val="000000"/>
              </a:solidFill>
              <a:latin typeface="Arial"/>
            </a:endParaRPr>
          </a:p>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660066"/>
                </a:solidFill>
                <a:latin typeface="CopprplGoth Bd BT"/>
              </a:rPr>
              <a:t>!Por supuesto</a:t>
            </a:r>
            <a:r>
              <a:rPr b="1" lang="en-US" sz="7200" spc="-1" strike="noStrike">
                <a:solidFill>
                  <a:srgbClr val="660066"/>
                </a:solidFill>
                <a:latin typeface="CopprplGoth Bd BT"/>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6320" y="0"/>
            <a:ext cx="9220320" cy="6934320"/>
          </a:xfrm>
          <a:prstGeom prst="rect">
            <a:avLst/>
          </a:prstGeom>
          <a:ln w="0">
            <a:noFill/>
          </a:ln>
        </p:spPr>
      </p:pic>
      <p:sp>
        <p:nvSpPr>
          <p:cNvPr id="69" name="PlaceHolder 1"/>
          <p:cNvSpPr>
            <a:spLocks noGrp="1"/>
          </p:cNvSpPr>
          <p:nvPr>
            <p:ph/>
          </p:nvPr>
        </p:nvSpPr>
        <p:spPr>
          <a:xfrm>
            <a:off x="533520" y="1447560"/>
            <a:ext cx="8610480" cy="4267080"/>
          </a:xfrm>
          <a:prstGeom prst="rect">
            <a:avLst/>
          </a:prstGeom>
          <a:noFill/>
          <a:ln w="0">
            <a:noFill/>
          </a:ln>
        </p:spPr>
        <p:txBody>
          <a:bodyPr lIns="90000" rIns="90000" tIns="46800" bIns="46800" anchor="t">
            <a:normAutofit fontScale="99000"/>
          </a:bodyPr>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Erradicar la extrema pobreza y el hambre.</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cance universal de la Educación primaria.</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mover la igualdad de géneros y capacitación a                    las mujeres.</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   Reducir la mortalidad infantil.</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   Mejorar la salud materna.</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   Combatir el SIDA/HIV, la malaria y otras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enfermedades.</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segurar la continuidad ambiental.</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ar una sociedad global para el desarrollo.</a:t>
            </a:r>
            <a:endParaRPr b="0" lang="en-US" sz="2400" spc="-1" strike="noStrike">
              <a:solidFill>
                <a:srgbClr val="000000"/>
              </a:solidFill>
              <a:latin typeface="Arial"/>
            </a:endParaRPr>
          </a:p>
        </p:txBody>
      </p:sp>
      <p:sp>
        <p:nvSpPr>
          <p:cNvPr id="70" name="PlaceHolder 2"/>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CopprplGoth Bd BT"/>
              </a:rPr>
              <a:t>Los objetivos del desarrollo del Milenio de las Naciones Unidas son</a:t>
            </a:r>
            <a:r>
              <a:rPr b="1" lang="en-US" sz="3600" spc="-1" strike="noStrike">
                <a:solidFill>
                  <a:srgbClr val="ffffff"/>
                </a:solidFill>
                <a:latin typeface="CopprplGoth Bd B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6320" y="0"/>
            <a:ext cx="9220320" cy="6934320"/>
          </a:xfrm>
          <a:prstGeom prst="rect">
            <a:avLst/>
          </a:prstGeom>
          <a:ln w="0">
            <a:noFill/>
          </a:ln>
        </p:spPr>
      </p:pic>
      <p:sp>
        <p:nvSpPr>
          <p:cNvPr id="72" name="PlaceHolder 1"/>
          <p:cNvSpPr>
            <a:spLocks noGrp="1"/>
          </p:cNvSpPr>
          <p:nvPr>
            <p:ph/>
          </p:nvPr>
        </p:nvSpPr>
        <p:spPr>
          <a:xfrm>
            <a:off x="1066320" y="1676520"/>
            <a:ext cx="762012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  Riesgos de la salu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B.  Cargas de trabajo de la muje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  Pobrez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  Falta de entrenamiento,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experiencia y oportunidad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  Abus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  Analfabetismo.</a:t>
            </a:r>
            <a:br>
              <a:rPr sz="3200"/>
            </a:br>
            <a:endParaRPr b="0" lang="en-US" sz="3200" spc="-1" strike="noStrike">
              <a:solidFill>
                <a:srgbClr val="000000"/>
              </a:solidFill>
              <a:latin typeface="Arial"/>
            </a:endParaRPr>
          </a:p>
        </p:txBody>
      </p:sp>
      <p:sp>
        <p:nvSpPr>
          <p:cNvPr id="73"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Los seis temas de desafío en los Ministerios de la Muj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4045680" y="1368720"/>
            <a:ext cx="5089680" cy="491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pprplGoth Bd BT"/>
              </a:rPr>
              <a:t>Algunos problemas importan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pprplGoth Bd BT"/>
              </a:rPr>
              <a:t>de salud</a:t>
            </a:r>
            <a:r>
              <a:rPr b="1" lang="es-ES_tradnl" sz="2400" spc="-1" strike="noStrike">
                <a:solidFill>
                  <a:srgbClr val="000000"/>
                </a:solidFill>
                <a:latin typeface="CopprplGoth Bd BT"/>
              </a:rPr>
              <a:t>:</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HIV/SID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Salud mater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Estilo de vida saludab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Cánc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epres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Síndrome de fatiga crón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esórdenes al com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Enfermedades del coraz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iabet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Hipertens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Cigarri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76" name="PlaceHolder 1"/>
          <p:cNvSpPr>
            <a:spLocks noGrp="1"/>
          </p:cNvSpPr>
          <p:nvPr>
            <p:ph type="title"/>
          </p:nvPr>
        </p:nvSpPr>
        <p:spPr>
          <a:xfrm>
            <a:off x="457200" y="304920"/>
            <a:ext cx="82296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Tema </a:t>
            </a:r>
            <a:r>
              <a:rPr b="1" lang="en-US" sz="4000" spc="-1" strike="noStrike">
                <a:solidFill>
                  <a:srgbClr val="ffffff"/>
                </a:solidFill>
                <a:latin typeface="CopprplGoth Bd BT"/>
              </a:rPr>
              <a:t>1: RIESGOS DE LA SALUD </a:t>
            </a:r>
            <a:endParaRPr b="0" lang="en-US" sz="4000" spc="-1" strike="noStrike">
              <a:solidFill>
                <a:srgbClr val="000000"/>
              </a:solidFill>
              <a:latin typeface="Arial"/>
            </a:endParaRPr>
          </a:p>
        </p:txBody>
      </p:sp>
      <p:sp>
        <p:nvSpPr>
          <p:cNvPr id="77" name="PlaceHolder 2"/>
          <p:cNvSpPr>
            <a:spLocks noGrp="1"/>
          </p:cNvSpPr>
          <p:nvPr>
            <p:ph/>
          </p:nvPr>
        </p:nvSpPr>
        <p:spPr>
          <a:xfrm>
            <a:off x="228240" y="1417680"/>
            <a:ext cx="3505320" cy="452592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cluye</a:t>
            </a:r>
            <a:endParaRPr b="0" lang="en-US" sz="24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 bienestar físico, social y emocional que está directamente afectado por factores económicos, políticos y sociales. La calidad de la salud de una mujer impacta directamente su vida y su bienestar, su familia y la sociedad</a:t>
            </a:r>
            <a:r>
              <a:rPr b="1" lang="es-ES" sz="2000" spc="-1" strike="noStrike" u="sng">
                <a:solidFill>
                  <a:srgbClr val="000000"/>
                </a:solidFill>
                <a:uFillTx/>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609480" y="1600200"/>
            <a:ext cx="8229600" cy="4038480"/>
          </a:xfrm>
          <a:prstGeom prst="rect">
            <a:avLst/>
          </a:prstGeom>
          <a:noFill/>
          <a:ln w="0">
            <a:noFill/>
          </a:ln>
        </p:spPr>
        <p:txBody>
          <a:bodyPr lIns="90000" rIns="90000" tIns="46800" bIns="46800" anchor="t">
            <a:normAutofit fontScale="98000"/>
          </a:bodyPr>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ogramas sobre colesterol/Presión arterial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spiración libre para mujeres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evención de la osteoporosis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jercicio</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ntrol de peso </a:t>
            </a:r>
            <a:endParaRPr b="0" lang="en-US" sz="2800" spc="-1" strike="noStrike">
              <a:solidFill>
                <a:srgbClr val="000000"/>
              </a:solidFill>
              <a:latin typeface="Arial"/>
            </a:endParaRPr>
          </a:p>
          <a:p>
            <a:pPr lvl="1" marL="727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cina vegetariana</a:t>
            </a:r>
            <a:r>
              <a:rPr b="1" lang="es-ES_tradnl" sz="2400" spc="-1" strike="noStrike">
                <a:solidFill>
                  <a:srgbClr val="000000"/>
                </a:solidFill>
                <a:latin typeface="CopprplGoth Bd BT"/>
              </a:rPr>
              <a:t> </a:t>
            </a:r>
            <a:endParaRPr b="0" lang="en-US" sz="2400" spc="-1" strike="noStrike">
              <a:solidFill>
                <a:srgbClr val="000000"/>
              </a:solidFill>
              <a:latin typeface="Arial"/>
            </a:endParaRPr>
          </a:p>
        </p:txBody>
      </p:sp>
      <p:sp>
        <p:nvSpPr>
          <p:cNvPr id="80" name="PlaceHolder 2"/>
          <p:cNvSpPr>
            <a:spLocks noGrp="1"/>
          </p:cNvSpPr>
          <p:nvPr>
            <p:ph type="title"/>
          </p:nvPr>
        </p:nvSpPr>
        <p:spPr>
          <a:xfrm>
            <a:off x="304920" y="3805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00:51:36Z</dcterms:created>
  <dc:creator>ArraisR</dc:creator>
  <dc:description/>
  <dc:language>en-US</dc:language>
  <cp:lastModifiedBy>Unión Peruana</cp:lastModifiedBy>
  <dcterms:modified xsi:type="dcterms:W3CDTF">2007-10-03T03:23:25Z</dcterms:modified>
  <cp:revision>119</cp:revision>
  <dc:subject/>
  <dc:title>Slide 1</dc:title>
</cp:coreProperties>
</file>