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C899-403F-4ADD-99FD-51DC5D42C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retirementwithpurpose.com/howtoshareyourtestimony.htm"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m.gc.adventist.org/Pages/devotional_2.html"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81080" y="457200"/>
            <a:ext cx="2641680" cy="1981080"/>
          </a:xfrm>
          <a:prstGeom prst="rect">
            <a:avLst/>
          </a:prstGeom>
          <a:ln w="0">
            <a:noFill/>
          </a:ln>
        </p:spPr>
      </p:sp>
      <p:sp>
        <p:nvSpPr>
          <p:cNvPr id="189" name="PlaceHolder 2"/>
          <p:cNvSpPr>
            <a:spLocks noGrp="1"/>
          </p:cNvSpPr>
          <p:nvPr>
            <p:ph type="body"/>
          </p:nvPr>
        </p:nvSpPr>
        <p:spPr>
          <a:xfrm>
            <a:off x="685440" y="2590560"/>
            <a:ext cx="5715000" cy="57150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dação com Propósit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Script da Apresentadora</a:t>
            </a:r>
            <a:endParaRPr b="0" lang="en-US" sz="1200" spc="-1" strike="noStrike">
              <a:solidFill>
                <a:srgbClr val="000000"/>
              </a:solidFill>
              <a:latin typeface="Arial"/>
            </a:endParaRPr>
          </a:p>
          <a:p>
            <a:pPr indent="0" algn="just">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nte da idade da Terra, do número de pessoas que já viveram e do montante de textos já escritos, quem iria pensar que você ainda poderia expressar seus pensamentos em palavras e de forma diferente do que os demais sere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orém, nenhuma folha foi criada exatamente igual, o mesmo se dá com um floco de neve, com os animais e os seres humanos. Assim sendo, você tem o talento e a capacidade de colocar no papel seus pensamentos de forma original. (Outras pessoas podem até mesmo ler o que você escreveu.) Assim como nunca existiram folhas e nos flocos de neve exatamente iguais, o mesmo ocorre com os pensamentos que nunca serão expressados da mesma forma na escolha das palavras – a menos que você os escr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capacidade de escrever, um talento surpreendente e maravilhoso, nunca deveria permanecer adormecida – não usada. Desenvolvida, a escrita se torna uma forma empolgante de contar aos outros aquilo que você experimentou ou aprendeu, na esperança de que cada leitor irá captar a visão. Além disso, há muita necessidade de escritoras nos Ministérios da Mulher: para o livro de meditações, os materiais, o informativo </a:t>
            </a:r>
            <a:r>
              <a:rPr b="0" i="1" lang="pt-BR" sz="1200" spc="-1" strike="noStrike">
                <a:solidFill>
                  <a:srgbClr val="000000"/>
                </a:solidFill>
                <a:latin typeface="Arial"/>
              </a:rPr>
              <a:t>Mosaico</a:t>
            </a:r>
            <a:r>
              <a:rPr b="0" lang="pt-BR" sz="1200" spc="-1" strike="noStrike">
                <a:solidFill>
                  <a:srgbClr val="000000"/>
                </a:solidFill>
                <a:latin typeface="Arial"/>
              </a:rPr>
              <a:t>, os relatórios e informativos da união e divisão, como também para outros setores como a </a:t>
            </a:r>
            <a:r>
              <a:rPr b="0" i="1" lang="pt-BR" sz="1200" spc="-1" strike="noStrike">
                <a:solidFill>
                  <a:srgbClr val="000000"/>
                </a:solidFill>
                <a:latin typeface="Arial"/>
              </a:rPr>
              <a:t>Revista Adventista</a:t>
            </a:r>
            <a:r>
              <a:rPr b="0" lang="pt-B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aquelas de vocês que desejam escrever e que já escrevem, iremos partilhar algumas palavras da sabedoria de escritores renomados as quais poderão ajudá-las a escreverem ainda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estar dizendo: “Acho que não posso escrever. Não sou boa com as palavras. Minha mãe escreve, meus amigos escrevem, mas simplesmente não consigo colocar as palavras no papel para cativar e prender o le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 isso se aplica a você, por favor, leia este material. Iremos falar a respeito das desculpas usadas pelas pessoas para não escrever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OR QUE VOCÊ DEVERIA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m dúvida, a tecnologia mudou o mundo em um curto período de tempo. Muito de sua contribuição ao mundo é positiva. Porém, falemos de uma negativa – a arte perdida de escrever cartas. Os indivíduos que escreviam para seus queridos, cônjuges, amigos ou filhos, diária ou semanalmente, não o fazem mais. Tudo o que se tem de fazer para se comunicar é pegar o telefone ou escrever algumas poucas linhas no computador e clicar no botão “envi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197080" y="533520"/>
            <a:ext cx="2133720" cy="1600200"/>
          </a:xfrm>
          <a:prstGeom prst="rect">
            <a:avLst/>
          </a:prstGeom>
          <a:ln w="0">
            <a:noFill/>
          </a:ln>
        </p:spPr>
      </p:sp>
      <p:sp>
        <p:nvSpPr>
          <p:cNvPr id="206" name="PlaceHolder 2"/>
          <p:cNvSpPr>
            <a:spLocks noGrp="1"/>
          </p:cNvSpPr>
          <p:nvPr>
            <p:ph type="body"/>
          </p:nvPr>
        </p:nvSpPr>
        <p:spPr>
          <a:xfrm>
            <a:off x="838080" y="22856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 algo com fac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vas ferramentas que nos ajudam a fazer algo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desfrutar mais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mudar os sentimentos ou atitudes a respeito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seguir com um empreendimento inic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outra pessoa age em situação semelha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i="1" lang="en-US" sz="1200" spc="-1" strike="noStrike">
                <a:solidFill>
                  <a:srgbClr val="000000"/>
                </a:solidFill>
                <a:latin typeface="Garamond"/>
              </a:rPr>
              <a:t>Finding Ideas and Finding Angles de Jan Johnson, Simi, Californ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5400" y="685800"/>
            <a:ext cx="2235240" cy="1676520"/>
          </a:xfrm>
          <a:prstGeom prst="rect">
            <a:avLst/>
          </a:prstGeom>
          <a:ln w="0">
            <a:noFill/>
          </a:ln>
        </p:spPr>
      </p:sp>
      <p:sp>
        <p:nvSpPr>
          <p:cNvPr id="208" name="PlaceHolder 2"/>
          <p:cNvSpPr>
            <a:spLocks noGrp="1"/>
          </p:cNvSpPr>
          <p:nvPr>
            <p:ph type="body"/>
          </p:nvPr>
        </p:nvSpPr>
        <p:spPr>
          <a:xfrm>
            <a:off x="685800" y="2438280"/>
            <a:ext cx="548640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dventistas do sétimo dia podem facilmente ficar inspirados a escrever ao lerem a Bíblia ou os escritos de Ellen G. White. Há uma escritora que tem tantas anotações de idéias em sua Bíblia e no livro o </a:t>
            </a:r>
            <a:r>
              <a:rPr b="0" i="1" lang="pt-BR" sz="1200" spc="-1" strike="noStrike">
                <a:solidFill>
                  <a:srgbClr val="000000"/>
                </a:solidFill>
                <a:latin typeface="Arial"/>
              </a:rPr>
              <a:t>Desejado de Todas as Nações</a:t>
            </a:r>
            <a:r>
              <a:rPr b="0" lang="pt-BR" sz="1200" spc="-1" strike="noStrike">
                <a:solidFill>
                  <a:srgbClr val="000000"/>
                </a:solidFill>
                <a:latin typeface="Arial"/>
              </a:rPr>
              <a:t> a respeito do que deseja escrever que nunca conseguirá dissertar sobre todas elas – salvo, é claro, se viver até mais ou menos os 120 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empl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plenitude de Deus (um tema inesgotá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eino e a glória de Deus (exatamente o que significa a gló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u amor envolveu o homem – </a:t>
            </a:r>
            <a:r>
              <a:rPr b="0" i="1" lang="pt-BR" sz="1200" spc="-1" strike="noStrike">
                <a:solidFill>
                  <a:srgbClr val="000000"/>
                </a:solidFill>
                <a:latin typeface="Arial"/>
              </a:rPr>
              <a:t>O Desejado de Todas as Nações</a:t>
            </a:r>
            <a:r>
              <a:rPr b="0" lang="pt-BR" sz="1200" spc="-1" strike="noStrike">
                <a:solidFill>
                  <a:srgbClr val="000000"/>
                </a:solidFill>
                <a:latin typeface="Arial"/>
              </a:rPr>
              <a:t>, p. 113 (um círculo sem fim, talvez?)</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6320" y="533520"/>
            <a:ext cx="2336760" cy="1752480"/>
          </a:xfrm>
          <a:prstGeom prst="rect">
            <a:avLst/>
          </a:prstGeom>
          <a:ln w="0">
            <a:noFill/>
          </a:ln>
        </p:spPr>
      </p:sp>
      <p:sp>
        <p:nvSpPr>
          <p:cNvPr id="210"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rrepreensível (o que é isso?) Apocalipse 14:5; 1 Coríntios 1:1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flexões sobre a Sua imagem (poderíamos 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mos refugo a Deus e Ele aprecia – Ele nos dá o perdão e gostamos dis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uralmente, há muitos outros temas sobre os quais escrever. As revistas da Igreja sugerem temas que são de grande interesse a seus leitores, temas atuais, que satisfazem a necessidades específicas, e como agir para preparar artigos (do tipo: Passos 1, 2, 3, 4); como também histórias e relatórios re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baixo o que três publicações da Igreja sugerem</a:t>
            </a:r>
            <a:r>
              <a:rPr b="0" i="1" lang="pt-BR" sz="1200" spc="-1" strike="noStrike">
                <a:solidFill>
                  <a:srgbClr val="000000"/>
                </a:solidFill>
                <a:latin typeface="Arial"/>
              </a:rPr>
              <a:t> (ver folha para conhecer todas as diretriz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27240" y="685800"/>
            <a:ext cx="2438280" cy="1828800"/>
          </a:xfrm>
          <a:prstGeom prst="rect">
            <a:avLst/>
          </a:prstGeom>
          <a:ln w="0">
            <a:noFill/>
          </a:ln>
        </p:spPr>
      </p:sp>
      <p:sp>
        <p:nvSpPr>
          <p:cNvPr id="212" name="PlaceHolder 2"/>
          <p:cNvSpPr>
            <a:spLocks noGrp="1"/>
          </p:cNvSpPr>
          <p:nvPr>
            <p:ph type="body"/>
          </p:nvPr>
        </p:nvSpPr>
        <p:spPr>
          <a:xfrm>
            <a:off x="685800" y="25909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 </a:t>
            </a:r>
            <a:r>
              <a:rPr b="1" i="1" lang="pt-BR" sz="1200" spc="-1" strike="noStrike">
                <a:solidFill>
                  <a:srgbClr val="000000"/>
                </a:solidFill>
                <a:latin typeface="Arial"/>
              </a:rPr>
              <a:t>Adventist Review</a:t>
            </a:r>
            <a:r>
              <a:rPr b="1" lang="pt-BR" sz="1200" spc="-1" strike="noStrike">
                <a:solidFill>
                  <a:srgbClr val="000000"/>
                </a:solidFill>
                <a:latin typeface="Arial"/>
              </a:rPr>
              <a:t> diz: “Estamos em busca de novos escritores – homens e mulheres de todas as idades a quem o Senhor dotou e chamou para escrever. Estamos à procura de escritores com paixão por Deus. Será de ajuda ler livros e artigos sobre redação e/ou fazer um curso ou seminário para aumentar suas </a:t>
            </a:r>
            <a:r>
              <a:rPr b="0" lang="pt-BR" sz="1200" spc="-1" strike="noStrike">
                <a:solidFill>
                  <a:srgbClr val="000000"/>
                </a:solidFill>
                <a:latin typeface="Arial"/>
              </a:rPr>
              <a:t>capacidades no preparo de seus materiais. Este é um esquema amplo do que estamos procur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Alimento Espiritual</a:t>
            </a:r>
            <a:r>
              <a:rPr b="0" lang="pt-BR" sz="1200" spc="-1" strike="noStrike">
                <a:solidFill>
                  <a:srgbClr val="000000"/>
                </a:solidFill>
                <a:latin typeface="Arial"/>
              </a:rPr>
              <a:t>: Como manter relacionamento com Deus. Como conhecer melhor a Jes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Mensagem e Missão</a:t>
            </a:r>
            <a:r>
              <a:rPr b="0" lang="pt-BR" sz="1200" spc="-1" strike="noStrike">
                <a:solidFill>
                  <a:srgbClr val="000000"/>
                </a:solidFill>
                <a:latin typeface="Arial"/>
              </a:rPr>
              <a:t>: O que nos torna adventistas do sétimo dia, nossas crenças e a tarefa dada por De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Diversidade</a:t>
            </a:r>
            <a:r>
              <a:rPr b="0" lang="pt-BR" sz="1200" spc="-1" strike="noStrike">
                <a:solidFill>
                  <a:srgbClr val="000000"/>
                </a:solidFill>
                <a:latin typeface="Arial"/>
              </a:rPr>
              <a:t>: Diferenças étnicas, etárias, de sexo são os grandes recursos. A </a:t>
            </a:r>
            <a:r>
              <a:rPr b="0" i="1" lang="pt-BR" sz="1200" spc="-1" strike="noStrike">
                <a:solidFill>
                  <a:srgbClr val="000000"/>
                </a:solidFill>
                <a:latin typeface="Arial"/>
              </a:rPr>
              <a:t>Review</a:t>
            </a:r>
            <a:r>
              <a:rPr b="0" lang="pt-BR" sz="1200" spc="-1" strike="noStrike">
                <a:solidFill>
                  <a:srgbClr val="000000"/>
                </a:solidFill>
                <a:latin typeface="Arial"/>
              </a:rPr>
              <a:t> destina-se a todas as pesso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Interação com o Leitor</a:t>
            </a:r>
            <a:r>
              <a:rPr b="0" lang="pt-BR" sz="1200" spc="-1" strike="noStrike">
                <a:solidFill>
                  <a:srgbClr val="000000"/>
                </a:solidFill>
                <a:latin typeface="Arial"/>
              </a:rPr>
              <a:t>: Mais cartas e novas oportunidades de partilhar como vivemos a vida cristã.</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Rotativos</a:t>
            </a:r>
            <a:r>
              <a:rPr b="0" lang="pt-BR" sz="1200" spc="-1" strike="noStrike">
                <a:solidFill>
                  <a:srgbClr val="000000"/>
                </a:solidFill>
                <a:latin typeface="Arial"/>
              </a:rPr>
              <a:t>: Editoriais, devocionais e notícias se encontram em todas as edições mas o foco difere de semana par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t>
            </a:r>
            <a:r>
              <a:rPr b="1" i="1" lang="pt-BR" sz="1200" spc="-1" strike="noStrike">
                <a:solidFill>
                  <a:srgbClr val="000000"/>
                </a:solidFill>
                <a:latin typeface="Arial"/>
              </a:rPr>
              <a:t>Vibrant</a:t>
            </a:r>
            <a:r>
              <a:rPr b="0" lang="pt-BR" sz="1200" spc="-1" strike="noStrike">
                <a:solidFill>
                  <a:srgbClr val="000000"/>
                </a:solidFill>
                <a:latin typeface="Arial"/>
              </a:rPr>
              <a:t> </a:t>
            </a:r>
            <a:r>
              <a:rPr b="1" i="1" lang="pt-BR" sz="1200" spc="-1" strike="noStrike">
                <a:solidFill>
                  <a:srgbClr val="000000"/>
                </a:solidFill>
                <a:latin typeface="Arial"/>
              </a:rPr>
              <a:t>Life Magazine</a:t>
            </a:r>
            <a:r>
              <a:rPr b="0" lang="pt-BR" sz="1200" spc="-1" strike="noStrike">
                <a:solidFill>
                  <a:srgbClr val="000000"/>
                </a:solidFill>
                <a:latin typeface="Arial"/>
              </a:rPr>
              <a:t> necessita de artigos práticos que enfatizem a prevenção enquanto promove a melhora da saúde física, aumenta a clareza mental e o equilíbrio espiritual sustentado na vida diária do leitor. Especialmente apreciamos artigos das últimas descobertas na medicina, na saúde, nutrição e exercício; entrevistas com personalidades renomadas em temas sobre saúde; material atual sobre saúde, escrito de forma simples e compreensível e que apele a homens e mulheres comuns. Artigos apresentando pessoas felizes e saudáveis são bem-vindos. Preferimos artigos cuja abordagem seja positiva e que enfatize os benefícios ao leit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533160" y="914400"/>
            <a:ext cx="57150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rPr>
              <a:t>Women of Spirit Magazine</a:t>
            </a:r>
            <a:r>
              <a:rPr b="0" lang="pt-BR" sz="1200" spc="-1" strike="noStrike">
                <a:solidFill>
                  <a:srgbClr val="000000"/>
                </a:solidFill>
                <a:latin typeface="Arial"/>
              </a:rPr>
              <a:t>. Estamos felizes de que você tenha o desejo de escrever para a </a:t>
            </a:r>
            <a:r>
              <a:rPr b="0" i="1" lang="pt-BR" sz="1200" spc="-1" strike="noStrike">
                <a:solidFill>
                  <a:srgbClr val="000000"/>
                </a:solidFill>
                <a:latin typeface="Arial"/>
              </a:rPr>
              <a:t>Women of Spirit</a:t>
            </a:r>
            <a:r>
              <a:rPr b="0" lang="pt-BR" sz="1200" spc="-1" strike="noStrike">
                <a:solidFill>
                  <a:srgbClr val="000000"/>
                </a:solidFill>
                <a:latin typeface="Arial"/>
              </a:rPr>
              <a:t>, uma revista da Review and Herald, com vistas a inspirar e a fazer discípulos das mulheres cristãs. A </a:t>
            </a:r>
            <a:r>
              <a:rPr b="0" i="1" lang="pt-BR" sz="1200" spc="-1" strike="noStrike">
                <a:solidFill>
                  <a:srgbClr val="000000"/>
                </a:solidFill>
                <a:latin typeface="Arial"/>
              </a:rPr>
              <a:t>Women of Spirit</a:t>
            </a:r>
            <a:r>
              <a:rPr b="0" lang="pt-BR" sz="1200" spc="-1" strike="noStrike">
                <a:solidFill>
                  <a:srgbClr val="000000"/>
                </a:solidFill>
                <a:latin typeface="Arial"/>
              </a:rPr>
              <a:t> busca ser uma amiga e mentora, estimulando a vitalidade espiritual, fortalecendo o crescimento emocional, promovendo um viver equilibrado e saudável, encorajando o testemunho cristão no lar e na com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cumprir essa missão, a </a:t>
            </a:r>
            <a:r>
              <a:rPr b="0" i="1" lang="pt-BR" sz="1200" spc="-1" strike="noStrike">
                <a:solidFill>
                  <a:srgbClr val="000000"/>
                </a:solidFill>
                <a:latin typeface="Arial"/>
              </a:rPr>
              <a:t>Women of Spirit</a:t>
            </a:r>
            <a:r>
              <a:rPr b="0" lang="pt-BR" sz="1200" spc="-1" strike="noStrike">
                <a:solidFill>
                  <a:srgbClr val="000000"/>
                </a:solidFill>
                <a:latin typeface="Arial"/>
              </a:rPr>
              <a:t> busca escritores de várias etnias e antecedentes culturais que tenham pensamento criativo e busquem profundamente a Deus. Embora o alvo primeiro seja as mulheres adventistas do sétimo dia, esta revista apela a mulheres de outras confissões religiosas e, portanto, evita o uso de linguagem e experiências que seriam de difícil compreensão fora da arena adventista. A </a:t>
            </a:r>
            <a:r>
              <a:rPr b="0" i="1" lang="pt-BR" sz="1200" spc="-1" strike="noStrike">
                <a:solidFill>
                  <a:srgbClr val="000000"/>
                </a:solidFill>
                <a:latin typeface="Arial"/>
              </a:rPr>
              <a:t>Women of Spirit</a:t>
            </a:r>
            <a:r>
              <a:rPr b="0" lang="pt-BR" sz="1200" spc="-1" strike="noStrike">
                <a:solidFill>
                  <a:srgbClr val="000000"/>
                </a:solidFill>
                <a:latin typeface="Arial"/>
              </a:rPr>
              <a:t> tem por alvo estabelecer um feliz senso de comunidade entre as mulheres e afirmar seu lugar de serviço no corpo de Cri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095560" y="609480"/>
            <a:ext cx="2438280" cy="1828800"/>
          </a:xfrm>
          <a:prstGeom prst="rect">
            <a:avLst/>
          </a:prstGeom>
          <a:ln w="0">
            <a:noFill/>
          </a:ln>
        </p:spPr>
      </p:sp>
      <p:sp>
        <p:nvSpPr>
          <p:cNvPr id="215" name="PlaceHolder 2"/>
          <p:cNvSpPr>
            <a:spLocks noGrp="1"/>
          </p:cNvSpPr>
          <p:nvPr>
            <p:ph type="body"/>
          </p:nvPr>
        </p:nvSpPr>
        <p:spPr>
          <a:xfrm>
            <a:off x="990360" y="2514600"/>
            <a:ext cx="518148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QUAIS SÃO OS BEST-SELLERS NAS CASAS PUBLICADORAS DA IGRE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 Review and Herald Publishing Association deseja artigos que tratem “do viver cristão prático no mundo moderno e que fortaleça a vida espiritual, mostrando um fundamento racional (não apenas escritural) para o caráter distintivo da denomin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utriná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spi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ológ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emunho cristã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19240" y="838080"/>
            <a:ext cx="2438640" cy="1828800"/>
          </a:xfrm>
          <a:prstGeom prst="rect">
            <a:avLst/>
          </a:prstGeom>
          <a:ln w="0">
            <a:noFill/>
          </a:ln>
        </p:spPr>
      </p:sp>
      <p:sp>
        <p:nvSpPr>
          <p:cNvPr id="217" name="PlaceHolder 2"/>
          <p:cNvSpPr>
            <a:spLocks noGrp="1"/>
          </p:cNvSpPr>
          <p:nvPr>
            <p:ph type="body"/>
          </p:nvPr>
        </p:nvSpPr>
        <p:spPr>
          <a:xfrm>
            <a:off x="685800" y="2895480"/>
            <a:ext cx="5486400" cy="50292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eocupações conjugais e famil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otivos para cr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soc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aú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019240" y="685800"/>
            <a:ext cx="2438640" cy="1828800"/>
          </a:xfrm>
          <a:prstGeom prst="rect">
            <a:avLst/>
          </a:prstGeom>
          <a:ln w="0">
            <a:noFill/>
          </a:ln>
        </p:spPr>
      </p:sp>
      <p:sp>
        <p:nvSpPr>
          <p:cNvPr id="219" name="PlaceHolder 2"/>
          <p:cNvSpPr>
            <a:spLocks noGrp="1"/>
          </p:cNvSpPr>
          <p:nvPr>
            <p:ph type="body"/>
          </p:nvPr>
        </p:nvSpPr>
        <p:spPr>
          <a:xfrm>
            <a:off x="685800" y="2666880"/>
            <a:ext cx="5486400" cy="51818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O que a Pacific Press está procu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tamento atual e original das crenças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terial atual sobre temas que inspiram e espirituais de forma ger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vros práticos originais sobre o viver cristão, incluindo receitas e guias do estilo de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158920" y="609480"/>
            <a:ext cx="2235240" cy="1676520"/>
          </a:xfrm>
          <a:prstGeom prst="rect">
            <a:avLst/>
          </a:prstGeom>
          <a:ln w="0">
            <a:noFill/>
          </a:ln>
        </p:spPr>
      </p:sp>
      <p:sp>
        <p:nvSpPr>
          <p:cNvPr id="221" name="PlaceHolder 2"/>
          <p:cNvSpPr>
            <a:spLocks noGrp="1"/>
          </p:cNvSpPr>
          <p:nvPr>
            <p:ph type="body"/>
          </p:nvPr>
        </p:nvSpPr>
        <p:spPr>
          <a:xfrm>
            <a:off x="380880" y="2285640"/>
            <a:ext cx="6019920" cy="53341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de vida dramáticas e tocantes de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interessantes, verdadeiras para crianças, incluindo experiências com animais, aventuras de mistério e histórias da Bíb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INCIPAIS MOTIVOS PARA ESCRE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s os escritores têm habilidades diferentes para pôr seus pensamentos no papel. Alguns irão escrever essencialmente para inspirar: um relacionamento íntimo com Jesus, a forte união no casamento, a paternidade com compromisso, um viver mais bem organizado, por exemplo. Outros, poderão ter o desejo de entreter – levar sua mensagem ao leitor e mantê-los lendo devido a inserções humorísticas no manuscrito. O escritor que deseja informar deverá conhecer muito bem o assunto e ser capaz de explicá-lo em palavras compreensíveis ao leitor médio. Outros podem ter o desejo de persuadir os leitores a adotarem certas práticas, comprar um produto específico ou mudar seu estilo de vi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761760" y="609120"/>
            <a:ext cx="5257800" cy="762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Proferi uma oração antes de começar e, naquela reunião naquele dia, simplesmente abri meu coração com eles e disse-lhes como tinha de seguir apegado a Jesus e a Suas promessas para não desistir e assim concluir a obra que Ele havia começado em minha vida, a despeito de meus fracassos. Contei-lhes que estava especialmente me sentindo desanimado devido aos fracassos que me pareciam insuportáveis nos últimos dias. A verdade é que derramei algumas lágrimas enquanto lhes contava essa história e daí soou a campainha anunciando o final da aula. Ninguém se mexeu. Vi rapazes chorando. Todos estavam imóv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Um a um dos alunos se levantou calmamente e veio em minha direção para me dar um aperto de mão, um abraço, para me entregar bilhetes de ânimo. Vários me abraçaram longamente. Recebi vários cartões e bilhetes posteriormente, com comentários dos alunos dizendo: “Você não pode imaginar o que significou para nós ouvir que você também passa por lutas e mesmo assim não desiste de Jesus e sabe que Ele de igual forma não desiste de você. Isso nos deu ânimo porque fracassamos e saber que você também fracassa não nos levou a desconsiderá-lo. Isso fez com que pensássemos mais a respeito de Deus que não abandona as pessoas. Obrigado por ser transparente conosco. Obrigado por ser vulneráve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685440" y="609480"/>
            <a:ext cx="5791320" cy="8229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outro aspecto negativo. Você se lembra da época em que ir até a caixa do correio era uma parte emocionante do dia? Você abria a caixa, pegava um envelope com seu nome e reconhecia o posto do correio de onde fora enviada e o endereço para devolução. Você tinha a carta em suas mãos, e reconhecia a letra de seus familiares ou amigos e passava por um sentimento muito pessoal com relação ao rem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filha de Galileu, Mari Celeste, partilhou as cartas que escreveu para seu pai e as que recebeu dele no livro “Galileo’s Daughter” (A Filha de Galileu), um best-seller de alguns anos atrás. Esta é uma das saudações: “Ilustríssimo e Amado Senhor Pai”. (Você leria isso se aparecesse em sua caixa do correio?) Então, “Incluo uma rosa, algo extraordinário no tempo frio, que deve ser afetuosamente recebida pelo senhor. E assim, junto com a rosa, aceite os espinhos que representam o amargo sofrimento de nosso Senhor; também as folhas verdes, simbolizando a esperança que nutr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ão, se você pensa que não pode escrever, comece escrevendo cartas diárias para sua família ou amigos – ainda que não as despache. Seria quase como fazer um diário – salvo que você entra em mais detalhes. Descreva os eventos de cada dia e como exerceram impacto em sua vida e filosofe um pouco dizendo o que você aprendeu. Esta é uma forma excelente de desenvolver o estilo de redação. Você pode ser você mesma, dizer o que deseja dizer e da forma como quer, como também discutir todos os acontecimentos importantes em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pai da Anne Lamont incentivou-a a escrever. “Faça isso diariamente por um tempo”, ele disse. “Faça isso como o faria na escala do piano. Faça-o como um acerto prévio consigo mesma. Como uma dívida de honra. Faça o compromisso de concluir o que iniciou”. Ela escreveu a respeito das pessoas ao seu redor, de sua cidade, da família e de suas memórias. Escreveu em blocos de anotações nos cafés. Agora ensina como escrever; é autora de um livro intitulado </a:t>
            </a:r>
            <a:r>
              <a:rPr b="0" i="1" lang="pt-BR" sz="1200" spc="-1" strike="noStrike">
                <a:solidFill>
                  <a:srgbClr val="000000"/>
                </a:solidFill>
                <a:latin typeface="Arial"/>
              </a:rPr>
              <a:t>Bird by Bird</a:t>
            </a:r>
            <a:r>
              <a:rPr b="0" lang="pt-BR" sz="1200" spc="-1" strike="noStrike">
                <a:solidFill>
                  <a:srgbClr val="000000"/>
                </a:solidFill>
                <a:latin typeface="Arial"/>
              </a:rPr>
              <a:t> – um livro que dá instruções sobre a arte de “escrever e 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desanimados ela aconselha: “Inicie com sua infância. Tampe o nariz e salte, e escreva todas suas memórias da forma mais fidedigna que puder. ... Você começa a enfileirar as palavras como rosários para contar uma história ... o ato de escrever tem muito a oferecer, muito a ensinar e muito a surpreender. ... Esse ato de escrever acaba sendo sua própria recomp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passa a ser mais do que colocar as palavras no papel. É um estágio final no processo complexo da comunicação que inicia com o “pensamento”. Escrever é um estágio especial e importante na comunicação, o propósito é não deixar margem para dúvidas. Algum país já ratificou uma ameaça ver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Útil</a:t>
            </a:r>
            <a:r>
              <a:rPr b="0" lang="pt-BR" sz="1200" spc="-1" strike="noStrike">
                <a:solidFill>
                  <a:srgbClr val="000000"/>
                </a:solidFill>
                <a:latin typeface="Arial"/>
              </a:rPr>
              <a:t> – A maioria de nós faz listas, lembretes, bilhetes e anota instruções, pelo menos, ocas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ender Assuntos de Trabalho</a:t>
            </a:r>
            <a:r>
              <a:rPr b="0" lang="pt-BR" sz="1200" spc="-1" strike="noStrike">
                <a:solidFill>
                  <a:srgbClr val="000000"/>
                </a:solidFill>
                <a:latin typeface="Arial"/>
              </a:rPr>
              <a:t> – Os profissionais e pessoas que trabalham no escritório escrevem com freqüência – preparando memorandos, cartas, redigindo instruções, relatórios de vendas, artigos, pesquisas, propostas e afins. A maioria dos trabalhadores tem de escrever, mesmo que pouco, no trabal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imulante</a:t>
            </a:r>
            <a:r>
              <a:rPr b="0" lang="pt-BR" sz="1200" spc="-1" strike="noStrike">
                <a:solidFill>
                  <a:srgbClr val="000000"/>
                </a:solidFill>
                <a:latin typeface="Arial"/>
              </a:rPr>
              <a:t> – Escrever ajuda a provocar os pensamentos e a organizá-los de forma lógica e conc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ividade Social </a:t>
            </a:r>
            <a:r>
              <a:rPr b="0" lang="pt-BR" sz="1200" spc="-1" strike="noStrike">
                <a:solidFill>
                  <a:srgbClr val="000000"/>
                </a:solidFill>
                <a:latin typeface="Arial"/>
              </a:rPr>
              <a:t>– A maioria de nós escreve notas e cartas de agradecimento aos amigos, pelo menos, de vez em qu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erapêutico</a:t>
            </a:r>
            <a:r>
              <a:rPr b="0" lang="pt-BR" sz="1200" spc="-1" strike="noStrike">
                <a:solidFill>
                  <a:srgbClr val="000000"/>
                </a:solidFill>
                <a:latin typeface="Arial"/>
              </a:rPr>
              <a:t> – Pode ser útil expressar sentimentos por escrito os quais não podem ser expressos com tanta facilidade oral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82960" y="533520"/>
            <a:ext cx="2234880" cy="1676160"/>
          </a:xfrm>
          <a:prstGeom prst="rect">
            <a:avLst/>
          </a:prstGeom>
          <a:ln w="0">
            <a:noFill/>
          </a:ln>
        </p:spPr>
      </p:sp>
      <p:sp>
        <p:nvSpPr>
          <p:cNvPr id="224" name="PlaceHolder 2"/>
          <p:cNvSpPr>
            <a:spLocks noGrp="1"/>
          </p:cNvSpPr>
          <p:nvPr>
            <p:ph type="body"/>
          </p:nvPr>
        </p:nvSpPr>
        <p:spPr>
          <a:xfrm>
            <a:off x="533160" y="2285640"/>
            <a:ext cx="5715000" cy="5257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a:t>
            </a:r>
            <a:r>
              <a:rPr b="0" lang="pt-BR" sz="1200" spc="-1" strike="noStrike">
                <a:solidFill>
                  <a:srgbClr val="000000"/>
                </a:solidFill>
                <a:latin typeface="Arial"/>
              </a:rPr>
              <a:t>O texto que inspira, de forma geral não é tanto uma questão de talento, como o é de paixão”, diz Gerald Wheeler, “de um ‘fogo consumidor nos ossos’, de um sentimento de urgência, de um entusiasmo irreprimível sobre o tema em questão, tão contagiante que todo o que é exposto a ele capta o próprio entusiasmo do au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Escrever para inform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guns dos melhores artigos nas revistas de nossos dias são aqueles que lhe dizem, passo a passo, como executar algo. As séries de uma, duas, três quatro listas que lhe dão instruções exatas somente de como agir atrai os leitores como nada mais. Note os assuntos nas capas das revistas da banca de jornal: “Dez Maneiras Para Perder Peso” (definitivamente, este é o mais popular), “Organize Sua Casa Através de Cinco Passos Fáceis”, “Viva Mais, Viva Melhor!” e “43 Dicas para as Donas de Cas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tigos da </a:t>
            </a:r>
            <a:r>
              <a:rPr b="0" i="1" lang="pt-BR" sz="1200" spc="-1" strike="noStrike">
                <a:solidFill>
                  <a:srgbClr val="000000"/>
                </a:solidFill>
                <a:latin typeface="Arial"/>
              </a:rPr>
              <a:t>Adventist Review</a:t>
            </a:r>
            <a:r>
              <a:rPr b="0" lang="pt-BR" sz="1200" spc="-1" strike="noStrike">
                <a:solidFill>
                  <a:srgbClr val="000000"/>
                </a:solidFill>
                <a:latin typeface="Arial"/>
              </a:rPr>
              <a:t> como: “Ten Weeks as a Seventh-day Adventist” (Dez Semanas Como Adventista do Sétimo Dia), de Dick Duerksen, na edição especial chamada “Searching”, ilustra esse princíp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ny Wheelr, ex-editora da </a:t>
            </a:r>
            <a:r>
              <a:rPr b="0" i="1" lang="pt-BR" sz="1200" spc="-1" strike="noStrike">
                <a:solidFill>
                  <a:srgbClr val="000000"/>
                </a:solidFill>
                <a:latin typeface="Arial"/>
              </a:rPr>
              <a:t>Women of Spirit</a:t>
            </a:r>
            <a:r>
              <a:rPr b="0" lang="pt-BR" sz="1200" spc="-1" strike="noStrike">
                <a:solidFill>
                  <a:srgbClr val="000000"/>
                </a:solidFill>
                <a:latin typeface="Arial"/>
              </a:rPr>
              <a:t>, diz que: “os leitores de nossos dias desejam mais do que inspiração ou mesmo uma boa história. Eles querem ajuda prática para a solução de problemas. Nosso mundo pode ser um lugar confuso e assustador, mesmo para os cristãos. Livros que transmitem esperança e coragem, livros que abordem questões específicas e que provêem orientação concreta são os livros que os leitores estão comprando hoje. Combine histórias com experiências pessoais, com pesquisa e ajuda prátic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13120" y="762120"/>
            <a:ext cx="2438280" cy="1828800"/>
          </a:xfrm>
          <a:prstGeom prst="rect">
            <a:avLst/>
          </a:prstGeom>
          <a:ln w="0">
            <a:noFill/>
          </a:ln>
        </p:spPr>
      </p:sp>
      <p:sp>
        <p:nvSpPr>
          <p:cNvPr id="226" name="PlaceHolder 2"/>
          <p:cNvSpPr>
            <a:spLocks noGrp="1"/>
          </p:cNvSpPr>
          <p:nvPr>
            <p:ph type="body"/>
          </p:nvPr>
        </p:nvSpPr>
        <p:spPr>
          <a:xfrm>
            <a:off x="685800" y="274320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s que informam devem ter o seguinte:</a:t>
            </a: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08160" y="685800"/>
            <a:ext cx="2336760" cy="1752480"/>
          </a:xfrm>
          <a:prstGeom prst="rect">
            <a:avLst/>
          </a:prstGeom>
          <a:ln w="0">
            <a:noFill/>
          </a:ln>
        </p:spPr>
      </p:sp>
      <p:sp>
        <p:nvSpPr>
          <p:cNvPr id="228" name="PlaceHolder 2"/>
          <p:cNvSpPr>
            <a:spLocks noGrp="1"/>
          </p:cNvSpPr>
          <p:nvPr>
            <p:ph type="body"/>
          </p:nvPr>
        </p:nvSpPr>
        <p:spPr>
          <a:xfrm>
            <a:off x="685800" y="2590560"/>
            <a:ext cx="5486400" cy="51051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Eles devem convencer o leitor de que você é conhecedor do assunto e que o apre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Seu artigo necessita avançar – seguir corretamente o tempo tod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031840" y="914400"/>
            <a:ext cx="2337120" cy="1752480"/>
          </a:xfrm>
          <a:prstGeom prst="rect">
            <a:avLst/>
          </a:prstGeom>
          <a:ln w="0">
            <a:noFill/>
          </a:ln>
        </p:spPr>
      </p:sp>
      <p:sp>
        <p:nvSpPr>
          <p:cNvPr id="230" name="PlaceHolder 2"/>
          <p:cNvSpPr>
            <a:spLocks noGrp="1"/>
          </p:cNvSpPr>
          <p:nvPr>
            <p:ph type="body"/>
          </p:nvPr>
        </p:nvSpPr>
        <p:spPr>
          <a:xfrm>
            <a:off x="685800" y="2819160"/>
            <a:ext cx="5486400" cy="510516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a:t>
            </a:r>
            <a:r>
              <a:rPr b="0" lang="pt-BR" sz="1200" spc="-1" strike="noStrike">
                <a:solidFill>
                  <a:srgbClr val="000000"/>
                </a:solidFill>
                <a:latin typeface="Arial"/>
              </a:rPr>
              <a:t>	</a:t>
            </a:r>
            <a:r>
              <a:rPr b="0" lang="pt-BR" sz="1200" spc="-1" strike="noStrike">
                <a:solidFill>
                  <a:srgbClr val="000000"/>
                </a:solidFill>
                <a:latin typeface="Arial"/>
              </a:rPr>
              <a:t>Você deve entrar logo no assunto. Não escreva um prefácio lon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Encurte o processo – você não está escrevendo um livr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235240" y="838080"/>
            <a:ext cx="2235240" cy="1676520"/>
          </a:xfrm>
          <a:prstGeom prst="rect">
            <a:avLst/>
          </a:prstGeom>
          <a:ln w="0">
            <a:noFill/>
          </a:ln>
        </p:spPr>
      </p:sp>
      <p:sp>
        <p:nvSpPr>
          <p:cNvPr id="232" name="PlaceHolder 2"/>
          <p:cNvSpPr>
            <a:spLocks noGrp="1"/>
          </p:cNvSpPr>
          <p:nvPr>
            <p:ph type="body"/>
          </p:nvPr>
        </p:nvSpPr>
        <p:spPr>
          <a:xfrm>
            <a:off x="533520" y="2666880"/>
            <a:ext cx="5486400" cy="5105520"/>
          </a:xfrm>
          <a:prstGeom prst="rect">
            <a:avLst/>
          </a:prstGeom>
          <a:noFill/>
          <a:ln w="0">
            <a:noFill/>
          </a:ln>
        </p:spPr>
        <p:txBody>
          <a:bodyPr lIns="90000" rIns="90000" tIns="46800" bIns="46800" anchor="t">
            <a:noAutofit/>
          </a:bodyPr>
          <a:p>
            <a:pPr lvl="1" marL="4572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Você necessita inspirar seus leitões a desejarem aprender a respeito do tema, ou sentirem o desejo de fazer tudo o que você sugere. Seja entusiástica</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27240" y="762120"/>
            <a:ext cx="2235240" cy="1676160"/>
          </a:xfrm>
          <a:prstGeom prst="rect">
            <a:avLst/>
          </a:prstGeom>
          <a:ln w="0">
            <a:noFill/>
          </a:ln>
        </p:spPr>
      </p:sp>
      <p:sp>
        <p:nvSpPr>
          <p:cNvPr id="234"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Embora o objetivo principal do artigo seja informar, instruir, descrever um processo, você deveria escrever com tal espírito que inspire o leitor a imaginar o produto pronto, quer seja a mudança de vida ou uma casa para pássaros recém-construíd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a:t>
            </a:r>
            <a:r>
              <a:rPr b="1" lang="pt-BR" sz="1200" spc="-1" strike="noStrike">
                <a:solidFill>
                  <a:srgbClr val="000000"/>
                </a:solidFill>
                <a:latin typeface="Arial"/>
              </a:rPr>
              <a:t>	</a:t>
            </a:r>
            <a:r>
              <a:rPr b="1" lang="pt-BR" sz="1200" spc="-1" strike="noStrike">
                <a:solidFill>
                  <a:srgbClr val="000000"/>
                </a:solidFill>
                <a:latin typeface="Arial"/>
              </a:rPr>
              <a:t>Escrever para entret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rmanece uma norma específica e inalterável para a redação de artigos cujo objetivo é entreter: você tem de ter senso de humor. O humor vem de dentro, transpira no autor quase que imperceptivelmente. Ou você o tem ou definitivamente nã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usar ilustrações de outras fontes humorísticas. Por exemplo, você poderia dizer, ao iniciar sua apresentação, “Todas as pessoas inteligentes: por favor, tomem assento nos cinco primeiros banc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sta forma faz uma alusão à essência humorística que atrai o leitor e o mantém lendo, porque como saber o que virá pela frente? Talvez haja outra tirada humorística no parágrafo seguint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 era das cartas escritas, duas meninas universitárias recebiam regularmente cartas de sua mãe. Ela não iniciava suas cartas com “Querida Susan”. Não, elas começavam com “Dados dos Afazeres Diários a Minhas Queridas Filhas” ou a sigla “UCDO”, que era interpretada como: “Uma Crise Depois da Outra”. Uma carta foi escrita em verso (isso muito anos atrás). No final de uma bastante longa carta em rima, ela deixou cerca de 30 cm de papel em branco e escreveu: “o resto é verso em branco”. As cartas dessa mãe eram definitivamente lidas e partilhadas com os amigos das meninas e por elas entesourad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eventos do quotidiano, escritos com humor diante de fatos comuns, tornavam as cartas irresistíveis. É isso o que o humor faz – mantém o leitor lendo, com sorrisos e risos que indicam que a pessoa está apreciando o que está lend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685800" y="685800"/>
            <a:ext cx="5486400" cy="777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IPOS DIFERENTES PARA PROPÓSITO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a:t>
            </a:r>
            <a:r>
              <a:rPr b="1" lang="pt-BR" sz="1200" spc="-1" strike="noStrike">
                <a:solidFill>
                  <a:srgbClr val="000000"/>
                </a:solidFill>
                <a:latin typeface="Arial"/>
              </a:rPr>
              <a:t>	</a:t>
            </a:r>
            <a:r>
              <a:rPr b="1" lang="pt-BR" sz="1200" spc="-1" strike="noStrike">
                <a:solidFill>
                  <a:srgbClr val="000000"/>
                </a:solidFill>
                <a:latin typeface="Arial"/>
              </a:rPr>
              <a:t>ENSA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maioria de nós se lembra dos gemidos e suspiros na aula de português, durante o ensino médio, quando tínhamos de fazer redações. Tínhamos de descrever nossa infância, por exemplo, e o que aprendemos da experiência dos adultos. Ou, escrevíamos sobre nossa vontade de dirigir um carro ou fazíamos uma descrição do nosso quarto e não gostávamos disso (por exemplo, devido à bagu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m algum momento, tínhamos de sentar com caneta e papel e fazer uma redação. Além do mais, era exigido que estivesse pronta em uma hora. Obrigados a colocar palavras no papel, talvez (se o admitirmos) de fato apreciávamos o exercício. Eram suscitadas lembranças, cores, rostos, animais de estimação, ruídos e imagens. Colocar isso no papel para a posteridade também nos dava um sentimento de grande satisfação (creio que coloquei uma redação desse tipo em meu diário). Para alguns, a urgência de escrever foi desenvolvida e nunca mais abando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começa a escrever, talvez tenha o desejo de primeiro relacionar os detalhes de seu tema. Depois disso, você irá descrever esses detalhes para apoiar a impressão que você deseja causar em seus leitores. A fim de saber se eles irão captar o que você deseja transmitir, crie uma imagem apelando a seus cinco sentidos: visão, audição, olfato, tato e palada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158920" y="685800"/>
            <a:ext cx="2133720" cy="1600200"/>
          </a:xfrm>
          <a:prstGeom prst="rect">
            <a:avLst/>
          </a:prstGeom>
          <a:ln w="0">
            <a:noFill/>
          </a:ln>
        </p:spPr>
      </p:sp>
      <p:sp>
        <p:nvSpPr>
          <p:cNvPr id="237" name="PlaceHolder 2"/>
          <p:cNvSpPr>
            <a:spLocks noGrp="1"/>
          </p:cNvSpPr>
          <p:nvPr>
            <p:ph type="body"/>
          </p:nvPr>
        </p:nvSpPr>
        <p:spPr>
          <a:xfrm>
            <a:off x="685800" y="2362320"/>
            <a:ext cx="548640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Sugestões para fazer uma boa descriçã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dividualize o tema a ser descrito. O propósito é fazer com que esse lugar, objeto ou conversa torne sua redação diferente das dem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Torne-a real. Para isso você deverá descrever a forma, cor e sons e talvez os sentidos: olfato, paladar e ta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Condense. Selecione alguns detalhes e torne-os claros. Os escritores conhecem o valor das impressões penetrantes e quando o tema pode ser facilmente visualizado pelo leitor. Você deverá dar alguns detalhes e então os leitores completarão o resto com sua imaginaçã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08160" y="609480"/>
            <a:ext cx="2336760" cy="1752840"/>
          </a:xfrm>
          <a:prstGeom prst="rect">
            <a:avLst/>
          </a:prstGeom>
          <a:ln w="0">
            <a:noFill/>
          </a:ln>
        </p:spPr>
      </p:sp>
      <p:sp>
        <p:nvSpPr>
          <p:cNvPr id="239" name="PlaceHolder 2"/>
          <p:cNvSpPr>
            <a:spLocks noGrp="1"/>
          </p:cNvSpPr>
          <p:nvPr>
            <p:ph type="body"/>
          </p:nvPr>
        </p:nvSpPr>
        <p:spPr>
          <a:xfrm>
            <a:off x="609480" y="2438280"/>
            <a:ext cx="5486400" cy="5486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O que evitar na redação descri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Não seja vaga; não use generalidades. Por exemplo: O pôr-do-sol estava li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Não exagere na linguagem descritiva – não tente descrever o Brasil intei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Não inclua suas reações pesso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rmalmente, inicia com um episódio, a narrativa poderia ser descrita como um filme. Um retrospecto inserido no desenrolar da cena estabelece o tempo e o lugar, gradualmente introduzindo os personagens, e prosseguindo com a história. O leitor deveria vivenciar a história, não simplesmente lê-la ou ouvi-la. As melhores para serem escritas são aquelas nas quais você ou alguém bem-conhecido esteve envolvido. Os últimos parágrafos apresentam as resoluções ou conclusões finais d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histórias podem iniciar do princípio e seguir a seqüência dos fatos, como aconteceram. Algumas vezes, contudo, começar pelo meio da história e então se referir ao início é uma boa forma de manter a atenção do leitor. Dividir sua história em episódios curtos que se relacionam um com o outro, com um clímax, compele os leitores a completarem a 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itmo é importante na narrativa escrita. Isso significa que o escritor algumas vezes dedica muito tempo em uma seção ao acrescentar muitos detalhes, mas algumas vezes os detalhes são mínimos. Em outras palavras, a narrativa consiste de episódios que se seguem em uma seqüência compreensível a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ja certa de que você, narradora, conhece bem a história, muito bem pois se o leitor conhecer a história melhor do que você e alguns de seus diálogos ou narrações forem incorretos, então você ficará desacreditad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089080" y="533520"/>
            <a:ext cx="2336760" cy="1752480"/>
          </a:xfrm>
          <a:prstGeom prst="rect">
            <a:avLst/>
          </a:prstGeom>
          <a:ln w="0">
            <a:noFill/>
          </a:ln>
        </p:spPr>
      </p:sp>
      <p:sp>
        <p:nvSpPr>
          <p:cNvPr id="241" name="PlaceHolder 2"/>
          <p:cNvSpPr>
            <a:spLocks noGrp="1"/>
          </p:cNvSpPr>
          <p:nvPr>
            <p:ph type="body"/>
          </p:nvPr>
        </p:nvSpPr>
        <p:spPr>
          <a:xfrm>
            <a:off x="685800" y="2361960"/>
            <a:ext cx="5486400" cy="51814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ois extremos a serem evitados na redação narra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tar uma história, evento por evento, sem incluir detalhes e diálogos. Uma boa narrativa é sugestiva, mas dá espaço para a imaginação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ntar a história completa. Se houver descrições de cada cena, citações de tudo o que foi dito e especulação dos pensamentos dos personagens, não haverá muito o que ser visualizado n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i="1" lang="pt-BR" sz="1200" spc="-1" strike="noStrike">
                <a:solidFill>
                  <a:srgbClr val="000000"/>
                </a:solidFill>
                <a:latin typeface="Arial"/>
              </a:rPr>
              <a:t>A informação desta seção foi extraída 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http//www.engl.niu.edu/wac/narr_how.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sublinhado entre “narr” e “how” para ter o endereç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55880" y="685800"/>
            <a:ext cx="2641680" cy="1981080"/>
          </a:xfrm>
          <a:prstGeom prst="rect">
            <a:avLst/>
          </a:prstGeom>
          <a:ln w="0">
            <a:noFill/>
          </a:ln>
        </p:spPr>
      </p:sp>
      <p:sp>
        <p:nvSpPr>
          <p:cNvPr id="192" name="PlaceHolder 2"/>
          <p:cNvSpPr>
            <a:spLocks noGrp="1"/>
          </p:cNvSpPr>
          <p:nvPr>
            <p:ph type="body"/>
          </p:nvPr>
        </p:nvSpPr>
        <p:spPr>
          <a:xfrm>
            <a:off x="685800" y="2743200"/>
            <a:ext cx="5486400" cy="5410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requ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samento cla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mpo suficiente para pensar completamente no tema ou artigo e então redigi-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r para estimular a men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 forma significativa – não artifici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101680" y="838080"/>
            <a:ext cx="2133720" cy="1600200"/>
          </a:xfrm>
          <a:prstGeom prst="rect">
            <a:avLst/>
          </a:prstGeom>
          <a:ln w="0">
            <a:noFill/>
          </a:ln>
        </p:spPr>
      </p:sp>
      <p:sp>
        <p:nvSpPr>
          <p:cNvPr id="243" name="PlaceHolder 2"/>
          <p:cNvSpPr>
            <a:spLocks noGrp="1"/>
          </p:cNvSpPr>
          <p:nvPr>
            <p:ph type="body"/>
          </p:nvPr>
        </p:nvSpPr>
        <p:spPr>
          <a:xfrm>
            <a:off x="838080" y="2590920"/>
            <a:ext cx="518184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Dorothy Minchin-Comm sugere a “Fórmula dos Nove” para a redação narrativa. Nesse caso a história é sobre um hom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Contar (expor) (Ele tinha boa índo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Descrever (aparência, onde ele est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Mostrar (ação – o que ele fa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Falar (diálo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Pensamentos íntimos (pensamento subjuntiv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013120" y="990720"/>
            <a:ext cx="2234880" cy="1676160"/>
          </a:xfrm>
          <a:prstGeom prst="rect">
            <a:avLst/>
          </a:prstGeom>
          <a:ln w="0">
            <a:noFill/>
          </a:ln>
        </p:spPr>
      </p:sp>
      <p:sp>
        <p:nvSpPr>
          <p:cNvPr id="245" name="PlaceHolder 2"/>
          <p:cNvSpPr>
            <a:spLocks noGrp="1"/>
          </p:cNvSpPr>
          <p:nvPr>
            <p:ph type="body"/>
          </p:nvPr>
        </p:nvSpPr>
        <p:spPr>
          <a:xfrm>
            <a:off x="838080" y="274284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strar o que os outros lhe diz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7.</a:t>
            </a:r>
            <a:r>
              <a:rPr b="1" lang="pt-BR" sz="1200" spc="-1" strike="noStrike">
                <a:solidFill>
                  <a:srgbClr val="000000"/>
                </a:solidFill>
                <a:latin typeface="Arial"/>
              </a:rPr>
              <a:t>	</a:t>
            </a:r>
            <a:r>
              <a:rPr b="0" lang="pt-BR" sz="1200" spc="-1" strike="noStrike">
                <a:solidFill>
                  <a:srgbClr val="000000"/>
                </a:solidFill>
                <a:latin typeface="Arial"/>
              </a:rPr>
              <a:t>Mostrar o que os outros dizem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8.</a:t>
            </a:r>
            <a:r>
              <a:rPr b="1" lang="pt-BR" sz="1200" spc="-1" strike="noStrike">
                <a:solidFill>
                  <a:srgbClr val="000000"/>
                </a:solidFill>
                <a:latin typeface="Arial"/>
              </a:rPr>
              <a:t>	</a:t>
            </a:r>
            <a:r>
              <a:rPr b="0" lang="pt-BR" sz="1200" spc="-1" strike="noStrike">
                <a:solidFill>
                  <a:srgbClr val="000000"/>
                </a:solidFill>
                <a:latin typeface="Arial"/>
              </a:rPr>
              <a:t>Mostrar as reações dos outros a respeito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9.</a:t>
            </a:r>
            <a:r>
              <a:rPr b="1" lang="pt-BR" sz="1200" spc="-1" strike="noStrike">
                <a:solidFill>
                  <a:srgbClr val="000000"/>
                </a:solidFill>
                <a:latin typeface="Arial"/>
              </a:rPr>
              <a:t>	</a:t>
            </a:r>
            <a:r>
              <a:rPr b="0" lang="pt-BR" sz="1200" spc="-1" strike="noStrike">
                <a:solidFill>
                  <a:srgbClr val="000000"/>
                </a:solidFill>
                <a:latin typeface="Arial"/>
              </a:rPr>
              <a:t>Mostrar sua reação aos outr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089080" y="533520"/>
            <a:ext cx="2235240" cy="1676160"/>
          </a:xfrm>
          <a:prstGeom prst="rect">
            <a:avLst/>
          </a:prstGeom>
          <a:ln w="0">
            <a:noFill/>
          </a:ln>
        </p:spPr>
      </p:sp>
      <p:sp>
        <p:nvSpPr>
          <p:cNvPr id="247"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pode ser uma história de interesse humano, recontar um evento ocorrido na comunidade, uma questão séria na igreja, temas sobre saúde, alimentação ou uma história da vida real. Ou, pode ser apenas para entretenimento. A redação de artigos significa que você usa alguns adjetivos, um pouco de cor, de diálogo e descrição</a:t>
            </a:r>
            <a:r>
              <a:rPr b="1" lang="pt-BR"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escrever um 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Você deveria ler e reler a publicação sobre a qual deseja escrever. Combinar o estilo de artigos anteriores continua sendo um método essencial para atrair o edito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Escreva perguntando ao editor a confirmação de se o artigo é, de fato, algo que eles gostariam de public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14640" y="609480"/>
            <a:ext cx="2235240" cy="1676520"/>
          </a:xfrm>
          <a:prstGeom prst="rect">
            <a:avLst/>
          </a:prstGeom>
          <a:ln w="0">
            <a:noFill/>
          </a:ln>
        </p:spPr>
      </p:sp>
      <p:sp>
        <p:nvSpPr>
          <p:cNvPr id="249" name="PlaceHolder 2"/>
          <p:cNvSpPr>
            <a:spLocks noGrp="1"/>
          </p:cNvSpPr>
          <p:nvPr>
            <p:ph type="body"/>
          </p:nvPr>
        </p:nvSpPr>
        <p:spPr>
          <a:xfrm>
            <a:off x="609480" y="236196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pt-BR" sz="1200" spc="-1" strike="noStrike">
                <a:solidFill>
                  <a:srgbClr val="000000"/>
                </a:solidFill>
                <a:latin typeface="Arial"/>
              </a:rPr>
              <a:t>O artigo, embora seja classificado como história, pode requerer adequada pesquisa em jornais, revistas, biblioteca e fontes na Internet para obter informação confiá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Talvez seja necessário entrevistar um ou mais indivíduos mencionados em sua história no artigo.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146320" y="609480"/>
            <a:ext cx="2336760" cy="1752840"/>
          </a:xfrm>
          <a:prstGeom prst="rect">
            <a:avLst/>
          </a:prstGeom>
          <a:ln w="0">
            <a:noFill/>
          </a:ln>
        </p:spPr>
      </p:sp>
      <p:sp>
        <p:nvSpPr>
          <p:cNvPr id="251"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Citações e parágrafos descritivos curtos dão vida à história na mente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Assegure-se de que seu artigo tenha o tamanho exigido. Não há lógica em mandar um artigo com 2.000 palavras quando a revista deseja somente entre 500 a 750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7. Fotos, desenhos e outras ilustrações gráficas acrescentam imaginação que por si só podem chamar a atenção para su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a:t>
            </a:r>
            <a:r>
              <a:rPr b="1" lang="pt-BR" sz="1200" spc="-1" strike="noStrike">
                <a:solidFill>
                  <a:srgbClr val="000000"/>
                </a:solidFill>
                <a:latin typeface="Arial"/>
              </a:rPr>
              <a:t>	</a:t>
            </a:r>
            <a:r>
              <a:rPr b="1" lang="pt-BR" sz="1200" spc="-1" strike="noStrike">
                <a:solidFill>
                  <a:srgbClr val="000000"/>
                </a:solidFill>
                <a:latin typeface="Arial"/>
              </a:rPr>
              <a:t>DEVOCIO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modernos desejam mais do que inspiração ou mesmo uma boa história. Nosso mundo pode ser um lugar confuso e assustador, mesmo para os cristãos. Artigos e livros que transmitam esperança e coragem, e que provêem orientação, artigos doutrinários que dão uma perspectiva interessante ou incomum sobre uma verdade eterna, e a discussão de temas eterno serão atra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digir um artigo devocional terá maior sucesso se a autora se abrir o suficiente a fim de que o leitor sinta que ela fala por convicção e experiência pessoal. Embora seja assustador revelar-se por escrito, isso dá poder e autenticidade a seu escrito. A exposição de passagens importantes da Bíblia que incluem como essa determinada passagem exerce impacto sobre você pessoalmente, constitui excelentes artigos devocionais. As descrições de histórias bíblicas associadas aos acontecimentos de nossos dias ajudam o leitor a compreender melhor o que o escritor original estava enfrentando e como foi capaz de tirar proveito dos eventos que de outra forma o teriam deixado sem esperança.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184480" y="838080"/>
            <a:ext cx="2133360" cy="1600200"/>
          </a:xfrm>
          <a:prstGeom prst="rect">
            <a:avLst/>
          </a:prstGeom>
          <a:ln w="0">
            <a:noFill/>
          </a:ln>
        </p:spPr>
      </p:sp>
      <p:sp>
        <p:nvSpPr>
          <p:cNvPr id="253" name="PlaceHolder 2"/>
          <p:cNvSpPr>
            <a:spLocks noGrp="1"/>
          </p:cNvSpPr>
          <p:nvPr>
            <p:ph type="body"/>
          </p:nvPr>
        </p:nvSpPr>
        <p:spPr>
          <a:xfrm>
            <a:off x="685800" y="2438280"/>
            <a:ext cx="548640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sse alguém: “O artigo devocional deveria ser organizado como uma caminhada pela natureza. Deveria iniciar no lar, levar ao mundo dos afazeres diários, prover idéias novas sobre a majestade de Deus e convidar o leitor a beber do rio da vida. Quando o leitor conclui a leitura da página, deveria ter sobre si o hálito de D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devocional se também for classificado como “doutrinário” deveria iniciar com o problema do pecador ou com a necessidade do mundo e prosseguir com a autoridade das Escrituras de revelarem Cristo como a solução. Os melhores devocionais desse gênero são os centrados na pessoa.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247840" y="609480"/>
            <a:ext cx="2133720" cy="1600200"/>
          </a:xfrm>
          <a:prstGeom prst="rect">
            <a:avLst/>
          </a:prstGeom>
          <a:ln w="0">
            <a:noFill/>
          </a:ln>
        </p:spPr>
      </p:sp>
      <p:sp>
        <p:nvSpPr>
          <p:cNvPr id="255"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e é um plano sugestivo da organização do devocional</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31840" y="685800"/>
            <a:ext cx="2337120" cy="1752480"/>
          </a:xfrm>
          <a:prstGeom prst="rect">
            <a:avLst/>
          </a:prstGeom>
          <a:ln w="0">
            <a:noFill/>
          </a:ln>
        </p:spPr>
      </p:sp>
      <p:sp>
        <p:nvSpPr>
          <p:cNvPr id="257" name="PlaceHolder 2"/>
          <p:cNvSpPr>
            <a:spLocks noGrp="1"/>
          </p:cNvSpPr>
          <p:nvPr>
            <p:ph type="body"/>
          </p:nvPr>
        </p:nvSpPr>
        <p:spPr>
          <a:xfrm>
            <a:off x="685800" y="266652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i="1" lang="pt-BR" sz="1200" spc="-1" strike="noStrike">
                <a:solidFill>
                  <a:srgbClr val="000000"/>
                </a:solidFill>
                <a:latin typeface="Arial"/>
              </a:rPr>
              <a:t>Do simples para o complexo</a:t>
            </a:r>
            <a:r>
              <a:rPr b="0" lang="pt-BR" sz="1200" spc="-1" strike="noStrike">
                <a:solidFill>
                  <a:srgbClr val="000000"/>
                </a:solidFill>
                <a:latin typeface="Arial"/>
              </a:rPr>
              <a:t>. Disposto por grau de dificuldade, do familiar para o desconhecido. Especialmente bom para apresentar idéias no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i="1" lang="pt-BR" sz="1200" spc="-1" strike="noStrike">
                <a:solidFill>
                  <a:srgbClr val="000000"/>
                </a:solidFill>
                <a:latin typeface="Arial"/>
              </a:rPr>
              <a:t>Do menos importante para o mais importante</a:t>
            </a:r>
            <a:r>
              <a:rPr b="0" lang="pt-BR" sz="1200" spc="-1" strike="noStrike">
                <a:solidFill>
                  <a:srgbClr val="000000"/>
                </a:solidFill>
                <a:latin typeface="Arial"/>
              </a:rPr>
              <a:t>. Disposto com a idéia de prover o clí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i="1" lang="pt-BR" sz="1200" spc="-1" strike="noStrike">
                <a:solidFill>
                  <a:srgbClr val="000000"/>
                </a:solidFill>
                <a:latin typeface="Arial"/>
              </a:rPr>
              <a:t>Voltado para o problema</a:t>
            </a:r>
            <a:r>
              <a:rPr b="0" lang="pt-BR" sz="1200" spc="-1" strike="noStrike">
                <a:solidFill>
                  <a:srgbClr val="000000"/>
                </a:solidFill>
                <a:latin typeface="Arial"/>
              </a:rPr>
              <a:t>. Disposto de forma que o leitor passa do problema para a solução, do obstáculo para a vi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i="1" lang="pt-BR" sz="1200" spc="-1" strike="noStrike">
                <a:solidFill>
                  <a:srgbClr val="000000"/>
                </a:solidFill>
                <a:latin typeface="Arial"/>
              </a:rPr>
              <a:t>Lógico</a:t>
            </a:r>
            <a:r>
              <a:rPr b="0" lang="pt-BR" sz="1200" spc="-1" strike="noStrike">
                <a:solidFill>
                  <a:srgbClr val="000000"/>
                </a:solidFill>
                <a:latin typeface="Arial"/>
              </a:rPr>
              <a:t>. Disposto como motivos, causas e efeitos, relaciona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i="1" lang="pt-BR" sz="1200" spc="-1" strike="noStrike">
                <a:solidFill>
                  <a:srgbClr val="000000"/>
                </a:solidFill>
                <a:latin typeface="Arial"/>
              </a:rPr>
              <a:t>Interrogativo</a:t>
            </a:r>
            <a:r>
              <a:rPr b="0" lang="pt-BR" sz="1200" spc="-1" strike="noStrike">
                <a:solidFill>
                  <a:srgbClr val="000000"/>
                </a:solidFill>
                <a:latin typeface="Arial"/>
              </a:rPr>
              <a:t>. Emprega o método de perguntas e respo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ído de </a:t>
            </a:r>
            <a:r>
              <a:rPr b="0" i="1" lang="en-US" sz="1200" spc="-1" strike="noStrike">
                <a:solidFill>
                  <a:srgbClr val="000000"/>
                </a:solidFill>
                <a:latin typeface="Arial"/>
              </a:rPr>
              <a:t>Writing for Adventist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vocional poderia também ser escrito como testemunho. Um testemunho cuidadosamente preparado, capacitado pelo Espírito Santo, torna-se uma ferramenta que pode ser usada para partilhar eficazmente sua mensagem quanto à diferença que Ele fez em sua vid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013120" y="533520"/>
            <a:ext cx="2336760" cy="1752480"/>
          </a:xfrm>
          <a:prstGeom prst="rect">
            <a:avLst/>
          </a:prstGeom>
          <a:ln w="0">
            <a:noFill/>
          </a:ln>
        </p:spPr>
      </p:sp>
      <p:sp>
        <p:nvSpPr>
          <p:cNvPr id="259" name="PlaceHolder 2"/>
          <p:cNvSpPr>
            <a:spLocks noGrp="1"/>
          </p:cNvSpPr>
          <p:nvPr>
            <p:ph type="body"/>
          </p:nvPr>
        </p:nvSpPr>
        <p:spPr>
          <a:xfrm>
            <a:off x="533520" y="236232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perguntas e respostas ao você redigir seu testemunho</a:t>
            </a:r>
            <a:r>
              <a:rPr b="1"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082960" y="762120"/>
            <a:ext cx="2234880" cy="1676160"/>
          </a:xfrm>
          <a:prstGeom prst="rect">
            <a:avLst/>
          </a:prstGeom>
          <a:ln w="0">
            <a:noFill/>
          </a:ln>
        </p:spPr>
      </p:sp>
      <p:sp>
        <p:nvSpPr>
          <p:cNvPr id="261" name="PlaceHolder 2"/>
          <p:cNvSpPr>
            <a:spLocks noGrp="1"/>
          </p:cNvSpPr>
          <p:nvPr>
            <p:ph type="body"/>
          </p:nvPr>
        </p:nvSpPr>
        <p:spPr>
          <a:xfrm>
            <a:off x="685800" y="25142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mo sua vida era antes de confiar em Jesus Cristo como seu Salvador e Senhor pess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mo você aceitou a Cristo e deu-Lhe o controle completo de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O que aconteceu depois que você passou a confiar em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úna esses elementos: leia com atenção suas idéias e decida quais são os sentimentos, exemplos ou experiências mais importantes relacionados com cada um dos três pontos acima. Use as idéias que você destacou para redigir sua história e certifique-se de ter explicado como era a sua vida antes de conhecer a Cristo, como você O conheceu e como sua vida é agor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133720" y="762120"/>
            <a:ext cx="2539800" cy="1904760"/>
          </a:xfrm>
          <a:prstGeom prst="rect">
            <a:avLst/>
          </a:prstGeom>
          <a:ln w="0">
            <a:noFill/>
          </a:ln>
        </p:spPr>
      </p:sp>
      <p:sp>
        <p:nvSpPr>
          <p:cNvPr id="194" name="PlaceHolder 2"/>
          <p:cNvSpPr>
            <a:spLocks noGrp="1"/>
          </p:cNvSpPr>
          <p:nvPr>
            <p:ph type="body"/>
          </p:nvPr>
        </p:nvSpPr>
        <p:spPr>
          <a:xfrm>
            <a:off x="685800" y="2895120"/>
            <a:ext cx="5486400" cy="541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Todo o tempo do mundo não ajuda se não houver algo sobre o que escrever. Alguns dos motivos para escrever incluem: envio de mensagens, manter registros, expressar sentimentos ou trocar informaçõ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ática. E mais prá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visão. O que pode ficar mais claro, mais descritivo, mais conciso, por exemp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171880" y="609480"/>
            <a:ext cx="2133360" cy="1600200"/>
          </a:xfrm>
          <a:prstGeom prst="rect">
            <a:avLst/>
          </a:prstGeom>
          <a:ln w="0">
            <a:noFill/>
          </a:ln>
        </p:spPr>
      </p:sp>
      <p:sp>
        <p:nvSpPr>
          <p:cNvPr id="263" name="PlaceHolder 2"/>
          <p:cNvSpPr>
            <a:spLocks noGrp="1"/>
          </p:cNvSpPr>
          <p:nvPr>
            <p:ph type="body"/>
          </p:nvPr>
        </p:nvSpPr>
        <p:spPr>
          <a:xfrm>
            <a:off x="609480" y="2438280"/>
            <a:ext cx="5486400" cy="5105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iretrizes que a ajudarão a dar forma a seu testemu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icie chamando a atenção para a sentença ou incid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ja positivo, do início ao fi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ja específico. Dê detalhes suficientes para despertar o inter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Seja realista. Não infira que Cristo remove todos os problemas da vida; antes que Ele está ao seu lado durante essas fa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609480"/>
            <a:ext cx="2336760" cy="1752840"/>
          </a:xfrm>
          <a:prstGeom prst="rect">
            <a:avLst/>
          </a:prstGeom>
          <a:ln w="0">
            <a:noFill/>
          </a:ln>
        </p:spPr>
      </p:sp>
      <p:sp>
        <p:nvSpPr>
          <p:cNvPr id="265" name="PlaceHolder 2"/>
          <p:cNvSpPr>
            <a:spLocks noGrp="1"/>
          </p:cNvSpPr>
          <p:nvPr>
            <p:ph type="body"/>
          </p:nvPr>
        </p:nvSpPr>
        <p:spPr>
          <a:xfrm>
            <a:off x="609480" y="243828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5)</a:t>
            </a:r>
            <a:r>
              <a:rPr b="0" lang="en-US" sz="1200" spc="-1" strike="noStrike">
                <a:solidFill>
                  <a:srgbClr val="000000"/>
                </a:solidFill>
                <a:latin typeface="Garamond"/>
              </a:rPr>
              <a:t>	</a:t>
            </a:r>
            <a:r>
              <a:rPr b="0" lang="en-US" sz="1200" spc="-1" strike="noStrike">
                <a:solidFill>
                  <a:srgbClr val="000000"/>
                </a:solidFill>
                <a:latin typeface="Garamond"/>
              </a:rPr>
              <a:t> </a:t>
            </a:r>
            <a:r>
              <a:rPr b="0" lang="pt-BR" sz="1200" spc="-1" strike="noStrike">
                <a:solidFill>
                  <a:srgbClr val="000000"/>
                </a:solidFill>
                <a:latin typeface="Arial"/>
              </a:rPr>
              <a:t>Use um ou dois versos da Bíblia, mas somente se estiverem diretamente relacionados com sua experiência e se naturalmente se encaixar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Edite e reescreva quando necessário. Escreva seu primeiro rascunho e deixe-o por um dia mais ou menos e volte a ele com uma nova perspectiv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095560" y="762120"/>
            <a:ext cx="2235240" cy="1676160"/>
          </a:xfrm>
          <a:prstGeom prst="rect">
            <a:avLst/>
          </a:prstGeom>
          <a:ln w="0">
            <a:noFill/>
          </a:ln>
        </p:spPr>
      </p:sp>
      <p:sp>
        <p:nvSpPr>
          <p:cNvPr id="267" name="PlaceHolder 2"/>
          <p:cNvSpPr>
            <a:spLocks noGrp="1"/>
          </p:cNvSpPr>
          <p:nvPr>
            <p:ph type="body"/>
          </p:nvPr>
        </p:nvSpPr>
        <p:spPr>
          <a:xfrm>
            <a:off x="609480" y="251424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Não teça críticas duras às igrejas, organizações ou a outras pessoa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146320" y="609480"/>
            <a:ext cx="2031840" cy="1524240"/>
          </a:xfrm>
          <a:prstGeom prst="rect">
            <a:avLst/>
          </a:prstGeom>
          <a:ln w="0">
            <a:noFill/>
          </a:ln>
        </p:spPr>
      </p:sp>
      <p:sp>
        <p:nvSpPr>
          <p:cNvPr id="269" name="PlaceHolder 2"/>
          <p:cNvSpPr>
            <a:spLocks noGrp="1"/>
          </p:cNvSpPr>
          <p:nvPr>
            <p:ph type="body"/>
          </p:nvPr>
        </p:nvSpPr>
        <p:spPr>
          <a:xfrm>
            <a:off x="609480" y="228600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9)</a:t>
            </a:r>
            <a:r>
              <a:rPr b="0" lang="en-US" sz="1200" spc="-1" strike="noStrike">
                <a:solidFill>
                  <a:srgbClr val="000000"/>
                </a:solidFill>
                <a:latin typeface="Garamond"/>
              </a:rPr>
              <a:t>	</a:t>
            </a:r>
            <a:r>
              <a:rPr b="0" lang="pt-BR" sz="1200" spc="-1" strike="noStrike">
                <a:solidFill>
                  <a:srgbClr val="000000"/>
                </a:solidFill>
                <a:latin typeface="Arial"/>
              </a:rPr>
              <a:t>Tome cuidado para não tornar glamouroso o quão “má” você 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Não empregue termos vagos como “jubiloso”, “pacífico”, “feliz” ou “mudado”, salve se explicado de forma concreta quanto ao que você quer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Não empregue jargões cristãos como “salvos”, “convictos”, “nascido de novo”, “pecado” ou “arrependimento” sem o esclarecim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u="sng">
                <a:solidFill>
                  <a:srgbClr val="009999"/>
                </a:solidFill>
                <a:uFillTx/>
                <a:latin typeface="Arial"/>
                <a:hlinkClick r:id="rId1"/>
              </a:rPr>
              <a:t>http://www.retirementwithpurpose.com/howtoshareyourtestimony.htm</a:t>
            </a:r>
            <a:r>
              <a:rPr b="0" lang="pt-BR"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OJETO DO LIVRO DE MEDITAÇÕES DOS MINISTÉRIOS DA MUL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livro devocional anual, uma leitura diária para mulheres, escrita por mulheres, é um projeto do Departamento dos Ministérios da Mulher da Associação Geral dos Adventistas do Sétimo Dia. O objetivo é prover crescimento espiritual e prover fundos para o programa de bolsas de estudo para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partamento solicita contribuições de mulheres sobre uma variedade de temas espirituais. Cada uma deve ser da experiência pessoal da presença de Deus na vida das mulheres, ou como essas experiências se aplicam à vida das mulheres. O Departamento incentiva a participação de mulheres do mundo inteiro, com uma variedade de temperos culturais e étnicos. </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184480" y="533520"/>
            <a:ext cx="2336760" cy="1752480"/>
          </a:xfrm>
          <a:prstGeom prst="rect">
            <a:avLst/>
          </a:prstGeom>
          <a:ln w="0">
            <a:noFill/>
          </a:ln>
        </p:spPr>
      </p:sp>
      <p:sp>
        <p:nvSpPr>
          <p:cNvPr id="271" name="PlaceHolder 2"/>
          <p:cNvSpPr>
            <a:spLocks noGrp="1"/>
          </p:cNvSpPr>
          <p:nvPr>
            <p:ph type="body"/>
          </p:nvPr>
        </p:nvSpPr>
        <p:spPr>
          <a:xfrm>
            <a:off x="685800" y="2362320"/>
            <a:ext cx="5486400" cy="541008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u="sng">
                <a:solidFill>
                  <a:srgbClr val="000000"/>
                </a:solidFill>
                <a:uFillTx/>
                <a:latin typeface="Arial"/>
              </a:rPr>
              <a:t>Para obter as diretrizes completas sobre o livro devocional dos Ministérios da Mulher, você pode contatar a diretora dos Ministérios da Mulher de sua associação, missão, união ou divisão, ou ainda buscar, na Internet, as páginas do departamento dos Ministérios da Mulher dessas organizações ou ainda pelo site: </a:t>
            </a:r>
            <a:r>
              <a:rPr b="0" lang="pt-BR" sz="1200" spc="-1" strike="noStrike" u="sng">
                <a:solidFill>
                  <a:srgbClr val="009999"/>
                </a:solidFill>
                <a:uFillTx/>
                <a:latin typeface="Arial"/>
                <a:hlinkClick r:id="rId1"/>
              </a:rPr>
              <a:t>http://wm.gc.adventist.org/Pages/devotional_2.html</a:t>
            </a:r>
            <a:r>
              <a:rPr b="0" lang="pt-BR" sz="1200" spc="-1" strike="noStrike" u="sng">
                <a:solidFill>
                  <a:srgbClr val="000000"/>
                </a:solidFill>
                <a:uFillTx/>
                <a:latin typeface="Arial"/>
              </a:rPr>
              <a:t>.</a:t>
            </a:r>
            <a:r>
              <a:rPr b="1" lang="pt-BR" sz="1200" spc="-1" strike="noStrike" u="sng">
                <a:solidFill>
                  <a:srgbClr val="000000"/>
                </a:solidFill>
                <a:uFillTx/>
                <a:latin typeface="Arial"/>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DE NOTÍ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Uma das coisas que os autores adventistas do sétimo dia, </a:t>
            </a:r>
            <a:r>
              <a:rPr b="0" lang="pt-BR" sz="1200" spc="-1" strike="noStrike">
                <a:solidFill>
                  <a:srgbClr val="000000"/>
                </a:solidFill>
                <a:latin typeface="Arial"/>
              </a:rPr>
              <a:t>provavelmente, têm negligenciado mais do que tudo o mais é escrever para as publicações locais. Não teríamos o tipo de estatística como esta – “somente 32% da população da Philadelphia alguma vez ouviu falar o nome ‘adventista do sétimo dia’ – se, como Igreja, déssemos maior atenção à redação de notícias. Naturalmente, esse não deveria ser, necessariamente, o alvo para apresentar matérias para os jornais locais, mas proveria um agradável resul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Todos os eventos de sua igreja, quer relacionados com a comunidade ou com a igreja local, poderiam ser aceitos como matérias para os jornais se fossem bem escritos e alguém da igreja se tornasse conhecido do pessoal do jornal loca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753000" y="685800"/>
            <a:ext cx="2133360" cy="1600200"/>
          </a:xfrm>
          <a:prstGeom prst="rect">
            <a:avLst/>
          </a:prstGeom>
          <a:ln w="0">
            <a:noFill/>
          </a:ln>
        </p:spPr>
      </p:sp>
      <p:sp>
        <p:nvSpPr>
          <p:cNvPr id="273" name="PlaceHolder 2"/>
          <p:cNvSpPr>
            <a:spLocks noGrp="1"/>
          </p:cNvSpPr>
          <p:nvPr>
            <p:ph type="body"/>
          </p:nvPr>
        </p:nvSpPr>
        <p:spPr>
          <a:xfrm>
            <a:off x="380880" y="533160"/>
            <a:ext cx="594360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definições comuns das propriedades que devem ser buscadas ao redigir uma notí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port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emin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ior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seqü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t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hu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fl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eten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escrever uma notícia, lembre-se de que a primeira sentença deve conter toda a informação necessária para o evento – a parte mais importante da notícia. Esta sentença resume os pontos principais do que irá ocorrer ou do que aconteceu. Ela responde às perguntas: quem, o que, quando, onde, por que e como. O restante da história preenche os detal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 é um exemplo de sentença principal: “Um professor da Universidade X ficou gravemente ferido ao ser atingido por uma bala no estacionamento da Univers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parágrafos seguintes provêem outros detalhes da notícia. Porém, ela foi escrita de trás para frente. Em outras palavras, o último parágrafo poderia ser apagado, se necessário. E o segundo ser o último. E se a notícia for suficientemente grande, quaisquer dos parágrafos seguintes. É como um triângulo inver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notícia nunca dá a opinião do autor; não usa a primeira pessoa. Ela consiste da primeira sentença, do antecedente, da elaboração, resumo e ação futura p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que escreve a notícia deve saber quando usar as citações e quando eliminá-las. As boas citações podem contribuir para o primeiro parágrafo e para a informação substancial em sua notícia. As boas citações podem permitir que o leitor “ouça” o orador, acrescentando realidade e interesse na notícia. Uma boa citação é descrita como a que é vívida e clara e que revela sentimentos fortes ou as reações de quem fala. As citações devem ser emocionais ou acrescentar nova informação. Os escritores não deveriam usar citações apenas para provar que falam de uma fonte confiá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o redigir uma notícia, é importante obter os nomes corretamente e usar o nome e o sobrenome da pessoa: “Maria da Silva”. Não use apenas “Sra. Maria” ou “M. Silva”. Uma vez que tenha sido mencionado o nome completo, então pode sim ser mencionado apenas o primeiro nome: “A Maria dis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TÉC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rtigos técnicos necessitam que primeiro seja introduzido o tema, então provida uma discussão detalhada do que se trata, como funcionam e como podem ajudar os outros. Visto que normalmente são escritos por especialistas, as palavras necessitam ser cuidadosamente escolhidas tendo em vista que podem ser compreendidas pela audiência interessada nessa determinada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tema deveria ser dividido em seções que primeiro introduzem o tema, e então que provêem a discussão detalhada do que se trata, de como funciona e de como pode ser 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utores deveriam incluir fotos ou ilustrações com vistas a ajudar na melhor compreensão do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apreciam serem informados sobre publicações, catálogos ou web sites.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380880" y="609120"/>
            <a:ext cx="601992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qui está um exemplo que ilustra este ponto: “Na verdade, pareceu-me que seria aconselhável se pudéssemos sugerir que a questão em consideração teria mais sucesso se mudássemos a data do seminário, porém, por outro lado, parece que será bastante improvável que isso venha a acont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lestrante: Peça às participantes para tentarem reduzir a sentença a 15 ou menos palav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Veja que os primeiros parágrafos sejam interessantes. Eles prendem o interesse do leitor e o mantém lendo. Um editor diz que lê os primeiros três parágrafos para decidir o valor do artigo. Inícios breves e penetrantes ajudam o leitor a captar rapidamente 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O que você acha deste começo? “Quando eu tinha 10 ou 11 anos, recebi de meu pai um presente maravilhoso. Algo que me transformou e que permanece comigo até hoje” (de W. G. Johnsson, </a:t>
            </a:r>
            <a:r>
              <a:rPr b="0" i="1" lang="pt-BR" sz="1200" spc="-1" strike="noStrike">
                <a:solidFill>
                  <a:srgbClr val="000000"/>
                </a:solidFill>
                <a:latin typeface="Arial"/>
              </a:rPr>
              <a:t>Adventist Review</a:t>
            </a:r>
            <a:r>
              <a:rPr b="0" lang="pt-BR" sz="1200" spc="-1" strike="noStrike">
                <a:solidFill>
                  <a:srgbClr val="000000"/>
                </a:solidFill>
                <a:latin typeface="Arial"/>
              </a:rPr>
              <a:t>, janeiro de 2004, pp 17-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Seu artigo deve exercer impacto no leitor – surpresa, imagem mental, algo que leve à transformação na vida, h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Este é um deles: “Não me levem a mal. Amo crianças. Mas não quando me fazem parecer idiota. Isto aconteceu vários dias atrás. Quando estava programando o VCR. Quando estava às voltas com o aparelho de som. Quando estava lutando com o computador. Sempre que tinha um desafio técnico nas mãos, normalmente aparecia uma criança angelical, por volta dos oito anos, com um sorrisinho superior no rosto, ávida para oferecer soluções no segundo seguinte em que eu já  estava completamente derro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É importante a imagem mental forte. Jesus usou parábolas e histórias. Para retratar imagens quando você inicia, use descrições simples ou inicie com um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Este verão exigiu longas caminhadas. Não caminhadas simples, despreocupadas no sábado à tarde para observar pássaros, para usufruir desse hobby, mas obsessivas. Compulsivas. Abruptas.”</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Use períodos variados – sentenças curtas misturadas com longas. Use pouco pontos de exclamaçã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533160" y="609480"/>
            <a:ext cx="5638680" cy="784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vite redação confusa – escrever acima da cabeça das pessoas de tal forma que quando lêem não saibam o que estão lendo. Este é um exemplo do início de um discurso de um de noss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Hoje, memórias afetuosas serão para sempre colocadas no relicário do santuário da muita afeição e do senso desesperançado de iminente separação, que agora se insinua em sua mente e é compensado apenas pela suprema urgência implícita no ar e que soa com provocação, reverbera com resolução, acelera o pulso da antecipação e eleva a temperatura da impaciência em todos os que possuem o senso crucial de missão”. (Esta é apenas uma das sente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Faça a ligação quando passar de uma parte para outra ou de um lugar para outro na história. Não leve o leitor de uma cena ou de um tema bruscamente para outro. Dez por cento da história é a introdução, conexão ou persuasão; oitenta e cinco por cento representa o corpo do artigo; cinco por centro leva o leitor à 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Redija para criar impacto. Escreva de forma a prover algum tipo de benefício ao leitor – você pode informar, instruir, conectar, persuadir, inspirar ou suscitar algum tipo de desaf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Permita que a conversação fale por si. Que as palavras da pessoa que você está citando sejam iradas em vez de “ele disse irado”, ou permita que as palavras consolem em vez de dizer: “ela disse confor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2)</a:t>
            </a:r>
            <a:r>
              <a:rPr b="0" lang="pt-BR" sz="1200" spc="-1" strike="noStrike">
                <a:solidFill>
                  <a:srgbClr val="000000"/>
                </a:solidFill>
                <a:latin typeface="Arial"/>
              </a:rPr>
              <a:t>	</a:t>
            </a:r>
            <a:r>
              <a:rPr b="0" lang="pt-BR" sz="1200" spc="-1" strike="noStrike">
                <a:solidFill>
                  <a:srgbClr val="000000"/>
                </a:solidFill>
                <a:latin typeface="Arial"/>
              </a:rPr>
              <a:t>Quando possível, mude as frases para verb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ter uma crença – diga: “c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ibir uma tendência – diga: “t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ar em conflito – diga: “confl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r atenção a – diga: “cui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zer uma tentativa – diga “ten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3)</a:t>
            </a:r>
            <a:r>
              <a:rPr b="0" lang="pt-BR" sz="1200" spc="-1" strike="noStrike">
                <a:solidFill>
                  <a:srgbClr val="000000"/>
                </a:solidFill>
                <a:latin typeface="Arial"/>
              </a:rPr>
              <a:t>	</a:t>
            </a:r>
            <a:r>
              <a:rPr b="0" lang="pt-BR" sz="1200" spc="-1" strike="noStrike">
                <a:solidFill>
                  <a:srgbClr val="000000"/>
                </a:solidFill>
                <a:latin typeface="Arial"/>
              </a:rPr>
              <a:t>Use modificadores vigorosos (apresentações moduladas, elevações pequenas, instruções instáveis), não lentas (grande sucesso, muito bom, terrivelmente b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4)</a:t>
            </a:r>
            <a:r>
              <a:rPr b="0" lang="pt-BR" sz="1200" spc="-1" strike="noStrike">
                <a:solidFill>
                  <a:srgbClr val="000000"/>
                </a:solidFill>
                <a:latin typeface="Arial"/>
              </a:rPr>
              <a:t>	</a:t>
            </a:r>
            <a:r>
              <a:rPr b="0" lang="pt-BR" sz="1200" spc="-1" strike="noStrike">
                <a:solidFill>
                  <a:srgbClr val="000000"/>
                </a:solidFill>
                <a:latin typeface="Arial"/>
              </a:rPr>
              <a:t>Evite adjetivos e advérbios, salvo se derem vigor à sua apres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5)</a:t>
            </a:r>
            <a:r>
              <a:rPr b="0" lang="pt-BR" sz="1200" spc="-1" strike="noStrike">
                <a:solidFill>
                  <a:srgbClr val="000000"/>
                </a:solidFill>
                <a:latin typeface="Arial"/>
              </a:rPr>
              <a:t>	</a:t>
            </a:r>
            <a:r>
              <a:rPr b="0" lang="pt-BR" sz="1200" spc="-1" strike="noStrike">
                <a:solidFill>
                  <a:srgbClr val="000000"/>
                </a:solidFill>
                <a:latin typeface="Arial"/>
              </a:rPr>
              <a:t>Se desejar, envie uma carta com perguntas ao editor da revista no caso de o tema já ter sido discutido nos meses recentes, ou ser algo sobre o que o editor não está muito entusiasm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6)</a:t>
            </a:r>
            <a:r>
              <a:rPr b="0" lang="pt-BR" sz="1200" spc="-1" strike="noStrike">
                <a:solidFill>
                  <a:srgbClr val="000000"/>
                </a:solidFill>
                <a:latin typeface="Arial"/>
              </a:rPr>
              <a:t>	</a:t>
            </a:r>
            <a:r>
              <a:rPr b="0" lang="pt-BR" sz="1200" spc="-1" strike="noStrike">
                <a:solidFill>
                  <a:srgbClr val="000000"/>
                </a:solidFill>
                <a:latin typeface="Arial"/>
              </a:rPr>
              <a:t>Examine os informes publicitários em revistas como a </a:t>
            </a:r>
            <a:r>
              <a:rPr b="0" i="1" lang="pt-BR" sz="1200" spc="-1" strike="noStrike">
                <a:solidFill>
                  <a:srgbClr val="000000"/>
                </a:solidFill>
                <a:latin typeface="Arial"/>
              </a:rPr>
              <a:t>Time</a:t>
            </a:r>
            <a:r>
              <a:rPr b="0" lang="pt-BR" sz="1200" spc="-1" strike="noStrike">
                <a:solidFill>
                  <a:srgbClr val="000000"/>
                </a:solidFill>
                <a:latin typeface="Arial"/>
              </a:rPr>
              <a:t> e </a:t>
            </a:r>
            <a:r>
              <a:rPr b="0" i="1" lang="pt-BR" sz="1200" spc="-1" strike="noStrike">
                <a:solidFill>
                  <a:srgbClr val="000000"/>
                </a:solidFill>
                <a:latin typeface="Arial"/>
              </a:rPr>
              <a:t>Newsweek</a:t>
            </a:r>
            <a:r>
              <a:rPr b="0" lang="pt-BR" sz="1200" spc="-1" strike="noStrike">
                <a:solidFill>
                  <a:srgbClr val="000000"/>
                </a:solidFill>
                <a:latin typeface="Arial"/>
              </a:rPr>
              <a:t> e faça uma lista das frases e palavras usadas a fim de obter idéias do vocabulário e das tendências de partilhar os pensamentos que atualmente estão em vo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nd out No. D – Phrases from magazine advertisem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209680" y="380880"/>
            <a:ext cx="2133720" cy="1600200"/>
          </a:xfrm>
          <a:prstGeom prst="rect">
            <a:avLst/>
          </a:prstGeom>
          <a:ln w="0">
            <a:noFill/>
          </a:ln>
        </p:spPr>
      </p:sp>
      <p:sp>
        <p:nvSpPr>
          <p:cNvPr id="277" name="PlaceHolder 2"/>
          <p:cNvSpPr>
            <a:spLocks noGrp="1"/>
          </p:cNvSpPr>
          <p:nvPr>
            <p:ph type="body"/>
          </p:nvPr>
        </p:nvSpPr>
        <p:spPr>
          <a:xfrm>
            <a:off x="685440" y="2057400"/>
            <a:ext cx="5638680" cy="58672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O QUE FAZER DEPOIS DE ESCREVER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sim que concluir a redação do artigo, você ainda não acabou. Considere as seguintes sugestõ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sidere palavra por palavra. Analise o primeiro parágrafo. Ele prende a atenção do leitor? A fluência é suave entre um pensamento e outro? A conclusão é satisfatória? Você mostrou em vez de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Compare as seguintes declaraçõ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ava chovendo. Ou: A chuva batia contra a ja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estava furiosa. Ou: Suas mãos se apertavam fortemente contra o corpo, com os punhos cerrados – mas não disse uma palav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tempestade foi terrível. Ou: Primeiro veio a ventania, açoitando as árvores para frente e para trás, arrastando as cadeiras da varanda levando-as pelo quintal. O céu se tornou escuro como lodo. Então começou a cho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nte-se por um ou dois dias – talvez até mesmo por uma semana. Volte ao texto e tente lê-lo como se nunca o tivesse visto. Faça anotações. Elimine a voz passiva e passe para a ativa. Enxugue as sentenças. As afirmações são claras? Você saberia o que o autor quis dizer com uma determinada afirmação se você já não o soub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u primeiro parágrafo ainda lhe parece forte? Será que seria melhor tirar os parágrafos com divagações e partir direto para a ação? Ou você afirmou o que pretende dizer aos leitores? Será que uma história breve e descritiva seria melhor para atrair o leitor a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Partilhe com outros que tenham conhecimento suficiente para criticar de forma honesta. Não é necessário aceitar tudo o que lhe dizem. Mas considere as críticas recebidas e se lhe parecerem válidas, aceit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Faça as mudanças indicadas acima. Ponha de lado sua cópia corrigida, por pelo menos por um dia. Então, pegue-a novamente. Algo lhe chama a atenção como impróprio ou estranho? Se  for o caso, provavelmente você deverá fazer mudança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133720" y="838080"/>
            <a:ext cx="2235240" cy="1676520"/>
          </a:xfrm>
          <a:prstGeom prst="rect">
            <a:avLst/>
          </a:prstGeom>
          <a:ln w="0">
            <a:noFill/>
          </a:ln>
        </p:spPr>
      </p:sp>
      <p:sp>
        <p:nvSpPr>
          <p:cNvPr id="279" name="PlaceHolder 2"/>
          <p:cNvSpPr>
            <a:spLocks noGrp="1"/>
          </p:cNvSpPr>
          <p:nvPr>
            <p:ph type="body"/>
          </p:nvPr>
        </p:nvSpPr>
        <p:spPr>
          <a:xfrm>
            <a:off x="685800" y="2590920"/>
            <a:ext cx="5486400" cy="5333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receber a rejeição dos ed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 escritor já recebeu notificação de que seu artigo foi rejeitado – até mesmo os escritores famosos! Veja a lista abaixo a fim de tentar compreender porque seu artigo não foi aceito. Então, da próxima vez, corrija seus err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está de acordo com o tema da revist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mbra o tema, a trama ou situação de alguma história publicada recentemen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uito longa ou muito breve para o tema em mãos, detalhes excessivos ou falta de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209680" y="685800"/>
            <a:ext cx="2438640" cy="1828800"/>
          </a:xfrm>
          <a:prstGeom prst="rect">
            <a:avLst/>
          </a:prstGeom>
          <a:ln w="0">
            <a:noFill/>
          </a:ln>
        </p:spPr>
      </p:sp>
      <p:sp>
        <p:nvSpPr>
          <p:cNvPr id="196" name="PlaceHolder 2"/>
          <p:cNvSpPr>
            <a:spLocks noGrp="1"/>
          </p:cNvSpPr>
          <p:nvPr>
            <p:ph type="body"/>
          </p:nvPr>
        </p:nvSpPr>
        <p:spPr>
          <a:xfrm>
            <a:off x="685800" y="274284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ora que você está convencida de que você pode e deveria escrever, lembre-se do conselho dado por Joseph Pulitzer: “Apresente-lhes de forma resumida para que leiam, de forma clara para que apreciem, de forma pitoresca para que se lembrem e, acima de tudo, com acuidade a fim de que sejam guiados por sua lu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SOBRE O QUE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uma poetisa que diz que quando está sem idéias, abre a enciclopédia e lê rapidamente sobre o primeiro animal ou inseto que aparece. Então não se levanta da cadeira até que tenha escrito um poema sobre essa criatura. Ela insiste que os animais a levaram a todo tipo de pensamento intrigante a respeito da sobrevivência, a respeito de padrões de cultura – e têm resultado em suas melhores poesias</a:t>
            </a:r>
            <a:r>
              <a:rPr b="1" lang="pt-BR" sz="1200" spc="-1" strike="noStrike">
                <a:solidFill>
                  <a:srgbClr val="000000"/>
                </a:solidFill>
                <a:latin typeface="Arial"/>
              </a:rPr>
              <a:t>.</a:t>
            </a:r>
            <a:r>
              <a:rPr b="0" lang="pt-B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other writer, Leonard S. Berstein, who in that state of frenzied non-inspiration writes grocery lists says that writing grocery lists is better than not writing anything and furthermore, once he gets started on a grocery list—once he starts moving the pencil across the pad—he finds that it leads to something.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146320" y="838080"/>
            <a:ext cx="2133720" cy="1600200"/>
          </a:xfrm>
          <a:prstGeom prst="rect">
            <a:avLst/>
          </a:prstGeom>
          <a:ln w="0">
            <a:noFill/>
          </a:ln>
        </p:spPr>
      </p:sp>
      <p:sp>
        <p:nvSpPr>
          <p:cNvPr id="281" name="PlaceHolder 2"/>
          <p:cNvSpPr>
            <a:spLocks noGrp="1"/>
          </p:cNvSpPr>
          <p:nvPr>
            <p:ph type="body"/>
          </p:nvPr>
        </p:nvSpPr>
        <p:spPr>
          <a:xfrm>
            <a:off x="609480" y="2514240"/>
            <a:ext cx="5486400" cy="617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 Fraco em um ou mais aspectos essenciais: caracterização, trama e atmosf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5. Comentário sobre alguma teoria que poderia enfadar a maioria dos le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Piegu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Writer’s Digest, p. 6, 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Z TENDÊNCIAS ESSENCIAIS DE IMPACTO CRISTÃO NOS PUBLICADORES HOJ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tendências atuais determinam o interesse pelo tema. As pessoas desejam saber o que o assunto apresentado pelo escritor tem de ver com a vida que elas viv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utras tendê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O custo da publicação segue aumentando. As publicações e artigos necessitam ter visão aguda. Isso é necessá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O tempo gasto pelos leitores, lendo publicações e artigos, continua decrescendo. A leitura não mais está confinada ao pap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Interatividade. A imprensa pode sobreviver como uma experiência de stat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A comunicação se está tornando cada vez mais visual. O design é cada bit e tão importante no processo da comunicação como o são as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Grande número de leitores ido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vimento de homens / movimento de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7.</a:t>
            </a:r>
            <a:r>
              <a:rPr b="0" lang="pt-BR" sz="1200" spc="-1" strike="noStrike">
                <a:solidFill>
                  <a:srgbClr val="000000"/>
                </a:solidFill>
                <a:latin typeface="Arial"/>
              </a:rPr>
              <a:t>	</a:t>
            </a:r>
            <a:r>
              <a:rPr b="0" lang="pt-BR" sz="1200" spc="-1" strike="noStrike">
                <a:solidFill>
                  <a:srgbClr val="000000"/>
                </a:solidFill>
                <a:latin typeface="Arial"/>
              </a:rPr>
              <a:t>O apelo à reconciliação ra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O interesse no mercado internacional. Os americanos estão cada vez mais aderindo ao isolamento. As igrejas estão no mesmo cami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Aumento da necessidade de ser comunidade. Há uma demanda crescente por leitores a fim de que tenham senso de comunidade nas publicações. As revistas estão começando a serem vistas como um oásis em uma cultura fragmentada, um lugar onde a visão dos leitores é valorizada, onde são dados conselhos, compaixão e compreensã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O aumento do interesse por temas espirituais.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1066320"/>
            <a:ext cx="5790960" cy="769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itchel Ivers, que escreveu o livro “Random House Guide to Good Writing" (Guia Aleatório para Escrever Bem), dá o seguinte conselho na conclusão: “A melhor forma de aprender a escrever é lendo bons autores. Admire o que eles fizeram e tente fazer o mesmo. ‘Eu li, a fim de saber como escrever’, disse A. S. Byatt. Já Edgar Allan Poe disse: “Não o tipo de leitura para ser feita relaxadamente no sofá, mas sentado em uma cadeira dura à mesa, com um lápis na mão – a melhor forma de ler é estar alerta, ser combativo e pronto para argumentar e conside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Todos fazemos parte de uma tradição da boa escrita. Aprendemos a apreciá-la e ousamos tentá-la. Como disse William Faulkner: ‘Leia, leia, leia. ... Assim como um carpinteiro que trabalha como aprendiz e estuda o mestre, lê! Você irá absorver. Então, escreva. Se estiver bom, você irá descobrir. Se não, jogue-o pela jan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lunos de Anne Lamott perguntaram: “Por que nossa escrita ainda é import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Devido ao espírito”, foi a resposta da Lamott. “Por causa do coração. Escrever e ler diminuem nosso senso de isolamento. Aprofundam, ampliam e expandem nosso senso de vida: alimentam a alma. Quando os escritores nos levam a menear a cabeça com a perfeição de sua prosa e de suas verdades, e até mesmo nos fazem rir de nós mesmos ou da vida, nossa esperança é restaurada. Recebemos um lançamento com o qual dançar ou, pelo menos, aplaudimos o absurdo da vida, em vez de sermos golpeados por ele repetidas vezes. É como cantar em um barco durante uma tempestade terrível no mar. Não podemos fazer parar a tempestade assoladora, mas cantar pode mudar o coração e o espírito das pessoas que estão juntas no bar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membros da Igreja Adventista do Sétimo Dia, os artigos em nossas revistas e livros continuam sendo uma das melhores formas de comunicação. Você tem a oportunidade de ampliar e de expandir a experiência cristã dos outros ao colocar a pena no papel, ou os dedos no teclado, e partilhar seus sentimentos, seus pensamentos, sua pesquisa e sua paixão pelos leito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44800" y="609480"/>
            <a:ext cx="2235240" cy="1676520"/>
          </a:xfrm>
          <a:prstGeom prst="rect">
            <a:avLst/>
          </a:prstGeom>
          <a:ln w="0">
            <a:noFill/>
          </a:ln>
        </p:spPr>
      </p:sp>
      <p:sp>
        <p:nvSpPr>
          <p:cNvPr id="198"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sugestões para começar: </a:t>
            </a:r>
            <a:r>
              <a:rPr b="0" lang="pt-BR" sz="1200" spc="-1" strike="noStrike">
                <a:solidFill>
                  <a:srgbClr val="000000"/>
                </a:solidFill>
                <a:latin typeface="Arial"/>
              </a:rPr>
              <a:t>Para encontrar idéias, tente 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03560" y="609480"/>
            <a:ext cx="2235240" cy="1676520"/>
          </a:xfrm>
          <a:prstGeom prst="rect">
            <a:avLst/>
          </a:prstGeom>
          <a:ln w="0">
            <a:noFill/>
          </a:ln>
        </p:spPr>
      </p:sp>
      <p:sp>
        <p:nvSpPr>
          <p:cNvPr id="200" name="PlaceHolder 2"/>
          <p:cNvSpPr>
            <a:spLocks noGrp="1"/>
          </p:cNvSpPr>
          <p:nvPr>
            <p:ph type="body"/>
          </p:nvPr>
        </p:nvSpPr>
        <p:spPr>
          <a:xfrm>
            <a:off x="914400" y="23623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sidere os relacionamentos</a:t>
            </a:r>
            <a:r>
              <a:rPr b="0" lang="pt-BR" sz="1200" spc="-1" strike="noStrike">
                <a:solidFill>
                  <a:srgbClr val="000000"/>
                </a:solidFill>
                <a:latin typeface="Arial"/>
              </a:rPr>
              <a:t> – cada pessoa está envolvida em, pelo menos, um de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miz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samen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ter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l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unica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2800" y="533520"/>
            <a:ext cx="2234880" cy="1676160"/>
          </a:xfrm>
          <a:prstGeom prst="rect">
            <a:avLst/>
          </a:prstGeom>
          <a:ln w="0">
            <a:noFill/>
          </a:ln>
        </p:spPr>
      </p:sp>
      <p:sp>
        <p:nvSpPr>
          <p:cNvPr id="202" name="PlaceHolder 2"/>
          <p:cNvSpPr>
            <a:spLocks noGrp="1"/>
          </p:cNvSpPr>
          <p:nvPr>
            <p:ph type="body"/>
          </p:nvPr>
        </p:nvSpPr>
        <p:spPr>
          <a:xfrm>
            <a:off x="685800" y="22856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rescimento </a:t>
            </a:r>
            <a:r>
              <a:rPr b="0" lang="pt-BR" sz="1200" spc="-1" strike="noStrike">
                <a:solidFill>
                  <a:srgbClr val="000000"/>
                </a:solidFill>
                <a:latin typeface="Arial"/>
              </a:rPr>
              <a:t>– todos deveriam crescer – este tipo de redação, normalmente, diz respeito às formas de resolver problemas ou alcançar 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resse administ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emocion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do pass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m estado fís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utri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raquezas do caráter (temperamento explosivo, pena de si mesmo, indolen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76480" y="533520"/>
            <a:ext cx="2336760" cy="1752480"/>
          </a:xfrm>
          <a:prstGeom prst="rect">
            <a:avLst/>
          </a:prstGeom>
          <a:ln w="0">
            <a:noFill/>
          </a:ln>
        </p:spPr>
      </p:sp>
      <p:sp>
        <p:nvSpPr>
          <p:cNvPr id="204" name="PlaceHolder 2"/>
          <p:cNvSpPr>
            <a:spLocks noGrp="1"/>
          </p:cNvSpPr>
          <p:nvPr>
            <p:ph type="body"/>
          </p:nvPr>
        </p:nvSpPr>
        <p:spPr>
          <a:xfrm>
            <a:off x="1066320" y="2361960"/>
            <a:ext cx="4876920" cy="510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na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rganiz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dera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parência ex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utenção d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olhas profission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dministração do temp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B450C-E0E1-491E-8D06-C700F0EE8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42F82-AC81-41E8-9F66-6A30AC53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891E4-0F4E-4839-9CB5-EB89CDD5D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51FF4-1F0F-40F3-A041-3F444069E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C89F3-42CF-485D-B1EE-82A83BBA4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1D676-D210-4FE5-ACBB-498294D0F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0EB4A-C95E-4E10-ABFF-717459157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CBAA1-7867-4680-826A-431C1B902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48B42-2507-4BF4-B824-671154D03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D17A5-49AC-4441-A559-B2D240B47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3E98C-ABFC-4BBA-ACD4-3A8A12858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D75EF-6624-4F49-86E3-66598FB2E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F488-3E6D-4486-BE30-40246319F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m.gc.adventist.org/Pages/devotional_2.html" TargetMode="External"/><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0" y="0"/>
            <a:ext cx="9144000" cy="6858000"/>
          </a:xfrm>
          <a:prstGeom prst="rect">
            <a:avLst/>
          </a:prstGeom>
          <a:ln w="0">
            <a:noFill/>
          </a:ln>
        </p:spPr>
      </p:pic>
      <p:sp>
        <p:nvSpPr>
          <p:cNvPr id="51" name=""/>
          <p:cNvSpPr txBox="1"/>
          <p:nvPr/>
        </p:nvSpPr>
        <p:spPr>
          <a:xfrm>
            <a:off x="2590920" y="2209680"/>
            <a:ext cx="4724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Redaçã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com </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Propósit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
        <p:nvSpPr>
          <p:cNvPr id="52" name=""/>
          <p:cNvSpPr txBox="1"/>
          <p:nvPr/>
        </p:nvSpPr>
        <p:spPr>
          <a:xfrm>
            <a:off x="5045040" y="52578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rPr>
              <a:t>MINISTÉRIOS DA MULHER</a:t>
            </a:r>
            <a:endPar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ea typeface="Times New Roman"/>
            </a:endParaRPr>
          </a:p>
        </p:txBody>
      </p:sp>
      <p:sp>
        <p:nvSpPr>
          <p:cNvPr id="53" name=""/>
          <p:cNvSpPr/>
          <p:nvPr/>
        </p:nvSpPr>
        <p:spPr>
          <a:xfrm>
            <a:off x="5518080" y="5729400"/>
            <a:ext cx="1683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Liderança</a:t>
            </a:r>
            <a:endParaRPr b="0" lang="en-US" sz="2400" spc="-1" strike="noStrike">
              <a:solidFill>
                <a:srgbClr val="000000"/>
              </a:solidFill>
              <a:latin typeface="Arial"/>
            </a:endParaRPr>
          </a:p>
        </p:txBody>
      </p:sp>
      <p:sp>
        <p:nvSpPr>
          <p:cNvPr id="54" name=""/>
          <p:cNvSpPr/>
          <p:nvPr/>
        </p:nvSpPr>
        <p:spPr>
          <a:xfrm>
            <a:off x="7467480" y="57754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ernhardMod BT"/>
              </a:rPr>
              <a:t>3</a:t>
            </a:r>
            <a:endParaRPr b="0" lang="en-US" sz="6000" spc="-1" strike="noStrike">
              <a:solidFill>
                <a:srgbClr val="000000"/>
              </a:solidFill>
              <a:latin typeface="Arial"/>
            </a:endParaRPr>
          </a:p>
        </p:txBody>
      </p:sp>
      <p:sp>
        <p:nvSpPr>
          <p:cNvPr id="55" name=""/>
          <p:cNvSpPr/>
          <p:nvPr/>
        </p:nvSpPr>
        <p:spPr>
          <a:xfrm>
            <a:off x="6896160" y="571500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ernhardMod BT"/>
                <a:ea typeface="Times New Roman"/>
              </a:rPr>
              <a:t>NÍ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4112280" y="4122720"/>
            <a:ext cx="1867680" cy="39888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By Myrna Tet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96160"/>
          </a:xfrm>
          <a:prstGeom prst="rect">
            <a:avLst/>
          </a:prstGeom>
          <a:ln w="0">
            <a:noFill/>
          </a:ln>
        </p:spPr>
      </p:pic>
      <p:sp>
        <p:nvSpPr>
          <p:cNvPr id="79" name="PlaceHolder 1"/>
          <p:cNvSpPr>
            <a:spLocks noGrp="1"/>
          </p:cNvSpPr>
          <p:nvPr>
            <p:ph/>
          </p:nvPr>
        </p:nvSpPr>
        <p:spPr>
          <a:xfrm>
            <a:off x="1447560" y="1798560"/>
            <a:ext cx="6553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 algo com facilidade.</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ovas ferramentas que nos ajudam a fazer algo melhor.</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desfrutar mais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mudar os sentimentos ou atitudes a respeito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eguir com um empreendimento inici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outra pessoa</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ge em situaçã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melh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txBox="1"/>
          <p:nvPr/>
        </p:nvSpPr>
        <p:spPr>
          <a:xfrm>
            <a:off x="847800" y="762120"/>
            <a:ext cx="2276280" cy="68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Métod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96160"/>
          </a:xfrm>
          <a:prstGeom prst="rect">
            <a:avLst/>
          </a:prstGeom>
          <a:ln w="0">
            <a:noFill/>
          </a:ln>
        </p:spPr>
      </p:pic>
      <p:sp>
        <p:nvSpPr>
          <p:cNvPr id="82" name="PlaceHolder 1"/>
          <p:cNvSpPr>
            <a:spLocks noGrp="1"/>
          </p:cNvSpPr>
          <p:nvPr>
            <p:ph/>
          </p:nvPr>
        </p:nvSpPr>
        <p:spPr>
          <a:xfrm>
            <a:off x="1142640" y="1676520"/>
            <a:ext cx="6172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Trebuchet MS"/>
              </a:rPr>
              <a:t>Exemp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 plenitude de Deus (um tema inesgotá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reino e a glória de Deus (exatamente o que significa a gló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mor envolveu o homem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	</a:t>
            </a:r>
            <a:r>
              <a:rPr b="0" i="1" lang="pt-BR" sz="2400" spc="-1" strike="noStrike">
                <a:solidFill>
                  <a:srgbClr val="000000"/>
                </a:solidFill>
                <a:latin typeface="Trebuchet MS"/>
              </a:rPr>
              <a:t>O Desejado de To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rebuchet MS"/>
              </a:rPr>
              <a:t>	</a:t>
            </a:r>
            <a:r>
              <a:rPr b="0" i="1" lang="pt-BR" sz="2400" spc="-1" strike="noStrike">
                <a:solidFill>
                  <a:srgbClr val="000000"/>
                </a:solidFill>
                <a:latin typeface="Trebuchet MS"/>
              </a:rPr>
              <a:t>as Nações</a:t>
            </a:r>
            <a:r>
              <a:rPr b="0" lang="pt-BR" sz="2400" spc="-1" strike="noStrike">
                <a:solidFill>
                  <a:srgbClr val="000000"/>
                </a:solidFill>
                <a:latin typeface="Trebuchet MS"/>
              </a:rPr>
              <a:t>, p. 113.</a:t>
            </a:r>
            <a:endParaRPr b="0" lang="en-US" sz="2400" spc="-1" strike="noStrike">
              <a:solidFill>
                <a:srgbClr val="000000"/>
              </a:solidFill>
              <a:latin typeface="Arial"/>
            </a:endParaRPr>
          </a:p>
        </p:txBody>
      </p:sp>
      <p:sp>
        <p:nvSpPr>
          <p:cNvPr id="83" name=""/>
          <p:cNvSpPr txBox="1"/>
          <p:nvPr/>
        </p:nvSpPr>
        <p:spPr>
          <a:xfrm>
            <a:off x="1066680" y="990720"/>
            <a:ext cx="36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emas Religios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96160"/>
          </a:xfrm>
          <a:prstGeom prst="rect">
            <a:avLst/>
          </a:prstGeom>
          <a:ln w="0">
            <a:noFill/>
          </a:ln>
        </p:spPr>
      </p:pic>
      <p:sp>
        <p:nvSpPr>
          <p:cNvPr id="85" name="PlaceHolder 1"/>
          <p:cNvSpPr>
            <a:spLocks noGrp="1"/>
          </p:cNvSpPr>
          <p:nvPr>
            <p:ph/>
          </p:nvPr>
        </p:nvSpPr>
        <p:spPr>
          <a:xfrm>
            <a:off x="1219320" y="1341360"/>
            <a:ext cx="71625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rrepreensível (o que é isso?) Apocalipse 14:5; 1 Coríntios 1:18.</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flexões sobre a Sua imagem (poderíamos s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amos refugo a Deus e Ele aprecia – Ele nos dá o perdão e gostamos disso</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96160"/>
          </a:xfrm>
          <a:prstGeom prst="rect">
            <a:avLst/>
          </a:prstGeom>
          <a:ln w="0">
            <a:noFill/>
          </a:ln>
        </p:spPr>
      </p:pic>
      <p:sp>
        <p:nvSpPr>
          <p:cNvPr id="87" name="PlaceHolder 1"/>
          <p:cNvSpPr>
            <a:spLocks noGrp="1"/>
          </p:cNvSpPr>
          <p:nvPr>
            <p:ph/>
          </p:nvPr>
        </p:nvSpPr>
        <p:spPr>
          <a:xfrm>
            <a:off x="1676520" y="1447920"/>
            <a:ext cx="5410080" cy="4525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Alimento Espiritual</a:t>
            </a:r>
            <a:r>
              <a:rPr b="0" lang="pt-BR" sz="3200" spc="-1" strike="noStrike">
                <a:solidFill>
                  <a:srgbClr val="000000"/>
                </a:solidFill>
                <a:latin typeface="Trebuchet MS"/>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Mensagem e Missão</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Diversidade</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Interação com o Leitor</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Rotativos.</a:t>
            </a:r>
            <a:endParaRPr b="0" lang="en-US" sz="3200" spc="-1" strike="noStrike">
              <a:solidFill>
                <a:srgbClr val="000000"/>
              </a:solidFill>
              <a:latin typeface="Arial"/>
            </a:endParaRPr>
          </a:p>
        </p:txBody>
      </p:sp>
      <p:sp>
        <p:nvSpPr>
          <p:cNvPr id="88" name=""/>
          <p:cNvSpPr txBox="1"/>
          <p:nvPr/>
        </p:nvSpPr>
        <p:spPr>
          <a:xfrm>
            <a:off x="762120" y="914400"/>
            <a:ext cx="3657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he Adventist Review</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96160"/>
          </a:xfrm>
          <a:prstGeom prst="rect">
            <a:avLst/>
          </a:prstGeom>
          <a:ln w="0">
            <a:noFill/>
          </a:ln>
        </p:spPr>
      </p:pic>
      <p:sp>
        <p:nvSpPr>
          <p:cNvPr id="92" name="PlaceHolder 1"/>
          <p:cNvSpPr>
            <a:spLocks noGrp="1"/>
          </p:cNvSpPr>
          <p:nvPr>
            <p:ph type="title"/>
          </p:nvPr>
        </p:nvSpPr>
        <p:spPr>
          <a:xfrm>
            <a:off x="380520" y="1599840"/>
            <a:ext cx="5334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8000"/>
                </a:solidFill>
                <a:latin typeface="Trebuchet MS"/>
              </a:rPr>
              <a:t>Review &amp; Herald Publishing</a:t>
            </a:r>
            <a:endParaRPr b="0" lang="en-US" sz="3200" spc="-1" strike="noStrike">
              <a:solidFill>
                <a:srgbClr val="000000"/>
              </a:solidFill>
              <a:latin typeface="Arial"/>
            </a:endParaRPr>
          </a:p>
        </p:txBody>
      </p:sp>
      <p:sp>
        <p:nvSpPr>
          <p:cNvPr id="93" name="PlaceHolder 2"/>
          <p:cNvSpPr>
            <a:spLocks noGrp="1"/>
          </p:cNvSpPr>
          <p:nvPr>
            <p:ph/>
          </p:nvPr>
        </p:nvSpPr>
        <p:spPr>
          <a:xfrm>
            <a:off x="1752120" y="3200040"/>
            <a:ext cx="3962520" cy="2544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outrinári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spirativ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ológic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stemunho cristão.</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txBox="1"/>
          <p:nvPr/>
        </p:nvSpPr>
        <p:spPr>
          <a:xfrm>
            <a:off x="762120" y="9144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96160"/>
          </a:xfrm>
          <a:prstGeom prst="rect">
            <a:avLst/>
          </a:prstGeom>
          <a:ln w="0">
            <a:noFill/>
          </a:ln>
        </p:spPr>
      </p:pic>
      <p:sp>
        <p:nvSpPr>
          <p:cNvPr id="96" name="PlaceHolder 1"/>
          <p:cNvSpPr>
            <a:spLocks noGrp="1"/>
          </p:cNvSpPr>
          <p:nvPr>
            <p:ph/>
          </p:nvPr>
        </p:nvSpPr>
        <p:spPr>
          <a:xfrm>
            <a:off x="1981080" y="1371600"/>
            <a:ext cx="5943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eocupações conjugais e famil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tivos para cr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soc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aúd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2590920" y="1374480"/>
            <a:ext cx="5029200" cy="511452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ratamento atual e original das crenças adventistas do sétimo dia.</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aterial atual sobre temas que inspiram e espirituais de forma geral.</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Livros práticos originais sobre o viver cristão, incluindo receitas e guias do estilo de vida.</a:t>
            </a:r>
            <a:endParaRPr b="0" lang="en-US" sz="2400" spc="-1" strike="noStrike">
              <a:solidFill>
                <a:srgbClr val="000000"/>
              </a:solidFill>
              <a:latin typeface="Arial"/>
            </a:endParaRPr>
          </a:p>
          <a:p>
            <a:pPr marL="365040" indent="-365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txBox="1"/>
          <p:nvPr/>
        </p:nvSpPr>
        <p:spPr>
          <a:xfrm>
            <a:off x="933480" y="6858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
        <p:nvSpPr>
          <p:cNvPr id="102" name=""/>
          <p:cNvSpPr/>
          <p:nvPr/>
        </p:nvSpPr>
        <p:spPr>
          <a:xfrm>
            <a:off x="3468600" y="1117440"/>
            <a:ext cx="282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rebuchet MS"/>
              </a:rPr>
              <a:t>Pacific Pr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2"/>
          <a:stretch/>
        </p:blipFill>
        <p:spPr>
          <a:xfrm>
            <a:off x="0" y="0"/>
            <a:ext cx="9144000" cy="6896160"/>
          </a:xfrm>
          <a:prstGeom prst="rect">
            <a:avLst/>
          </a:prstGeom>
          <a:ln w="0">
            <a:noFill/>
          </a:ln>
        </p:spPr>
      </p:pic>
      <p:sp>
        <p:nvSpPr>
          <p:cNvPr id="105" name="PlaceHolder 2"/>
          <p:cNvSpPr>
            <a:spLocks noGrp="1"/>
          </p:cNvSpPr>
          <p:nvPr>
            <p:ph/>
          </p:nvPr>
        </p:nvSpPr>
        <p:spPr>
          <a:xfrm>
            <a:off x="990720" y="990360"/>
            <a:ext cx="58672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de vida dramáticas e tocantes de adventistas do sétimo d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interessantes, verdadeiras para crianças, incluindo experiências com animais, aventuras de mistério e histórias da Bíb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96160"/>
          </a:xfrm>
          <a:prstGeom prst="rect">
            <a:avLst/>
          </a:prstGeom>
          <a:ln w="0">
            <a:noFill/>
          </a:ln>
        </p:spPr>
      </p:pic>
      <p:sp>
        <p:nvSpPr>
          <p:cNvPr id="109" name="PlaceHolder 1"/>
          <p:cNvSpPr>
            <a:spLocks noGrp="1"/>
          </p:cNvSpPr>
          <p:nvPr>
            <p:ph/>
          </p:nvPr>
        </p:nvSpPr>
        <p:spPr>
          <a:xfrm>
            <a:off x="990360" y="1265400"/>
            <a:ext cx="6933960" cy="536400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pt-BR" sz="2600" spc="-1" strike="noStrike">
                <a:solidFill>
                  <a:srgbClr val="000000"/>
                </a:solidFill>
                <a:latin typeface="Trebuchet MS"/>
              </a:rPr>
              <a:t>O texto que inspira, de forma geral não é tanto uma questão de talento, como o é de paixão, de um ‘fogo consumidor nos ossos’, de um sentimento de urgência, de um entusiasmo irreprimível sobre o tema em questão, tão contagiante que todo o que é exposto a ele capta o próprio entusiasmo do autor</a:t>
            </a:r>
            <a:r>
              <a:rPr b="0" lang="en-US" sz="2600" spc="-1" strike="noStrike">
                <a:solidFill>
                  <a:srgbClr val="000000"/>
                </a:solidFill>
                <a:latin typeface="Trebuchet MS"/>
              </a:rPr>
              <a:t>.”</a:t>
            </a:r>
            <a:endParaRPr b="0" lang="en-US" sz="26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rald Whee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2"/>
          <a:stretch/>
        </p:blipFill>
        <p:spPr>
          <a:xfrm>
            <a:off x="0" y="0"/>
            <a:ext cx="9144000" cy="6858000"/>
          </a:xfrm>
          <a:prstGeom prst="rect">
            <a:avLst/>
          </a:prstGeom>
          <a:ln w="0">
            <a:noFill/>
          </a:ln>
        </p:spPr>
      </p:pic>
      <p:sp>
        <p:nvSpPr>
          <p:cNvPr id="113" name=""/>
          <p:cNvSpPr txBox="1"/>
          <p:nvPr/>
        </p:nvSpPr>
        <p:spPr>
          <a:xfrm>
            <a:off x="2095560" y="2000160"/>
            <a:ext cx="537192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Artigos qu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informam devem</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conter o seguint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96160"/>
          </a:xfrm>
          <a:prstGeom prst="rect">
            <a:avLst/>
          </a:prstGeom>
          <a:ln w="0">
            <a:noFill/>
          </a:ln>
        </p:spPr>
      </p:pic>
      <p:sp>
        <p:nvSpPr>
          <p:cNvPr id="115" name="PlaceHolder 1"/>
          <p:cNvSpPr>
            <a:spLocks noGrp="1"/>
          </p:cNvSpPr>
          <p:nvPr>
            <p:ph/>
          </p:nvPr>
        </p:nvSpPr>
        <p:spPr>
          <a:xfrm>
            <a:off x="1904760" y="1600200"/>
            <a:ext cx="601956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les devem convencer o leitor de que você é conhecedor do assunto e que o aprecia.</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rtigo necessita avançar – seguir corretamente o tempo 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96160"/>
          </a:xfrm>
          <a:prstGeom prst="rect">
            <a:avLst/>
          </a:prstGeom>
          <a:ln w="0">
            <a:noFill/>
          </a:ln>
        </p:spPr>
      </p:pic>
      <p:sp>
        <p:nvSpPr>
          <p:cNvPr id="117" name="PlaceHolder 1"/>
          <p:cNvSpPr>
            <a:spLocks noGrp="1"/>
          </p:cNvSpPr>
          <p:nvPr>
            <p:ph/>
          </p:nvPr>
        </p:nvSpPr>
        <p:spPr>
          <a:xfrm>
            <a:off x="2133360" y="1447920"/>
            <a:ext cx="6172200" cy="4525920"/>
          </a:xfrm>
          <a:prstGeom prst="rect">
            <a:avLst/>
          </a:prstGeom>
          <a:noFill/>
          <a:ln w="0">
            <a:noFill/>
          </a:ln>
        </p:spPr>
        <p:txBody>
          <a:bodyPr lIns="90000" rIns="90000" tIns="46800" bIns="46800"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 </a:t>
            </a:r>
            <a:r>
              <a:rPr b="0" lang="en-US" sz="2800" spc="-1" strike="noStrike">
                <a:solidFill>
                  <a:srgbClr val="000000"/>
                </a:solidFill>
                <a:latin typeface="Trebuchet MS"/>
              </a:rPr>
              <a:t>	</a:t>
            </a:r>
            <a:r>
              <a:rPr b="0" lang="pt-BR" sz="2800" spc="-1" strike="noStrike">
                <a:solidFill>
                  <a:srgbClr val="000000"/>
                </a:solidFill>
                <a:latin typeface="Trebuchet MS"/>
              </a:rPr>
              <a:t>Você deve entrar logo no assunto. Não escreva um prefácio longo.</a:t>
            </a:r>
            <a:endParaRPr b="0" lang="en-US" sz="2800" spc="-1" strike="noStrike">
              <a:solidFill>
                <a:srgbClr val="000000"/>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4.</a:t>
            </a:r>
            <a:r>
              <a:rPr b="0" lang="pt-BR" sz="2800" spc="-1" strike="noStrike">
                <a:solidFill>
                  <a:srgbClr val="000000"/>
                </a:solidFill>
                <a:latin typeface="Trebuchet MS"/>
              </a:rPr>
              <a:t>	</a:t>
            </a:r>
            <a:r>
              <a:rPr b="0" lang="pt-BR" sz="2800" spc="-1" strike="noStrike">
                <a:solidFill>
                  <a:srgbClr val="000000"/>
                </a:solidFill>
                <a:latin typeface="Trebuchet MS"/>
              </a:rPr>
              <a:t>Encurte o processo – você não está escrevendo um livro.</a:t>
            </a:r>
            <a:endParaRPr b="0" lang="en-US" sz="2800" spc="-1" strike="noStrike">
              <a:solidFill>
                <a:srgbClr val="000000"/>
              </a:solidFill>
              <a:latin typeface="Arial"/>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96160"/>
          </a:xfrm>
          <a:prstGeom prst="rect">
            <a:avLst/>
          </a:prstGeom>
          <a:ln w="0">
            <a:noFill/>
          </a:ln>
        </p:spPr>
      </p:pic>
      <p:sp>
        <p:nvSpPr>
          <p:cNvPr id="119" name="PlaceHolder 1"/>
          <p:cNvSpPr>
            <a:spLocks noGrp="1"/>
          </p:cNvSpPr>
          <p:nvPr>
            <p:ph/>
          </p:nvPr>
        </p:nvSpPr>
        <p:spPr>
          <a:xfrm>
            <a:off x="1219320" y="1189080"/>
            <a:ext cx="6781680" cy="452592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5. </a:t>
            </a:r>
            <a:r>
              <a:rPr b="0" lang="en-US" sz="2800" spc="-1" strike="noStrike">
                <a:solidFill>
                  <a:srgbClr val="000000"/>
                </a:solidFill>
                <a:latin typeface="Trebuchet MS"/>
              </a:rPr>
              <a:t>	</a:t>
            </a:r>
            <a:r>
              <a:rPr b="0" lang="pt-BR" sz="2800" spc="-1" strike="noStrike">
                <a:solidFill>
                  <a:srgbClr val="000000"/>
                </a:solidFill>
                <a:latin typeface="Trebuchet MS"/>
              </a:rPr>
              <a:t>Você necessita inspirar seus leitões a desejarem aprender a respeito do tema, ou sentirem o desejo de fazer tudo o que você sugere. Seja entusiástica</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9144000" cy="6896160"/>
          </a:xfrm>
          <a:prstGeom prst="rect">
            <a:avLst/>
          </a:prstGeom>
          <a:ln w="0">
            <a:noFill/>
          </a:ln>
        </p:spPr>
      </p:pic>
      <p:sp>
        <p:nvSpPr>
          <p:cNvPr id="121" name="PlaceHolder 1"/>
          <p:cNvSpPr>
            <a:spLocks noGrp="1"/>
          </p:cNvSpPr>
          <p:nvPr>
            <p:ph/>
          </p:nvPr>
        </p:nvSpPr>
        <p:spPr>
          <a:xfrm>
            <a:off x="1447920" y="1143000"/>
            <a:ext cx="6400800" cy="4525920"/>
          </a:xfrm>
          <a:prstGeom prst="rect">
            <a:avLst/>
          </a:prstGeom>
          <a:noFill/>
          <a:ln w="0">
            <a:noFill/>
          </a:ln>
        </p:spPr>
        <p:txBody>
          <a:bodyPr lIns="90000" rIns="90000" tIns="46800" bIns="46800" anchor="t">
            <a:normAutofit fontScale="93000"/>
          </a:bodyPr>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6. </a:t>
            </a:r>
            <a:r>
              <a:rPr b="0" lang="en-US" sz="2800" spc="-1" strike="noStrike">
                <a:solidFill>
                  <a:srgbClr val="000000"/>
                </a:solidFill>
                <a:latin typeface="Trebuchet MS"/>
              </a:rPr>
              <a:t>	</a:t>
            </a:r>
            <a:r>
              <a:rPr b="0" lang="pt-BR" sz="2800" spc="-1" strike="noStrike">
                <a:solidFill>
                  <a:srgbClr val="000000"/>
                </a:solidFill>
                <a:latin typeface="Trebuchet MS"/>
              </a:rPr>
              <a:t>Embora o objetivo principal do artigo seja informar, instruir, descrever um processo, você deveria escrever com tal espírito que inspire o leitor a imaginar o produto pronto, quer seja a mudança de vida ou um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asa para pássaros</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recém-construíd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6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96160"/>
          </a:xfrm>
          <a:prstGeom prst="rect">
            <a:avLst/>
          </a:prstGeom>
          <a:ln w="0">
            <a:noFill/>
          </a:ln>
        </p:spPr>
      </p:pic>
      <p:sp>
        <p:nvSpPr>
          <p:cNvPr id="125" name="PlaceHolder 1"/>
          <p:cNvSpPr>
            <a:spLocks noGrp="1"/>
          </p:cNvSpPr>
          <p:nvPr>
            <p:ph/>
          </p:nvPr>
        </p:nvSpPr>
        <p:spPr>
          <a:xfrm>
            <a:off x="1752480" y="2560680"/>
            <a:ext cx="68580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vidualize o tema a ser descrito</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orne-a real</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dense. </a:t>
            </a:r>
            <a:endParaRPr b="0" lang="en-US" sz="2800" spc="-1" strike="noStrike">
              <a:solidFill>
                <a:srgbClr val="000000"/>
              </a:solidFill>
              <a:latin typeface="Arial"/>
            </a:endParaRPr>
          </a:p>
        </p:txBody>
      </p:sp>
      <p:sp>
        <p:nvSpPr>
          <p:cNvPr id="126" name=""/>
          <p:cNvSpPr/>
          <p:nvPr/>
        </p:nvSpPr>
        <p:spPr>
          <a:xfrm>
            <a:off x="1676520" y="1218240"/>
            <a:ext cx="701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Sugestões para fazer uma boa descriç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96160"/>
          </a:xfrm>
          <a:prstGeom prst="rect">
            <a:avLst/>
          </a:prstGeom>
          <a:ln w="0">
            <a:noFill/>
          </a:ln>
        </p:spPr>
      </p:pic>
      <p:sp>
        <p:nvSpPr>
          <p:cNvPr id="128" name="PlaceHolder 1"/>
          <p:cNvSpPr>
            <a:spLocks noGrp="1"/>
          </p:cNvSpPr>
          <p:nvPr>
            <p:ph/>
          </p:nvPr>
        </p:nvSpPr>
        <p:spPr>
          <a:xfrm>
            <a:off x="1371600" y="1066680"/>
            <a:ext cx="6324480" cy="106704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   </a:t>
            </a:r>
            <a:r>
              <a:rPr b="1" lang="pt-BR" sz="3200" spc="-1" strike="noStrike">
                <a:solidFill>
                  <a:srgbClr val="008000"/>
                </a:solidFill>
                <a:latin typeface="Trebuchet MS"/>
              </a:rPr>
              <a:t>O que evitar na redação descritiva:</a:t>
            </a:r>
            <a:endParaRPr b="0" lang="en-US" sz="3200" spc="-1" strike="noStrike">
              <a:solidFill>
                <a:srgbClr val="000000"/>
              </a:solidFill>
              <a:latin typeface="Arial"/>
            </a:endParaRPr>
          </a:p>
        </p:txBody>
      </p:sp>
      <p:sp>
        <p:nvSpPr>
          <p:cNvPr id="129" name=""/>
          <p:cNvSpPr/>
          <p:nvPr/>
        </p:nvSpPr>
        <p:spPr>
          <a:xfrm>
            <a:off x="1447920" y="2347920"/>
            <a:ext cx="6781680" cy="292104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seja vaga; não use generalidades. Por exemplo: O pôr-do-sol estava lind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exagere na linguagem descritiva – não tente descrever o Brasil inteir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inclua suas reações </a:t>
            </a:r>
            <a:endParaRPr b="0" lang="en-US" sz="2600" spc="-1" strike="noStrike">
              <a:solidFill>
                <a:srgbClr val="000000"/>
              </a:solidFill>
              <a:latin typeface="Arial"/>
            </a:endParaRPr>
          </a:p>
          <a:p>
            <a:pPr marL="365040" indent="-365040">
              <a:lnSpc>
                <a:spcPct val="100000"/>
              </a:lnSpc>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	</a:t>
            </a:r>
            <a:r>
              <a:rPr b="0" lang="pt-BR" sz="2600" spc="-1" strike="noStrike">
                <a:solidFill>
                  <a:srgbClr val="000000"/>
                </a:solidFill>
                <a:latin typeface="Trebuchet MS"/>
              </a:rPr>
              <a:t>pessoais.</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934320"/>
          </a:xfrm>
          <a:prstGeom prst="rect">
            <a:avLst/>
          </a:prstGeom>
          <a:ln w="0">
            <a:noFill/>
          </a:ln>
        </p:spPr>
      </p:pic>
      <p:sp>
        <p:nvSpPr>
          <p:cNvPr id="131" name="PlaceHolder 1"/>
          <p:cNvSpPr>
            <a:spLocks noGrp="1"/>
          </p:cNvSpPr>
          <p:nvPr>
            <p:ph/>
          </p:nvPr>
        </p:nvSpPr>
        <p:spPr>
          <a:xfrm>
            <a:off x="1523520" y="2712960"/>
            <a:ext cx="678204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uma história, evento por evento, sem incluir detalhes e diálogos</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a história</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ompleta</a:t>
            </a:r>
            <a:r>
              <a:rPr b="0" lang="en-US" sz="2800" spc="-1" strike="noStrike">
                <a:solidFill>
                  <a:srgbClr val="000000"/>
                </a:solidFill>
                <a:latin typeface="Trebuchet MS"/>
              </a:rPr>
              <a:t>. </a:t>
            </a:r>
            <a:endParaRPr b="0" lang="en-US" sz="2800" spc="-1" strike="noStrike">
              <a:solidFill>
                <a:srgbClr val="000000"/>
              </a:solidFill>
              <a:latin typeface="Arial"/>
            </a:endParaRPr>
          </a:p>
        </p:txBody>
      </p:sp>
      <p:sp>
        <p:nvSpPr>
          <p:cNvPr id="132" name=""/>
          <p:cNvSpPr/>
          <p:nvPr/>
        </p:nvSpPr>
        <p:spPr>
          <a:xfrm>
            <a:off x="1911600" y="1264320"/>
            <a:ext cx="6654600" cy="1556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Dois extremos a serem evitad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na redação narra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96160"/>
          </a:xfrm>
          <a:prstGeom prst="rect">
            <a:avLst/>
          </a:prstGeom>
          <a:ln w="0">
            <a:noFill/>
          </a:ln>
        </p:spPr>
      </p:pic>
      <p:sp>
        <p:nvSpPr>
          <p:cNvPr id="60" name="PlaceHolder 1"/>
          <p:cNvSpPr>
            <a:spLocks noGrp="1"/>
          </p:cNvSpPr>
          <p:nvPr>
            <p:ph/>
          </p:nvPr>
        </p:nvSpPr>
        <p:spPr>
          <a:xfrm>
            <a:off x="1600200" y="990720"/>
            <a:ext cx="556272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 clar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mpo suficiente para pensar completamente no tema ou artigo e então redigi-l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r para estimular a men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rever de forma significativa – não artificial</a:t>
            </a:r>
            <a:r>
              <a:rPr b="1"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96160"/>
          </a:xfrm>
          <a:prstGeom prst="rect">
            <a:avLst/>
          </a:prstGeom>
          <a:ln w="0">
            <a:noFill/>
          </a:ln>
        </p:spPr>
      </p:pic>
      <p:sp>
        <p:nvSpPr>
          <p:cNvPr id="134" name="PlaceHolder 1"/>
          <p:cNvSpPr>
            <a:spLocks noGrp="1"/>
          </p:cNvSpPr>
          <p:nvPr>
            <p:ph/>
          </p:nvPr>
        </p:nvSpPr>
        <p:spPr>
          <a:xfrm>
            <a:off x="1599840" y="2103480"/>
            <a:ext cx="7086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expor) (Ele tinha boa índole ...).</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escrever (aparência, onde ele está).</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strar (ação – o que ele faz).</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alar (diálogo).</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s íntimo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samento</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subjuntivo).</a:t>
            </a:r>
            <a:endParaRPr b="0" lang="en-US" sz="2800" spc="-1" strike="noStrike">
              <a:solidFill>
                <a:srgbClr val="000000"/>
              </a:solidFill>
              <a:latin typeface="Arial"/>
            </a:endParaRPr>
          </a:p>
        </p:txBody>
      </p:sp>
      <p:sp>
        <p:nvSpPr>
          <p:cNvPr id="135" name=""/>
          <p:cNvSpPr txBox="1"/>
          <p:nvPr/>
        </p:nvSpPr>
        <p:spPr>
          <a:xfrm>
            <a:off x="762120" y="990720"/>
            <a:ext cx="3276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Fórmula dos Nove</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96160"/>
          </a:xfrm>
          <a:prstGeom prst="rect">
            <a:avLst/>
          </a:prstGeom>
          <a:ln w="0">
            <a:noFill/>
          </a:ln>
        </p:spPr>
      </p:pic>
      <p:sp>
        <p:nvSpPr>
          <p:cNvPr id="137" name="PlaceHolder 1"/>
          <p:cNvSpPr>
            <a:spLocks noGrp="1"/>
          </p:cNvSpPr>
          <p:nvPr>
            <p:ph/>
          </p:nvPr>
        </p:nvSpPr>
        <p:spPr>
          <a:xfrm>
            <a:off x="1523880" y="884160"/>
            <a:ext cx="609624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lhe dizem.</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dizem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as reações dos outros a respeito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sua reação aos outro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896160"/>
          </a:xfrm>
          <a:prstGeom prst="rect">
            <a:avLst/>
          </a:prstGeom>
          <a:ln w="0">
            <a:noFill/>
          </a:ln>
        </p:spPr>
      </p:pic>
      <p:sp>
        <p:nvSpPr>
          <p:cNvPr id="139" name="PlaceHolder 1"/>
          <p:cNvSpPr>
            <a:spLocks noGrp="1"/>
          </p:cNvSpPr>
          <p:nvPr>
            <p:ph/>
          </p:nvPr>
        </p:nvSpPr>
        <p:spPr>
          <a:xfrm>
            <a:off x="1447560" y="2103480"/>
            <a:ext cx="65530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 </a:t>
            </a:r>
            <a:r>
              <a:rPr b="0" lang="pt-BR" sz="2800" spc="-1" strike="noStrike">
                <a:solidFill>
                  <a:srgbClr val="000000"/>
                </a:solidFill>
                <a:latin typeface="Trebuchet MS"/>
              </a:rPr>
              <a:t>Você deveria ler e reler a publicação  sobre a qual deseja escrever</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2. </a:t>
            </a:r>
            <a:r>
              <a:rPr b="0" lang="pt-BR" sz="2800" spc="-1" strike="noStrike">
                <a:solidFill>
                  <a:srgbClr val="000000"/>
                </a:solidFill>
                <a:latin typeface="Trebuchet MS"/>
              </a:rPr>
              <a:t>Escreva perguntando ao editor </a:t>
            </a:r>
            <a:r>
              <a:rPr b="0" lang="en-US" sz="2800" spc="-1" strike="noStrike">
                <a:solidFill>
                  <a:srgbClr val="000000"/>
                </a:solidFill>
                <a:latin typeface="Trebuchet MS"/>
              </a:rPr>
              <a:t>.</a:t>
            </a:r>
            <a:endParaRPr b="0" lang="en-US" sz="2800" spc="-1" strike="noStrike">
              <a:solidFill>
                <a:srgbClr val="000000"/>
              </a:solidFill>
              <a:latin typeface="Arial"/>
            </a:endParaRPr>
          </a:p>
        </p:txBody>
      </p:sp>
      <p:sp>
        <p:nvSpPr>
          <p:cNvPr id="140" name=""/>
          <p:cNvSpPr txBox="1"/>
          <p:nvPr/>
        </p:nvSpPr>
        <p:spPr>
          <a:xfrm>
            <a:off x="685800" y="835200"/>
            <a:ext cx="494352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96160"/>
          </a:xfrm>
          <a:prstGeom prst="rect">
            <a:avLst/>
          </a:prstGeom>
          <a:ln w="0">
            <a:noFill/>
          </a:ln>
        </p:spPr>
      </p:pic>
      <p:sp>
        <p:nvSpPr>
          <p:cNvPr id="142" name="PlaceHolder 1"/>
          <p:cNvSpPr>
            <a:spLocks noGrp="1"/>
          </p:cNvSpPr>
          <p:nvPr>
            <p:ph/>
          </p:nvPr>
        </p:nvSpPr>
        <p:spPr>
          <a:xfrm>
            <a:off x="1371600" y="1980720"/>
            <a:ext cx="5943600" cy="35816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a:t>
            </a:r>
            <a:r>
              <a:rPr b="0" lang="pt-BR" sz="2400" spc="-1" strike="noStrike">
                <a:solidFill>
                  <a:srgbClr val="000000"/>
                </a:solidFill>
                <a:latin typeface="Trebuchet MS"/>
              </a:rPr>
              <a:t>O artigo, embora seja classificado como história, pode requerer adequada pesquisa em jornais, revistas, biblioteca e fontes na Internet para obter informação confiá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4.Talvez seja necessário entrevistar um ou mais indivíduos mencionados em sua história no artigo. </a:t>
            </a:r>
            <a:endParaRPr b="0" lang="en-US" sz="2400" spc="-1" strike="noStrike">
              <a:solidFill>
                <a:srgbClr val="000000"/>
              </a:solidFill>
              <a:latin typeface="Arial"/>
            </a:endParaRPr>
          </a:p>
        </p:txBody>
      </p:sp>
      <p:sp>
        <p:nvSpPr>
          <p:cNvPr id="143" name=""/>
          <p:cNvSpPr txBox="1"/>
          <p:nvPr/>
        </p:nvSpPr>
        <p:spPr>
          <a:xfrm>
            <a:off x="685800" y="1139760"/>
            <a:ext cx="494352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96160"/>
          </a:xfrm>
          <a:prstGeom prst="rect">
            <a:avLst/>
          </a:prstGeom>
          <a:ln w="0">
            <a:noFill/>
          </a:ln>
        </p:spPr>
      </p:pic>
      <p:sp>
        <p:nvSpPr>
          <p:cNvPr id="145" name="PlaceHolder 1"/>
          <p:cNvSpPr>
            <a:spLocks noGrp="1"/>
          </p:cNvSpPr>
          <p:nvPr>
            <p:ph/>
          </p:nvPr>
        </p:nvSpPr>
        <p:spPr>
          <a:xfrm>
            <a:off x="1294920" y="914400"/>
            <a:ext cx="670572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 </a:t>
            </a:r>
            <a:r>
              <a:rPr b="0" lang="pt-BR" sz="2400" spc="-1" strike="noStrike">
                <a:solidFill>
                  <a:srgbClr val="000000"/>
                </a:solidFill>
                <a:latin typeface="Trebuchet MS"/>
              </a:rPr>
              <a:t>Citações e parágrafos descritivos curtos dão vida à história na mente do lei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6. Assegure-se de que seu artigo tenha o tamanho exigido. Não há lógica em mandar um artigo com 2.000 palavras quando a revista deseja somente entre 500 a 750 palav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7. Fotos, desenhos e outras ilustrações gráficas acrescentam imaginação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e por si só podem chama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 atenção para sua história</a:t>
            </a:r>
            <a:r>
              <a:rPr b="0" lang="en-US" sz="2400" spc="-1" strike="noStrike">
                <a:solidFill>
                  <a:srgbClr val="000000"/>
                </a:solidFill>
                <a:latin typeface="Trebuchet MS"/>
              </a:rPr>
              <a:t>.</a:t>
            </a:r>
            <a:endParaRPr b="0" lang="en-US" sz="2400" spc="-1" strike="noStrike">
              <a:solidFill>
                <a:srgbClr val="000000"/>
              </a:solidFill>
              <a:latin typeface="Arial"/>
            </a:endParaRPr>
          </a:p>
        </p:txBody>
      </p:sp>
      <p:sp>
        <p:nvSpPr>
          <p:cNvPr id="146" name=""/>
          <p:cNvSpPr/>
          <p:nvPr/>
        </p:nvSpPr>
        <p:spPr>
          <a:xfrm>
            <a:off x="5978160" y="214200"/>
            <a:ext cx="1262880" cy="52056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Gothic"/>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96160"/>
          </a:xfrm>
          <a:prstGeom prst="rect">
            <a:avLst/>
          </a:prstGeom>
          <a:ln w="0">
            <a:noFill/>
          </a:ln>
        </p:spPr>
      </p:pic>
      <p:sp>
        <p:nvSpPr>
          <p:cNvPr id="148" name="PlaceHolder 1"/>
          <p:cNvSpPr>
            <a:spLocks noGrp="1"/>
          </p:cNvSpPr>
          <p:nvPr>
            <p:ph/>
          </p:nvPr>
        </p:nvSpPr>
        <p:spPr>
          <a:xfrm>
            <a:off x="1066680" y="960480"/>
            <a:ext cx="701064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a:t>
            </a:r>
            <a:r>
              <a:rPr b="0" i="1" lang="pt-BR" sz="2800" spc="-1" strike="noStrike">
                <a:solidFill>
                  <a:srgbClr val="000000"/>
                </a:solidFill>
                <a:latin typeface="Trebuchet MS"/>
              </a:rPr>
              <a:t>O artigo devocional deveria ser organizado como uma caminhada pela natureza. Deveria iniciar no lar, levar ao mundo dos afazeres diários, prover idéias novas sobre a majestade de Deus e convidar o leitor a beber do rio da vida. Quando o leitor conclui 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leitura da página, deveria te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sobre si o háli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de Deus</a:t>
            </a:r>
            <a:r>
              <a:rPr b="0" i="1" lang="en-U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
          <p:cNvSpPr txBox="1"/>
          <p:nvPr/>
        </p:nvSpPr>
        <p:spPr>
          <a:xfrm>
            <a:off x="1914480" y="1787400"/>
            <a:ext cx="5934240" cy="270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lano da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Organização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do Devocional:</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2" name="PlaceHolder 1"/>
          <p:cNvSpPr>
            <a:spLocks noGrp="1"/>
          </p:cNvSpPr>
          <p:nvPr>
            <p:ph/>
          </p:nvPr>
        </p:nvSpPr>
        <p:spPr>
          <a:xfrm>
            <a:off x="1828440" y="838080"/>
            <a:ext cx="6705720" cy="45259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simples para o complexo</a:t>
            </a:r>
            <a:r>
              <a:rPr b="0" lang="pt-BR" sz="2000" spc="-1" strike="noStrike">
                <a:solidFill>
                  <a:srgbClr val="000000"/>
                </a:solidFill>
                <a:latin typeface="Trebuchet MS"/>
              </a:rPr>
              <a:t>. Disposto por grau de dificuldade, do familiar para o desconhecido. Especialmente bom para apresentar idéias nova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menos importante para o mais importante</a:t>
            </a:r>
            <a:r>
              <a:rPr b="0" lang="pt-BR" sz="2000" spc="-1" strike="noStrike">
                <a:solidFill>
                  <a:srgbClr val="000000"/>
                </a:solidFill>
                <a:latin typeface="Trebuchet MS"/>
              </a:rPr>
              <a:t>. Disposto com a idéia de prover o clímax.</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Voltado para o problema</a:t>
            </a:r>
            <a:r>
              <a:rPr b="0" lang="pt-BR" sz="2000" spc="-1" strike="noStrike">
                <a:solidFill>
                  <a:srgbClr val="000000"/>
                </a:solidFill>
                <a:latin typeface="Trebuchet MS"/>
              </a:rPr>
              <a:t>. Disposto de forma que o leitor passa do problema para a solução, do obstáculo para a vitó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Lógico</a:t>
            </a:r>
            <a:r>
              <a:rPr b="0" lang="pt-BR" sz="2000" spc="-1" strike="noStrike">
                <a:solidFill>
                  <a:srgbClr val="000000"/>
                </a:solidFill>
                <a:latin typeface="Trebuchet MS"/>
              </a:rPr>
              <a:t>. Disposto como motivos, causas e efeitos, relacionamen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Interrogativo</a:t>
            </a:r>
            <a:r>
              <a:rPr b="0" lang="pt-BR" sz="2000" spc="-1" strike="noStrike">
                <a:solidFill>
                  <a:srgbClr val="000000"/>
                </a:solidFill>
                <a:latin typeface="Trebuchet MS"/>
              </a:rPr>
              <a:t>. Emprega o método 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lang="pt-BR" sz="2000" spc="-1" strike="noStrike">
                <a:solidFill>
                  <a:srgbClr val="000000"/>
                </a:solidFill>
                <a:latin typeface="Trebuchet MS"/>
              </a:rPr>
              <a:t>perguntas e respostas.</a:t>
            </a:r>
            <a:endParaRPr b="0" lang="en-US" sz="2000" spc="-1" strike="noStrike">
              <a:solidFill>
                <a:srgbClr val="000000"/>
              </a:solidFill>
              <a:latin typeface="Arial"/>
            </a:endParaRPr>
          </a:p>
        </p:txBody>
      </p:sp>
      <p:sp>
        <p:nvSpPr>
          <p:cNvPr id="153" name=""/>
          <p:cNvSpPr/>
          <p:nvPr/>
        </p:nvSpPr>
        <p:spPr>
          <a:xfrm>
            <a:off x="2823480" y="4723560"/>
            <a:ext cx="2919240" cy="673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1800" spc="-1" strike="noStrike">
                <a:solidFill>
                  <a:srgbClr val="000000"/>
                </a:solidFill>
                <a:latin typeface="Amazone BT"/>
              </a:rPr>
              <a:t>extraído de </a:t>
            </a:r>
            <a:r>
              <a:rPr b="0" i="1" lang="en-US" sz="1800" spc="-1" strike="noStrike">
                <a:solidFill>
                  <a:srgbClr val="000000"/>
                </a:solidFill>
                <a:latin typeface="Amazone BT"/>
              </a:rPr>
              <a:t>Writing fo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mazone BT"/>
              </a:rPr>
              <a:t>Adventist Magaz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28600" y="0"/>
            <a:ext cx="9144000" cy="6858000"/>
          </a:xfrm>
          <a:prstGeom prst="rect">
            <a:avLst/>
          </a:prstGeom>
          <a:ln w="0">
            <a:noFill/>
          </a:ln>
        </p:spPr>
      </p:pic>
      <p:sp>
        <p:nvSpPr>
          <p:cNvPr id="155" name=""/>
          <p:cNvSpPr txBox="1"/>
          <p:nvPr/>
        </p:nvSpPr>
        <p:spPr>
          <a:xfrm>
            <a:off x="1752480" y="2438280"/>
            <a:ext cx="5653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Estas são algumas</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erguntas 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respostas a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vocêredigir seu</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testemunh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6896160"/>
          </a:xfrm>
          <a:prstGeom prst="rect">
            <a:avLst/>
          </a:prstGeom>
          <a:ln w="0">
            <a:noFill/>
          </a:ln>
        </p:spPr>
      </p:pic>
      <p:sp>
        <p:nvSpPr>
          <p:cNvPr id="157" name="PlaceHolder 1"/>
          <p:cNvSpPr>
            <a:spLocks noGrp="1"/>
          </p:cNvSpPr>
          <p:nvPr>
            <p:ph/>
          </p:nvPr>
        </p:nvSpPr>
        <p:spPr>
          <a:xfrm>
            <a:off x="1371600" y="1417680"/>
            <a:ext cx="69343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ua vida era antes de confiar em Jesus Cristo como seu Salvador e Senhor pessoal?</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você aceitou a Cristo e deu-Lhe o controle completo de sua vida?</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que aconteceu depois que você passou a confiar em Cri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PlaceHolder 1"/>
          <p:cNvSpPr>
            <a:spLocks noGrp="1"/>
          </p:cNvSpPr>
          <p:nvPr>
            <p:ph/>
          </p:nvPr>
        </p:nvSpPr>
        <p:spPr>
          <a:xfrm>
            <a:off x="2209320" y="1219320"/>
            <a:ext cx="5257800" cy="533376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nteresse. Todo o tempo do mundo não ajuda se não houver algo sobre o que escrever. Alguns dos motivos para escrever incluem: envio de mensagens, manter registros, expressar sentimentos ou trocar informações.</a:t>
            </a:r>
            <a:endParaRPr b="0" lang="en-US" sz="2400" spc="-1" strike="noStrike">
              <a:solidFill>
                <a:srgbClr val="000000"/>
              </a:solidFill>
              <a:latin typeface="Arial"/>
            </a:endParaRPr>
          </a:p>
        </p:txBody>
      </p:sp>
      <p:sp>
        <p:nvSpPr>
          <p:cNvPr id="63" name=""/>
          <p:cNvSpPr/>
          <p:nvPr/>
        </p:nvSpPr>
        <p:spPr>
          <a:xfrm>
            <a:off x="3352680" y="3733920"/>
            <a:ext cx="4496040" cy="2478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Prática. E mais prática.</a:t>
            </a:r>
            <a:endParaRPr b="0" lang="en-US" sz="2400" spc="-1" strike="noStrike">
              <a:solidFill>
                <a:srgbClr val="000000"/>
              </a:solidFill>
              <a:latin typeface="Arial"/>
            </a:endParaRPr>
          </a:p>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Revisão. O que pode ficar mais claro, mais descritivo, mais conciso, por exemplo.</a:t>
            </a:r>
            <a:endParaRPr b="0" lang="en-US" sz="2400" spc="-1" strike="noStrike">
              <a:solidFill>
                <a:srgbClr val="000000"/>
              </a:solidFill>
              <a:latin typeface="Arial"/>
            </a:endParaRPr>
          </a:p>
          <a:p>
            <a:pPr marL="533520" indent="-533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9" name="PlaceHolder 1"/>
          <p:cNvSpPr>
            <a:spLocks noGrp="1"/>
          </p:cNvSpPr>
          <p:nvPr>
            <p:ph/>
          </p:nvPr>
        </p:nvSpPr>
        <p:spPr>
          <a:xfrm>
            <a:off x="1371600" y="1600200"/>
            <a:ext cx="6934320" cy="50594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icie chamando a atenção para a sentença ou incid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positivo, do início ao fim.</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específico. Dê detalhes suficientes para despertar o interess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realista. Não infira qu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risto remove todos 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roblemas da vida;</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ntes que Ele está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o seu lado durant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ssas fases.</a:t>
            </a:r>
            <a:endParaRPr b="0" lang="en-US" sz="2800" spc="-1" strike="noStrike">
              <a:solidFill>
                <a:srgbClr val="000000"/>
              </a:solidFill>
              <a:latin typeface="Arial"/>
            </a:endParaRPr>
          </a:p>
        </p:txBody>
      </p:sp>
      <p:sp>
        <p:nvSpPr>
          <p:cNvPr id="160" name=""/>
          <p:cNvSpPr/>
          <p:nvPr/>
        </p:nvSpPr>
        <p:spPr>
          <a:xfrm>
            <a:off x="228600" y="303840"/>
            <a:ext cx="6629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d60093"/>
                </a:solidFill>
                <a:latin typeface="Trebuchet MS"/>
              </a:rPr>
              <a:t>Diretrizes que a ajudarão a dar forma a seu testemunh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2" name="PlaceHolder 1"/>
          <p:cNvSpPr>
            <a:spLocks noGrp="1"/>
          </p:cNvSpPr>
          <p:nvPr>
            <p:ph/>
          </p:nvPr>
        </p:nvSpPr>
        <p:spPr>
          <a:xfrm>
            <a:off x="1523520" y="1066320"/>
            <a:ext cx="6782040" cy="5257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se um ou dois versos da Bíblia, mas somente se estiverem diretamente relacionados com sua experiência e se naturalmente se encaixarem.</a:t>
            </a: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dite e reescreva quando necessário. Escreva seu primeiro rascunho</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 deixe-o por um dia mais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ou menos e volte a ele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om uma no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rspecti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4" name="PlaceHolder 1"/>
          <p:cNvSpPr>
            <a:spLocks noGrp="1"/>
          </p:cNvSpPr>
          <p:nvPr>
            <p:ph/>
          </p:nvPr>
        </p:nvSpPr>
        <p:spPr>
          <a:xfrm>
            <a:off x="1676520" y="1066680"/>
            <a:ext cx="632448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ão teça críticas duras às igrejas, organizações ou a outras pesso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6" name="PlaceHolder 1"/>
          <p:cNvSpPr>
            <a:spLocks noGrp="1"/>
          </p:cNvSpPr>
          <p:nvPr>
            <p:ph/>
          </p:nvPr>
        </p:nvSpPr>
        <p:spPr>
          <a:xfrm>
            <a:off x="1066320" y="1143000"/>
            <a:ext cx="7620120" cy="4525920"/>
          </a:xfrm>
          <a:prstGeom prst="rect">
            <a:avLst/>
          </a:prstGeom>
          <a:noFill/>
          <a:ln w="0">
            <a:noFill/>
          </a:ln>
        </p:spPr>
        <p:txBody>
          <a:bodyPr lIns="90000" rIns="90000" tIns="46800" bIns="46800" anchor="t">
            <a:normAutofit fontScale="94000"/>
          </a:bodyPr>
          <a:p>
            <a:pPr marL="501480" indent="-501480">
              <a:lnSpc>
                <a:spcPct val="90000"/>
              </a:lnSpc>
              <a:spcBef>
                <a:spcPts val="601"/>
              </a:spcBef>
              <a:buClr>
                <a:srgbClr val="000000"/>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ome cuidado para não tornar glamouroso o </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ão “má” você era.</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termos vagos como “jubiloso”, “pacífico”, “feliz” ou “mudado”, salve se explicado de forma concreta quanto ao que você quer dizer.</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jargões cristãos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omo “salvos”, “convictos”,</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nascido de novo”,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pecado” ou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arrependimento”</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em o esclarecimento.</a:t>
            </a:r>
            <a:endParaRPr b="0" lang="en-US" sz="2400" spc="-1" strike="noStrike">
              <a:solidFill>
                <a:srgbClr val="000000"/>
              </a:solidFill>
              <a:latin typeface="Arial"/>
            </a:endParaRPr>
          </a:p>
          <a:p>
            <a:pPr marL="50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6840" y="533160"/>
            <a:ext cx="6629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Site dos Ministérios da Mulher </a:t>
            </a:r>
            <a:br>
              <a:rPr sz="3200"/>
            </a:br>
            <a:r>
              <a:rPr b="0" lang="pt-BR" sz="3200" spc="-1" strike="noStrike">
                <a:solidFill>
                  <a:srgbClr val="000000"/>
                </a:solidFill>
                <a:latin typeface="Trebuchet MS"/>
              </a:rPr>
              <a:t>Diretrizes para o livro de Meditação:</a:t>
            </a:r>
            <a:endParaRPr b="0" lang="en-US" sz="3200" spc="-1" strike="noStrike">
              <a:solidFill>
                <a:srgbClr val="000000"/>
              </a:solidFill>
              <a:latin typeface="Arial"/>
            </a:endParaRPr>
          </a:p>
        </p:txBody>
      </p:sp>
      <p:sp>
        <p:nvSpPr>
          <p:cNvPr id="169" name="PlaceHolder 2"/>
          <p:cNvSpPr>
            <a:spLocks noGrp="1"/>
          </p:cNvSpPr>
          <p:nvPr>
            <p:ph/>
          </p:nvPr>
        </p:nvSpPr>
        <p:spPr>
          <a:xfrm>
            <a:off x="1447560" y="1981080"/>
            <a:ext cx="6172200" cy="1828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0" lang="en-US" sz="2800" spc="-1" strike="noStrike" u="sng">
                <a:solidFill>
                  <a:srgbClr val="009999"/>
                </a:solidFill>
                <a:uFillTx/>
                <a:latin typeface="Century Gothic"/>
                <a:hlinkClick r:id="rId3"/>
              </a:rPr>
              <a:t>http://wm.gc.adventist.org/Pages/devotional_2.html</a:t>
            </a:r>
            <a:r>
              <a:rPr b="0" lang="en-US" sz="3200" spc="-1" strike="noStrike">
                <a:solidFill>
                  <a:srgbClr val="000000"/>
                </a:solidFill>
                <a:latin typeface="Arial"/>
              </a:rPr>
              <a:t> </a:t>
            </a:r>
            <a:r>
              <a:rPr b="1" lang="en-US"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71" name="PlaceHolder 1"/>
          <p:cNvSpPr>
            <a:spLocks noGrp="1"/>
          </p:cNvSpPr>
          <p:nvPr>
            <p:ph/>
          </p:nvPr>
        </p:nvSpPr>
        <p:spPr>
          <a:xfrm>
            <a:off x="2361960" y="1951200"/>
            <a:ext cx="37335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portun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emin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ior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seqü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til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teresse human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flit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ntretenim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8000"/>
                </a:solidFill>
                <a:latin typeface="Trebuchet MS"/>
              </a:rPr>
              <a:t>Estas são algumas definições comuns das propriedades que devem ser buscadas ao redigir uma notíci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0" y="1440"/>
            <a:ext cx="9144000" cy="6894720"/>
          </a:xfrm>
          <a:prstGeom prst="rect">
            <a:avLst/>
          </a:prstGeom>
          <a:ln w="0">
            <a:noFill/>
          </a:ln>
          <a:effectLst>
            <a:outerShdw dist="17819" dir="2700000" blurRad="0" rotWithShape="0">
              <a:srgbClr val="d60093"/>
            </a:outerShdw>
          </a:effectLst>
        </p:spPr>
      </p:pic>
      <p:sp>
        <p:nvSpPr>
          <p:cNvPr id="178" name="PlaceHolder 1"/>
          <p:cNvSpPr>
            <a:spLocks noGrp="1"/>
          </p:cNvSpPr>
          <p:nvPr>
            <p:ph/>
          </p:nvPr>
        </p:nvSpPr>
        <p:spPr>
          <a:xfrm>
            <a:off x="1523880" y="1600200"/>
            <a:ext cx="7010640" cy="4952880"/>
          </a:xfrm>
          <a:prstGeom prst="rect">
            <a:avLst/>
          </a:prstGeom>
          <a:noFill/>
          <a:ln w="0">
            <a:noFill/>
          </a:ln>
        </p:spPr>
        <p:txBody>
          <a:bodyPr lIns="90000" rIns="90000" tIns="46800" bIns="46800" anchor="t">
            <a:normAutofit fontScale="93000"/>
          </a:bodyPr>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onsidere palavra por palavra</a:t>
            </a:r>
            <a:r>
              <a:rPr b="0" lang="en-US" sz="2400" spc="-1" strike="noStrike">
                <a:solidFill>
                  <a:srgbClr val="000000"/>
                </a:solidFill>
                <a:latin typeface="Trebuchet MS"/>
              </a:rPr>
              <a:t>. </a:t>
            </a:r>
            <a:endParaRPr b="0" lang="en-US" sz="2400" spc="-1" strike="noStrike">
              <a:solidFill>
                <a:srgbClr val="000000"/>
              </a:solidFill>
              <a:latin typeface="Arial"/>
            </a:endParaRPr>
          </a:p>
          <a:p>
            <a:pPr marL="566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nte-se por um ou dois dias – talvez até mesmo por uma semana.</a:t>
            </a:r>
            <a:endParaRPr b="0" lang="en-US" sz="2400" spc="-1" strike="noStrike">
              <a:solidFill>
                <a:srgbClr val="000000"/>
              </a:solidFill>
              <a:latin typeface="Arial"/>
            </a:endParaRPr>
          </a:p>
          <a:p>
            <a:pPr marL="5666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u primeiro parágrafo ainda lhe parece forte?</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artilhe com outros que </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tenham conhecimento</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uficiente par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riticar de form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honesta.</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aça as mudanças</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indicadas acima.</a:t>
            </a:r>
            <a:endParaRPr b="0" lang="en-US" sz="2400" spc="-1" strike="noStrike">
              <a:solidFill>
                <a:srgbClr val="000000"/>
              </a:solidFill>
              <a:latin typeface="Arial"/>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O que fazer depois de escrever seu artig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440"/>
            <a:ext cx="9144000" cy="6897600"/>
          </a:xfrm>
          <a:prstGeom prst="rect">
            <a:avLst/>
          </a:prstGeom>
          <a:ln w="0">
            <a:noFill/>
          </a:ln>
          <a:effectLst>
            <a:outerShdw dist="17819" dir="2700000" blurRad="0" rotWithShape="0">
              <a:srgbClr val="d60093"/>
            </a:outerShdw>
          </a:effectLst>
        </p:spPr>
      </p:pic>
      <p:sp>
        <p:nvSpPr>
          <p:cNvPr id="181" name="PlaceHolder 1"/>
          <p:cNvSpPr>
            <a:spLocks noGrp="1"/>
          </p:cNvSpPr>
          <p:nvPr>
            <p:ph/>
          </p:nvPr>
        </p:nvSpPr>
        <p:spPr>
          <a:xfrm>
            <a:off x="1523520" y="1951200"/>
            <a:ext cx="579132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ão está de acordo com o tema da revista.</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mbra o tema, a trama ou situação de alguma história publicada recentem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uito longa ou muito breve para o tema em mãos, detalhes excessivos ou</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falta dele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Como receber a rejeição dos edito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96160"/>
          </a:xfrm>
          <a:prstGeom prst="rect">
            <a:avLst/>
          </a:prstGeom>
          <a:ln w="0">
            <a:noFill/>
          </a:ln>
        </p:spPr>
      </p:pic>
      <p:sp>
        <p:nvSpPr>
          <p:cNvPr id="65" name="PlaceHolder 1"/>
          <p:cNvSpPr>
            <a:spLocks noGrp="1"/>
          </p:cNvSpPr>
          <p:nvPr>
            <p:ph/>
          </p:nvPr>
        </p:nvSpPr>
        <p:spPr>
          <a:xfrm>
            <a:off x="761760" y="1143000"/>
            <a:ext cx="739116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pt-BR" sz="3200" spc="-1" strike="noStrike">
                <a:solidFill>
                  <a:srgbClr val="000000"/>
                </a:solidFill>
                <a:latin typeface="Trebuchet MS"/>
              </a:rPr>
              <a:t>Apresente-lhes de forma resumida para que leiam, de forma clara para que apreciem, de forma pitoresca para que se lembrem e, acima de tudo, com acuidade a fim de que sejam guiados por sua luz</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hn Pulit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85" name="PlaceHolder 2"/>
          <p:cNvSpPr>
            <a:spLocks noGrp="1"/>
          </p:cNvSpPr>
          <p:nvPr>
            <p:ph/>
          </p:nvPr>
        </p:nvSpPr>
        <p:spPr>
          <a:xfrm>
            <a:off x="1752480" y="1646280"/>
            <a:ext cx="60199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4. </a:t>
            </a:r>
            <a:r>
              <a:rPr b="0" lang="en-US" sz="2800" spc="-1" strike="noStrike">
                <a:solidFill>
                  <a:srgbClr val="000000"/>
                </a:solidFill>
                <a:latin typeface="Trebuchet MS"/>
              </a:rPr>
              <a:t>	</a:t>
            </a:r>
            <a:r>
              <a:rPr b="0" lang="pt-BR" sz="2800" spc="-1" strike="noStrike">
                <a:solidFill>
                  <a:srgbClr val="000000"/>
                </a:solidFill>
                <a:latin typeface="Trebuchet MS"/>
              </a:rPr>
              <a:t>Fraco em um ou mais aspectos essenciais: caracterização, trama e atmosfer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5. </a:t>
            </a:r>
            <a:r>
              <a:rPr b="0" lang="pt-BR" sz="2800" spc="-1" strike="noStrike">
                <a:solidFill>
                  <a:srgbClr val="000000"/>
                </a:solidFill>
                <a:latin typeface="Trebuchet MS"/>
              </a:rPr>
              <a:t>	</a:t>
            </a:r>
            <a:r>
              <a:rPr b="0" lang="pt-BR" sz="2800" spc="-1" strike="noStrike">
                <a:solidFill>
                  <a:srgbClr val="000000"/>
                </a:solidFill>
                <a:latin typeface="Trebuchet MS"/>
              </a:rPr>
              <a:t>Comentário sobre alguma teoria que poderia enfadar a maioria dos leitor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6. </a:t>
            </a:r>
            <a:r>
              <a:rPr b="0" lang="pt-BR" sz="2800" spc="-1" strike="noStrike">
                <a:solidFill>
                  <a:srgbClr val="000000"/>
                </a:solidFill>
                <a:latin typeface="Trebuchet MS"/>
              </a:rPr>
              <a:t>	</a:t>
            </a:r>
            <a:r>
              <a:rPr b="0" lang="pt-BR" sz="2800" spc="-1" strike="noStrike">
                <a:solidFill>
                  <a:srgbClr val="000000"/>
                </a:solidFill>
                <a:latin typeface="Trebuchet MS"/>
              </a:rPr>
              <a:t>Piegu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0" y="0"/>
            <a:ext cx="9144000" cy="6858000"/>
          </a:xfrm>
          <a:prstGeom prst="rect">
            <a:avLst/>
          </a:prstGeom>
          <a:ln w="0">
            <a:noFill/>
          </a:ln>
        </p:spPr>
      </p:pic>
      <p:sp>
        <p:nvSpPr>
          <p:cNvPr id="69" name=""/>
          <p:cNvSpPr txBox="1"/>
          <p:nvPr/>
        </p:nvSpPr>
        <p:spPr>
          <a:xfrm>
            <a:off x="2881440" y="2568600"/>
            <a:ext cx="41288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Encontre Idéias</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96160"/>
          </a:xfrm>
          <a:prstGeom prst="rect">
            <a:avLst/>
          </a:prstGeom>
          <a:ln w="0">
            <a:noFill/>
          </a:ln>
        </p:spPr>
      </p:pic>
      <p:sp>
        <p:nvSpPr>
          <p:cNvPr id="71" name="PlaceHolder 1"/>
          <p:cNvSpPr>
            <a:spLocks noGrp="1"/>
          </p:cNvSpPr>
          <p:nvPr>
            <p:ph/>
          </p:nvPr>
        </p:nvSpPr>
        <p:spPr>
          <a:xfrm>
            <a:off x="1066680" y="1493640"/>
            <a:ext cx="6019920" cy="5211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Amizad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asamen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Patern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Fil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omunicaçã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Resolução de problemas.</a:t>
            </a:r>
            <a:endParaRPr b="0" lang="en-US" sz="3200" spc="-1" strike="noStrike">
              <a:solidFill>
                <a:srgbClr val="000000"/>
              </a:solidFill>
              <a:latin typeface="Arial"/>
            </a:endParaRPr>
          </a:p>
        </p:txBody>
      </p:sp>
      <p:sp>
        <p:nvSpPr>
          <p:cNvPr id="72" name=""/>
          <p:cNvSpPr txBox="1"/>
          <p:nvPr/>
        </p:nvSpPr>
        <p:spPr>
          <a:xfrm>
            <a:off x="762120" y="91440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Considere 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Relacionament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96160"/>
          </a:xfrm>
          <a:prstGeom prst="rect">
            <a:avLst/>
          </a:prstGeom>
          <a:ln w="0">
            <a:noFill/>
          </a:ln>
        </p:spPr>
      </p:pic>
      <p:sp>
        <p:nvSpPr>
          <p:cNvPr id="74" name="PlaceHolder 1"/>
          <p:cNvSpPr>
            <a:spLocks noGrp="1"/>
          </p:cNvSpPr>
          <p:nvPr>
            <p:ph/>
          </p:nvPr>
        </p:nvSpPr>
        <p:spPr>
          <a:xfrm>
            <a:off x="304920" y="1295280"/>
            <a:ext cx="5867280" cy="45259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tresse administrativ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emocionai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lvo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solução de problemas do passad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Bom estado físic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utriçã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raquezas do caráter (temperamento explosiv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a de si mesm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indolente).</a:t>
            </a:r>
            <a:endParaRPr b="0" lang="en-US" sz="2800" spc="-1" strike="noStrike">
              <a:solidFill>
                <a:srgbClr val="000000"/>
              </a:solidFill>
              <a:latin typeface="Arial"/>
            </a:endParaRPr>
          </a:p>
        </p:txBody>
      </p:sp>
      <p:sp>
        <p:nvSpPr>
          <p:cNvPr id="75" name=""/>
          <p:cNvSpPr txBox="1"/>
          <p:nvPr/>
        </p:nvSpPr>
        <p:spPr>
          <a:xfrm>
            <a:off x="1066680" y="762120"/>
            <a:ext cx="2362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resciment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0"/>
            <a:ext cx="9144000" cy="6896160"/>
          </a:xfrm>
          <a:prstGeom prst="rect">
            <a:avLst/>
          </a:prstGeom>
          <a:ln w="0">
            <a:noFill/>
          </a:ln>
        </p:spPr>
      </p:pic>
      <p:sp>
        <p:nvSpPr>
          <p:cNvPr id="77" name="PlaceHolder 1"/>
          <p:cNvSpPr>
            <a:spLocks noGrp="1"/>
          </p:cNvSpPr>
          <p:nvPr>
            <p:ph/>
          </p:nvPr>
        </p:nvSpPr>
        <p:spPr>
          <a:xfrm>
            <a:off x="9144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inanç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rganizaçã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ideranç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parência exteri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anutenção da cas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olhas profissionai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dministração do tempo</a:t>
            </a:r>
            <a:r>
              <a:rPr b="0" lang="pt-BR" sz="3200" spc="-1" strike="noStrike">
                <a:solidFill>
                  <a:srgbClr val="000000"/>
                </a:solidFill>
                <a:latin typeface="Arial"/>
              </a:rPr>
              <a:t>.</a:t>
            </a:r>
            <a:endParaRPr b="0" lang="en-US" sz="32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0:53Z</dcterms:created>
  <dc:creator>ArraisR</dc:creator>
  <dc:description/>
  <dc:language>en-US</dc:language>
  <cp:lastModifiedBy>DSA</cp:lastModifiedBy>
  <dcterms:modified xsi:type="dcterms:W3CDTF">2007-05-28T18:28:53Z</dcterms:modified>
  <cp:revision>132</cp:revision>
  <dc:subject/>
  <dc:title>Slide 1</dc:title>
</cp:coreProperties>
</file>