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Md B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46573-1488-4FF0-A4D6-40608AAFA79D}"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45324-5097-4274-8506-71F55EC8AC2F}"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30" name="PlaceHolder 1"/>
          <p:cNvSpPr>
            <a:spLocks noGrp="1"/>
          </p:cNvSpPr>
          <p:nvPr>
            <p:ph type="sldImg"/>
          </p:nvPr>
        </p:nvSpPr>
        <p:spPr>
          <a:xfrm>
            <a:off x="2066760" y="324000"/>
            <a:ext cx="2941920" cy="2206440"/>
          </a:xfrm>
          <a:prstGeom prst="rect">
            <a:avLst/>
          </a:prstGeom>
          <a:ln w="0">
            <a:noFill/>
          </a:ln>
        </p:spPr>
      </p:sp>
      <p:sp>
        <p:nvSpPr>
          <p:cNvPr id="131"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Introducción:</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ien una vez observó que los doce discípulos eran “hombres comunes y corrientes, capacitados por Dios que lograron cosas extraordinarias”. Todos creemos que esto fue verdad. Sin embargo, la Biblia también está llena de mujeres llenas del espíritu, de mujeres fortalecidas por Dios, de mujeres que tuvieron éxito en sus realizaciones, de igual grandeza que muchos de los líderes quienes fueron elogiados por sus buenas obras y habilidades de liderazgo. Y lo que esas mujeres hicieron fue aún más milagroso, porque ellas comenzaron con un estatus muy por debajo incluso de los “hombres comunes y corriente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25D74-F3CD-464C-94A7-0D3CDF923729}"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56" name="PlaceHolder 1"/>
          <p:cNvSpPr>
            <a:spLocks noGrp="1"/>
          </p:cNvSpPr>
          <p:nvPr>
            <p:ph type="body"/>
          </p:nvPr>
        </p:nvSpPr>
        <p:spPr>
          <a:xfrm>
            <a:off x="685800" y="394920"/>
            <a:ext cx="5486400" cy="8062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risto siempre trató a las mujeres con un respeto extremo, incluso a las que eran vistas como parias por la sociedad y a veces por sus propios seguidores. Por lo tanto, debido al ejemplo de Jesús de elevar el estatus de las mujeres, no es ninguna sorpresa que las mujeres llegaron a ser prominentes en el ministerio de la iglesia tempr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día de Pentecostés, cuando la iglesia del Nuevo Testamento nació, las mujeres estaban allí con los principales discípulos, orando (Hechos 1:12-14). Algunas mujeres eran renombradas por sus buenos hechos y otras por su comprensión de la sana doctrina y su talento espiritual (Hechos 18:26; 21: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segunda epístola de Juan trata de una prominente mujer en una de las iglesias que estaba bajo su cuidado. Incluso Pablo, quién algunas veces se le entiende mal y se le acusa de ser un machista, ministró regularmente con las mujeres (Filipenses 4:3).</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44E3-924C-4E06-AEBF-5FF75728BD1D}"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58" name="PlaceHolder 1"/>
          <p:cNvSpPr>
            <a:spLocks noGrp="1"/>
          </p:cNvSpPr>
          <p:nvPr>
            <p:ph type="sldImg"/>
          </p:nvPr>
        </p:nvSpPr>
        <p:spPr>
          <a:xfrm>
            <a:off x="2004840" y="468360"/>
            <a:ext cx="2846520" cy="2135160"/>
          </a:xfrm>
          <a:prstGeom prst="rect">
            <a:avLst/>
          </a:prstGeom>
          <a:ln w="0">
            <a:noFill/>
          </a:ln>
        </p:spPr>
      </p:sp>
      <p:sp>
        <p:nvSpPr>
          <p:cNvPr id="159"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ando el cristianismo comenzó a influenciar en la cultura local, el estatus de las mujeres fue mejorando dramáticamente. Un historiador de la iglesia temprana, Tertullian, escribió que las mujeres paganas que usaban adornos labrados en el cabello, ropas inmodestas y decoraciones corporales, habían sido forzadas por la sociedad y la moda, a abandonar el esplendor superior de su verdadera femi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Él notaba en cambio, que cuando la iglesia cristiana creció y el evangelio dio su fruto, uno de los resultados visibles del cristianismo fue una tendencia hacia la modestia en el vestir y un realce correspondiente del estatus de las mujeres. También registró que comúnmente los hombres paganos se quejaban, que “desde que su esposa se hizo cristiana, ella vestía atuendos más pobres”. Obviamente, los hombres paganos percibían, que el cristianismo consideraba a la mujer, como algo más que un símbolo sexual, o un pedazo de propiedad ba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ramente, estas primeras mujeres cristianas elevaron la virtud femenina a una altura tan sin precedentes, que incluso los paganos la reconocían. Crisóstomo, un predicador elocuente del siglo IV, registró que uno de sus profesores, un filósofo pagano llamado Libanius, una vez dijo, “¡Qué mujeres tienen ustedes los cristian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que Constantino se convirtiera en el año 312 D.C., se le concedió al cristianismo el estatus legal en Roma y pronto llegó a ser la religión dominante en el Imperio. Uno de los primeros resultados fue un nuevo estatus legal para las mujeres. Roma aprobó las leyes que reconocían el derecho de propiedad de las mujeres. La legislación del gobierno sobre el matrimonio fue revisada de manera que fuera vista legalmente como una sociedad. Y a través de la historia, cuando examinamos de cerca, vemos que esta ha sido la tendencia que siguió a la difusión del cristianism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77C38-F014-44BF-BC35-E2180DA7C635}"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61" name="PlaceHolder 1"/>
          <p:cNvSpPr>
            <a:spLocks noGrp="1"/>
          </p:cNvSpPr>
          <p:nvPr>
            <p:ph type="sldImg"/>
          </p:nvPr>
        </p:nvSpPr>
        <p:spPr>
          <a:xfrm>
            <a:off x="1959120" y="395280"/>
            <a:ext cx="2939760" cy="2206800"/>
          </a:xfrm>
          <a:prstGeom prst="rect">
            <a:avLst/>
          </a:prstGeom>
          <a:ln w="0">
            <a:noFill/>
          </a:ln>
        </p:spPr>
      </p:sp>
      <p:sp>
        <p:nvSpPr>
          <p:cNvPr id="162" name="PlaceHolder 2"/>
          <p:cNvSpPr>
            <a:spLocks noGrp="1"/>
          </p:cNvSpPr>
          <p:nvPr>
            <p:ph type="body"/>
          </p:nvPr>
        </p:nvSpPr>
        <p:spPr>
          <a:xfrm>
            <a:off x="685800" y="2700000"/>
            <a:ext cx="5486400" cy="5614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Generalmente, dondequiera que el evangelio se haya presentado con éxito, se ha elevado el estatus social, legal y espiritual de las mujeres. Tristemente, podemos decir que cuando este evangelio de transformación fue ignorado o eclipsado – ya sea por represión, falsa religión, secularismo, filosofía humanista o la decadencia espiritual en la iglesia, el estatus de las mujeres, por consiguiente, disminuyó. Es importante recordar que el cristianismo valora y valida los talentos y los dones espirituales de las mujeres y su potencial líder-siervo, como otorgado por Dio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D4E5E-737E-46FD-899E-E99D1B8FBF7F}"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64" name="PlaceHolder 1"/>
          <p:cNvSpPr>
            <a:spLocks noGrp="1"/>
          </p:cNvSpPr>
          <p:nvPr>
            <p:ph type="sldImg"/>
          </p:nvPr>
        </p:nvSpPr>
        <p:spPr>
          <a:xfrm>
            <a:off x="2070000" y="395280"/>
            <a:ext cx="2845080" cy="2135160"/>
          </a:xfrm>
          <a:prstGeom prst="rect">
            <a:avLst/>
          </a:prstGeom>
          <a:ln w="0">
            <a:noFill/>
          </a:ln>
        </p:spPr>
      </p:sp>
      <p:sp>
        <p:nvSpPr>
          <p:cNvPr id="165"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Ejemplos bíblicos en el Liderazg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hora miremos algunos ejemplos bíblicos de Mujeres en el Liderazg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30BEC-23A7-4FC5-8F22-CAE23BA1CF49}"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67" name="PlaceHolder 1"/>
          <p:cNvSpPr>
            <a:spLocks noGrp="1"/>
          </p:cNvSpPr>
          <p:nvPr>
            <p:ph type="sldImg"/>
          </p:nvPr>
        </p:nvSpPr>
        <p:spPr>
          <a:xfrm>
            <a:off x="2112840" y="179280"/>
            <a:ext cx="2560680" cy="1920960"/>
          </a:xfrm>
          <a:prstGeom prst="rect">
            <a:avLst/>
          </a:prstGeom>
          <a:ln w="0">
            <a:noFill/>
          </a:ln>
        </p:spPr>
      </p:sp>
      <p:sp>
        <p:nvSpPr>
          <p:cNvPr id="168" name="PlaceHolder 2"/>
          <p:cNvSpPr>
            <a:spLocks noGrp="1"/>
          </p:cNvSpPr>
          <p:nvPr>
            <p:ph type="body"/>
          </p:nvPr>
        </p:nvSpPr>
        <p:spPr>
          <a:xfrm>
            <a:off x="685800" y="2123640"/>
            <a:ext cx="5695920" cy="5614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1.  </a:t>
            </a:r>
            <a:r>
              <a:rPr b="1" lang="es-ES" sz="1200" spc="-1" strike="noStrike">
                <a:solidFill>
                  <a:srgbClr val="000000"/>
                </a:solidFill>
                <a:latin typeface="Garamond"/>
              </a:rPr>
              <a:t>La Historia de Débora </a:t>
            </a:r>
            <a:r>
              <a:rPr b="0" lang="es-ES" sz="1200" spc="-1" strike="noStrike">
                <a:solidFill>
                  <a:srgbClr val="000000"/>
                </a:solidFill>
                <a:latin typeface="Garamond"/>
              </a:rPr>
              <a:t>(Jueces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ricó estuvo en ruinas por 200 años. Los israelitas se habían extendido por todo el país como un enjambre de langostas, tomando casi todo lo que había a su paso, pero de alguna manera los indígenas habían logrado sobrevivir y como malezas bien arraigadas, su idolatría aún se propagó hasta llegar a estrangular la fe de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ahab y Josué solo quedaron en la memoria, y los esclavos israelitas que habían sido guerreros, otra vez fueron oprimidos. Durante veinte años fueron cruelmente dominados por Jabín, rey de Canaán. Su jefe general era Sísara. Sísara tenía novecientos carros de hierro cromado, con razón aterrorizó al pueblo de Israel. Esto es el equivalente de novecientos tanques del ejército de hoy. Sísara probablemente se sentía muy satisfecho y seguro, ya que Israel estaba ahora dirigido por una mujer, Déb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ébora era una profetisa que habitaba debajo de una palmera llamada, la palmera de Débora. La ventaja de novecientos tanques enormes contra una pequeña mujer sentada bajo una palmera, parecía que ya estaba casi todo decidi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ébora, que vivía a varias millas al noroeste de Jericó, era una juez que gobernaba en todo Israel. El pueblo de Israel iba a ella para solucionar sus controversias. Era una líder que se había negado a perder la fe, a pesar de las tristes circunstancias que la rodeab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día, ella llamó a Barac, un judío del norte, y le dijo claramente: “El Señor, Dios de Israel te ordena: ‘Ve, toma contigo diez mil hombres de Zabulón y Neftalí y ábrete camino hacia el Monte Tabor. Entonces atraeré a Sísara, el comandante del ejército de Jabín con sus carros y su ejército y te lo entregaré en tus 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como cualquier otro hombre en Israel, Barac estaba aterrorizado de Sísara y se negó a obedecer sus órdenes, salvo con una condición – que ella lo acompañara.  “Muy bien”, respondió Débora, “Iré contigo, mas no será tu honra en el camino que vas; porque en mano de mujer el Señor entregará a Sís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esta estipulación y profecía, Débora fue con Barac. Sísara mientras tanto, se enteró de la trama y condujo a sus tropas y carros por el lecho de un río seco – Wadi Kishon, decidido a aplastar este levantamiento. Pero su fuerza se volvió contra él cuando el Señor envió lluvia y dilató el valle inundándolo con mareas. De repente, los novecientos carros llegaron a ser una enorme desventaja pues se quedaban atascados en el barro, un blanco fácil para las tropas de Barac, que arrasaban desde el monte Tabor, matando a todos, excepto a Sís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a es la historia del liderazgo de Débora. La Biblia describe a Débora como una “profetisa,  esposa de Lapidot”, pero cuando Débora se describía, ella no usó términos como profeta o juez, general o líder. Ella se describía como “una madre en Israel” (Jueces 5:7).</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F5375-A6AA-4632-9502-9053308657D1}"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70" name="PlaceHolder 1"/>
          <p:cNvSpPr>
            <a:spLocks noGrp="1"/>
          </p:cNvSpPr>
          <p:nvPr>
            <p:ph type="sldImg"/>
          </p:nvPr>
        </p:nvSpPr>
        <p:spPr>
          <a:xfrm>
            <a:off x="1887480" y="420840"/>
            <a:ext cx="3227400" cy="2422440"/>
          </a:xfrm>
          <a:prstGeom prst="rect">
            <a:avLst/>
          </a:prstGeom>
          <a:ln w="0">
            <a:noFill/>
          </a:ln>
        </p:spPr>
      </p:sp>
      <p:sp>
        <p:nvSpPr>
          <p:cNvPr id="171" name="PlaceHolder 2"/>
          <p:cNvSpPr>
            <a:spLocks noGrp="1"/>
          </p:cNvSpPr>
          <p:nvPr>
            <p:ph type="body"/>
          </p:nvPr>
        </p:nvSpPr>
        <p:spPr>
          <a:xfrm>
            <a:off x="685800" y="2916360"/>
            <a:ext cx="5486400" cy="554184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uál crees que era el promedio de vida de las familias en Israel durante los 20 años de opresión por parte de Jabí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Qué piensas que Débora quiso decir cuando dijo: </a:t>
            </a:r>
            <a:r>
              <a:rPr b="0" i="1" lang="es-ES" sz="1200" spc="-1" strike="noStrike">
                <a:solidFill>
                  <a:srgbClr val="000000"/>
                </a:solidFill>
                <a:latin typeface="Arial"/>
              </a:rPr>
              <a:t>“Las aldeas habían cesado en Israel, habían decaído; hasta que yo Débora me levanté, me levanté madre de Israel”? </a:t>
            </a:r>
            <a:r>
              <a:rPr b="0" lang="es-ES" sz="1200" spc="-1" strike="noStrike">
                <a:solidFill>
                  <a:srgbClr val="000000"/>
                </a:solidFill>
                <a:latin typeface="Arial"/>
              </a:rPr>
              <a:t>(Jueces 5: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Cuál crees que pudo haber sido la reacción personal de Sísara? ¿Podría haber sido como la de Débora? ¿Cómo la de Bara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32E61-8BFD-451D-8FF0-265D9471011D}"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73" name="PlaceHolder 1"/>
          <p:cNvSpPr>
            <a:spLocks noGrp="1"/>
          </p:cNvSpPr>
          <p:nvPr>
            <p:ph type="sldImg"/>
          </p:nvPr>
        </p:nvSpPr>
        <p:spPr>
          <a:xfrm>
            <a:off x="1982880" y="395280"/>
            <a:ext cx="2747880" cy="2062080"/>
          </a:xfrm>
          <a:prstGeom prst="rect">
            <a:avLst/>
          </a:prstGeom>
          <a:ln w="0">
            <a:noFill/>
          </a:ln>
        </p:spPr>
      </p:sp>
      <p:sp>
        <p:nvSpPr>
          <p:cNvPr id="174" name="PlaceHolder 2"/>
          <p:cNvSpPr>
            <a:spLocks noGrp="1"/>
          </p:cNvSpPr>
          <p:nvPr>
            <p:ph type="body"/>
          </p:nvPr>
        </p:nvSpPr>
        <p:spPr>
          <a:xfrm>
            <a:off x="685800" y="2484360"/>
            <a:ext cx="5486400" cy="5686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Cuál era el miedo de Barac? ¿Por qué no quería ir sin Déb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Cómo crees que los hombres israelitas sintieron su honor debido a las victorias conseguidas por Débora y Ja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Cuando una mujer en la iglesia de hoy es más brillante que un hombre, ¿cuáles son algunas reacciones de los miembros de iglesi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33409-4060-4E26-9C19-AF6326CD6118}"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76" name="PlaceHolder 1"/>
          <p:cNvSpPr>
            <a:spLocks noGrp="1"/>
          </p:cNvSpPr>
          <p:nvPr>
            <p:ph type="sldImg"/>
          </p:nvPr>
        </p:nvSpPr>
        <p:spPr>
          <a:xfrm>
            <a:off x="1900080" y="395280"/>
            <a:ext cx="2751120" cy="2063880"/>
          </a:xfrm>
          <a:prstGeom prst="rect">
            <a:avLst/>
          </a:prstGeom>
          <a:ln w="0">
            <a:noFill/>
          </a:ln>
        </p:spPr>
      </p:sp>
      <p:sp>
        <p:nvSpPr>
          <p:cNvPr id="177" name="PlaceHolder 2"/>
          <p:cNvSpPr>
            <a:spLocks noGrp="1"/>
          </p:cNvSpPr>
          <p:nvPr>
            <p:ph type="body"/>
          </p:nvPr>
        </p:nvSpPr>
        <p:spPr>
          <a:xfrm>
            <a:off x="685800" y="2555640"/>
            <a:ext cx="5486400" cy="590220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2. </a:t>
            </a:r>
            <a:r>
              <a:rPr b="1" lang="es-ES" sz="1200" spc="-1" strike="noStrike">
                <a:solidFill>
                  <a:srgbClr val="000000"/>
                </a:solidFill>
                <a:latin typeface="Garamond"/>
              </a:rPr>
              <a:t>La historia de Hulda – (2 Reyes 22:14-20; 2 Crónicas 34:14-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ey Josías ordenó a Safán  (secretario del rey) que cuente el dinero y lo distribuya a los capataces que trabajaban en el templo, para que ellos se arreglen con sus trabajadores. Cuando Safán se presentó para recoger los fondos, Hilcías, el sumo sacerdote, le dijo que había descubierto el libro de Dios olvidado por mucho tiempo y que estaba oculto en el templo. Safán leyó el libro y fue a Josías y le dijo sobre el libro y lo que decía. Cuando Josías escuchó las profecías terribles del libro, se angustió y dijo a cinco de sus asesores más cercanos “id al templo y hablad con el Señor por mí y por todo el resto de Israel y Judá” para saber lo que debían hacer. Curiosamente, en vez de seguir las instrucciones del rey, los asesores inmediatamente fueron a la profetisa Hulda. Ella leyó las palabras y probablemente se angustió por tener que decir a los asesores esas predicciones terribles, pero creo que su voz era firme. Tal vez las terribles amenazas hacían que sus ojos se abrieran mucho más de lo normal. Recordaba cómo los profetas fueron asesinados, mientras que los adivinos y brujos eran honrados. Pensó en los reyes que se inclinaban ante las estrellas y cómo las personas seguían su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ulda es una de las cuatro mujeres con un auténtico ministerio profético mencionada en el Antiguo Testamento. Las otras fueron María, Débora y la esposa de Isaías. A pesar de que los profetas como Jeremías y Sofonías también vivían en ese tiempo, los consejeros del rey Josías no fueron a ellos, sino a Hulda para consultar sobre el descubrimiento sorprendente del libro de la 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ulda seguramente conocía los detalles sórdidos del pasado. Ella quizás soportó parte de los 55 años del reinado de Manasés, que fueron los más largos y peores que cualquier rey de Judá. Sin duda, ella fue alentada por las recientes reformas del rey Josías. Sin embargo, 35 años después de las profecías de Hulda, Judá fue llevado en cadenas a Babilonia, y todas sus ciudades fueron destru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 les dijo a los asesores que desde que Josías estaba tomando ese destino tan serio, si continuaba siguiendo la dirección del Señor, él podía morir tranquilo y ser enterrado en paz. Es muy triste saber que finalmente Josías no escuchó a Dios, y de hecho fue muerto en una batalla con el rey de Egip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asesores llevaron el mensaje de Hulda a Josías y él empezó con la limpieza de la casa, y todos los sitios paganos fueron quemados – santuarios de religión y sexo, altares de adoración de ídolos y el altar de Moloc (a quién el pueblo le sacrificaba sus hijos e hijas). ¡Cuán bajo, increíblemente, el pueblo de Israel había caí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82B70-66B4-4A81-99DA-1D75459BA1B7}"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79" name="PlaceHolder 1"/>
          <p:cNvSpPr>
            <a:spLocks noGrp="1"/>
          </p:cNvSpPr>
          <p:nvPr>
            <p:ph type="sldImg"/>
          </p:nvPr>
        </p:nvSpPr>
        <p:spPr>
          <a:xfrm>
            <a:off x="1789200" y="395280"/>
            <a:ext cx="3038400" cy="2279520"/>
          </a:xfrm>
          <a:prstGeom prst="rect">
            <a:avLst/>
          </a:prstGeom>
          <a:ln w="0">
            <a:noFill/>
          </a:ln>
        </p:spPr>
      </p:sp>
      <p:sp>
        <p:nvSpPr>
          <p:cNvPr id="180" name="PlaceHolder 2"/>
          <p:cNvSpPr>
            <a:spLocks noGrp="1"/>
          </p:cNvSpPr>
          <p:nvPr>
            <p:ph type="body"/>
          </p:nvPr>
        </p:nvSpPr>
        <p:spPr>
          <a:xfrm>
            <a:off x="685800" y="2771640"/>
            <a:ext cx="5486400" cy="5686560"/>
          </a:xfrm>
          <a:prstGeom prst="rect">
            <a:avLst/>
          </a:prstGeom>
          <a:noFill/>
          <a:ln w="0">
            <a:noFill/>
          </a:ln>
        </p:spPr>
        <p:txBody>
          <a:bodyPr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endParaRPr b="0" lang="en-US" sz="1200" spc="-1" strike="noStrike">
              <a:solidFill>
                <a:srgbClr val="000000"/>
              </a:solidFill>
              <a:latin typeface="Arial"/>
            </a:endParaRPr>
          </a:p>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Evidentemente, Hulda profetizaba desde su casa, ya que es donde los hombres santos la encontraron. ¿Por qué crees que ella hacía esta actividad espiritual desde su casa? ¿Cuáles son algunas formas que las mujeres de hoy pueden ministrar desde su hog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Hulda fue una profetisa fiel durante el tiempo de la infidelidad nacional, ¿Cómo crees que las mujeres piadosas de hoy pueden ayudar a fortalecer nuestra iglesia y modelar fidel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Cada mujer conoce la satisfacción de una casa limpia. Después de escuchar las palabras de Hulda, el rey Josías dio todo su palacio y su reino para una limpieza espiritual ¿Cómo nosotros podemos dar nuestros hogares y vidas para una limpieza espiritua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892CF-7468-48B0-A692-3E0B747B362A}"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82" name="PlaceHolder 1"/>
          <p:cNvSpPr>
            <a:spLocks noGrp="1"/>
          </p:cNvSpPr>
          <p:nvPr>
            <p:ph type="sldImg"/>
          </p:nvPr>
        </p:nvSpPr>
        <p:spPr>
          <a:xfrm>
            <a:off x="1841400" y="250920"/>
            <a:ext cx="2940120" cy="2206440"/>
          </a:xfrm>
          <a:prstGeom prst="rect">
            <a:avLst/>
          </a:prstGeom>
          <a:ln w="0">
            <a:noFill/>
          </a:ln>
        </p:spPr>
      </p:sp>
      <p:sp>
        <p:nvSpPr>
          <p:cNvPr id="183" name="PlaceHolder 2"/>
          <p:cNvSpPr>
            <a:spLocks noGrp="1"/>
          </p:cNvSpPr>
          <p:nvPr>
            <p:ph type="body"/>
          </p:nvPr>
        </p:nvSpPr>
        <p:spPr>
          <a:xfrm>
            <a:off x="685440" y="2555640"/>
            <a:ext cx="5838840" cy="5902200"/>
          </a:xfrm>
          <a:prstGeom prst="rect">
            <a:avLst/>
          </a:prstGeom>
          <a:noFill/>
          <a:ln w="0">
            <a:noFill/>
          </a:ln>
        </p:spPr>
        <p:txBody>
          <a:bodyPr anchor="t">
            <a:noAutofit/>
          </a:bodyPr>
          <a:p>
            <a:pPr marL="228600" indent="-228600" algn="just">
              <a:lnSpc>
                <a:spcPct val="110000"/>
              </a:lnSpc>
              <a:spcBef>
                <a:spcPts val="451"/>
              </a:spcBef>
              <a:buClr>
                <a:srgbClr val="000000"/>
              </a:buClr>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Garamond"/>
              </a:rPr>
              <a:t>La historia de María – (Éxodo 2:1-10; 15:20-21; Números 21:1-1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era apenas una niña cuando tuvo que ocultar a su hermanito Moisés entre los juncos del río Nilo para salvarle la vida. A pesar de ser muy joven ella llevó a cabo perfectamente el plan de Dios para preservar la vida de Moisés para cumplir la comisión de un gran liderazgo. Siendo joven mostró cualidades excepcionales de obediencia y servidumbre a Dios que son los requisitos previos del lideraz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os hijos de Israel estuvieron finalmente a salvo, fuera de Egipto, fue María quien dirigió a las mujeres israelitas en alabanza a Dios por la derrota milagrosa de los egipcios en el Mar Rojo. </a:t>
            </a:r>
            <a:r>
              <a:rPr b="0" i="1" lang="es-ES" sz="1200" spc="-1" strike="noStrike">
                <a:solidFill>
                  <a:srgbClr val="000000"/>
                </a:solidFill>
                <a:latin typeface="Arial"/>
              </a:rPr>
              <a:t>“Y María la profetisa, hermana de Aarón, tomó un pandero en su mano, y todas las mujeres salieron en pos de ella con panderos y danzas”</a:t>
            </a:r>
            <a:r>
              <a:rPr b="0" lang="es-ES" sz="1200" spc="-1" strike="noStrike">
                <a:solidFill>
                  <a:srgbClr val="000000"/>
                </a:solidFill>
                <a:latin typeface="Arial"/>
              </a:rPr>
              <a:t> (Éxodo 15:2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era fuerte y Dios la llenó de liderazgo. Esto fue hasta que decidió criticar a Moisés o específicamente, criticar a su esposa. María y Aarón criticaron a Moisés porque se había casado con una mujer etíope. Probablemente, el pecado de María fue un pecado de orgullo. Ella pensaba que era mejor que la esposa de Moisés. Después de todo, ¿Qué esta esposa, que era una extranjera, conocía de todo el sufrimiento de los largos años en Egipto? María había sufrido la crueldad y la discriminación en manos de los capataces del Faraón. Había presenciado el sufrimiento diario de su familia y la miseria de su pueblo. ¿Qué sabía esta mujer extranjera sobre el sufrimiento o el dolor? Ella había vivido una vida de privilegio en la finca de su padre rico. Ella no tenía idea de lo que había sido la vida para aquellos que crecen en la miseria de la esclavitu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escuchó las críticas y de inmediato ordenó a los tres – Moisés, Aarón y María, a que salieran del tabernáculo. Entonces el Señor descendió en una nube y se detuvo a la entrada. Él les dijo que tenía una relación muy especial con Moisés y estaba enojado con los otros dos por criticarlo. Cuando el Señor se apartó, hirió a María con lep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rón y Moisés pidieron a Dios que no la castigue, pero el Señor se mantuvo firme. Ella tuvo que soportar siete días con la terrible enfermedad, pero luego fue restaurada a su posición de liderazgo. María había recibido y sufrido su castigo inmediato por su pecado. Probablemente ella recomenzó sus responsabilidades de liderazgo como una mujer más sabi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5955B-DCC2-429F-9FFE-50B09E7EE27D}"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33" name="PlaceHolder 1"/>
          <p:cNvSpPr>
            <a:spLocks noGrp="1"/>
          </p:cNvSpPr>
          <p:nvPr>
            <p:ph type="sldImg"/>
          </p:nvPr>
        </p:nvSpPr>
        <p:spPr>
          <a:xfrm>
            <a:off x="1900080" y="539640"/>
            <a:ext cx="2751120" cy="2063880"/>
          </a:xfrm>
          <a:prstGeom prst="rect">
            <a:avLst/>
          </a:prstGeom>
          <a:ln w="0">
            <a:noFill/>
          </a:ln>
        </p:spPr>
      </p:sp>
      <p:sp>
        <p:nvSpPr>
          <p:cNvPr id="134"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1 </a:t>
            </a:r>
            <a:r>
              <a:rPr b="1" lang="es-ES" sz="1200" spc="-1" strike="noStrike">
                <a:solidFill>
                  <a:srgbClr val="000000"/>
                </a:solidFill>
                <a:latin typeface="Garamond"/>
              </a:rPr>
              <a:t>Corintios </a:t>
            </a:r>
            <a:r>
              <a:rPr b="1" lang="en-US" sz="1200" spc="-1" strike="noStrike">
                <a:solidFill>
                  <a:srgbClr val="000000"/>
                </a:solidFill>
                <a:latin typeface="Garamond"/>
              </a:rPr>
              <a:t>1:27-29 dice:</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a:t>
            </a:r>
            <a:r>
              <a:rPr b="0" i="1" lang="es-ES" sz="1200" spc="-1" strike="noStrike">
                <a:solidFill>
                  <a:srgbClr val="000000"/>
                </a:solidFill>
                <a:latin typeface="Arial"/>
              </a:rPr>
              <a:t>Sino que lo necio del mundo escogió Dios para avergonzar a los sabios; y lo débil del mundo escogió Dios para avergonzar a lo fuerte; y lo vil del mundo y lo menospreciado escogió Dios, y lo que no es, para deshacer lo que es, a fin de que nadie se jacte en su presenci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78258-1FA8-454E-8267-E7CCFF624132}"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85" name="PlaceHolder 1"/>
          <p:cNvSpPr>
            <a:spLocks noGrp="1"/>
          </p:cNvSpPr>
          <p:nvPr>
            <p:ph type="sldImg"/>
          </p:nvPr>
        </p:nvSpPr>
        <p:spPr>
          <a:xfrm>
            <a:off x="2152800" y="395280"/>
            <a:ext cx="2751120" cy="2063880"/>
          </a:xfrm>
          <a:prstGeom prst="rect">
            <a:avLst/>
          </a:prstGeom>
          <a:ln w="0">
            <a:noFill/>
          </a:ln>
        </p:spPr>
      </p:sp>
      <p:sp>
        <p:nvSpPr>
          <p:cNvPr id="186" name="PlaceHolder 2"/>
          <p:cNvSpPr>
            <a:spLocks noGrp="1"/>
          </p:cNvSpPr>
          <p:nvPr>
            <p:ph type="body"/>
          </p:nvPr>
        </p:nvSpPr>
        <p:spPr>
          <a:xfrm>
            <a:off x="685800" y="2555640"/>
            <a:ext cx="5486400" cy="590220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María exhibía cualidades de liderazgo aún siendo muy joven. Ella se mantuvo serena y confiada en su interacción con la princesa de Egipto. ¿Crees que las mujeres piadosas de hoy deberían reconocer y cultivar las habilidades de liderazgo dadas por Dios a nuestras niñas? ¿Hay que alentar a las señoritas dotadas espiritualmente a ejercer sus talent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era una líder muy espiritual cuando impulsó a las mujeres a la acción de gracias después de la liberación milagrosa en el Mar Rojo. Dios fue complacido. ¿Cómo podemos hoy llevar a otras mujeres a celebrar el don de la salvación? ¿Cuáles son algunas formas que crees podrían ser apropiad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8FF25-9007-4B11-87EE-B6B3D746D41C}"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88" name="PlaceHolder 1"/>
          <p:cNvSpPr>
            <a:spLocks noGrp="1"/>
          </p:cNvSpPr>
          <p:nvPr>
            <p:ph type="sldImg"/>
          </p:nvPr>
        </p:nvSpPr>
        <p:spPr>
          <a:xfrm>
            <a:off x="2070000" y="755640"/>
            <a:ext cx="2845080" cy="2135160"/>
          </a:xfrm>
          <a:prstGeom prst="rect">
            <a:avLst/>
          </a:prstGeom>
          <a:ln w="0">
            <a:noFill/>
          </a:ln>
        </p:spPr>
      </p:sp>
      <p:sp>
        <p:nvSpPr>
          <p:cNvPr id="189" name="PlaceHolder 2"/>
          <p:cNvSpPr>
            <a:spLocks noGrp="1"/>
          </p:cNvSpPr>
          <p:nvPr>
            <p:ph type="body"/>
          </p:nvPr>
        </p:nvSpPr>
        <p:spPr>
          <a:xfrm>
            <a:off x="685800" y="2916360"/>
            <a:ext cx="5486400" cy="554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Por qué crees que María pensó que era mejor que la esposa de Moisés? ¿Crees que ella pensaba que su herencia y dones de liderazgo la hacían mejor que la “mujer etíope”? ¿Cómo nosotros a veces reflejamos actitudes similares? Respondámonos así mismas en lo más íntimo de nuestro corazón esta pregunta: ¿De quién me siento superior? (permita unos momentos de silencio para la reflex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Por qué crees que solamente María recibió el castigo y no Aarón? ¿Tal vez ella era la cabecilla de esta crític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B1D5E-8C80-400A-B7AD-EEB176ED4F53}"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91" name="PlaceHolder 1"/>
          <p:cNvSpPr>
            <a:spLocks noGrp="1"/>
          </p:cNvSpPr>
          <p:nvPr>
            <p:ph type="sldImg"/>
          </p:nvPr>
        </p:nvSpPr>
        <p:spPr>
          <a:xfrm>
            <a:off x="1924200" y="324000"/>
            <a:ext cx="2846160" cy="2135160"/>
          </a:xfrm>
          <a:prstGeom prst="rect">
            <a:avLst/>
          </a:prstGeom>
          <a:ln w="0">
            <a:noFill/>
          </a:ln>
        </p:spPr>
      </p:sp>
      <p:sp>
        <p:nvSpPr>
          <p:cNvPr id="192" name="PlaceHolder 2"/>
          <p:cNvSpPr>
            <a:spLocks noGrp="1"/>
          </p:cNvSpPr>
          <p:nvPr>
            <p:ph type="body"/>
          </p:nvPr>
        </p:nvSpPr>
        <p:spPr>
          <a:xfrm>
            <a:off x="685800" y="2484360"/>
            <a:ext cx="5486400" cy="5973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Cuáles son algunas lecciones que podemos aprender de la experiencia de María sobre juzgar a otros, especialmente a los líderes y/o sus cónyug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María aceptó su castigo y parece que lo recibió con humildad. ¿Qué haríamos si tuviéramos que experimentar un “intervalo” obligatorio de una semana? ¿Lo usaríamos para construir nuestra relación con Dios, o lo gastaríamos culpando a Dios por nuestra situació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A6B3F-00D2-480D-A4BB-3ACC70A26738}"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94" name="PlaceHolder 1"/>
          <p:cNvSpPr>
            <a:spLocks noGrp="1"/>
          </p:cNvSpPr>
          <p:nvPr>
            <p:ph type="sldImg"/>
          </p:nvPr>
        </p:nvSpPr>
        <p:spPr>
          <a:xfrm>
            <a:off x="2295360" y="324000"/>
            <a:ext cx="2556000" cy="1917720"/>
          </a:xfrm>
          <a:prstGeom prst="rect">
            <a:avLst/>
          </a:prstGeom>
          <a:ln w="0">
            <a:noFill/>
          </a:ln>
        </p:spPr>
      </p:sp>
      <p:sp>
        <p:nvSpPr>
          <p:cNvPr id="195" name="PlaceHolder 2"/>
          <p:cNvSpPr>
            <a:spLocks noGrp="1"/>
          </p:cNvSpPr>
          <p:nvPr>
            <p:ph type="body"/>
          </p:nvPr>
        </p:nvSpPr>
        <p:spPr>
          <a:xfrm>
            <a:off x="685440" y="2339640"/>
            <a:ext cx="5767560" cy="633564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4. </a:t>
            </a:r>
            <a:r>
              <a:rPr b="1" lang="es-ES" sz="1200" spc="-1" strike="noStrike">
                <a:solidFill>
                  <a:srgbClr val="000000"/>
                </a:solidFill>
                <a:latin typeface="Garamond"/>
              </a:rPr>
              <a:t>La historia de Mical (I Sam. 18:20-29; 19:11-17; II Sam. 6:16-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cal estaba enamorada de David, un bien parecido rey. Su padre Saúl estaba complacido y  planeaba utilizar este amor de su hija por David, para su propio beneficio. Así que la dejó casarse con él, luego trató de usarla como una trampa, con la esperanza de que ella finalmente traicionara a David por la lealtad a su padre. Y parece que David, de origen humilde, estaba encantado de tener a una princesa como su esp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Escrituras mencionan varias veces cuanto Mical amaba a David. David había sido el músico que tocaba el arpa a su padre. Tal vez el romance se inició a través de su música. Después David derrotó a Goliat con sólo una honda y una piedra, no sólo Mical se enamoró de él, sino todo Israel. Fue por amor a ella que David había matado a doscientos filisteos. Fue considerado un esposo adecuado para una prince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que ellos se casaron, Mical salvó la vida de David cuando su padre intentó matarlo. Usando su imaginación y creatividad ella lo ayudó a escapar por una ventana y luego rellenó su cama y simuló que estaba enfer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unque Mical había salvado su vida, David no regresó por ella. Su separación se hizo muy larga. Tal vez ella creía que David encontraría una forma para protegerla de la ira de su padre, y se decepcionó cuando el tiempo pasó y no había señal de su príncipe az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 decepción se convirtió en amargura cuando David no regresó por ella. Se sentía traicionada y probablemente horrorizada, y sus sueños quedaron totalmente destrozados cuando su padre la castigó por su lealtad a David, obligándola a casarse con Palti, a quien ella no amaba. Después de un tiempo, ella finalmente construyó una relación con su nuevo esposo, quién la amaba, pero entonces su hermano se presentó y por la fuerza se la llevó.  La Biblia dice que Palti la siguió llorando hasta Bahurim. Pero cuando Abner insistió a que volviera a su casa, se volvió (2 Samuel 3: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historia de Mical es trágica. Su amargura parece haber crecido en furia cuando se dio cuenta que siempre había sido la rehén de alguien más. Ella primero fue una princesa y luego una reina, pero su potencial de liderazgo había sido utilizado por su padre para su propia agenda. Después ella había sido utilizada por su amado David, para vengarse de Saúl, casándose con ella, no por amor, sino como un trof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ólo habían pasado nueve años, desde el tiempo cuando ella ayudó a David a escapar por la ventana, y ahora ella está de nuevo en la ventana, esta vez observando a David con su resenti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escena de la primera ventana ella era considerada como la hija de Saúl, en la escena de la segunda ventana, es la esposa de David. Las Escrituras dicen que ella hablaba a él con disgusto. El silencio se extendió probablemente como hielo condensado en un frío invierno entre David y Mical. Esta reina líder terminó sus días sola, sin hijos y sin familia para agradarl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65D3A-B3B1-4718-983D-48708F7BF263}"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97" name="PlaceHolder 1"/>
          <p:cNvSpPr>
            <a:spLocks noGrp="1"/>
          </p:cNvSpPr>
          <p:nvPr>
            <p:ph type="sldImg"/>
          </p:nvPr>
        </p:nvSpPr>
        <p:spPr>
          <a:xfrm>
            <a:off x="2098800" y="324000"/>
            <a:ext cx="2877840" cy="2160360"/>
          </a:xfrm>
          <a:prstGeom prst="rect">
            <a:avLst/>
          </a:prstGeom>
          <a:ln w="0">
            <a:noFill/>
          </a:ln>
        </p:spPr>
      </p:sp>
      <p:sp>
        <p:nvSpPr>
          <p:cNvPr id="198" name="PlaceHolder 2"/>
          <p:cNvSpPr>
            <a:spLocks noGrp="1"/>
          </p:cNvSpPr>
          <p:nvPr>
            <p:ph type="body"/>
          </p:nvPr>
        </p:nvSpPr>
        <p:spPr>
          <a:xfrm>
            <a:off x="685800" y="2555640"/>
            <a:ext cx="5486400" cy="590220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Mical, por su primogenitura, nació con las credenciales para el liderazgo. ¿Crees que el liderazgo es más difícil cuando es “esperado” debido a quiénes somos? ¿Por qué?</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a decepción por alguien a quien amaba, comenzó en Mical a través del desengaño, la desconfianza y la desesperación. Mical esperaba que David regresara y la salvara de Saúl, así como ella lo había salvado de las manos de Saúl. ¿Cómo pueden las mujeres líderes de hoy dejar de mirar a otras personas como sus salvadores? ¿Cuáles son algunos procedimientos que las mujeres líderes pueden hacer frente a aquellos que las defrauda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383E3-764A-4940-888C-9E6710349221}"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00" name="PlaceHolder 1"/>
          <p:cNvSpPr>
            <a:spLocks noGrp="1"/>
          </p:cNvSpPr>
          <p:nvPr>
            <p:ph type="sldImg"/>
          </p:nvPr>
        </p:nvSpPr>
        <p:spPr>
          <a:xfrm>
            <a:off x="1962000" y="611280"/>
            <a:ext cx="2845080" cy="2135160"/>
          </a:xfrm>
          <a:prstGeom prst="rect">
            <a:avLst/>
          </a:prstGeom>
          <a:ln w="0">
            <a:noFill/>
          </a:ln>
        </p:spPr>
      </p:sp>
      <p:sp>
        <p:nvSpPr>
          <p:cNvPr id="201" name="PlaceHolder 2"/>
          <p:cNvSpPr>
            <a:spLocks noGrp="1"/>
          </p:cNvSpPr>
          <p:nvPr>
            <p:ph type="body"/>
          </p:nvPr>
        </p:nvSpPr>
        <p:spPr>
          <a:xfrm>
            <a:off x="685800" y="2842920"/>
            <a:ext cx="5486400" cy="5614920"/>
          </a:xfrm>
          <a:prstGeom prst="rect">
            <a:avLst/>
          </a:prstGeom>
          <a:noFill/>
          <a:ln w="0">
            <a:noFill/>
          </a:ln>
        </p:spPr>
        <p:txBody>
          <a:bodyPr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Mical encontró una relación satisfactoria la segunda vez, pero nuevamente, una lucha por el poder de su primogenitura la arrancó de alguien que realmente la amaba. ¿Crees que las mujeres líderes tienen dificultad para distinguir entre uno que se muestra amigo por lo que quiere conseguir, y uno que es amigo porque quiere servir? ¿Cuáles son algunas características distintivas de estos dos tipos de amigo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8515C-844F-4F8F-8111-417B26B18B5A}"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03" name="PlaceHolder 1"/>
          <p:cNvSpPr>
            <a:spLocks noGrp="1"/>
          </p:cNvSpPr>
          <p:nvPr>
            <p:ph type="sldImg"/>
          </p:nvPr>
        </p:nvSpPr>
        <p:spPr>
          <a:xfrm>
            <a:off x="2341440" y="395280"/>
            <a:ext cx="2463840" cy="1847880"/>
          </a:xfrm>
          <a:prstGeom prst="rect">
            <a:avLst/>
          </a:prstGeom>
          <a:ln w="0">
            <a:noFill/>
          </a:ln>
        </p:spPr>
      </p:sp>
      <p:sp>
        <p:nvSpPr>
          <p:cNvPr id="204" name="PlaceHolder 2"/>
          <p:cNvSpPr>
            <a:spLocks noGrp="1"/>
          </p:cNvSpPr>
          <p:nvPr>
            <p:ph type="body"/>
          </p:nvPr>
        </p:nvSpPr>
        <p:spPr>
          <a:xfrm>
            <a:off x="685800" y="2410920"/>
            <a:ext cx="5695920" cy="604692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5. </a:t>
            </a:r>
            <a:r>
              <a:rPr b="1" lang="es-ES" sz="1200" spc="-1" strike="noStrike">
                <a:solidFill>
                  <a:srgbClr val="000000"/>
                </a:solidFill>
                <a:latin typeface="Garamond"/>
              </a:rPr>
              <a:t>La historia de Priscila (Hechos 18-19; Rom. 16:3-4; I Cor. 16:19; II Tim. 4: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Claudio expulsó a los judíos de Roma en el año 49 DC, porque estaba cansado de sus constantes disputas sobre Cristo, Priscila y Aquila se trasladaron a Cori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rinto era un centro de intercambio comercial famoso por su apetito de la maldad, no era un lugar para fomentar la fe de un nuevo creyente. Sin embargo allí fue donde Dios trasladó a Priscila y su esposo Aqu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proximadamente un año más tarde, Pablo llegó a Corinto. Él probablemente se reunió con la pareja por su negocio en común – la de fabricar tiendas. Priscila y Aquila invitaron a Pablo a permanecer en su casa y trabajar con ellos. Pablo predicaba el evangelio y lograba manejar tanto la fe como la oposición. Dieciocho meses más tarde, los líderes judíos de Corinto lo arrastraron ante el concilio. Cuando se retiraron los cargos, Pablo rápidamente, desplegó las velas y navegó para Éfeso, llevando a Priscila y Aquila con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blo trabajó con Priscila y Aquila por tres años antes que los dejara como líderes de la iglesia de Éfeso. Un día Apolos, un judío nativo de Alejandría, llegó y comenzó a predicar con elocuencia acerca de Jesús. Pero él realmente entendía sólo algunas bases poco profundas del Evangelio. En vez de denunciarlo por su presentación inadecuada, Priscila y Aquila lo llevaron aparte y lo instruyeron. Ellos hicieron su trabajo tan bien, que los creyentes en Éfeso finalmente enviaron a Apolos a Corinto donde avanzó el traba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iscila debe haber sido una mujer madura espiritualmente, cuyos dones la equipaban para el liderazgo. Su nombre, por cuatro veces va después del de Aquila, fuera de las seis veces que ellos son mencionados en el Nuevo Testamento, probablemente significaba sus más grandes habilidades como una lí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lquiera sea el caso, el papel de Priscila en la instrucción de Apolos y dirección de la iglesia primitiva es notable. Junto con Aquila, ella fue la mejor amiga que Pablo podía haber tenido, le ayudó a establecer la iglesia y arriesgó su vida por su ca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blo menciona el valor de la pareja en una de sus cartas, pero no elabora detalles sobre las circunstancias. Ella ayudó a establecer la primera iglesia en medio de un ambiente de gran hostilidad, arriesgando su propia vida por la causa del evangelio que ella amaba.</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260E0-574B-4078-99CF-54C04B2C4816}"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06" name="PlaceHolder 1"/>
          <p:cNvSpPr>
            <a:spLocks noGrp="1"/>
          </p:cNvSpPr>
          <p:nvPr>
            <p:ph type="sldImg"/>
          </p:nvPr>
        </p:nvSpPr>
        <p:spPr>
          <a:xfrm>
            <a:off x="2211480" y="324000"/>
            <a:ext cx="2560680" cy="1919160"/>
          </a:xfrm>
          <a:prstGeom prst="rect">
            <a:avLst/>
          </a:prstGeom>
          <a:ln w="0">
            <a:noFill/>
          </a:ln>
        </p:spPr>
      </p:sp>
      <p:sp>
        <p:nvSpPr>
          <p:cNvPr id="207" name="PlaceHolder 2"/>
          <p:cNvSpPr>
            <a:spLocks noGrp="1"/>
          </p:cNvSpPr>
          <p:nvPr>
            <p:ph type="body"/>
          </p:nvPr>
        </p:nvSpPr>
        <p:spPr>
          <a:xfrm>
            <a:off x="685800" y="2268360"/>
            <a:ext cx="5486400" cy="618984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r>
              <a:rPr b="0" lang="es-ES" sz="1200" spc="-1" strike="noStrike">
                <a:solidFill>
                  <a:srgbClr val="000000"/>
                </a:solidFill>
                <a:latin typeface="Arial"/>
              </a:rPr>
              <a:t>.</a:t>
            </a:r>
            <a:endParaRPr b="0" lang="en-US" sz="1200" spc="-1" strike="noStrike">
              <a:solidFill>
                <a:srgbClr val="000000"/>
              </a:solidFill>
              <a:latin typeface="Arial"/>
            </a:endParaRPr>
          </a:p>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Priscila y Aquila juntos, dejaron Corinto y fueron con Pablo para Éfeso. ¿Cómo piensas que podría ser la dinámica, cuando las parejas son igualmente líderes? ¿Qué ventajas y desventajas vez cuando un líder permanece detrás ganándose la vida, mientras el otro líder se moviliza só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as Escrituras dicen que Priscila y Aquila llevaron a Apolos aparte y lo instruyeron. Su instrucción debe haber tenido éxito, pues se vio en su ministerio fructífero después. ¿Cuál piensas que debe haber sido la reacción de Apolos al ser enseñado por un hombre y una mujer? ¿Por qué ellos lo instruyeron en privado?</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884A7-06A6-4EAA-ADBC-B3B48B1C44EF}"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09" name="PlaceHolder 1"/>
          <p:cNvSpPr>
            <a:spLocks noGrp="1"/>
          </p:cNvSpPr>
          <p:nvPr>
            <p:ph type="sldImg"/>
          </p:nvPr>
        </p:nvSpPr>
        <p:spPr>
          <a:xfrm>
            <a:off x="2128680" y="395280"/>
            <a:ext cx="2654280" cy="1990800"/>
          </a:xfrm>
          <a:prstGeom prst="rect">
            <a:avLst/>
          </a:prstGeom>
          <a:ln w="0">
            <a:noFill/>
          </a:ln>
        </p:spPr>
      </p:sp>
      <p:sp>
        <p:nvSpPr>
          <p:cNvPr id="210" name="PlaceHolder 2"/>
          <p:cNvSpPr>
            <a:spLocks noGrp="1"/>
          </p:cNvSpPr>
          <p:nvPr>
            <p:ph type="body"/>
          </p:nvPr>
        </p:nvSpPr>
        <p:spPr>
          <a:xfrm>
            <a:off x="685800" y="2484360"/>
            <a:ext cx="5486400" cy="5470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Cada vez que los nombres de Aquila y Priscila se mencionan en las Escrituras, ellos aparecen juntos. ¿Piensas que Priscila puede haber sido considerada una líder de iglesia y del ministerio igual que Aquila, ante los ojos de Pablo? ¿Por qué?</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Pablo dice en Romanos, que Priscila y Aquila arriesgaron sus vidas por él. ¿Cómo sientes que afecta la lealtad y el apoyo a la iglesia, cuando se valora y convalida la función del liderazgo de las mujere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B4359-7860-42C3-8F11-A20F5A661C4C}"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12" name="PlaceHolder 1"/>
          <p:cNvSpPr>
            <a:spLocks noGrp="1"/>
          </p:cNvSpPr>
          <p:nvPr>
            <p:ph type="sldImg"/>
          </p:nvPr>
        </p:nvSpPr>
        <p:spPr>
          <a:xfrm>
            <a:off x="2070000" y="468360"/>
            <a:ext cx="2845080" cy="2135160"/>
          </a:xfrm>
          <a:prstGeom prst="rect">
            <a:avLst/>
          </a:prstGeom>
          <a:ln w="0">
            <a:noFill/>
          </a:ln>
        </p:spPr>
      </p:sp>
      <p:sp>
        <p:nvSpPr>
          <p:cNvPr id="213"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as pocas historias de mujeres líderes de los tiempos bíblicos, podemos aprender lecciones valiosas para animarnos e instruirnos hoy. Estas mujeres mostraron coraje, talento, habilidad y fuerza espiritual. Dios llamó a ellas como llama a las mujeres de hoy, para ofrecer sus dones de liderazgo al servicio de su glo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s historias de estas líderes espirituales son dadas “para nuestro ejemplo: y están escritas para nuestra advertencia…”. Que podamos aprender de ellas y respondamos al llamado de Dios de cumplir con todo el potencial con  que nos ha dotad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CD346-6CE0-4D78-82AA-394ADD67EAD0}"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36" name="PlaceHolder 1"/>
          <p:cNvSpPr>
            <a:spLocks noGrp="1"/>
          </p:cNvSpPr>
          <p:nvPr>
            <p:ph type="sldImg"/>
          </p:nvPr>
        </p:nvSpPr>
        <p:spPr>
          <a:xfrm>
            <a:off x="1989000" y="468360"/>
            <a:ext cx="2845080" cy="2135160"/>
          </a:xfrm>
          <a:prstGeom prst="rect">
            <a:avLst/>
          </a:prstGeom>
          <a:ln w="0">
            <a:noFill/>
          </a:ln>
        </p:spPr>
      </p:sp>
      <p:sp>
        <p:nvSpPr>
          <p:cNvPr id="137"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ujeres destacadas en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nos fijamos en las historias y los relatos históricos de algunas de las mujeres que se presentan en la Biblia, probablemente ellas aparecerán como sin import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gunas mujeres aparecerán como to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gunas mujeres aparecerán como déb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gunas mujeres aparecerán como desprec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gunas mujeres aparecerán como sin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o más, esas mujeres aparecerán probablemente como comunes. Muchas de ellas eran sorprendentemente de la clase más baja, al igual que los discípulos que eran considerados hombres comunes y corrient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600AC-F106-4491-9571-DD94AC2D817E}"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39" name="PlaceHolder 1"/>
          <p:cNvSpPr>
            <a:spLocks noGrp="1"/>
          </p:cNvSpPr>
          <p:nvPr>
            <p:ph type="sldImg"/>
          </p:nvPr>
        </p:nvSpPr>
        <p:spPr>
          <a:xfrm>
            <a:off x="1984320" y="826920"/>
            <a:ext cx="2654280" cy="1990800"/>
          </a:xfrm>
          <a:prstGeom prst="rect">
            <a:avLst/>
          </a:prstGeom>
          <a:ln w="0">
            <a:noFill/>
          </a:ln>
        </p:spPr>
      </p:sp>
      <p:sp>
        <p:nvSpPr>
          <p:cNvPr id="140" name="PlaceHolder 2"/>
          <p:cNvSpPr>
            <a:spLocks noGrp="1"/>
          </p:cNvSpPr>
          <p:nvPr>
            <p:ph type="body"/>
          </p:nvPr>
        </p:nvSpPr>
        <p:spPr>
          <a:xfrm>
            <a:off x="685800" y="2846160"/>
            <a:ext cx="5486400" cy="568620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Dios en su sabiduría, conociendo el valor y dones extraordinarios que puso en su creación femenina, eligió utilizar lo que Él creó para su gloria. Dios eligió mujeres líderes tales como, la mujer samaritana, cuyo nombre no conocemo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0B42F-BB4F-4A97-A89E-19232FC944AF}"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42" name="PlaceHolder 1"/>
          <p:cNvSpPr>
            <a:spLocks noGrp="1"/>
          </p:cNvSpPr>
          <p:nvPr>
            <p:ph type="sldImg"/>
          </p:nvPr>
        </p:nvSpPr>
        <p:spPr>
          <a:xfrm>
            <a:off x="2060640" y="611280"/>
            <a:ext cx="2847960" cy="2135160"/>
          </a:xfrm>
          <a:prstGeom prst="rect">
            <a:avLst/>
          </a:prstGeom>
          <a:ln w="0">
            <a:noFill/>
          </a:ln>
        </p:spPr>
      </p:sp>
      <p:sp>
        <p:nvSpPr>
          <p:cNvPr id="143"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ios eligió a Ana, una viuda poco conocida de edad avanzada quién aparece solamente en una breve escena en Lucas, capítulo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ios eligió a Rahab que era una prostituta comú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ios escogió a María, la madre de Jesús quién era una señorita sin distinción particular, que vivía en una pequeña aldea, en una zona árida y despreciada de Galil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realidad, la única verdadera excepción es Eva, ella comenzó la vida con algunas ventajas sobre las otras mujeres. Ella fue creada perfecta y extraordinaria en todo sentido. Fue echa por la mano de Dios para ser el ideal puro e inmaculado de la feminidad. Ella caminó y habló personalmente con Dios. También llegó a ser un ejemplo vivo de lo que Dios puede recuperar y rescatar a cualquiera de nosotros que cae, y puede hacer de cada uno de nosotros trofeos extraordinarios para su gracia, a pesar de nuestros fraca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3CBB4-8776-4DD3-806F-53FCDF889DB5}"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45" name="PlaceHolder 1"/>
          <p:cNvSpPr>
            <a:spLocks noGrp="1"/>
          </p:cNvSpPr>
          <p:nvPr>
            <p:ph type="sldImg"/>
          </p:nvPr>
        </p:nvSpPr>
        <p:spPr>
          <a:xfrm>
            <a:off x="2163600" y="324000"/>
            <a:ext cx="2459160" cy="1846080"/>
          </a:xfrm>
          <a:prstGeom prst="rect">
            <a:avLst/>
          </a:prstGeom>
          <a:ln w="0">
            <a:noFill/>
          </a:ln>
        </p:spPr>
      </p:sp>
      <p:sp>
        <p:nvSpPr>
          <p:cNvPr id="146" name="PlaceHolder 2"/>
          <p:cNvSpPr>
            <a:spLocks noGrp="1"/>
          </p:cNvSpPr>
          <p:nvPr>
            <p:ph type="body"/>
          </p:nvPr>
        </p:nvSpPr>
        <p:spPr>
          <a:xfrm>
            <a:off x="685800" y="2195640"/>
            <a:ext cx="5486400" cy="62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as mujeres finalmente se convirtieron en líderes extraordinarias, no por alguna de sus cualidades naturales propias, sino porque el único y verdadero Dios a quién ellas adoraban y servían, el Dios que las creó y dotó con igual capacidad de liderazgo, las refinó como plata p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s mujeres bíblicas líderes, nos recuerdan tanto nuestra caída como nuestro potencial. Una de las características únicas de la Biblia es la forma como exalta a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 notado que en vez de degradar o menospreciar a las mujeres, con frecuencia parece que las Escrituras rinde homenaje a ellas? Las Sagradas Escrituras ennoblece sus roles en la sociedad y la familia. La Biblia fielmente reconoce la importancia de su influencia. En el primer capítulo de la Biblia se nos enseña que tanto las mujeres como los hombres, llevan el sello de la propia imagen de Dios. Las esposas son vistas como socias y compañeras queridas de sus esposos y no como simples esclavas o piezas de mue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fueron dados los Diez Mandamientos, Dios ordenó a los niños a que honraran tanto a su padre como a su madre. Hoy, en nuestra cultura, esto parece no muy usual; y sólo lo pensamos como algo sensible y bueno. Sin embargo, esto fue un concepto revolucionario en una era, cuando la mayoría de las culturas paganas eran dominadas por los hombres. Estos hombres paganos gobernaron sus hogares con puño de hierro y durante ese tiempo las mujeres eran generalmente vistas como criaturas inferi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Escrituras fueron realmente muy revolucionarias y con una visión futurista al separar a las mujeres para una honra especial (1 Pedro 3:7). Las Escrituras ordenan a los esposos a que amen a sus esposas con sacrificio, así como Cristo ama a la iglesia, aún si fuera necesario, con el costo de sus propias vidas (Efesios 5:25-31).</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519EA-E3CF-4CE4-83A3-315618E9E21A}"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48" name="PlaceHolder 1"/>
          <p:cNvSpPr>
            <a:spLocks noGrp="1"/>
          </p:cNvSpPr>
          <p:nvPr>
            <p:ph type="body"/>
          </p:nvPr>
        </p:nvSpPr>
        <p:spPr>
          <a:xfrm>
            <a:off x="685800" y="755640"/>
            <a:ext cx="5486400" cy="770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observación cercana de la narración bíblica de los patriarcas, nos muestra cómo ellos siempre dieron una debida distinción a sus esposas. Sara, Rebeca y Raquel, todas ocupan un lugar preponderante en el relato del Génesis, del trato de Dios con ellas y con sus espo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la hermana de Moisés y Aarón, era una profetiza y compositora, y en Miqueas 6:4 Dios  honra su derecho al lado de sus hermanos, como uno de los tres líderes de la nación durante el éxo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ébora, también una profetiza, fue una juez en Israel antes de la monarquía. Cuando Salomón (el hombre más sabio que alguna vez vivió) llegó a ser rey, él públicamente rindió homenaje a esta madre, poniéndose de pie cuando ella entró ante su presencia y se inclinó ante ella antes de sentarse en su trono, (1 Reyes 2: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DE3DC-2059-4208-8369-3422C939B7BF}"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50" name="PlaceHolder 1"/>
          <p:cNvSpPr>
            <a:spLocks noGrp="1"/>
          </p:cNvSpPr>
          <p:nvPr>
            <p:ph type="sldImg"/>
          </p:nvPr>
        </p:nvSpPr>
        <p:spPr>
          <a:xfrm>
            <a:off x="2100240" y="395280"/>
            <a:ext cx="2460600" cy="1846440"/>
          </a:xfrm>
          <a:prstGeom prst="rect">
            <a:avLst/>
          </a:prstGeom>
          <a:ln w="0">
            <a:noFill/>
          </a:ln>
        </p:spPr>
      </p:sp>
      <p:sp>
        <p:nvSpPr>
          <p:cNvPr id="151" name="PlaceHolder 2"/>
          <p:cNvSpPr>
            <a:spLocks noGrp="1"/>
          </p:cNvSpPr>
          <p:nvPr>
            <p:ph type="body"/>
          </p:nvPr>
        </p:nvSpPr>
        <p:spPr>
          <a:xfrm>
            <a:off x="620280" y="2339640"/>
            <a:ext cx="5767560" cy="5830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 los proverbios de Salomón, la sabiduría está personificada como una mujer. No es poca cosa que en la vida social y religiosa de Israel y de la Iglesia del Nuevo Testamento, nunca relegaron a las mujeres a un segundo plano. Ellas participaban con los hombres en todas las fiestas y adoraciones públicas de Israel (Deuteronomio 16:14; Nehemías 8: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as mujeres no se las obligaba a ponerse un velo, o a guardar silencio en la plaza pública, como lo hacen en muchos medios paganos – culturas orientales, incluso hasta el día de hoy. (Génesis 12:14; 24:16; 1 Samuel 1: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43570-6224-43C4-86E1-62FAA5D197AF}"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53" name="PlaceHolder 1"/>
          <p:cNvSpPr>
            <a:spLocks noGrp="1"/>
          </p:cNvSpPr>
          <p:nvPr>
            <p:ph type="sldImg"/>
          </p:nvPr>
        </p:nvSpPr>
        <p:spPr>
          <a:xfrm>
            <a:off x="2211480" y="250920"/>
            <a:ext cx="2560680" cy="1919160"/>
          </a:xfrm>
          <a:prstGeom prst="rect">
            <a:avLst/>
          </a:prstGeom>
          <a:ln w="0">
            <a:noFill/>
          </a:ln>
        </p:spPr>
      </p:sp>
      <p:sp>
        <p:nvSpPr>
          <p:cNvPr id="154" name="PlaceHolder 2"/>
          <p:cNvSpPr>
            <a:spLocks noGrp="1"/>
          </p:cNvSpPr>
          <p:nvPr>
            <p:ph type="body"/>
          </p:nvPr>
        </p:nvSpPr>
        <p:spPr>
          <a:xfrm>
            <a:off x="685800" y="2195640"/>
            <a:ext cx="5695920" cy="626256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ontrastes en la histo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eran terratenientes en Israel (Números 27:8; Proverbios 31:16). Esto va en contra de las culturas paganas antiguas que rutinariamente degradaban y rebajaban a las mujeres. Las mujeres en las sociedades paganas durante los tiempos bíblicos eran con frecuencia tratadas un poco mejor que los ani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cluso algunos de los filósofos griegos más conocidos, considerados como las mentes más brillantes de su tiempo, enseñaban que las mujeres eran criaturas inferiores por naturale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gran Imperio Romano, quizás en el pináculo de la civilización pre-cristiana, las mujeres eran generalmente consideradas como posesiones personales de sus esposos o padres, con un estatus un poco más elevado que los esclavos de l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religión pagana aprovisionó y alentó a la degradación de la mujer aún más. La mitología griega y romana tuvo sus diosas como Diana y Afrodita, pero la adoración a estas diosas no elevaba la condición de la mujer en la soci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forma irónica, justamente lo contrario era lo cierto. La mayoría de los templos dedicados a diosas, eran atendidos por prostitutas dedicadas, mujeres que servían como sacerdotisas que se vendían por dinero, asumiendo que realizaban cierta clase de sacramento religio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deidades paganas con sus ceremonias religiosas eran evidentemente obscenas, incluyendo ritos eróticos sobre la fertilidad, orgías ebrias en el templo, prácticas homosexuales pervertidas, y en los peores casos, aún sacrificios humanos. ¿Por qué debemos mencionar todo esto cuando tratamos el asunto de mujeres en el Liderazgo para nuestra iglesia en el siglo XXI? Porque el cristianismo nació en un mundo donde las culturas romanas y hebreas se interceptaron y este mismo cristianismo, la base de nuestra iglesia hoy, elevó el estatus de las mujeres a una altura sin preced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Jesús proporcionó un modelo en su ministerio, incluyendo a varias mujeres como sus discípulas (Lucas 8:1-3) una práctica casi inaudita entre los rabinos de sus días. No solo eso, sino que Jesús alentó su discipulado como algo más necesario que el servicio doméstico. ¿Recuerda la historia de María y Martha? De hecho, Cristo por primera vez reveló de forma explícita su propia identidad como el verdadero Mesías a la mujer samari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1DDED-E7D5-46AD-B096-CBFA079AB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BF1AC-E9CE-414C-A16A-90808B4A1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4C4A2-0974-40DA-BAE1-F995B0E00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E6035-0E93-4F39-8208-44DF1D36D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217A0-1D82-435E-B80C-5C53B6FE8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3567C-248B-4EAB-9241-A52ED394A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144CA-614C-4DFD-8AF6-6308BC4DB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17353-4081-4B4B-BB2D-3A6275A92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9EB1E-44E8-412C-BBCE-4F2C08910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42494-9BF4-4DC4-9FE2-9F03A22E3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DBC7D-BE99-408C-8F31-9860694E0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35B9E-DB54-49E8-A7BD-D4D77A207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37F5E-A99B-4C4D-A8CF-FE39E093D7B8}" type="slidenum">
              <a:rPr b="0" lang="en-US" sz="1400" spc="-1" strike="noStrike">
                <a:solidFill>
                  <a:srgbClr val="000000"/>
                </a:solidFill>
                <a:latin typeface="Arial"/>
              </a:rPr>
              <a:t>&lt;number&gt;</a:t>
            </a:fld>
            <a:endParaRPr b="0" lang="en-US" sz="1400" spc="-1" strike="noStrike">
              <a:solidFill>
                <a:srgbClr val="000000"/>
              </a:solidFill>
              <a:latin typeface="Futura Md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50" name="Picture 5" descr="apple"/>
          <p:cNvPicPr/>
          <p:nvPr/>
        </p:nvPicPr>
        <p:blipFill>
          <a:blip r:embed="rId1"/>
          <a:stretch/>
        </p:blipFill>
        <p:spPr>
          <a:xfrm>
            <a:off x="0" y="0"/>
            <a:ext cx="9144000" cy="6858000"/>
          </a:xfrm>
          <a:prstGeom prst="rect">
            <a:avLst/>
          </a:prstGeom>
          <a:ln w="0">
            <a:noFill/>
          </a:ln>
        </p:spPr>
      </p:pic>
      <p:sp>
        <p:nvSpPr>
          <p:cNvPr id="51" name="Text Box 6"/>
          <p:cNvSpPr/>
          <p:nvPr/>
        </p:nvSpPr>
        <p:spPr>
          <a:xfrm>
            <a:off x="1047600" y="476280"/>
            <a:ext cx="7485120" cy="1434600"/>
          </a:xfrm>
          <a:prstGeom prst="rect">
            <a:avLst/>
          </a:prstGeom>
          <a:noFill/>
          <a:ln w="0">
            <a:noFill/>
          </a:ln>
          <a:effectLst>
            <a:outerShdw dist="64600" dir="674838"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Futura Md BT"/>
              </a:rPr>
              <a:t>Mujeres de la Biblia en el Liderazgo</a:t>
            </a:r>
            <a:endParaRPr b="0" lang="en-US" sz="4400" spc="-1" strike="noStrike">
              <a:solidFill>
                <a:srgbClr val="000000"/>
              </a:solidFill>
              <a:latin typeface="Futura Md BT"/>
            </a:endParaRPr>
          </a:p>
        </p:txBody>
      </p:sp>
      <p:pic>
        <p:nvPicPr>
          <p:cNvPr id="52" name="Picture 7" descr="Logo300"/>
          <p:cNvPicPr/>
          <p:nvPr/>
        </p:nvPicPr>
        <p:blipFill>
          <a:blip r:embed="rId2"/>
          <a:stretch/>
        </p:blipFill>
        <p:spPr>
          <a:xfrm>
            <a:off x="5292720" y="3963960"/>
            <a:ext cx="1008000" cy="689040"/>
          </a:xfrm>
          <a:prstGeom prst="rect">
            <a:avLst/>
          </a:prstGeom>
          <a:ln w="0">
            <a:noFill/>
          </a:ln>
        </p:spPr>
      </p:pic>
      <p:sp>
        <p:nvSpPr>
          <p:cNvPr id="53" name="Text Box 8"/>
          <p:cNvSpPr/>
          <p:nvPr/>
        </p:nvSpPr>
        <p:spPr>
          <a:xfrm>
            <a:off x="4211640" y="5386320"/>
            <a:ext cx="3403440" cy="1374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Futura Md BT"/>
              </a:rPr>
              <a:t>Ministerio de la Mujer</a:t>
            </a:r>
            <a:endParaRPr b="0" lang="en-US" sz="2000" spc="-1" strike="noStrike">
              <a:solidFill>
                <a:srgbClr val="000000"/>
              </a:solidFill>
              <a:latin typeface="Futura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Futura Md BT"/>
              </a:rPr>
              <a:t>Certificación de Liderazgo</a:t>
            </a:r>
            <a:r>
              <a:rPr b="0" lang="es-ES" sz="2000" spc="-1" strike="noStrike">
                <a:solidFill>
                  <a:srgbClr val="ffffff"/>
                </a:solidFill>
                <a:latin typeface="Futura Md BT"/>
              </a:rPr>
              <a:t> </a:t>
            </a:r>
            <a:endParaRPr b="0" lang="en-US" sz="2000" spc="-1" strike="noStrike">
              <a:solidFill>
                <a:srgbClr val="000000"/>
              </a:solidFill>
              <a:latin typeface="Futura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Futura Md BT"/>
              </a:rPr>
              <a:t>Nivel</a:t>
            </a:r>
            <a:r>
              <a:rPr b="0" lang="es-ES" sz="2000" spc="-1" strike="noStrike">
                <a:solidFill>
                  <a:srgbClr val="ffffff"/>
                </a:solidFill>
                <a:latin typeface="Futura Md BT"/>
              </a:rPr>
              <a:t> </a:t>
            </a:r>
            <a:r>
              <a:rPr b="1" lang="es-ES" sz="2400" spc="-1" strike="noStrike">
                <a:solidFill>
                  <a:srgbClr val="ffffff"/>
                </a:solidFill>
                <a:latin typeface="Futura Md BT"/>
              </a:rPr>
              <a:t>4</a:t>
            </a:r>
            <a:endParaRPr b="0" lang="en-US" sz="2400" spc="-1" strike="noStrike">
              <a:solidFill>
                <a:srgbClr val="000000"/>
              </a:solidFill>
              <a:latin typeface="Futura Md BT"/>
            </a:endParaRPr>
          </a:p>
        </p:txBody>
      </p:sp>
      <p:sp>
        <p:nvSpPr>
          <p:cNvPr id="54" name="Text Box 9"/>
          <p:cNvSpPr/>
          <p:nvPr/>
        </p:nvSpPr>
        <p:spPr>
          <a:xfrm>
            <a:off x="4927680" y="2606760"/>
            <a:ext cx="1741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c0000"/>
                </a:solidFill>
                <a:latin typeface="Futura Md BT"/>
              </a:rPr>
              <a:t>Por:</a:t>
            </a:r>
            <a:endParaRPr b="0" lang="en-US" sz="2000" spc="-1" strike="noStrike">
              <a:solidFill>
                <a:srgbClr val="000000"/>
              </a:solidFill>
              <a:latin typeface="Futura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Futura Md BT"/>
              </a:rPr>
              <a:t>Sharon Cress</a:t>
            </a:r>
            <a:endParaRPr b="0" lang="en-US" sz="2000" spc="-1" strike="noStrike">
              <a:solidFill>
                <a:srgbClr val="000000"/>
              </a:solidFill>
              <a:latin typeface="Futura Md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77" name="Picture 4" descr="apple02"/>
          <p:cNvPicPr/>
          <p:nvPr/>
        </p:nvPicPr>
        <p:blipFill>
          <a:blip r:embed="rId1"/>
          <a:stretch/>
        </p:blipFill>
        <p:spPr>
          <a:xfrm>
            <a:off x="0" y="0"/>
            <a:ext cx="9144000" cy="6858000"/>
          </a:xfrm>
          <a:prstGeom prst="rect">
            <a:avLst/>
          </a:prstGeom>
          <a:ln w="0">
            <a:noFill/>
          </a:ln>
        </p:spPr>
      </p:pic>
      <p:sp>
        <p:nvSpPr>
          <p:cNvPr id="78" name="Text Box 5"/>
          <p:cNvSpPr/>
          <p:nvPr/>
        </p:nvSpPr>
        <p:spPr>
          <a:xfrm>
            <a:off x="826920" y="1182600"/>
            <a:ext cx="76327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risto siempre trató a las mujeres con un respeto extremo, incluso a las que eran vistas como parias por la sociedad y a veces por sus propios seguidores. Por lo tanto, debido al ejemplo de Jesús de elevar el estatus de las mujeres, no es ninguna sorpresa que las mujeres llegaron a ser prominentes en el ministerio de la iglesia temprana.</a:t>
            </a:r>
            <a:endParaRPr b="0" lang="en-US" sz="3200" spc="-1" strike="noStrike">
              <a:solidFill>
                <a:srgbClr val="000000"/>
              </a:solidFill>
              <a:latin typeface="Futura Md B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apple02"/>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457200" y="836640"/>
            <a:ext cx="8229600" cy="518472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3000" spc="-1" strike="noStrike">
                <a:solidFill>
                  <a:srgbClr val="000000"/>
                </a:solidFill>
                <a:latin typeface="Arial"/>
              </a:rPr>
              <a:t>Cuando el cristianismo comenzó a influenciar en la cultura local, el estatus de las mujeres fue mejorando dramáticamente. Un historiador de la iglesia temprana, Tertullian, escribió que las mujeres paganas que usaban adornos labrados en el cabello, ropas inmodestas y decoraciones corporales, habían sido forzadas por la sociedad y la moda, a abandonar el esplendor superior de su verdadera feminidad.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apple02"/>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457200" y="691920"/>
            <a:ext cx="8229600" cy="561636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Generalmente, dondequiera que el evangelio se haya presentado con éxito, se ha elevado el estatus social, legal y espiritual de las mujeres. Tristemente, podemos decir que cuando este evangelio de transformación fue ignorado o eclipsado – ya sea por represión, falsa religión, secularismo, filosofía humanista o la decadencia espiritual en la iglesia, el estatus de las mujeres, por consiguiente, disminuyó. Es importante recordar que el cristianismo valora y valida los talentos y los dones espirituales de las mujeres y su potencial líder-siervo, como otorgado por D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apple"/>
          <p:cNvPicPr/>
          <p:nvPr/>
        </p:nvPicPr>
        <p:blipFill>
          <a:blip r:embed="rId1"/>
          <a:stretch/>
        </p:blipFill>
        <p:spPr>
          <a:xfrm>
            <a:off x="0" y="0"/>
            <a:ext cx="9144000" cy="6858000"/>
          </a:xfrm>
          <a:prstGeom prst="rect">
            <a:avLst/>
          </a:prstGeom>
          <a:ln w="0">
            <a:noFill/>
          </a:ln>
        </p:spPr>
      </p:pic>
      <p:sp>
        <p:nvSpPr>
          <p:cNvPr id="84" name="PlaceHolder 1"/>
          <p:cNvSpPr>
            <a:spLocks noGrp="1"/>
          </p:cNvSpPr>
          <p:nvPr>
            <p:ph/>
          </p:nvPr>
        </p:nvSpPr>
        <p:spPr>
          <a:xfrm>
            <a:off x="1619280" y="693360"/>
            <a:ext cx="6275520" cy="1150920"/>
          </a:xfrm>
          <a:prstGeom prst="rect">
            <a:avLst/>
          </a:prstGeom>
          <a:noFill/>
          <a:ln w="0">
            <a:noFill/>
          </a:ln>
          <a:effectLst>
            <a:outerShdw dist="36147" dir="2700000" blurRad="0" rotWithShape="0">
              <a:srgbClr val="000000"/>
            </a:outerShdw>
          </a:effectLst>
        </p:spPr>
        <p:txBody>
          <a:bodyPr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99ff"/>
                </a:solidFill>
                <a:latin typeface="Futura Md BT"/>
              </a:rPr>
              <a:t>Ejemplos bíblicos en el Liderazgo</a:t>
            </a:r>
            <a:endParaRPr b="0" lang="en-US" sz="4000" spc="-1" strike="noStrike">
              <a:solidFill>
                <a:srgbClr val="000000"/>
              </a:solidFill>
              <a:latin typeface="Arial"/>
            </a:endParaRPr>
          </a:p>
        </p:txBody>
      </p:sp>
      <p:sp>
        <p:nvSpPr>
          <p:cNvPr id="85" name="Text Box 5"/>
          <p:cNvSpPr/>
          <p:nvPr/>
        </p:nvSpPr>
        <p:spPr>
          <a:xfrm>
            <a:off x="3759120" y="3882960"/>
            <a:ext cx="4413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86" name="Text Box 6"/>
          <p:cNvSpPr/>
          <p:nvPr/>
        </p:nvSpPr>
        <p:spPr>
          <a:xfrm>
            <a:off x="1959120" y="2205000"/>
            <a:ext cx="56372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hora miremos algunos ejemplos bíblicos de Mujeres en el Liderazgo.</a:t>
            </a:r>
            <a:endParaRPr b="0" lang="en-US" sz="3200" spc="-1" strike="noStrike">
              <a:solidFill>
                <a:srgbClr val="000000"/>
              </a:solidFill>
              <a:latin typeface="Futura Md B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apple02"/>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457200" y="772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1. </a:t>
            </a:r>
            <a:r>
              <a:rPr b="1" lang="es-ES" sz="3600" spc="-1" strike="noStrike">
                <a:solidFill>
                  <a:srgbClr val="333399"/>
                </a:solidFill>
                <a:latin typeface="Futura Md BT"/>
              </a:rPr>
              <a:t>La historia de Débora </a:t>
            </a:r>
            <a:r>
              <a:rPr b="1" lang="es-ES" sz="2800" spc="-1" strike="noStrike">
                <a:solidFill>
                  <a:srgbClr val="333399"/>
                </a:solidFill>
                <a:latin typeface="Futura Md BT"/>
              </a:rPr>
              <a:t>(Jueces 4-5)</a:t>
            </a:r>
            <a:br>
              <a:rPr sz="3600"/>
            </a:br>
            <a:endParaRPr b="0" lang="en-US" sz="2800" spc="-1" strike="noStrike">
              <a:solidFill>
                <a:srgbClr val="000000"/>
              </a:solidFill>
              <a:latin typeface="Arial"/>
            </a:endParaRPr>
          </a:p>
        </p:txBody>
      </p:sp>
      <p:sp>
        <p:nvSpPr>
          <p:cNvPr id="89" name="PlaceHolder 2"/>
          <p:cNvSpPr>
            <a:spLocks noGrp="1"/>
          </p:cNvSpPr>
          <p:nvPr>
            <p:ph/>
          </p:nvPr>
        </p:nvSpPr>
        <p:spPr>
          <a:xfrm>
            <a:off x="898560" y="1566360"/>
            <a:ext cx="7345440" cy="452628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	</a:t>
            </a:r>
            <a:r>
              <a:rPr b="0" lang="es-ES" sz="3200" spc="-1" strike="noStrike">
                <a:solidFill>
                  <a:srgbClr val="000000"/>
                </a:solidFill>
                <a:latin typeface="Arial"/>
              </a:rPr>
              <a:t>Esta es la historia del liderazgo de Débora. La Biblia describe a Débora como una “profetisa,  esposa de Lapidot”, pero cuando Débora se describía, ella no usaba términos como profeta o juez, general o líder. Ella se describía como “una madre en Israel” (Jueces 5: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apple02"/>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45720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Futura Md BT"/>
              </a:rPr>
              <a:t>Preguntas para el diálogo interactivo</a:t>
            </a:r>
            <a:endParaRPr b="0" lang="en-US" sz="4000" spc="-1" strike="noStrike">
              <a:solidFill>
                <a:srgbClr val="000000"/>
              </a:solidFill>
              <a:latin typeface="Arial"/>
            </a:endParaRPr>
          </a:p>
        </p:txBody>
      </p:sp>
      <p:sp>
        <p:nvSpPr>
          <p:cNvPr id="92" name="PlaceHolder 2"/>
          <p:cNvSpPr>
            <a:spLocks noGrp="1"/>
          </p:cNvSpPr>
          <p:nvPr>
            <p:ph/>
          </p:nvPr>
        </p:nvSpPr>
        <p:spPr>
          <a:xfrm>
            <a:off x="457200" y="1557000"/>
            <a:ext cx="8229600" cy="4824360"/>
          </a:xfrm>
          <a:prstGeom prst="rect">
            <a:avLst/>
          </a:prstGeom>
          <a:noFill/>
          <a:ln w="0">
            <a:noFill/>
          </a:ln>
        </p:spPr>
        <p:txBody>
          <a:bodyPr anchor="t">
            <a:normAutofit fontScale="96000"/>
          </a:bodyPr>
          <a:p>
            <a:pPr marL="58500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a:t>
            </a:r>
            <a:r>
              <a:rPr b="0" lang="es-ES" sz="2800" spc="-1" strike="noStrike">
                <a:solidFill>
                  <a:srgbClr val="000000"/>
                </a:solidFill>
                <a:latin typeface="Arial"/>
              </a:rPr>
              <a:t>	</a:t>
            </a:r>
            <a:r>
              <a:rPr b="0" lang="es-ES" sz="2800" spc="-1" strike="noStrike">
                <a:solidFill>
                  <a:srgbClr val="000000"/>
                </a:solidFill>
                <a:latin typeface="Arial"/>
              </a:rPr>
              <a:t>¿Cuál crees que era el promedio de vida de las familias en Israel durante los 20 años de opresión por parte de Jabín?</a:t>
            </a:r>
            <a:endParaRPr b="0" lang="en-US" sz="2800" spc="-1" strike="noStrike">
              <a:solidFill>
                <a:srgbClr val="000000"/>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a:t>
            </a:r>
            <a:r>
              <a:rPr b="0" lang="es-ES" sz="2800" spc="-1" strike="noStrike">
                <a:solidFill>
                  <a:srgbClr val="000000"/>
                </a:solidFill>
                <a:latin typeface="Arial"/>
              </a:rPr>
              <a:t>	</a:t>
            </a:r>
            <a:r>
              <a:rPr b="0" lang="es-ES" sz="2800" spc="-1" strike="noStrike">
                <a:solidFill>
                  <a:srgbClr val="000000"/>
                </a:solidFill>
                <a:latin typeface="Arial"/>
              </a:rPr>
              <a:t>¿Qué piensas que Débora quiso decir cuando dijo: </a:t>
            </a:r>
            <a:r>
              <a:rPr b="0" i="1" lang="es-ES" sz="2800" spc="-1" strike="noStrike">
                <a:solidFill>
                  <a:srgbClr val="000000"/>
                </a:solidFill>
                <a:latin typeface="Arial"/>
              </a:rPr>
              <a:t>“Las aldeas habían cesado en Israel, habían decaído; hasta que yo Débora me levanté, me levanté madre de Israel”? </a:t>
            </a:r>
            <a:r>
              <a:rPr b="0" lang="es-ES" sz="2800" spc="-1" strike="noStrike">
                <a:solidFill>
                  <a:srgbClr val="000000"/>
                </a:solidFill>
                <a:latin typeface="Arial"/>
              </a:rPr>
              <a:t>(Jueces 5:7).</a:t>
            </a:r>
            <a:endParaRPr b="0" lang="en-US" sz="2800" spc="-1" strike="noStrike">
              <a:solidFill>
                <a:srgbClr val="000000"/>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a:t>
            </a:r>
            <a:r>
              <a:rPr b="0" lang="es-ES" sz="2800" spc="-1" strike="noStrike">
                <a:solidFill>
                  <a:srgbClr val="000000"/>
                </a:solidFill>
                <a:latin typeface="Arial"/>
              </a:rPr>
              <a:t>	</a:t>
            </a:r>
            <a:r>
              <a:rPr b="0" lang="es-ES" sz="2800" spc="-1" strike="noStrike">
                <a:solidFill>
                  <a:srgbClr val="000000"/>
                </a:solidFill>
                <a:latin typeface="Arial"/>
              </a:rPr>
              <a:t>¿Cuál crees que pudo haber sido la reacción personal de Sísara? ¿Podría haber sido como la de Débora? ¿Cómo la de Bara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apple02"/>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457200" y="1052280"/>
            <a:ext cx="8229600" cy="5113080"/>
          </a:xfrm>
          <a:prstGeom prst="rect">
            <a:avLst/>
          </a:prstGeom>
          <a:noFill/>
          <a:ln w="0">
            <a:noFill/>
          </a:ln>
        </p:spPr>
        <p:txBody>
          <a:bodyPr anchor="t">
            <a:normAutofit/>
          </a:bodyPr>
          <a:p>
            <a:pPr marL="609480" indent="-609480">
              <a:lnSpc>
                <a:spcPct val="80000"/>
              </a:lnSpc>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ál era el miedo de Barac? ¿Por qué no quería ir sin Débora?</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ómo crees que los hombres israelitas sintieron su honor debido a las victorias conseguidas por Débora y Jael?</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a:t>
            </a:r>
            <a:r>
              <a:rPr b="0" lang="es-ES" sz="2800" spc="-1" strike="noStrike">
                <a:solidFill>
                  <a:srgbClr val="000000"/>
                </a:solidFill>
                <a:latin typeface="Arial"/>
              </a:rPr>
              <a:t>	</a:t>
            </a:r>
            <a:r>
              <a:rPr b="0" lang="es-ES" sz="3200" spc="-1" strike="noStrike">
                <a:solidFill>
                  <a:srgbClr val="000000"/>
                </a:solidFill>
                <a:latin typeface="Arial"/>
              </a:rPr>
              <a:t>Cuando una mujer en la iglesia de hoy es más brillante que un hombre, ¿cuáles son algunas reacciones de los miembros de igle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apple02"/>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2. </a:t>
            </a:r>
            <a:r>
              <a:rPr b="1" lang="es-ES" sz="3600" spc="-1" strike="noStrike">
                <a:solidFill>
                  <a:srgbClr val="333399"/>
                </a:solidFill>
                <a:latin typeface="Futura Md BT"/>
              </a:rPr>
              <a:t>La historia de Hulda</a:t>
            </a:r>
            <a:br>
              <a:rPr sz="4000"/>
            </a:br>
            <a:r>
              <a:rPr b="1" lang="es-ES" sz="2400" spc="-1" strike="noStrike">
                <a:solidFill>
                  <a:srgbClr val="333399"/>
                </a:solidFill>
                <a:latin typeface="Futura Md BT"/>
              </a:rPr>
              <a:t>(II Reyes 22:14-20; II Crónicas 34:14-33</a:t>
            </a:r>
            <a:r>
              <a:rPr b="1" lang="en-US" sz="2400" spc="-1" strike="noStrike">
                <a:solidFill>
                  <a:srgbClr val="333399"/>
                </a:solidFill>
                <a:latin typeface="Futura Md BT"/>
              </a:rPr>
              <a:t>)</a:t>
            </a:r>
            <a:endParaRPr b="0" lang="en-US" sz="2400" spc="-1" strike="noStrike">
              <a:solidFill>
                <a:srgbClr val="000000"/>
              </a:solidFill>
              <a:latin typeface="Arial"/>
            </a:endParaRPr>
          </a:p>
        </p:txBody>
      </p:sp>
      <p:sp>
        <p:nvSpPr>
          <p:cNvPr id="97" name="PlaceHolder 2"/>
          <p:cNvSpPr>
            <a:spLocks noGrp="1"/>
          </p:cNvSpPr>
          <p:nvPr>
            <p:ph/>
          </p:nvPr>
        </p:nvSpPr>
        <p:spPr>
          <a:xfrm>
            <a:off x="519120" y="1916280"/>
            <a:ext cx="8229600" cy="4525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Hulda es una de las cuatro únicas mujeres con un auténtico ministerio profético mencionada en el Antiguo Testamento. Las otras fueron María, Débora y la esposa de Isaías. A pesar de que los profetas como Jeremías y Sofonías también vivían en ese tiempo, los consejeros del rey Josías no fueron a ellos, sino a Hulda para consultar sobre el descubrimiento sorprendente del libro de la l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apple02"/>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Futura Md BT"/>
              </a:rPr>
              <a:t>Preguntas para el diálogo interactivo</a:t>
            </a:r>
            <a:endParaRPr b="0" lang="en-US" sz="3600" spc="-1" strike="noStrike">
              <a:solidFill>
                <a:srgbClr val="000000"/>
              </a:solidFill>
              <a:latin typeface="Arial"/>
            </a:endParaRPr>
          </a:p>
        </p:txBody>
      </p:sp>
      <p:sp>
        <p:nvSpPr>
          <p:cNvPr id="100" name="PlaceHolder 2"/>
          <p:cNvSpPr>
            <a:spLocks noGrp="1"/>
          </p:cNvSpPr>
          <p:nvPr>
            <p:ph/>
          </p:nvPr>
        </p:nvSpPr>
        <p:spPr>
          <a:xfrm>
            <a:off x="360360" y="1197000"/>
            <a:ext cx="8532720" cy="540072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a:t>
            </a:r>
            <a:r>
              <a:rPr b="0" lang="es-ES" sz="2400" spc="-1" strike="noStrike">
                <a:solidFill>
                  <a:srgbClr val="000000"/>
                </a:solidFill>
                <a:latin typeface="Arial"/>
              </a:rPr>
              <a:t>	</a:t>
            </a:r>
            <a:r>
              <a:rPr b="1" lang="es-ES" sz="2400" spc="-1" strike="noStrike">
                <a:solidFill>
                  <a:srgbClr val="000000"/>
                </a:solidFill>
                <a:latin typeface="Arial"/>
              </a:rPr>
              <a:t>Evidentemente, Hulda profetizaba desde su casa, ya que es donde los hombres santos la encontraron. ¿Por qué crees que ella hacía esta actividad espiritual desde su casa? ¿Cuáles son algunas formas que las mujeres de hoy pueden ministrar desde su hogar?</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es-ES" sz="2400" spc="-1" strike="noStrike">
                <a:solidFill>
                  <a:srgbClr val="000000"/>
                </a:solidFill>
                <a:latin typeface="Arial"/>
              </a:rPr>
              <a:t>	</a:t>
            </a:r>
            <a:r>
              <a:rPr b="1" lang="es-ES" sz="2400" spc="-1" strike="noStrike">
                <a:solidFill>
                  <a:srgbClr val="000000"/>
                </a:solidFill>
                <a:latin typeface="Arial"/>
              </a:rPr>
              <a:t>Hulda fue una profetisa fiel durante el tiempo de la infidelidad nacional, ¿Cómo crees que las mujeres piadosas de hoy pueden ayudar a fortalecer nuestra iglesia y modelar fidelidad?</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a:t>
            </a:r>
            <a:r>
              <a:rPr b="1" lang="es-ES" sz="2400" spc="-1" strike="noStrike">
                <a:solidFill>
                  <a:srgbClr val="000000"/>
                </a:solidFill>
                <a:latin typeface="Arial"/>
              </a:rPr>
              <a:t>	</a:t>
            </a:r>
            <a:r>
              <a:rPr b="1" lang="es-ES" sz="2400" spc="-1" strike="noStrike">
                <a:solidFill>
                  <a:srgbClr val="000000"/>
                </a:solidFill>
                <a:latin typeface="Arial"/>
              </a:rPr>
              <a:t>Cada mujer conoce la satisfacción de una casa limpia. Después de escuchar las palabras de Hulda, el rey Josías dio todo su palacio y su reino para una limpieza espiritual ¿Cómo nosotros podemos dar nuestros hogares y vidas para una limpieza espiritu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apple02"/>
          <p:cNvPicPr/>
          <p:nvPr/>
        </p:nvPicPr>
        <p:blipFill>
          <a:blip r:embed="rId1"/>
          <a:stretch/>
        </p:blipFill>
        <p:spPr>
          <a:xfrm>
            <a:off x="0" y="0"/>
            <a:ext cx="9144000" cy="6858000"/>
          </a:xfrm>
          <a:prstGeom prst="rect">
            <a:avLst/>
          </a:prstGeom>
          <a:ln w="0">
            <a:noFill/>
          </a:ln>
        </p:spPr>
      </p:pic>
      <p:sp>
        <p:nvSpPr>
          <p:cNvPr id="102"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3.</a:t>
            </a:r>
            <a:r>
              <a:rPr b="1" lang="en-US" sz="4000" spc="-1" strike="noStrike">
                <a:solidFill>
                  <a:srgbClr val="333399"/>
                </a:solidFill>
                <a:latin typeface="Futura Md BT"/>
              </a:rPr>
              <a:t> </a:t>
            </a:r>
            <a:r>
              <a:rPr b="1" lang="es-ES" sz="4000" spc="-1" strike="noStrike">
                <a:solidFill>
                  <a:srgbClr val="333399"/>
                </a:solidFill>
                <a:latin typeface="Futura Md BT"/>
              </a:rPr>
              <a:t>La historia de María</a:t>
            </a:r>
            <a:br>
              <a:rPr sz="4000"/>
            </a:br>
            <a:r>
              <a:rPr b="1" lang="es-ES" sz="2800" spc="-1" strike="noStrike">
                <a:solidFill>
                  <a:srgbClr val="333399"/>
                </a:solidFill>
                <a:latin typeface="Futura Md BT"/>
              </a:rPr>
              <a:t>(Ex. 2:1-10; 15:20-21; Núm. 21:1-15</a:t>
            </a:r>
            <a:r>
              <a:rPr b="1" lang="en-US" sz="2800" spc="-1" strike="noStrike">
                <a:solidFill>
                  <a:srgbClr val="333399"/>
                </a:solidFill>
                <a:latin typeface="Futura Md BT"/>
              </a:rPr>
              <a:t>)</a:t>
            </a:r>
            <a:endParaRPr b="0" lang="en-US" sz="2800" spc="-1" strike="noStrike">
              <a:solidFill>
                <a:srgbClr val="000000"/>
              </a:solidFill>
              <a:latin typeface="Arial"/>
            </a:endParaRPr>
          </a:p>
        </p:txBody>
      </p:sp>
      <p:sp>
        <p:nvSpPr>
          <p:cNvPr id="103" name="PlaceHolder 2"/>
          <p:cNvSpPr>
            <a:spLocks noGrp="1"/>
          </p:cNvSpPr>
          <p:nvPr>
            <p:ph/>
          </p:nvPr>
        </p:nvSpPr>
        <p:spPr>
          <a:xfrm>
            <a:off x="468000" y="1844640"/>
            <a:ext cx="8280360" cy="4525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arón y Moisés pidieron a Dios que no la castigue, pero el Señor se mantuvo firme. Ella tuvo que soportar siete días con la terrible enfermedad, pero luego fue restaurada a su posición de liderazgo. María había recibido y sufrido su castigo inmediato por su pecado. Probablemente ella recomenzó sus responsabilidades de liderazgo como una mujer más sab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apple02"/>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457200" y="620280"/>
            <a:ext cx="8229600" cy="5256360"/>
          </a:xfrm>
          <a:prstGeom prst="rect">
            <a:avLst/>
          </a:prstGeom>
          <a:noFill/>
          <a:ln w="0">
            <a:noFill/>
          </a:ln>
        </p:spPr>
        <p:txBody>
          <a:bodyPr anchor="t">
            <a:normAutofit/>
          </a:bodyPr>
          <a:p>
            <a:pPr marL="343080" indent="-343080" algn="ctr">
              <a:lnSpc>
                <a:spcPct val="130000"/>
              </a:lnSpc>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Franklin Gothic Book"/>
              </a:rPr>
              <a:t>I Corintios 1:27-29 dice, </a:t>
            </a:r>
            <a:r>
              <a:rPr b="1" i="1" lang="es-ES" sz="3200" spc="-1" strike="noStrike">
                <a:solidFill>
                  <a:srgbClr val="000000"/>
                </a:solidFill>
                <a:latin typeface="Arial"/>
              </a:rPr>
              <a:t>“Sino que lo necio del mundo escogió Dios para avergonzar a los sabios; y lo débil del mundo escogió Dios para avergonzar a lo fuerte; y lo vil del mundo y lo menospreciado escogió Dios, y lo que no es, para deshacer lo que es, a fin de que nadie se jacte en su presen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apple02"/>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Futura Md BT"/>
              </a:rPr>
              <a:t>Preguntas para el diálogo interactivo</a:t>
            </a:r>
            <a:endParaRPr b="0" lang="en-US" sz="3600" spc="-1" strike="noStrike">
              <a:solidFill>
                <a:srgbClr val="000000"/>
              </a:solidFill>
              <a:latin typeface="Arial"/>
            </a:endParaRPr>
          </a:p>
        </p:txBody>
      </p:sp>
      <p:sp>
        <p:nvSpPr>
          <p:cNvPr id="106" name="PlaceHolder 2"/>
          <p:cNvSpPr>
            <a:spLocks noGrp="1"/>
          </p:cNvSpPr>
          <p:nvPr>
            <p:ph/>
          </p:nvPr>
        </p:nvSpPr>
        <p:spPr>
          <a:xfrm>
            <a:off x="395280" y="1125360"/>
            <a:ext cx="8352000" cy="53280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María exhibía cualidades de liderazgo aún siendo muy joven. Ella se mantuvo serena y confiada en su interacción con la princesa de Egipto. ¿Crees que las mujeres piadosas de hoy deberían reconocer y cultivar las habilidades de liderazgo dadas por Dios a nuestras niñas? ¿Hay que alentar a las señoritas dotadas espiritualmente a ejercer sus talento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es-ES" sz="2400" spc="-1" strike="noStrike">
                <a:solidFill>
                  <a:srgbClr val="000000"/>
                </a:solidFill>
                <a:latin typeface="Arial"/>
              </a:rPr>
              <a:t>	</a:t>
            </a:r>
            <a:r>
              <a:rPr b="1" lang="es-ES" sz="2400" spc="-1" strike="noStrike">
                <a:solidFill>
                  <a:srgbClr val="000000"/>
                </a:solidFill>
                <a:latin typeface="Arial"/>
              </a:rPr>
              <a:t>María era una líder muy espiritual cuando impulsó a las mujeres a la acción de gracias después de la liberación milagrosa en el Mar Rojo. Dios fue complacido. ¿Cómo podemos hoy llevar a otras mujeres a celebrar el don de la salvación? ¿Cuáles son algunas formas que crees podrían ser apropia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apple02"/>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457200" y="980640"/>
            <a:ext cx="8229600" cy="5040360"/>
          </a:xfrm>
          <a:prstGeom prst="rect">
            <a:avLst/>
          </a:prstGeom>
          <a:noFill/>
          <a:ln w="0">
            <a:noFill/>
          </a:ln>
        </p:spPr>
        <p:txBody>
          <a:bodyPr anchor="t">
            <a:normAutofit/>
          </a:bodyPr>
          <a:p>
            <a:pPr marL="609480" indent="-60948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or qué crees que María pensó que era mejor que la esposa de Moisés? ¿Crees que ella pensaba que su herencia y dones de liderazgo la hacían mejor que la “mujer etíope”? ¿Cómo nosotros a veces reflejamos actitudes similares? Respondámonos así mismas en lo más íntimo de nuestro corazón esta pregunta: ¿De quién me siento superior? (permita unos momentos de silencio para la reflexión).</a:t>
            </a:r>
            <a:endParaRPr b="0" lang="en-US" sz="24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4.</a:t>
            </a:r>
            <a:r>
              <a:rPr b="1" lang="es-ES" sz="2400" spc="-1" strike="noStrike">
                <a:solidFill>
                  <a:srgbClr val="000000"/>
                </a:solidFill>
                <a:latin typeface="Arial"/>
              </a:rPr>
              <a:t>	</a:t>
            </a:r>
            <a:r>
              <a:rPr b="1" lang="es-ES" sz="2400" spc="-1" strike="noStrike">
                <a:solidFill>
                  <a:srgbClr val="000000"/>
                </a:solidFill>
                <a:latin typeface="Arial"/>
              </a:rPr>
              <a:t>¿Por qué crees que solamente María recibió el castigo y no Aarón? ¿Tal vez ella era la cabecilla de esta crít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apple02"/>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457200" y="1093680"/>
            <a:ext cx="8229600" cy="4856400"/>
          </a:xfrm>
          <a:prstGeom prst="rect">
            <a:avLst/>
          </a:prstGeom>
          <a:noFill/>
          <a:ln w="0">
            <a:noFill/>
          </a:ln>
        </p:spPr>
        <p:txBody>
          <a:bodyPr anchor="t">
            <a:normAutofit/>
          </a:bodyPr>
          <a:p>
            <a:pPr marL="609480" indent="-609480">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uáles son algunas lecciones que podemos aprender de la experiencia de María sobre juzgar a otros, especialmente a los líderes y/o sus cónyuge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6.</a:t>
            </a:r>
            <a:r>
              <a:rPr b="1" lang="es-ES" sz="2400" spc="-1" strike="noStrike">
                <a:solidFill>
                  <a:srgbClr val="000000"/>
                </a:solidFill>
                <a:latin typeface="Arial"/>
              </a:rPr>
              <a:t>	</a:t>
            </a:r>
            <a:r>
              <a:rPr b="1" lang="es-ES" sz="2400" spc="-1" strike="noStrike">
                <a:solidFill>
                  <a:srgbClr val="000000"/>
                </a:solidFill>
                <a:latin typeface="Arial"/>
              </a:rPr>
              <a:t>María aceptó su castigo y parece que lo recibió con humildad. ¿Qué haríamos si tuviéramos que experimentar un “intervalo” obligatorio de una semana? ¿Lo usaríamos para construir nuestra relación con Dios, o lo gastaríamos culpando a Dios por nuestra situ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apple02"/>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51912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4. </a:t>
            </a:r>
            <a:r>
              <a:rPr b="1" lang="es-ES" sz="3600" spc="-1" strike="noStrike">
                <a:solidFill>
                  <a:srgbClr val="333399"/>
                </a:solidFill>
                <a:latin typeface="Futura Md BT"/>
              </a:rPr>
              <a:t>La historia de Mical</a:t>
            </a:r>
            <a:br>
              <a:rPr sz="3600"/>
            </a:br>
            <a:r>
              <a:rPr b="1" lang="es-ES" sz="2800" spc="-1" strike="noStrike">
                <a:solidFill>
                  <a:srgbClr val="333399"/>
                </a:solidFill>
                <a:latin typeface="Futura Md BT"/>
              </a:rPr>
              <a:t>(I Sam. 18:20-29; 19:11-17; II Sam. 6:16-23)</a:t>
            </a:r>
            <a:r>
              <a:rPr b="0" lang="en-US" sz="3600" spc="-1" strike="noStrike">
                <a:solidFill>
                  <a:srgbClr val="333399"/>
                </a:solidFill>
                <a:latin typeface="Futura Md BT"/>
              </a:rPr>
              <a:t> </a:t>
            </a:r>
            <a:endParaRPr b="0" lang="en-US" sz="3600" spc="-1" strike="noStrike">
              <a:solidFill>
                <a:srgbClr val="000000"/>
              </a:solidFill>
              <a:latin typeface="Arial"/>
            </a:endParaRPr>
          </a:p>
        </p:txBody>
      </p:sp>
      <p:sp>
        <p:nvSpPr>
          <p:cNvPr id="113" name="PlaceHolder 2"/>
          <p:cNvSpPr>
            <a:spLocks noGrp="1"/>
          </p:cNvSpPr>
          <p:nvPr>
            <p:ph/>
          </p:nvPr>
        </p:nvSpPr>
        <p:spPr>
          <a:xfrm>
            <a:off x="457200" y="2143080"/>
            <a:ext cx="8229600" cy="402264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2400" spc="-1" strike="noStrike">
                <a:solidFill>
                  <a:srgbClr val="000000"/>
                </a:solidFill>
                <a:latin typeface="Arial"/>
              </a:rPr>
              <a:t>La historia de Mical es trágica. Su amargura parece haber crecido en furia cuando se dio cuenta que siempre había sido la rehén de alguien más. Ella primero fue una princesa y luego una reina, pero su potencial de liderazgo había sido utilizado por su padre para su propia agenda. Después ella fue utilizada por su amado David, para vengarse de Saúl, casándose con ella, no por amor, sino como un trof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apple02"/>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Futura Md BT"/>
              </a:rPr>
              <a:t>Preguntas para el diálogo interactivo</a:t>
            </a:r>
            <a:endParaRPr b="0" lang="en-US" sz="3600" spc="-1" strike="noStrike">
              <a:solidFill>
                <a:srgbClr val="000000"/>
              </a:solidFill>
              <a:latin typeface="Arial"/>
            </a:endParaRPr>
          </a:p>
        </p:txBody>
      </p:sp>
      <p:sp>
        <p:nvSpPr>
          <p:cNvPr id="116" name="PlaceHolder 2"/>
          <p:cNvSpPr>
            <a:spLocks noGrp="1"/>
          </p:cNvSpPr>
          <p:nvPr>
            <p:ph/>
          </p:nvPr>
        </p:nvSpPr>
        <p:spPr>
          <a:xfrm>
            <a:off x="395280" y="1268280"/>
            <a:ext cx="8424720" cy="511344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a:t>
            </a:r>
            <a:r>
              <a:rPr b="1" lang="es-ES" sz="2400" spc="-1" strike="noStrike">
                <a:solidFill>
                  <a:srgbClr val="000000"/>
                </a:solidFill>
                <a:latin typeface="Arial"/>
              </a:rPr>
              <a:t>	</a:t>
            </a:r>
            <a:r>
              <a:rPr b="1" lang="es-ES" sz="2400" spc="-1" strike="noStrike">
                <a:solidFill>
                  <a:srgbClr val="000000"/>
                </a:solidFill>
                <a:latin typeface="Arial"/>
              </a:rPr>
              <a:t>Mical, por su primogenitura, nació con las credenciales para el liderazgo. ¿Crees que el liderazgo es más difícil cuando se tiene que “esperar” debido a quiénes somos? ¿Por qué?</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es-ES" sz="2400" spc="-1" strike="noStrike">
                <a:solidFill>
                  <a:srgbClr val="000000"/>
                </a:solidFill>
                <a:latin typeface="Arial"/>
              </a:rPr>
              <a:t>	</a:t>
            </a:r>
            <a:r>
              <a:rPr b="1" lang="es-ES" sz="2400" spc="-1" strike="noStrike">
                <a:solidFill>
                  <a:srgbClr val="000000"/>
                </a:solidFill>
                <a:latin typeface="Arial"/>
              </a:rPr>
              <a:t>La decepción por alguien a quien amaba, comenzó en Mical a través del desengaño, la desconfianza y la desesperación. Mical esperaba que David regresara y la salvara de Saúl, así como ella lo había salvado de las manos de su padre. ¿Cómo pueden las mujeres líderes de hoy dejar de mirar a otras personas como sus salvadores? ¿Cuáles son algunos procedimientos que las mujeres líderes pueden hacer frente a aquellos que las defraud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apple02"/>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457200" y="1413000"/>
            <a:ext cx="8229600" cy="4032000"/>
          </a:xfrm>
          <a:prstGeom prst="rect">
            <a:avLst/>
          </a:prstGeom>
          <a:noFill/>
          <a:ln w="0">
            <a:noFill/>
          </a:ln>
        </p:spPr>
        <p:txBody>
          <a:bodyPr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a:t>
            </a:r>
            <a:r>
              <a:rPr b="1" lang="es-ES" sz="2400" spc="-1" strike="noStrike">
                <a:solidFill>
                  <a:srgbClr val="000000"/>
                </a:solidFill>
                <a:latin typeface="Arial"/>
              </a:rPr>
              <a:t>	</a:t>
            </a:r>
            <a:r>
              <a:rPr b="1" lang="es-ES" sz="2400" spc="-1" strike="noStrike">
                <a:solidFill>
                  <a:srgbClr val="000000"/>
                </a:solidFill>
                <a:latin typeface="Arial"/>
              </a:rPr>
              <a:t>Mical encontró una relación satisfactoria la segunda vez, pero nuevamente, una lucha por el poder de su primogenitura la arrancó de alguien que realmente la amaba. ¿Crees que las mujeres líderes tienen dificultad para distinguir entre uno que se muestra amigo por lo que quiere conseguir, y uno que es amigo porque quiere servir? ¿Cuáles son algunas características distintivas de estos dos tipos de amigos?</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apple02"/>
          <p:cNvPicPr/>
          <p:nvPr/>
        </p:nvPicPr>
        <p:blipFill>
          <a:blip r:embed="rId1"/>
          <a:stretch/>
        </p:blipFill>
        <p:spPr>
          <a:xfrm>
            <a:off x="0" y="0"/>
            <a:ext cx="9144000" cy="6858000"/>
          </a:xfrm>
          <a:prstGeom prst="rect">
            <a:avLst/>
          </a:prstGeom>
          <a:ln w="0">
            <a:noFill/>
          </a:ln>
        </p:spPr>
      </p:pic>
      <p:sp>
        <p:nvSpPr>
          <p:cNvPr id="120"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5. </a:t>
            </a:r>
            <a:r>
              <a:rPr b="1" lang="es-ES" sz="3600" spc="-1" strike="noStrike">
                <a:solidFill>
                  <a:srgbClr val="333399"/>
                </a:solidFill>
                <a:latin typeface="Futura Md BT"/>
              </a:rPr>
              <a:t>La historia de Priscila</a:t>
            </a:r>
            <a:br>
              <a:rPr sz="4000"/>
            </a:br>
            <a:r>
              <a:rPr b="1" lang="es-ES" sz="2400" spc="-1" strike="noStrike">
                <a:solidFill>
                  <a:srgbClr val="333399"/>
                </a:solidFill>
                <a:latin typeface="Futura Md BT"/>
              </a:rPr>
              <a:t>(Hech. 18-19; Rom. 16:3-4; I Cor. 16:19; II Tim. 4:19)</a:t>
            </a:r>
            <a:endParaRPr b="0" lang="en-US" sz="2400" spc="-1" strike="noStrike">
              <a:solidFill>
                <a:srgbClr val="000000"/>
              </a:solidFill>
              <a:latin typeface="Arial"/>
            </a:endParaRPr>
          </a:p>
        </p:txBody>
      </p:sp>
      <p:sp>
        <p:nvSpPr>
          <p:cNvPr id="121" name="PlaceHolder 2"/>
          <p:cNvSpPr>
            <a:spLocks noGrp="1"/>
          </p:cNvSpPr>
          <p:nvPr>
            <p:ph/>
          </p:nvPr>
        </p:nvSpPr>
        <p:spPr>
          <a:xfrm>
            <a:off x="395280" y="1557000"/>
            <a:ext cx="8229600" cy="482436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iscila debe haber sido una mujer madura espiritualmente, cuyos dones la equipaban para el liderazgo. Su nombre, por cuatro veces va después del de Aquila, fuera de las seis veces que ellos son mencionados en el Nuevo Testamento, probablemente significaba sus más grandes habilidades como una lí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apple02"/>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Futura Md BT"/>
              </a:rPr>
              <a:t>Preguntas para el diálogo interactivo</a:t>
            </a:r>
            <a:endParaRPr b="0" lang="en-US" sz="3200" spc="-1" strike="noStrike">
              <a:solidFill>
                <a:srgbClr val="000000"/>
              </a:solidFill>
              <a:latin typeface="Arial"/>
            </a:endParaRPr>
          </a:p>
        </p:txBody>
      </p:sp>
      <p:sp>
        <p:nvSpPr>
          <p:cNvPr id="124" name="PlaceHolder 2"/>
          <p:cNvSpPr>
            <a:spLocks noGrp="1"/>
          </p:cNvSpPr>
          <p:nvPr>
            <p:ph/>
          </p:nvPr>
        </p:nvSpPr>
        <p:spPr>
          <a:xfrm>
            <a:off x="395280" y="1196640"/>
            <a:ext cx="8137440" cy="532764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iscila y Aquila juntos, dejaron Corinto y se fueron con Pablo para Éfeso. ¿Cómo piensas que podría ser la dinámica, cuando las parejas son igualmente líderes? ¿Qué ventajas y desventajas vez cuando un líder permanece detrás ganándose la vida, mientras el otro líder se moviliza sólo?</a:t>
            </a:r>
            <a:endParaRPr b="0" lang="en-US" sz="2400" spc="-1" strike="noStrike">
              <a:solidFill>
                <a:srgbClr val="000000"/>
              </a:solidFill>
              <a:latin typeface="Arial"/>
            </a:endParaRPr>
          </a:p>
          <a:p>
            <a:pPr marL="60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es-ES" sz="2400" spc="-1" strike="noStrike">
                <a:solidFill>
                  <a:srgbClr val="000000"/>
                </a:solidFill>
                <a:latin typeface="Arial"/>
              </a:rPr>
              <a:t>	</a:t>
            </a:r>
            <a:r>
              <a:rPr b="1" lang="es-ES" sz="2400" spc="-1" strike="noStrike">
                <a:solidFill>
                  <a:srgbClr val="000000"/>
                </a:solidFill>
                <a:latin typeface="Arial"/>
              </a:rPr>
              <a:t>Las Escrituras dicen que Priscila y Aquila llevaron a Apolos aparte y lo instruyeron. Su instrucción debe haber tenido éxito, pues se vio en su ministerio fructífero después. ¿Cuál piensas que debe haber sido la reacción de Apolos al ser enseñado por un hombre y una mujer? ¿Por qué ellos lo instruyeron en priv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apple02"/>
          <p:cNvPicPr/>
          <p:nvPr/>
        </p:nvPicPr>
        <p:blipFill>
          <a:blip r:embed="rId1"/>
          <a:stretch/>
        </p:blipFill>
        <p:spPr>
          <a:xfrm>
            <a:off x="0" y="0"/>
            <a:ext cx="9144000" cy="6858000"/>
          </a:xfrm>
          <a:prstGeom prst="rect">
            <a:avLst/>
          </a:prstGeom>
          <a:ln w="0">
            <a:noFill/>
          </a:ln>
        </p:spPr>
      </p:pic>
      <p:sp>
        <p:nvSpPr>
          <p:cNvPr id="126" name="PlaceHolder 1"/>
          <p:cNvSpPr>
            <a:spLocks noGrp="1"/>
          </p:cNvSpPr>
          <p:nvPr>
            <p:ph/>
          </p:nvPr>
        </p:nvSpPr>
        <p:spPr>
          <a:xfrm>
            <a:off x="457200" y="1052280"/>
            <a:ext cx="8075520" cy="51130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a:t>
            </a:r>
            <a:r>
              <a:rPr b="0" lang="es-ES" sz="2800" spc="-1" strike="noStrike">
                <a:solidFill>
                  <a:srgbClr val="000000"/>
                </a:solidFill>
                <a:latin typeface="Arial"/>
              </a:rPr>
              <a:t>	</a:t>
            </a:r>
            <a:r>
              <a:rPr b="0" lang="es-ES" sz="2800" spc="-1" strike="noStrike">
                <a:solidFill>
                  <a:srgbClr val="000000"/>
                </a:solidFill>
                <a:latin typeface="Arial"/>
              </a:rPr>
              <a:t>Cada vez que los nombres de Aquila y Priscila se mencionan en las Escrituras, ellos aparecen juntos. ¿Piensas que Priscila puede haber sido considerada una líder de iglesia y del ministerio igual que Aquila, ante los ojos de Pablo? ¿Por qué?</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a:t>
            </a:r>
            <a:r>
              <a:rPr b="0" lang="es-ES" sz="2800" spc="-1" strike="noStrike">
                <a:solidFill>
                  <a:srgbClr val="000000"/>
                </a:solidFill>
                <a:latin typeface="Arial"/>
              </a:rPr>
              <a:t>	</a:t>
            </a:r>
            <a:r>
              <a:rPr b="0" lang="es-ES" sz="2800" spc="-1" strike="noStrike">
                <a:solidFill>
                  <a:srgbClr val="000000"/>
                </a:solidFill>
                <a:latin typeface="Arial"/>
              </a:rPr>
              <a:t>Pablo dice en Romanos, que Priscila y Aquila arriesgaron sus vidas por él. ¿Cómo sientes que afecta la lealtad y el apoyo a la iglesia, cuando se valora y convalida la función del liderazgo de las muje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apple02"/>
          <p:cNvPicPr/>
          <p:nvPr/>
        </p:nvPicPr>
        <p:blipFill>
          <a:blip r:embed="rId1"/>
          <a:stretch/>
        </p:blipFill>
        <p:spPr>
          <a:xfrm>
            <a:off x="0" y="0"/>
            <a:ext cx="9144000" cy="6858000"/>
          </a:xfrm>
          <a:prstGeom prst="rect">
            <a:avLst/>
          </a:prstGeom>
          <a:ln w="0">
            <a:noFill/>
          </a:ln>
        </p:spPr>
      </p:pic>
      <p:sp>
        <p:nvSpPr>
          <p:cNvPr id="128" name="PlaceHolder 1"/>
          <p:cNvSpPr>
            <a:spLocks noGrp="1"/>
          </p:cNvSpPr>
          <p:nvPr>
            <p:ph/>
          </p:nvPr>
        </p:nvSpPr>
        <p:spPr>
          <a:xfrm>
            <a:off x="395280" y="1484280"/>
            <a:ext cx="8424720" cy="3960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Las historias de estas líderes espirituales  son dadas “para nuestro ejemplo, y están escritas para nuestra advertencia…”. Que podamos aprender de ellas y respondamos al llamado de Dios, de cumplir con todo el potencial con que nos ha do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apple02"/>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395280" y="99504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Futura Md BT"/>
              </a:rPr>
              <a:t>Mujeres destacadas en la Biblia</a:t>
            </a:r>
            <a:r>
              <a:rPr b="0" lang="es-ES" sz="4000" spc="-1" strike="noStrike">
                <a:solidFill>
                  <a:srgbClr val="333399"/>
                </a:solidFill>
                <a:latin typeface="Futura Md BT"/>
              </a:rPr>
              <a:t> </a:t>
            </a:r>
            <a:br>
              <a:rPr sz="4000"/>
            </a:br>
            <a:endParaRPr b="0" lang="en-US" sz="4000" spc="-1" strike="noStrike">
              <a:solidFill>
                <a:srgbClr val="000000"/>
              </a:solidFill>
              <a:latin typeface="Arial"/>
            </a:endParaRPr>
          </a:p>
        </p:txBody>
      </p:sp>
      <p:sp>
        <p:nvSpPr>
          <p:cNvPr id="59" name="PlaceHolder 2"/>
          <p:cNvSpPr>
            <a:spLocks noGrp="1"/>
          </p:cNvSpPr>
          <p:nvPr>
            <p:ph/>
          </p:nvPr>
        </p:nvSpPr>
        <p:spPr>
          <a:xfrm>
            <a:off x="456840" y="1484280"/>
            <a:ext cx="8435880" cy="46418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Cuando nos fijamos en las historias y los relatos históricos de algunas de las mujeres que se presentan en la Biblia, probablemente ellas aparecerán como sin importancia.</a:t>
            </a:r>
            <a:endParaRPr b="0" lang="en-US" sz="2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  </a:t>
            </a:r>
            <a:r>
              <a:rPr b="1" lang="es-ES" sz="2600" spc="-1" strike="noStrike">
                <a:solidFill>
                  <a:srgbClr val="000000"/>
                </a:solidFill>
                <a:latin typeface="Arial"/>
              </a:rPr>
              <a:t>Algunas mujeres aparecerán como tonta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  </a:t>
            </a:r>
            <a:r>
              <a:rPr b="1" lang="es-ES" sz="2600" spc="-1" strike="noStrike">
                <a:solidFill>
                  <a:srgbClr val="000000"/>
                </a:solidFill>
                <a:latin typeface="Arial"/>
              </a:rPr>
              <a:t>Algunas mujeres aparecerán como débil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  </a:t>
            </a:r>
            <a:r>
              <a:rPr b="1" lang="es-ES" sz="2600" spc="-1" strike="noStrike">
                <a:solidFill>
                  <a:srgbClr val="000000"/>
                </a:solidFill>
                <a:latin typeface="Arial"/>
              </a:rPr>
              <a:t>Algunas mujeres aparecerán com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despreciabl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  </a:t>
            </a:r>
            <a:r>
              <a:rPr b="1" lang="es-ES" sz="2600" spc="-1" strike="noStrike">
                <a:solidFill>
                  <a:srgbClr val="000000"/>
                </a:solidFill>
                <a:latin typeface="Arial"/>
              </a:rPr>
              <a:t>Algunas mujeres aparecerán como sin val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apple02"/>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179280" y="1424160"/>
            <a:ext cx="8507520" cy="4525920"/>
          </a:xfrm>
          <a:prstGeom prst="rect">
            <a:avLst/>
          </a:prstGeom>
          <a:noFill/>
          <a:ln w="0">
            <a:noFill/>
          </a:ln>
        </p:spPr>
        <p:txBody>
          <a:bodyPr anchor="t">
            <a:normAutofit/>
          </a:bodyPr>
          <a:p>
            <a:pPr marL="343080" indent="0" algn="ctr">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3000" spc="-1" strike="noStrike">
                <a:solidFill>
                  <a:srgbClr val="000000"/>
                </a:solidFill>
                <a:latin typeface="Arial"/>
              </a:rPr>
              <a:t>Pero Dios en su sabiduría, conociendo el valor y dones extraordinarios que puso en su creación femenina, eligió utilizar lo que Él creó para su gloria. Dios eligió mujeres líderes tales como, la mujer samaritana, cuyo nombre no conocem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apple02"/>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684000" y="1197000"/>
            <a:ext cx="78483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os eligió a Ana, una viuda poco conocida de edad avanzada quién aparece solamente en una breve escena en Lucas, capítulo 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os eligió a Rahab que era una prostituta comú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os escogió a María, la madre de Jesús quién era una señorita sin distinción particular, que vivía en una pequeña aldea, en una zona árida y despreciada de Galil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apple02"/>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395280" y="1279440"/>
            <a:ext cx="8229600" cy="45259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stas mujeres finalmente se convirtieron en líderes extraordinarias, no por alguna de sus cualidades naturales propias, sino porque el único y verdadero Dios a quién ellas adoraban y servían, el Dios que las creó y dotó con igual capacidad de liderazgo, las refinó como plata pu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68" name="Picture 4" descr="apple02"/>
          <p:cNvPicPr/>
          <p:nvPr/>
        </p:nvPicPr>
        <p:blipFill>
          <a:blip r:embed="rId1"/>
          <a:stretch/>
        </p:blipFill>
        <p:spPr>
          <a:xfrm>
            <a:off x="0" y="0"/>
            <a:ext cx="9144000" cy="6858000"/>
          </a:xfrm>
          <a:prstGeom prst="rect">
            <a:avLst/>
          </a:prstGeom>
          <a:ln w="0">
            <a:noFill/>
          </a:ln>
        </p:spPr>
      </p:pic>
      <p:sp>
        <p:nvSpPr>
          <p:cNvPr id="69" name="Text Box 5"/>
          <p:cNvSpPr/>
          <p:nvPr/>
        </p:nvSpPr>
        <p:spPr>
          <a:xfrm>
            <a:off x="900000" y="1341360"/>
            <a:ext cx="734544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a observación cercana de la narración bíblica de los patriarcas, nos muestra cómo ellos siempre dieron una debida distinción a sus esposas. Sara, Rebeca y Raquel, todas ocupan un lugar preponderante en el relato del Génesis, del trato de Dios con ellas y con sus esposos.</a:t>
            </a:r>
            <a:endParaRPr b="0" lang="en-US" sz="3200" spc="-1" strike="noStrike">
              <a:solidFill>
                <a:srgbClr val="000000"/>
              </a:solidFill>
              <a:latin typeface="Futura Md B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apple02"/>
          <p:cNvPicPr/>
          <p:nvPr/>
        </p:nvPicPr>
        <p:blipFill>
          <a:blip r:embed="rId1"/>
          <a:stretch/>
        </p:blipFill>
        <p:spPr>
          <a:xfrm>
            <a:off x="0" y="0"/>
            <a:ext cx="9144000" cy="6858000"/>
          </a:xfrm>
          <a:prstGeom prst="rect">
            <a:avLst/>
          </a:prstGeom>
          <a:ln w="0">
            <a:noFill/>
          </a:ln>
        </p:spPr>
      </p:pic>
      <p:sp>
        <p:nvSpPr>
          <p:cNvPr id="71" name="PlaceHolder 1"/>
          <p:cNvSpPr>
            <a:spLocks noGrp="1"/>
          </p:cNvSpPr>
          <p:nvPr>
            <p:ph/>
          </p:nvPr>
        </p:nvSpPr>
        <p:spPr>
          <a:xfrm>
            <a:off x="457200" y="1125000"/>
            <a:ext cx="8229600" cy="4526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n los proverbios de Salomón, la sabiduría está personificada como una mujer. No es poca cosa que en la vida social y religiosa de Israel y de la Iglesia del Nuevo Testamento, nunca relegaron a las mujeres a un segundo plano. Ellas participaban con los hombres en todas las fiestas y adoraciones públicas de Israel (Deuteronomio 16:14; Nehemías 8:2-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apple02"/>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395280" y="1062000"/>
            <a:ext cx="8229600" cy="71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Futura Md BT"/>
              </a:rPr>
              <a:t>Contrastes en la historia</a:t>
            </a:r>
            <a:br>
              <a:rPr sz="4000"/>
            </a:b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esús proporcionó un modelo en su ministerio, incluyendo a varias mujeres como sus discípulas (Lucas 8:1-3) una práctica casi inaudita entre los rabinos de sus días. No solo eso, sino que Jesús alentó su discipulado como algo más necesario que el servicio doméstico. ¿Recuerda la historia de María y Martha? De hecho, Cristo por primera vez reveló de forma explícita su propia identidad como el verdadero Mesías a la mujer samarita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19:40:26Z</dcterms:created>
  <dc:creator>ArraisR</dc:creator>
  <dc:description/>
  <dc:language>en-US</dc:language>
  <cp:lastModifiedBy>glaucia.meireles</cp:lastModifiedBy>
  <dcterms:modified xsi:type="dcterms:W3CDTF">2010-03-10T18:50:35Z</dcterms:modified>
  <cp:revision>25</cp:revision>
  <dc:subject/>
  <dc:title>Slide 1</dc:title>
</cp:coreProperties>
</file>