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40197-103A-4709-A105-6ABD6819B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21315-B6DD-4B32-87E9-DAB3FEC34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EF0D9-7132-461B-823F-EFF1271BA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80D29-6865-4245-A139-BB853119D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19282-4DB6-43A7-8F0A-21D58DFF8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079BD-4320-4104-B3D8-E6B8AD38C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D33DA-6267-4C1A-934B-56724A803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941AA-F7DF-4DF3-983F-D29DA611E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F878B-7FA8-443D-B8C4-8A13ED24E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D80C-C826-4621-BAB0-79E4BE65F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58DC-8F7C-4EA4-9EA5-46F0A5D0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E08D1-56FB-47ED-B464-3AC278151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F1D4-02B1-4F17-984A-2C24B986DF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24000" y="1197000"/>
            <a:ext cx="8424720" cy="40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0" lang="es-ES_tradnl" sz="3200" spc="-1" strike="noStrike">
                <a:solidFill>
                  <a:srgbClr val="ffff00"/>
                </a:solidFill>
                <a:latin typeface="Arial"/>
              </a:rPr>
              <a:t>1.</a:t>
            </a:r>
            <a:r>
              <a:rPr b="0" lang="es-ES_tradnl" sz="3200" spc="-1" strike="noStrike">
                <a:solidFill>
                  <a:srgbClr val="ffffff"/>
                </a:solidFill>
                <a:latin typeface="Arial"/>
              </a:rPr>
              <a:t> Debe ser algo que sinceramente le guste hacer. Esta elección requiere que identifique sus fortalezas, debilidades e intereses. (Algunos tests psicométricos están disponibles para ayudar con esta necesidad.</a:t>
            </a: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71640" y="1341360"/>
            <a:ext cx="7596000" cy="452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1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2.</a:t>
            </a:r>
            <a:r>
              <a:rPr b="1" lang="es-ES_tradnl" sz="3200" spc="-1" strike="noStrike">
                <a:solidFill>
                  <a:srgbClr val="ffffff"/>
                </a:solidFill>
                <a:latin typeface="Arial"/>
              </a:rPr>
              <a:t>	</a:t>
            </a:r>
            <a:r>
              <a:rPr b="1" lang="es-ES_tradnl" sz="3200" spc="-1" strike="noStrike">
                <a:solidFill>
                  <a:srgbClr val="ffffff"/>
                </a:solidFill>
                <a:latin typeface="Arial"/>
              </a:rPr>
              <a:t>Debe ser algo que tenga la habilidad de hacerlo. Puede desear ser un abogado pero le falta el talento para hacer la tarea académica y pasar el examen de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5480" y="898560"/>
            <a:ext cx="184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endParaRPr b="0" lang="en-US" sz="1800" spc="-1" strike="noStrike">
              <a:solidFill>
                <a:srgbClr val="000000"/>
              </a:solidFill>
              <a:latin typeface="Arial"/>
            </a:endParaRPr>
          </a:p>
        </p:txBody>
      </p:sp>
      <p:sp>
        <p:nvSpPr>
          <p:cNvPr id="63" name=""/>
          <p:cNvSpPr/>
          <p:nvPr/>
        </p:nvSpPr>
        <p:spPr>
          <a:xfrm>
            <a:off x="0" y="1989000"/>
            <a:ext cx="838836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a:t>
            </a:r>
            <a:r>
              <a:rPr b="0" lang="es-ES_tradnl" sz="3200" spc="-1" strike="noStrike">
                <a:solidFill>
                  <a:srgbClr val="ffffff"/>
                </a:solidFill>
                <a:latin typeface="Arial"/>
              </a:rPr>
              <a:t>	</a:t>
            </a:r>
            <a:r>
              <a:rPr b="0" lang="es-ES_tradnl" sz="3200" spc="-1" strike="noStrike">
                <a:solidFill>
                  <a:srgbClr val="ffffff"/>
                </a:solidFill>
                <a:latin typeface="Arial"/>
              </a:rPr>
              <a:t> Debe ser algo con lo cual pueda ganarse la vida. Tal vez quiere ser un artista pero si a la gente no le gustan sus cuadros, puede morirse de hambre  sentado en su caballete de pintor.</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6920" y="2060640"/>
            <a:ext cx="788688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 </a:t>
            </a:r>
            <a:r>
              <a:rPr b="1" lang="es-ES_tradnl" sz="3200" spc="-1" strike="noStrike">
                <a:solidFill>
                  <a:srgbClr val="ffff00"/>
                </a:solidFill>
                <a:latin typeface="Arial"/>
              </a:rPr>
              <a:t>4.</a:t>
            </a:r>
            <a:r>
              <a:rPr b="1" lang="es-ES_tradnl" sz="3200" spc="-1" strike="noStrike">
                <a:solidFill>
                  <a:srgbClr val="ffffff"/>
                </a:solidFill>
                <a:latin typeface="Arial"/>
              </a:rPr>
              <a:t> Debe ser algo que se le permita hacer. Podría ser un médico   </a:t>
            </a:r>
            <a:r>
              <a:rPr b="1" lang="es-ES_tradnl" sz="3200" spc="-1" strike="noStrike">
                <a:solidFill>
                  <a:srgbClr val="ffffff"/>
                </a:solidFill>
                <a:latin typeface="Arial"/>
              </a:rPr>
              <a:t>	</a:t>
            </a:r>
            <a:r>
              <a:rPr b="1" lang="es-ES_tradnl" sz="3200" spc="-1" strike="noStrike">
                <a:solidFill>
                  <a:srgbClr val="ffffff"/>
                </a:solidFill>
                <a:latin typeface="Arial"/>
              </a:rPr>
              <a:t>maravilloso y podría manejar la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instrucción, pero no puede entrar a la facultad de medicin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900000" y="1413000"/>
            <a:ext cx="7596360" cy="391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0" lang="es-ES_tradnl" sz="3200" spc="-1" strike="noStrike">
                <a:solidFill>
                  <a:srgbClr val="ffff00"/>
                </a:solidFill>
                <a:latin typeface="Arial"/>
              </a:rPr>
              <a:t>5</a:t>
            </a:r>
            <a:r>
              <a:rPr b="0" lang="es-ES_tradnl" sz="3200" spc="-1" strike="noStrike">
                <a:solidFill>
                  <a:srgbClr val="ffffff"/>
                </a:solidFill>
                <a:latin typeface="Arial"/>
              </a:rPr>
              <a:t>. Debe ser algo que traiga afirmación cultural. En otras palabras, la mayoría de las personas necesitan sentir alguna medida de respeto de sus contemporáneos por lo que hacen.</a:t>
            </a:r>
            <a:endParaRPr b="0" lang="en-US" sz="32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6920" y="2133720"/>
            <a:ext cx="7596360" cy="371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Lo más importante para el creyente genuino: debe ser algo que Usted. siente que Dios lo aprueba </a:t>
            </a:r>
            <a:endParaRPr b="0" lang="en-US" sz="3200" spc="-1" strike="noStrike">
              <a:solidFill>
                <a:srgbClr val="000000"/>
              </a:solidFill>
              <a:latin typeface="Arial"/>
            </a:endParaRPr>
          </a:p>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r. James Dobson, Life on the Edge (Vida en el Límite) Pág. 11</a:t>
            </a:r>
            <a:endParaRPr b="0" lang="en-US" sz="28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5003640" y="1052640"/>
            <a:ext cx="34560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Soy parte </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de una nueva</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generación!</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p:txBody>
      </p:sp>
      <p:sp>
        <p:nvSpPr>
          <p:cNvPr id="68" name=""/>
          <p:cNvSpPr txBox="1"/>
          <p:nvPr/>
        </p:nvSpPr>
        <p:spPr>
          <a:xfrm>
            <a:off x="4572000" y="4076640"/>
            <a:ext cx="396072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Soy un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persona únic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900000" y="189000"/>
            <a:ext cx="7272360" cy="6408720"/>
          </a:xfrm>
          <a:prstGeom prst="triangle">
            <a:avLst>
              <a:gd name="adj" fmla="val 50000"/>
            </a:avLst>
          </a:prstGeom>
          <a:solidFill>
            <a:srgbClr val="00005c">
              <a:alpha val="18000"/>
            </a:srgbClr>
          </a:solidFill>
          <a:ln w="1015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00360" y="2421000"/>
            <a:ext cx="38876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e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acción.¡Tú no pued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 l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nsecuen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859280" y="2276640"/>
            <a:ext cx="4105440" cy="30240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ómo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onocer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la Voluntad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de Dios</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900000" y="13510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Prim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3" name=""/>
          <p:cNvSpPr/>
          <p:nvPr/>
        </p:nvSpPr>
        <p:spPr>
          <a:xfrm>
            <a:off x="0" y="2924280"/>
            <a:ext cx="7093080" cy="356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Hable con otra persona acerca de la decisión que va a hacer: trátela con alguien en quien Usted. tiene confianza y con quien puede compartir sus ideas.</a:t>
            </a:r>
            <a:endParaRPr b="0" lang="en-US" sz="3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4328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24000" y="260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76360" y="76500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308720" y="26028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04000" y="90792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2536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8360" y="184464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59640" y="177336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140360" y="692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1964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63440" y="5694480"/>
            <a:ext cx="8820360" cy="825480"/>
          </a:xfrm>
          <a:prstGeom prst="rect">
            <a:avLst/>
          </a:prstGeom>
          <a:solidFill>
            <a:srgbClr val="bbe0e3">
              <a:alpha val="2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criba palabras en los espacios en blanco que describen las características de las niñas adolesc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3635280" y="1341360"/>
            <a:ext cx="396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Segund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5" name=""/>
          <p:cNvSpPr/>
          <p:nvPr/>
        </p:nvSpPr>
        <p:spPr>
          <a:xfrm>
            <a:off x="1692360" y="2857680"/>
            <a:ext cx="702000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ea la Biblia para encontrar dirección. Dios le hablará  a través de las Sagradas Escrituras y nunca le pedirá que haga  ninguna cosa que contradiga su voluntad.</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611280" y="476280"/>
            <a:ext cx="215892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Terc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7" name=""/>
          <p:cNvSpPr/>
          <p:nvPr/>
        </p:nvSpPr>
        <p:spPr>
          <a:xfrm>
            <a:off x="-324000" y="1628640"/>
            <a:ext cx="763272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 </a:t>
            </a:r>
            <a:r>
              <a:rPr b="1" lang="pt-BR" sz="3000" spc="-1" strike="noStrike">
                <a:solidFill>
                  <a:srgbClr val="ffffff"/>
                </a:solidFill>
                <a:latin typeface="Arial"/>
              </a:rPr>
              <a:t>	</a:t>
            </a:r>
            <a:r>
              <a:rPr b="0" lang="es-ES_tradnl" sz="3200" spc="-1" strike="noStrike">
                <a:solidFill>
                  <a:srgbClr val="ffffff"/>
                </a:solidFill>
                <a:latin typeface="Arial"/>
              </a:rPr>
              <a:t>Observe para ver que puertas se abren y cuales se cierran de golpe. Si Dios lo dirige en una dirección particular obrará por lo que llamamos "circunstancias providenciales". Creará oportunidades para que Usted haga lo que él desea. No tiene que "asegurar con clavos" los obstáculos si Dios está involucrad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227640" y="1052640"/>
            <a:ext cx="2232000" cy="85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Cuar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9" name=""/>
          <p:cNvSpPr/>
          <p:nvPr/>
        </p:nvSpPr>
        <p:spPr>
          <a:xfrm>
            <a:off x="900000" y="2349360"/>
            <a:ext cx="7812360" cy="582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es-ES_tradnl" sz="2800" spc="-1" strike="noStrike">
                <a:solidFill>
                  <a:srgbClr val="ffffff"/>
                </a:solidFill>
                <a:latin typeface="Arial"/>
              </a:rPr>
              <a:t>Concédase suficiente tiempo para pensar. No haga grandes      decisiones mientras está en un estado de confusión. Ese es un   buen principio para seguir todo el tiempo de su vida. Cuando no está seguro de qué hacer, evite la elección final por tanto          tiempo como sea posible. Podría tener una revelación más grande  unos pocos días más tarde.</a:t>
            </a:r>
            <a:endParaRPr b="0" lang="en-US" sz="2800" spc="-1" strike="noStrike">
              <a:solidFill>
                <a:srgbClr val="000000"/>
              </a:solidFill>
              <a:latin typeface="Arial"/>
            </a:endParaRPr>
          </a:p>
          <a:p>
            <a:pPr marL="343080" indent="-343080" algn="ctr">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900000" y="14842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Quin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81" name=""/>
          <p:cNvSpPr/>
          <p:nvPr/>
        </p:nvSpPr>
        <p:spPr>
          <a:xfrm>
            <a:off x="0" y="2924280"/>
            <a:ext cx="6372360" cy="4261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1" lang="pt-BR" sz="3600" spc="-1" strike="noStrike">
                <a:solidFill>
                  <a:srgbClr val="ffffff"/>
                </a:solidFill>
                <a:latin typeface="Arial"/>
              </a:rPr>
              <a:t>	</a:t>
            </a:r>
            <a:r>
              <a:rPr b="1" lang="es-ES_tradnl" sz="3200" spc="-1" strike="noStrike">
                <a:solidFill>
                  <a:srgbClr val="ffffff"/>
                </a:solidFill>
                <a:latin typeface="Arial"/>
              </a:rPr>
              <a:t>Ore para que Dios lo guíe, lo bendiga y lo dirija.</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2133720"/>
            <a:ext cx="5473440" cy="26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Los Diez Mandamiento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de las Adolescente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81080" y="189000"/>
            <a:ext cx="9144000" cy="944964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es-ES" sz="4000" spc="-1" strike="noStrike">
                <a:solidFill>
                  <a:srgbClr val="990033"/>
                </a:solidFill>
                <a:latin typeface="Arial"/>
              </a:rPr>
              <a:t>P</a:t>
            </a:r>
            <a:r>
              <a:rPr b="1" lang="es-ES" sz="3200" spc="-1" strike="noStrike">
                <a:solidFill>
                  <a:srgbClr val="000044"/>
                </a:solidFill>
                <a:latin typeface="Arial"/>
              </a:rPr>
              <a:t>are y piense antes de actuar.</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entristezcas a tus padres. Ellos te criar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S</a:t>
            </a:r>
            <a:r>
              <a:rPr b="1" lang="es-ES" sz="3200" spc="-1" strike="noStrike">
                <a:solidFill>
                  <a:srgbClr val="000044"/>
                </a:solidFill>
                <a:latin typeface="Arial"/>
              </a:rPr>
              <a:t>e humilde lo suficiente para obedecer; Un día, tú también darás órdene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A</a:t>
            </a:r>
            <a:r>
              <a:rPr b="1" lang="es-ES" sz="3200" spc="-1" strike="noStrike">
                <a:solidFill>
                  <a:srgbClr val="000044"/>
                </a:solidFill>
                <a:latin typeface="Arial"/>
              </a:rPr>
              <a:t>léjate de los  pensamientos impuros tan pronto como aparezca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endParaRPr b="0" lang="en-US" sz="32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9001080" cy="820872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trates de exhibirte cuando estés dirigiendo. </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un novio que sea un buen compañero.</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Asiste </a:t>
            </a:r>
            <a:r>
              <a:rPr b="1" lang="es-ES" sz="3200" spc="-1" strike="noStrike">
                <a:solidFill>
                  <a:srgbClr val="000044"/>
                </a:solidFill>
                <a:latin typeface="Arial"/>
              </a:rPr>
              <a:t>a la iglesia con frecuencia. El creador nos da una semana. Dale a él algunas horas.</a:t>
            </a:r>
            <a:endParaRPr b="0" lang="en-US" sz="3200" spc="-1" strike="noStrike">
              <a:solidFill>
                <a:srgbClr val="000000"/>
              </a:solidFill>
              <a:latin typeface="Arial"/>
            </a:endParaRPr>
          </a:p>
          <a:p>
            <a:pPr lvl="1" marL="8002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036800"/>
            <a:ext cx="8675640" cy="696600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a tus amigos con cuidado. Tú llegarás a ser lo que ellos s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vita seguir a la multitud. Se una líder y no quien sigue a los demá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a:rPr>
              <a:t>	</a:t>
            </a:r>
            <a:r>
              <a:rPr b="1" lang="es-ES" sz="4000" spc="-1" strike="noStrike">
                <a:solidFill>
                  <a:srgbClr val="990033"/>
                </a:solidFill>
                <a:latin typeface="Arial"/>
              </a:rPr>
              <a:t>G</a:t>
            </a:r>
            <a:r>
              <a:rPr b="1" lang="es-ES" sz="3200" spc="-1" strike="noStrike">
                <a:solidFill>
                  <a:srgbClr val="000044"/>
                </a:solidFill>
                <a:latin typeface="Arial"/>
              </a:rPr>
              <a:t>uarde los Diez Mandamientos de la ley de Dio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4"/>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88640"/>
            <a:ext cx="8229600" cy="1143000"/>
          </a:xfrm>
          <a:prstGeom prst="rect">
            <a:avLst/>
          </a:prstGeom>
          <a:noFill/>
          <a:ln w="0">
            <a:noFill/>
          </a:ln>
          <a:effectLst>
            <a:outerShdw dist="17819" dir="2700000" blurRad="0" rotWithShape="0">
              <a:srgbClr val="99cc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ómo soy yo</a:t>
            </a:r>
            <a:endParaRPr b="0" lang="en-US" sz="4400" spc="-1" strike="noStrike">
              <a:solidFill>
                <a:srgbClr val="000000"/>
              </a:solidFill>
              <a:latin typeface="Arial"/>
            </a:endParaRPr>
          </a:p>
        </p:txBody>
      </p:sp>
      <p:graphicFrame>
        <p:nvGraphicFramePr>
          <p:cNvPr id="87" name=""/>
          <p:cNvGraphicFramePr/>
          <p:nvPr/>
        </p:nvGraphicFramePr>
        <p:xfrm>
          <a:off x="468360" y="1268280"/>
          <a:ext cx="8229600" cy="5284800"/>
        </p:xfrm>
        <a:graphic>
          <a:graphicData uri="http://schemas.openxmlformats.org/drawingml/2006/table">
            <a:tbl>
              <a:tblPr/>
              <a:tblGrid>
                <a:gridCol w="2743200"/>
                <a:gridCol w="2743200"/>
                <a:gridCol w="27432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Fuert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Déb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fbb"/>
                    </a:solid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arienc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á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l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bilidad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quist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lent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lidades Espiritua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dffb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203640" y="2421000"/>
            <a:ext cx="525600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aracterísticas de la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 </a:t>
            </a: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547640" y="1844640"/>
            <a:ext cx="669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600" spc="-1" strike="noStrike">
                <a:solidFill>
                  <a:srgbClr val="ffffff"/>
                </a:solidFill>
                <a:latin typeface="Arial"/>
              </a:rPr>
              <a:t>Física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Personalidad/ Actitu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Social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Espiritualme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419640" y="2133720"/>
            <a:ext cx="504000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Necesidades de las </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332000" y="1268280"/>
            <a:ext cx="6696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Física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ersonalidad / Actitudes</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ocial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piritualm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11280" y="4653000"/>
            <a:ext cx="777708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Toda gloriosa es la hija del rey en su morada." </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Salmo 45:13</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3635280" y="6308640"/>
            <a:ext cx="3097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SALMO 139: 13-16</a:t>
            </a:r>
            <a:endParaRPr b="0" lang="en-US" sz="1800" spc="1" strike="noStrike">
              <a:ln w="9360">
                <a:solidFill>
                  <a:srgbClr val="000000"/>
                </a:solidFill>
                <a:miter/>
              </a:ln>
              <a:solidFill>
                <a:srgbClr val="ffff00"/>
              </a:solidFill>
              <a:latin typeface="Arial Black"/>
              <a:ea typeface="Arial Black"/>
            </a:endParaRPr>
          </a:p>
        </p:txBody>
      </p:sp>
      <p:sp>
        <p:nvSpPr>
          <p:cNvPr id="58" name=""/>
          <p:cNvSpPr/>
          <p:nvPr/>
        </p:nvSpPr>
        <p:spPr>
          <a:xfrm>
            <a:off x="324000" y="260280"/>
            <a:ext cx="882000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lang="es-ES_tradnl" sz="3200" spc="-1" strike="noStrike">
                <a:solidFill>
                  <a:srgbClr val="ffffff"/>
                </a:solidFill>
                <a:latin typeface="Arial"/>
              </a:rPr>
              <a:t>Porque tú formaste mis entrañas; tú 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ciste en el vientre de mi mad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 alabaré; porque formidab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osas son tus obras; esto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ado, y mi alma lo sabe muy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No fue encubierto de ti mi cuerpo,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en oculto fui formado, y entreteji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lo más profundo de la tier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 embrión vieron tus ojos, y en tu libr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aban escritas todas aquellas cos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luego fueron formadas, s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r una de e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3203640" y="2131920"/>
            <a:ext cx="525600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osas Para Pensar </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l Elegir Una Profesión</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9:05:19Z</dcterms:created>
  <dc:creator>Sede Administrativa</dc:creator>
  <dc:description/>
  <dc:language>en-US</dc:language>
  <cp:lastModifiedBy>Sede Administrativa</cp:lastModifiedBy>
  <dcterms:modified xsi:type="dcterms:W3CDTF">2003-10-13T13:38:57Z</dcterms:modified>
  <cp:revision>16</cp:revision>
  <dc:subject/>
  <dc:title>Slide 1</dc:title>
</cp:coreProperties>
</file>